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4C3-65B5-454C-9711-A4BE8F12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7F7-3F56-4326-A66A-008BCC6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5CD-0E5E-49BC-8CDA-5E541EBD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2C0-43AB-487A-BEB1-432EC92A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BA2-87DD-440E-B49C-3311355F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6FA-9E44-4BDE-BEDC-23B7AA29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232-8FE2-47DA-8AFB-C1E14C5D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C67-7CA4-484D-B203-B8122779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2C1-C2DA-49FA-8BB2-FEE535FF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10A-3A50-4E7A-B99D-F9E7522B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CF3-8053-4A34-8077-744AA82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1B9-8A69-4836-85CE-D113C691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228F-2BBE-46AC-94C6-D65227DCD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sa é uma defesa-abertura muito boa para quem joga com as pretas, por vários motiv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 praticamente desconhecida, no meio amado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ita os ataques Ruy Lope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mite muitos contra-ataques às pre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13372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Bom, como você pode notar, a petrov cumpriu seu propósito: as pretas não foram vítimas de nenhuma abertura, pelo contrário, elas determinaram a linha de jogo, ainda que as brancas estejam com uma pequena vantagem. Agora, o jogo se desenvolve e não é mais da nossa conta... Continue lendo a página. Você vai encontrar a variante Steiniz (beeem melhor) e a principal burrada que você não devia fazer quando usa a petrov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5909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stá até em vermelho pra ninguém dizer que não leu! Se as brancas fizerem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xe5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(tomar o peão com o cavalo), NUNCA FAÇ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xe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! NUNCA! É SUICÍDIO! Por quê? Bom, as brancas movimentariam a dama e você ficaria na seguinte posiçã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ora, se você tirar o cavalo, elas fazem Cc6 + (xeque descoberto) e sua dama está perdida. Se você atacar o cavalo delas com outro peão, elas fazem Dxe4 (dama toma cavalo), você toma o cavalo com o peão, e perde um peão no próximo l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7192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mos começar agora. Também estamos observando o tabuleiro d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onto de vista das pre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Vamos pegar um jogo mais do que comum: 1.e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5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814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brancas então, vão começar com aquela clássica jogada: Movimentando o cavalo do rei, e ameaçando o peã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Cf3  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814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gora, o grande lance: as pretas já estão de saco cheio de levar o cavalo da dama e tomar ruy lopez. Não proteger o peão não é muito inteligente, e levar um outro peão protegendo este é suicídio a longo prazo. Defender com a dama, só pra mestres na defesa brasileira. O que fazer? O inesperado. Defesa petrov. Imita-se a jogada das brancas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2. ...   Cf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gora, a sequência clássica do jogo: brancas gulosas, pretas experientes. As brancas tomam o peão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3. Cxe5  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9560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.. e as pretas ameaçam o cavalo com a da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... De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332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 as brancas defenderem o cavalo com o peão, as pretas atacam o cavalo com outro peão e daí o cavalo foge do mesmo jeito. Então, elas tiram o cavalo,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Cf3  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.. as pretas tomam o peão com a dama, dando xe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...   Dxe4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sa Petro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.. e finalmente as brancas defendem com o bispo (já liberando o roque para a próxima jogada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Be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20:19:40Z</dcterms:created>
  <dc:creator>Jairo</dc:creator>
  <dc:description/>
  <dc:language>en-US</dc:language>
  <cp:lastModifiedBy>Jairo</cp:lastModifiedBy>
  <dcterms:modified xsi:type="dcterms:W3CDTF">2003-10-31T20:44:40Z</dcterms:modified>
  <cp:revision>6</cp:revision>
  <dc:subject/>
  <dc:title>Defesa Petrov</dc:title>
</cp:coreProperties>
</file>