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A62-CA96-4813-838A-748800D3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64F-E90B-42B0-9821-428BB53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390-72B8-4FF7-8D73-D5FBBC78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ABF-351D-4644-8D26-C07B3E9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9BA-F34D-43A5-9A28-3714760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641-038C-4A40-95C0-E8E31532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5D0-ED77-453B-8496-06596645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CB9-ED48-4F1D-A6E1-4486D42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40F-C46E-43BA-9881-F2658FC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335-0CE5-4A8A-9FA7-815F3AB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EA3-2BB0-453C-A957-AFB6609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C61-A281-4893-93FD-80D3617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EE2-F124-459C-9EF0-8694E28C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ência interdisciplinar na abordagem do treinamento desportivo mod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LA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60280"/>
            <a:ext cx="835344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ÂMETROS CONDICIONAIS CINESIOLÓGICO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353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844640"/>
            <a:ext cx="4248000" cy="374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do deFor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e em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4248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052640"/>
            <a:ext cx="41054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844640"/>
            <a:ext cx="4105440" cy="374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os específ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dos em grup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ndo situaçõ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380360" y="5805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13535" y="7493"/>
                </a:moveTo>
                <a:lnTo>
                  <a:pt x="17042" y="7493"/>
                </a:lnTo>
                <a:lnTo>
                  <a:pt x="17042" y="12828"/>
                </a:lnTo>
                <a:cubicBezTo>
                  <a:pt x="17042" y="13751"/>
                  <a:pt x="17843" y="14482"/>
                  <a:pt x="18879" y="14482"/>
                </a:cubicBezTo>
                <a:lnTo>
                  <a:pt x="20541" y="14482"/>
                </a:lnTo>
                <a:cubicBezTo>
                  <a:pt x="21577" y="14482"/>
                  <a:pt x="22378" y="13751"/>
                  <a:pt x="22378" y="12828"/>
                </a:cubicBezTo>
                <a:lnTo>
                  <a:pt x="22378" y="7493"/>
                </a:lnTo>
                <a:lnTo>
                  <a:pt x="20541" y="7493"/>
                </a:lnTo>
                <a:lnTo>
                  <a:pt x="24049" y="3985"/>
                </a:lnTo>
                <a:lnTo>
                  <a:pt x="27722" y="7493"/>
                </a:lnTo>
                <a:lnTo>
                  <a:pt x="25885" y="7493"/>
                </a:lnTo>
                <a:lnTo>
                  <a:pt x="25885" y="12828"/>
                </a:lnTo>
                <a:cubicBezTo>
                  <a:pt x="25885" y="15596"/>
                  <a:pt x="23309" y="18155"/>
                  <a:pt x="20541" y="18155"/>
                </a:cubicBezTo>
                <a:lnTo>
                  <a:pt x="18879" y="18155"/>
                </a:lnTo>
                <a:cubicBezTo>
                  <a:pt x="16111" y="18155"/>
                  <a:pt x="13535" y="15596"/>
                  <a:pt x="1353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260280"/>
            <a:ext cx="835344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ÂMETROS CONDICIONAIS COMPORTA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353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44640"/>
            <a:ext cx="4248000" cy="374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c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confi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ilidade e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tude e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424800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410544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S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1844640"/>
            <a:ext cx="4105440" cy="374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sição d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ções interpesso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ível sócio-econô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380360" y="5805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13535" y="7493"/>
                </a:moveTo>
                <a:lnTo>
                  <a:pt x="17042" y="7493"/>
                </a:lnTo>
                <a:lnTo>
                  <a:pt x="17042" y="12828"/>
                </a:lnTo>
                <a:cubicBezTo>
                  <a:pt x="17042" y="13751"/>
                  <a:pt x="17843" y="14482"/>
                  <a:pt x="18879" y="14482"/>
                </a:cubicBezTo>
                <a:lnTo>
                  <a:pt x="20541" y="14482"/>
                </a:lnTo>
                <a:cubicBezTo>
                  <a:pt x="21577" y="14482"/>
                  <a:pt x="22378" y="13751"/>
                  <a:pt x="22378" y="12828"/>
                </a:cubicBezTo>
                <a:lnTo>
                  <a:pt x="22378" y="7493"/>
                </a:lnTo>
                <a:lnTo>
                  <a:pt x="20541" y="7493"/>
                </a:lnTo>
                <a:lnTo>
                  <a:pt x="24049" y="3985"/>
                </a:lnTo>
                <a:lnTo>
                  <a:pt x="27722" y="7493"/>
                </a:lnTo>
                <a:lnTo>
                  <a:pt x="25885" y="7493"/>
                </a:lnTo>
                <a:lnTo>
                  <a:pt x="25885" y="12828"/>
                </a:lnTo>
                <a:cubicBezTo>
                  <a:pt x="25885" y="15596"/>
                  <a:pt x="23309" y="18155"/>
                  <a:pt x="20541" y="18155"/>
                </a:cubicBezTo>
                <a:lnTo>
                  <a:pt x="18879" y="18155"/>
                </a:lnTo>
                <a:cubicBezTo>
                  <a:pt x="16111" y="18155"/>
                  <a:pt x="13535" y="15596"/>
                  <a:pt x="1353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260280"/>
            <a:ext cx="835344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ÂMETROS CONDICIONAIS ESTRUTU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353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4248000" cy="37450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tura do plan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i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namento 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cargas de traba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4248000" cy="792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052640"/>
            <a:ext cx="4105440" cy="792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MINISTRATIVO-FINANCEI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844640"/>
            <a:ext cx="4105440" cy="37450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orçame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ário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quisição e gerenci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to de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380360" y="5805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13535" y="7493"/>
                </a:moveTo>
                <a:lnTo>
                  <a:pt x="17042" y="7493"/>
                </a:lnTo>
                <a:lnTo>
                  <a:pt x="17042" y="12828"/>
                </a:lnTo>
                <a:cubicBezTo>
                  <a:pt x="17042" y="13751"/>
                  <a:pt x="17843" y="14482"/>
                  <a:pt x="18879" y="14482"/>
                </a:cubicBezTo>
                <a:lnTo>
                  <a:pt x="20541" y="14482"/>
                </a:lnTo>
                <a:cubicBezTo>
                  <a:pt x="21577" y="14482"/>
                  <a:pt x="22378" y="13751"/>
                  <a:pt x="22378" y="12828"/>
                </a:cubicBezTo>
                <a:lnTo>
                  <a:pt x="22378" y="7493"/>
                </a:lnTo>
                <a:lnTo>
                  <a:pt x="20541" y="7493"/>
                </a:lnTo>
                <a:lnTo>
                  <a:pt x="24049" y="3985"/>
                </a:lnTo>
                <a:lnTo>
                  <a:pt x="27722" y="7493"/>
                </a:lnTo>
                <a:lnTo>
                  <a:pt x="25885" y="7493"/>
                </a:lnTo>
                <a:lnTo>
                  <a:pt x="25885" y="12828"/>
                </a:lnTo>
                <a:cubicBezTo>
                  <a:pt x="25885" y="15596"/>
                  <a:pt x="23309" y="18155"/>
                  <a:pt x="20541" y="18155"/>
                </a:cubicBezTo>
                <a:lnTo>
                  <a:pt x="18879" y="18155"/>
                </a:lnTo>
                <a:cubicBezTo>
                  <a:pt x="16111" y="18155"/>
                  <a:pt x="13535" y="15596"/>
                  <a:pt x="1353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260280"/>
            <a:ext cx="835344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ÂMETROS CONDICIONAIS ESTRUTU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80360" y="5805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13535" y="7493"/>
                </a:moveTo>
                <a:lnTo>
                  <a:pt x="17042" y="7493"/>
                </a:lnTo>
                <a:lnTo>
                  <a:pt x="17042" y="12828"/>
                </a:lnTo>
                <a:cubicBezTo>
                  <a:pt x="17042" y="13751"/>
                  <a:pt x="17843" y="14482"/>
                  <a:pt x="18879" y="14482"/>
                </a:cubicBezTo>
                <a:lnTo>
                  <a:pt x="20541" y="14482"/>
                </a:lnTo>
                <a:cubicBezTo>
                  <a:pt x="21577" y="14482"/>
                  <a:pt x="22378" y="13751"/>
                  <a:pt x="22378" y="12828"/>
                </a:cubicBezTo>
                <a:lnTo>
                  <a:pt x="22378" y="7493"/>
                </a:lnTo>
                <a:lnTo>
                  <a:pt x="20541" y="7493"/>
                </a:lnTo>
                <a:lnTo>
                  <a:pt x="24049" y="3985"/>
                </a:lnTo>
                <a:lnTo>
                  <a:pt x="27722" y="7493"/>
                </a:lnTo>
                <a:lnTo>
                  <a:pt x="25885" y="7493"/>
                </a:lnTo>
                <a:lnTo>
                  <a:pt x="25885" y="12828"/>
                </a:lnTo>
                <a:cubicBezTo>
                  <a:pt x="25885" y="15596"/>
                  <a:pt x="23309" y="18155"/>
                  <a:pt x="20541" y="18155"/>
                </a:cubicBezTo>
                <a:lnTo>
                  <a:pt x="18879" y="18155"/>
                </a:lnTo>
                <a:cubicBezTo>
                  <a:pt x="16111" y="18155"/>
                  <a:pt x="13535" y="15596"/>
                  <a:pt x="1353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3168720" cy="4537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âmet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ircunferênc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sição corpo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orciona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matoti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3168720" cy="9363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F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1052640"/>
            <a:ext cx="5184720" cy="504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557360"/>
            <a:ext cx="2663640" cy="4316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DIOPULMO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1557360"/>
            <a:ext cx="2521080" cy="4316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ROMU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1989000"/>
            <a:ext cx="2663640" cy="3600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ência aerób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ência anaeró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1989000"/>
            <a:ext cx="2521080" cy="3600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t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líb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en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ação das ciências na aquisição da forma despor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060640"/>
            <a:ext cx="3024360" cy="10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ências Hu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4797360"/>
            <a:ext cx="3024000" cy="10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ências Jurí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724280"/>
            <a:ext cx="3024000" cy="10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ências Bi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989000"/>
            <a:ext cx="3024000" cy="10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ências Ex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284640"/>
            <a:ext cx="2808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qui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3284640"/>
            <a:ext cx="316836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primor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84640"/>
            <a:ext cx="29894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112536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602136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6021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 DESPOR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ências hum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ndizagem mo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ag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nvolvim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icolo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516720" y="5373720"/>
            <a:ext cx="1942920" cy="863640"/>
          </a:xfrm>
          <a:custGeom>
            <a:avLst/>
            <a:gdLst>
              <a:gd name="textAreaLeft" fmla="*/ 55800 w 1942920"/>
              <a:gd name="textAreaRight" fmla="*/ 1887120 w 1942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582" h="21600">
                <a:moveTo>
                  <a:pt x="0" y="0"/>
                </a:moveTo>
                <a:lnTo>
                  <a:pt x="48582" y="0"/>
                </a:lnTo>
                <a:lnTo>
                  <a:pt x="48582" y="21600"/>
                </a:lnTo>
                <a:lnTo>
                  <a:pt x="0" y="21600"/>
                </a:lnTo>
                <a:close/>
              </a:path>
              <a:path fill="lightenLess" w="48582" h="21600">
                <a:moveTo>
                  <a:pt x="0" y="0"/>
                </a:moveTo>
                <a:lnTo>
                  <a:pt x="48582" y="0"/>
                </a:lnTo>
                <a:lnTo>
                  <a:pt x="47182" y="1400"/>
                </a:lnTo>
                <a:lnTo>
                  <a:pt x="1400" y="1400"/>
                </a:lnTo>
                <a:close/>
              </a:path>
              <a:path fill="darken" w="48582" h="21600">
                <a:moveTo>
                  <a:pt x="48582" y="0"/>
                </a:moveTo>
                <a:lnTo>
                  <a:pt x="48582" y="21600"/>
                </a:lnTo>
                <a:lnTo>
                  <a:pt x="47182" y="20200"/>
                </a:lnTo>
                <a:lnTo>
                  <a:pt x="47182" y="1400"/>
                </a:lnTo>
                <a:close/>
              </a:path>
              <a:path fill="darkenLess" w="48582" h="21600">
                <a:moveTo>
                  <a:pt x="48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2" y="20200"/>
                </a:lnTo>
                <a:close/>
              </a:path>
              <a:path fill="lighten" w="48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82" h="21600">
                <a:moveTo>
                  <a:pt x="17285" y="7493"/>
                </a:moveTo>
                <a:lnTo>
                  <a:pt x="20792" y="7493"/>
                </a:lnTo>
                <a:lnTo>
                  <a:pt x="20792" y="12828"/>
                </a:lnTo>
                <a:cubicBezTo>
                  <a:pt x="20792" y="13751"/>
                  <a:pt x="21593" y="14482"/>
                  <a:pt x="22629" y="14482"/>
                </a:cubicBezTo>
                <a:lnTo>
                  <a:pt x="24291" y="14482"/>
                </a:lnTo>
                <a:cubicBezTo>
                  <a:pt x="25327" y="14482"/>
                  <a:pt x="26127" y="13751"/>
                  <a:pt x="26127" y="12828"/>
                </a:cubicBezTo>
                <a:lnTo>
                  <a:pt x="26127" y="7493"/>
                </a:lnTo>
                <a:lnTo>
                  <a:pt x="24291" y="7493"/>
                </a:lnTo>
                <a:lnTo>
                  <a:pt x="27799" y="3985"/>
                </a:lnTo>
                <a:lnTo>
                  <a:pt x="31472" y="7493"/>
                </a:lnTo>
                <a:lnTo>
                  <a:pt x="29635" y="7493"/>
                </a:lnTo>
                <a:lnTo>
                  <a:pt x="29635" y="12828"/>
                </a:lnTo>
                <a:cubicBezTo>
                  <a:pt x="29635" y="15596"/>
                  <a:pt x="27059" y="18155"/>
                  <a:pt x="24291" y="18155"/>
                </a:cubicBezTo>
                <a:lnTo>
                  <a:pt x="22629" y="18155"/>
                </a:lnTo>
                <a:cubicBezTo>
                  <a:pt x="19861" y="18155"/>
                  <a:pt x="17285" y="15596"/>
                  <a:pt x="172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ências exa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5373720"/>
            <a:ext cx="1942920" cy="863640"/>
          </a:xfrm>
          <a:custGeom>
            <a:avLst/>
            <a:gdLst>
              <a:gd name="textAreaLeft" fmla="*/ 55800 w 1942920"/>
              <a:gd name="textAreaRight" fmla="*/ 1887120 w 1942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582" h="21600">
                <a:moveTo>
                  <a:pt x="0" y="0"/>
                </a:moveTo>
                <a:lnTo>
                  <a:pt x="48582" y="0"/>
                </a:lnTo>
                <a:lnTo>
                  <a:pt x="48582" y="21600"/>
                </a:lnTo>
                <a:lnTo>
                  <a:pt x="0" y="21600"/>
                </a:lnTo>
                <a:close/>
              </a:path>
              <a:path fill="lightenLess" w="48582" h="21600">
                <a:moveTo>
                  <a:pt x="0" y="0"/>
                </a:moveTo>
                <a:lnTo>
                  <a:pt x="48582" y="0"/>
                </a:lnTo>
                <a:lnTo>
                  <a:pt x="47182" y="1400"/>
                </a:lnTo>
                <a:lnTo>
                  <a:pt x="1400" y="1400"/>
                </a:lnTo>
                <a:close/>
              </a:path>
              <a:path fill="darken" w="48582" h="21600">
                <a:moveTo>
                  <a:pt x="48582" y="0"/>
                </a:moveTo>
                <a:lnTo>
                  <a:pt x="48582" y="21600"/>
                </a:lnTo>
                <a:lnTo>
                  <a:pt x="47182" y="20200"/>
                </a:lnTo>
                <a:lnTo>
                  <a:pt x="47182" y="1400"/>
                </a:lnTo>
                <a:close/>
              </a:path>
              <a:path fill="darkenLess" w="48582" h="21600">
                <a:moveTo>
                  <a:pt x="48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2" y="20200"/>
                </a:lnTo>
                <a:close/>
              </a:path>
              <a:path fill="lighten" w="48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82" h="21600">
                <a:moveTo>
                  <a:pt x="17285" y="7493"/>
                </a:moveTo>
                <a:lnTo>
                  <a:pt x="20792" y="7493"/>
                </a:lnTo>
                <a:lnTo>
                  <a:pt x="20792" y="12828"/>
                </a:lnTo>
                <a:cubicBezTo>
                  <a:pt x="20792" y="13751"/>
                  <a:pt x="21593" y="14482"/>
                  <a:pt x="22629" y="14482"/>
                </a:cubicBezTo>
                <a:lnTo>
                  <a:pt x="24291" y="14482"/>
                </a:lnTo>
                <a:cubicBezTo>
                  <a:pt x="25327" y="14482"/>
                  <a:pt x="26127" y="13751"/>
                  <a:pt x="26127" y="12828"/>
                </a:cubicBezTo>
                <a:lnTo>
                  <a:pt x="26127" y="7493"/>
                </a:lnTo>
                <a:lnTo>
                  <a:pt x="24291" y="7493"/>
                </a:lnTo>
                <a:lnTo>
                  <a:pt x="27799" y="3985"/>
                </a:lnTo>
                <a:lnTo>
                  <a:pt x="31472" y="7493"/>
                </a:lnTo>
                <a:lnTo>
                  <a:pt x="29635" y="7493"/>
                </a:lnTo>
                <a:lnTo>
                  <a:pt x="29635" y="12828"/>
                </a:lnTo>
                <a:cubicBezTo>
                  <a:pt x="29635" y="15596"/>
                  <a:pt x="27059" y="18155"/>
                  <a:pt x="24291" y="18155"/>
                </a:cubicBezTo>
                <a:lnTo>
                  <a:pt x="22629" y="18155"/>
                </a:lnTo>
                <a:cubicBezTo>
                  <a:pt x="19861" y="18155"/>
                  <a:pt x="17285" y="15596"/>
                  <a:pt x="172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ência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iologia do 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oquí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inesi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sicologia despor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cina despor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tri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5373720"/>
            <a:ext cx="1942920" cy="863640"/>
          </a:xfrm>
          <a:custGeom>
            <a:avLst/>
            <a:gdLst>
              <a:gd name="textAreaLeft" fmla="*/ 55800 w 1942920"/>
              <a:gd name="textAreaRight" fmla="*/ 1887120 w 1942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582" h="21600">
                <a:moveTo>
                  <a:pt x="0" y="0"/>
                </a:moveTo>
                <a:lnTo>
                  <a:pt x="48582" y="0"/>
                </a:lnTo>
                <a:lnTo>
                  <a:pt x="48582" y="21600"/>
                </a:lnTo>
                <a:lnTo>
                  <a:pt x="0" y="21600"/>
                </a:lnTo>
                <a:close/>
              </a:path>
              <a:path fill="lightenLess" w="48582" h="21600">
                <a:moveTo>
                  <a:pt x="0" y="0"/>
                </a:moveTo>
                <a:lnTo>
                  <a:pt x="48582" y="0"/>
                </a:lnTo>
                <a:lnTo>
                  <a:pt x="47182" y="1400"/>
                </a:lnTo>
                <a:lnTo>
                  <a:pt x="1400" y="1400"/>
                </a:lnTo>
                <a:close/>
              </a:path>
              <a:path fill="darken" w="48582" h="21600">
                <a:moveTo>
                  <a:pt x="48582" y="0"/>
                </a:moveTo>
                <a:lnTo>
                  <a:pt x="48582" y="21600"/>
                </a:lnTo>
                <a:lnTo>
                  <a:pt x="47182" y="20200"/>
                </a:lnTo>
                <a:lnTo>
                  <a:pt x="47182" y="1400"/>
                </a:lnTo>
                <a:close/>
              </a:path>
              <a:path fill="darkenLess" w="48582" h="21600">
                <a:moveTo>
                  <a:pt x="48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2" y="20200"/>
                </a:lnTo>
                <a:close/>
              </a:path>
              <a:path fill="lighten" w="48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82" h="21600">
                <a:moveTo>
                  <a:pt x="17285" y="7493"/>
                </a:moveTo>
                <a:lnTo>
                  <a:pt x="20792" y="7493"/>
                </a:lnTo>
                <a:lnTo>
                  <a:pt x="20792" y="12828"/>
                </a:lnTo>
                <a:cubicBezTo>
                  <a:pt x="20792" y="13751"/>
                  <a:pt x="21593" y="14482"/>
                  <a:pt x="22629" y="14482"/>
                </a:cubicBezTo>
                <a:lnTo>
                  <a:pt x="24291" y="14482"/>
                </a:lnTo>
                <a:cubicBezTo>
                  <a:pt x="25327" y="14482"/>
                  <a:pt x="26127" y="13751"/>
                  <a:pt x="26127" y="12828"/>
                </a:cubicBezTo>
                <a:lnTo>
                  <a:pt x="26127" y="7493"/>
                </a:lnTo>
                <a:lnTo>
                  <a:pt x="24291" y="7493"/>
                </a:lnTo>
                <a:lnTo>
                  <a:pt x="27799" y="3985"/>
                </a:lnTo>
                <a:lnTo>
                  <a:pt x="31472" y="7493"/>
                </a:lnTo>
                <a:lnTo>
                  <a:pt x="29635" y="7493"/>
                </a:lnTo>
                <a:lnTo>
                  <a:pt x="29635" y="12828"/>
                </a:lnTo>
                <a:cubicBezTo>
                  <a:pt x="29635" y="15596"/>
                  <a:pt x="27059" y="18155"/>
                  <a:pt x="24291" y="18155"/>
                </a:cubicBezTo>
                <a:lnTo>
                  <a:pt x="22629" y="18155"/>
                </a:lnTo>
                <a:cubicBezTo>
                  <a:pt x="19861" y="18155"/>
                  <a:pt x="17285" y="15596"/>
                  <a:pt x="172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ências juríd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digo do torced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cri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ito despor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5373720"/>
            <a:ext cx="1942920" cy="863640"/>
          </a:xfrm>
          <a:custGeom>
            <a:avLst/>
            <a:gdLst>
              <a:gd name="textAreaLeft" fmla="*/ 55800 w 1942920"/>
              <a:gd name="textAreaRight" fmla="*/ 1887120 w 1942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8582" h="21600">
                <a:moveTo>
                  <a:pt x="0" y="0"/>
                </a:moveTo>
                <a:lnTo>
                  <a:pt x="48582" y="0"/>
                </a:lnTo>
                <a:lnTo>
                  <a:pt x="48582" y="21600"/>
                </a:lnTo>
                <a:lnTo>
                  <a:pt x="0" y="21600"/>
                </a:lnTo>
                <a:close/>
              </a:path>
              <a:path fill="lightenLess" w="48582" h="21600">
                <a:moveTo>
                  <a:pt x="0" y="0"/>
                </a:moveTo>
                <a:lnTo>
                  <a:pt x="48582" y="0"/>
                </a:lnTo>
                <a:lnTo>
                  <a:pt x="47182" y="1400"/>
                </a:lnTo>
                <a:lnTo>
                  <a:pt x="1400" y="1400"/>
                </a:lnTo>
                <a:close/>
              </a:path>
              <a:path fill="darken" w="48582" h="21600">
                <a:moveTo>
                  <a:pt x="48582" y="0"/>
                </a:moveTo>
                <a:lnTo>
                  <a:pt x="48582" y="21600"/>
                </a:lnTo>
                <a:lnTo>
                  <a:pt x="47182" y="20200"/>
                </a:lnTo>
                <a:lnTo>
                  <a:pt x="47182" y="1400"/>
                </a:lnTo>
                <a:close/>
              </a:path>
              <a:path fill="darkenLess" w="48582" h="21600">
                <a:moveTo>
                  <a:pt x="48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2" y="20200"/>
                </a:lnTo>
                <a:close/>
              </a:path>
              <a:path fill="lighten" w="48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82" h="21600">
                <a:moveTo>
                  <a:pt x="17285" y="7493"/>
                </a:moveTo>
                <a:lnTo>
                  <a:pt x="20792" y="7493"/>
                </a:lnTo>
                <a:lnTo>
                  <a:pt x="20792" y="12828"/>
                </a:lnTo>
                <a:cubicBezTo>
                  <a:pt x="20792" y="13751"/>
                  <a:pt x="21593" y="14482"/>
                  <a:pt x="22629" y="14482"/>
                </a:cubicBezTo>
                <a:lnTo>
                  <a:pt x="24291" y="14482"/>
                </a:lnTo>
                <a:cubicBezTo>
                  <a:pt x="25327" y="14482"/>
                  <a:pt x="26127" y="13751"/>
                  <a:pt x="26127" y="12828"/>
                </a:cubicBezTo>
                <a:lnTo>
                  <a:pt x="26127" y="7493"/>
                </a:lnTo>
                <a:lnTo>
                  <a:pt x="24291" y="7493"/>
                </a:lnTo>
                <a:lnTo>
                  <a:pt x="27799" y="3985"/>
                </a:lnTo>
                <a:lnTo>
                  <a:pt x="31472" y="7493"/>
                </a:lnTo>
                <a:lnTo>
                  <a:pt x="29635" y="7493"/>
                </a:lnTo>
                <a:lnTo>
                  <a:pt x="29635" y="12828"/>
                </a:lnTo>
                <a:cubicBezTo>
                  <a:pt x="29635" y="15596"/>
                  <a:pt x="27059" y="18155"/>
                  <a:pt x="24291" y="18155"/>
                </a:cubicBezTo>
                <a:lnTo>
                  <a:pt x="22629" y="18155"/>
                </a:lnTo>
                <a:cubicBezTo>
                  <a:pt x="19861" y="18155"/>
                  <a:pt x="17285" y="15596"/>
                  <a:pt x="172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tagens do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ê no 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o indivíduo se compor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ele pen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volume e a intensidade dos treinamentos oferecidos aos atle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dades psicológicas relacionadas à alta perform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âmica social do gru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O ESTES FATORES SÃO ORGANIZADOS E ADMINISTRADOS NA TEMPORADA DE TREINAMENTO, COMPETIÇÃO E DESCAN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equipe fez o maior investimento de sua história, criou uma grande expectativa de sucesso...e foi um fraca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treinamento foi muito bem elaborado, o atleta cumpriu à risca, mas não obteve o resultado espe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treinador não foi compet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 no planejamento do trei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tleta perdeu o equilíbrio emoc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tleta treinou demais ou de me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sempre as causas do insucesso desportivo está no âmbito bi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de Raul Mollet, que o treinamento é visto sob uma esfera bem maior que a bi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de Treinamento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altas performance alcançadas atualmente se devem multifatoriedade da abordagem do at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fator genético ainda é a chave do sucesso, mas hoje postula-se uma maior participação do meio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multifa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treinamento tem avançado para uma abordagem bio-psico-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e considerar estas variáveis, deve-se levar em conta a formar como as mesma se interrelacion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meida (1999), propõe levar em conta questões administrativo-financei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devidamente planejada, permite uma melhor condução do processo de trein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multifa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ência do treinador mod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ser um reprodutor de paradig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 capaz de interpretar as situação emerg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permanente de novas premissas teór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o permanente de qualificação profiss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erfeiçoamento constante do processo de preparação do atle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 em mente que o desporto está extremamente competi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 de desenvolver meios e métodos de treinamento científicos com maior potencial de estímulo e menor risco à saú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multifa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gência do treinador mode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conhecimento de outras ci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nimo necessário para diálogo inter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ísica clássica (biomecân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mática (estatís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ac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xima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ições necess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ciência do alto nível de complexidade d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ção detalhadamente planejada vi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s profil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iliz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apêu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oração optimizada do at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mod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a as características bio-psico-sociais do at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icularidades do desporto em quest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ões gerenc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ibuição do conhecimento científico das diversas 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7280" y="981000"/>
            <a:ext cx="2303640" cy="93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âme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907920"/>
            <a:ext cx="2304720" cy="100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565360"/>
            <a:ext cx="2303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2565360"/>
            <a:ext cx="2303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637000"/>
            <a:ext cx="2303640" cy="93636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âme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mnistrativ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637000"/>
            <a:ext cx="2303640" cy="863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âme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4221000"/>
            <a:ext cx="2303640" cy="79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árdi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ulmo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4221000"/>
            <a:ext cx="2303640" cy="86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u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941720"/>
            <a:ext cx="2303640" cy="79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f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692280"/>
            <a:ext cx="367164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Ã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INES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2133720"/>
            <a:ext cx="388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IMENSÃO COMPORT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133720"/>
            <a:ext cx="3887640" cy="504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IMENSÃO ESTRU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3716280"/>
            <a:ext cx="403236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DIMENSÃO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0"/>
            <a:ext cx="5975280" cy="4762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5950080"/>
            <a:ext cx="4824360" cy="647640"/>
          </a:xfrm>
          <a:prstGeom prst="rect">
            <a:avLst/>
          </a:prstGeom>
          <a:solidFill>
            <a:srgbClr val="bbe0e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 ESPOR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3:18:17Z</dcterms:created>
  <dc:creator>Alexandre Sérgio Silva</dc:creator>
  <dc:description/>
  <dc:language>en-US</dc:language>
  <cp:lastModifiedBy>Alexandre Sérgio Silva</cp:lastModifiedBy>
  <dcterms:modified xsi:type="dcterms:W3CDTF">2004-05-21T18:51:40Z</dcterms:modified>
  <cp:revision>67</cp:revision>
  <dc:subject/>
  <dc:title>Tendência interdisciplinar na abordagem do treinamento desportivo moderno </dc:title>
</cp:coreProperties>
</file>