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E9A-B9B6-41F9-B3D7-00B6B394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5C8-21AD-45DC-91D2-EBB476EB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D9E-CA4C-4296-8DB5-B4F27890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101-0843-4BC1-B83C-DB4B7126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38EC-93F0-4C00-BCD2-F9E3C18E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84EF-BC91-45C8-977C-86C27BCB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3035-ED72-4C11-BADA-6EF32FB2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C615-07C7-421D-AF92-F3D8FFC2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6DC8-AF55-4B6D-AE52-5F025028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3B00-1EFB-46D1-8056-35F1F10A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DD3B-C1B7-41A3-9F16-79DD7709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EB9-E0C5-4DB7-B1A6-B5176334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8267-8A36-4BA1-9E68-7D84104A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2BE5-9681-43A0-BF8D-AE2D010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165D-1C51-4AA3-9AC1-8553AA89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6173-F916-44D0-8C53-77779DA0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D68E-0FCA-458E-A03C-52149D34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9EB-CD68-4143-B24B-A7146DF9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984-61CD-45A0-8C4B-237D1813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CB5-2F14-431A-A4B5-023DB266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180-E722-4379-B35D-33B08DD2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C68-4869-42CC-9289-855C845E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F97-48BA-44B2-978B-41603132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E24-382C-4D84-AA28-43AF275B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981F-9ECD-40AE-89C3-E62979DE532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B9F8-B7EB-4997-AFED-330419DCD7E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4c3aa"/>
                </a:solidFill>
                <a:latin typeface="Arial"/>
              </a:rPr>
              <a:t>METODOLOGIA E SISTEMAS DE TREINAMENTO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LA 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3- Número de sé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m atletas treinados, série única é ineficaz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éries máximas podem ser repetidas mesmo com pouco interval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reinos mais volumosos devem ser periodizad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rmite maiores estímulos de trein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vitam fadiga crônic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endência atual é uma série com apenas uma repetição de múltiplos exercício para um mesmo membro (agonista e antagonista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empo de treino inferior a 30 m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8101080" y="6165720"/>
            <a:ext cx="358560" cy="28764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7493"/>
                </a:moveTo>
                <a:lnTo>
                  <a:pt x="9961" y="7493"/>
                </a:lnTo>
                <a:lnTo>
                  <a:pt x="9961" y="12828"/>
                </a:lnTo>
                <a:cubicBezTo>
                  <a:pt x="9961" y="13751"/>
                  <a:pt x="10761" y="14482"/>
                  <a:pt x="11797" y="14482"/>
                </a:cubicBezTo>
                <a:lnTo>
                  <a:pt x="13460" y="14482"/>
                </a:lnTo>
                <a:cubicBezTo>
                  <a:pt x="14495" y="14482"/>
                  <a:pt x="15296" y="13751"/>
                  <a:pt x="15296" y="12828"/>
                </a:cubicBezTo>
                <a:lnTo>
                  <a:pt x="15296" y="7493"/>
                </a:lnTo>
                <a:lnTo>
                  <a:pt x="13460" y="7493"/>
                </a:lnTo>
                <a:lnTo>
                  <a:pt x="16967" y="3985"/>
                </a:lnTo>
                <a:lnTo>
                  <a:pt x="20640" y="7493"/>
                </a:lnTo>
                <a:lnTo>
                  <a:pt x="18804" y="7493"/>
                </a:lnTo>
                <a:lnTo>
                  <a:pt x="18804" y="12828"/>
                </a:lnTo>
                <a:cubicBezTo>
                  <a:pt x="18804" y="15596"/>
                  <a:pt x="16227" y="18155"/>
                  <a:pt x="13460" y="18155"/>
                </a:cubicBezTo>
                <a:lnTo>
                  <a:pt x="11797" y="18155"/>
                </a:lnTo>
                <a:cubicBezTo>
                  <a:pt x="9029" y="18155"/>
                  <a:pt x="6453" y="15596"/>
                  <a:pt x="6453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4- Período de descanso entre as sé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Influencia na ressíntese de ATP,  concentracão de lactato e hormôni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Lactato aumenta com duração do trabalho, não aumentando ns cargas pesadas apen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Intervalos curtos devem ser introduzidos lentamen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aior fadiga e ansiedad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reinos com altas cargas exigem boa recuperação da P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4.1- Período de descanso entre as sessõ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pende da capacidade de recuperção individu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48 horas é o tempo tradicionalmente determinad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ndivíduos iniciados podem aumentar a frequência sema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4 dias seguidos são mais efetivos que 3 alternados (Hunter, 1985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tletas de elite podem precisar de 5 di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lguns treinam 7 dias seguid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451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eriodização é a ferramenta para o suporte a esta prátic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Nestas relações, importante considerar cada mm isoladamen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"/>
          <p:cNvSpPr/>
          <p:nvPr/>
        </p:nvSpPr>
        <p:spPr>
          <a:xfrm>
            <a:off x="7740720" y="6308640"/>
            <a:ext cx="503280" cy="28908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85" h="21600">
                <a:moveTo>
                  <a:pt x="0" y="0"/>
                </a:moveTo>
                <a:lnTo>
                  <a:pt x="37585" y="0"/>
                </a:lnTo>
                <a:lnTo>
                  <a:pt x="37585" y="21600"/>
                </a:lnTo>
                <a:lnTo>
                  <a:pt x="0" y="21600"/>
                </a:lnTo>
                <a:close/>
              </a:path>
              <a:path fill="lightenLess" w="37585" h="21600">
                <a:moveTo>
                  <a:pt x="0" y="0"/>
                </a:moveTo>
                <a:lnTo>
                  <a:pt x="37585" y="0"/>
                </a:lnTo>
                <a:lnTo>
                  <a:pt x="36185" y="1400"/>
                </a:lnTo>
                <a:lnTo>
                  <a:pt x="1400" y="1400"/>
                </a:lnTo>
                <a:close/>
              </a:path>
              <a:path fill="darken" w="37585" h="21600">
                <a:moveTo>
                  <a:pt x="37585" y="0"/>
                </a:moveTo>
                <a:lnTo>
                  <a:pt x="37585" y="21600"/>
                </a:lnTo>
                <a:lnTo>
                  <a:pt x="36185" y="20200"/>
                </a:lnTo>
                <a:lnTo>
                  <a:pt x="36185" y="1400"/>
                </a:lnTo>
                <a:close/>
              </a:path>
              <a:path fill="darkenLess" w="37585" h="21600">
                <a:moveTo>
                  <a:pt x="3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85" y="20200"/>
                </a:lnTo>
                <a:close/>
              </a:path>
              <a:path fill="lighten" w="3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85" h="21600">
                <a:moveTo>
                  <a:pt x="11786" y="7493"/>
                </a:moveTo>
                <a:lnTo>
                  <a:pt x="15294" y="7493"/>
                </a:lnTo>
                <a:lnTo>
                  <a:pt x="15294" y="12828"/>
                </a:lnTo>
                <a:cubicBezTo>
                  <a:pt x="15294" y="13751"/>
                  <a:pt x="16094" y="14482"/>
                  <a:pt x="17130" y="14482"/>
                </a:cubicBezTo>
                <a:lnTo>
                  <a:pt x="18793" y="14482"/>
                </a:lnTo>
                <a:cubicBezTo>
                  <a:pt x="19828" y="14482"/>
                  <a:pt x="20629" y="13751"/>
                  <a:pt x="20629" y="12828"/>
                </a:cubicBezTo>
                <a:lnTo>
                  <a:pt x="20629" y="7493"/>
                </a:lnTo>
                <a:lnTo>
                  <a:pt x="18793" y="7493"/>
                </a:lnTo>
                <a:lnTo>
                  <a:pt x="22300" y="3985"/>
                </a:lnTo>
                <a:lnTo>
                  <a:pt x="25973" y="7493"/>
                </a:lnTo>
                <a:lnTo>
                  <a:pt x="24137" y="7493"/>
                </a:lnTo>
                <a:lnTo>
                  <a:pt x="24137" y="12828"/>
                </a:lnTo>
                <a:cubicBezTo>
                  <a:pt x="24137" y="15596"/>
                  <a:pt x="21560" y="18155"/>
                  <a:pt x="18793" y="18155"/>
                </a:cubicBezTo>
                <a:lnTo>
                  <a:pt x="17130" y="18155"/>
                </a:lnTo>
                <a:cubicBezTo>
                  <a:pt x="14362" y="18155"/>
                  <a:pt x="11786" y="15596"/>
                  <a:pt x="11786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5- Carg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ável mais determinante nos efeitos de um progra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étodos para determinação da carg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petições máxim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centual da C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5- Carg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petições máxim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o mais fáci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epende de avaliação para prescri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é 6 RM melhora força e potênc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a 12 provoca hipertrofia mais salien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 RM ou mais têm efeito na enduran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Verdana"/>
              </a:rPr>
              <a:t>5- Carg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ercentual de C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quer avaliação consta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Semanal para iniciant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diministrativamente inviá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Minimiza-se pelo protocolo de repetições que possa ser inserido na sessão normal de trei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m exercícios complexos, a exigência de coordenação pode limitar o uso de RM devido a fadiga neural. Neste caso o uso de % CM permite um treino mais efeitivo na faixa desejad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oeger et al(1990), mostraram que a relação entre 1 RM e o número de rep. que poderiam ser realiadas variava com  a massa muscul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Mais repetições para grandes massas muscular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Com 90% da CM se podia fazer mais de 20 rep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Deixa de ser hipertrofia para gerar enduranc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Também houve variação entre treinados e não treinad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22 contra 12 rep. à 80% da CM na pressão de perna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étodo deve ser pensado para cada grupo muscul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ambém encontradas diferenças entre máquinas e peso liv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aracterísticas dos programa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57200" y="1600200"/>
          <a:ext cx="8229600" cy="5032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va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rç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6 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–10 (prim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–3 (asssitênc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2 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ê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pertrof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M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Características dos programas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28720"/>
          <a:ext cx="8626320" cy="6029280"/>
        </p:xfrm>
        <a:graphic>
          <a:graphicData uri="http://schemas.openxmlformats.org/drawingml/2006/table">
            <a:tbl>
              <a:tblPr/>
              <a:tblGrid>
                <a:gridCol w="1969920"/>
                <a:gridCol w="1687320"/>
                <a:gridCol w="1455840"/>
                <a:gridCol w="16398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va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tal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rç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6 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–100% C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–10 </a:t>
                      </a: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primário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–3 </a:t>
                      </a: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sssitênci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2 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início da sess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ê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a 5;&gt;10 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-90% 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–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-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2 m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início da sessão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s velocidade que forç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pertrof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-12 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-90% 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4c3aa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lt; 1,5 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riedade; isolamento; mm. enfaizados no início; ação excêntrica im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M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 – 20 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-60% 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-3 (&gt; 20rep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-60” (12-19 rep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colha, padrão e tipo de ação mm. de acordo com esporte / ativida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aioria desenvolvido por fisiculturistas, levantadores olímpic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dealizados para quem deseja mais que a musculação convencion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aracterizados por serem desprovidos de comprovação científ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Um sistema pode ser bom devido a genética do fisiculturista e não por si s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Nuca deve ser utilizado do mesmo jeito para tod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elhor manipular as variáveis básicas (Kraemmer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Séries múltipl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uas a três séries de aquecimento com cargas sucessivamente maior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egue-se várias séries com a mesma carga da ultima sucessiv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Foi o precursor das séries múltipl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Utilização de outros sistemas evitam a estabilização dos ganh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elhores resultados se periodizado (Willoughby, 199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 prescrição do exercício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etodolog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nálise das necessida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Músculos que precisam ser trein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Fontes de energ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revenção de lesã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Variáveis básicas do programa (Kraemer, 1983b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1- Escolha do exercíc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strut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arte do corp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odo de contraçã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2- Ordem do exercíc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rimeiro grande grupo ou o invers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Braço para braço ou alternado por seg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3- Número de sé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4- Período de descans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urto ( &lt; 1min); moderado ( 1 a 3 min); longo (&gt; 3 mi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5- Carg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érie sim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xecução de cada exercício em uma séri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Recomendado 8 a 12 repetiçõ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Ganhos são perdidos rapidamen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dequado para quem dispõe de pouco temp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istema de volu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3 séries de 5 a 6 re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ostrou-se eficaz para ganhos em pequenos períodos, como pré –temporada ( Leighton et al, 1967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istema de rouba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ltera posição (biomecânica do corpo, para quebrar a inérc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4,5 a 9,1 Kg a mais na rosca dire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aior carga levantada leva a ganhos maio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istema de exaust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Repetições até a falha concêntric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ais unidades motoras recrutad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rês séries são mais eficazes que uma (Stowers et al, 1983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esmo estudo demonstrou superioridade da periodizaçã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Sistema de repetição força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epois da falha concêntrica, assistentes ajudam em mais 3 – 4 re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elhora a RM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ssistentes precisam ser atent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Sistema de quei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epois da falha concêntrica, executam-se rep incompletas (5 – 6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Utilizado para panturrilha e braç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Programa de circui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xercícios seguidos com 10 – 15 rep, 40 – 50% da CM e descanso mínimo (15 – 30 seg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elhoria da condição cardiovascul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m 8 a 20 semanas, aumenta VO2 max em 4 – 8% em homens e mulheres previamente sedentá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Sistema de ação periférica do cor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eqüências de 3 séries de 4 – 6 exercícios para partes diferentes do corpo, com 8 – 12 rep / séri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20 – 30 exercícios por sessão de treiname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FC mantida ao redor de 140 sp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stema de séries alterna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m exercício para um grupo muscular e outro para outra parte do corpo sem interval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nde economia de tempo para o mesmo trabalho tradicio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stema de progressão dup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908000" y="4600440"/>
          <a:ext cx="4608720" cy="22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600440"/>
                    <a:ext cx="4608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Flush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ois ou mais exercícios para mannter o sangue no local e facilitar, por isso, a hipertrof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ais sangue leva mais fatores anabolizant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Sem qualquer evidência fisiológic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stema isométrico func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xecuta ação concêntrica por apenas 10 – 12 cm. e depois mantém força contra um bloque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Visa ganho de força numa certa amplitude articular do ex. isométric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inimiza o problema de a CM ser limitada ao ponto mais fraco do movimen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dequado para aumento da forç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Causou maior aumento na força que treino convencional (Jackson et al, 1985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ode ser feito no ponto da amplitude articular da falha concêntric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rogramas piramida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meça com 10 – 12 rep e a carga é aumentada de modo a forçar a diminuição do número de rep. Depois, se desce a pirâmi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rescent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gime de deLor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3 séries de 10 rep - De aprox. 50% para 66% e para 100% de 10 R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ecresce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écnica de Oxfor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3 x 10 rep de 100% para 66 e 50% de 10 R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2771640" y="508464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771640" y="2923920"/>
            <a:ext cx="208764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4858920" y="2923920"/>
            <a:ext cx="208908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2000" y="4724280"/>
            <a:ext cx="338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19640" y="44370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08360" y="4076640"/>
            <a:ext cx="230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67280" y="3789360"/>
            <a:ext cx="165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7640" y="3429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4724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4365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40360" y="4076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 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40360" y="3789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11640" y="314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Sistemas de pesos múltipl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4 – 5 rep, com 4 -5 RM. Segue-se a remoção de 4,1 a 9,1 Kg com mais 4 – 5 rep. Isto continua-se por várias sé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Sistema negati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rabalhar com carga maior na fase excêntr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om ajuda ou levantando com ambas as pernas / braços e abaixando com uma apen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argas propostas: 105 a 140% de 1 R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ara pesos livres: 105 a 110% de 1 R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Sistema de supersobrecar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reinamento neg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omeça com braços estendidos e usa carga de 125% da CM (1 RM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Realiza fase excêntrica e depois concêntri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Sistema de pau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Uma carga quase máxima com 10 a 15 seg. de pausa entre cada uma das re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Realizam-se 4 – 5 rep., se necessário, com ajud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Uma série de cada exercício – dois a três exercícios por grupo muscul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istema parcela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uitos exercícios para a mesma parte do corp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ivide-se partes do corpo por di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Braço, perna abdome: seg, qua e sex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ito, ombro, costas: ter, qui e sa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Programa blit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penas uma parte do corpo por sessão, com mesmo tempo do parcelado (mais exercício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NÁLISE DAS NECESSIDADES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úsculos que precisam ser treinad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esporte, análise dos movimentos execut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âmara de vídeo, com reprise em câmara lenta par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vimentos, ângulos e velocid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nsferênc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s treinos do esporte não sobrecarregam o sistema neuromuscul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ximiza-se pelos movimentos, ângulos e velocid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o de contraçã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alisar direções de movimento e contrações isométricas, concêntricas e excêntric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não – atleta deve visar o condicionamento geral e equilibr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7667640" y="623736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81" h="21600">
                <a:moveTo>
                  <a:pt x="23184" y="7493"/>
                </a:moveTo>
                <a:lnTo>
                  <a:pt x="26692" y="7493"/>
                </a:lnTo>
                <a:lnTo>
                  <a:pt x="26692" y="12828"/>
                </a:lnTo>
                <a:cubicBezTo>
                  <a:pt x="26692" y="13751"/>
                  <a:pt x="27492" y="14482"/>
                  <a:pt x="28528" y="14482"/>
                </a:cubicBezTo>
                <a:lnTo>
                  <a:pt x="30190" y="14482"/>
                </a:lnTo>
                <a:cubicBezTo>
                  <a:pt x="31226" y="14482"/>
                  <a:pt x="32027" y="13751"/>
                  <a:pt x="32027" y="12828"/>
                </a:cubicBezTo>
                <a:lnTo>
                  <a:pt x="32027" y="7493"/>
                </a:lnTo>
                <a:lnTo>
                  <a:pt x="30190" y="7493"/>
                </a:lnTo>
                <a:lnTo>
                  <a:pt x="33698" y="3985"/>
                </a:lnTo>
                <a:lnTo>
                  <a:pt x="37371" y="7493"/>
                </a:lnTo>
                <a:lnTo>
                  <a:pt x="35534" y="7493"/>
                </a:lnTo>
                <a:lnTo>
                  <a:pt x="35534" y="12828"/>
                </a:lnTo>
                <a:cubicBezTo>
                  <a:pt x="35534" y="15596"/>
                  <a:pt x="32958" y="18155"/>
                  <a:pt x="30190" y="18155"/>
                </a:cubicBezTo>
                <a:lnTo>
                  <a:pt x="28528" y="18155"/>
                </a:lnTo>
                <a:cubicBezTo>
                  <a:pt x="25760" y="18155"/>
                  <a:pt x="23184" y="15596"/>
                  <a:pt x="23184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Sistema de exercício isol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penas 1 exercício por d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arga para 8 – 10 R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antas séries quanto possível em 1,5 ho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No máximo por seis seman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istema de superbomb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15 – 18 séries para cada parte do corpo em uma única sessã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 1 a 3 exercício por grupo muscul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éries de 5 – 6 rep, com intervalo de 15”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 2 a 3 treinos/sem por grupo muscul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Sistema de supersé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Várias séries de exercícios para agonista / antagonista; ou uma série de vários exercícios para o mesmo grupo muscul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8 a 10 rep, sem intervalo entre exercícios e sé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istema superl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 20 a 60 seg por re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aior tempo de tensão aumentaria forç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Sem comprovaçã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Uma ou duas séries – uma a cinco re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arga sem relação com RM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epende do nível de enduran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NÁLISE DAS NECESSIDADES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Fontes de energ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TP-C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Glicolítico (com altas produções de lactato (&gt; 10 mmo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O metabolismo aeróbio é participante, especialmente na recuperaçã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No entanto sem solicitação do sistema cardiovascular, suficiente para provocar adaptaçõ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759636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7493"/>
                </a:moveTo>
                <a:lnTo>
                  <a:pt x="14513" y="7493"/>
                </a:lnTo>
                <a:lnTo>
                  <a:pt x="14513" y="12828"/>
                </a:lnTo>
                <a:cubicBezTo>
                  <a:pt x="14513" y="13751"/>
                  <a:pt x="15314" y="14482"/>
                  <a:pt x="16350" y="14482"/>
                </a:cubicBezTo>
                <a:lnTo>
                  <a:pt x="18012" y="14482"/>
                </a:lnTo>
                <a:cubicBezTo>
                  <a:pt x="19048" y="14482"/>
                  <a:pt x="19848" y="13751"/>
                  <a:pt x="19848" y="12828"/>
                </a:cubicBezTo>
                <a:lnTo>
                  <a:pt x="19848" y="7493"/>
                </a:lnTo>
                <a:lnTo>
                  <a:pt x="18012" y="7493"/>
                </a:lnTo>
                <a:lnTo>
                  <a:pt x="21520" y="3985"/>
                </a:lnTo>
                <a:lnTo>
                  <a:pt x="25193" y="7493"/>
                </a:lnTo>
                <a:lnTo>
                  <a:pt x="23356" y="7493"/>
                </a:lnTo>
                <a:lnTo>
                  <a:pt x="23356" y="12828"/>
                </a:lnTo>
                <a:cubicBezTo>
                  <a:pt x="23356" y="15596"/>
                  <a:pt x="20780" y="18155"/>
                  <a:pt x="18012" y="18155"/>
                </a:cubicBezTo>
                <a:lnTo>
                  <a:pt x="16350" y="18155"/>
                </a:lnTo>
                <a:cubicBezTo>
                  <a:pt x="13582" y="18155"/>
                  <a:pt x="11006" y="15596"/>
                  <a:pt x="11006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NÁLISE DAS NECESSIDADES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Prevenção de lesõ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os principais benefícios da muscul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Resiste melhor à lesões, se recupera mais rápido e reduz a extensão dos dan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Histórico de outras atividades realizados pelo sujeito, para reforçar estrutura muscular de articulações mais solicitad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Principalmente se atleta, histórico de lesõ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ranscende-se o conceito de re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(h)abilitação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 para pré-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habilitaçã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7596360" y="551664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9936" y="7493"/>
                </a:moveTo>
                <a:lnTo>
                  <a:pt x="13444" y="7493"/>
                </a:lnTo>
                <a:lnTo>
                  <a:pt x="13444" y="12828"/>
                </a:lnTo>
                <a:cubicBezTo>
                  <a:pt x="13444" y="13751"/>
                  <a:pt x="14245" y="14482"/>
                  <a:pt x="15280" y="14482"/>
                </a:cubicBezTo>
                <a:lnTo>
                  <a:pt x="16943" y="14482"/>
                </a:lnTo>
                <a:cubicBezTo>
                  <a:pt x="17979" y="14482"/>
                  <a:pt x="18779" y="13751"/>
                  <a:pt x="18779" y="12828"/>
                </a:cubicBezTo>
                <a:lnTo>
                  <a:pt x="18779" y="7493"/>
                </a:lnTo>
                <a:lnTo>
                  <a:pt x="16943" y="7493"/>
                </a:lnTo>
                <a:lnTo>
                  <a:pt x="20450" y="3985"/>
                </a:lnTo>
                <a:lnTo>
                  <a:pt x="24123" y="7493"/>
                </a:lnTo>
                <a:lnTo>
                  <a:pt x="22287" y="7493"/>
                </a:lnTo>
                <a:lnTo>
                  <a:pt x="22287" y="12828"/>
                </a:lnTo>
                <a:cubicBezTo>
                  <a:pt x="22287" y="15596"/>
                  <a:pt x="19711" y="18155"/>
                  <a:pt x="16943" y="18155"/>
                </a:cubicBezTo>
                <a:lnTo>
                  <a:pt x="15280" y="18155"/>
                </a:lnTo>
                <a:cubicBezTo>
                  <a:pt x="12513" y="18155"/>
                  <a:pt x="9936" y="15596"/>
                  <a:pt x="9936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1- Escolha do exercíc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udança no ângulo altera a porção do tecido recrutad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xercícios primá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reinam motores primários (exc. de grandes grupos mm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xercícios de assistê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reinam grupos musculares menores (Rosca tríceps, bíceps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struturais, multiarticula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Interessante para ganho de temp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Imprescindível nos espor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onoarticula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osca, extensão dos joelh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7596360" y="595008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7493"/>
                </a:moveTo>
                <a:lnTo>
                  <a:pt x="13492" y="7493"/>
                </a:lnTo>
                <a:lnTo>
                  <a:pt x="13492" y="12828"/>
                </a:lnTo>
                <a:cubicBezTo>
                  <a:pt x="13492" y="13751"/>
                  <a:pt x="14293" y="14482"/>
                  <a:pt x="15329" y="14482"/>
                </a:cubicBezTo>
                <a:lnTo>
                  <a:pt x="16991" y="14482"/>
                </a:lnTo>
                <a:cubicBezTo>
                  <a:pt x="18027" y="14482"/>
                  <a:pt x="18828" y="13751"/>
                  <a:pt x="18828" y="12828"/>
                </a:cubicBezTo>
                <a:lnTo>
                  <a:pt x="18828" y="7493"/>
                </a:lnTo>
                <a:lnTo>
                  <a:pt x="16991" y="7493"/>
                </a:lnTo>
                <a:lnTo>
                  <a:pt x="20499" y="3985"/>
                </a:lnTo>
                <a:lnTo>
                  <a:pt x="24172" y="7493"/>
                </a:lnTo>
                <a:lnTo>
                  <a:pt x="22335" y="7493"/>
                </a:lnTo>
                <a:lnTo>
                  <a:pt x="22335" y="12828"/>
                </a:lnTo>
                <a:cubicBezTo>
                  <a:pt x="22335" y="15596"/>
                  <a:pt x="19759" y="18155"/>
                  <a:pt x="16991" y="18155"/>
                </a:cubicBezTo>
                <a:lnTo>
                  <a:pt x="15329" y="18155"/>
                </a:lnTo>
                <a:cubicBezTo>
                  <a:pt x="12561" y="18155"/>
                  <a:pt x="9985" y="15596"/>
                  <a:pt x="9985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2- Ordem dos exercíci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rimeiro os grandes grupos muscula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Trabalham com maior eficác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aior carga pode ser usada nos exercícios estruturais (multiarticulares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195 contra 189 Kg (p &gt;/ 0.05 no agachamento em jogadores de futebol america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ré-exaust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rimeiro os grupos mm meno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Flexão e extensão...depois agacha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Quando os maiores são solicitados, não contam com a ajuda dos meno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Fadiga-se os sinergistas e estabilizado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oldana e desenvolvimento antes do supi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ados de estudo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petições contínuas resultam em ganhos em relação a descanso entre as repetições (Hebert e Balnae, 199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2- Ordem dos exercíci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istema de priorid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Os exercícios mais importantes para o objetivo do cliente são usados no início da sessã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Grupos musculares que precisam de maior treinamen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xercícios de potência (pliometria, ou força explosiva com aparelhos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xceção quando o atleta realiza muito a explosão (basquete (vôlei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lo nível de aprendiz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locar os exercícios que estão sendo aprendidos no início da sessã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lternância dos segm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ecessário nos iniciantes por conta da alta acido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cúmulo de exercício é ferramenta de halterofilist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8101080" y="501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7493"/>
                </a:moveTo>
                <a:lnTo>
                  <a:pt x="15411" y="7493"/>
                </a:lnTo>
                <a:lnTo>
                  <a:pt x="15411" y="12828"/>
                </a:lnTo>
                <a:cubicBezTo>
                  <a:pt x="15411" y="13751"/>
                  <a:pt x="16212" y="14482"/>
                  <a:pt x="17248" y="14482"/>
                </a:cubicBezTo>
                <a:lnTo>
                  <a:pt x="18910" y="14482"/>
                </a:lnTo>
                <a:cubicBezTo>
                  <a:pt x="19946" y="14482"/>
                  <a:pt x="20747" y="13751"/>
                  <a:pt x="20747" y="12828"/>
                </a:cubicBezTo>
                <a:lnTo>
                  <a:pt x="20747" y="7493"/>
                </a:lnTo>
                <a:lnTo>
                  <a:pt x="18910" y="7493"/>
                </a:lnTo>
                <a:lnTo>
                  <a:pt x="22418" y="3985"/>
                </a:lnTo>
                <a:lnTo>
                  <a:pt x="26091" y="7493"/>
                </a:lnTo>
                <a:lnTo>
                  <a:pt x="24254" y="7493"/>
                </a:lnTo>
                <a:lnTo>
                  <a:pt x="24254" y="12828"/>
                </a:lnTo>
                <a:cubicBezTo>
                  <a:pt x="24254" y="15596"/>
                  <a:pt x="21678" y="18155"/>
                  <a:pt x="18910" y="18155"/>
                </a:cubicBezTo>
                <a:lnTo>
                  <a:pt x="17248" y="18155"/>
                </a:lnTo>
                <a:cubicBezTo>
                  <a:pt x="14480" y="18155"/>
                  <a:pt x="11904" y="15596"/>
                  <a:pt x="11904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 Número de sé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ês a seis séries são as mais utilizad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érie única é eficaz para o iniciante e para manutençã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rante os primeiros meses, 1,2 ou 3 séries mostram resultados simila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lação ganho neural x hipertrof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 comparado com um programa periodizado de múltiplas séries, esta mostra-se melhor que série úni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1332000" y="3860640"/>
            <a:ext cx="0" cy="259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6453360"/>
            <a:ext cx="705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4869000"/>
            <a:ext cx="287280" cy="1584360"/>
          </a:xfrm>
          <a:prstGeom prst="rect">
            <a:avLst/>
          </a:prstGeom>
          <a:solidFill>
            <a:srgbClr val="bfcb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979640" y="4221000"/>
            <a:ext cx="288720" cy="2232360"/>
          </a:xfrm>
          <a:prstGeom prst="rect">
            <a:avLst/>
          </a:prstGeom>
          <a:solidFill>
            <a:srgbClr val="a8a2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68360" y="4292640"/>
            <a:ext cx="287640" cy="2160720"/>
          </a:xfrm>
          <a:prstGeom prst="rect">
            <a:avLst/>
          </a:prstGeom>
          <a:solidFill>
            <a:srgbClr val="fba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56000" y="4076640"/>
            <a:ext cx="287280" cy="237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95640" y="4869000"/>
            <a:ext cx="287280" cy="1584360"/>
          </a:xfrm>
          <a:prstGeom prst="rect">
            <a:avLst/>
          </a:prstGeom>
          <a:solidFill>
            <a:srgbClr val="bfcb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4653000"/>
            <a:ext cx="287280" cy="1800360"/>
          </a:xfrm>
          <a:prstGeom prst="rect">
            <a:avLst/>
          </a:prstGeom>
          <a:solidFill>
            <a:srgbClr val="a8a2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0" y="4653000"/>
            <a:ext cx="287280" cy="1800360"/>
          </a:xfrm>
          <a:prstGeom prst="rect">
            <a:avLst/>
          </a:prstGeom>
          <a:solidFill>
            <a:srgbClr val="fba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59280" y="4653000"/>
            <a:ext cx="28908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56360" y="4869000"/>
            <a:ext cx="287280" cy="1584360"/>
          </a:xfrm>
          <a:prstGeom prst="rect">
            <a:avLst/>
          </a:prstGeom>
          <a:solidFill>
            <a:srgbClr val="bfcb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4797360"/>
            <a:ext cx="289080" cy="1656000"/>
          </a:xfrm>
          <a:prstGeom prst="rect">
            <a:avLst/>
          </a:prstGeom>
          <a:solidFill>
            <a:srgbClr val="a8a2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32720" y="4724280"/>
            <a:ext cx="287280" cy="1729080"/>
          </a:xfrm>
          <a:prstGeom prst="rect">
            <a:avLst/>
          </a:prstGeom>
          <a:solidFill>
            <a:srgbClr val="fba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797360"/>
            <a:ext cx="288720" cy="165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03280" y="6453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i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8000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sé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12000" y="645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4149720"/>
            <a:ext cx="32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71640" y="6021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71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71640" y="45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71640" y="5589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4076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24720" y="4005360"/>
            <a:ext cx="216000" cy="144360"/>
          </a:xfrm>
          <a:prstGeom prst="rect">
            <a:avLst/>
          </a:prstGeom>
          <a:solidFill>
            <a:srgbClr val="bfcb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24720" y="4365720"/>
            <a:ext cx="216000" cy="144360"/>
          </a:xfrm>
          <a:prstGeom prst="rect">
            <a:avLst/>
          </a:prstGeom>
          <a:solidFill>
            <a:srgbClr val="a8a2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24720" y="4724280"/>
            <a:ext cx="216000" cy="144720"/>
          </a:xfrm>
          <a:prstGeom prst="rect">
            <a:avLst/>
          </a:prstGeom>
          <a:solidFill>
            <a:srgbClr val="fba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24720" y="5084640"/>
            <a:ext cx="21600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885080" y="393372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É-TRE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885080" y="429264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 ME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885080" y="46530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ME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85080" y="501336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 ME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1:35:52Z</dcterms:created>
  <dc:creator>Alexandre Sérgio Silva</dc:creator>
  <dc:description/>
  <dc:language>en-US</dc:language>
  <cp:lastModifiedBy>Alexandre Sérgio Silva</cp:lastModifiedBy>
  <dcterms:modified xsi:type="dcterms:W3CDTF">2004-07-07T19:16:32Z</dcterms:modified>
  <cp:revision>236</cp:revision>
  <dc:subject/>
  <dc:title>METODOLOGIA E SISTEMAS DE TREINAMENTO</dc:title>
</cp:coreProperties>
</file>