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DC8-3F1E-43D2-B372-A9AEA4B0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0C39-9817-48E6-9208-AA1CF0E5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9BB3-CF50-4197-8174-242931E8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E73E-793B-48A7-BAA0-A1405733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88DB-4256-4E48-BC34-CF0B576A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BB0C-3654-4F95-AA7A-66D3EC20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90EC-0091-43CA-B19B-F49EB994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09A6-274F-4B53-944D-94DF4EE6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8301-7217-42A9-A2C2-359F805B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205B-9408-435D-BC71-585BE0BB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9E7C-83DE-4AAF-916A-61301FC7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66EC-A060-4116-8854-2C810DD2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27FA-41B2-4C38-B109-34078FC3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2AE3-79E8-426B-B4EF-9956271F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0068-CE06-46D1-926E-F2F82983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55AF-DA36-451A-8498-4E553A9A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687F-D7B8-44E0-B272-0E53D53E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C2D8-A57A-4473-B583-CB84C5E9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6992-AA0E-447B-8890-51B2DA67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B99D-10A6-461B-B24B-34996F42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3D8F-5EC6-4FD1-97F1-2E0D8A2A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9155-CEBF-4033-8F2F-63B021A5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09DE-3A06-4B9D-B8D1-7CF1EA55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52E-105F-4B7F-ADB8-E843D5F5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7DB2-F36C-4552-B276-FF5D0E1C781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20A2-7133-4C45-B214-0D0DC81D82D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Princípios da Ondulação e Ciclicida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ULA 24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rincípio da Ciclicida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 macrocicl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Está delimitado em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Preparaçã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Competiçã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Transiçã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As cargas dos meso e microciclos e tipos de atividades realizadas (especialmente quanto a classificação em geral e específicos depende da fase do macrociclo onde o meso ou micro está inserido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Orientado para aquisição da  forma esportiva na época apropriad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SES DO MACROCICL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15920"/>
            <a:ext cx="8229600" cy="60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5445000"/>
            <a:ext cx="0" cy="720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32000" y="5445000"/>
            <a:ext cx="57600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35280" y="5445000"/>
            <a:ext cx="57600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2411280" y="5445000"/>
            <a:ext cx="576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87640" y="5445000"/>
            <a:ext cx="576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64000" y="5445000"/>
            <a:ext cx="576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40360" y="5445000"/>
            <a:ext cx="57600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16360" y="5445000"/>
            <a:ext cx="576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I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720" y="5445000"/>
            <a:ext cx="576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II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96360" y="5445000"/>
            <a:ext cx="57600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I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20000" y="5445000"/>
            <a:ext cx="576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43640" y="5445000"/>
            <a:ext cx="576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5445000"/>
            <a:ext cx="576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32000" y="5805360"/>
            <a:ext cx="223200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64000" y="5805360"/>
            <a:ext cx="115236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6360" y="5805360"/>
            <a:ext cx="935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1640" y="5805360"/>
            <a:ext cx="151272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3640" y="5805360"/>
            <a:ext cx="792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36000" y="5805360"/>
            <a:ext cx="936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6165720"/>
            <a:ext cx="3384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EPARAÇÃ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6360" y="6165720"/>
            <a:ext cx="2519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PETITIVO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36000" y="6165720"/>
            <a:ext cx="936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N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54450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MES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5805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TAP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6165720"/>
            <a:ext cx="1081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66"/>
                </a:solidFill>
                <a:latin typeface="Arial"/>
              </a:rPr>
              <a:t>PERÍODOS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6360" y="638172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564000" y="2276280"/>
            <a:ext cx="0" cy="3168360"/>
          </a:xfrm>
          <a:prstGeom prst="line">
            <a:avLst/>
          </a:prstGeom>
          <a:ln w="381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580000" y="2276280"/>
            <a:ext cx="0" cy="3168360"/>
          </a:xfrm>
          <a:prstGeom prst="line">
            <a:avLst/>
          </a:prstGeom>
          <a:ln w="381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443640" y="2205000"/>
            <a:ext cx="0" cy="3168720"/>
          </a:xfrm>
          <a:prstGeom prst="line">
            <a:avLst/>
          </a:prstGeom>
          <a:ln w="381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716360" y="2276280"/>
            <a:ext cx="0" cy="316836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236000" y="2205000"/>
            <a:ext cx="0" cy="316872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66760" y="2347920"/>
            <a:ext cx="6770880" cy="1639800"/>
          </a:xfrm>
          <a:custGeom>
            <a:avLst/>
            <a:gdLst/>
            <a:ahLst/>
            <a:rect l="l" t="t" r="r" b="b"/>
            <a:pathLst>
              <a:path w="4265" h="1033">
                <a:moveTo>
                  <a:pt x="0" y="629"/>
                </a:moveTo>
                <a:cubicBezTo>
                  <a:pt x="61" y="625"/>
                  <a:pt x="123" y="624"/>
                  <a:pt x="184" y="617"/>
                </a:cubicBezTo>
                <a:cubicBezTo>
                  <a:pt x="237" y="611"/>
                  <a:pt x="236" y="574"/>
                  <a:pt x="294" y="555"/>
                </a:cubicBezTo>
                <a:cubicBezTo>
                  <a:pt x="348" y="537"/>
                  <a:pt x="388" y="500"/>
                  <a:pt x="442" y="482"/>
                </a:cubicBezTo>
                <a:cubicBezTo>
                  <a:pt x="488" y="450"/>
                  <a:pt x="541" y="435"/>
                  <a:pt x="589" y="408"/>
                </a:cubicBezTo>
                <a:cubicBezTo>
                  <a:pt x="627" y="387"/>
                  <a:pt x="670" y="357"/>
                  <a:pt x="699" y="323"/>
                </a:cubicBezTo>
                <a:cubicBezTo>
                  <a:pt x="735" y="280"/>
                  <a:pt x="707" y="287"/>
                  <a:pt x="760" y="261"/>
                </a:cubicBezTo>
                <a:cubicBezTo>
                  <a:pt x="817" y="233"/>
                  <a:pt x="882" y="227"/>
                  <a:pt x="944" y="212"/>
                </a:cubicBezTo>
                <a:cubicBezTo>
                  <a:pt x="989" y="201"/>
                  <a:pt x="1023" y="165"/>
                  <a:pt x="1067" y="151"/>
                </a:cubicBezTo>
                <a:cubicBezTo>
                  <a:pt x="1103" y="114"/>
                  <a:pt x="1211" y="50"/>
                  <a:pt x="1263" y="41"/>
                </a:cubicBezTo>
                <a:cubicBezTo>
                  <a:pt x="1324" y="31"/>
                  <a:pt x="1446" y="16"/>
                  <a:pt x="1446" y="16"/>
                </a:cubicBezTo>
                <a:cubicBezTo>
                  <a:pt x="1496" y="0"/>
                  <a:pt x="1532" y="12"/>
                  <a:pt x="1581" y="28"/>
                </a:cubicBezTo>
                <a:cubicBezTo>
                  <a:pt x="1639" y="67"/>
                  <a:pt x="1698" y="104"/>
                  <a:pt x="1765" y="126"/>
                </a:cubicBezTo>
                <a:cubicBezTo>
                  <a:pt x="1790" y="142"/>
                  <a:pt x="1814" y="159"/>
                  <a:pt x="1839" y="175"/>
                </a:cubicBezTo>
                <a:cubicBezTo>
                  <a:pt x="1951" y="249"/>
                  <a:pt x="1778" y="184"/>
                  <a:pt x="1900" y="224"/>
                </a:cubicBezTo>
                <a:cubicBezTo>
                  <a:pt x="1946" y="255"/>
                  <a:pt x="1976" y="270"/>
                  <a:pt x="2010" y="310"/>
                </a:cubicBezTo>
                <a:cubicBezTo>
                  <a:pt x="2020" y="321"/>
                  <a:pt x="2024" y="337"/>
                  <a:pt x="2035" y="347"/>
                </a:cubicBezTo>
                <a:cubicBezTo>
                  <a:pt x="2057" y="366"/>
                  <a:pt x="2108" y="396"/>
                  <a:pt x="2108" y="396"/>
                </a:cubicBezTo>
                <a:cubicBezTo>
                  <a:pt x="2156" y="468"/>
                  <a:pt x="2269" y="552"/>
                  <a:pt x="2353" y="580"/>
                </a:cubicBezTo>
                <a:cubicBezTo>
                  <a:pt x="2427" y="689"/>
                  <a:pt x="2328" y="559"/>
                  <a:pt x="2415" y="629"/>
                </a:cubicBezTo>
                <a:cubicBezTo>
                  <a:pt x="2426" y="638"/>
                  <a:pt x="2429" y="656"/>
                  <a:pt x="2439" y="666"/>
                </a:cubicBezTo>
                <a:cubicBezTo>
                  <a:pt x="2467" y="694"/>
                  <a:pt x="2513" y="703"/>
                  <a:pt x="2549" y="715"/>
                </a:cubicBezTo>
                <a:cubicBezTo>
                  <a:pt x="2574" y="723"/>
                  <a:pt x="2598" y="731"/>
                  <a:pt x="2623" y="739"/>
                </a:cubicBezTo>
                <a:cubicBezTo>
                  <a:pt x="2635" y="743"/>
                  <a:pt x="2660" y="751"/>
                  <a:pt x="2660" y="751"/>
                </a:cubicBezTo>
                <a:cubicBezTo>
                  <a:pt x="2672" y="759"/>
                  <a:pt x="2683" y="770"/>
                  <a:pt x="2696" y="776"/>
                </a:cubicBezTo>
                <a:cubicBezTo>
                  <a:pt x="2720" y="787"/>
                  <a:pt x="2770" y="800"/>
                  <a:pt x="2770" y="800"/>
                </a:cubicBezTo>
                <a:cubicBezTo>
                  <a:pt x="2774" y="812"/>
                  <a:pt x="2770" y="831"/>
                  <a:pt x="2782" y="837"/>
                </a:cubicBezTo>
                <a:cubicBezTo>
                  <a:pt x="2794" y="843"/>
                  <a:pt x="2806" y="828"/>
                  <a:pt x="2819" y="825"/>
                </a:cubicBezTo>
                <a:cubicBezTo>
                  <a:pt x="2843" y="820"/>
                  <a:pt x="2869" y="818"/>
                  <a:pt x="2893" y="813"/>
                </a:cubicBezTo>
                <a:cubicBezTo>
                  <a:pt x="2926" y="806"/>
                  <a:pt x="2991" y="788"/>
                  <a:pt x="2991" y="788"/>
                </a:cubicBezTo>
                <a:cubicBezTo>
                  <a:pt x="3037" y="757"/>
                  <a:pt x="3084" y="727"/>
                  <a:pt x="3125" y="690"/>
                </a:cubicBezTo>
                <a:cubicBezTo>
                  <a:pt x="3136" y="680"/>
                  <a:pt x="3140" y="664"/>
                  <a:pt x="3150" y="653"/>
                </a:cubicBezTo>
                <a:cubicBezTo>
                  <a:pt x="3232" y="563"/>
                  <a:pt x="3224" y="573"/>
                  <a:pt x="3297" y="519"/>
                </a:cubicBezTo>
                <a:cubicBezTo>
                  <a:pt x="3305" y="507"/>
                  <a:pt x="3312" y="493"/>
                  <a:pt x="3322" y="482"/>
                </a:cubicBezTo>
                <a:cubicBezTo>
                  <a:pt x="3332" y="472"/>
                  <a:pt x="3350" y="469"/>
                  <a:pt x="3358" y="457"/>
                </a:cubicBezTo>
                <a:cubicBezTo>
                  <a:pt x="3430" y="341"/>
                  <a:pt x="3337" y="415"/>
                  <a:pt x="3420" y="359"/>
                </a:cubicBezTo>
                <a:cubicBezTo>
                  <a:pt x="3513" y="393"/>
                  <a:pt x="3624" y="423"/>
                  <a:pt x="3689" y="506"/>
                </a:cubicBezTo>
                <a:cubicBezTo>
                  <a:pt x="3716" y="541"/>
                  <a:pt x="3738" y="580"/>
                  <a:pt x="3763" y="617"/>
                </a:cubicBezTo>
                <a:cubicBezTo>
                  <a:pt x="3771" y="629"/>
                  <a:pt x="3779" y="641"/>
                  <a:pt x="3787" y="653"/>
                </a:cubicBezTo>
                <a:cubicBezTo>
                  <a:pt x="3795" y="665"/>
                  <a:pt x="3812" y="690"/>
                  <a:pt x="3812" y="690"/>
                </a:cubicBezTo>
                <a:cubicBezTo>
                  <a:pt x="3835" y="760"/>
                  <a:pt x="3899" y="807"/>
                  <a:pt x="3922" y="874"/>
                </a:cubicBezTo>
                <a:cubicBezTo>
                  <a:pt x="3930" y="899"/>
                  <a:pt x="3939" y="923"/>
                  <a:pt x="3947" y="948"/>
                </a:cubicBezTo>
                <a:cubicBezTo>
                  <a:pt x="3951" y="960"/>
                  <a:pt x="3971" y="957"/>
                  <a:pt x="3983" y="960"/>
                </a:cubicBezTo>
                <a:cubicBezTo>
                  <a:pt x="3999" y="965"/>
                  <a:pt x="4016" y="967"/>
                  <a:pt x="4032" y="972"/>
                </a:cubicBezTo>
                <a:cubicBezTo>
                  <a:pt x="4057" y="980"/>
                  <a:pt x="4080" y="995"/>
                  <a:pt x="4106" y="997"/>
                </a:cubicBezTo>
                <a:cubicBezTo>
                  <a:pt x="4252" y="1010"/>
                  <a:pt x="4209" y="977"/>
                  <a:pt x="4265" y="1033"/>
                </a:cubicBezTo>
              </a:path>
            </a:pathLst>
          </a:custGeom>
          <a:solidFill>
            <a:srgbClr val="ffffff"/>
          </a:solidFill>
          <a:ln w="381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87280" y="2190600"/>
            <a:ext cx="7002720" cy="3043440"/>
          </a:xfrm>
          <a:custGeom>
            <a:avLst/>
            <a:gdLst/>
            <a:ahLst/>
            <a:rect l="l" t="t" r="r" b="b"/>
            <a:pathLst>
              <a:path w="4411" h="1917">
                <a:moveTo>
                  <a:pt x="0" y="1022"/>
                </a:moveTo>
                <a:cubicBezTo>
                  <a:pt x="8" y="1010"/>
                  <a:pt x="13" y="994"/>
                  <a:pt x="24" y="985"/>
                </a:cubicBezTo>
                <a:cubicBezTo>
                  <a:pt x="53" y="961"/>
                  <a:pt x="97" y="968"/>
                  <a:pt x="134" y="961"/>
                </a:cubicBezTo>
                <a:cubicBezTo>
                  <a:pt x="150" y="958"/>
                  <a:pt x="166" y="950"/>
                  <a:pt x="183" y="949"/>
                </a:cubicBezTo>
                <a:cubicBezTo>
                  <a:pt x="298" y="942"/>
                  <a:pt x="412" y="940"/>
                  <a:pt x="527" y="936"/>
                </a:cubicBezTo>
                <a:cubicBezTo>
                  <a:pt x="634" y="915"/>
                  <a:pt x="740" y="890"/>
                  <a:pt x="845" y="863"/>
                </a:cubicBezTo>
                <a:cubicBezTo>
                  <a:pt x="908" y="847"/>
                  <a:pt x="895" y="850"/>
                  <a:pt x="968" y="826"/>
                </a:cubicBezTo>
                <a:cubicBezTo>
                  <a:pt x="980" y="822"/>
                  <a:pt x="1005" y="814"/>
                  <a:pt x="1005" y="814"/>
                </a:cubicBezTo>
                <a:cubicBezTo>
                  <a:pt x="1103" y="746"/>
                  <a:pt x="981" y="825"/>
                  <a:pt x="1078" y="777"/>
                </a:cubicBezTo>
                <a:cubicBezTo>
                  <a:pt x="1091" y="770"/>
                  <a:pt x="1101" y="758"/>
                  <a:pt x="1115" y="752"/>
                </a:cubicBezTo>
                <a:cubicBezTo>
                  <a:pt x="1138" y="742"/>
                  <a:pt x="1188" y="728"/>
                  <a:pt x="1188" y="728"/>
                </a:cubicBezTo>
                <a:cubicBezTo>
                  <a:pt x="1196" y="703"/>
                  <a:pt x="1188" y="660"/>
                  <a:pt x="1213" y="654"/>
                </a:cubicBezTo>
                <a:cubicBezTo>
                  <a:pt x="1310" y="630"/>
                  <a:pt x="1245" y="643"/>
                  <a:pt x="1409" y="630"/>
                </a:cubicBezTo>
                <a:cubicBezTo>
                  <a:pt x="1585" y="601"/>
                  <a:pt x="1404" y="645"/>
                  <a:pt x="1519" y="581"/>
                </a:cubicBezTo>
                <a:cubicBezTo>
                  <a:pt x="1542" y="568"/>
                  <a:pt x="1571" y="570"/>
                  <a:pt x="1593" y="556"/>
                </a:cubicBezTo>
                <a:cubicBezTo>
                  <a:pt x="1633" y="530"/>
                  <a:pt x="1727" y="487"/>
                  <a:pt x="1777" y="471"/>
                </a:cubicBezTo>
                <a:cubicBezTo>
                  <a:pt x="1876" y="399"/>
                  <a:pt x="1894" y="387"/>
                  <a:pt x="2009" y="348"/>
                </a:cubicBezTo>
                <a:cubicBezTo>
                  <a:pt x="2037" y="339"/>
                  <a:pt x="2055" y="308"/>
                  <a:pt x="2083" y="299"/>
                </a:cubicBezTo>
                <a:cubicBezTo>
                  <a:pt x="2159" y="273"/>
                  <a:pt x="2211" y="249"/>
                  <a:pt x="2291" y="238"/>
                </a:cubicBezTo>
                <a:cubicBezTo>
                  <a:pt x="2305" y="200"/>
                  <a:pt x="2298" y="195"/>
                  <a:pt x="2340" y="176"/>
                </a:cubicBezTo>
                <a:cubicBezTo>
                  <a:pt x="2364" y="165"/>
                  <a:pt x="2414" y="152"/>
                  <a:pt x="2414" y="152"/>
                </a:cubicBezTo>
                <a:cubicBezTo>
                  <a:pt x="2477" y="157"/>
                  <a:pt x="2557" y="158"/>
                  <a:pt x="2622" y="176"/>
                </a:cubicBezTo>
                <a:cubicBezTo>
                  <a:pt x="2660" y="186"/>
                  <a:pt x="2696" y="201"/>
                  <a:pt x="2733" y="213"/>
                </a:cubicBezTo>
                <a:cubicBezTo>
                  <a:pt x="2745" y="217"/>
                  <a:pt x="2769" y="225"/>
                  <a:pt x="2769" y="225"/>
                </a:cubicBezTo>
                <a:cubicBezTo>
                  <a:pt x="2879" y="221"/>
                  <a:pt x="2990" y="223"/>
                  <a:pt x="3100" y="213"/>
                </a:cubicBezTo>
                <a:cubicBezTo>
                  <a:pt x="3162" y="208"/>
                  <a:pt x="3193" y="168"/>
                  <a:pt x="3247" y="152"/>
                </a:cubicBezTo>
                <a:cubicBezTo>
                  <a:pt x="3275" y="144"/>
                  <a:pt x="3304" y="144"/>
                  <a:pt x="3333" y="140"/>
                </a:cubicBezTo>
                <a:cubicBezTo>
                  <a:pt x="3427" y="0"/>
                  <a:pt x="3656" y="50"/>
                  <a:pt x="3786" y="140"/>
                </a:cubicBezTo>
                <a:cubicBezTo>
                  <a:pt x="3845" y="227"/>
                  <a:pt x="3814" y="192"/>
                  <a:pt x="3872" y="250"/>
                </a:cubicBezTo>
                <a:cubicBezTo>
                  <a:pt x="3893" y="309"/>
                  <a:pt x="3912" y="352"/>
                  <a:pt x="3970" y="373"/>
                </a:cubicBezTo>
                <a:cubicBezTo>
                  <a:pt x="4020" y="440"/>
                  <a:pt x="4021" y="492"/>
                  <a:pt x="4044" y="569"/>
                </a:cubicBezTo>
                <a:cubicBezTo>
                  <a:pt x="4051" y="594"/>
                  <a:pt x="4068" y="642"/>
                  <a:pt x="4068" y="642"/>
                </a:cubicBezTo>
                <a:cubicBezTo>
                  <a:pt x="4078" y="761"/>
                  <a:pt x="4073" y="883"/>
                  <a:pt x="4105" y="998"/>
                </a:cubicBezTo>
                <a:cubicBezTo>
                  <a:pt x="4144" y="1141"/>
                  <a:pt x="4211" y="1280"/>
                  <a:pt x="4240" y="1426"/>
                </a:cubicBezTo>
                <a:cubicBezTo>
                  <a:pt x="4261" y="1535"/>
                  <a:pt x="4278" y="1640"/>
                  <a:pt x="4313" y="1745"/>
                </a:cubicBezTo>
                <a:cubicBezTo>
                  <a:pt x="4321" y="1769"/>
                  <a:pt x="4332" y="1837"/>
                  <a:pt x="4350" y="1855"/>
                </a:cubicBezTo>
                <a:cubicBezTo>
                  <a:pt x="4395" y="1900"/>
                  <a:pt x="4375" y="1879"/>
                  <a:pt x="4411" y="1917"/>
                </a:cubicBezTo>
              </a:path>
            </a:pathLst>
          </a:custGeom>
          <a:noFill/>
          <a:ln w="38160">
            <a:solidFill>
              <a:srgbClr val="99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32000" y="4341960"/>
            <a:ext cx="6840360" cy="1068120"/>
          </a:xfrm>
          <a:custGeom>
            <a:avLst/>
            <a:gdLst/>
            <a:ahLst/>
            <a:rect l="l" t="t" r="r" b="b"/>
            <a:pathLst>
              <a:path w="4309" h="673">
                <a:moveTo>
                  <a:pt x="0" y="559"/>
                </a:moveTo>
                <a:cubicBezTo>
                  <a:pt x="53" y="487"/>
                  <a:pt x="106" y="416"/>
                  <a:pt x="181" y="423"/>
                </a:cubicBezTo>
                <a:cubicBezTo>
                  <a:pt x="256" y="430"/>
                  <a:pt x="347" y="649"/>
                  <a:pt x="453" y="604"/>
                </a:cubicBezTo>
                <a:cubicBezTo>
                  <a:pt x="559" y="559"/>
                  <a:pt x="710" y="166"/>
                  <a:pt x="816" y="151"/>
                </a:cubicBezTo>
                <a:cubicBezTo>
                  <a:pt x="922" y="136"/>
                  <a:pt x="990" y="537"/>
                  <a:pt x="1088" y="514"/>
                </a:cubicBezTo>
                <a:cubicBezTo>
                  <a:pt x="1186" y="491"/>
                  <a:pt x="1315" y="30"/>
                  <a:pt x="1406" y="15"/>
                </a:cubicBezTo>
                <a:cubicBezTo>
                  <a:pt x="1497" y="0"/>
                  <a:pt x="1573" y="415"/>
                  <a:pt x="1633" y="423"/>
                </a:cubicBezTo>
                <a:cubicBezTo>
                  <a:pt x="1693" y="431"/>
                  <a:pt x="1716" y="30"/>
                  <a:pt x="1769" y="60"/>
                </a:cubicBezTo>
                <a:cubicBezTo>
                  <a:pt x="1822" y="90"/>
                  <a:pt x="1882" y="566"/>
                  <a:pt x="1950" y="604"/>
                </a:cubicBezTo>
                <a:cubicBezTo>
                  <a:pt x="2018" y="642"/>
                  <a:pt x="2117" y="279"/>
                  <a:pt x="2177" y="287"/>
                </a:cubicBezTo>
                <a:cubicBezTo>
                  <a:pt x="2237" y="295"/>
                  <a:pt x="2260" y="643"/>
                  <a:pt x="2313" y="650"/>
                </a:cubicBezTo>
                <a:cubicBezTo>
                  <a:pt x="2366" y="657"/>
                  <a:pt x="2435" y="340"/>
                  <a:pt x="2495" y="332"/>
                </a:cubicBezTo>
                <a:cubicBezTo>
                  <a:pt x="2555" y="324"/>
                  <a:pt x="2593" y="627"/>
                  <a:pt x="2676" y="604"/>
                </a:cubicBezTo>
                <a:cubicBezTo>
                  <a:pt x="2759" y="581"/>
                  <a:pt x="2903" y="188"/>
                  <a:pt x="2994" y="196"/>
                </a:cubicBezTo>
                <a:cubicBezTo>
                  <a:pt x="3085" y="204"/>
                  <a:pt x="3160" y="627"/>
                  <a:pt x="3220" y="650"/>
                </a:cubicBezTo>
                <a:cubicBezTo>
                  <a:pt x="3280" y="673"/>
                  <a:pt x="3296" y="332"/>
                  <a:pt x="3356" y="332"/>
                </a:cubicBezTo>
                <a:cubicBezTo>
                  <a:pt x="3416" y="332"/>
                  <a:pt x="3523" y="627"/>
                  <a:pt x="3583" y="650"/>
                </a:cubicBezTo>
                <a:cubicBezTo>
                  <a:pt x="3643" y="673"/>
                  <a:pt x="3651" y="468"/>
                  <a:pt x="3719" y="468"/>
                </a:cubicBezTo>
                <a:cubicBezTo>
                  <a:pt x="3787" y="468"/>
                  <a:pt x="3915" y="657"/>
                  <a:pt x="3991" y="650"/>
                </a:cubicBezTo>
                <a:cubicBezTo>
                  <a:pt x="4067" y="643"/>
                  <a:pt x="4120" y="431"/>
                  <a:pt x="4173" y="423"/>
                </a:cubicBezTo>
                <a:cubicBezTo>
                  <a:pt x="4226" y="415"/>
                  <a:pt x="4267" y="509"/>
                  <a:pt x="4309" y="604"/>
                </a:cubicBezTo>
              </a:path>
            </a:pathLst>
          </a:custGeom>
          <a:noFill/>
          <a:ln w="38160">
            <a:solidFill>
              <a:srgbClr val="00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47640" y="3825720"/>
            <a:ext cx="6624720" cy="1668600"/>
          </a:xfrm>
          <a:custGeom>
            <a:avLst/>
            <a:gdLst/>
            <a:ahLst/>
            <a:rect l="l" t="t" r="r" b="b"/>
            <a:pathLst>
              <a:path w="4173" h="1051">
                <a:moveTo>
                  <a:pt x="0" y="884"/>
                </a:moveTo>
                <a:cubicBezTo>
                  <a:pt x="83" y="812"/>
                  <a:pt x="167" y="740"/>
                  <a:pt x="227" y="748"/>
                </a:cubicBezTo>
                <a:cubicBezTo>
                  <a:pt x="287" y="756"/>
                  <a:pt x="265" y="929"/>
                  <a:pt x="363" y="929"/>
                </a:cubicBezTo>
                <a:cubicBezTo>
                  <a:pt x="461" y="929"/>
                  <a:pt x="725" y="801"/>
                  <a:pt x="816" y="748"/>
                </a:cubicBezTo>
                <a:cubicBezTo>
                  <a:pt x="907" y="695"/>
                  <a:pt x="869" y="582"/>
                  <a:pt x="907" y="612"/>
                </a:cubicBezTo>
                <a:cubicBezTo>
                  <a:pt x="945" y="642"/>
                  <a:pt x="967" y="944"/>
                  <a:pt x="1043" y="929"/>
                </a:cubicBezTo>
                <a:cubicBezTo>
                  <a:pt x="1119" y="914"/>
                  <a:pt x="1270" y="544"/>
                  <a:pt x="1361" y="521"/>
                </a:cubicBezTo>
                <a:cubicBezTo>
                  <a:pt x="1452" y="498"/>
                  <a:pt x="1504" y="831"/>
                  <a:pt x="1587" y="793"/>
                </a:cubicBezTo>
                <a:cubicBezTo>
                  <a:pt x="1670" y="755"/>
                  <a:pt x="1800" y="286"/>
                  <a:pt x="1860" y="294"/>
                </a:cubicBezTo>
                <a:cubicBezTo>
                  <a:pt x="1920" y="302"/>
                  <a:pt x="1897" y="862"/>
                  <a:pt x="1950" y="839"/>
                </a:cubicBezTo>
                <a:cubicBezTo>
                  <a:pt x="2003" y="816"/>
                  <a:pt x="2132" y="166"/>
                  <a:pt x="2177" y="158"/>
                </a:cubicBezTo>
                <a:cubicBezTo>
                  <a:pt x="2222" y="150"/>
                  <a:pt x="2200" y="725"/>
                  <a:pt x="2223" y="793"/>
                </a:cubicBezTo>
                <a:cubicBezTo>
                  <a:pt x="2246" y="861"/>
                  <a:pt x="2283" y="619"/>
                  <a:pt x="2313" y="566"/>
                </a:cubicBezTo>
                <a:cubicBezTo>
                  <a:pt x="2343" y="513"/>
                  <a:pt x="2381" y="559"/>
                  <a:pt x="2404" y="476"/>
                </a:cubicBezTo>
                <a:cubicBezTo>
                  <a:pt x="2427" y="393"/>
                  <a:pt x="2426" y="8"/>
                  <a:pt x="2449" y="68"/>
                </a:cubicBezTo>
                <a:cubicBezTo>
                  <a:pt x="2472" y="128"/>
                  <a:pt x="2442" y="771"/>
                  <a:pt x="2540" y="839"/>
                </a:cubicBezTo>
                <a:cubicBezTo>
                  <a:pt x="2638" y="907"/>
                  <a:pt x="2956" y="476"/>
                  <a:pt x="3039" y="476"/>
                </a:cubicBezTo>
                <a:cubicBezTo>
                  <a:pt x="3122" y="476"/>
                  <a:pt x="2986" y="877"/>
                  <a:pt x="3039" y="839"/>
                </a:cubicBezTo>
                <a:cubicBezTo>
                  <a:pt x="3092" y="801"/>
                  <a:pt x="3297" y="370"/>
                  <a:pt x="3357" y="249"/>
                </a:cubicBezTo>
                <a:cubicBezTo>
                  <a:pt x="3417" y="128"/>
                  <a:pt x="3387" y="0"/>
                  <a:pt x="3402" y="113"/>
                </a:cubicBezTo>
                <a:cubicBezTo>
                  <a:pt x="3417" y="226"/>
                  <a:pt x="3394" y="876"/>
                  <a:pt x="3447" y="929"/>
                </a:cubicBezTo>
                <a:cubicBezTo>
                  <a:pt x="3500" y="982"/>
                  <a:pt x="3643" y="422"/>
                  <a:pt x="3719" y="430"/>
                </a:cubicBezTo>
                <a:cubicBezTo>
                  <a:pt x="3795" y="438"/>
                  <a:pt x="3841" y="899"/>
                  <a:pt x="3901" y="975"/>
                </a:cubicBezTo>
                <a:cubicBezTo>
                  <a:pt x="3961" y="1051"/>
                  <a:pt x="4037" y="892"/>
                  <a:pt x="4082" y="884"/>
                </a:cubicBezTo>
                <a:cubicBezTo>
                  <a:pt x="4127" y="876"/>
                  <a:pt x="4150" y="902"/>
                  <a:pt x="4173" y="929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5805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ÁS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5280" y="5877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SPE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16360" y="5805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80000" y="5805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L./COMP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6524640"/>
            <a:ext cx="2232000" cy="333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Des. da condiçã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64000" y="6524640"/>
            <a:ext cx="1152360" cy="333360"/>
          </a:xfrm>
          <a:prstGeom prst="rect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btençã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16360" y="6524640"/>
            <a:ext cx="2519640" cy="333360"/>
          </a:xfrm>
          <a:prstGeom prst="rect">
            <a:avLst/>
          </a:prstGeom>
          <a:solidFill>
            <a:srgbClr val="ff00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nutençã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5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rincípio da Ciclicida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mesocic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specto dominante de um conjunto de micr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epende da orientação da fase do macr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87280" y="4941720"/>
            <a:ext cx="432000" cy="1295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87280" y="6237360"/>
            <a:ext cx="626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35280" y="4653000"/>
            <a:ext cx="504720" cy="158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4292640"/>
            <a:ext cx="647640" cy="1944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5373720"/>
            <a:ext cx="432000" cy="863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211640" y="3715920"/>
            <a:ext cx="0" cy="2521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4292640"/>
            <a:ext cx="576360" cy="1944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48360" y="3933720"/>
            <a:ext cx="647640" cy="2303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84720" y="3573360"/>
            <a:ext cx="574920" cy="2664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77080" y="4724280"/>
            <a:ext cx="647640" cy="1513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16000" y="3476520"/>
            <a:ext cx="6769080" cy="1860480"/>
          </a:xfrm>
          <a:custGeom>
            <a:avLst/>
            <a:gdLst/>
            <a:ahLst/>
            <a:rect l="l" t="t" r="r" b="b"/>
            <a:pathLst>
              <a:path w="4264" h="1172">
                <a:moveTo>
                  <a:pt x="0" y="923"/>
                </a:moveTo>
                <a:cubicBezTo>
                  <a:pt x="98" y="915"/>
                  <a:pt x="196" y="907"/>
                  <a:pt x="272" y="877"/>
                </a:cubicBezTo>
                <a:cubicBezTo>
                  <a:pt x="348" y="847"/>
                  <a:pt x="385" y="771"/>
                  <a:pt x="453" y="741"/>
                </a:cubicBezTo>
                <a:cubicBezTo>
                  <a:pt x="521" y="711"/>
                  <a:pt x="627" y="711"/>
                  <a:pt x="680" y="696"/>
                </a:cubicBezTo>
                <a:cubicBezTo>
                  <a:pt x="733" y="681"/>
                  <a:pt x="726" y="680"/>
                  <a:pt x="771" y="650"/>
                </a:cubicBezTo>
                <a:cubicBezTo>
                  <a:pt x="816" y="620"/>
                  <a:pt x="892" y="544"/>
                  <a:pt x="952" y="514"/>
                </a:cubicBezTo>
                <a:cubicBezTo>
                  <a:pt x="1012" y="484"/>
                  <a:pt x="1081" y="484"/>
                  <a:pt x="1134" y="469"/>
                </a:cubicBezTo>
                <a:cubicBezTo>
                  <a:pt x="1187" y="454"/>
                  <a:pt x="1225" y="417"/>
                  <a:pt x="1270" y="424"/>
                </a:cubicBezTo>
                <a:cubicBezTo>
                  <a:pt x="1315" y="431"/>
                  <a:pt x="1353" y="446"/>
                  <a:pt x="1406" y="514"/>
                </a:cubicBezTo>
                <a:cubicBezTo>
                  <a:pt x="1459" y="582"/>
                  <a:pt x="1542" y="749"/>
                  <a:pt x="1587" y="832"/>
                </a:cubicBezTo>
                <a:cubicBezTo>
                  <a:pt x="1632" y="915"/>
                  <a:pt x="1648" y="960"/>
                  <a:pt x="1678" y="1013"/>
                </a:cubicBezTo>
                <a:cubicBezTo>
                  <a:pt x="1708" y="1066"/>
                  <a:pt x="1724" y="1172"/>
                  <a:pt x="1769" y="1149"/>
                </a:cubicBezTo>
                <a:cubicBezTo>
                  <a:pt x="1814" y="1126"/>
                  <a:pt x="1912" y="968"/>
                  <a:pt x="1950" y="877"/>
                </a:cubicBezTo>
                <a:cubicBezTo>
                  <a:pt x="1988" y="786"/>
                  <a:pt x="1981" y="680"/>
                  <a:pt x="1996" y="605"/>
                </a:cubicBezTo>
                <a:cubicBezTo>
                  <a:pt x="2011" y="530"/>
                  <a:pt x="2003" y="454"/>
                  <a:pt x="2041" y="424"/>
                </a:cubicBezTo>
                <a:cubicBezTo>
                  <a:pt x="2079" y="394"/>
                  <a:pt x="2169" y="432"/>
                  <a:pt x="2222" y="424"/>
                </a:cubicBezTo>
                <a:cubicBezTo>
                  <a:pt x="2275" y="416"/>
                  <a:pt x="2297" y="401"/>
                  <a:pt x="2358" y="378"/>
                </a:cubicBezTo>
                <a:cubicBezTo>
                  <a:pt x="2419" y="355"/>
                  <a:pt x="2510" y="326"/>
                  <a:pt x="2585" y="288"/>
                </a:cubicBezTo>
                <a:cubicBezTo>
                  <a:pt x="2660" y="250"/>
                  <a:pt x="2737" y="189"/>
                  <a:pt x="2812" y="151"/>
                </a:cubicBezTo>
                <a:cubicBezTo>
                  <a:pt x="2887" y="113"/>
                  <a:pt x="2963" y="84"/>
                  <a:pt x="3039" y="61"/>
                </a:cubicBezTo>
                <a:cubicBezTo>
                  <a:pt x="3115" y="38"/>
                  <a:pt x="3191" y="23"/>
                  <a:pt x="3266" y="15"/>
                </a:cubicBezTo>
                <a:cubicBezTo>
                  <a:pt x="3341" y="7"/>
                  <a:pt x="3432" y="0"/>
                  <a:pt x="3492" y="15"/>
                </a:cubicBezTo>
                <a:cubicBezTo>
                  <a:pt x="3552" y="30"/>
                  <a:pt x="3576" y="68"/>
                  <a:pt x="3629" y="106"/>
                </a:cubicBezTo>
                <a:cubicBezTo>
                  <a:pt x="3682" y="144"/>
                  <a:pt x="3742" y="189"/>
                  <a:pt x="3810" y="242"/>
                </a:cubicBezTo>
                <a:cubicBezTo>
                  <a:pt x="3878" y="295"/>
                  <a:pt x="3984" y="356"/>
                  <a:pt x="4037" y="424"/>
                </a:cubicBezTo>
                <a:cubicBezTo>
                  <a:pt x="4090" y="492"/>
                  <a:pt x="4089" y="590"/>
                  <a:pt x="4127" y="650"/>
                </a:cubicBezTo>
                <a:cubicBezTo>
                  <a:pt x="4165" y="710"/>
                  <a:pt x="4214" y="748"/>
                  <a:pt x="4264" y="786"/>
                </a:cubicBezTo>
              </a:path>
            </a:pathLst>
          </a:custGeom>
          <a:noFill/>
          <a:ln cap="rnd" w="76320">
            <a:solidFill>
              <a:srgbClr val="ff0066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4471920"/>
            <a:ext cx="6553440" cy="1117800"/>
          </a:xfrm>
          <a:custGeom>
            <a:avLst/>
            <a:gdLst/>
            <a:ahLst/>
            <a:rect l="l" t="t" r="r" b="b"/>
            <a:pathLst>
              <a:path w="4128" h="704">
                <a:moveTo>
                  <a:pt x="0" y="704"/>
                </a:moveTo>
                <a:cubicBezTo>
                  <a:pt x="45" y="692"/>
                  <a:pt x="91" y="681"/>
                  <a:pt x="136" y="658"/>
                </a:cubicBezTo>
                <a:cubicBezTo>
                  <a:pt x="181" y="635"/>
                  <a:pt x="212" y="591"/>
                  <a:pt x="272" y="568"/>
                </a:cubicBezTo>
                <a:cubicBezTo>
                  <a:pt x="332" y="545"/>
                  <a:pt x="446" y="530"/>
                  <a:pt x="499" y="522"/>
                </a:cubicBezTo>
                <a:cubicBezTo>
                  <a:pt x="552" y="514"/>
                  <a:pt x="560" y="529"/>
                  <a:pt x="590" y="522"/>
                </a:cubicBezTo>
                <a:cubicBezTo>
                  <a:pt x="620" y="515"/>
                  <a:pt x="643" y="492"/>
                  <a:pt x="681" y="477"/>
                </a:cubicBezTo>
                <a:cubicBezTo>
                  <a:pt x="719" y="462"/>
                  <a:pt x="764" y="432"/>
                  <a:pt x="817" y="432"/>
                </a:cubicBezTo>
                <a:cubicBezTo>
                  <a:pt x="870" y="432"/>
                  <a:pt x="953" y="470"/>
                  <a:pt x="998" y="477"/>
                </a:cubicBezTo>
                <a:cubicBezTo>
                  <a:pt x="1043" y="484"/>
                  <a:pt x="1044" y="477"/>
                  <a:pt x="1089" y="477"/>
                </a:cubicBezTo>
                <a:cubicBezTo>
                  <a:pt x="1134" y="477"/>
                  <a:pt x="1210" y="462"/>
                  <a:pt x="1270" y="477"/>
                </a:cubicBezTo>
                <a:cubicBezTo>
                  <a:pt x="1330" y="492"/>
                  <a:pt x="1399" y="538"/>
                  <a:pt x="1452" y="568"/>
                </a:cubicBezTo>
                <a:cubicBezTo>
                  <a:pt x="1505" y="598"/>
                  <a:pt x="1535" y="635"/>
                  <a:pt x="1588" y="658"/>
                </a:cubicBezTo>
                <a:cubicBezTo>
                  <a:pt x="1641" y="681"/>
                  <a:pt x="1701" y="704"/>
                  <a:pt x="1769" y="704"/>
                </a:cubicBezTo>
                <a:cubicBezTo>
                  <a:pt x="1837" y="704"/>
                  <a:pt x="1936" y="696"/>
                  <a:pt x="1996" y="658"/>
                </a:cubicBezTo>
                <a:cubicBezTo>
                  <a:pt x="2056" y="620"/>
                  <a:pt x="2079" y="530"/>
                  <a:pt x="2132" y="477"/>
                </a:cubicBezTo>
                <a:cubicBezTo>
                  <a:pt x="2185" y="424"/>
                  <a:pt x="2238" y="379"/>
                  <a:pt x="2313" y="341"/>
                </a:cubicBezTo>
                <a:cubicBezTo>
                  <a:pt x="2388" y="303"/>
                  <a:pt x="2510" y="265"/>
                  <a:pt x="2586" y="250"/>
                </a:cubicBezTo>
                <a:cubicBezTo>
                  <a:pt x="2662" y="235"/>
                  <a:pt x="2699" y="265"/>
                  <a:pt x="2767" y="250"/>
                </a:cubicBezTo>
                <a:cubicBezTo>
                  <a:pt x="2835" y="235"/>
                  <a:pt x="2926" y="197"/>
                  <a:pt x="2994" y="159"/>
                </a:cubicBezTo>
                <a:cubicBezTo>
                  <a:pt x="3062" y="121"/>
                  <a:pt x="3114" y="46"/>
                  <a:pt x="3175" y="23"/>
                </a:cubicBezTo>
                <a:cubicBezTo>
                  <a:pt x="3236" y="0"/>
                  <a:pt x="3281" y="15"/>
                  <a:pt x="3357" y="23"/>
                </a:cubicBezTo>
                <a:cubicBezTo>
                  <a:pt x="3433" y="31"/>
                  <a:pt x="3531" y="46"/>
                  <a:pt x="3629" y="69"/>
                </a:cubicBezTo>
                <a:cubicBezTo>
                  <a:pt x="3727" y="92"/>
                  <a:pt x="3863" y="121"/>
                  <a:pt x="3946" y="159"/>
                </a:cubicBezTo>
                <a:cubicBezTo>
                  <a:pt x="4029" y="197"/>
                  <a:pt x="4078" y="246"/>
                  <a:pt x="4128" y="296"/>
                </a:cubicBezTo>
              </a:path>
            </a:pathLst>
          </a:custGeom>
          <a:noFill/>
          <a:ln w="76320">
            <a:solidFill>
              <a:srgbClr val="0033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92360" y="630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11640" y="623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rincípio da Ciclicida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microcic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ão planejadas as sessões de treinament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nde mais pode ocorrer variações da flexibilidade do trein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Onde as situações cotidianas interferem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Na reestruturação, continuar a observar as tendências do meso e macr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icrociclo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2781360"/>
            <a:ext cx="574560" cy="2663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3068640"/>
            <a:ext cx="36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erób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03280" y="2205000"/>
            <a:ext cx="576360" cy="3240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5445000"/>
            <a:ext cx="7993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357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11280" y="1844640"/>
            <a:ext cx="649440" cy="360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27280" y="2060640"/>
            <a:ext cx="2872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Tol. Lát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47640" y="2276640"/>
            <a:ext cx="289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Vel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Forç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2997360"/>
            <a:ext cx="647640" cy="24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80000" y="3213000"/>
            <a:ext cx="36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erób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32360" y="1773360"/>
            <a:ext cx="792000" cy="367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48360" y="1773360"/>
            <a:ext cx="358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Velocid. / Forç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72360" y="1341360"/>
            <a:ext cx="792000" cy="4103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88000" y="1628640"/>
            <a:ext cx="2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To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lát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740720" y="4149720"/>
            <a:ext cx="57636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812000" y="4221000"/>
            <a:ext cx="4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Re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5445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32000" y="5445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11280" y="5445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QU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35280" y="5445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QU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03640" y="5445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72360" y="5445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67640" y="5445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1162080"/>
            <a:ext cx="8208720" cy="2914560"/>
          </a:xfrm>
          <a:custGeom>
            <a:avLst/>
            <a:gdLst/>
            <a:ahLst/>
            <a:rect l="l" t="t" r="r" b="b"/>
            <a:pathLst>
              <a:path w="5171" h="1836">
                <a:moveTo>
                  <a:pt x="0" y="1020"/>
                </a:moveTo>
                <a:cubicBezTo>
                  <a:pt x="109" y="918"/>
                  <a:pt x="219" y="816"/>
                  <a:pt x="363" y="748"/>
                </a:cubicBezTo>
                <a:cubicBezTo>
                  <a:pt x="507" y="680"/>
                  <a:pt x="703" y="672"/>
                  <a:pt x="862" y="612"/>
                </a:cubicBezTo>
                <a:cubicBezTo>
                  <a:pt x="1021" y="552"/>
                  <a:pt x="1164" y="415"/>
                  <a:pt x="1315" y="385"/>
                </a:cubicBezTo>
                <a:cubicBezTo>
                  <a:pt x="1466" y="355"/>
                  <a:pt x="1625" y="317"/>
                  <a:pt x="1769" y="430"/>
                </a:cubicBezTo>
                <a:cubicBezTo>
                  <a:pt x="1913" y="543"/>
                  <a:pt x="2071" y="952"/>
                  <a:pt x="2177" y="1065"/>
                </a:cubicBezTo>
                <a:cubicBezTo>
                  <a:pt x="2283" y="1178"/>
                  <a:pt x="2344" y="1118"/>
                  <a:pt x="2404" y="1110"/>
                </a:cubicBezTo>
                <a:cubicBezTo>
                  <a:pt x="2464" y="1102"/>
                  <a:pt x="2472" y="1103"/>
                  <a:pt x="2540" y="1020"/>
                </a:cubicBezTo>
                <a:cubicBezTo>
                  <a:pt x="2608" y="937"/>
                  <a:pt x="2736" y="733"/>
                  <a:pt x="2812" y="612"/>
                </a:cubicBezTo>
                <a:cubicBezTo>
                  <a:pt x="2888" y="491"/>
                  <a:pt x="2941" y="354"/>
                  <a:pt x="2994" y="294"/>
                </a:cubicBezTo>
                <a:cubicBezTo>
                  <a:pt x="3047" y="234"/>
                  <a:pt x="3047" y="249"/>
                  <a:pt x="3130" y="249"/>
                </a:cubicBezTo>
                <a:cubicBezTo>
                  <a:pt x="3213" y="249"/>
                  <a:pt x="3386" y="317"/>
                  <a:pt x="3492" y="294"/>
                </a:cubicBezTo>
                <a:cubicBezTo>
                  <a:pt x="3598" y="271"/>
                  <a:pt x="3644" y="158"/>
                  <a:pt x="3765" y="113"/>
                </a:cubicBezTo>
                <a:cubicBezTo>
                  <a:pt x="3886" y="68"/>
                  <a:pt x="4105" y="22"/>
                  <a:pt x="4218" y="22"/>
                </a:cubicBezTo>
                <a:cubicBezTo>
                  <a:pt x="4331" y="22"/>
                  <a:pt x="4369" y="0"/>
                  <a:pt x="4445" y="113"/>
                </a:cubicBezTo>
                <a:cubicBezTo>
                  <a:pt x="4521" y="226"/>
                  <a:pt x="4627" y="513"/>
                  <a:pt x="4672" y="702"/>
                </a:cubicBezTo>
                <a:cubicBezTo>
                  <a:pt x="4717" y="891"/>
                  <a:pt x="4672" y="1081"/>
                  <a:pt x="4717" y="1247"/>
                </a:cubicBezTo>
                <a:cubicBezTo>
                  <a:pt x="4762" y="1413"/>
                  <a:pt x="4868" y="1602"/>
                  <a:pt x="4944" y="1700"/>
                </a:cubicBezTo>
                <a:cubicBezTo>
                  <a:pt x="5020" y="1798"/>
                  <a:pt x="5095" y="1817"/>
                  <a:pt x="5171" y="1836"/>
                </a:cubicBezTo>
              </a:path>
            </a:pathLst>
          </a:custGeom>
          <a:noFill/>
          <a:ln w="7632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8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ncípio da Ondulaçã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ão aplicar sobrecarga faz estabilizar a perform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licar a cada sessão de treino leva a reação adaptativa à fase de esgota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 princípio da ondulação compreende uma dinâmica na magnitude das cargas com o objetivo de proporcionar a recuperação de uma via metabólica sem a necessidade de interrupção do princípio da continuidad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ncípio da Ondulaçã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2781360"/>
            <a:ext cx="574560" cy="2663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3068640"/>
            <a:ext cx="36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erób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2205000"/>
            <a:ext cx="576360" cy="3240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5445000"/>
            <a:ext cx="7993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357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1844640"/>
            <a:ext cx="649440" cy="360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27280" y="2060640"/>
            <a:ext cx="2872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Tol. Lát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2276640"/>
            <a:ext cx="289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Vel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Forç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2997360"/>
            <a:ext cx="647640" cy="24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3213000"/>
            <a:ext cx="36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erób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1773360"/>
            <a:ext cx="792000" cy="367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1773360"/>
            <a:ext cx="358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Velocid. / Forç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72360" y="1341360"/>
            <a:ext cx="792000" cy="4103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88000" y="1628640"/>
            <a:ext cx="2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To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lát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40720" y="4149720"/>
            <a:ext cx="57636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12000" y="4221000"/>
            <a:ext cx="4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Re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5445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5445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11280" y="5445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QU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35280" y="5445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QU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5445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72360" y="5445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67640" y="5445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162080"/>
            <a:ext cx="8208720" cy="2914560"/>
          </a:xfrm>
          <a:custGeom>
            <a:avLst/>
            <a:gdLst/>
            <a:ahLst/>
            <a:rect l="l" t="t" r="r" b="b"/>
            <a:pathLst>
              <a:path w="5171" h="1836">
                <a:moveTo>
                  <a:pt x="0" y="1020"/>
                </a:moveTo>
                <a:cubicBezTo>
                  <a:pt x="109" y="918"/>
                  <a:pt x="219" y="816"/>
                  <a:pt x="363" y="748"/>
                </a:cubicBezTo>
                <a:cubicBezTo>
                  <a:pt x="507" y="680"/>
                  <a:pt x="703" y="672"/>
                  <a:pt x="862" y="612"/>
                </a:cubicBezTo>
                <a:cubicBezTo>
                  <a:pt x="1021" y="552"/>
                  <a:pt x="1164" y="415"/>
                  <a:pt x="1315" y="385"/>
                </a:cubicBezTo>
                <a:cubicBezTo>
                  <a:pt x="1466" y="355"/>
                  <a:pt x="1625" y="317"/>
                  <a:pt x="1769" y="430"/>
                </a:cubicBezTo>
                <a:cubicBezTo>
                  <a:pt x="1913" y="543"/>
                  <a:pt x="2071" y="952"/>
                  <a:pt x="2177" y="1065"/>
                </a:cubicBezTo>
                <a:cubicBezTo>
                  <a:pt x="2283" y="1178"/>
                  <a:pt x="2344" y="1118"/>
                  <a:pt x="2404" y="1110"/>
                </a:cubicBezTo>
                <a:cubicBezTo>
                  <a:pt x="2464" y="1102"/>
                  <a:pt x="2472" y="1103"/>
                  <a:pt x="2540" y="1020"/>
                </a:cubicBezTo>
                <a:cubicBezTo>
                  <a:pt x="2608" y="937"/>
                  <a:pt x="2736" y="733"/>
                  <a:pt x="2812" y="612"/>
                </a:cubicBezTo>
                <a:cubicBezTo>
                  <a:pt x="2888" y="491"/>
                  <a:pt x="2941" y="354"/>
                  <a:pt x="2994" y="294"/>
                </a:cubicBezTo>
                <a:cubicBezTo>
                  <a:pt x="3047" y="234"/>
                  <a:pt x="3047" y="249"/>
                  <a:pt x="3130" y="249"/>
                </a:cubicBezTo>
                <a:cubicBezTo>
                  <a:pt x="3213" y="249"/>
                  <a:pt x="3386" y="317"/>
                  <a:pt x="3492" y="294"/>
                </a:cubicBezTo>
                <a:cubicBezTo>
                  <a:pt x="3598" y="271"/>
                  <a:pt x="3644" y="158"/>
                  <a:pt x="3765" y="113"/>
                </a:cubicBezTo>
                <a:cubicBezTo>
                  <a:pt x="3886" y="68"/>
                  <a:pt x="4105" y="22"/>
                  <a:pt x="4218" y="22"/>
                </a:cubicBezTo>
                <a:cubicBezTo>
                  <a:pt x="4331" y="22"/>
                  <a:pt x="4369" y="0"/>
                  <a:pt x="4445" y="113"/>
                </a:cubicBezTo>
                <a:cubicBezTo>
                  <a:pt x="4521" y="226"/>
                  <a:pt x="4627" y="513"/>
                  <a:pt x="4672" y="702"/>
                </a:cubicBezTo>
                <a:cubicBezTo>
                  <a:pt x="4717" y="891"/>
                  <a:pt x="4672" y="1081"/>
                  <a:pt x="4717" y="1247"/>
                </a:cubicBezTo>
                <a:cubicBezTo>
                  <a:pt x="4762" y="1413"/>
                  <a:pt x="4868" y="1602"/>
                  <a:pt x="4944" y="1700"/>
                </a:cubicBezTo>
                <a:cubicBezTo>
                  <a:pt x="5020" y="1798"/>
                  <a:pt x="5095" y="1817"/>
                  <a:pt x="5171" y="1836"/>
                </a:cubicBezTo>
              </a:path>
            </a:pathLst>
          </a:custGeom>
          <a:noFill/>
          <a:ln w="7632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ncípio da Ondulaçã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ATVEEV (1996), apresenta uma teoria da qual um dos elementos é a ondulação das cargas de treino dentro de uma estrutura temporal definid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ependendo do espaço temporal as ondas são denominadas pequenas, médias e grand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ndulação no micro, meso e macrocicl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No mic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No meso, levar em conta a transformação tardia (Gomes, 2002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No macro, conduzir a performance para o momento mais importante e passagem ao próximo macrocicl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incípio da Ondulaçã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15920"/>
            <a:ext cx="8229600" cy="60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5445000"/>
            <a:ext cx="0" cy="720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5445000"/>
            <a:ext cx="57600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5445000"/>
            <a:ext cx="57600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5445000"/>
            <a:ext cx="576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7640" y="5445000"/>
            <a:ext cx="576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45000"/>
            <a:ext cx="576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5445000"/>
            <a:ext cx="57600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5445000"/>
            <a:ext cx="576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I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92720" y="5445000"/>
            <a:ext cx="576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II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445000"/>
            <a:ext cx="57600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I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20000" y="5445000"/>
            <a:ext cx="576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5445000"/>
            <a:ext cx="576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5445000"/>
            <a:ext cx="576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32000" y="5805360"/>
            <a:ext cx="223200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64000" y="5805360"/>
            <a:ext cx="115236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5805360"/>
            <a:ext cx="935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51640" y="5805360"/>
            <a:ext cx="792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5805360"/>
            <a:ext cx="792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36000" y="5805360"/>
            <a:ext cx="936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0" y="6165720"/>
            <a:ext cx="3384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EPARAÇÃ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16360" y="6165720"/>
            <a:ext cx="2519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PETITIVO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36000" y="6165720"/>
            <a:ext cx="936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N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54450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MES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5805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TAP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165720"/>
            <a:ext cx="1081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66"/>
                </a:solidFill>
                <a:latin typeface="Arial"/>
              </a:rPr>
              <a:t>PERÍODOS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16360" y="638172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564000" y="2276280"/>
            <a:ext cx="0" cy="3168360"/>
          </a:xfrm>
          <a:prstGeom prst="line">
            <a:avLst/>
          </a:prstGeom>
          <a:ln w="381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580000" y="2276280"/>
            <a:ext cx="0" cy="3168360"/>
          </a:xfrm>
          <a:prstGeom prst="line">
            <a:avLst/>
          </a:prstGeom>
          <a:ln w="381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443640" y="2205000"/>
            <a:ext cx="0" cy="3168720"/>
          </a:xfrm>
          <a:prstGeom prst="line">
            <a:avLst/>
          </a:prstGeom>
          <a:ln w="381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716360" y="2276280"/>
            <a:ext cx="0" cy="316836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236000" y="2205000"/>
            <a:ext cx="0" cy="316872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66760" y="2347920"/>
            <a:ext cx="6770880" cy="1639800"/>
          </a:xfrm>
          <a:custGeom>
            <a:avLst/>
            <a:gdLst/>
            <a:ahLst/>
            <a:rect l="l" t="t" r="r" b="b"/>
            <a:pathLst>
              <a:path w="4265" h="1033">
                <a:moveTo>
                  <a:pt x="0" y="629"/>
                </a:moveTo>
                <a:cubicBezTo>
                  <a:pt x="61" y="625"/>
                  <a:pt x="123" y="624"/>
                  <a:pt x="184" y="617"/>
                </a:cubicBezTo>
                <a:cubicBezTo>
                  <a:pt x="237" y="611"/>
                  <a:pt x="236" y="574"/>
                  <a:pt x="294" y="555"/>
                </a:cubicBezTo>
                <a:cubicBezTo>
                  <a:pt x="348" y="537"/>
                  <a:pt x="388" y="500"/>
                  <a:pt x="442" y="482"/>
                </a:cubicBezTo>
                <a:cubicBezTo>
                  <a:pt x="488" y="450"/>
                  <a:pt x="541" y="435"/>
                  <a:pt x="589" y="408"/>
                </a:cubicBezTo>
                <a:cubicBezTo>
                  <a:pt x="627" y="387"/>
                  <a:pt x="670" y="357"/>
                  <a:pt x="699" y="323"/>
                </a:cubicBezTo>
                <a:cubicBezTo>
                  <a:pt x="735" y="280"/>
                  <a:pt x="707" y="287"/>
                  <a:pt x="760" y="261"/>
                </a:cubicBezTo>
                <a:cubicBezTo>
                  <a:pt x="817" y="233"/>
                  <a:pt x="882" y="227"/>
                  <a:pt x="944" y="212"/>
                </a:cubicBezTo>
                <a:cubicBezTo>
                  <a:pt x="989" y="201"/>
                  <a:pt x="1023" y="165"/>
                  <a:pt x="1067" y="151"/>
                </a:cubicBezTo>
                <a:cubicBezTo>
                  <a:pt x="1103" y="114"/>
                  <a:pt x="1211" y="50"/>
                  <a:pt x="1263" y="41"/>
                </a:cubicBezTo>
                <a:cubicBezTo>
                  <a:pt x="1324" y="31"/>
                  <a:pt x="1446" y="16"/>
                  <a:pt x="1446" y="16"/>
                </a:cubicBezTo>
                <a:cubicBezTo>
                  <a:pt x="1496" y="0"/>
                  <a:pt x="1532" y="12"/>
                  <a:pt x="1581" y="28"/>
                </a:cubicBezTo>
                <a:cubicBezTo>
                  <a:pt x="1639" y="67"/>
                  <a:pt x="1698" y="104"/>
                  <a:pt x="1765" y="126"/>
                </a:cubicBezTo>
                <a:cubicBezTo>
                  <a:pt x="1790" y="142"/>
                  <a:pt x="1814" y="159"/>
                  <a:pt x="1839" y="175"/>
                </a:cubicBezTo>
                <a:cubicBezTo>
                  <a:pt x="1951" y="249"/>
                  <a:pt x="1778" y="184"/>
                  <a:pt x="1900" y="224"/>
                </a:cubicBezTo>
                <a:cubicBezTo>
                  <a:pt x="1946" y="255"/>
                  <a:pt x="1976" y="270"/>
                  <a:pt x="2010" y="310"/>
                </a:cubicBezTo>
                <a:cubicBezTo>
                  <a:pt x="2020" y="321"/>
                  <a:pt x="2024" y="337"/>
                  <a:pt x="2035" y="347"/>
                </a:cubicBezTo>
                <a:cubicBezTo>
                  <a:pt x="2057" y="366"/>
                  <a:pt x="2108" y="396"/>
                  <a:pt x="2108" y="396"/>
                </a:cubicBezTo>
                <a:cubicBezTo>
                  <a:pt x="2156" y="468"/>
                  <a:pt x="2269" y="552"/>
                  <a:pt x="2353" y="580"/>
                </a:cubicBezTo>
                <a:cubicBezTo>
                  <a:pt x="2427" y="689"/>
                  <a:pt x="2328" y="559"/>
                  <a:pt x="2415" y="629"/>
                </a:cubicBezTo>
                <a:cubicBezTo>
                  <a:pt x="2426" y="638"/>
                  <a:pt x="2429" y="656"/>
                  <a:pt x="2439" y="666"/>
                </a:cubicBezTo>
                <a:cubicBezTo>
                  <a:pt x="2467" y="694"/>
                  <a:pt x="2513" y="703"/>
                  <a:pt x="2549" y="715"/>
                </a:cubicBezTo>
                <a:cubicBezTo>
                  <a:pt x="2574" y="723"/>
                  <a:pt x="2598" y="731"/>
                  <a:pt x="2623" y="739"/>
                </a:cubicBezTo>
                <a:cubicBezTo>
                  <a:pt x="2635" y="743"/>
                  <a:pt x="2660" y="751"/>
                  <a:pt x="2660" y="751"/>
                </a:cubicBezTo>
                <a:cubicBezTo>
                  <a:pt x="2672" y="759"/>
                  <a:pt x="2683" y="770"/>
                  <a:pt x="2696" y="776"/>
                </a:cubicBezTo>
                <a:cubicBezTo>
                  <a:pt x="2720" y="787"/>
                  <a:pt x="2770" y="800"/>
                  <a:pt x="2770" y="800"/>
                </a:cubicBezTo>
                <a:cubicBezTo>
                  <a:pt x="2774" y="812"/>
                  <a:pt x="2770" y="831"/>
                  <a:pt x="2782" y="837"/>
                </a:cubicBezTo>
                <a:cubicBezTo>
                  <a:pt x="2794" y="843"/>
                  <a:pt x="2806" y="828"/>
                  <a:pt x="2819" y="825"/>
                </a:cubicBezTo>
                <a:cubicBezTo>
                  <a:pt x="2843" y="820"/>
                  <a:pt x="2869" y="818"/>
                  <a:pt x="2893" y="813"/>
                </a:cubicBezTo>
                <a:cubicBezTo>
                  <a:pt x="2926" y="806"/>
                  <a:pt x="2991" y="788"/>
                  <a:pt x="2991" y="788"/>
                </a:cubicBezTo>
                <a:cubicBezTo>
                  <a:pt x="3037" y="757"/>
                  <a:pt x="3084" y="727"/>
                  <a:pt x="3125" y="690"/>
                </a:cubicBezTo>
                <a:cubicBezTo>
                  <a:pt x="3136" y="680"/>
                  <a:pt x="3140" y="664"/>
                  <a:pt x="3150" y="653"/>
                </a:cubicBezTo>
                <a:cubicBezTo>
                  <a:pt x="3232" y="563"/>
                  <a:pt x="3224" y="573"/>
                  <a:pt x="3297" y="519"/>
                </a:cubicBezTo>
                <a:cubicBezTo>
                  <a:pt x="3305" y="507"/>
                  <a:pt x="3312" y="493"/>
                  <a:pt x="3322" y="482"/>
                </a:cubicBezTo>
                <a:cubicBezTo>
                  <a:pt x="3332" y="472"/>
                  <a:pt x="3350" y="469"/>
                  <a:pt x="3358" y="457"/>
                </a:cubicBezTo>
                <a:cubicBezTo>
                  <a:pt x="3430" y="341"/>
                  <a:pt x="3337" y="415"/>
                  <a:pt x="3420" y="359"/>
                </a:cubicBezTo>
                <a:cubicBezTo>
                  <a:pt x="3513" y="393"/>
                  <a:pt x="3624" y="423"/>
                  <a:pt x="3689" y="506"/>
                </a:cubicBezTo>
                <a:cubicBezTo>
                  <a:pt x="3716" y="541"/>
                  <a:pt x="3738" y="580"/>
                  <a:pt x="3763" y="617"/>
                </a:cubicBezTo>
                <a:cubicBezTo>
                  <a:pt x="3771" y="629"/>
                  <a:pt x="3779" y="641"/>
                  <a:pt x="3787" y="653"/>
                </a:cubicBezTo>
                <a:cubicBezTo>
                  <a:pt x="3795" y="665"/>
                  <a:pt x="3812" y="690"/>
                  <a:pt x="3812" y="690"/>
                </a:cubicBezTo>
                <a:cubicBezTo>
                  <a:pt x="3835" y="760"/>
                  <a:pt x="3899" y="807"/>
                  <a:pt x="3922" y="874"/>
                </a:cubicBezTo>
                <a:cubicBezTo>
                  <a:pt x="3930" y="899"/>
                  <a:pt x="3939" y="923"/>
                  <a:pt x="3947" y="948"/>
                </a:cubicBezTo>
                <a:cubicBezTo>
                  <a:pt x="3951" y="960"/>
                  <a:pt x="3971" y="957"/>
                  <a:pt x="3983" y="960"/>
                </a:cubicBezTo>
                <a:cubicBezTo>
                  <a:pt x="3999" y="965"/>
                  <a:pt x="4016" y="967"/>
                  <a:pt x="4032" y="972"/>
                </a:cubicBezTo>
                <a:cubicBezTo>
                  <a:pt x="4057" y="980"/>
                  <a:pt x="4080" y="995"/>
                  <a:pt x="4106" y="997"/>
                </a:cubicBezTo>
                <a:cubicBezTo>
                  <a:pt x="4252" y="1010"/>
                  <a:pt x="4209" y="977"/>
                  <a:pt x="4265" y="1033"/>
                </a:cubicBezTo>
              </a:path>
            </a:pathLst>
          </a:custGeom>
          <a:solidFill>
            <a:srgbClr val="ffffff"/>
          </a:solidFill>
          <a:ln w="381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87280" y="2190600"/>
            <a:ext cx="7002720" cy="3043440"/>
          </a:xfrm>
          <a:custGeom>
            <a:avLst/>
            <a:gdLst/>
            <a:ahLst/>
            <a:rect l="l" t="t" r="r" b="b"/>
            <a:pathLst>
              <a:path w="4411" h="1917">
                <a:moveTo>
                  <a:pt x="0" y="1022"/>
                </a:moveTo>
                <a:cubicBezTo>
                  <a:pt x="8" y="1010"/>
                  <a:pt x="13" y="994"/>
                  <a:pt x="24" y="985"/>
                </a:cubicBezTo>
                <a:cubicBezTo>
                  <a:pt x="53" y="961"/>
                  <a:pt x="97" y="968"/>
                  <a:pt x="134" y="961"/>
                </a:cubicBezTo>
                <a:cubicBezTo>
                  <a:pt x="150" y="958"/>
                  <a:pt x="166" y="950"/>
                  <a:pt x="183" y="949"/>
                </a:cubicBezTo>
                <a:cubicBezTo>
                  <a:pt x="298" y="942"/>
                  <a:pt x="412" y="940"/>
                  <a:pt x="527" y="936"/>
                </a:cubicBezTo>
                <a:cubicBezTo>
                  <a:pt x="634" y="915"/>
                  <a:pt x="740" y="890"/>
                  <a:pt x="845" y="863"/>
                </a:cubicBezTo>
                <a:cubicBezTo>
                  <a:pt x="908" y="847"/>
                  <a:pt x="895" y="850"/>
                  <a:pt x="968" y="826"/>
                </a:cubicBezTo>
                <a:cubicBezTo>
                  <a:pt x="980" y="822"/>
                  <a:pt x="1005" y="814"/>
                  <a:pt x="1005" y="814"/>
                </a:cubicBezTo>
                <a:cubicBezTo>
                  <a:pt x="1103" y="746"/>
                  <a:pt x="981" y="825"/>
                  <a:pt x="1078" y="777"/>
                </a:cubicBezTo>
                <a:cubicBezTo>
                  <a:pt x="1091" y="770"/>
                  <a:pt x="1101" y="758"/>
                  <a:pt x="1115" y="752"/>
                </a:cubicBezTo>
                <a:cubicBezTo>
                  <a:pt x="1138" y="742"/>
                  <a:pt x="1188" y="728"/>
                  <a:pt x="1188" y="728"/>
                </a:cubicBezTo>
                <a:cubicBezTo>
                  <a:pt x="1196" y="703"/>
                  <a:pt x="1188" y="660"/>
                  <a:pt x="1213" y="654"/>
                </a:cubicBezTo>
                <a:cubicBezTo>
                  <a:pt x="1310" y="630"/>
                  <a:pt x="1245" y="643"/>
                  <a:pt x="1409" y="630"/>
                </a:cubicBezTo>
                <a:cubicBezTo>
                  <a:pt x="1585" y="601"/>
                  <a:pt x="1404" y="645"/>
                  <a:pt x="1519" y="581"/>
                </a:cubicBezTo>
                <a:cubicBezTo>
                  <a:pt x="1542" y="568"/>
                  <a:pt x="1571" y="570"/>
                  <a:pt x="1593" y="556"/>
                </a:cubicBezTo>
                <a:cubicBezTo>
                  <a:pt x="1633" y="530"/>
                  <a:pt x="1727" y="487"/>
                  <a:pt x="1777" y="471"/>
                </a:cubicBezTo>
                <a:cubicBezTo>
                  <a:pt x="1876" y="399"/>
                  <a:pt x="1894" y="387"/>
                  <a:pt x="2009" y="348"/>
                </a:cubicBezTo>
                <a:cubicBezTo>
                  <a:pt x="2037" y="339"/>
                  <a:pt x="2055" y="308"/>
                  <a:pt x="2083" y="299"/>
                </a:cubicBezTo>
                <a:cubicBezTo>
                  <a:pt x="2159" y="273"/>
                  <a:pt x="2211" y="249"/>
                  <a:pt x="2291" y="238"/>
                </a:cubicBezTo>
                <a:cubicBezTo>
                  <a:pt x="2305" y="200"/>
                  <a:pt x="2298" y="195"/>
                  <a:pt x="2340" y="176"/>
                </a:cubicBezTo>
                <a:cubicBezTo>
                  <a:pt x="2364" y="165"/>
                  <a:pt x="2414" y="152"/>
                  <a:pt x="2414" y="152"/>
                </a:cubicBezTo>
                <a:cubicBezTo>
                  <a:pt x="2477" y="157"/>
                  <a:pt x="2557" y="158"/>
                  <a:pt x="2622" y="176"/>
                </a:cubicBezTo>
                <a:cubicBezTo>
                  <a:pt x="2660" y="186"/>
                  <a:pt x="2696" y="201"/>
                  <a:pt x="2733" y="213"/>
                </a:cubicBezTo>
                <a:cubicBezTo>
                  <a:pt x="2745" y="217"/>
                  <a:pt x="2769" y="225"/>
                  <a:pt x="2769" y="225"/>
                </a:cubicBezTo>
                <a:cubicBezTo>
                  <a:pt x="2879" y="221"/>
                  <a:pt x="2990" y="223"/>
                  <a:pt x="3100" y="213"/>
                </a:cubicBezTo>
                <a:cubicBezTo>
                  <a:pt x="3162" y="208"/>
                  <a:pt x="3193" y="168"/>
                  <a:pt x="3247" y="152"/>
                </a:cubicBezTo>
                <a:cubicBezTo>
                  <a:pt x="3275" y="144"/>
                  <a:pt x="3304" y="144"/>
                  <a:pt x="3333" y="140"/>
                </a:cubicBezTo>
                <a:cubicBezTo>
                  <a:pt x="3427" y="0"/>
                  <a:pt x="3656" y="50"/>
                  <a:pt x="3786" y="140"/>
                </a:cubicBezTo>
                <a:cubicBezTo>
                  <a:pt x="3845" y="227"/>
                  <a:pt x="3814" y="192"/>
                  <a:pt x="3872" y="250"/>
                </a:cubicBezTo>
                <a:cubicBezTo>
                  <a:pt x="3893" y="309"/>
                  <a:pt x="3912" y="352"/>
                  <a:pt x="3970" y="373"/>
                </a:cubicBezTo>
                <a:cubicBezTo>
                  <a:pt x="4020" y="440"/>
                  <a:pt x="4021" y="492"/>
                  <a:pt x="4044" y="569"/>
                </a:cubicBezTo>
                <a:cubicBezTo>
                  <a:pt x="4051" y="594"/>
                  <a:pt x="4068" y="642"/>
                  <a:pt x="4068" y="642"/>
                </a:cubicBezTo>
                <a:cubicBezTo>
                  <a:pt x="4078" y="761"/>
                  <a:pt x="4073" y="883"/>
                  <a:pt x="4105" y="998"/>
                </a:cubicBezTo>
                <a:cubicBezTo>
                  <a:pt x="4144" y="1141"/>
                  <a:pt x="4211" y="1280"/>
                  <a:pt x="4240" y="1426"/>
                </a:cubicBezTo>
                <a:cubicBezTo>
                  <a:pt x="4261" y="1535"/>
                  <a:pt x="4278" y="1640"/>
                  <a:pt x="4313" y="1745"/>
                </a:cubicBezTo>
                <a:cubicBezTo>
                  <a:pt x="4321" y="1769"/>
                  <a:pt x="4332" y="1837"/>
                  <a:pt x="4350" y="1855"/>
                </a:cubicBezTo>
                <a:cubicBezTo>
                  <a:pt x="4395" y="1900"/>
                  <a:pt x="4375" y="1879"/>
                  <a:pt x="4411" y="1917"/>
                </a:cubicBezTo>
              </a:path>
            </a:pathLst>
          </a:custGeom>
          <a:noFill/>
          <a:ln w="38160">
            <a:solidFill>
              <a:srgbClr val="99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0" y="4341960"/>
            <a:ext cx="6840360" cy="1068120"/>
          </a:xfrm>
          <a:custGeom>
            <a:avLst/>
            <a:gdLst/>
            <a:ahLst/>
            <a:rect l="l" t="t" r="r" b="b"/>
            <a:pathLst>
              <a:path w="4309" h="673">
                <a:moveTo>
                  <a:pt x="0" y="559"/>
                </a:moveTo>
                <a:cubicBezTo>
                  <a:pt x="53" y="487"/>
                  <a:pt x="106" y="416"/>
                  <a:pt x="181" y="423"/>
                </a:cubicBezTo>
                <a:cubicBezTo>
                  <a:pt x="256" y="430"/>
                  <a:pt x="347" y="649"/>
                  <a:pt x="453" y="604"/>
                </a:cubicBezTo>
                <a:cubicBezTo>
                  <a:pt x="559" y="559"/>
                  <a:pt x="710" y="166"/>
                  <a:pt x="816" y="151"/>
                </a:cubicBezTo>
                <a:cubicBezTo>
                  <a:pt x="922" y="136"/>
                  <a:pt x="990" y="537"/>
                  <a:pt x="1088" y="514"/>
                </a:cubicBezTo>
                <a:cubicBezTo>
                  <a:pt x="1186" y="491"/>
                  <a:pt x="1315" y="30"/>
                  <a:pt x="1406" y="15"/>
                </a:cubicBezTo>
                <a:cubicBezTo>
                  <a:pt x="1497" y="0"/>
                  <a:pt x="1573" y="415"/>
                  <a:pt x="1633" y="423"/>
                </a:cubicBezTo>
                <a:cubicBezTo>
                  <a:pt x="1693" y="431"/>
                  <a:pt x="1716" y="30"/>
                  <a:pt x="1769" y="60"/>
                </a:cubicBezTo>
                <a:cubicBezTo>
                  <a:pt x="1822" y="90"/>
                  <a:pt x="1882" y="566"/>
                  <a:pt x="1950" y="604"/>
                </a:cubicBezTo>
                <a:cubicBezTo>
                  <a:pt x="2018" y="642"/>
                  <a:pt x="2117" y="279"/>
                  <a:pt x="2177" y="287"/>
                </a:cubicBezTo>
                <a:cubicBezTo>
                  <a:pt x="2237" y="295"/>
                  <a:pt x="2260" y="643"/>
                  <a:pt x="2313" y="650"/>
                </a:cubicBezTo>
                <a:cubicBezTo>
                  <a:pt x="2366" y="657"/>
                  <a:pt x="2435" y="340"/>
                  <a:pt x="2495" y="332"/>
                </a:cubicBezTo>
                <a:cubicBezTo>
                  <a:pt x="2555" y="324"/>
                  <a:pt x="2593" y="627"/>
                  <a:pt x="2676" y="604"/>
                </a:cubicBezTo>
                <a:cubicBezTo>
                  <a:pt x="2759" y="581"/>
                  <a:pt x="2903" y="188"/>
                  <a:pt x="2994" y="196"/>
                </a:cubicBezTo>
                <a:cubicBezTo>
                  <a:pt x="3085" y="204"/>
                  <a:pt x="3160" y="627"/>
                  <a:pt x="3220" y="650"/>
                </a:cubicBezTo>
                <a:cubicBezTo>
                  <a:pt x="3280" y="673"/>
                  <a:pt x="3296" y="332"/>
                  <a:pt x="3356" y="332"/>
                </a:cubicBezTo>
                <a:cubicBezTo>
                  <a:pt x="3416" y="332"/>
                  <a:pt x="3523" y="627"/>
                  <a:pt x="3583" y="650"/>
                </a:cubicBezTo>
                <a:cubicBezTo>
                  <a:pt x="3643" y="673"/>
                  <a:pt x="3651" y="468"/>
                  <a:pt x="3719" y="468"/>
                </a:cubicBezTo>
                <a:cubicBezTo>
                  <a:pt x="3787" y="468"/>
                  <a:pt x="3915" y="657"/>
                  <a:pt x="3991" y="650"/>
                </a:cubicBezTo>
                <a:cubicBezTo>
                  <a:pt x="4067" y="643"/>
                  <a:pt x="4120" y="431"/>
                  <a:pt x="4173" y="423"/>
                </a:cubicBezTo>
                <a:cubicBezTo>
                  <a:pt x="4226" y="415"/>
                  <a:pt x="4267" y="509"/>
                  <a:pt x="4309" y="604"/>
                </a:cubicBezTo>
              </a:path>
            </a:pathLst>
          </a:custGeom>
          <a:noFill/>
          <a:ln w="38160">
            <a:solidFill>
              <a:srgbClr val="00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3825720"/>
            <a:ext cx="6624720" cy="1668600"/>
          </a:xfrm>
          <a:custGeom>
            <a:avLst/>
            <a:gdLst/>
            <a:ahLst/>
            <a:rect l="l" t="t" r="r" b="b"/>
            <a:pathLst>
              <a:path w="4173" h="1051">
                <a:moveTo>
                  <a:pt x="0" y="884"/>
                </a:moveTo>
                <a:cubicBezTo>
                  <a:pt x="83" y="812"/>
                  <a:pt x="167" y="740"/>
                  <a:pt x="227" y="748"/>
                </a:cubicBezTo>
                <a:cubicBezTo>
                  <a:pt x="287" y="756"/>
                  <a:pt x="265" y="929"/>
                  <a:pt x="363" y="929"/>
                </a:cubicBezTo>
                <a:cubicBezTo>
                  <a:pt x="461" y="929"/>
                  <a:pt x="725" y="801"/>
                  <a:pt x="816" y="748"/>
                </a:cubicBezTo>
                <a:cubicBezTo>
                  <a:pt x="907" y="695"/>
                  <a:pt x="869" y="582"/>
                  <a:pt x="907" y="612"/>
                </a:cubicBezTo>
                <a:cubicBezTo>
                  <a:pt x="945" y="642"/>
                  <a:pt x="967" y="944"/>
                  <a:pt x="1043" y="929"/>
                </a:cubicBezTo>
                <a:cubicBezTo>
                  <a:pt x="1119" y="914"/>
                  <a:pt x="1270" y="544"/>
                  <a:pt x="1361" y="521"/>
                </a:cubicBezTo>
                <a:cubicBezTo>
                  <a:pt x="1452" y="498"/>
                  <a:pt x="1504" y="831"/>
                  <a:pt x="1587" y="793"/>
                </a:cubicBezTo>
                <a:cubicBezTo>
                  <a:pt x="1670" y="755"/>
                  <a:pt x="1800" y="286"/>
                  <a:pt x="1860" y="294"/>
                </a:cubicBezTo>
                <a:cubicBezTo>
                  <a:pt x="1920" y="302"/>
                  <a:pt x="1897" y="862"/>
                  <a:pt x="1950" y="839"/>
                </a:cubicBezTo>
                <a:cubicBezTo>
                  <a:pt x="2003" y="816"/>
                  <a:pt x="2132" y="166"/>
                  <a:pt x="2177" y="158"/>
                </a:cubicBezTo>
                <a:cubicBezTo>
                  <a:pt x="2222" y="150"/>
                  <a:pt x="2200" y="725"/>
                  <a:pt x="2223" y="793"/>
                </a:cubicBezTo>
                <a:cubicBezTo>
                  <a:pt x="2246" y="861"/>
                  <a:pt x="2283" y="619"/>
                  <a:pt x="2313" y="566"/>
                </a:cubicBezTo>
                <a:cubicBezTo>
                  <a:pt x="2343" y="513"/>
                  <a:pt x="2381" y="559"/>
                  <a:pt x="2404" y="476"/>
                </a:cubicBezTo>
                <a:cubicBezTo>
                  <a:pt x="2427" y="393"/>
                  <a:pt x="2426" y="8"/>
                  <a:pt x="2449" y="68"/>
                </a:cubicBezTo>
                <a:cubicBezTo>
                  <a:pt x="2472" y="128"/>
                  <a:pt x="2442" y="771"/>
                  <a:pt x="2540" y="839"/>
                </a:cubicBezTo>
                <a:cubicBezTo>
                  <a:pt x="2638" y="907"/>
                  <a:pt x="2956" y="476"/>
                  <a:pt x="3039" y="476"/>
                </a:cubicBezTo>
                <a:cubicBezTo>
                  <a:pt x="3122" y="476"/>
                  <a:pt x="2986" y="877"/>
                  <a:pt x="3039" y="839"/>
                </a:cubicBezTo>
                <a:cubicBezTo>
                  <a:pt x="3092" y="801"/>
                  <a:pt x="3297" y="370"/>
                  <a:pt x="3357" y="249"/>
                </a:cubicBezTo>
                <a:cubicBezTo>
                  <a:pt x="3417" y="128"/>
                  <a:pt x="3387" y="0"/>
                  <a:pt x="3402" y="113"/>
                </a:cubicBezTo>
                <a:cubicBezTo>
                  <a:pt x="3417" y="226"/>
                  <a:pt x="3394" y="876"/>
                  <a:pt x="3447" y="929"/>
                </a:cubicBezTo>
                <a:cubicBezTo>
                  <a:pt x="3500" y="982"/>
                  <a:pt x="3643" y="422"/>
                  <a:pt x="3719" y="430"/>
                </a:cubicBezTo>
                <a:cubicBezTo>
                  <a:pt x="3795" y="438"/>
                  <a:pt x="3841" y="899"/>
                  <a:pt x="3901" y="975"/>
                </a:cubicBezTo>
                <a:cubicBezTo>
                  <a:pt x="3961" y="1051"/>
                  <a:pt x="4037" y="892"/>
                  <a:pt x="4082" y="884"/>
                </a:cubicBezTo>
                <a:cubicBezTo>
                  <a:pt x="4127" y="876"/>
                  <a:pt x="4150" y="902"/>
                  <a:pt x="4173" y="929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NCÍPIO DA ONDULAÇÃ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ondulação é um modo de treinar sempre próximos aos limites máximos do atleta respeitando as necessidades de recuperaçã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iste um contra-senso na literatura quanto ao modo como se vai ondular a carg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os saltos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u retilíne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MES, (2002), alerta que nem todos os parâmetros das cargas preparatórias são ondulado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istem variáveis que logo atingem um ápice e aí permanecem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úmero de treinament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empo gasto em cada sessã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cedimentos de aquecimen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ssões de alongamento, coordenaçã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NCÍPIO DA ONDULAÇÃ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atores intervenientes na ondulaçã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Heterocronis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Individualidade biológ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Necessidade de aplicação da sobrecarga nas ond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elo volum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ela intensidad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Nunca pelos dois parâmetros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rincípio da Ciclicida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ém da necessidade de ondulação das cargas de treino, apresenta-se como princípio científico a divisão da temporada em períodos caracterizados por direcionamento específico nas carg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cargas podem crescer em intensidade ou volume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o mesmo tempo podem ser de caráter geral ou especi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rincípio da Ciclicida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 espectro espaço-temporal onde as cargas vão sofrer estas variações denomina-se cicl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Microciclo – unidade básica do treiname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Compreende sucessão de 3 a 10 sessõ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Mesociclo – 3 a 6 micros (normalmente um mê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Aqui as cargas são administradas de modo a manter peculiaridades de acordo com a fase de treino. Associa-se ao efeito crônico das carga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Macrociclo – Conjunto de vários meso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Pode ser semestral, trimestral ou anual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1:02:40Z</dcterms:created>
  <dc:creator>Alexandre Sérgio Silva</dc:creator>
  <dc:description/>
  <dc:language>en-US</dc:language>
  <cp:lastModifiedBy>Alexandre Sérgio Silva</cp:lastModifiedBy>
  <dcterms:modified xsi:type="dcterms:W3CDTF">2004-06-17T13:13:15Z</dcterms:modified>
  <cp:revision>18</cp:revision>
  <dc:subject/>
  <dc:title>Princípios da Ondulação e Ciclicidade</dc:title>
</cp:coreProperties>
</file>