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80B-0EA7-4945-A320-D603F7884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7B7-9503-4244-90D1-A578EB4A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CE9D-9195-44B8-A05D-C6B02FBE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7A9-B02E-4521-8BA5-81356DE9B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E64B-37A1-4C00-92C8-3D9D4A2C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7157-FEF7-45DC-A17E-942D3501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58F8-CC1A-44EB-BC15-4FA5B73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ADEF-BCE5-4DBF-93E9-19403592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D861-C11F-486E-96E8-C409EABA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8F8CB-89D0-4659-B3A8-F24E1771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E822-D1BE-4F0D-B7B8-ABA26BE5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9DF1-3A68-40F6-B8F3-1378476D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31DA-6302-4E2E-A8BB-E7908736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A37F-5620-407D-A9FB-620EDB0F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95CC-3354-4298-98C0-17719FA8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5A9D-F808-4DAD-8A16-877883A7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AEA0-FA22-4681-B09F-479D6F44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2C9-D02C-4EDB-9E94-77CCFF3E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D3D-7A10-4469-B2B2-0CB06F2D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106-0BAD-4683-8FC3-C306F01B1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5CC5-AEB8-4E04-B3D1-8254D91E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523-AA7F-4E1F-BDDE-FDDE1E73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5077-CA46-4DB3-823D-2529358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06D9-68B0-4BF9-8B31-E0BBB5A8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1F5B-D261-42AC-B836-32D7515F7D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AE8D-5D51-4CF7-9A06-5F959C733BA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692360"/>
            <a:ext cx="8893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onceituação, classificação e importância da resistênci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LA 2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ân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Verdana"/>
              </a:rPr>
              <a:t>Esta intimamente relacionada à saúde do atleta competitivo ou não compet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dução de fatores de risco para doenças crônico – degener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lação colesterol HDL / LD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Dimnuição da amssa gord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umento do volume e capacidade do coraçã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umento do Volume de ejeção e D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Diminuição da FC de repous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umento da capilarizaçã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Aumento dos glóbulos vermelh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ontrole da pressão arteri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ân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Melhoria da capacidade do sistema imunológic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Aumento da capacidade fís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Tolerância dos treinament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Capacidade de recuperaçã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Remoção dos metabólito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aior estimulação vagal relaciona-se com melhor capacidade vegetativa de adaptação às cargas de treino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ân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No esporte competitiv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Redução de lesõ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Retarda a fadiga, que é um importante fator de lesão, tanto muscular quanto ligamentar e articular, conforme descrito na literatura de biomecânica e cinesiologia (Hamill e Knutzen, 19xx; Smith et al, 199x)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anutenção da velocidade de reaçã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oupa glicogênio, retarda hipoglicemi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Weineck fala de depleção dos estoques de neurotransmissore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ân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Redução de erros técnic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Fadica neu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Verdana"/>
              </a:rPr>
              <a:t>Manutenção da postura tá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Mais tempo se movimentando com rapidez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Ocorre com valores de lactato a partir de  6 – 8 mmol (Liessen, 1985, citado por Weineck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onceituaçã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pacidade psíquica e física que possui um atleta para resistir à fadig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eineck, adotado por Manso (1996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ode ser classificada de diversas maneir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Quanto a participação da musculatur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ral e localizad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nto a modalidade esportiv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ral e especi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nto a mobilização energéti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eróbica e anaeróbic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nto a duraçã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urta, média e longa duraçã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nto aos requisitos moto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 força, de força rápida e de velocidad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90520"/>
            <a:ext cx="807732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assificação da Resistênc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Ger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Verdana"/>
              </a:rPr>
              <a:t>Quando participar do exercício mais que 1/6 a 1/7 da musculatur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musculatura de uma das pernas representa 1/6 da musculatura tot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ste tipo de resistência é limitado pela capacidade do sistema cardiovascular e respiratór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No entanto, dados de autores de fisiologia alertam que o sistema respiratório não é um fator limitante para o exercício, a não ser em alguma exceção (McArdle, 2003)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Sendo assim, é expressa em função do consumo máximo de O2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Localizad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Verdana"/>
              </a:rPr>
              <a:t>Menos de 1/6 a 1/7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Determinada pela força específica, capacidade anaeróbia e fatores intrínsecos - receptores musculares, psíquicos, resistência de velocidade, resistência de força e resistência de força rápida)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A resistência geral influencia a localizada, especialmente pelo menor prazo de recuperação. O inverso não ocor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7885080" y="616572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9180" y="7493"/>
                </a:moveTo>
                <a:lnTo>
                  <a:pt x="12688" y="7493"/>
                </a:lnTo>
                <a:lnTo>
                  <a:pt x="12688" y="12828"/>
                </a:lnTo>
                <a:cubicBezTo>
                  <a:pt x="12688" y="13751"/>
                  <a:pt x="13488" y="14482"/>
                  <a:pt x="14524" y="14482"/>
                </a:cubicBezTo>
                <a:lnTo>
                  <a:pt x="16187" y="14482"/>
                </a:lnTo>
                <a:cubicBezTo>
                  <a:pt x="17222" y="14482"/>
                  <a:pt x="18023" y="13751"/>
                  <a:pt x="18023" y="12828"/>
                </a:cubicBezTo>
                <a:lnTo>
                  <a:pt x="18023" y="7493"/>
                </a:lnTo>
                <a:lnTo>
                  <a:pt x="16187" y="7493"/>
                </a:lnTo>
                <a:lnTo>
                  <a:pt x="19694" y="3985"/>
                </a:lnTo>
                <a:lnTo>
                  <a:pt x="23367" y="7493"/>
                </a:lnTo>
                <a:lnTo>
                  <a:pt x="21531" y="7493"/>
                </a:lnTo>
                <a:lnTo>
                  <a:pt x="21531" y="12828"/>
                </a:lnTo>
                <a:cubicBezTo>
                  <a:pt x="21531" y="15596"/>
                  <a:pt x="18954" y="18155"/>
                  <a:pt x="16187" y="18155"/>
                </a:cubicBezTo>
                <a:lnTo>
                  <a:pt x="14524" y="18155"/>
                </a:lnTo>
                <a:cubicBezTo>
                  <a:pt x="11756" y="18155"/>
                  <a:pt x="9180" y="15596"/>
                  <a:pt x="918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ficação da Resistên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Ger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É aquela não diretamente ligada a modalidade esportiva, também chamada de resistência básic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rópria de início de temporada e transitór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Pouco ligada a performance e é tratada mais para a manutenção da saúde de um atlet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specífi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É aquela necessária a performanc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lguns preferem trabalhar com esta durante todo o macrociclo do atleta</a:t>
            </a: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595008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assificação da Resistênc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erób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ando a disponibilidade de O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é suficiente para a intensidade do exercíci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 produção de energia ocorre em nível mitocondrial, usando prioritariamente ácidos grax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Este sistema apresenta a vantagem de não provocar fadiga, a não ser em períodos extra longos, pq a quantidade de ácidos graxos é praticamente ilimitada e pq não gera metabólit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Anaerób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Quando a intensidade do exercício é tal que a oferta de O</a:t>
            </a: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 à mitocôndria torna-se insuficiente, a célula muscular terá que utilizar um metabolismo citosólic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Usa como substrato a PC e o glicogênio. Por independerem de O</a:t>
            </a:r>
            <a:r>
              <a:rPr b="0" lang="pt-BR" sz="1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, chama-se metabolismo anaerób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 PC é limitada e o glicogênio gera acidose e fadig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7493"/>
                </a:moveTo>
                <a:lnTo>
                  <a:pt x="14477" y="7493"/>
                </a:lnTo>
                <a:lnTo>
                  <a:pt x="14477" y="12828"/>
                </a:lnTo>
                <a:cubicBezTo>
                  <a:pt x="14477" y="13751"/>
                  <a:pt x="15278" y="14482"/>
                  <a:pt x="16314" y="14482"/>
                </a:cubicBezTo>
                <a:lnTo>
                  <a:pt x="17976" y="14482"/>
                </a:lnTo>
                <a:cubicBezTo>
                  <a:pt x="19012" y="14482"/>
                  <a:pt x="19813" y="13751"/>
                  <a:pt x="19813" y="12828"/>
                </a:cubicBezTo>
                <a:lnTo>
                  <a:pt x="19813" y="7493"/>
                </a:lnTo>
                <a:lnTo>
                  <a:pt x="17976" y="7493"/>
                </a:lnTo>
                <a:lnTo>
                  <a:pt x="21484" y="3985"/>
                </a:lnTo>
                <a:lnTo>
                  <a:pt x="25157" y="7493"/>
                </a:lnTo>
                <a:lnTo>
                  <a:pt x="23320" y="7493"/>
                </a:lnTo>
                <a:lnTo>
                  <a:pt x="23320" y="12828"/>
                </a:lnTo>
                <a:cubicBezTo>
                  <a:pt x="23320" y="15596"/>
                  <a:pt x="20744" y="18155"/>
                  <a:pt x="17976" y="18155"/>
                </a:cubicBezTo>
                <a:lnTo>
                  <a:pt x="16314" y="18155"/>
                </a:lnTo>
                <a:cubicBezTo>
                  <a:pt x="13546" y="18155"/>
                  <a:pt x="10970" y="15596"/>
                  <a:pt x="10970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assificação da Resistênc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Curta duração – estimulo de 45 seg. a 2 m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Suprida por aumento na mobilização anaeróbi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Fadiga provocada por acido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Média duração – 2 a 8 mi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 participação percentual aeróbia é mai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 fadiga é ainda provocada por acidose, sendo que a participação glicolítica cede espaço para a mitocondrial (aeróbia), a acidose fica mais retardada.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Tolerância à acidose apresenta forte componente psíqu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Longa duração - Estímulo maior que 8 minu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mo a participação relativa do metabolismo glicolítico é bem menor, os metabólitos provocadores de acidose produzidos são eficazmente removidos do citosol e não ocorre acido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No entanto a fadiga ainda é determinada pelo glicogên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ff"/>
                </a:solidFill>
                <a:latin typeface="Verdana"/>
              </a:rPr>
              <a:t>Desta feita pelo esgotamento do glicogênio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524720" y="595008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55" h="21600">
                <a:moveTo>
                  <a:pt x="11521" y="7493"/>
                </a:moveTo>
                <a:lnTo>
                  <a:pt x="15029" y="7493"/>
                </a:lnTo>
                <a:lnTo>
                  <a:pt x="15029" y="12828"/>
                </a:lnTo>
                <a:cubicBezTo>
                  <a:pt x="15029" y="13751"/>
                  <a:pt x="15829" y="14482"/>
                  <a:pt x="16865" y="14482"/>
                </a:cubicBezTo>
                <a:lnTo>
                  <a:pt x="18528" y="14482"/>
                </a:lnTo>
                <a:cubicBezTo>
                  <a:pt x="19563" y="14482"/>
                  <a:pt x="20364" y="13751"/>
                  <a:pt x="20364" y="12828"/>
                </a:cubicBezTo>
                <a:lnTo>
                  <a:pt x="20364" y="7493"/>
                </a:lnTo>
                <a:lnTo>
                  <a:pt x="18528" y="7493"/>
                </a:lnTo>
                <a:lnTo>
                  <a:pt x="22035" y="3985"/>
                </a:lnTo>
                <a:lnTo>
                  <a:pt x="25708" y="7493"/>
                </a:lnTo>
                <a:lnTo>
                  <a:pt x="23872" y="7493"/>
                </a:lnTo>
                <a:lnTo>
                  <a:pt x="23872" y="12828"/>
                </a:lnTo>
                <a:cubicBezTo>
                  <a:pt x="23872" y="15596"/>
                  <a:pt x="21295" y="18155"/>
                  <a:pt x="18528" y="18155"/>
                </a:cubicBezTo>
                <a:lnTo>
                  <a:pt x="16865" y="18155"/>
                </a:lnTo>
                <a:cubicBezTo>
                  <a:pt x="14097" y="18155"/>
                  <a:pt x="11521" y="15596"/>
                  <a:pt x="11521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assificação da Resistên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Verdana"/>
              </a:rPr>
              <a:t>Em razão disto da cinética do glicogênio, Weineck classifica a resistência de longa duração em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 : Até 30 mi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ão há depleção completa dos estoques, mas existe uma velocidade crítica a partir da qual vai ocorrer acidose (Denadai, 19xx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Importância do limiar anaerób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I : 30 a 90 mi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A possibilidade de acidose é muito reduzida, mas vai haver depleção do glicogên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III : Mais de noventa minu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Não ocorre acidose, e a depleção do glicogênio é muito mais lent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Classificação da Resistênci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560" y="691920"/>
            <a:ext cx="856908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Verdana"/>
              </a:rPr>
              <a:t>Presença nas manifestação de outras qualidad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Com relação a forç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sistência de forç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apacidade muscular localizada de realizar um trabalho de força por um período prolongad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Resistência de força rápida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apacidade do músculo de vencer uma resistência com velocidade e com retardamento de fadig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om cargas de até 30 – 40%, são mobilizados prioritariamente fibras de contração lenta (Wilmore, 2000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Metabolismo aerób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O mesmo ocorre quando a contração é isométric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Nas altas tensões, ocorre interrupção do fluxo sangüíneo, que diminui o aporte de O2 e torna o metabolismo anaerób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Verdana"/>
              </a:rPr>
              <a:t>Resistência de velocidad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ec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Verdana"/>
              </a:rPr>
              <a:t>Capacidade do organismo de resistir à fadiga apesar do aumento da concentração de metabólitos celul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8028000" y="6308640"/>
            <a:ext cx="720720" cy="289080"/>
          </a:xfrm>
          <a:custGeom>
            <a:avLst/>
            <a:gdLst>
              <a:gd name="textAreaLeft" fmla="*/ 18720 w 720720"/>
              <a:gd name="textAreaRight" fmla="*/ 702000 w 72072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812" h="21600">
                <a:moveTo>
                  <a:pt x="0" y="0"/>
                </a:moveTo>
                <a:lnTo>
                  <a:pt x="53812" y="0"/>
                </a:lnTo>
                <a:lnTo>
                  <a:pt x="53812" y="21600"/>
                </a:lnTo>
                <a:lnTo>
                  <a:pt x="0" y="21600"/>
                </a:lnTo>
                <a:close/>
              </a:path>
              <a:path fill="lightenLess" w="53812" h="21600">
                <a:moveTo>
                  <a:pt x="0" y="0"/>
                </a:moveTo>
                <a:lnTo>
                  <a:pt x="53812" y="0"/>
                </a:lnTo>
                <a:lnTo>
                  <a:pt x="52412" y="1400"/>
                </a:lnTo>
                <a:lnTo>
                  <a:pt x="1400" y="1400"/>
                </a:lnTo>
                <a:close/>
              </a:path>
              <a:path fill="darken" w="53812" h="21600">
                <a:moveTo>
                  <a:pt x="53812" y="0"/>
                </a:moveTo>
                <a:lnTo>
                  <a:pt x="53812" y="21600"/>
                </a:lnTo>
                <a:lnTo>
                  <a:pt x="52412" y="20200"/>
                </a:lnTo>
                <a:lnTo>
                  <a:pt x="52412" y="1400"/>
                </a:lnTo>
                <a:close/>
              </a:path>
              <a:path fill="darkenLess" w="53812" h="21600">
                <a:moveTo>
                  <a:pt x="53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12" y="20200"/>
                </a:lnTo>
                <a:close/>
              </a:path>
              <a:path fill="lighten" w="53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12" h="21600">
                <a:moveTo>
                  <a:pt x="19899" y="7493"/>
                </a:moveTo>
                <a:lnTo>
                  <a:pt x="23407" y="7493"/>
                </a:lnTo>
                <a:lnTo>
                  <a:pt x="23407" y="12828"/>
                </a:lnTo>
                <a:cubicBezTo>
                  <a:pt x="23407" y="13751"/>
                  <a:pt x="24208" y="14482"/>
                  <a:pt x="25244" y="14482"/>
                </a:cubicBezTo>
                <a:lnTo>
                  <a:pt x="26906" y="14482"/>
                </a:lnTo>
                <a:cubicBezTo>
                  <a:pt x="27942" y="14482"/>
                  <a:pt x="28742" y="13751"/>
                  <a:pt x="28742" y="12828"/>
                </a:cubicBezTo>
                <a:lnTo>
                  <a:pt x="28742" y="7493"/>
                </a:lnTo>
                <a:lnTo>
                  <a:pt x="26906" y="7493"/>
                </a:lnTo>
                <a:lnTo>
                  <a:pt x="30414" y="3985"/>
                </a:lnTo>
                <a:lnTo>
                  <a:pt x="34087" y="7493"/>
                </a:lnTo>
                <a:lnTo>
                  <a:pt x="32250" y="7493"/>
                </a:lnTo>
                <a:lnTo>
                  <a:pt x="32250" y="12828"/>
                </a:lnTo>
                <a:cubicBezTo>
                  <a:pt x="32250" y="15596"/>
                  <a:pt x="29674" y="18155"/>
                  <a:pt x="26906" y="18155"/>
                </a:cubicBezTo>
                <a:lnTo>
                  <a:pt x="25244" y="18155"/>
                </a:lnTo>
                <a:cubicBezTo>
                  <a:pt x="22476" y="18155"/>
                  <a:pt x="19899" y="15596"/>
                  <a:pt x="19899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mportânci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Qualidade física prioritária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Os conceitos são aplicados tanto ao atleta quanto ao praticante do treinamento desportivo não competitivo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74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Verdana"/>
              </a:rPr>
              <a:t>Embora não diretamente relacionada à performance, sobretudo nas modalidades de características de força e velocidade, ela representa a base para que todos os atletas possam suportar as cargas de treino.</a:t>
            </a:r>
            <a:endParaRPr b="0" lang="en-US" sz="3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4:29:19Z</dcterms:created>
  <dc:creator>Alexandre Sérgio Silva</dc:creator>
  <dc:description/>
  <dc:language>en-US</dc:language>
  <cp:lastModifiedBy>Alexandre Sérgio Silva</cp:lastModifiedBy>
  <dcterms:modified xsi:type="dcterms:W3CDTF">2004-07-03T19:32:38Z</dcterms:modified>
  <cp:revision>16</cp:revision>
  <dc:subject/>
  <dc:title>Conceituação e classificação da resistência</dc:title>
</cp:coreProperties>
</file>