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5D1-DF2B-4389-A564-97E380C9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BEB-6294-4597-B279-3C17A90A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E3C5E-CA22-4618-A6EA-B823DFFC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36280-B864-47CE-B218-C86F7C01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50A37-99BD-4E71-A089-09D1F56E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CAAB6-C997-47BD-818A-C3802353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2E45D-F003-4234-BA2B-63B4CCD6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F95B9-5B7D-47B2-9DBC-7D2F201F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B7977-614D-4ED4-9224-C62A46D8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B6CCD-1014-4650-BAB5-0800FC3E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A3FF9-48B8-45E9-AACE-0DD11239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3F2AE-64B8-4987-8C60-DFAF846B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F62-D796-48DF-A0AD-5DA72230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E356B-BA55-450D-83DC-8C8247A4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F93D4-EFBF-4D2D-A0EC-DABBDB1E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1533C-D540-4FB6-B34B-E2F3D33E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F9EAB-9B18-4700-9E4E-B527517C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DF077-1174-415B-87FE-813FFA7E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38F52-C9CC-4901-9D01-C089ED8C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33CF8-7C88-437C-B530-DD18301D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A4DCE-5964-4A4E-A8A0-C89A54D1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42406-3AD5-4547-A632-B1A90F2C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4D2D3-509A-414A-93F6-A4306FDF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8BF-E5D1-4A4F-84B7-DA4C59CE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BA05F-9205-47E3-9847-FFE3B334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F7B50-3617-443B-8EF5-68324707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DF583-4216-4190-AA97-84F6FE52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459B2-41B8-4F29-B269-1CC61003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FDD7E-E183-4885-B96B-028A7C14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534BB-6E66-44BF-B7FE-54587DF0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5518E-70F3-4493-BA0E-564BA722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5C0E9-0723-47BA-82DB-498B4905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EC376-FE05-4FBD-BB09-C7A5BF4B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4C103-F80C-49EE-9C15-131FE01F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40C4-4B30-40D4-A34F-ACD6BF13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5C99C-D656-46B6-B343-F5593953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30BB5-9B6E-4337-88E9-149A2309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25645-8D37-446A-9E7D-09F25426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402B-DEB7-4FD5-A680-71CFD25B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3359-0FE0-4355-A794-8A1AAE78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347E-D1A7-40B0-B710-BBA85672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A1B6-2451-403A-B0B4-E1377F5E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5D19-CB88-4402-928C-4B186666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442E-12CA-4540-B90A-4BA16CDC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E68-240B-47DB-9C11-B10D3AD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2F10-018F-4BDA-AE5A-7189FC04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BC84-BB3C-498D-B923-F1E58F58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CEFE-61D7-455C-B432-3709622B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9AC3-C276-4E49-98A7-9D125937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665B-A430-402E-8AAC-AB9D5691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AB4D2-CE18-41E0-9594-B147A28E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8B474-30EB-43E9-AAF1-05E7C5AB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C134-BD01-4A45-B91E-2FC21CDE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7BE6-FE9E-4885-AD83-00406AD2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E1E5-21B6-4FEC-B45D-190E49E7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B05-BA3E-4F89-8D6F-F9A81164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BA77-1C30-4824-A4C9-6DCD8576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F049C-4BD9-492D-9FD9-CAF1461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188D8-2CC1-4A49-9024-FC903AC9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21DB5-1FCA-4940-9B95-4855E2FA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0677-61A9-4907-802A-6792FB40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F174-FAF7-4315-A799-25C89FE1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04E8-7DA0-4A7C-8FD1-2509D890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4AA8-DD2F-4963-9D84-18A995EA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A6517-C9C6-4E92-8FA6-C3ED1DFA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AE39-C691-412E-88B7-54AA146C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D2F-A31C-4D9E-A42F-BB759E2C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70AAF-6053-4DAF-BD46-92242CC3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57D7B-DC31-453D-8FE2-3E5FFCC9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69F2D-3216-4B4C-9BA2-AFBFA4BC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0EA5C-E6C9-4F4A-949C-8233C151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CA8D5-C50B-46E1-88DA-B79302A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E263-8979-44D0-B8C2-A264CC00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67A02-F2D2-4ED4-AAEE-534A1BD1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9A976-D082-423F-8F4C-111FE59A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B1C2B-2A5B-4E65-A2A6-D31C1DD8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F9FFC-35BA-48EB-8850-E27E2EE7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ECA-50F1-46AA-BD6C-C2A826D2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9CCF9-C698-4529-9D2A-8C4E14CD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A81AA-9CE2-4195-9B14-F7B94AE3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DDE43-3A5A-45AD-9D37-BDF2EE2D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C51A-9F8C-47FE-AFF4-14C2E6E1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15F65-F147-4AC4-A787-9C889C67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9336-0C45-43A2-A0DD-5B0F908A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A632C-A615-4F88-AA6E-EF52C27D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B6E01-CA8D-4142-9566-3DCCDD0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99204-8446-4236-A943-792E7E9A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FB613-13D2-4EDC-B365-17F38096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AF1-49AA-4A2B-A8D9-8A5D83C2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B92E8-7795-4C1F-AB3A-F8958EDB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E7F48-0B38-41CB-B9B6-FA72324B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A53CC-4C81-4A09-BA72-C9484928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9DE48-17CB-46A5-8E85-37FF9E4A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F86E5-E035-4705-A5A4-F10C2288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783A1-885F-4C2D-9314-BE661DA3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BF54A-ACA4-449B-A7BE-490E4851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BBBEF-69D7-402C-A1D8-760C99D6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35837-2230-48B6-AB92-314F67D7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C75C3-8837-4E08-9D17-B4048A85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9F4-CA87-4E1E-AC36-3CCEBA92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FC1AD-2EB0-44A2-BF3F-88DC1755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BF0F4-766F-41C5-BB26-3F6FD0BB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D7D19-4386-473E-915D-211FF5EA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F73F0-8D5D-4E54-A74C-5E23F5BD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E08A3-A0A0-454F-9DA1-B4F33C63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FD23E-44AC-48F7-9FB9-86F491BC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AEB6E-683E-4E95-9C36-50FD75C6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FBB81-5B92-4E38-8449-26DEC5FD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A9F88-C99F-432C-95B4-068D6354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3421D-5262-4F0B-8406-C8EE256F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8D8B-9444-421E-A6A8-1B25CD91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B4A2E-9EBE-4CF5-86D9-C523C31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15631-8848-4CA2-AAA7-44FCBB3C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B7D60-C79E-4AE6-89F7-FFEDC2EA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ED808-1EA8-44A4-8AD7-BFF23AF5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E2F0F-335C-42F4-BB8A-AB94CBE5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97795-1107-4CFF-AC42-B0A40CC5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994EB-2221-4157-8070-33AC8455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BCA3A-3A5E-43DA-BE25-13ACF46F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52FDF-A588-4CF5-8B1B-682C8DB6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7D5EE-FB15-4EC8-AAFD-47DD5BE6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8A9-55F2-4742-805B-EB32D7E1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2E260-3C9E-40C8-A715-8A754EC8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B2FE5-6C2D-4180-BD47-4169E584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74886-A780-441F-B3FC-3DD5A852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59A56-01CE-472B-B0E8-C0D38E9A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0EF00-AE24-48DD-A464-C162EB76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4D26C-A526-4A7B-BDEB-DC75742F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69ED1-99CA-4628-8CBF-CFC5F104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B25B7-94A3-492D-B725-E1D11F51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72F7E-F967-492C-A641-B5261C0A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C17F7-A9CC-4ECD-B391-74A91FC3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DA15-BF70-4215-8D53-835A6A45D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9F2B-FBA8-4AA1-9BD0-38EACE2F1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3C93-90DC-458C-B237-0D68477F9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A606-918E-4D85-8448-D41E9C48F80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7415-255E-44BA-9EFC-00C49CD501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0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C38E-9D82-40C6-8431-BF972EA02C4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59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4086-CB54-4DF1-9D9C-0BCB34614E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15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8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97E9-9F9A-469B-829C-B2802F44D8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69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70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7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20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C401-6611-45E7-B744-84F862D1C7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33D9-9EC7-462E-B9BF-C37964D358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451C-DE68-4DD3-8697-FD954051F6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NIVERSIDADE FEDERAL DA PARAÍBA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PARTAMENTO DE EDUCAÇÃO FÍSICA E FISIOTERAPIA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ISCIPLINA DE TREINAMENTO DESPORTIVO I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OFESSOR: ALEXANDRE SÉRGIO SILV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68360" y="2491920"/>
            <a:ext cx="8353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CEITUAÇÃO E EVOLUÇÃO HISTÓRICA DO TREINAMENTO DESPORTI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ULAS 02 E 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PERÍODO DA A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nância das cargas no TE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900000" y="2349360"/>
            <a:ext cx="0" cy="33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00000" y="5734080"/>
            <a:ext cx="60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619280" y="4221000"/>
            <a:ext cx="504720" cy="15130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771640" y="2565360"/>
            <a:ext cx="505080" cy="316872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995640" y="5013360"/>
            <a:ext cx="505080" cy="72072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219640" y="4076640"/>
            <a:ext cx="576360" cy="16574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95280" y="39337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24210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97080" y="220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60600" y="2300400"/>
            <a:ext cx="4019400" cy="2976480"/>
          </a:xfrm>
          <a:custGeom>
            <a:avLst/>
            <a:gdLst/>
            <a:ahLst/>
            <a:rect l="l" t="t" r="r" b="b"/>
            <a:pathLst>
              <a:path w="2532" h="1875">
                <a:moveTo>
                  <a:pt x="128" y="1210"/>
                </a:moveTo>
                <a:cubicBezTo>
                  <a:pt x="64" y="1187"/>
                  <a:pt x="0" y="1164"/>
                  <a:pt x="128" y="983"/>
                </a:cubicBezTo>
                <a:cubicBezTo>
                  <a:pt x="256" y="802"/>
                  <a:pt x="642" y="0"/>
                  <a:pt x="899" y="121"/>
                </a:cubicBezTo>
                <a:cubicBezTo>
                  <a:pt x="1156" y="242"/>
                  <a:pt x="1398" y="1543"/>
                  <a:pt x="1670" y="1709"/>
                </a:cubicBezTo>
                <a:cubicBezTo>
                  <a:pt x="1942" y="1875"/>
                  <a:pt x="2237" y="1497"/>
                  <a:pt x="2532" y="1119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427640" y="6165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aptado de Granell e Cervera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3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PERÍODO DA A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Época do renasci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raquecimento da mentalidade medie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missão para estud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nde avanço intelectual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meida, Almeida e Gomes (2000), postulam uma influência na educação física e nos despor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rização dos desportos competitivos na Inglater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ricanos copiaram métodos de treinamento inglês e passaram a promover disput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8675640" y="6524640"/>
            <a:ext cx="144360" cy="73080"/>
          </a:xfrm>
          <a:custGeom>
            <a:avLst/>
            <a:gdLst>
              <a:gd name="textAreaLeft" fmla="*/ 32760 w 144360"/>
              <a:gd name="textAreaRight" fmla="*/ 111600 w 144360"/>
              <a:gd name="textAreaTop" fmla="*/ 16560 h 73080"/>
              <a:gd name="textAreaBottom" fmla="*/ 5652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PERÍODO DA IMPROVISA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acterizado pela falta de qualidade nos treinament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hecimento das adaptações biológicas incipi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 atletas tinham um regime de treinamento semelh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 vencedores eram os geneticamente mais dot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PERÍODO DA SISTEMATIZA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cou-se sistematizar o treinamento para melhoria da perform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sistema finlandês de LAURI PIHKALA foi a vanguarda deste período, com várias vitórias e recordes mundiai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AVO NURMI bateu 22 recordes com 7 medalhas de ouro e 3 de prata (1920 – 193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e sucesso fez do sistema finlandês o precursor de novos métodos e concepções de treinamen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457200" y="2241720"/>
          <a:ext cx="9586800" cy="21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41720"/>
                    <a:ext cx="95868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4788000" y="2276640"/>
          <a:ext cx="8564400" cy="1655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276640"/>
                    <a:ext cx="85644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457200" y="4641840"/>
          <a:ext cx="8939160" cy="1728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641840"/>
                    <a:ext cx="89391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ção Histó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ERÍODO DA SISTEMAT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788000" y="4653000"/>
          <a:ext cx="7988040" cy="20844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4653000"/>
                    <a:ext cx="79880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O PERÍODO PRÉ-CIENTÍ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aracterizado pelo surgimento dos primeiros ensaios sobre o assunto, partindo de observações empír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vanços na biologia do espo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 fisiologista alemão Woldemar Gerschller enfoca pela primeira vez o princípio da especificidade do treina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m 1948 o médico Húngaro Mihaly Igloi considerou que os atletas tinham características hereditárias diferentes e deveriam ser treinados com individualida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PERÍODO PRÉ-CIENTÍF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ntre os treinadores destacaram-se Toni Net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rdenação dos sistemas de trabalho conforme os objetiv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roposição de tabelas de treinam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rganização da temporada de treina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atleta mais marcante foi Tcheco Emil Zatopek (194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recursor do </a:t>
            </a:r>
            <a:r>
              <a:rPr b="1" lang="pt-BR" sz="2000" spc="-1" strike="noStrike" u="sng">
                <a:solidFill>
                  <a:srgbClr val="ffffff"/>
                </a:solidFill>
                <a:uFillTx/>
                <a:latin typeface="Tahoma"/>
              </a:rPr>
              <a:t>interval training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(influenciado por Toni Net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iminuição das distâncias com aumento na intensid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sava apenas 200 e 400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70 tiros com 1’de intervalo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8820000" y="6669000"/>
            <a:ext cx="73080" cy="189000"/>
          </a:xfrm>
          <a:prstGeom prst="irregularSeal1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691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PERÍODO CIENTÍ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racterizado pela pesquisa científica, com as universidades em estrita conexão com os centros desportiv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ultiplicação no mundo de vários laboratórios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rande conseqüência da guerra fria entre os países capitalistas e comunistas. (HOHMANN, 1998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4914720" y="1981080"/>
            <a:ext cx="3695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4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ção Histó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PERÍODO CIENT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íodo de rápidas e profundas mudanç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179280" y="4440240"/>
          <a:ext cx="8856720" cy="17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440240"/>
                    <a:ext cx="885672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ção Histó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ERÍODO 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Ênfase metod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oria de Matvéi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nâmica do volume e intensidade da carga glo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332000" y="5445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332000" y="5445000"/>
            <a:ext cx="57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835280" y="5445000"/>
            <a:ext cx="57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411280" y="544500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987640" y="544500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564000" y="544500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40360" y="5445000"/>
            <a:ext cx="57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716360" y="544500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292720" y="544500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96360" y="5445000"/>
            <a:ext cx="57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020000" y="544500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443640" y="544500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67280" y="544500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332000" y="5805360"/>
            <a:ext cx="223200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564000" y="580536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16360" y="5805360"/>
            <a:ext cx="935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51640" y="5805360"/>
            <a:ext cx="79200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443640" y="5805360"/>
            <a:ext cx="792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36000" y="5805360"/>
            <a:ext cx="936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332000" y="6165720"/>
            <a:ext cx="3384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716360" y="6165720"/>
            <a:ext cx="2519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236000" y="6165720"/>
            <a:ext cx="93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50920" y="544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0920" y="580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920" y="6165720"/>
            <a:ext cx="1081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916360" y="638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564000" y="227628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5580000" y="227628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6443640" y="220500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716360" y="227628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7236000" y="220500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66760" y="2347920"/>
            <a:ext cx="6770880" cy="1639800"/>
          </a:xfrm>
          <a:custGeom>
            <a:avLst/>
            <a:gdLst/>
            <a:ahLst/>
            <a:rect l="l" t="t" r="r" b="b"/>
            <a:pathLst>
              <a:path w="4265" h="1033">
                <a:moveTo>
                  <a:pt x="0" y="629"/>
                </a:moveTo>
                <a:cubicBezTo>
                  <a:pt x="61" y="625"/>
                  <a:pt x="123" y="624"/>
                  <a:pt x="184" y="617"/>
                </a:cubicBezTo>
                <a:cubicBezTo>
                  <a:pt x="237" y="611"/>
                  <a:pt x="236" y="574"/>
                  <a:pt x="294" y="555"/>
                </a:cubicBezTo>
                <a:cubicBezTo>
                  <a:pt x="348" y="537"/>
                  <a:pt x="388" y="500"/>
                  <a:pt x="442" y="482"/>
                </a:cubicBezTo>
                <a:cubicBezTo>
                  <a:pt x="488" y="450"/>
                  <a:pt x="541" y="435"/>
                  <a:pt x="589" y="408"/>
                </a:cubicBezTo>
                <a:cubicBezTo>
                  <a:pt x="627" y="387"/>
                  <a:pt x="670" y="357"/>
                  <a:pt x="699" y="323"/>
                </a:cubicBezTo>
                <a:cubicBezTo>
                  <a:pt x="735" y="280"/>
                  <a:pt x="707" y="287"/>
                  <a:pt x="760" y="261"/>
                </a:cubicBezTo>
                <a:cubicBezTo>
                  <a:pt x="817" y="233"/>
                  <a:pt x="882" y="227"/>
                  <a:pt x="944" y="212"/>
                </a:cubicBezTo>
                <a:cubicBezTo>
                  <a:pt x="989" y="201"/>
                  <a:pt x="1023" y="165"/>
                  <a:pt x="1067" y="151"/>
                </a:cubicBezTo>
                <a:cubicBezTo>
                  <a:pt x="1103" y="114"/>
                  <a:pt x="1211" y="50"/>
                  <a:pt x="1263" y="41"/>
                </a:cubicBezTo>
                <a:cubicBezTo>
                  <a:pt x="1324" y="31"/>
                  <a:pt x="1446" y="16"/>
                  <a:pt x="1446" y="16"/>
                </a:cubicBezTo>
                <a:cubicBezTo>
                  <a:pt x="1496" y="0"/>
                  <a:pt x="1532" y="12"/>
                  <a:pt x="1581" y="28"/>
                </a:cubicBezTo>
                <a:cubicBezTo>
                  <a:pt x="1639" y="67"/>
                  <a:pt x="1698" y="104"/>
                  <a:pt x="1765" y="126"/>
                </a:cubicBezTo>
                <a:cubicBezTo>
                  <a:pt x="1790" y="142"/>
                  <a:pt x="1814" y="159"/>
                  <a:pt x="1839" y="175"/>
                </a:cubicBezTo>
                <a:cubicBezTo>
                  <a:pt x="1951" y="249"/>
                  <a:pt x="1778" y="184"/>
                  <a:pt x="1900" y="224"/>
                </a:cubicBezTo>
                <a:cubicBezTo>
                  <a:pt x="1946" y="255"/>
                  <a:pt x="1976" y="270"/>
                  <a:pt x="2010" y="310"/>
                </a:cubicBezTo>
                <a:cubicBezTo>
                  <a:pt x="2020" y="321"/>
                  <a:pt x="2024" y="337"/>
                  <a:pt x="2035" y="347"/>
                </a:cubicBezTo>
                <a:cubicBezTo>
                  <a:pt x="2057" y="366"/>
                  <a:pt x="2108" y="396"/>
                  <a:pt x="2108" y="396"/>
                </a:cubicBezTo>
                <a:cubicBezTo>
                  <a:pt x="2156" y="468"/>
                  <a:pt x="2269" y="552"/>
                  <a:pt x="2353" y="580"/>
                </a:cubicBezTo>
                <a:cubicBezTo>
                  <a:pt x="2427" y="689"/>
                  <a:pt x="2328" y="559"/>
                  <a:pt x="2415" y="629"/>
                </a:cubicBezTo>
                <a:cubicBezTo>
                  <a:pt x="2426" y="638"/>
                  <a:pt x="2429" y="656"/>
                  <a:pt x="2439" y="666"/>
                </a:cubicBezTo>
                <a:cubicBezTo>
                  <a:pt x="2467" y="694"/>
                  <a:pt x="2513" y="703"/>
                  <a:pt x="2549" y="715"/>
                </a:cubicBezTo>
                <a:cubicBezTo>
                  <a:pt x="2574" y="723"/>
                  <a:pt x="2598" y="731"/>
                  <a:pt x="2623" y="739"/>
                </a:cubicBezTo>
                <a:cubicBezTo>
                  <a:pt x="2635" y="743"/>
                  <a:pt x="2660" y="751"/>
                  <a:pt x="2660" y="751"/>
                </a:cubicBezTo>
                <a:cubicBezTo>
                  <a:pt x="2672" y="759"/>
                  <a:pt x="2683" y="770"/>
                  <a:pt x="2696" y="776"/>
                </a:cubicBezTo>
                <a:cubicBezTo>
                  <a:pt x="2720" y="787"/>
                  <a:pt x="2770" y="800"/>
                  <a:pt x="2770" y="800"/>
                </a:cubicBezTo>
                <a:cubicBezTo>
                  <a:pt x="2774" y="812"/>
                  <a:pt x="2770" y="831"/>
                  <a:pt x="2782" y="837"/>
                </a:cubicBezTo>
                <a:cubicBezTo>
                  <a:pt x="2794" y="843"/>
                  <a:pt x="2806" y="828"/>
                  <a:pt x="2819" y="825"/>
                </a:cubicBezTo>
                <a:cubicBezTo>
                  <a:pt x="2843" y="820"/>
                  <a:pt x="2869" y="818"/>
                  <a:pt x="2893" y="813"/>
                </a:cubicBezTo>
                <a:cubicBezTo>
                  <a:pt x="2926" y="806"/>
                  <a:pt x="2991" y="788"/>
                  <a:pt x="2991" y="788"/>
                </a:cubicBezTo>
                <a:cubicBezTo>
                  <a:pt x="3037" y="757"/>
                  <a:pt x="3084" y="727"/>
                  <a:pt x="3125" y="690"/>
                </a:cubicBezTo>
                <a:cubicBezTo>
                  <a:pt x="3136" y="680"/>
                  <a:pt x="3140" y="664"/>
                  <a:pt x="3150" y="653"/>
                </a:cubicBezTo>
                <a:cubicBezTo>
                  <a:pt x="3232" y="563"/>
                  <a:pt x="3224" y="573"/>
                  <a:pt x="3297" y="519"/>
                </a:cubicBezTo>
                <a:cubicBezTo>
                  <a:pt x="3305" y="507"/>
                  <a:pt x="3312" y="493"/>
                  <a:pt x="3322" y="482"/>
                </a:cubicBezTo>
                <a:cubicBezTo>
                  <a:pt x="3332" y="472"/>
                  <a:pt x="3350" y="469"/>
                  <a:pt x="3358" y="457"/>
                </a:cubicBezTo>
                <a:cubicBezTo>
                  <a:pt x="3430" y="341"/>
                  <a:pt x="3337" y="415"/>
                  <a:pt x="3420" y="359"/>
                </a:cubicBezTo>
                <a:cubicBezTo>
                  <a:pt x="3513" y="393"/>
                  <a:pt x="3624" y="423"/>
                  <a:pt x="3689" y="506"/>
                </a:cubicBezTo>
                <a:cubicBezTo>
                  <a:pt x="3716" y="541"/>
                  <a:pt x="3738" y="580"/>
                  <a:pt x="3763" y="617"/>
                </a:cubicBezTo>
                <a:cubicBezTo>
                  <a:pt x="3771" y="629"/>
                  <a:pt x="3779" y="641"/>
                  <a:pt x="3787" y="653"/>
                </a:cubicBezTo>
                <a:cubicBezTo>
                  <a:pt x="3795" y="665"/>
                  <a:pt x="3812" y="690"/>
                  <a:pt x="3812" y="690"/>
                </a:cubicBezTo>
                <a:cubicBezTo>
                  <a:pt x="3835" y="760"/>
                  <a:pt x="3899" y="807"/>
                  <a:pt x="3922" y="874"/>
                </a:cubicBezTo>
                <a:cubicBezTo>
                  <a:pt x="3930" y="899"/>
                  <a:pt x="3939" y="923"/>
                  <a:pt x="3947" y="948"/>
                </a:cubicBezTo>
                <a:cubicBezTo>
                  <a:pt x="3951" y="960"/>
                  <a:pt x="3971" y="957"/>
                  <a:pt x="3983" y="960"/>
                </a:cubicBezTo>
                <a:cubicBezTo>
                  <a:pt x="3999" y="965"/>
                  <a:pt x="4016" y="967"/>
                  <a:pt x="4032" y="972"/>
                </a:cubicBezTo>
                <a:cubicBezTo>
                  <a:pt x="4057" y="980"/>
                  <a:pt x="4080" y="995"/>
                  <a:pt x="4106" y="997"/>
                </a:cubicBezTo>
                <a:cubicBezTo>
                  <a:pt x="4252" y="1010"/>
                  <a:pt x="4209" y="977"/>
                  <a:pt x="4265" y="103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87280" y="2190600"/>
            <a:ext cx="7002720" cy="3043440"/>
          </a:xfrm>
          <a:custGeom>
            <a:avLst/>
            <a:gdLst/>
            <a:ahLst/>
            <a:rect l="l" t="t" r="r" b="b"/>
            <a:pathLst>
              <a:path w="4411" h="1917">
                <a:moveTo>
                  <a:pt x="0" y="1022"/>
                </a:moveTo>
                <a:cubicBezTo>
                  <a:pt x="8" y="1010"/>
                  <a:pt x="13" y="994"/>
                  <a:pt x="24" y="985"/>
                </a:cubicBezTo>
                <a:cubicBezTo>
                  <a:pt x="53" y="961"/>
                  <a:pt x="97" y="968"/>
                  <a:pt x="134" y="961"/>
                </a:cubicBezTo>
                <a:cubicBezTo>
                  <a:pt x="150" y="958"/>
                  <a:pt x="166" y="950"/>
                  <a:pt x="183" y="949"/>
                </a:cubicBezTo>
                <a:cubicBezTo>
                  <a:pt x="298" y="942"/>
                  <a:pt x="412" y="940"/>
                  <a:pt x="527" y="936"/>
                </a:cubicBezTo>
                <a:cubicBezTo>
                  <a:pt x="634" y="915"/>
                  <a:pt x="740" y="890"/>
                  <a:pt x="845" y="863"/>
                </a:cubicBezTo>
                <a:cubicBezTo>
                  <a:pt x="908" y="847"/>
                  <a:pt x="895" y="850"/>
                  <a:pt x="968" y="826"/>
                </a:cubicBezTo>
                <a:cubicBezTo>
                  <a:pt x="980" y="822"/>
                  <a:pt x="1005" y="814"/>
                  <a:pt x="1005" y="814"/>
                </a:cubicBezTo>
                <a:cubicBezTo>
                  <a:pt x="1103" y="746"/>
                  <a:pt x="981" y="825"/>
                  <a:pt x="1078" y="777"/>
                </a:cubicBezTo>
                <a:cubicBezTo>
                  <a:pt x="1091" y="770"/>
                  <a:pt x="1101" y="758"/>
                  <a:pt x="1115" y="752"/>
                </a:cubicBezTo>
                <a:cubicBezTo>
                  <a:pt x="1138" y="742"/>
                  <a:pt x="1188" y="728"/>
                  <a:pt x="1188" y="728"/>
                </a:cubicBezTo>
                <a:cubicBezTo>
                  <a:pt x="1196" y="703"/>
                  <a:pt x="1188" y="660"/>
                  <a:pt x="1213" y="654"/>
                </a:cubicBezTo>
                <a:cubicBezTo>
                  <a:pt x="1310" y="630"/>
                  <a:pt x="1245" y="643"/>
                  <a:pt x="1409" y="630"/>
                </a:cubicBezTo>
                <a:cubicBezTo>
                  <a:pt x="1585" y="601"/>
                  <a:pt x="1404" y="645"/>
                  <a:pt x="1519" y="581"/>
                </a:cubicBezTo>
                <a:cubicBezTo>
                  <a:pt x="1542" y="568"/>
                  <a:pt x="1571" y="570"/>
                  <a:pt x="1593" y="556"/>
                </a:cubicBezTo>
                <a:cubicBezTo>
                  <a:pt x="1633" y="530"/>
                  <a:pt x="1727" y="487"/>
                  <a:pt x="1777" y="471"/>
                </a:cubicBezTo>
                <a:cubicBezTo>
                  <a:pt x="1876" y="399"/>
                  <a:pt x="1894" y="387"/>
                  <a:pt x="2009" y="348"/>
                </a:cubicBezTo>
                <a:cubicBezTo>
                  <a:pt x="2037" y="339"/>
                  <a:pt x="2055" y="308"/>
                  <a:pt x="2083" y="299"/>
                </a:cubicBezTo>
                <a:cubicBezTo>
                  <a:pt x="2159" y="273"/>
                  <a:pt x="2211" y="249"/>
                  <a:pt x="2291" y="238"/>
                </a:cubicBezTo>
                <a:cubicBezTo>
                  <a:pt x="2305" y="200"/>
                  <a:pt x="2298" y="195"/>
                  <a:pt x="2340" y="176"/>
                </a:cubicBezTo>
                <a:cubicBezTo>
                  <a:pt x="2364" y="165"/>
                  <a:pt x="2414" y="152"/>
                  <a:pt x="2414" y="152"/>
                </a:cubicBezTo>
                <a:cubicBezTo>
                  <a:pt x="2477" y="157"/>
                  <a:pt x="2557" y="158"/>
                  <a:pt x="2622" y="176"/>
                </a:cubicBezTo>
                <a:cubicBezTo>
                  <a:pt x="2660" y="186"/>
                  <a:pt x="2696" y="201"/>
                  <a:pt x="2733" y="213"/>
                </a:cubicBezTo>
                <a:cubicBezTo>
                  <a:pt x="2745" y="217"/>
                  <a:pt x="2769" y="225"/>
                  <a:pt x="2769" y="225"/>
                </a:cubicBezTo>
                <a:cubicBezTo>
                  <a:pt x="2879" y="221"/>
                  <a:pt x="2990" y="223"/>
                  <a:pt x="3100" y="213"/>
                </a:cubicBezTo>
                <a:cubicBezTo>
                  <a:pt x="3162" y="208"/>
                  <a:pt x="3193" y="168"/>
                  <a:pt x="3247" y="152"/>
                </a:cubicBezTo>
                <a:cubicBezTo>
                  <a:pt x="3275" y="144"/>
                  <a:pt x="3304" y="144"/>
                  <a:pt x="3333" y="140"/>
                </a:cubicBezTo>
                <a:cubicBezTo>
                  <a:pt x="3427" y="0"/>
                  <a:pt x="3656" y="50"/>
                  <a:pt x="3786" y="140"/>
                </a:cubicBezTo>
                <a:cubicBezTo>
                  <a:pt x="3845" y="227"/>
                  <a:pt x="3814" y="192"/>
                  <a:pt x="3872" y="250"/>
                </a:cubicBezTo>
                <a:cubicBezTo>
                  <a:pt x="3893" y="309"/>
                  <a:pt x="3912" y="352"/>
                  <a:pt x="3970" y="373"/>
                </a:cubicBezTo>
                <a:cubicBezTo>
                  <a:pt x="4020" y="440"/>
                  <a:pt x="4021" y="492"/>
                  <a:pt x="4044" y="569"/>
                </a:cubicBezTo>
                <a:cubicBezTo>
                  <a:pt x="4051" y="594"/>
                  <a:pt x="4068" y="642"/>
                  <a:pt x="4068" y="642"/>
                </a:cubicBezTo>
                <a:cubicBezTo>
                  <a:pt x="4078" y="761"/>
                  <a:pt x="4073" y="883"/>
                  <a:pt x="4105" y="998"/>
                </a:cubicBezTo>
                <a:cubicBezTo>
                  <a:pt x="4144" y="1141"/>
                  <a:pt x="4211" y="1280"/>
                  <a:pt x="4240" y="1426"/>
                </a:cubicBezTo>
                <a:cubicBezTo>
                  <a:pt x="4261" y="1535"/>
                  <a:pt x="4278" y="1640"/>
                  <a:pt x="4313" y="1745"/>
                </a:cubicBezTo>
                <a:cubicBezTo>
                  <a:pt x="4321" y="1769"/>
                  <a:pt x="4332" y="1837"/>
                  <a:pt x="4350" y="1855"/>
                </a:cubicBezTo>
                <a:cubicBezTo>
                  <a:pt x="4395" y="1900"/>
                  <a:pt x="4375" y="1879"/>
                  <a:pt x="4411" y="1917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32000" y="4341960"/>
            <a:ext cx="6840360" cy="1068120"/>
          </a:xfrm>
          <a:custGeom>
            <a:avLst/>
            <a:gdLst/>
            <a:ahLst/>
            <a:rect l="l" t="t" r="r" b="b"/>
            <a:pathLst>
              <a:path w="4309" h="673">
                <a:moveTo>
                  <a:pt x="0" y="559"/>
                </a:moveTo>
                <a:cubicBezTo>
                  <a:pt x="53" y="487"/>
                  <a:pt x="106" y="416"/>
                  <a:pt x="181" y="423"/>
                </a:cubicBezTo>
                <a:cubicBezTo>
                  <a:pt x="256" y="430"/>
                  <a:pt x="347" y="649"/>
                  <a:pt x="453" y="604"/>
                </a:cubicBezTo>
                <a:cubicBezTo>
                  <a:pt x="559" y="559"/>
                  <a:pt x="710" y="166"/>
                  <a:pt x="816" y="151"/>
                </a:cubicBezTo>
                <a:cubicBezTo>
                  <a:pt x="922" y="136"/>
                  <a:pt x="990" y="537"/>
                  <a:pt x="1088" y="514"/>
                </a:cubicBezTo>
                <a:cubicBezTo>
                  <a:pt x="1186" y="491"/>
                  <a:pt x="1315" y="30"/>
                  <a:pt x="1406" y="15"/>
                </a:cubicBezTo>
                <a:cubicBezTo>
                  <a:pt x="1497" y="0"/>
                  <a:pt x="1573" y="415"/>
                  <a:pt x="1633" y="423"/>
                </a:cubicBezTo>
                <a:cubicBezTo>
                  <a:pt x="1693" y="431"/>
                  <a:pt x="1716" y="30"/>
                  <a:pt x="1769" y="60"/>
                </a:cubicBezTo>
                <a:cubicBezTo>
                  <a:pt x="1822" y="90"/>
                  <a:pt x="1882" y="566"/>
                  <a:pt x="1950" y="604"/>
                </a:cubicBezTo>
                <a:cubicBezTo>
                  <a:pt x="2018" y="642"/>
                  <a:pt x="2117" y="279"/>
                  <a:pt x="2177" y="287"/>
                </a:cubicBezTo>
                <a:cubicBezTo>
                  <a:pt x="2237" y="295"/>
                  <a:pt x="2260" y="643"/>
                  <a:pt x="2313" y="650"/>
                </a:cubicBezTo>
                <a:cubicBezTo>
                  <a:pt x="2366" y="657"/>
                  <a:pt x="2435" y="340"/>
                  <a:pt x="2495" y="332"/>
                </a:cubicBezTo>
                <a:cubicBezTo>
                  <a:pt x="2555" y="324"/>
                  <a:pt x="2593" y="627"/>
                  <a:pt x="2676" y="604"/>
                </a:cubicBezTo>
                <a:cubicBezTo>
                  <a:pt x="2759" y="581"/>
                  <a:pt x="2903" y="188"/>
                  <a:pt x="2994" y="196"/>
                </a:cubicBezTo>
                <a:cubicBezTo>
                  <a:pt x="3085" y="204"/>
                  <a:pt x="3160" y="627"/>
                  <a:pt x="3220" y="650"/>
                </a:cubicBezTo>
                <a:cubicBezTo>
                  <a:pt x="3280" y="673"/>
                  <a:pt x="3296" y="332"/>
                  <a:pt x="3356" y="332"/>
                </a:cubicBezTo>
                <a:cubicBezTo>
                  <a:pt x="3416" y="332"/>
                  <a:pt x="3523" y="627"/>
                  <a:pt x="3583" y="650"/>
                </a:cubicBezTo>
                <a:cubicBezTo>
                  <a:pt x="3643" y="673"/>
                  <a:pt x="3651" y="468"/>
                  <a:pt x="3719" y="468"/>
                </a:cubicBezTo>
                <a:cubicBezTo>
                  <a:pt x="3787" y="468"/>
                  <a:pt x="3915" y="657"/>
                  <a:pt x="3991" y="650"/>
                </a:cubicBezTo>
                <a:cubicBezTo>
                  <a:pt x="4067" y="643"/>
                  <a:pt x="4120" y="431"/>
                  <a:pt x="4173" y="423"/>
                </a:cubicBezTo>
                <a:cubicBezTo>
                  <a:pt x="4226" y="415"/>
                  <a:pt x="4267" y="509"/>
                  <a:pt x="4309" y="604"/>
                </a:cubicBezTo>
              </a:path>
            </a:pathLst>
          </a:custGeom>
          <a:noFill/>
          <a:ln w="38160">
            <a:solidFill>
              <a:srgbClr val="00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547640" y="3825720"/>
            <a:ext cx="6624720" cy="1668600"/>
          </a:xfrm>
          <a:custGeom>
            <a:avLst/>
            <a:gdLst/>
            <a:ahLst/>
            <a:rect l="l" t="t" r="r" b="b"/>
            <a:pathLst>
              <a:path w="4173" h="1051">
                <a:moveTo>
                  <a:pt x="0" y="884"/>
                </a:moveTo>
                <a:cubicBezTo>
                  <a:pt x="83" y="812"/>
                  <a:pt x="167" y="740"/>
                  <a:pt x="227" y="748"/>
                </a:cubicBezTo>
                <a:cubicBezTo>
                  <a:pt x="287" y="756"/>
                  <a:pt x="265" y="929"/>
                  <a:pt x="363" y="929"/>
                </a:cubicBezTo>
                <a:cubicBezTo>
                  <a:pt x="461" y="929"/>
                  <a:pt x="725" y="801"/>
                  <a:pt x="816" y="748"/>
                </a:cubicBezTo>
                <a:cubicBezTo>
                  <a:pt x="907" y="695"/>
                  <a:pt x="869" y="582"/>
                  <a:pt x="907" y="612"/>
                </a:cubicBezTo>
                <a:cubicBezTo>
                  <a:pt x="945" y="642"/>
                  <a:pt x="967" y="944"/>
                  <a:pt x="1043" y="929"/>
                </a:cubicBezTo>
                <a:cubicBezTo>
                  <a:pt x="1119" y="914"/>
                  <a:pt x="1270" y="544"/>
                  <a:pt x="1361" y="521"/>
                </a:cubicBezTo>
                <a:cubicBezTo>
                  <a:pt x="1452" y="498"/>
                  <a:pt x="1504" y="831"/>
                  <a:pt x="1587" y="793"/>
                </a:cubicBezTo>
                <a:cubicBezTo>
                  <a:pt x="1670" y="755"/>
                  <a:pt x="1800" y="286"/>
                  <a:pt x="1860" y="294"/>
                </a:cubicBezTo>
                <a:cubicBezTo>
                  <a:pt x="1920" y="302"/>
                  <a:pt x="1897" y="862"/>
                  <a:pt x="1950" y="839"/>
                </a:cubicBezTo>
                <a:cubicBezTo>
                  <a:pt x="2003" y="816"/>
                  <a:pt x="2132" y="166"/>
                  <a:pt x="2177" y="158"/>
                </a:cubicBezTo>
                <a:cubicBezTo>
                  <a:pt x="2222" y="150"/>
                  <a:pt x="2200" y="725"/>
                  <a:pt x="2223" y="793"/>
                </a:cubicBezTo>
                <a:cubicBezTo>
                  <a:pt x="2246" y="861"/>
                  <a:pt x="2283" y="619"/>
                  <a:pt x="2313" y="566"/>
                </a:cubicBezTo>
                <a:cubicBezTo>
                  <a:pt x="2343" y="513"/>
                  <a:pt x="2381" y="559"/>
                  <a:pt x="2404" y="476"/>
                </a:cubicBezTo>
                <a:cubicBezTo>
                  <a:pt x="2427" y="393"/>
                  <a:pt x="2426" y="8"/>
                  <a:pt x="2449" y="68"/>
                </a:cubicBezTo>
                <a:cubicBezTo>
                  <a:pt x="2472" y="128"/>
                  <a:pt x="2442" y="771"/>
                  <a:pt x="2540" y="839"/>
                </a:cubicBezTo>
                <a:cubicBezTo>
                  <a:pt x="2638" y="907"/>
                  <a:pt x="2956" y="476"/>
                  <a:pt x="3039" y="476"/>
                </a:cubicBezTo>
                <a:cubicBezTo>
                  <a:pt x="3122" y="476"/>
                  <a:pt x="2986" y="877"/>
                  <a:pt x="3039" y="839"/>
                </a:cubicBezTo>
                <a:cubicBezTo>
                  <a:pt x="3092" y="801"/>
                  <a:pt x="3297" y="370"/>
                  <a:pt x="3357" y="249"/>
                </a:cubicBezTo>
                <a:cubicBezTo>
                  <a:pt x="3417" y="128"/>
                  <a:pt x="3387" y="0"/>
                  <a:pt x="3402" y="113"/>
                </a:cubicBezTo>
                <a:cubicBezTo>
                  <a:pt x="3417" y="226"/>
                  <a:pt x="3394" y="876"/>
                  <a:pt x="3447" y="929"/>
                </a:cubicBezTo>
                <a:cubicBezTo>
                  <a:pt x="3500" y="982"/>
                  <a:pt x="3643" y="422"/>
                  <a:pt x="3719" y="430"/>
                </a:cubicBezTo>
                <a:cubicBezTo>
                  <a:pt x="3795" y="438"/>
                  <a:pt x="3841" y="899"/>
                  <a:pt x="3901" y="975"/>
                </a:cubicBezTo>
                <a:cubicBezTo>
                  <a:pt x="3961" y="1051"/>
                  <a:pt x="4037" y="892"/>
                  <a:pt x="4082" y="884"/>
                </a:cubicBezTo>
                <a:cubicBezTo>
                  <a:pt x="4127" y="876"/>
                  <a:pt x="4150" y="902"/>
                  <a:pt x="4173" y="929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5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5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CEITUAÇÃ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de a Grécia antiga até hoje, o treinamento desportivo variou de um cunho religioso até meio de marke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artir de quando utilizado como meio político ideológico, ganhou forte componente competitiv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acterísticas das definiçõ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usca da máxima performanc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ios sistemáticos baseado em metodologias e considerações da capacidade de adaptação biológic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O PERÍODO CIENTÍ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Ênfase metodológ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Zatopek foi estudado por fisiologistas, resultando na fundamentação científica do interval–trai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Surgimento de inúmeros métodos revolucionários de treinam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rcuit – training, cross promenade, power training, marathon training, altitude trai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O PERÍODO CIENTÍFIC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Ênfase bioquími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Recursos ergogên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ícitos e ilíc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Monitoração bioquí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8675640" y="6597720"/>
            <a:ext cx="73080" cy="260280"/>
          </a:xfrm>
          <a:custGeom>
            <a:avLst/>
            <a:gdLst>
              <a:gd name="textAreaLeft" fmla="*/ 16560 w 73080"/>
              <a:gd name="textAreaRight" fmla="*/ 56520 w 73080"/>
              <a:gd name="textAreaTop" fmla="*/ 59400 h 260280"/>
              <a:gd name="textAreaBottom" fmla="*/ 2008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4914720" y="1981080"/>
            <a:ext cx="3695400" cy="198144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4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Ênfase Tecnológ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95760" cy="198144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1066680" y="4114440"/>
            <a:ext cx="3695760" cy="198108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3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4"/>
          <a:stretch/>
        </p:blipFill>
        <p:spPr>
          <a:xfrm>
            <a:off x="4914720" y="1981080"/>
            <a:ext cx="3695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arketing ou mercantilismo despor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Substituição do amadorismo e ideal olímpico por patrocínios, bolsas e altos salár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umento no número de competiçõ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riação do macrociclo de meeti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umento drásticos nas cargas de volume de trei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87880" indent="-2124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pecializ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878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onentes do Treinamento desportiv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mo visto, o exercício é o principal component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Zakharov (1992), destaca três componentes principa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mpetiç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Tre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Fatores complement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3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3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30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3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onentes do Treinamento desportiv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imamente interligado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mentam-se mutuament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efas determinadas e particularidades metód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car o equilíbrio entre os compone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onentes do Treinamento desportiv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mpetiç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etição principal é o objetivo do processo de treina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etições outras são importantes na prepar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perfeiçoamento das capacidades específ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perfeiçoamento das capacidades física, técnica, tática e psicológic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aração da forma desportiva com os concorrent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ntrole dos efeitos do treino em tempo hábil de repar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pendendo da fase, chega a 15% (Matvéiev, 1997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CEITUAÇÃ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onjuntos de procedimentos tendentes a conduzir um ser humano ao máximo de suas possibilidades físicas” (Andrivet et al, apud Tubino,200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Preparo físico, técnico-tático, intelectual, psíquico e moral do atleta através de exercícios físicos” (Matwejew, 1972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Forma básica de preparação do atleta ... processo pedagogicamente estruturado de condução do desenvolvimento do atleta (do seu aperfeiçoamento desportivo)” (Matvéiev, 198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onentes do Treinamento desportiv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eti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oladamente não é suficiente para a preparação do atlet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 ser sistematicamente combinado com os outros compo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ar em conta a carga psico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co de lesõ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onentes do Treinamento desportiv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nente central da preparação ao atle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sso pedagogicamente organizado constituído por métodos de exercícios que visam provocar adaptações orgânicas no sentido da melhoria do gesto desportivo partic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onentes do Treinamento desportiv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olve tarefas da preparaçã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ís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ça, resistência, flexibilidade, rapidez e coordenaç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écn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sino das diversas ações técnic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át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tratégias de competiçã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eino de estratégias considerando as características do adversári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icológ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ntade, nível de estresse adequado para competi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onentes do Treinamento desportiv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Fatores complement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tribuem para a boa adaptação do atleta às influências de treino e competi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Zakharov ci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isioterapi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assage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aun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limentação especializad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eios farmacológico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atores da natureza (montanhas, altitude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Quanto maior for o nível do atleta tanto mais estes fatores serão determina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onentes do Treinamento desportiv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ores complementa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mesmo autor ainda adverte sobre a integralidade do ser huma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dição financeir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ações famili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dições ecológic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onentes do Treinamento desportiv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ores complementa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Almeida, Almeida e Gomes, a performance depende 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o o indivíduo se comport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que ele pens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volume e intensidade da carg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qualidades psicológicas requeridas para a a performanc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 dinâmica social do grup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e como todos estes fatores são organizados e administrados durante uma temporada de treinamento, competição 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escanso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20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7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RIGADO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CEITUAÇÃ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nceituação contemporân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Movimento EP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artas de organismos internacionais (UNESCO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Redirecionamento do esporte para maiores parcelas da socieda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CEITUAÇÃ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546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rática esportiva passou a ser vista com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porte educaçã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porte laz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porte de rendiment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4648320" y="3924360"/>
            <a:ext cx="4038480" cy="21715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CEITUAÇÃ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O treinamento desportivo é o conjunto de procedimentos utilizados na preparação de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Garamond"/>
              </a:rPr>
              <a:t>pessoas / atletas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para as diversas perspectivas de exercício do direito às práticas esportiva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Garamond"/>
              </a:rPr>
              <a:t>No esporte-educação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, visa a formação da cidadan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Garamond"/>
              </a:rPr>
              <a:t>Esporte educacional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 – Aprendizagem e desenvolvimento motor de habilidades técnicas, qualidades físicas de base e psicomotricidad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Garamond"/>
              </a:rPr>
              <a:t>Esporte escolar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 – Desenvolvimento das qualidades técnicas, pensamento tático e espírito esportiv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Garamond"/>
              </a:rPr>
              <a:t>No esporte-lazer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, desenvolvimento da segurança pessoal, melhoria das regelações fisiológicas e aumento das possibilidades de práticas esportivas prazeros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Garamond"/>
              </a:rPr>
              <a:t>No esporte de rendimento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, alcance da forma máxima na época certa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Tubino, 200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8748720" y="6381000"/>
            <a:ext cx="71280" cy="142920"/>
          </a:xfrm>
          <a:custGeom>
            <a:avLst/>
            <a:gdLst>
              <a:gd name="textAreaLeft" fmla="*/ 16200 w 71280"/>
              <a:gd name="textAreaRight" fmla="*/ 55080 w 71280"/>
              <a:gd name="textAreaTop" fmla="*/ 32400 h 142920"/>
              <a:gd name="textAreaBottom" fmla="*/ 1105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Relacionada aos jogos olímp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Vitrine dos métodos ou filosofia de treinam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opularização dos métodos venced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scalonamento no tempo feito por Pereira da Costa (1972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rroborado por Tubino, (198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Modificado por Dantas (1995) e Almeida, Almeida e Gomes (200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VOLUÇÃO HISTÓRIC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m cronoló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50920" y="1127160"/>
          <a:ext cx="864216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7160"/>
                    <a:ext cx="864216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aea"/>
                </a:solidFill>
                <a:latin typeface="Tahoma"/>
              </a:rPr>
              <a:t>Evolução Hístóric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91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PERÍODO DA 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aior contribuição dos greg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Grande número de jog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límpicos, Augustos e Capitoli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aracterísticas semelhantes às atu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argas para melhoria do rendi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eparo psicológico apoiado no sofri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quecimento e volta à calma e massa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etas nos períodos de trein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einadores especializados para corridas, lutas e calistenia / jog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té os ciclos, chamado de tetras, constituído de 4 d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2:03:34Z</dcterms:created>
  <dc:creator>Alexandre Sérgio Silva</dc:creator>
  <dc:description/>
  <dc:language>en-US</dc:language>
  <cp:lastModifiedBy>Alexandre Sérgio Silva</cp:lastModifiedBy>
  <dcterms:modified xsi:type="dcterms:W3CDTF">2004-05-11T11:33:16Z</dcterms:modified>
  <cp:revision>131</cp:revision>
  <dc:subject/>
  <dc:title>UNIVERSIDADE FEDERAL DA PARAÍBA CONCURSO PÚBLICO PARA PROFESSOR ASSISTENTE PROVA DIDÁTICA</dc:title>
</cp:coreProperties>
</file>