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D4A-984A-4375-9B40-999F7584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793-4FFC-4C50-AB8E-04ED25E3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0FF-3111-46E3-A165-93E66DDE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E6F-A57A-405E-95E1-B8CF9106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C34-ADA7-4E4C-BBC5-78677E9C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6D8-6F3D-43AF-8DE4-6B68B730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DB37-652A-4DD4-9CDA-AFCA949F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343-6B9A-45DE-A67A-A384CC9B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CCC-68C4-4FC1-AE2A-CD744AC7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F8B-2C10-4E93-9087-46CD4A8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722-5CF2-433C-98CD-367C977E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427-AA1A-4AED-B23F-0A2CEA20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2438-3EDD-4C26-930E-7F58679EC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d60093"/>
                </a:solidFill>
                <a:latin typeface="Arial Rounded MT Bold"/>
              </a:rPr>
              <a:t>Foto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75160" y="2637000"/>
            <a:ext cx="1827000" cy="180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00400" y="858960"/>
            <a:ext cx="792000" cy="731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57480" y="1506600"/>
            <a:ext cx="143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1) Recepción de Requisición de Mate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25800" y="896760"/>
            <a:ext cx="754200" cy="682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20000" y="880920"/>
            <a:ext cx="792000" cy="72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10160" y="1539720"/>
            <a:ext cx="158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2) Ubicar en SAP, los códigos de los Mate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978520" y="880920"/>
            <a:ext cx="754200" cy="68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08640" y="1600200"/>
            <a:ext cx="341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3) Si no se encuentra el código, llenar una plantilla con las especificaciones técnicas del material en el sistema, para que lo codifiquen en la base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95280" y="4221000"/>
            <a:ext cx="681120" cy="754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818480" y="4076640"/>
            <a:ext cx="1008000" cy="947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33320" y="558972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850160" y="2940120"/>
            <a:ext cx="754200" cy="68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00840" y="2852640"/>
            <a:ext cx="187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4) Registrar en SAP la requisición de Materiales, y crear la solicitud de pedido de los usu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7760" y="4149720"/>
            <a:ext cx="2232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) La gerencia de compras, se encarga de recibir estas solicitudes, y abren los procesos de licitación de los materi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7435800" y="5556240"/>
            <a:ext cx="865080" cy="79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53120" y="5594400"/>
            <a:ext cx="2127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6) Realizar reuniones aclaratorias con las empresas ofertantes y los usuarios (equipos de proyect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16120" y="5410080"/>
            <a:ext cx="3166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7) La Gerencia de compras envía las ofertas de las empresas, para realizar el análisis técnico (usuarios), y determinar que empresas cumplen o no con las especificaciones de los mate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3520" y="4152960"/>
            <a:ext cx="19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8) La Gerencia de compras coloca los pedidos a las empresas que ganaron la lici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324000" y="3222720"/>
            <a:ext cx="720720" cy="64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3294000"/>
            <a:ext cx="17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9) Hacerle seguimiento a los pedidos colo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53920" y="227664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10) Recibir los materiales en los almacenes, y despacharlos oportunamente a la construcción de ob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1187280" y="1628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3"/>
          <a:stretch/>
        </p:blipFill>
        <p:spPr>
          <a:xfrm>
            <a:off x="324000" y="162864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383000" y="2171880"/>
            <a:ext cx="189000" cy="431640"/>
          </a:xfrm>
          <a:prstGeom prst="upArrow">
            <a:avLst>
              <a:gd name="adj1" fmla="val 50000"/>
              <a:gd name="adj2" fmla="val 57095"/>
            </a:avLst>
          </a:prstGeom>
          <a:gradFill rotWithShape="0">
            <a:gsLst>
              <a:gs pos="0">
                <a:srgbClr val="d60093"/>
              </a:gs>
              <a:gs pos="50000">
                <a:srgbClr val="e35bb9"/>
              </a:gs>
              <a:gs pos="100000">
                <a:srgbClr val="d6009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697600">
            <a:off x="5579640" y="2349360"/>
            <a:ext cx="216000" cy="511200"/>
          </a:xfrm>
          <a:prstGeom prst="upArrow">
            <a:avLst>
              <a:gd name="adj1" fmla="val 50000"/>
              <a:gd name="adj2" fmla="val 59167"/>
            </a:avLst>
          </a:prstGeom>
          <a:gradFill rotWithShape="0">
            <a:gsLst>
              <a:gs pos="0">
                <a:srgbClr val="e14bb2"/>
              </a:gs>
              <a:gs pos="100000">
                <a:srgbClr val="d6009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141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gradFill rotWithShape="0">
            <a:gsLst>
              <a:gs pos="0">
                <a:srgbClr val="df41ae"/>
              </a:gs>
              <a:gs pos="100000">
                <a:srgbClr val="d6009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386064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gradFill rotWithShape="0">
            <a:gsLst>
              <a:gs pos="0">
                <a:srgbClr val="d60093"/>
              </a:gs>
              <a:gs pos="50000">
                <a:srgbClr val="df42ae"/>
              </a:gs>
              <a:gs pos="100000">
                <a:srgbClr val="d6009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527364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gradFill rotWithShape="0">
            <a:gsLst>
              <a:gs pos="0">
                <a:srgbClr val="d60093"/>
              </a:gs>
              <a:gs pos="50000">
                <a:srgbClr val="df42ae"/>
              </a:gs>
              <a:gs pos="100000">
                <a:srgbClr val="d6009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044200">
            <a:off x="5168520" y="4571640"/>
            <a:ext cx="249120" cy="944640"/>
          </a:xfrm>
          <a:prstGeom prst="downArrow">
            <a:avLst>
              <a:gd name="adj1" fmla="val 50000"/>
              <a:gd name="adj2" fmla="val 94798"/>
            </a:avLst>
          </a:prstGeom>
          <a:gradFill rotWithShape="0">
            <a:gsLst>
              <a:gs pos="0">
                <a:srgbClr val="d60093"/>
              </a:gs>
              <a:gs pos="50000">
                <a:srgbClr val="df42ae"/>
              </a:gs>
              <a:gs pos="100000">
                <a:srgbClr val="d60093"/>
              </a:gs>
            </a:gsLst>
            <a:lin ang="123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867200">
            <a:off x="3634920" y="4565160"/>
            <a:ext cx="217440" cy="808200"/>
          </a:xfrm>
          <a:prstGeom prst="upArrow">
            <a:avLst>
              <a:gd name="adj1" fmla="val 50000"/>
              <a:gd name="adj2" fmla="val 92922"/>
            </a:avLst>
          </a:prstGeom>
          <a:gradFill rotWithShape="0">
            <a:gsLst>
              <a:gs pos="0">
                <a:srgbClr val="e14bb2"/>
              </a:gs>
              <a:gs pos="100000">
                <a:srgbClr val="d60093"/>
              </a:gs>
            </a:gsLst>
            <a:lin ang="89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4467000">
            <a:off x="3083040" y="4101120"/>
            <a:ext cx="216000" cy="608040"/>
          </a:xfrm>
          <a:prstGeom prst="upArrow">
            <a:avLst>
              <a:gd name="adj1" fmla="val 50000"/>
              <a:gd name="adj2" fmla="val 70375"/>
            </a:avLst>
          </a:prstGeom>
          <a:gradFill rotWithShape="0">
            <a:gsLst>
              <a:gs pos="0">
                <a:srgbClr val="e14bb2"/>
              </a:gs>
              <a:gs pos="100000">
                <a:srgbClr val="d60093"/>
              </a:gs>
            </a:gsLst>
            <a:lin ang="633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60560" y="352908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d60093"/>
              </a:gs>
              <a:gs pos="50000">
                <a:srgbClr val="df42ae"/>
              </a:gs>
              <a:gs pos="100000">
                <a:srgbClr val="d6009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523400">
            <a:off x="2843280" y="285264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d60093"/>
              </a:gs>
              <a:gs pos="50000">
                <a:srgbClr val="df42ae"/>
              </a:gs>
              <a:gs pos="100000">
                <a:srgbClr val="d60093"/>
              </a:gs>
            </a:gsLst>
            <a:lin ang="927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600800">
            <a:off x="3288960" y="2003040"/>
            <a:ext cx="227160" cy="560520"/>
          </a:xfrm>
          <a:prstGeom prst="downArrow">
            <a:avLst>
              <a:gd name="adj1" fmla="val 50000"/>
              <a:gd name="adj2" fmla="val 61688"/>
            </a:avLst>
          </a:prstGeom>
          <a:gradFill rotWithShape="0">
            <a:gsLst>
              <a:gs pos="0">
                <a:srgbClr val="d60093"/>
              </a:gs>
              <a:gs pos="50000">
                <a:srgbClr val="df42ae"/>
              </a:gs>
              <a:gs pos="100000">
                <a:srgbClr val="d60093"/>
              </a:gs>
            </a:gsLst>
            <a:lin ang="127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d60093"/>
                </a:solidFill>
                <a:latin typeface="Arial Rounded MT Bold"/>
              </a:rPr>
              <a:t>Frenos e Impulsos al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63760" y="2708280"/>
            <a:ext cx="1079280" cy="111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24440" y="29019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35040" y="4003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60093"/>
                </a:solidFill>
                <a:latin typeface="Arial Rounded MT Bold"/>
              </a:rPr>
              <a:t>Fr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51360" y="408132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60093"/>
                </a:solidFill>
                <a:latin typeface="Arial Rounded MT Bold"/>
              </a:rPr>
              <a:t>Impul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06360" y="12747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7320" y="1994040"/>
            <a:ext cx="151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entitud en realizar los análisis téc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309680" y="770040"/>
            <a:ext cx="754200" cy="649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65400" y="1324080"/>
            <a:ext cx="153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mpra de materiales a destiempo, con respecto al inicio de las ob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836800" y="698400"/>
            <a:ext cx="792360" cy="754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00360" y="1346040"/>
            <a:ext cx="1533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asistencia de los usuarios a las reuniones aclaratorias con las empresas que licitan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341520" y="2689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4888080" y="8254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5940360" y="4730760"/>
            <a:ext cx="719280" cy="682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8244000" y="31129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65520" y="3254400"/>
            <a:ext cx="151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co seguimiento de los equipos de proyecto, sobre el status de la procura en general y crí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7767720" y="941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2981160" y="4705200"/>
            <a:ext cx="863640" cy="825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55800" y="549756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entitud ocasional del sis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1420920" y="5850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379440" y="29304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2068560" y="5850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347840" y="4659480"/>
            <a:ext cx="151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etrasos en las entregas de los materiales, por parte de los proveedore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360" y="3772080"/>
            <a:ext cx="136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entitud en la gestión de compras de materiales (gerencia de compras), debido a que en ocasiones se demoran en atender las solicitudes de pedido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611172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75200" y="1539720"/>
            <a:ext cx="16052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yor disposición y atención de los equipos de proyectos a la procura de los materi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80440" y="1627200"/>
            <a:ext cx="1533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ntenimiento oportuno y mejora en la plataforma, para que el sistema (SAP) sea mucho más rápid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77160" y="3273480"/>
            <a:ext cx="1533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hesionar e integrar la información de la procura de materiales para solicitar las requisiciones con suficiente tiempo de antelación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6"/>
          <a:stretch/>
        </p:blipFill>
        <p:spPr>
          <a:xfrm>
            <a:off x="8238960" y="50198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453440" y="5526000"/>
            <a:ext cx="12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xigir a las empresas la entrega oportuna de los materiale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5445000"/>
            <a:ext cx="1933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ancionar a las empresas que no entreguen los pedidos, o que tengan un retraso considerable en la entreg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4600440" y="3692520"/>
            <a:ext cx="897120" cy="79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56080" y="4556160"/>
            <a:ext cx="1008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umplir a cabalidad con el plan de adiestramiento y capacitación de los miembros de la unidad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56080" y="1490760"/>
            <a:ext cx="1368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a gerencia de compras debe atender a tiempo las solicitudes de pedidos, para evitar y disminuir los retrasos en la ejecución de los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7840" y="754200"/>
            <a:ext cx="0" cy="5941800"/>
          </a:xfrm>
          <a:prstGeom prst="line">
            <a:avLst/>
          </a:prstGeom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d60093"/>
                </a:solidFill>
                <a:latin typeface="Arial Rounded MT Bold"/>
              </a:rPr>
              <a:t>Intimidades y Factores Ex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98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60093"/>
                </a:solidFill>
                <a:latin typeface="Arial Rounded MT Bold"/>
              </a:rPr>
              <a:t>Intim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59280" y="907920"/>
            <a:ext cx="568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lgunos de los miembros de la Unidad, tienen más tiempo en la organización, y por lo tanto, existe un mayor grado de amistad y confianza con el Supervis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60093"/>
                </a:solidFill>
                <a:latin typeface="Arial Rounded MT Bold"/>
              </a:rPr>
              <a:t>Factores In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8336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60093"/>
                </a:solidFill>
                <a:latin typeface="Arial Rounded MT Bold"/>
              </a:rPr>
              <a:t>Factore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790560" cy="79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1773360"/>
            <a:ext cx="8496360" cy="0"/>
          </a:xfrm>
          <a:prstGeom prst="line">
            <a:avLst/>
          </a:prstGeom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82520" y="1989000"/>
            <a:ext cx="1328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stantes compras adicionales, por parte de los equipos de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3160" y="1949400"/>
            <a:ext cx="936360" cy="865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9040" y="2708280"/>
            <a:ext cx="1651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Falta de seguimiento de los equipos de proyecto, sobre su propia procur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098880" y="38052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01760" y="4692600"/>
            <a:ext cx="172872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tención y tratamiento un poco lento de la gerencia de compras, para gestionar el proceso de compra solicit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95280" y="3213000"/>
            <a:ext cx="720720" cy="735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1680" y="4075200"/>
            <a:ext cx="1511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a procura de materiales que se quedan en status de no tratados, y que pasan largo tiempo sin que pasen a un proceso licitatorio o sean colocados a una empres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89480" y="1900080"/>
            <a:ext cx="0" cy="4608720"/>
          </a:xfrm>
          <a:prstGeom prst="line">
            <a:avLst/>
          </a:prstGeom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716360" y="1949400"/>
            <a:ext cx="719280" cy="770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43280" y="2768760"/>
            <a:ext cx="187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ntrega de materiales con fechas de entrega vencidas, esto implica retrasos en la ejecución de los proyecto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6084720" y="2000160"/>
            <a:ext cx="1046160" cy="792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81920" y="2205000"/>
            <a:ext cx="1650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mpresas que por una u otra razón, no entregan en ningún momento los materiales solicitado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4754520" y="4065480"/>
            <a:ext cx="863640" cy="865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76760" y="4968720"/>
            <a:ext cx="1650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as aclaratorias que solicitan las empresas para la fabricación de los equipos, después de realizada la reunión aclaratoria form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7667640" y="3429000"/>
            <a:ext cx="865080" cy="969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703920" y="4475160"/>
            <a:ext cx="2089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umento en la inversión de los proyectos, cuando las empresas contratistas que participan en las obras, no cumplen a cabalidad con el suministro de los materiales contemplados en el contrat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d60093"/>
                </a:solidFill>
                <a:latin typeface="Arial Rounded MT Bold"/>
              </a:rPr>
              <a:t>Motor del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19480" y="996840"/>
            <a:ext cx="792360" cy="681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86320" y="2421000"/>
            <a:ext cx="1944360" cy="1439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537000" y="39276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60093"/>
                </a:solidFill>
                <a:latin typeface="Arial Rounded MT Bold"/>
              </a:rPr>
              <a:t>Motor del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751880" y="3919680"/>
            <a:ext cx="753840" cy="825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442880" y="4233960"/>
            <a:ext cx="719280" cy="825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39640" y="100800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7537320" y="1649520"/>
            <a:ext cx="1008360" cy="936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5646600" y="4692600"/>
            <a:ext cx="719280" cy="785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80960" y="925560"/>
            <a:ext cx="2470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linear la misión y el compromiso de la organización de compras, para que ofrezcan la atención oportuna en la gestión de compra de los materiale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27480" y="974880"/>
            <a:ext cx="22989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cientizar a los equipos de proyecto, para que le den la importancia adecuada a la procura solicitada por ell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9760" y="2541600"/>
            <a:ext cx="273672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rabajar de manera más cohesionada entre la organización de compras y la nuestra, para obtener los resultados esperados por ambas unidades y por la corpo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89680" y="4724280"/>
            <a:ext cx="1787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plicar las medidas necesarias (sanciones), a aquellas empresas que retrasan la entrega de los materiale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4400" y="4724280"/>
            <a:ext cx="26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ealizar oportunamente, las reuniones aclaratorias (empresas contratistas), y análisis técnico de los equipos; a fin de determinar cuáles de ellas cumplen o no con las especificaciones de los equipos solicitado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490680" y="41720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468360" y="234468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1880" y="5102280"/>
            <a:ext cx="2127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ejorar la plataforma tecnológica y ejecutar los mantenimientos constantes, para el óptimo rendimiento del sistem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2398680"/>
            <a:ext cx="187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umplir con el plan de adiestramiento y capacitación de los miembros de la unidad, de acuerdo al plan de carrera ofrecido por la empres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638172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60093"/>
                </a:solidFill>
                <a:latin typeface="Arial Rounded MT Bold"/>
              </a:rPr>
              <a:t>Autora: María Alejandra Nuñez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0T17:10:29Z</dcterms:created>
  <dc:creator>Leoncio Núñez</dc:creator>
  <dc:description/>
  <dc:language>en-US</dc:language>
  <cp:lastModifiedBy>Leoncio Núñez</cp:lastModifiedBy>
  <dcterms:modified xsi:type="dcterms:W3CDTF">2005-09-11T15:44:21Z</dcterms:modified>
  <cp:revision>165</cp:revision>
  <dc:subject/>
  <dc:title>Foto del Proceso</dc:title>
</cp:coreProperties>
</file>