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gif" ContentType="image/gif"/>
  <Override PartName="/ppt/media/image3.png" ContentType="image/png"/>
  <Override PartName="/ppt/media/type.wav" ContentType="audio/x-wav"/>
  <Override PartName="/ppt/media/gunshot.wav" ContentType="audio/x-wav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D1CBE-CD1E-4EBC-B414-06086A094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6B963-0705-4344-8825-C270B4E81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39605-3D17-4D7F-9CCB-8B1921ADE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2D44E-2FA1-4382-9B98-91FDCF7C6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B9A86-D021-45BD-B2B3-C3DC5AAF1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5D831-593E-40C7-9997-D38325ED1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FA205-7C7F-4B60-84CE-DCFA1FEA6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8F575-4848-4220-BA3D-AD8294A00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3D69C-EED9-4F23-A90D-71CAA0E0E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A3FAB-D651-4F65-AFD1-58E29ADF6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A9D1F-5BB5-489D-85ED-18B868490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53699-0B80-4570-858F-7F59E86FA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B588A-F802-4EC8-B727-9B1B78E30A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png"/><Relationship Id="rId4" Type="http://schemas.openxmlformats.org/officeDocument/2006/relationships/audio" Target="../media/type.wav"/><Relationship Id="rId5" Type="http://schemas.openxmlformats.org/officeDocument/2006/relationships/audio" Target="../media/gunshot.wav"/><Relationship Id="rId6" Type="http://schemas.openxmlformats.org/officeDocument/2006/relationships/audio" Target="../media/gunshot.wav"/><Relationship Id="rId7" Type="http://schemas.openxmlformats.org/officeDocument/2006/relationships/audio" Target="../media/gunshot.wav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609480"/>
            <a:ext cx="65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SIMBOL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685800" y="1293120"/>
            <a:ext cx="1294920" cy="611640"/>
            <a:chOff x="685800" y="1293120"/>
            <a:chExt cx="1294920" cy="611640"/>
          </a:xfrm>
        </p:grpSpPr>
        <p:sp>
          <p:nvSpPr>
            <p:cNvPr id="43" name=""/>
            <p:cNvSpPr/>
            <p:nvPr/>
          </p:nvSpPr>
          <p:spPr>
            <a:xfrm>
              <a:off x="685800" y="1793880"/>
              <a:ext cx="518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203840" y="1793880"/>
              <a:ext cx="64800" cy="11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 flipV="1">
              <a:off x="1268640" y="1627560"/>
              <a:ext cx="0" cy="27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68640" y="1627560"/>
              <a:ext cx="64800" cy="22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333440" y="1849680"/>
              <a:ext cx="452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rot="16221600">
              <a:off x="1220760" y="1082160"/>
              <a:ext cx="221760" cy="647640"/>
            </a:xfrm>
            <a:prstGeom prst="can">
              <a:avLst>
                <a:gd name="adj" fmla="val 25000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685800" y="1406160"/>
              <a:ext cx="388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657080" y="1406160"/>
              <a:ext cx="323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333440" y="1295280"/>
              <a:ext cx="64440" cy="221760"/>
            </a:xfrm>
            <a:custGeom>
              <a:avLst/>
              <a:gdLst/>
              <a:ahLst/>
              <a:rect l="l" t="t" r="r" b="b"/>
              <a:pathLst>
                <a:path w="48" h="192">
                  <a:moveTo>
                    <a:pt x="0" y="0"/>
                  </a:moveTo>
                  <a:cubicBezTo>
                    <a:pt x="24" y="32"/>
                    <a:pt x="48" y="64"/>
                    <a:pt x="48" y="96"/>
                  </a:cubicBezTo>
                  <a:cubicBezTo>
                    <a:pt x="48" y="128"/>
                    <a:pt x="8" y="176"/>
                    <a:pt x="0" y="192"/>
                  </a:cubicBezTo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" name=""/>
          <p:cNvSpPr/>
          <p:nvPr/>
        </p:nvSpPr>
        <p:spPr>
          <a:xfrm>
            <a:off x="3657600" y="14479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sistenc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895480" y="2819520"/>
            <a:ext cx="1981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609480" y="2362320"/>
            <a:ext cx="1447920" cy="1409760"/>
            <a:chOff x="609480" y="2362320"/>
            <a:chExt cx="1447920" cy="1409760"/>
          </a:xfrm>
        </p:grpSpPr>
        <p:sp>
          <p:nvSpPr>
            <p:cNvPr id="55" name=""/>
            <p:cNvSpPr/>
            <p:nvPr/>
          </p:nvSpPr>
          <p:spPr>
            <a:xfrm>
              <a:off x="765000" y="2529000"/>
              <a:ext cx="465480" cy="765000"/>
            </a:xfrm>
            <a:prstGeom prst="can">
              <a:avLst>
                <a:gd name="adj" fmla="val 25000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68320" y="2529000"/>
              <a:ext cx="103320" cy="144360"/>
            </a:xfrm>
            <a:prstGeom prst="flowChartConnector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023840" y="2529000"/>
              <a:ext cx="103320" cy="144360"/>
            </a:xfrm>
            <a:prstGeom prst="flowChartConnector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436760" y="2529000"/>
              <a:ext cx="465120" cy="765000"/>
            </a:xfrm>
            <a:prstGeom prst="can">
              <a:avLst>
                <a:gd name="adj" fmla="val 25000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539720" y="2529000"/>
              <a:ext cx="103320" cy="144360"/>
            </a:xfrm>
            <a:prstGeom prst="flowChartConnector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695600" y="2529000"/>
              <a:ext cx="102960" cy="144360"/>
            </a:xfrm>
            <a:prstGeom prst="flowChartConnector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09480" y="2433600"/>
              <a:ext cx="309600" cy="95400"/>
            </a:xfrm>
            <a:custGeom>
              <a:avLst/>
              <a:gdLst/>
              <a:ahLst/>
              <a:rect l="l" t="t" r="r" b="b"/>
              <a:pathLst>
                <a:path w="288" h="96">
                  <a:moveTo>
                    <a:pt x="288" y="96"/>
                  </a:moveTo>
                  <a:cubicBezTo>
                    <a:pt x="240" y="48"/>
                    <a:pt x="192" y="0"/>
                    <a:pt x="144" y="0"/>
                  </a:cubicBezTo>
                  <a:cubicBezTo>
                    <a:pt x="96" y="0"/>
                    <a:pt x="32" y="72"/>
                    <a:pt x="0" y="9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747800" y="2433600"/>
              <a:ext cx="309600" cy="95400"/>
            </a:xfrm>
            <a:custGeom>
              <a:avLst/>
              <a:gdLst/>
              <a:ahLst/>
              <a:rect l="l" t="t" r="r" b="b"/>
              <a:pathLst>
                <a:path w="288" h="96">
                  <a:moveTo>
                    <a:pt x="288" y="96"/>
                  </a:moveTo>
                  <a:cubicBezTo>
                    <a:pt x="240" y="48"/>
                    <a:pt x="192" y="0"/>
                    <a:pt x="144" y="0"/>
                  </a:cubicBezTo>
                  <a:cubicBezTo>
                    <a:pt x="96" y="0"/>
                    <a:pt x="32" y="72"/>
                    <a:pt x="0" y="9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74600" y="2362320"/>
              <a:ext cx="517680" cy="166680"/>
            </a:xfrm>
            <a:custGeom>
              <a:avLst/>
              <a:gdLst/>
              <a:ahLst/>
              <a:rect l="l" t="t" r="r" b="b"/>
              <a:pathLst>
                <a:path w="480" h="168">
                  <a:moveTo>
                    <a:pt x="0" y="168"/>
                  </a:moveTo>
                  <a:cubicBezTo>
                    <a:pt x="44" y="108"/>
                    <a:pt x="88" y="48"/>
                    <a:pt x="144" y="24"/>
                  </a:cubicBezTo>
                  <a:cubicBezTo>
                    <a:pt x="200" y="0"/>
                    <a:pt x="280" y="0"/>
                    <a:pt x="336" y="24"/>
                  </a:cubicBezTo>
                  <a:cubicBezTo>
                    <a:pt x="392" y="48"/>
                    <a:pt x="456" y="144"/>
                    <a:pt x="480" y="16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4" name=""/>
            <p:cNvGrpSpPr/>
            <p:nvPr/>
          </p:nvGrpSpPr>
          <p:grpSpPr>
            <a:xfrm>
              <a:off x="712800" y="3294000"/>
              <a:ext cx="1188720" cy="478080"/>
              <a:chOff x="712800" y="3294000"/>
              <a:chExt cx="1188720" cy="478080"/>
            </a:xfrm>
          </p:grpSpPr>
          <p:sp>
            <p:nvSpPr>
              <p:cNvPr id="65" name=""/>
              <p:cNvSpPr/>
              <p:nvPr/>
            </p:nvSpPr>
            <p:spPr>
              <a:xfrm>
                <a:off x="712800" y="3533040"/>
                <a:ext cx="361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074240" y="3437280"/>
                <a:ext cx="0" cy="19116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1177920" y="3294000"/>
                <a:ext cx="0" cy="478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1281240" y="3437280"/>
                <a:ext cx="0" cy="19116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1384560" y="3294000"/>
                <a:ext cx="0" cy="478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1384560" y="3533040"/>
                <a:ext cx="516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" name=""/>
          <p:cNvSpPr/>
          <p:nvPr/>
        </p:nvSpPr>
        <p:spPr>
          <a:xfrm>
            <a:off x="4115160" y="2590920"/>
            <a:ext cx="114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ater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396252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terrup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304920" y="4035600"/>
            <a:ext cx="3427920" cy="1069920"/>
            <a:chOff x="304920" y="4035600"/>
            <a:chExt cx="3427920" cy="1069920"/>
          </a:xfrm>
        </p:grpSpPr>
        <p:grpSp>
          <p:nvGrpSpPr>
            <p:cNvPr id="74" name=""/>
            <p:cNvGrpSpPr/>
            <p:nvPr/>
          </p:nvGrpSpPr>
          <p:grpSpPr>
            <a:xfrm>
              <a:off x="304920" y="4035600"/>
              <a:ext cx="3427920" cy="460080"/>
              <a:chOff x="304920" y="4035600"/>
              <a:chExt cx="3427920" cy="460080"/>
            </a:xfrm>
          </p:grpSpPr>
          <p:grpSp>
            <p:nvGrpSpPr>
              <p:cNvPr id="75" name=""/>
              <p:cNvGrpSpPr/>
              <p:nvPr/>
            </p:nvGrpSpPr>
            <p:grpSpPr>
              <a:xfrm>
                <a:off x="457200" y="4035600"/>
                <a:ext cx="2286000" cy="386640"/>
                <a:chOff x="457200" y="4035600"/>
                <a:chExt cx="2286000" cy="386640"/>
              </a:xfrm>
            </p:grpSpPr>
            <p:sp>
              <p:nvSpPr>
                <p:cNvPr id="76" name=""/>
                <p:cNvSpPr/>
                <p:nvPr/>
              </p:nvSpPr>
              <p:spPr>
                <a:xfrm>
                  <a:off x="457200" y="4190760"/>
                  <a:ext cx="2286000" cy="76320"/>
                </a:xfrm>
                <a:prstGeom prst="rect">
                  <a:avLst/>
                </a:prstGeom>
                <a:solidFill>
                  <a:srgbClr val="cc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 rot="16218000">
                  <a:off x="456840" y="4114440"/>
                  <a:ext cx="380880" cy="228600"/>
                </a:xfrm>
                <a:custGeom>
                  <a:avLst/>
                  <a:gdLst>
                    <a:gd name="textAreaLeft" fmla="*/ 0 w 380880"/>
                    <a:gd name="textAreaRight" fmla="*/ 381240 w 38088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5363" y="0"/>
                      </a:lnTo>
                      <a:lnTo>
                        <a:pt x="21600" y="10800"/>
                      </a:lnTo>
                      <a:lnTo>
                        <a:pt x="15363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 rot="10747200">
                  <a:off x="2057040" y="4038480"/>
                  <a:ext cx="380880" cy="380880"/>
                </a:xfrm>
                <a:custGeom>
                  <a:avLst/>
                  <a:gdLst>
                    <a:gd name="textAreaLeft" fmla="*/ 102240 w 380880"/>
                    <a:gd name="textAreaRight" fmla="*/ 278640 w 380880"/>
                    <a:gd name="textAreaTop" fmla="*/ 102240 h 380880"/>
                    <a:gd name="textAreaBottom" fmla="*/ 278640 h 3808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4299" y="21600"/>
                      </a:lnTo>
                      <a:lnTo>
                        <a:pt x="7301" y="2160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9" name=""/>
              <p:cNvSpPr/>
              <p:nvPr/>
            </p:nvSpPr>
            <p:spPr>
              <a:xfrm>
                <a:off x="304920" y="4419360"/>
                <a:ext cx="3352680" cy="763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5424000">
                <a:off x="3120840" y="3730320"/>
                <a:ext cx="228600" cy="993600"/>
              </a:xfrm>
              <a:custGeom>
                <a:avLst/>
                <a:gdLst>
                  <a:gd name="textAreaLeft" fmla="*/ 52200 w 228600"/>
                  <a:gd name="textAreaRight" fmla="*/ 176400 w 228600"/>
                  <a:gd name="textAreaTop" fmla="*/ 227520 h 993600"/>
                  <a:gd name="textAreaBottom" fmla="*/ 766080 h 993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844" y="21600"/>
                    </a:lnTo>
                    <a:lnTo>
                      <a:pt x="5756" y="21600"/>
                    </a:lnTo>
                    <a:close/>
                  </a:path>
                </a:pathLst>
              </a:custGeom>
              <a:solidFill>
                <a:srgbClr val="6600cc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990720" y="4800240"/>
              <a:ext cx="2057400" cy="305280"/>
              <a:chOff x="990720" y="4800240"/>
              <a:chExt cx="2057400" cy="305280"/>
            </a:xfrm>
          </p:grpSpPr>
          <p:sp>
            <p:nvSpPr>
              <p:cNvPr id="82" name=""/>
              <p:cNvSpPr/>
              <p:nvPr/>
            </p:nvSpPr>
            <p:spPr>
              <a:xfrm>
                <a:off x="990720" y="5105520"/>
                <a:ext cx="6094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1600200" y="4800240"/>
                <a:ext cx="4572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2209680" y="5105520"/>
                <a:ext cx="8384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6705720" y="380880"/>
            <a:ext cx="990360" cy="711360"/>
          </a:xfrm>
          <a:prstGeom prst="rect">
            <a:avLst/>
          </a:prstGeom>
          <a:ln w="0">
            <a:noFill/>
          </a:ln>
        </p:spPr>
      </p:pic>
      <p:sp>
        <p:nvSpPr>
          <p:cNvPr id="86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371600" cy="380880"/>
          </a:xfrm>
          <a:custGeom>
            <a:avLst/>
            <a:gdLst>
              <a:gd name="textAreaLeft" fmla="*/ 24480 w 1371600"/>
              <a:gd name="textAreaRight" fmla="*/ 1347120 w 13716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7731" h="21600">
                <a:moveTo>
                  <a:pt x="0" y="0"/>
                </a:moveTo>
                <a:lnTo>
                  <a:pt x="77731" y="0"/>
                </a:lnTo>
                <a:lnTo>
                  <a:pt x="77731" y="21600"/>
                </a:lnTo>
                <a:lnTo>
                  <a:pt x="0" y="21600"/>
                </a:lnTo>
                <a:close/>
              </a:path>
              <a:path fill="lightenLess" w="77731" h="21600">
                <a:moveTo>
                  <a:pt x="0" y="0"/>
                </a:moveTo>
                <a:lnTo>
                  <a:pt x="77731" y="0"/>
                </a:lnTo>
                <a:lnTo>
                  <a:pt x="76332" y="1400"/>
                </a:lnTo>
                <a:lnTo>
                  <a:pt x="1400" y="1400"/>
                </a:lnTo>
                <a:close/>
              </a:path>
              <a:path fill="darken" w="77731" h="21600">
                <a:moveTo>
                  <a:pt x="77731" y="0"/>
                </a:moveTo>
                <a:lnTo>
                  <a:pt x="77731" y="21600"/>
                </a:lnTo>
                <a:lnTo>
                  <a:pt x="76332" y="20200"/>
                </a:lnTo>
                <a:lnTo>
                  <a:pt x="76332" y="1400"/>
                </a:lnTo>
                <a:close/>
              </a:path>
              <a:path fill="darkenLess" w="77731" h="21600">
                <a:moveTo>
                  <a:pt x="777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6332" y="20200"/>
                </a:lnTo>
                <a:close/>
              </a:path>
              <a:path fill="lighten" w="777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  <a:effectLst>
            <a:outerShdw dist="17819" dir="2700000" blurRad="0" rotWithShape="0">
              <a:srgbClr val="6a6a6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Finaliz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52280" cy="15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23" presetSubtype="16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" dur="75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75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600"/>
                            </p:stCondLst>
                            <p:childTnLst>
                              <p:par>
                                <p:cTn id="1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3100"/>
                            </p:stCondLst>
                            <p:childTnLst>
                              <p:par>
                                <p:cTn id="16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4600"/>
                            </p:stCondLst>
                            <p:childTnLst>
                              <p:par>
                                <p:cTn id="2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6100"/>
                            </p:stCondLst>
                            <p:childTnLst>
                              <p:par>
                                <p:cTn id="25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7600"/>
                            </p:stCondLst>
                            <p:childTnLst>
                              <p:par>
                                <p:cTn id="3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9100"/>
                            </p:stCondLst>
                            <p:childTnLst>
                              <p:par>
                                <p:cTn id="34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11T00:15:58Z</dcterms:created>
  <dc:creator>Michael Ortega Zeledón</dc:creator>
  <dc:description/>
  <dc:language>en-US</dc:language>
  <cp:lastModifiedBy>octavio</cp:lastModifiedBy>
  <dcterms:modified xsi:type="dcterms:W3CDTF">2003-07-25T23:27:51Z</dcterms:modified>
  <cp:revision>9</cp:revision>
  <dc:subject/>
  <dc:title>Presentación de PowerPoint</dc:title>
</cp:coreProperties>
</file>