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74C15-CF24-4F8A-94C8-8D4E1CA12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3441D-1404-40A1-A2ED-24F9D56E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0DD25-B32A-4418-8F97-69D7CE3AF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242BF-EEF2-4867-8DA1-1E87D05EB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68CDA-0B37-4E69-8D8C-F2BF1D9E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08C2-3425-4CC1-B97F-3B8F2144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0E088-D2DF-4F66-BE92-0F3F10DC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CFCD5-52E0-4C1A-BF84-341E2E900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A2D4-18BA-4FBE-B0C8-FB8044446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C10F5-37E3-4985-8D5C-0D6AED07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CFC8-6C62-4115-BF65-9329CEB7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20D3-9737-4660-B3B5-5E740E5AD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371C-4E02-4395-B10E-64C57EDFD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09480" y="3808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LAMBRADO DOMÉSTIC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533520" y="1523880"/>
            <a:ext cx="8229600" cy="3755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circuitos domesticos representan la aplicacion mas practica de las ideas que se han presentado en este trabajo referente al analisis de circuito. En nuestro mundo de aparatos electricos, resulta util comprender las necesidades de potencia y las limitaciones de los sistemas electrico convencionales, asi como las medidas de seguridad que deben ponerse en practica para evitar accidente.</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n una instalacion convencional, la compañia generadora de energia electrica la cual distribuye energia a los hogares mediante un par de lineas de potencia. Cada usuario se conecta en paralelo a esta lineas de potencia como se muestra en la  </a:t>
            </a:r>
            <a:r>
              <a:rPr b="1" lang="en-US" sz="1600" spc="-1" strike="noStrike">
                <a:solidFill>
                  <a:srgbClr val="000000"/>
                </a:solidFill>
                <a:latin typeface="Times New Roman"/>
              </a:rPr>
              <a:t>figura (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diferencia de potencial entre estos es de 120v. El voltaje alterno en el tiempo pero para la presente presentacion se supondra un voltaje de corriente directa estacionaria(CD). Uno de los alambres se conecta a tierra y el potencial del almbre vivo(alambre forrado) oscila relativo a tierra un medidor y un interruptor automatico se conecta en serie con el alambre que entra a al casa como se indica en la </a:t>
            </a:r>
            <a:r>
              <a:rPr b="1" lang="en-US" sz="1600" spc="-1" strike="noStrike">
                <a:solidFill>
                  <a:srgbClr val="000000"/>
                </a:solidFill>
                <a:latin typeface="Times New Roman"/>
              </a:rPr>
              <a:t>figura (a)</a:t>
            </a:r>
            <a:r>
              <a:rPr b="0" lang="en-US" sz="1600" spc="-1" strike="noStrike">
                <a:solidFill>
                  <a:srgbClr val="000000"/>
                </a:solidFill>
                <a:latin typeface="Times New Roman"/>
              </a:rPr>
              <a:t> . El interruptor automatico de circuito es un dispositivoque protégé contra una corriente demasiada alta la cual podria ocacionar sobrecalentamiento o incendio.</a:t>
            </a:r>
            <a:endParaRPr b="0" lang="en-US" sz="1600" spc="-1" strike="noStrike">
              <a:solidFill>
                <a:srgbClr val="000000"/>
              </a:solidFill>
              <a:latin typeface="Times New Roman"/>
            </a:endParaRPr>
          </a:p>
        </p:txBody>
      </p:sp>
      <p:sp>
        <p:nvSpPr>
          <p:cNvPr id="43"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pic>
        <p:nvPicPr>
          <p:cNvPr id="44" name="" descr=""/>
          <p:cNvPicPr/>
          <p:nvPr/>
        </p:nvPicPr>
        <p:blipFill>
          <a:blip r:embed="rId2"/>
          <a:stretch/>
        </p:blipFill>
        <p:spPr>
          <a:xfrm>
            <a:off x="0" y="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447920" y="5029200"/>
            <a:ext cx="72388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a:t>
            </a:r>
            <a:r>
              <a:rPr b="1" lang="en-US" sz="2400" spc="-1" strike="noStrike">
                <a:solidFill>
                  <a:srgbClr val="000000"/>
                </a:solidFill>
                <a:latin typeface="Times New Roman"/>
              </a:rPr>
              <a:t>a</a:t>
            </a:r>
            <a:r>
              <a:rPr b="0" lang="en-US" sz="2400" spc="-1" strike="noStrike">
                <a:solidFill>
                  <a:srgbClr val="000000"/>
                </a:solidFill>
                <a:latin typeface="Times New Roman"/>
              </a:rPr>
              <a:t>) Diagrama del alambrado de un circuito  domestico, Las resistencias representan aparatos domesticos, los cuales operan con un voltaje aplicado de 120 V</a:t>
            </a:r>
            <a:endParaRPr b="0" lang="en-US" sz="2400" spc="-1" strike="noStrike">
              <a:solidFill>
                <a:srgbClr val="000000"/>
              </a:solidFill>
              <a:latin typeface="Times New Roman"/>
            </a:endParaRPr>
          </a:p>
        </p:txBody>
      </p:sp>
      <p:grpSp>
        <p:nvGrpSpPr>
          <p:cNvPr id="46" name=""/>
          <p:cNvGrpSpPr/>
          <p:nvPr/>
        </p:nvGrpSpPr>
        <p:grpSpPr>
          <a:xfrm>
            <a:off x="609480" y="304920"/>
            <a:ext cx="7239240" cy="4800600"/>
            <a:chOff x="609480" y="304920"/>
            <a:chExt cx="7239240" cy="4800600"/>
          </a:xfrm>
        </p:grpSpPr>
        <p:sp>
          <p:nvSpPr>
            <p:cNvPr id="47" name=""/>
            <p:cNvSpPr/>
            <p:nvPr/>
          </p:nvSpPr>
          <p:spPr>
            <a:xfrm>
              <a:off x="1523880" y="533520"/>
              <a:ext cx="2590920" cy="0"/>
            </a:xfrm>
            <a:prstGeom prst="line">
              <a:avLst/>
            </a:prstGeom>
            <a:ln w="9360">
              <a:solidFill>
                <a:srgbClr val="3333cc"/>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276720" y="533520"/>
              <a:ext cx="0" cy="304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048120" y="838080"/>
              <a:ext cx="533160" cy="5335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23880" y="1143000"/>
              <a:ext cx="1524240" cy="0"/>
            </a:xfrm>
            <a:prstGeom prst="line">
              <a:avLst/>
            </a:prstGeom>
            <a:ln w="9360">
              <a:solidFill>
                <a:srgbClr val="3333cc"/>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276720" y="137160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048120" y="1828800"/>
              <a:ext cx="533160" cy="4572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276720" y="2286000"/>
              <a:ext cx="0" cy="380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971800" y="2666880"/>
              <a:ext cx="533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505320" y="2666880"/>
              <a:ext cx="380880" cy="3049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71800" y="2666880"/>
              <a:ext cx="380880" cy="3049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81080" y="1143000"/>
              <a:ext cx="0" cy="35053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981080" y="4648320"/>
              <a:ext cx="32004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57600" y="3429000"/>
              <a:ext cx="0" cy="380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57600" y="3809880"/>
              <a:ext cx="2286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3505320" y="3962520"/>
              <a:ext cx="38088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 name=""/>
            <p:cNvSpPr/>
            <p:nvPr/>
          </p:nvSpPr>
          <p:spPr>
            <a:xfrm>
              <a:off x="3505320" y="4038480"/>
              <a:ext cx="4572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
            <p:cNvSpPr/>
            <p:nvPr/>
          </p:nvSpPr>
          <p:spPr>
            <a:xfrm flipH="1">
              <a:off x="3657240" y="4114800"/>
              <a:ext cx="3049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 name=""/>
            <p:cNvSpPr/>
            <p:nvPr/>
          </p:nvSpPr>
          <p:spPr>
            <a:xfrm>
              <a:off x="3657600" y="419112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3429000"/>
              <a:ext cx="0" cy="3808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00400" y="3809880"/>
              <a:ext cx="22860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048120" y="3962520"/>
              <a:ext cx="380880" cy="7596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 name=""/>
            <p:cNvSpPr/>
            <p:nvPr/>
          </p:nvSpPr>
          <p:spPr>
            <a:xfrm>
              <a:off x="3048120" y="4038480"/>
              <a:ext cx="4572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 name=""/>
            <p:cNvSpPr/>
            <p:nvPr/>
          </p:nvSpPr>
          <p:spPr>
            <a:xfrm flipH="1">
              <a:off x="3200040" y="4114800"/>
              <a:ext cx="30492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 name=""/>
            <p:cNvSpPr/>
            <p:nvPr/>
          </p:nvSpPr>
          <p:spPr>
            <a:xfrm>
              <a:off x="3200400" y="419112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429000" y="464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200400" y="49528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276720" y="50292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429000" y="5105520"/>
              <a:ext cx="76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05320" y="1600200"/>
              <a:ext cx="3429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ruptor</a:t>
              </a:r>
              <a:r>
                <a:rPr b="0" lang="en-US" sz="2000" spc="-1" strike="noStrike">
                  <a:solidFill>
                    <a:srgbClr val="000000"/>
                  </a:solidFill>
                  <a:latin typeface="Times New Roman"/>
                </a:rPr>
                <a:t> automatico de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rcuito</a:t>
              </a:r>
              <a:endParaRPr b="0" lang="en-US" sz="2000" spc="-1" strike="noStrike">
                <a:solidFill>
                  <a:srgbClr val="000000"/>
                </a:solidFill>
                <a:latin typeface="Times New Roman"/>
              </a:endParaRPr>
            </a:p>
          </p:txBody>
        </p:sp>
        <p:sp>
          <p:nvSpPr>
            <p:cNvPr id="76" name=""/>
            <p:cNvSpPr/>
            <p:nvPr/>
          </p:nvSpPr>
          <p:spPr>
            <a:xfrm>
              <a:off x="3657600" y="91440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dor</a:t>
              </a:r>
              <a:endParaRPr b="0" lang="en-US" sz="2000" spc="-1" strike="noStrike">
                <a:solidFill>
                  <a:srgbClr val="000000"/>
                </a:solidFill>
                <a:latin typeface="Times New Roman"/>
              </a:endParaRPr>
            </a:p>
          </p:txBody>
        </p:sp>
        <p:sp>
          <p:nvSpPr>
            <p:cNvPr id="77" name=""/>
            <p:cNvSpPr/>
            <p:nvPr/>
          </p:nvSpPr>
          <p:spPr>
            <a:xfrm>
              <a:off x="1523880" y="5335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vo</a:t>
              </a:r>
              <a:endParaRPr b="0" lang="en-US" sz="2000" spc="-1" strike="noStrike">
                <a:solidFill>
                  <a:srgbClr val="000000"/>
                </a:solidFill>
                <a:latin typeface="Times New Roman"/>
              </a:endParaRPr>
            </a:p>
          </p:txBody>
        </p:sp>
        <p:sp>
          <p:nvSpPr>
            <p:cNvPr id="78" name=""/>
            <p:cNvSpPr/>
            <p:nvPr/>
          </p:nvSpPr>
          <p:spPr>
            <a:xfrm>
              <a:off x="609480" y="1143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tral</a:t>
              </a:r>
              <a:endParaRPr b="0" lang="en-US" sz="2000" spc="-1" strike="noStrike">
                <a:solidFill>
                  <a:srgbClr val="000000"/>
                </a:solidFill>
                <a:latin typeface="Times New Roman"/>
              </a:endParaRPr>
            </a:p>
          </p:txBody>
        </p:sp>
        <p:sp>
          <p:nvSpPr>
            <p:cNvPr id="79" name=""/>
            <p:cNvSpPr/>
            <p:nvPr/>
          </p:nvSpPr>
          <p:spPr>
            <a:xfrm>
              <a:off x="3962520" y="380988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80" name=""/>
            <p:cNvSpPr/>
            <p:nvPr/>
          </p:nvSpPr>
          <p:spPr>
            <a:xfrm>
              <a:off x="2590920" y="3809880"/>
              <a:ext cx="129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81" name=""/>
            <p:cNvSpPr/>
            <p:nvPr/>
          </p:nvSpPr>
          <p:spPr>
            <a:xfrm>
              <a:off x="3962520" y="304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V</a:t>
              </a:r>
              <a:endParaRPr b="0" lang="en-US" sz="2400" spc="-1" strike="noStrike">
                <a:solidFill>
                  <a:srgbClr val="000000"/>
                </a:solidFill>
                <a:latin typeface="Times New Roman"/>
              </a:endParaRPr>
            </a:p>
          </p:txBody>
        </p:sp>
        <p:sp>
          <p:nvSpPr>
            <p:cNvPr id="82" name=""/>
            <p:cNvSpPr/>
            <p:nvPr/>
          </p:nvSpPr>
          <p:spPr>
            <a:xfrm>
              <a:off x="5105520" y="4419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V</a:t>
              </a:r>
              <a:endParaRPr b="0" lang="en-US" sz="2400" spc="-1" strike="noStrike">
                <a:solidFill>
                  <a:srgbClr val="000000"/>
                </a:solidFill>
                <a:latin typeface="Times New Roman"/>
              </a:endParaRPr>
            </a:p>
          </p:txBody>
        </p:sp>
      </p:grpSp>
      <p:sp>
        <p:nvSpPr>
          <p:cNvPr id="83"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84"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457200" y="457200"/>
            <a:ext cx="7848720" cy="63385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ando la corriente excede cierto valor de seguridad normalmente de 15 A o 30 A, el interruptor automatico desconecta la fuente de voltaje respecto de la carga. El alambre del inerruptor automatico se selecciona con todo cuidado para satisfacer la demanda de corriente del cicuito. Si un circuito va a conducir corrientes tan altas como 30 A, debera seleccionarse un alambre grueso y un interruptor apropiado para  que pueda manejarse esta corriente. Otros circuitos separados, que en general se utilizan para dar energia a lamparas y aparatos pequeños, a menudo solo requieren 15 A. por lo tanto, cada circuito debe tener su propio interruptor automatico para acomodarse a diversas condiciones de carga.</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mo ejemplo considerese un circuito en se encuentra un tostador, un horno de microondas y un calefactor (correspondiendo a R</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R</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 Correspondiente a la figura </a:t>
            </a:r>
            <a:r>
              <a:rPr b="1" lang="en-US" sz="1600" spc="-1" strike="noStrike">
                <a:solidFill>
                  <a:srgbClr val="000000"/>
                </a:solidFill>
                <a:latin typeface="Times New Roman"/>
              </a:rPr>
              <a:t>(a)</a:t>
            </a:r>
            <a:r>
              <a:rPr b="0" lang="en-US" sz="1600" spc="-1" strike="noStrike">
                <a:solidFill>
                  <a:srgbClr val="000000"/>
                </a:solidFill>
                <a:latin typeface="Times New Roman"/>
              </a:rPr>
              <a:t>). Se puede calcular la corriente en cada aplicacion utilizando la expresion P = IV. El tostador como de 1000W consumiria una corriente de 1000/120 = 8.33 A. El horno de microondas clasificado de 800 W consumiria una corriente de 6.67 A y el calefactor electrico de 1300W, consumiria una corriente de 10.8 A. Si los tres aparatos operan simultaneamente consumiria una corriente total de 25.8 A. Por lo tanto el circuito deberia alambrarse de modo que pueda soportar al menos esta corriente. Con el fin de absorber una pequeña carga adicional, por ejemplo, una lampara de 100 W, debe instalarse un circuito de 30 A. De otro modo, uno podria operar el horno de microondas y el tostador en un circuito de 20 A y el calentador electrico en otro circuito separado de 20 A. Muchos aparatos de trabajo pesado, como estufas electricas y secadores  de ropa, requieren  240 V para su operacion.  La compañia generadora de energia electrica proporciona este voltaje, sumunistrando ver figura </a:t>
            </a:r>
            <a:r>
              <a:rPr b="1" lang="en-US" sz="1600" spc="-1" strike="noStrike">
                <a:solidFill>
                  <a:srgbClr val="000000"/>
                </a:solidFill>
                <a:latin typeface="Times New Roman"/>
              </a:rPr>
              <a:t>b</a:t>
            </a:r>
            <a:r>
              <a:rPr b="0" lang="en-US" sz="1600" spc="-1" strike="noStrike">
                <a:solidFill>
                  <a:srgbClr val="000000"/>
                </a:solidFill>
                <a:latin typeface="Times New Roman"/>
              </a:rPr>
              <a:t>. como consecuencia, la diferencia  de potencial entrelos alambres  vivos es de 240 V. Un aparato  que funciona con esta linea  de  240 V requiere de  la mitad  de corriente que nesecite uno que funciona con una linea de 120 V. Por lo tanto, en circuitos  que pueden utilizar voltajes altos  se pueden utilizar alambres mas delgados.</a:t>
            </a:r>
            <a:endParaRPr b="0" lang="en-US" sz="1600" spc="-1" strike="noStrike">
              <a:solidFill>
                <a:srgbClr val="000000"/>
              </a:solidFill>
              <a:latin typeface="Times New Roman"/>
            </a:endParaRPr>
          </a:p>
        </p:txBody>
      </p:sp>
      <p:sp>
        <p:nvSpPr>
          <p:cNvPr id="86"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87"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 name=""/>
          <p:cNvGrpSpPr/>
          <p:nvPr/>
        </p:nvGrpSpPr>
        <p:grpSpPr>
          <a:xfrm>
            <a:off x="2392200" y="533520"/>
            <a:ext cx="2376720" cy="4800600"/>
            <a:chOff x="2392200" y="533520"/>
            <a:chExt cx="2376720" cy="4800600"/>
          </a:xfrm>
        </p:grpSpPr>
        <p:sp>
          <p:nvSpPr>
            <p:cNvPr id="89" name=""/>
            <p:cNvSpPr/>
            <p:nvPr/>
          </p:nvSpPr>
          <p:spPr>
            <a:xfrm>
              <a:off x="2514600" y="2133720"/>
              <a:ext cx="2057400" cy="205740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2743560"/>
              <a:ext cx="380880" cy="533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H="1">
              <a:off x="2971800" y="2667240"/>
              <a:ext cx="45720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3505320"/>
              <a:ext cx="0" cy="5335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505320" y="373392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733920" y="3733920"/>
              <a:ext cx="0" cy="3049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733920" y="3962520"/>
              <a:ext cx="304560" cy="457200"/>
            </a:xfrm>
            <a:custGeom>
              <a:avLst/>
              <a:gdLst/>
              <a:ahLst/>
              <a:rect l="l" t="t" r="r" b="b"/>
              <a:pathLst>
                <a:path w="1016" h="792">
                  <a:moveTo>
                    <a:pt x="96" y="48"/>
                  </a:moveTo>
                  <a:cubicBezTo>
                    <a:pt x="356" y="24"/>
                    <a:pt x="616" y="0"/>
                    <a:pt x="768" y="48"/>
                  </a:cubicBezTo>
                  <a:cubicBezTo>
                    <a:pt x="920" y="96"/>
                    <a:pt x="1000" y="224"/>
                    <a:pt x="1008" y="336"/>
                  </a:cubicBezTo>
                  <a:cubicBezTo>
                    <a:pt x="1016" y="448"/>
                    <a:pt x="984" y="648"/>
                    <a:pt x="816" y="720"/>
                  </a:cubicBezTo>
                  <a:cubicBezTo>
                    <a:pt x="648" y="792"/>
                    <a:pt x="136" y="760"/>
                    <a:pt x="0" y="768"/>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3769800">
              <a:off x="4343040" y="2590920"/>
              <a:ext cx="304920" cy="457200"/>
            </a:xfrm>
            <a:custGeom>
              <a:avLst/>
              <a:gdLst/>
              <a:ahLst/>
              <a:rect l="l" t="t" r="r" b="b"/>
              <a:pathLst>
                <a:path w="1016" h="792">
                  <a:moveTo>
                    <a:pt x="96" y="48"/>
                  </a:moveTo>
                  <a:cubicBezTo>
                    <a:pt x="356" y="24"/>
                    <a:pt x="616" y="0"/>
                    <a:pt x="768" y="48"/>
                  </a:cubicBezTo>
                  <a:cubicBezTo>
                    <a:pt x="920" y="96"/>
                    <a:pt x="1000" y="224"/>
                    <a:pt x="1008" y="336"/>
                  </a:cubicBezTo>
                  <a:cubicBezTo>
                    <a:pt x="1016" y="448"/>
                    <a:pt x="984" y="648"/>
                    <a:pt x="816" y="720"/>
                  </a:cubicBezTo>
                  <a:cubicBezTo>
                    <a:pt x="648" y="792"/>
                    <a:pt x="136" y="760"/>
                    <a:pt x="0" y="768"/>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7495800">
              <a:off x="2514240" y="2514600"/>
              <a:ext cx="304920" cy="457200"/>
            </a:xfrm>
            <a:custGeom>
              <a:avLst/>
              <a:gdLst/>
              <a:ahLst/>
              <a:rect l="l" t="t" r="r" b="b"/>
              <a:pathLst>
                <a:path w="1016" h="792">
                  <a:moveTo>
                    <a:pt x="96" y="48"/>
                  </a:moveTo>
                  <a:cubicBezTo>
                    <a:pt x="356" y="24"/>
                    <a:pt x="616" y="0"/>
                    <a:pt x="768" y="48"/>
                  </a:cubicBezTo>
                  <a:cubicBezTo>
                    <a:pt x="920" y="96"/>
                    <a:pt x="1000" y="224"/>
                    <a:pt x="1008" y="336"/>
                  </a:cubicBezTo>
                  <a:cubicBezTo>
                    <a:pt x="1016" y="448"/>
                    <a:pt x="984" y="648"/>
                    <a:pt x="816" y="720"/>
                  </a:cubicBezTo>
                  <a:cubicBezTo>
                    <a:pt x="648" y="792"/>
                    <a:pt x="136" y="760"/>
                    <a:pt x="0" y="768"/>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733920" y="4419720"/>
              <a:ext cx="0" cy="609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52680" y="5029560"/>
              <a:ext cx="83844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505320" y="5181840"/>
              <a:ext cx="5331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657600" y="5334120"/>
              <a:ext cx="228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4648320" y="609480"/>
              <a:ext cx="0" cy="2057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590920" y="533520"/>
              <a:ext cx="0" cy="1981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95480" y="2743560"/>
              <a:ext cx="304920" cy="228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4114800" y="2819520"/>
              <a:ext cx="152280" cy="152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4800600" y="457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 V</a:t>
            </a:r>
            <a:endParaRPr b="0" lang="en-US" sz="2400" spc="-1" strike="noStrike">
              <a:solidFill>
                <a:srgbClr val="000000"/>
              </a:solidFill>
              <a:latin typeface="Times New Roman"/>
            </a:endParaRPr>
          </a:p>
        </p:txBody>
      </p:sp>
      <p:sp>
        <p:nvSpPr>
          <p:cNvPr id="107" name=""/>
          <p:cNvSpPr/>
          <p:nvPr/>
        </p:nvSpPr>
        <p:spPr>
          <a:xfrm>
            <a:off x="1371600" y="380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20 V</a:t>
            </a:r>
            <a:endParaRPr b="0" lang="en-US" sz="2400" spc="-1" strike="noStrike">
              <a:solidFill>
                <a:srgbClr val="000000"/>
              </a:solidFill>
              <a:latin typeface="Times New Roman"/>
            </a:endParaRPr>
          </a:p>
        </p:txBody>
      </p:sp>
      <p:sp>
        <p:nvSpPr>
          <p:cNvPr id="108" name=""/>
          <p:cNvSpPr/>
          <p:nvPr/>
        </p:nvSpPr>
        <p:spPr>
          <a:xfrm>
            <a:off x="2514600" y="55627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a:t>
            </a:r>
            <a:r>
              <a:rPr b="1" lang="en-US" sz="2400" spc="-1" strike="noStrike">
                <a:solidFill>
                  <a:srgbClr val="000000"/>
                </a:solidFill>
                <a:latin typeface="Times New Roman"/>
              </a:rPr>
              <a:t>B</a:t>
            </a:r>
            <a:r>
              <a:rPr b="0" lang="en-US" sz="2400" spc="-1" strike="noStrike">
                <a:solidFill>
                  <a:srgbClr val="000000"/>
                </a:solidFill>
                <a:latin typeface="Times New Roman"/>
              </a:rPr>
              <a:t> Conexiones de potencia para aparatos de 240 V</a:t>
            </a:r>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10" name="">
            <a:hlinkClick r:id="" action="ppaction://hlinkshowjump?jump=endshow"/>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aliz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34:02Z</dcterms:created>
  <dc:creator>Michael Ortega Zeledón</dc:creator>
  <dc:description/>
  <dc:language>en-US</dc:language>
  <cp:lastModifiedBy>Michael Ortega Zeledón</cp:lastModifiedBy>
  <dcterms:modified xsi:type="dcterms:W3CDTF">2001-07-24T23:19:41Z</dcterms:modified>
  <cp:revision>3</cp:revision>
  <dc:subject/>
  <dc:title>Presentación de PowerPoint</dc:title>
</cp:coreProperties>
</file>