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2E72-5BF1-4D5E-9DC0-5B8200E1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E56A-ADD9-42B4-B862-9A00CB3A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124A-FDA2-4EE7-BB6C-9FEF23AA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3FCF-F70A-4D22-B6DC-79F9C919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CBE7-F16A-41C0-8099-F31D38FD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99cc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4D35-E69F-421C-B0E5-63CC8528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A171-7836-49B3-9591-61910EF3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FE05-49AF-4AA7-BE21-D9C04AE0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2C96-58DC-4E2C-86F5-129BBE88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99cc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91FE-E67E-4E01-A8D3-6D67C86C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9E64-B820-4458-9FC9-E096B045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99cc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394A-A64D-4ADA-9767-27290DDE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F2A-C211-466B-B031-D9B10BD9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612C-8EBA-46A9-A847-B674D5D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8D16-6030-43AA-BB84-785E64B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9508-3F43-4DC4-B7AE-A4AA7CB1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B73F-5B7B-4B39-99C1-5C6C76AE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32C6-722F-4BF6-AB01-570594F0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A4C7-2298-4A94-8233-F188D772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6723-C432-4C9A-8198-901E18FA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99cc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7F1E-56BD-4F92-9F3C-52AA34E9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782E-AB12-4DC4-8383-AF1E622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FF02-1C82-44A7-852E-67EE6A6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94A0-6C2B-4AD3-AB12-22363873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0760"/>
            <a:ext cx="96012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986600" y="4114800"/>
            <a:ext cx="191952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973080" indent="-393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434960" indent="-347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88748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293920" indent="-291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293920" indent="-29196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293920" indent="-29196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476760"/>
            <a:ext cx="313668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476760"/>
            <a:ext cx="231156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0006B4-B744-4711-B7B7-5D5F2B78E940}" type="slidenum">
              <a:rPr b="1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1736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23364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7960" y="-4680"/>
            <a:ext cx="467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  <a:ea typeface="PMingLiU"/>
              </a:rPr>
              <a:t>CS2332 Object-Oriented Progr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10"/>
          <a:stretch/>
        </p:blipFill>
        <p:spPr>
          <a:xfrm>
            <a:off x="9556920" y="41400"/>
            <a:ext cx="31104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8796600" y="13032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Trebuchet MS"/>
                <a:ea typeface="PMingLiU"/>
              </a:rPr>
              <a:t>ym2006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495360" y="6476760"/>
            <a:ext cx="231120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multi-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360" y="0"/>
            <a:ext cx="457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Department of Computer Science</a:t>
            </a:r>
            <a:r>
              <a:rPr b="1" lang="en-US" sz="1800" spc="-1" strike="noStrike">
                <a:solidFill>
                  <a:srgbClr val="0000ff"/>
                </a:solidFill>
                <a:latin typeface="Trebuchet MS"/>
                <a:ea typeface="PMingLiU"/>
              </a:rPr>
              <a:t>@City University of H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20760"/>
            <a:ext cx="96012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986600" y="4114800"/>
            <a:ext cx="191952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95360" y="6476760"/>
            <a:ext cx="231120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multi-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476760"/>
            <a:ext cx="313668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476760"/>
            <a:ext cx="231156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40171B-91FE-465B-8A7B-DDE8FDEE71E3}" type="slidenum">
              <a:rPr b="1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11736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7360" y="0"/>
            <a:ext cx="233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556920" y="41400"/>
            <a:ext cx="311040" cy="279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96600" y="13032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Trebuchet MS"/>
                <a:ea typeface="PMingLiU"/>
              </a:rPr>
              <a:t>ym2006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960" y="-4680"/>
            <a:ext cx="467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  <a:ea typeface="PMingLiU"/>
              </a:rPr>
              <a:t>CS2332 Object-Oriented Progr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360" y="0"/>
            <a:ext cx="457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Department of Computer Science</a:t>
            </a:r>
            <a:r>
              <a:rPr b="1" lang="en-US" sz="1800" spc="-1" strike="noStrike">
                <a:solidFill>
                  <a:srgbClr val="009999"/>
                </a:solidFill>
                <a:latin typeface="Trebuchet MS"/>
                <a:ea typeface="PMingLiU"/>
              </a:rPr>
              <a:t>@City University of H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868320" y="1395360"/>
            <a:ext cx="4723920" cy="3176280"/>
            <a:chOff x="868320" y="1395360"/>
            <a:chExt cx="4723920" cy="3176280"/>
          </a:xfrm>
        </p:grpSpPr>
        <p:grpSp>
          <p:nvGrpSpPr>
            <p:cNvPr id="98" name=""/>
            <p:cNvGrpSpPr/>
            <p:nvPr/>
          </p:nvGrpSpPr>
          <p:grpSpPr>
            <a:xfrm>
              <a:off x="1449720" y="1395360"/>
              <a:ext cx="363240" cy="360720"/>
              <a:chOff x="1449720" y="1395360"/>
              <a:chExt cx="363240" cy="360720"/>
            </a:xfrm>
          </p:grpSpPr>
          <p:sp>
            <p:nvSpPr>
              <p:cNvPr id="99" name=""/>
              <p:cNvSpPr/>
              <p:nvPr/>
            </p:nvSpPr>
            <p:spPr>
              <a:xfrm>
                <a:off x="1449720" y="13953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89680" y="14403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176200" y="1395360"/>
              <a:ext cx="363600" cy="360720"/>
              <a:chOff x="2176200" y="1395360"/>
              <a:chExt cx="363600" cy="360720"/>
            </a:xfrm>
          </p:grpSpPr>
          <p:sp>
            <p:nvSpPr>
              <p:cNvPr id="102" name=""/>
              <p:cNvSpPr/>
              <p:nvPr/>
            </p:nvSpPr>
            <p:spPr>
              <a:xfrm>
                <a:off x="2176200" y="13953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16160" y="14403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176200" y="2153160"/>
              <a:ext cx="363600" cy="360720"/>
              <a:chOff x="2176200" y="2153160"/>
              <a:chExt cx="363600" cy="360720"/>
            </a:xfrm>
          </p:grpSpPr>
          <p:sp>
            <p:nvSpPr>
              <p:cNvPr id="105" name=""/>
              <p:cNvSpPr/>
              <p:nvPr/>
            </p:nvSpPr>
            <p:spPr>
              <a:xfrm>
                <a:off x="2176200" y="21531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6160" y="21981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903400" y="1395360"/>
              <a:ext cx="363240" cy="360720"/>
              <a:chOff x="2903400" y="1395360"/>
              <a:chExt cx="363240" cy="360720"/>
            </a:xfrm>
          </p:grpSpPr>
          <p:sp>
            <p:nvSpPr>
              <p:cNvPr id="108" name=""/>
              <p:cNvSpPr/>
              <p:nvPr/>
            </p:nvSpPr>
            <p:spPr>
              <a:xfrm>
                <a:off x="2903400" y="13953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43360" y="14403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702600" y="1395360"/>
              <a:ext cx="363600" cy="360720"/>
              <a:chOff x="3702600" y="1395360"/>
              <a:chExt cx="363600" cy="360720"/>
            </a:xfrm>
          </p:grpSpPr>
          <p:sp>
            <p:nvSpPr>
              <p:cNvPr id="111" name=""/>
              <p:cNvSpPr/>
              <p:nvPr/>
            </p:nvSpPr>
            <p:spPr>
              <a:xfrm>
                <a:off x="3702600" y="13953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42560" y="14403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502160" y="1395360"/>
              <a:ext cx="363240" cy="360720"/>
              <a:chOff x="4502160" y="1395360"/>
              <a:chExt cx="363240" cy="360720"/>
            </a:xfrm>
          </p:grpSpPr>
          <p:sp>
            <p:nvSpPr>
              <p:cNvPr id="114" name=""/>
              <p:cNvSpPr/>
              <p:nvPr/>
            </p:nvSpPr>
            <p:spPr>
              <a:xfrm>
                <a:off x="4502160" y="13953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42120" y="14403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903400" y="2153160"/>
              <a:ext cx="363240" cy="360720"/>
              <a:chOff x="2903400" y="2153160"/>
              <a:chExt cx="363240" cy="36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2903400" y="21531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943360" y="21981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502160" y="4210920"/>
              <a:ext cx="363240" cy="360720"/>
              <a:chOff x="4502160" y="4210920"/>
              <a:chExt cx="363240" cy="36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4502160" y="421092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42120" y="425592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702600" y="3561120"/>
              <a:ext cx="363600" cy="360720"/>
              <a:chOff x="3702600" y="3561120"/>
              <a:chExt cx="363600" cy="36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3702600" y="356112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42560" y="360612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176200" y="3561120"/>
              <a:ext cx="363600" cy="360720"/>
              <a:chOff x="2176200" y="3561120"/>
              <a:chExt cx="363600" cy="360720"/>
            </a:xfrm>
          </p:grpSpPr>
          <p:sp>
            <p:nvSpPr>
              <p:cNvPr id="126" name=""/>
              <p:cNvSpPr/>
              <p:nvPr/>
            </p:nvSpPr>
            <p:spPr>
              <a:xfrm>
                <a:off x="2176200" y="356112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16160" y="360612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903400" y="3561120"/>
              <a:ext cx="363240" cy="360720"/>
              <a:chOff x="2903400" y="3561120"/>
              <a:chExt cx="363240" cy="360720"/>
            </a:xfrm>
          </p:grpSpPr>
          <p:sp>
            <p:nvSpPr>
              <p:cNvPr id="129" name=""/>
              <p:cNvSpPr/>
              <p:nvPr/>
            </p:nvSpPr>
            <p:spPr>
              <a:xfrm>
                <a:off x="2903400" y="356112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43360" y="360612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502160" y="3561120"/>
              <a:ext cx="363240" cy="360720"/>
              <a:chOff x="4502160" y="3561120"/>
              <a:chExt cx="363240" cy="360720"/>
            </a:xfrm>
          </p:grpSpPr>
          <p:sp>
            <p:nvSpPr>
              <p:cNvPr id="132" name=""/>
              <p:cNvSpPr/>
              <p:nvPr/>
            </p:nvSpPr>
            <p:spPr>
              <a:xfrm>
                <a:off x="4502160" y="356112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42120" y="360612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228640" y="3561120"/>
              <a:ext cx="363600" cy="360720"/>
              <a:chOff x="5228640" y="3561120"/>
              <a:chExt cx="363600" cy="360720"/>
            </a:xfrm>
          </p:grpSpPr>
          <p:sp>
            <p:nvSpPr>
              <p:cNvPr id="135" name=""/>
              <p:cNvSpPr/>
              <p:nvPr/>
            </p:nvSpPr>
            <p:spPr>
              <a:xfrm>
                <a:off x="5228640" y="356112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68600" y="360612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702600" y="2153160"/>
              <a:ext cx="363600" cy="360720"/>
              <a:chOff x="3702600" y="2153160"/>
              <a:chExt cx="363600" cy="360720"/>
            </a:xfrm>
          </p:grpSpPr>
          <p:sp>
            <p:nvSpPr>
              <p:cNvPr id="138" name=""/>
              <p:cNvSpPr/>
              <p:nvPr/>
            </p:nvSpPr>
            <p:spPr>
              <a:xfrm>
                <a:off x="3702600" y="21531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42560" y="21981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228640" y="2838960"/>
              <a:ext cx="363600" cy="360720"/>
              <a:chOff x="5228640" y="2838960"/>
              <a:chExt cx="363600" cy="360720"/>
            </a:xfrm>
          </p:grpSpPr>
          <p:sp>
            <p:nvSpPr>
              <p:cNvPr id="141" name=""/>
              <p:cNvSpPr/>
              <p:nvPr/>
            </p:nvSpPr>
            <p:spPr>
              <a:xfrm>
                <a:off x="5228640" y="28389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68600" y="28839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702600" y="2838960"/>
              <a:ext cx="363600" cy="360720"/>
              <a:chOff x="3702600" y="2838960"/>
              <a:chExt cx="363600" cy="360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702600" y="28389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42560" y="28839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502160" y="2838960"/>
              <a:ext cx="363240" cy="360720"/>
              <a:chOff x="4502160" y="2838960"/>
              <a:chExt cx="363240" cy="360720"/>
            </a:xfrm>
          </p:grpSpPr>
          <p:sp>
            <p:nvSpPr>
              <p:cNvPr id="147" name=""/>
              <p:cNvSpPr/>
              <p:nvPr/>
            </p:nvSpPr>
            <p:spPr>
              <a:xfrm>
                <a:off x="4502160" y="28389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2120" y="28839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228640" y="4210920"/>
              <a:ext cx="363600" cy="360720"/>
              <a:chOff x="5228640" y="4210920"/>
              <a:chExt cx="363600" cy="360720"/>
            </a:xfrm>
          </p:grpSpPr>
          <p:sp>
            <p:nvSpPr>
              <p:cNvPr id="150" name=""/>
              <p:cNvSpPr/>
              <p:nvPr/>
            </p:nvSpPr>
            <p:spPr>
              <a:xfrm>
                <a:off x="5228640" y="421092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68600" y="425592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2" name=""/>
            <p:cNvCxnSpPr>
              <a:stCxn id="100" idx="6"/>
              <a:endCxn id="102" idx="2"/>
            </p:cNvCxnSpPr>
            <p:nvPr/>
          </p:nvCxnSpPr>
          <p:spPr>
            <a:xfrm>
              <a:off x="1772280" y="1575720"/>
              <a:ext cx="40428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03" idx="6"/>
              <a:endCxn id="108" idx="2"/>
            </p:cNvCxnSpPr>
            <p:nvPr/>
          </p:nvCxnSpPr>
          <p:spPr>
            <a:xfrm>
              <a:off x="2499120" y="1575720"/>
              <a:ext cx="40464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09" idx="6"/>
              <a:endCxn id="111" idx="2"/>
            </p:cNvCxnSpPr>
            <p:nvPr/>
          </p:nvCxnSpPr>
          <p:spPr>
            <a:xfrm>
              <a:off x="3225960" y="157572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12" idx="6"/>
              <a:endCxn id="114" idx="2"/>
            </p:cNvCxnSpPr>
            <p:nvPr/>
          </p:nvCxnSpPr>
          <p:spPr>
            <a:xfrm>
              <a:off x="4025520" y="157572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06" idx="6"/>
              <a:endCxn id="117" idx="2"/>
            </p:cNvCxnSpPr>
            <p:nvPr/>
          </p:nvCxnSpPr>
          <p:spPr>
            <a:xfrm>
              <a:off x="2499120" y="2333520"/>
              <a:ext cx="40464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18" idx="6"/>
              <a:endCxn id="138" idx="2"/>
            </p:cNvCxnSpPr>
            <p:nvPr/>
          </p:nvCxnSpPr>
          <p:spPr>
            <a:xfrm>
              <a:off x="3225960" y="233352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5" idx="6"/>
              <a:endCxn id="147" idx="2"/>
            </p:cNvCxnSpPr>
            <p:nvPr/>
          </p:nvCxnSpPr>
          <p:spPr>
            <a:xfrm>
              <a:off x="4025520" y="301932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27" idx="6"/>
              <a:endCxn id="129" idx="2"/>
            </p:cNvCxnSpPr>
            <p:nvPr/>
          </p:nvCxnSpPr>
          <p:spPr>
            <a:xfrm>
              <a:off x="2499120" y="3741480"/>
              <a:ext cx="40464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47" idx="6"/>
              <a:endCxn id="141" idx="2"/>
            </p:cNvCxnSpPr>
            <p:nvPr/>
          </p:nvCxnSpPr>
          <p:spPr>
            <a:xfrm>
              <a:off x="4865400" y="3019320"/>
              <a:ext cx="3636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21" idx="6"/>
              <a:endCxn id="150" idx="2"/>
            </p:cNvCxnSpPr>
            <p:nvPr/>
          </p:nvCxnSpPr>
          <p:spPr>
            <a:xfrm>
              <a:off x="4824720" y="4391280"/>
              <a:ext cx="40428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33" idx="6"/>
              <a:endCxn id="135" idx="2"/>
            </p:cNvCxnSpPr>
            <p:nvPr/>
          </p:nvCxnSpPr>
          <p:spPr>
            <a:xfrm>
              <a:off x="4824720" y="3741480"/>
              <a:ext cx="40428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24" idx="6"/>
              <a:endCxn id="132" idx="2"/>
            </p:cNvCxnSpPr>
            <p:nvPr/>
          </p:nvCxnSpPr>
          <p:spPr>
            <a:xfrm>
              <a:off x="4025520" y="374148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30" idx="6"/>
              <a:endCxn id="123" idx="2"/>
            </p:cNvCxnSpPr>
            <p:nvPr/>
          </p:nvCxnSpPr>
          <p:spPr>
            <a:xfrm>
              <a:off x="3225960" y="374148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03" idx="4"/>
              <a:endCxn id="105" idx="2"/>
            </p:cNvCxnSpPr>
            <p:nvPr/>
          </p:nvCxnSpPr>
          <p:spPr>
            <a:xfrm rot="5400000">
              <a:off x="1955520" y="1931400"/>
              <a:ext cx="623160" cy="181800"/>
            </a:xfrm>
            <a:prstGeom prst="curvedConnector4">
              <a:avLst>
                <a:gd name="adj1" fmla="val 44393"/>
                <a:gd name="adj2" fmla="val 10198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06" idx="4"/>
              <a:endCxn id="126" idx="2"/>
            </p:cNvCxnSpPr>
            <p:nvPr/>
          </p:nvCxnSpPr>
          <p:spPr>
            <a:xfrm rot="5400000">
              <a:off x="1630440" y="3014280"/>
              <a:ext cx="1273320" cy="181800"/>
            </a:xfrm>
            <a:prstGeom prst="curvedConnector4">
              <a:avLst>
                <a:gd name="adj1" fmla="val 53619"/>
                <a:gd name="adj2" fmla="val 10198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33" idx="4"/>
              <a:endCxn id="120" idx="2"/>
            </p:cNvCxnSpPr>
            <p:nvPr/>
          </p:nvCxnSpPr>
          <p:spPr>
            <a:xfrm rot="5400000">
              <a:off x="4335480" y="4043160"/>
              <a:ext cx="515160" cy="181800"/>
            </a:xfrm>
            <a:prstGeom prst="curvedConnector4">
              <a:avLst>
                <a:gd name="adj1" fmla="val 40489"/>
                <a:gd name="adj2" fmla="val 10198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39" idx="4"/>
              <a:endCxn id="144" idx="2"/>
            </p:cNvCxnSpPr>
            <p:nvPr/>
          </p:nvCxnSpPr>
          <p:spPr>
            <a:xfrm rot="5400000">
              <a:off x="3517920" y="2653200"/>
              <a:ext cx="551160" cy="181800"/>
            </a:xfrm>
            <a:prstGeom prst="curvedConnector4">
              <a:avLst>
                <a:gd name="adj1" fmla="val 41960"/>
                <a:gd name="adj2" fmla="val 101785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169" name=""/>
            <p:cNvGrpSpPr/>
            <p:nvPr/>
          </p:nvGrpSpPr>
          <p:grpSpPr>
            <a:xfrm>
              <a:off x="868320" y="1395360"/>
              <a:ext cx="363600" cy="360720"/>
              <a:chOff x="868320" y="1395360"/>
              <a:chExt cx="363600" cy="360720"/>
            </a:xfrm>
          </p:grpSpPr>
          <p:sp>
            <p:nvSpPr>
              <p:cNvPr id="170" name=""/>
              <p:cNvSpPr/>
              <p:nvPr/>
            </p:nvSpPr>
            <p:spPr>
              <a:xfrm>
                <a:off x="868320" y="13953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08280" y="1440360"/>
                <a:ext cx="282960" cy="270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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2" name=""/>
            <p:cNvCxnSpPr>
              <a:stCxn id="171" idx="6"/>
              <a:endCxn id="99" idx="2"/>
            </p:cNvCxnSpPr>
            <p:nvPr/>
          </p:nvCxnSpPr>
          <p:spPr>
            <a:xfrm>
              <a:off x="1191240" y="1575720"/>
              <a:ext cx="25884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334800" y="1006560"/>
            <a:ext cx="580680" cy="433080"/>
            <a:chOff x="334800" y="1006560"/>
            <a:chExt cx="580680" cy="433080"/>
          </a:xfrm>
        </p:grpSpPr>
        <p:sp>
          <p:nvSpPr>
            <p:cNvPr id="174" name=""/>
            <p:cNvSpPr/>
            <p:nvPr/>
          </p:nvSpPr>
          <p:spPr>
            <a:xfrm>
              <a:off x="334800" y="1006560"/>
              <a:ext cx="5079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rebuchet MS"/>
                  <a:ea typeface="PMingLiU"/>
                </a:rPr>
                <a:t>fir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7680" y="1150920"/>
              <a:ext cx="217800" cy="28872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56"/>
                  </a:moveTo>
                  <a:cubicBezTo>
                    <a:pt x="44" y="28"/>
                    <a:pt x="88" y="0"/>
                    <a:pt x="96" y="8"/>
                  </a:cubicBezTo>
                  <a:cubicBezTo>
                    <a:pt x="104" y="16"/>
                    <a:pt x="40" y="80"/>
                    <a:pt x="48" y="104"/>
                  </a:cubicBezTo>
                  <a:cubicBezTo>
                    <a:pt x="56" y="128"/>
                    <a:pt x="100" y="140"/>
                    <a:pt x="144" y="152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009560" y="1050840"/>
            <a:ext cx="154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rebuchet MS"/>
                <a:ea typeface="PMingLiU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65120" y="731880"/>
            <a:ext cx="504720" cy="639720"/>
            <a:chOff x="1365120" y="731880"/>
            <a:chExt cx="504720" cy="639720"/>
          </a:xfrm>
        </p:grpSpPr>
        <p:sp>
          <p:nvSpPr>
            <p:cNvPr id="178" name=""/>
            <p:cNvSpPr/>
            <p:nvPr/>
          </p:nvSpPr>
          <p:spPr>
            <a:xfrm>
              <a:off x="1560240" y="9604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65120" y="73188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17880" y="731880"/>
            <a:ext cx="504720" cy="639720"/>
            <a:chOff x="2117880" y="731880"/>
            <a:chExt cx="504720" cy="639720"/>
          </a:xfrm>
        </p:grpSpPr>
        <p:sp>
          <p:nvSpPr>
            <p:cNvPr id="181" name=""/>
            <p:cNvSpPr/>
            <p:nvPr/>
          </p:nvSpPr>
          <p:spPr>
            <a:xfrm>
              <a:off x="2313000" y="9604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17880" y="73188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247760" y="2378160"/>
            <a:ext cx="922680" cy="285480"/>
            <a:chOff x="1247760" y="2378160"/>
            <a:chExt cx="922680" cy="285480"/>
          </a:xfrm>
        </p:grpSpPr>
        <p:sp>
          <p:nvSpPr>
            <p:cNvPr id="184" name=""/>
            <p:cNvSpPr/>
            <p:nvPr/>
          </p:nvSpPr>
          <p:spPr>
            <a:xfrm rot="14972400">
              <a:off x="1901520" y="231552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47760" y="237816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292400" y="3798720"/>
            <a:ext cx="922680" cy="285480"/>
            <a:chOff x="1292400" y="3798720"/>
            <a:chExt cx="922680" cy="285480"/>
          </a:xfrm>
        </p:grpSpPr>
        <p:sp>
          <p:nvSpPr>
            <p:cNvPr id="187" name=""/>
            <p:cNvSpPr/>
            <p:nvPr/>
          </p:nvSpPr>
          <p:spPr>
            <a:xfrm rot="14972400">
              <a:off x="1946160" y="37360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2400" y="379872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895480" y="3932280"/>
            <a:ext cx="504720" cy="650520"/>
            <a:chOff x="2895480" y="3932280"/>
            <a:chExt cx="504720" cy="650520"/>
          </a:xfrm>
        </p:grpSpPr>
        <p:sp>
          <p:nvSpPr>
            <p:cNvPr id="190" name=""/>
            <p:cNvSpPr/>
            <p:nvPr/>
          </p:nvSpPr>
          <p:spPr>
            <a:xfrm flipV="1">
              <a:off x="3090960" y="39322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5480" y="429732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895480" y="3290760"/>
            <a:ext cx="2925720" cy="13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95480" y="4206960"/>
            <a:ext cx="2689200" cy="1011240"/>
            <a:chOff x="2895480" y="4206960"/>
            <a:chExt cx="2689200" cy="1011240"/>
          </a:xfrm>
        </p:grpSpPr>
        <p:grpSp>
          <p:nvGrpSpPr>
            <p:cNvPr id="194" name=""/>
            <p:cNvGrpSpPr/>
            <p:nvPr/>
          </p:nvGrpSpPr>
          <p:grpSpPr>
            <a:xfrm>
              <a:off x="4494240" y="4857840"/>
              <a:ext cx="363600" cy="360360"/>
              <a:chOff x="4494240" y="4857840"/>
              <a:chExt cx="363600" cy="360360"/>
            </a:xfrm>
          </p:grpSpPr>
          <p:sp>
            <p:nvSpPr>
              <p:cNvPr id="195" name=""/>
              <p:cNvSpPr/>
              <p:nvPr/>
            </p:nvSpPr>
            <p:spPr>
              <a:xfrm>
                <a:off x="4494240" y="485784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34200" y="490284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695760" y="4206960"/>
              <a:ext cx="363600" cy="361800"/>
              <a:chOff x="3695760" y="4206960"/>
              <a:chExt cx="363600" cy="361800"/>
            </a:xfrm>
          </p:grpSpPr>
          <p:sp>
            <p:nvSpPr>
              <p:cNvPr id="198" name=""/>
              <p:cNvSpPr/>
              <p:nvPr/>
            </p:nvSpPr>
            <p:spPr>
              <a:xfrm>
                <a:off x="3695760" y="420696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35720" y="425196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895480" y="4206960"/>
              <a:ext cx="363600" cy="361800"/>
              <a:chOff x="2895480" y="4206960"/>
              <a:chExt cx="363600" cy="361800"/>
            </a:xfrm>
          </p:grpSpPr>
          <p:sp>
            <p:nvSpPr>
              <p:cNvPr id="201" name=""/>
              <p:cNvSpPr/>
              <p:nvPr/>
            </p:nvSpPr>
            <p:spPr>
              <a:xfrm>
                <a:off x="2895480" y="420696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35440" y="425196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494240" y="4206960"/>
              <a:ext cx="363600" cy="361800"/>
              <a:chOff x="4494240" y="4206960"/>
              <a:chExt cx="363600" cy="361800"/>
            </a:xfrm>
          </p:grpSpPr>
          <p:sp>
            <p:nvSpPr>
              <p:cNvPr id="204" name=""/>
              <p:cNvSpPr/>
              <p:nvPr/>
            </p:nvSpPr>
            <p:spPr>
              <a:xfrm>
                <a:off x="4494240" y="420696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34200" y="425196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221440" y="4206960"/>
              <a:ext cx="363240" cy="361800"/>
              <a:chOff x="5221440" y="4206960"/>
              <a:chExt cx="363240" cy="361800"/>
            </a:xfrm>
          </p:grpSpPr>
          <p:sp>
            <p:nvSpPr>
              <p:cNvPr id="207" name=""/>
              <p:cNvSpPr/>
              <p:nvPr/>
            </p:nvSpPr>
            <p:spPr>
              <a:xfrm>
                <a:off x="5221440" y="4206960"/>
                <a:ext cx="36324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61400" y="4251960"/>
                <a:ext cx="28260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221440" y="4857840"/>
              <a:ext cx="363240" cy="360360"/>
              <a:chOff x="5221440" y="4857840"/>
              <a:chExt cx="363240" cy="360360"/>
            </a:xfrm>
          </p:grpSpPr>
          <p:sp>
            <p:nvSpPr>
              <p:cNvPr id="210" name=""/>
              <p:cNvSpPr/>
              <p:nvPr/>
            </p:nvSpPr>
            <p:spPr>
              <a:xfrm>
                <a:off x="5221440" y="485784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61400" y="490284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2" name=""/>
            <p:cNvCxnSpPr>
              <a:stCxn id="196" idx="6"/>
              <a:endCxn id="210" idx="2"/>
            </p:cNvCxnSpPr>
            <p:nvPr/>
          </p:nvCxnSpPr>
          <p:spPr>
            <a:xfrm>
              <a:off x="4817160" y="5037840"/>
              <a:ext cx="40464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stCxn id="205" idx="6"/>
              <a:endCxn id="207" idx="2"/>
            </p:cNvCxnSpPr>
            <p:nvPr/>
          </p:nvCxnSpPr>
          <p:spPr>
            <a:xfrm>
              <a:off x="4817160" y="4387680"/>
              <a:ext cx="40464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199" idx="6"/>
              <a:endCxn id="204" idx="2"/>
            </p:cNvCxnSpPr>
            <p:nvPr/>
          </p:nvCxnSpPr>
          <p:spPr>
            <a:xfrm>
              <a:off x="4018680" y="4387680"/>
              <a:ext cx="47592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6"/>
              <a:endCxn id="198" idx="2"/>
            </p:cNvCxnSpPr>
            <p:nvPr/>
          </p:nvCxnSpPr>
          <p:spPr>
            <a:xfrm>
              <a:off x="3218400" y="4387680"/>
              <a:ext cx="47772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5" idx="4"/>
              <a:endCxn id="195" idx="2"/>
            </p:cNvCxnSpPr>
            <p:nvPr/>
          </p:nvCxnSpPr>
          <p:spPr>
            <a:xfrm rot="5400000">
              <a:off x="4327200" y="4689720"/>
              <a:ext cx="515520" cy="181800"/>
            </a:xfrm>
            <a:prstGeom prst="curvedConnector4">
              <a:avLst>
                <a:gd name="adj1" fmla="val 40461"/>
                <a:gd name="adj2" fmla="val 10198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</p:grpSp>
      <p:grpSp>
        <p:nvGrpSpPr>
          <p:cNvPr id="217" name=""/>
          <p:cNvGrpSpPr/>
          <p:nvPr/>
        </p:nvGrpSpPr>
        <p:grpSpPr>
          <a:xfrm>
            <a:off x="2895480" y="3565440"/>
            <a:ext cx="363600" cy="362160"/>
            <a:chOff x="2895480" y="3565440"/>
            <a:chExt cx="363600" cy="362160"/>
          </a:xfrm>
        </p:grpSpPr>
        <p:sp>
          <p:nvSpPr>
            <p:cNvPr id="218" name=""/>
            <p:cNvSpPr/>
            <p:nvPr/>
          </p:nvSpPr>
          <p:spPr>
            <a:xfrm>
              <a:off x="2895480" y="3565440"/>
              <a:ext cx="363600" cy="362160"/>
            </a:xfrm>
            <a:prstGeom prst="ellipse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35440" y="3610440"/>
              <a:ext cx="282960" cy="2714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rebuchet MS"/>
                  <a:ea typeface="PMingLiU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218400" y="3565440"/>
            <a:ext cx="764640" cy="362160"/>
            <a:chOff x="3218400" y="3565440"/>
            <a:chExt cx="764640" cy="362160"/>
          </a:xfrm>
        </p:grpSpPr>
        <p:grpSp>
          <p:nvGrpSpPr>
            <p:cNvPr id="221" name=""/>
            <p:cNvGrpSpPr/>
            <p:nvPr/>
          </p:nvGrpSpPr>
          <p:grpSpPr>
            <a:xfrm>
              <a:off x="3619440" y="3565440"/>
              <a:ext cx="363600" cy="362160"/>
              <a:chOff x="3619440" y="3565440"/>
              <a:chExt cx="363600" cy="362160"/>
            </a:xfrm>
          </p:grpSpPr>
          <p:sp>
            <p:nvSpPr>
              <p:cNvPr id="222" name=""/>
              <p:cNvSpPr/>
              <p:nvPr/>
            </p:nvSpPr>
            <p:spPr>
              <a:xfrm>
                <a:off x="3619440" y="356544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59400" y="361044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219" idx="6"/>
              <a:endCxn id="222" idx="2"/>
            </p:cNvCxnSpPr>
            <p:nvPr/>
          </p:nvCxnSpPr>
          <p:spPr>
            <a:xfrm>
              <a:off x="3218400" y="3746160"/>
              <a:ext cx="40140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  <p:cxnSp>
        <p:nvCxnSpPr>
          <p:cNvPr id="225" name=""/>
          <p:cNvCxnSpPr>
            <a:stCxn id="219" idx="4"/>
          </p:cNvCxnSpPr>
          <p:nvPr/>
        </p:nvCxnSpPr>
        <p:spPr>
          <a:xfrm rot="5400000">
            <a:off x="2728080" y="4048560"/>
            <a:ext cx="515880" cy="182520"/>
          </a:xfrm>
          <a:prstGeom prst="curvedConnector3">
            <a:avLst>
              <a:gd name="adj1" fmla="val 25768"/>
            </a:avLst>
          </a:prstGeom>
          <a:ln w="9360">
            <a:solidFill>
              <a:srgbClr val="ff33cc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6637320" y="1050840"/>
            <a:ext cx="157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rebuchet MS"/>
                <a:ea typeface="PMingLiU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22360" y="1050840"/>
            <a:ext cx="16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rebuchet MS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6640" y="731880"/>
            <a:ext cx="504720" cy="639720"/>
            <a:chOff x="836640" y="731880"/>
            <a:chExt cx="504720" cy="639720"/>
          </a:xfrm>
        </p:grpSpPr>
        <p:sp>
          <p:nvSpPr>
            <p:cNvPr id="229" name=""/>
            <p:cNvSpPr/>
            <p:nvPr/>
          </p:nvSpPr>
          <p:spPr>
            <a:xfrm>
              <a:off x="1031760" y="9604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6640" y="73188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997080" y="503280"/>
            <a:ext cx="504720" cy="639720"/>
            <a:chOff x="3997080" y="503280"/>
            <a:chExt cx="504720" cy="639720"/>
          </a:xfrm>
        </p:grpSpPr>
        <p:sp>
          <p:nvSpPr>
            <p:cNvPr id="232" name=""/>
            <p:cNvSpPr/>
            <p:nvPr/>
          </p:nvSpPr>
          <p:spPr>
            <a:xfrm>
              <a:off x="4192560" y="7318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97080" y="503280"/>
              <a:ext cx="504720" cy="28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95280" y="639720"/>
            <a:ext cx="5940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89880" y="2008080"/>
            <a:ext cx="8222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75480" y="2008080"/>
            <a:ext cx="771480" cy="13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ppl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89880" y="2008080"/>
            <a:ext cx="971280" cy="13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1560" y="3813120"/>
            <a:ext cx="105228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7960" y="1096920"/>
            <a:ext cx="381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rebuchet MS"/>
                <a:ea typeface="PMingLiU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03680" y="2925720"/>
            <a:ext cx="504720" cy="639720"/>
            <a:chOff x="2803680" y="2925720"/>
            <a:chExt cx="504720" cy="639720"/>
          </a:xfrm>
        </p:grpSpPr>
        <p:sp>
          <p:nvSpPr>
            <p:cNvPr id="241" name=""/>
            <p:cNvSpPr/>
            <p:nvPr/>
          </p:nvSpPr>
          <p:spPr>
            <a:xfrm>
              <a:off x="2998800" y="315432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03680" y="292572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387440" y="2697120"/>
            <a:ext cx="2793240" cy="1885680"/>
            <a:chOff x="1387440" y="2697120"/>
            <a:chExt cx="2793240" cy="1885680"/>
          </a:xfrm>
        </p:grpSpPr>
        <p:sp>
          <p:nvSpPr>
            <p:cNvPr id="244" name=""/>
            <p:cNvSpPr/>
            <p:nvPr/>
          </p:nvSpPr>
          <p:spPr>
            <a:xfrm>
              <a:off x="1387440" y="2697120"/>
              <a:ext cx="1600200" cy="164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798560" y="3132000"/>
              <a:ext cx="777960" cy="777960"/>
              <a:chOff x="1798560" y="3132000"/>
              <a:chExt cx="777960" cy="777960"/>
            </a:xfrm>
          </p:grpSpPr>
          <p:sp>
            <p:nvSpPr>
              <p:cNvPr id="246" name=""/>
              <p:cNvSpPr/>
              <p:nvPr/>
            </p:nvSpPr>
            <p:spPr>
              <a:xfrm>
                <a:off x="1798560" y="3132000"/>
                <a:ext cx="777960" cy="77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01960" y="3338280"/>
                <a:ext cx="371520" cy="363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8" name=""/>
            <p:cNvCxnSpPr>
              <a:stCxn id="247" idx="6"/>
              <a:endCxn id="249" idx="1"/>
            </p:cNvCxnSpPr>
            <p:nvPr/>
          </p:nvCxnSpPr>
          <p:spPr>
            <a:xfrm>
              <a:off x="2373480" y="3520080"/>
              <a:ext cx="1074240" cy="5760"/>
            </a:xfrm>
            <a:prstGeom prst="bentConnector3">
              <a:avLst>
                <a:gd name="adj1" fmla="val 50016"/>
              </a:avLst>
            </a:prstGeom>
            <a:ln w="19080">
              <a:solidFill>
                <a:srgbClr val="000080"/>
              </a:solidFill>
              <a:miter/>
              <a:tailEnd len="med" type="triangle" w="lg"/>
            </a:ln>
          </p:spPr>
        </p:cxnSp>
        <p:cxnSp>
          <p:nvCxnSpPr>
            <p:cNvPr id="250" name=""/>
            <p:cNvCxnSpPr>
              <a:stCxn id="247" idx="4"/>
              <a:endCxn id="251" idx="0"/>
            </p:cNvCxnSpPr>
            <p:nvPr/>
          </p:nvCxnSpPr>
          <p:spPr>
            <a:xfrm>
              <a:off x="2187720" y="3701880"/>
              <a:ext cx="68400" cy="595800"/>
            </a:xfrm>
            <a:prstGeom prst="straightConnector1">
              <a:avLst/>
            </a:prstGeom>
            <a:ln w="19080">
              <a:solidFill>
                <a:srgbClr val="ff3399"/>
              </a:solidFill>
              <a:miter/>
              <a:tailEnd len="lg" type="triangle" w="med"/>
            </a:ln>
          </p:spPr>
        </p:cxnSp>
        <p:sp>
          <p:nvSpPr>
            <p:cNvPr id="251" name=""/>
            <p:cNvSpPr/>
            <p:nvPr/>
          </p:nvSpPr>
          <p:spPr>
            <a:xfrm>
              <a:off x="1879920" y="4297320"/>
              <a:ext cx="7516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3399"/>
                  </a:solidFill>
                  <a:latin typeface="Trebuchet MS"/>
                  <a:ea typeface="PMingLiU"/>
                </a:rPr>
                <a:t>next_s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47360" y="3382920"/>
              <a:ext cx="733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Trebuchet MS"/>
                  <a:ea typeface="PMingLiU"/>
                </a:rPr>
                <a:t>next_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2" name=""/>
          <p:cNvCxnSpPr>
            <a:stCxn id="247" idx="2"/>
            <a:endCxn id="253" idx="2"/>
          </p:cNvCxnSpPr>
          <p:nvPr/>
        </p:nvCxnSpPr>
        <p:spPr>
          <a:xfrm rot="10800000">
            <a:off x="1626120" y="2067840"/>
            <a:ext cx="375840" cy="1452240"/>
          </a:xfrm>
          <a:prstGeom prst="curvedConnector2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1316160" y="1782720"/>
            <a:ext cx="620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Trebuchet MS"/>
                <a:ea typeface="PMingLiU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953F-C2B0-4DA5-8665-3B06EF6B8F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060560" y="1046160"/>
            <a:ext cx="580680" cy="433080"/>
            <a:chOff x="1060560" y="1046160"/>
            <a:chExt cx="580680" cy="433080"/>
          </a:xfrm>
        </p:grpSpPr>
        <p:sp>
          <p:nvSpPr>
            <p:cNvPr id="255" name=""/>
            <p:cNvSpPr/>
            <p:nvPr/>
          </p:nvSpPr>
          <p:spPr>
            <a:xfrm>
              <a:off x="1060560" y="1046160"/>
              <a:ext cx="5079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rebuchet MS"/>
                  <a:ea typeface="PMingLiU"/>
                </a:rPr>
                <a:t>fir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23440" y="1190520"/>
              <a:ext cx="217800" cy="28872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56"/>
                  </a:moveTo>
                  <a:cubicBezTo>
                    <a:pt x="44" y="28"/>
                    <a:pt x="88" y="0"/>
                    <a:pt x="96" y="8"/>
                  </a:cubicBezTo>
                  <a:cubicBezTo>
                    <a:pt x="104" y="16"/>
                    <a:pt x="40" y="80"/>
                    <a:pt x="48" y="104"/>
                  </a:cubicBezTo>
                  <a:cubicBezTo>
                    <a:pt x="56" y="128"/>
                    <a:pt x="100" y="140"/>
                    <a:pt x="144" y="152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703200" y="1503360"/>
            <a:ext cx="64188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rebuchet MS"/>
                <a:ea typeface="PMingLiU"/>
              </a:rPr>
              <a:t>history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gr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g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{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57360" y="1457280"/>
            <a:ext cx="4149720" cy="4622760"/>
            <a:chOff x="1557360" y="1457280"/>
            <a:chExt cx="4149720" cy="4622760"/>
          </a:xfrm>
        </p:grpSpPr>
        <p:grpSp>
          <p:nvGrpSpPr>
            <p:cNvPr id="259" name=""/>
            <p:cNvGrpSpPr/>
            <p:nvPr/>
          </p:nvGrpSpPr>
          <p:grpSpPr>
            <a:xfrm>
              <a:off x="2138040" y="1457280"/>
              <a:ext cx="363600" cy="360360"/>
              <a:chOff x="2138040" y="1457280"/>
              <a:chExt cx="363600" cy="36036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8040" y="1457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78000" y="1502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840040" y="1457280"/>
              <a:ext cx="363240" cy="360360"/>
              <a:chOff x="2840040" y="1457280"/>
              <a:chExt cx="363240" cy="360360"/>
            </a:xfrm>
          </p:grpSpPr>
          <p:sp>
            <p:nvSpPr>
              <p:cNvPr id="263" name=""/>
              <p:cNvSpPr/>
              <p:nvPr/>
            </p:nvSpPr>
            <p:spPr>
              <a:xfrm>
                <a:off x="2840040" y="1457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80000" y="15022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40040" y="2050920"/>
              <a:ext cx="363240" cy="360360"/>
              <a:chOff x="2840040" y="2050920"/>
              <a:chExt cx="363240" cy="360360"/>
            </a:xfrm>
          </p:grpSpPr>
          <p:sp>
            <p:nvSpPr>
              <p:cNvPr id="266" name=""/>
              <p:cNvSpPr/>
              <p:nvPr/>
            </p:nvSpPr>
            <p:spPr>
              <a:xfrm>
                <a:off x="2840040" y="205092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80000" y="209592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479760" y="1457280"/>
              <a:ext cx="363600" cy="360360"/>
              <a:chOff x="3479760" y="1457280"/>
              <a:chExt cx="363600" cy="360360"/>
            </a:xfrm>
          </p:grpSpPr>
          <p:sp>
            <p:nvSpPr>
              <p:cNvPr id="269" name=""/>
              <p:cNvSpPr/>
              <p:nvPr/>
            </p:nvSpPr>
            <p:spPr>
              <a:xfrm>
                <a:off x="3479760" y="1457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19720" y="1502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109760" y="1457280"/>
              <a:ext cx="363600" cy="360360"/>
              <a:chOff x="4109760" y="1457280"/>
              <a:chExt cx="363600" cy="360360"/>
            </a:xfrm>
          </p:grpSpPr>
          <p:sp>
            <p:nvSpPr>
              <p:cNvPr id="272" name=""/>
              <p:cNvSpPr/>
              <p:nvPr/>
            </p:nvSpPr>
            <p:spPr>
              <a:xfrm>
                <a:off x="4109760" y="1457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49720" y="1502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703760" y="1457280"/>
              <a:ext cx="363240" cy="360360"/>
              <a:chOff x="4703760" y="1457280"/>
              <a:chExt cx="363240" cy="360360"/>
            </a:xfrm>
          </p:grpSpPr>
          <p:sp>
            <p:nvSpPr>
              <p:cNvPr id="275" name=""/>
              <p:cNvSpPr/>
              <p:nvPr/>
            </p:nvSpPr>
            <p:spPr>
              <a:xfrm>
                <a:off x="4703760" y="1457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43720" y="15022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479760" y="2050920"/>
              <a:ext cx="363600" cy="360360"/>
              <a:chOff x="3479760" y="2050920"/>
              <a:chExt cx="363600" cy="360360"/>
            </a:xfrm>
          </p:grpSpPr>
          <p:sp>
            <p:nvSpPr>
              <p:cNvPr id="278" name=""/>
              <p:cNvSpPr/>
              <p:nvPr/>
            </p:nvSpPr>
            <p:spPr>
              <a:xfrm>
                <a:off x="3479760" y="205092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19720" y="209592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109760" y="2050920"/>
              <a:ext cx="363600" cy="360360"/>
              <a:chOff x="4109760" y="2050920"/>
              <a:chExt cx="363600" cy="360360"/>
            </a:xfrm>
          </p:grpSpPr>
          <p:sp>
            <p:nvSpPr>
              <p:cNvPr id="281" name=""/>
              <p:cNvSpPr/>
              <p:nvPr/>
            </p:nvSpPr>
            <p:spPr>
              <a:xfrm>
                <a:off x="4109760" y="205092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49720" y="209592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5343480" y="2600280"/>
              <a:ext cx="363600" cy="360360"/>
              <a:chOff x="5343480" y="2600280"/>
              <a:chExt cx="363600" cy="360360"/>
            </a:xfrm>
          </p:grpSpPr>
          <p:sp>
            <p:nvSpPr>
              <p:cNvPr id="284" name=""/>
              <p:cNvSpPr/>
              <p:nvPr/>
            </p:nvSpPr>
            <p:spPr>
              <a:xfrm>
                <a:off x="5343480" y="2600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83440" y="2645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09760" y="2600280"/>
              <a:ext cx="363600" cy="360360"/>
              <a:chOff x="4109760" y="2600280"/>
              <a:chExt cx="363600" cy="360360"/>
            </a:xfrm>
          </p:grpSpPr>
          <p:sp>
            <p:nvSpPr>
              <p:cNvPr id="287" name=""/>
              <p:cNvSpPr/>
              <p:nvPr/>
            </p:nvSpPr>
            <p:spPr>
              <a:xfrm>
                <a:off x="4109760" y="2600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149720" y="2645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703760" y="2600280"/>
              <a:ext cx="363240" cy="360360"/>
              <a:chOff x="4703760" y="2600280"/>
              <a:chExt cx="363240" cy="360360"/>
            </a:xfrm>
          </p:grpSpPr>
          <p:sp>
            <p:nvSpPr>
              <p:cNvPr id="290" name=""/>
              <p:cNvSpPr/>
              <p:nvPr/>
            </p:nvSpPr>
            <p:spPr>
              <a:xfrm>
                <a:off x="4703760" y="2600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3720" y="26452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2" name=""/>
            <p:cNvCxnSpPr>
              <a:stCxn id="261" idx="6"/>
              <a:endCxn id="263" idx="2"/>
            </p:cNvCxnSpPr>
            <p:nvPr/>
          </p:nvCxnSpPr>
          <p:spPr>
            <a:xfrm>
              <a:off x="2462040" y="1638000"/>
              <a:ext cx="378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>
              <a:stCxn id="264" idx="6"/>
              <a:endCxn id="269" idx="2"/>
            </p:cNvCxnSpPr>
            <p:nvPr/>
          </p:nvCxnSpPr>
          <p:spPr>
            <a:xfrm>
              <a:off x="3163680" y="163800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70" idx="6"/>
              <a:endCxn id="272" idx="2"/>
            </p:cNvCxnSpPr>
            <p:nvPr/>
          </p:nvCxnSpPr>
          <p:spPr>
            <a:xfrm>
              <a:off x="3803040" y="1638000"/>
              <a:ext cx="306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73" idx="6"/>
              <a:endCxn id="275" idx="2"/>
            </p:cNvCxnSpPr>
            <p:nvPr/>
          </p:nvCxnSpPr>
          <p:spPr>
            <a:xfrm>
              <a:off x="4433760" y="1638000"/>
              <a:ext cx="270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67" idx="6"/>
              <a:endCxn id="278" idx="2"/>
            </p:cNvCxnSpPr>
            <p:nvPr/>
          </p:nvCxnSpPr>
          <p:spPr>
            <a:xfrm>
              <a:off x="3163680" y="223164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79" idx="6"/>
              <a:endCxn id="281" idx="2"/>
            </p:cNvCxnSpPr>
            <p:nvPr/>
          </p:nvCxnSpPr>
          <p:spPr>
            <a:xfrm>
              <a:off x="3803040" y="2231640"/>
              <a:ext cx="306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88" idx="6"/>
              <a:endCxn id="290" idx="2"/>
            </p:cNvCxnSpPr>
            <p:nvPr/>
          </p:nvCxnSpPr>
          <p:spPr>
            <a:xfrm>
              <a:off x="4433760" y="2781000"/>
              <a:ext cx="270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0" idx="6"/>
              <a:endCxn id="284" idx="2"/>
            </p:cNvCxnSpPr>
            <p:nvPr/>
          </p:nvCxnSpPr>
          <p:spPr>
            <a:xfrm>
              <a:off x="5067000" y="2781000"/>
              <a:ext cx="277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64" idx="4"/>
              <a:endCxn id="266" idx="2"/>
            </p:cNvCxnSpPr>
            <p:nvPr/>
          </p:nvCxnSpPr>
          <p:spPr>
            <a:xfrm rot="5400000">
              <a:off x="2701080" y="1910880"/>
              <a:ext cx="459720" cy="183240"/>
            </a:xfrm>
            <a:prstGeom prst="curvedConnector5">
              <a:avLst>
                <a:gd name="adj1" fmla="val 30094"/>
                <a:gd name="adj2" fmla="val 112598"/>
                <a:gd name="adj3" fmla="val 3009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67" idx="4"/>
              <a:endCxn id="302" idx="2"/>
            </p:cNvCxnSpPr>
            <p:nvPr/>
          </p:nvCxnSpPr>
          <p:spPr>
            <a:xfrm rot="5400000">
              <a:off x="2494800" y="2711160"/>
              <a:ext cx="872280" cy="183240"/>
            </a:xfrm>
            <a:prstGeom prst="curvedConnector5">
              <a:avLst>
                <a:gd name="adj1" fmla="val 39512"/>
                <a:gd name="adj2" fmla="val 112598"/>
                <a:gd name="adj3" fmla="val 39512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03" name=""/>
            <p:cNvGrpSpPr/>
            <p:nvPr/>
          </p:nvGrpSpPr>
          <p:grpSpPr>
            <a:xfrm>
              <a:off x="4703760" y="4246560"/>
              <a:ext cx="363240" cy="360360"/>
              <a:chOff x="4703760" y="4246560"/>
              <a:chExt cx="363240" cy="360360"/>
            </a:xfrm>
          </p:grpSpPr>
          <p:sp>
            <p:nvSpPr>
              <p:cNvPr id="304" name=""/>
              <p:cNvSpPr/>
              <p:nvPr/>
            </p:nvSpPr>
            <p:spPr>
              <a:xfrm>
                <a:off x="4703760" y="424656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43720" y="429156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109760" y="3605040"/>
              <a:ext cx="363600" cy="362160"/>
              <a:chOff x="4109760" y="3605040"/>
              <a:chExt cx="363600" cy="362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109760" y="360504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49720" y="365004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840040" y="3057480"/>
              <a:ext cx="363240" cy="361800"/>
              <a:chOff x="2840040" y="3057480"/>
              <a:chExt cx="363240" cy="361800"/>
            </a:xfrm>
          </p:grpSpPr>
          <p:sp>
            <p:nvSpPr>
              <p:cNvPr id="302" name=""/>
              <p:cNvSpPr/>
              <p:nvPr/>
            </p:nvSpPr>
            <p:spPr>
              <a:xfrm>
                <a:off x="2840040" y="3057480"/>
                <a:ext cx="36324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80000" y="3102480"/>
                <a:ext cx="28260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479760" y="3605040"/>
              <a:ext cx="363600" cy="362160"/>
              <a:chOff x="3479760" y="3605040"/>
              <a:chExt cx="363600" cy="362160"/>
            </a:xfrm>
          </p:grpSpPr>
          <p:sp>
            <p:nvSpPr>
              <p:cNvPr id="312" name=""/>
              <p:cNvSpPr/>
              <p:nvPr/>
            </p:nvSpPr>
            <p:spPr>
              <a:xfrm>
                <a:off x="3479760" y="360504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19720" y="365004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703760" y="3605040"/>
              <a:ext cx="363240" cy="362160"/>
              <a:chOff x="4703760" y="3605040"/>
              <a:chExt cx="363240" cy="362160"/>
            </a:xfrm>
          </p:grpSpPr>
          <p:sp>
            <p:nvSpPr>
              <p:cNvPr id="315" name=""/>
              <p:cNvSpPr/>
              <p:nvPr/>
            </p:nvSpPr>
            <p:spPr>
              <a:xfrm>
                <a:off x="4703760" y="3605040"/>
                <a:ext cx="36324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43720" y="3650040"/>
                <a:ext cx="28260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343480" y="3605040"/>
              <a:ext cx="363600" cy="362160"/>
              <a:chOff x="5343480" y="3605040"/>
              <a:chExt cx="363600" cy="362160"/>
            </a:xfrm>
          </p:grpSpPr>
          <p:sp>
            <p:nvSpPr>
              <p:cNvPr id="318" name=""/>
              <p:cNvSpPr/>
              <p:nvPr/>
            </p:nvSpPr>
            <p:spPr>
              <a:xfrm>
                <a:off x="5343480" y="360504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83440" y="365004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343480" y="4246560"/>
              <a:ext cx="363600" cy="360360"/>
              <a:chOff x="5343480" y="4246560"/>
              <a:chExt cx="363600" cy="360360"/>
            </a:xfrm>
          </p:grpSpPr>
          <p:sp>
            <p:nvSpPr>
              <p:cNvPr id="321" name=""/>
              <p:cNvSpPr/>
              <p:nvPr/>
            </p:nvSpPr>
            <p:spPr>
              <a:xfrm>
                <a:off x="5343480" y="424656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83440" y="429156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3" name=""/>
            <p:cNvCxnSpPr>
              <a:stCxn id="310" idx="6"/>
              <a:endCxn id="324" idx="2"/>
            </p:cNvCxnSpPr>
            <p:nvPr/>
          </p:nvCxnSpPr>
          <p:spPr>
            <a:xfrm flipV="1">
              <a:off x="3163680" y="3238200"/>
              <a:ext cx="31680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5" name=""/>
            <p:cNvCxnSpPr>
              <a:stCxn id="305" idx="6"/>
              <a:endCxn id="321" idx="2"/>
            </p:cNvCxnSpPr>
            <p:nvPr/>
          </p:nvCxnSpPr>
          <p:spPr>
            <a:xfrm>
              <a:off x="5027400" y="442692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16" idx="6"/>
              <a:endCxn id="318" idx="2"/>
            </p:cNvCxnSpPr>
            <p:nvPr/>
          </p:nvCxnSpPr>
          <p:spPr>
            <a:xfrm flipV="1">
              <a:off x="5027400" y="3785760"/>
              <a:ext cx="31680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08" idx="6"/>
              <a:endCxn id="315" idx="2"/>
            </p:cNvCxnSpPr>
            <p:nvPr/>
          </p:nvCxnSpPr>
          <p:spPr>
            <a:xfrm flipV="1">
              <a:off x="4433760" y="3785760"/>
              <a:ext cx="270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13" idx="6"/>
              <a:endCxn id="307" idx="2"/>
            </p:cNvCxnSpPr>
            <p:nvPr/>
          </p:nvCxnSpPr>
          <p:spPr>
            <a:xfrm flipV="1">
              <a:off x="3803040" y="3785760"/>
              <a:ext cx="306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9" name=""/>
            <p:cNvCxnSpPr>
              <a:stCxn id="316" idx="4"/>
              <a:endCxn id="304" idx="2"/>
            </p:cNvCxnSpPr>
            <p:nvPr/>
          </p:nvCxnSpPr>
          <p:spPr>
            <a:xfrm rot="5400000">
              <a:off x="4541760" y="4083480"/>
              <a:ext cx="505440" cy="183240"/>
            </a:xfrm>
            <a:prstGeom prst="curvedConnector5">
              <a:avLst>
                <a:gd name="adj1" fmla="val 31717"/>
                <a:gd name="adj2" fmla="val 112598"/>
                <a:gd name="adj3" fmla="val 31717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282" idx="4"/>
              <a:endCxn id="287" idx="2"/>
            </p:cNvCxnSpPr>
            <p:nvPr/>
          </p:nvCxnSpPr>
          <p:spPr>
            <a:xfrm rot="5400000">
              <a:off x="3993120" y="2482560"/>
              <a:ext cx="415080" cy="183240"/>
            </a:xfrm>
            <a:prstGeom prst="curvedConnector5">
              <a:avLst>
                <a:gd name="adj1" fmla="val 27951"/>
                <a:gd name="adj2" fmla="val 112598"/>
                <a:gd name="adj3" fmla="val 27951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31" name=""/>
            <p:cNvGrpSpPr/>
            <p:nvPr/>
          </p:nvGrpSpPr>
          <p:grpSpPr>
            <a:xfrm>
              <a:off x="1557360" y="1457280"/>
              <a:ext cx="363240" cy="360360"/>
              <a:chOff x="1557360" y="1457280"/>
              <a:chExt cx="363240" cy="360360"/>
            </a:xfrm>
          </p:grpSpPr>
          <p:sp>
            <p:nvSpPr>
              <p:cNvPr id="332" name=""/>
              <p:cNvSpPr/>
              <p:nvPr/>
            </p:nvSpPr>
            <p:spPr>
              <a:xfrm>
                <a:off x="1557360" y="1457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97320" y="1502280"/>
                <a:ext cx="282600" cy="270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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4" name=""/>
            <p:cNvCxnSpPr>
              <a:stCxn id="333" idx="6"/>
              <a:endCxn id="260" idx="2"/>
            </p:cNvCxnSpPr>
            <p:nvPr/>
          </p:nvCxnSpPr>
          <p:spPr>
            <a:xfrm>
              <a:off x="1881000" y="1638000"/>
              <a:ext cx="25776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grpSp>
          <p:nvGrpSpPr>
            <p:cNvPr id="335" name=""/>
            <p:cNvGrpSpPr/>
            <p:nvPr/>
          </p:nvGrpSpPr>
          <p:grpSpPr>
            <a:xfrm>
              <a:off x="3479760" y="3057480"/>
              <a:ext cx="363600" cy="361800"/>
              <a:chOff x="3479760" y="3057480"/>
              <a:chExt cx="363600" cy="361800"/>
            </a:xfrm>
          </p:grpSpPr>
          <p:sp>
            <p:nvSpPr>
              <p:cNvPr id="324" name=""/>
              <p:cNvSpPr/>
              <p:nvPr/>
            </p:nvSpPr>
            <p:spPr>
              <a:xfrm>
                <a:off x="3479760" y="30574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19720" y="31024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109760" y="3057480"/>
              <a:ext cx="363600" cy="361800"/>
              <a:chOff x="4109760" y="3057480"/>
              <a:chExt cx="363600" cy="361800"/>
            </a:xfrm>
          </p:grpSpPr>
          <p:sp>
            <p:nvSpPr>
              <p:cNvPr id="338" name=""/>
              <p:cNvSpPr/>
              <p:nvPr/>
            </p:nvSpPr>
            <p:spPr>
              <a:xfrm>
                <a:off x="4109760" y="30574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49720" y="31024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0" name=""/>
            <p:cNvCxnSpPr>
              <a:stCxn id="336" idx="6"/>
              <a:endCxn id="338" idx="2"/>
            </p:cNvCxnSpPr>
            <p:nvPr/>
          </p:nvCxnSpPr>
          <p:spPr>
            <a:xfrm flipV="1">
              <a:off x="3803040" y="3238200"/>
              <a:ext cx="306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41" name=""/>
            <p:cNvCxnSpPr>
              <a:stCxn id="336" idx="4"/>
              <a:endCxn id="312" idx="2"/>
            </p:cNvCxnSpPr>
            <p:nvPr/>
          </p:nvCxnSpPr>
          <p:spPr>
            <a:xfrm rot="5400000">
              <a:off x="3364560" y="3489120"/>
              <a:ext cx="411840" cy="183240"/>
            </a:xfrm>
            <a:prstGeom prst="curvedConnector5">
              <a:avLst>
                <a:gd name="adj1" fmla="val 27734"/>
                <a:gd name="adj2" fmla="val 112598"/>
                <a:gd name="adj3" fmla="val 2773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42" name=""/>
            <p:cNvGrpSpPr/>
            <p:nvPr/>
          </p:nvGrpSpPr>
          <p:grpSpPr>
            <a:xfrm>
              <a:off x="4109760" y="5537160"/>
              <a:ext cx="363600" cy="360360"/>
              <a:chOff x="4109760" y="5537160"/>
              <a:chExt cx="363600" cy="360360"/>
            </a:xfrm>
          </p:grpSpPr>
          <p:sp>
            <p:nvSpPr>
              <p:cNvPr id="343" name=""/>
              <p:cNvSpPr/>
              <p:nvPr/>
            </p:nvSpPr>
            <p:spPr>
              <a:xfrm>
                <a:off x="4109760" y="553716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49720" y="558216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479760" y="4886280"/>
              <a:ext cx="363600" cy="361800"/>
              <a:chOff x="3479760" y="4886280"/>
              <a:chExt cx="363600" cy="361800"/>
            </a:xfrm>
          </p:grpSpPr>
          <p:sp>
            <p:nvSpPr>
              <p:cNvPr id="346" name=""/>
              <p:cNvSpPr/>
              <p:nvPr/>
            </p:nvSpPr>
            <p:spPr>
              <a:xfrm>
                <a:off x="3479760" y="48862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19720" y="49312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138040" y="4336920"/>
              <a:ext cx="363600" cy="362160"/>
              <a:chOff x="2138040" y="4336920"/>
              <a:chExt cx="363600" cy="362160"/>
            </a:xfrm>
          </p:grpSpPr>
          <p:sp>
            <p:nvSpPr>
              <p:cNvPr id="349" name=""/>
              <p:cNvSpPr/>
              <p:nvPr/>
            </p:nvSpPr>
            <p:spPr>
              <a:xfrm>
                <a:off x="2138040" y="433692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178000" y="438192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rebuchet MS"/>
                    <a:ea typeface="PMingLiU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840040" y="4886280"/>
              <a:ext cx="363240" cy="361800"/>
              <a:chOff x="2840040" y="4886280"/>
              <a:chExt cx="363240" cy="361800"/>
            </a:xfrm>
          </p:grpSpPr>
          <p:sp>
            <p:nvSpPr>
              <p:cNvPr id="352" name=""/>
              <p:cNvSpPr/>
              <p:nvPr/>
            </p:nvSpPr>
            <p:spPr>
              <a:xfrm>
                <a:off x="2840040" y="4886280"/>
                <a:ext cx="36324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80000" y="4931280"/>
                <a:ext cx="28260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109760" y="4886280"/>
              <a:ext cx="363600" cy="361800"/>
              <a:chOff x="4109760" y="4886280"/>
              <a:chExt cx="363600" cy="361800"/>
            </a:xfrm>
          </p:grpSpPr>
          <p:sp>
            <p:nvSpPr>
              <p:cNvPr id="355" name=""/>
              <p:cNvSpPr/>
              <p:nvPr/>
            </p:nvSpPr>
            <p:spPr>
              <a:xfrm>
                <a:off x="4109760" y="48862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9720" y="49312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343480" y="4886280"/>
              <a:ext cx="363600" cy="361800"/>
              <a:chOff x="5343480" y="4886280"/>
              <a:chExt cx="363600" cy="361800"/>
            </a:xfrm>
          </p:grpSpPr>
          <p:sp>
            <p:nvSpPr>
              <p:cNvPr id="358" name=""/>
              <p:cNvSpPr/>
              <p:nvPr/>
            </p:nvSpPr>
            <p:spPr>
              <a:xfrm>
                <a:off x="5343480" y="48862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83440" y="49312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343480" y="5537160"/>
              <a:ext cx="363600" cy="360360"/>
              <a:chOff x="5343480" y="5537160"/>
              <a:chExt cx="36360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5343480" y="553716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83440" y="558216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3" name=""/>
            <p:cNvCxnSpPr>
              <a:stCxn id="350" idx="6"/>
              <a:endCxn id="364" idx="2"/>
            </p:cNvCxnSpPr>
            <p:nvPr/>
          </p:nvCxnSpPr>
          <p:spPr>
            <a:xfrm flipV="1">
              <a:off x="2462040" y="4517640"/>
              <a:ext cx="378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65" name=""/>
            <p:cNvCxnSpPr>
              <a:stCxn id="366" idx="6"/>
              <a:endCxn id="361" idx="2"/>
            </p:cNvCxnSpPr>
            <p:nvPr/>
          </p:nvCxnSpPr>
          <p:spPr>
            <a:xfrm>
              <a:off x="5027400" y="571788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56" idx="6"/>
              <a:endCxn id="368" idx="2"/>
            </p:cNvCxnSpPr>
            <p:nvPr/>
          </p:nvCxnSpPr>
          <p:spPr>
            <a:xfrm flipV="1">
              <a:off x="4433760" y="5067000"/>
              <a:ext cx="270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47" idx="6"/>
              <a:endCxn id="355" idx="2"/>
            </p:cNvCxnSpPr>
            <p:nvPr/>
          </p:nvCxnSpPr>
          <p:spPr>
            <a:xfrm flipV="1">
              <a:off x="3803040" y="5067000"/>
              <a:ext cx="306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70" name=""/>
            <p:cNvCxnSpPr>
              <a:stCxn id="353" idx="6"/>
              <a:endCxn id="346" idx="2"/>
            </p:cNvCxnSpPr>
            <p:nvPr/>
          </p:nvCxnSpPr>
          <p:spPr>
            <a:xfrm flipV="1">
              <a:off x="3163680" y="5067000"/>
              <a:ext cx="31680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71" name=""/>
            <p:cNvCxnSpPr>
              <a:stCxn id="356" idx="4"/>
              <a:endCxn id="343" idx="2"/>
            </p:cNvCxnSpPr>
            <p:nvPr/>
          </p:nvCxnSpPr>
          <p:spPr>
            <a:xfrm rot="5400000">
              <a:off x="3943080" y="5369400"/>
              <a:ext cx="515160" cy="183240"/>
            </a:xfrm>
            <a:prstGeom prst="curvedConnector5">
              <a:avLst>
                <a:gd name="adj1" fmla="val 32027"/>
                <a:gd name="adj2" fmla="val 112598"/>
                <a:gd name="adj3" fmla="val 32027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72" name=""/>
            <p:cNvGrpSpPr/>
            <p:nvPr/>
          </p:nvGrpSpPr>
          <p:grpSpPr>
            <a:xfrm>
              <a:off x="2840040" y="4336920"/>
              <a:ext cx="363240" cy="362160"/>
              <a:chOff x="2840040" y="4336920"/>
              <a:chExt cx="363240" cy="362160"/>
            </a:xfrm>
          </p:grpSpPr>
          <p:sp>
            <p:nvSpPr>
              <p:cNvPr id="364" name=""/>
              <p:cNvSpPr/>
              <p:nvPr/>
            </p:nvSpPr>
            <p:spPr>
              <a:xfrm>
                <a:off x="2840040" y="4336920"/>
                <a:ext cx="36324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80000" y="4381920"/>
                <a:ext cx="28260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rebuchet MS"/>
                    <a:ea typeface="PMingLiU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479760" y="4336920"/>
              <a:ext cx="363600" cy="362160"/>
              <a:chOff x="3479760" y="4336920"/>
              <a:chExt cx="363600" cy="362160"/>
            </a:xfrm>
          </p:grpSpPr>
          <p:sp>
            <p:nvSpPr>
              <p:cNvPr id="375" name=""/>
              <p:cNvSpPr/>
              <p:nvPr/>
            </p:nvSpPr>
            <p:spPr>
              <a:xfrm>
                <a:off x="3479760" y="433692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519720" y="438192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7" name=""/>
            <p:cNvCxnSpPr>
              <a:stCxn id="373" idx="6"/>
              <a:endCxn id="375" idx="2"/>
            </p:cNvCxnSpPr>
            <p:nvPr/>
          </p:nvCxnSpPr>
          <p:spPr>
            <a:xfrm flipV="1">
              <a:off x="3163680" y="4517640"/>
              <a:ext cx="31680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78" name=""/>
            <p:cNvCxnSpPr>
              <a:stCxn id="373" idx="4"/>
              <a:endCxn id="352" idx="2"/>
            </p:cNvCxnSpPr>
            <p:nvPr/>
          </p:nvCxnSpPr>
          <p:spPr>
            <a:xfrm rot="5400000">
              <a:off x="2724120" y="4769280"/>
              <a:ext cx="413640" cy="183240"/>
            </a:xfrm>
            <a:prstGeom prst="curvedConnector5">
              <a:avLst>
                <a:gd name="adj1" fmla="val 27613"/>
                <a:gd name="adj2" fmla="val 112598"/>
                <a:gd name="adj3" fmla="val 27613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79" name=""/>
            <p:cNvGrpSpPr/>
            <p:nvPr/>
          </p:nvGrpSpPr>
          <p:grpSpPr>
            <a:xfrm>
              <a:off x="4703760" y="5537160"/>
              <a:ext cx="363240" cy="360360"/>
              <a:chOff x="4703760" y="5537160"/>
              <a:chExt cx="363240" cy="360360"/>
            </a:xfrm>
          </p:grpSpPr>
          <p:sp>
            <p:nvSpPr>
              <p:cNvPr id="380" name=""/>
              <p:cNvSpPr/>
              <p:nvPr/>
            </p:nvSpPr>
            <p:spPr>
              <a:xfrm>
                <a:off x="4703760" y="553716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43720" y="558216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1" name=""/>
            <p:cNvCxnSpPr>
              <a:stCxn id="344" idx="6"/>
              <a:endCxn id="380" idx="2"/>
            </p:cNvCxnSpPr>
            <p:nvPr/>
          </p:nvCxnSpPr>
          <p:spPr>
            <a:xfrm>
              <a:off x="4433760" y="5717880"/>
              <a:ext cx="270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82" name=""/>
            <p:cNvCxnSpPr>
              <a:stCxn id="261" idx="4"/>
              <a:endCxn id="349" idx="2"/>
            </p:cNvCxnSpPr>
            <p:nvPr/>
          </p:nvCxnSpPr>
          <p:spPr>
            <a:xfrm rot="5400000">
              <a:off x="856440" y="3053880"/>
              <a:ext cx="2745720" cy="183600"/>
            </a:xfrm>
            <a:prstGeom prst="curvedConnector5">
              <a:avLst>
                <a:gd name="adj1" fmla="val 46669"/>
                <a:gd name="adj2" fmla="val 112573"/>
                <a:gd name="adj3" fmla="val 46669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83" name=""/>
            <p:cNvGrpSpPr/>
            <p:nvPr/>
          </p:nvGrpSpPr>
          <p:grpSpPr>
            <a:xfrm>
              <a:off x="2138040" y="5719680"/>
              <a:ext cx="363600" cy="360360"/>
              <a:chOff x="2138040" y="5719680"/>
              <a:chExt cx="363600" cy="360360"/>
            </a:xfrm>
          </p:grpSpPr>
          <p:sp>
            <p:nvSpPr>
              <p:cNvPr id="384" name=""/>
              <p:cNvSpPr/>
              <p:nvPr/>
            </p:nvSpPr>
            <p:spPr>
              <a:xfrm>
                <a:off x="2138040" y="57196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178000" y="57646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{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479760" y="5719680"/>
              <a:ext cx="363600" cy="360360"/>
              <a:chOff x="3479760" y="5719680"/>
              <a:chExt cx="363600" cy="360360"/>
            </a:xfrm>
          </p:grpSpPr>
          <p:sp>
            <p:nvSpPr>
              <p:cNvPr id="387" name=""/>
              <p:cNvSpPr/>
              <p:nvPr/>
            </p:nvSpPr>
            <p:spPr>
              <a:xfrm>
                <a:off x="3479760" y="57196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19720" y="57646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9" name=""/>
            <p:cNvCxnSpPr>
              <a:stCxn id="390" idx="6"/>
              <a:endCxn id="387" idx="2"/>
            </p:cNvCxnSpPr>
            <p:nvPr/>
          </p:nvCxnSpPr>
          <p:spPr>
            <a:xfrm>
              <a:off x="3163680" y="590040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grpSp>
          <p:nvGrpSpPr>
            <p:cNvPr id="391" name=""/>
            <p:cNvGrpSpPr/>
            <p:nvPr/>
          </p:nvGrpSpPr>
          <p:grpSpPr>
            <a:xfrm>
              <a:off x="2840040" y="5719680"/>
              <a:ext cx="363240" cy="360360"/>
              <a:chOff x="2840040" y="5719680"/>
              <a:chExt cx="363240" cy="360360"/>
            </a:xfrm>
          </p:grpSpPr>
          <p:sp>
            <p:nvSpPr>
              <p:cNvPr id="392" name=""/>
              <p:cNvSpPr/>
              <p:nvPr/>
            </p:nvSpPr>
            <p:spPr>
              <a:xfrm>
                <a:off x="2840040" y="57196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80000" y="57646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}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93" name=""/>
            <p:cNvCxnSpPr>
              <a:stCxn id="385" idx="6"/>
              <a:endCxn id="392" idx="2"/>
            </p:cNvCxnSpPr>
            <p:nvPr/>
          </p:nvCxnSpPr>
          <p:spPr>
            <a:xfrm>
              <a:off x="2462040" y="5900400"/>
              <a:ext cx="378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94" name=""/>
            <p:cNvCxnSpPr>
              <a:stCxn id="350" idx="4"/>
              <a:endCxn id="384" idx="2"/>
            </p:cNvCxnSpPr>
            <p:nvPr/>
          </p:nvCxnSpPr>
          <p:spPr>
            <a:xfrm rot="5400000">
              <a:off x="1605960" y="5186160"/>
              <a:ext cx="1246680" cy="183600"/>
            </a:xfrm>
            <a:prstGeom prst="curvedConnector5">
              <a:avLst>
                <a:gd name="adj1" fmla="val 42663"/>
                <a:gd name="adj2" fmla="val 112573"/>
                <a:gd name="adj3" fmla="val 42663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395" name=""/>
            <p:cNvCxnSpPr>
              <a:stCxn id="396" idx="6"/>
              <a:endCxn id="358" idx="2"/>
            </p:cNvCxnSpPr>
            <p:nvPr/>
          </p:nvCxnSpPr>
          <p:spPr>
            <a:xfrm>
              <a:off x="5027400" y="506700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grpSp>
          <p:nvGrpSpPr>
            <p:cNvPr id="397" name=""/>
            <p:cNvGrpSpPr/>
            <p:nvPr/>
          </p:nvGrpSpPr>
          <p:grpSpPr>
            <a:xfrm>
              <a:off x="4703760" y="4886280"/>
              <a:ext cx="363240" cy="360360"/>
              <a:chOff x="4703760" y="4886280"/>
              <a:chExt cx="363240" cy="360360"/>
            </a:xfrm>
          </p:grpSpPr>
          <p:sp>
            <p:nvSpPr>
              <p:cNvPr id="368" name=""/>
              <p:cNvSpPr/>
              <p:nvPr/>
            </p:nvSpPr>
            <p:spPr>
              <a:xfrm>
                <a:off x="4703760" y="4886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43720" y="49312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!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1368000" y="457200"/>
            <a:ext cx="1885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Example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D1C5-FAD6-47D7-8C8F-FB44CC198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2-28T00:35:04Z</dcterms:created>
  <dc:creator>Florence Y Mong</dc:creator>
  <dc:description/>
  <cp:keywords/>
  <dc:language>en-US</dc:language>
  <cp:lastModifiedBy>Florence Mong</cp:lastModifiedBy>
  <cp:lastPrinted>2001-09-30T16:12:44Z</cp:lastPrinted>
  <dcterms:modified xsi:type="dcterms:W3CDTF">2007-02-12T06:09:51Z</dcterms:modified>
  <cp:revision>237</cp:revision>
  <dc:subject/>
  <dc:title>Heaps</dc:title>
</cp:coreProperties>
</file>