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948-13BA-4A23-B7C5-64A09989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69F-2990-4F4F-92B3-D86FD088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58C-4EDD-4942-A140-C59252F0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16B-26AB-47AC-8D00-8FE97D46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CD1-4667-46D5-91FA-44A6E03C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C74-6EF6-4E49-B702-D754B6B8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949-7B67-46DB-BC92-E5D7E8A5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871-A5D4-4B4B-87EB-75CDD3C2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C02-3A20-4C62-847C-6F639965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E1B-1E75-4CFB-B9FE-B456A7E3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011-88BB-4C20-87B2-9593A95D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E05-69CA-4643-882D-65CD5D96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FA2B-15CC-4A7C-B885-D6FD093AD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n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905120" y="2819520"/>
          <a:ext cx="274320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819520"/>
                    <a:ext cx="2743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>
            <a:hlinkClick r:id="" action="ppaction://hlinkshowjump?jump=nextslide"/>
            <a:hlinkClick r:id="rId4"/>
          </p:cNvPr>
          <p:cNvSpPr/>
          <p:nvPr/>
        </p:nvSpPr>
        <p:spPr>
          <a:xfrm>
            <a:off x="3505320" y="5638680"/>
            <a:ext cx="2057400" cy="762120"/>
          </a:xfrm>
          <a:custGeom>
            <a:avLst/>
            <a:gdLst>
              <a:gd name="textAreaLeft" fmla="*/ 168120 w 2057400"/>
              <a:gd name="textAreaRight" fmla="*/ 1889280 w 2057400"/>
              <a:gd name="textAreaTop" fmla="*/ 168120 h 762120"/>
              <a:gd name="textAreaBottom" fmla="*/ 5940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3523" y="4770"/>
                </a:lnTo>
                <a:lnTo>
                  <a:pt x="4770" y="477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3523" y="16830"/>
                </a:lnTo>
                <a:lnTo>
                  <a:pt x="53523" y="477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4770" y="16830"/>
                </a:lnTo>
                <a:lnTo>
                  <a:pt x="53523" y="1683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4770" y="4770"/>
                </a:lnTo>
                <a:lnTo>
                  <a:pt x="4770" y="16830"/>
                </a:lnTo>
                <a:close/>
              </a:path>
              <a:path fill="darken" w="58293" h="21600">
                <a:moveTo>
                  <a:pt x="24652" y="8556"/>
                </a:moveTo>
                <a:lnTo>
                  <a:pt x="25238" y="8556"/>
                </a:lnTo>
                <a:lnTo>
                  <a:pt x="25484" y="8790"/>
                </a:lnTo>
                <a:lnTo>
                  <a:pt x="31391" y="8790"/>
                </a:lnTo>
                <a:lnTo>
                  <a:pt x="31749" y="9147"/>
                </a:lnTo>
                <a:lnTo>
                  <a:pt x="31749" y="9499"/>
                </a:lnTo>
                <a:lnTo>
                  <a:pt x="32932" y="9499"/>
                </a:lnTo>
                <a:lnTo>
                  <a:pt x="33167" y="9147"/>
                </a:lnTo>
                <a:lnTo>
                  <a:pt x="33641" y="9147"/>
                </a:lnTo>
                <a:lnTo>
                  <a:pt x="33641" y="12453"/>
                </a:lnTo>
                <a:lnTo>
                  <a:pt x="33167" y="12453"/>
                </a:lnTo>
                <a:lnTo>
                  <a:pt x="32932" y="12101"/>
                </a:lnTo>
                <a:lnTo>
                  <a:pt x="31749" y="12101"/>
                </a:lnTo>
                <a:lnTo>
                  <a:pt x="31749" y="12922"/>
                </a:lnTo>
                <a:lnTo>
                  <a:pt x="25601" y="12922"/>
                </a:lnTo>
                <a:lnTo>
                  <a:pt x="25601" y="10208"/>
                </a:lnTo>
                <a:lnTo>
                  <a:pt x="25484" y="10208"/>
                </a:lnTo>
                <a:lnTo>
                  <a:pt x="25238" y="10443"/>
                </a:lnTo>
                <a:lnTo>
                  <a:pt x="24652" y="10443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CATTA F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1828800"/>
            <a:ext cx="3124080" cy="423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Come scattare la tua fo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Arial"/>
                <a:ea typeface="新細明體"/>
              </a:rPr>
              <a:t>- Siediti nella tua sedia di fronte al moni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Arial"/>
                <a:ea typeface="新細明體"/>
              </a:rPr>
              <a:t>- Guarda direttamente nell’obbiet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Arial"/>
                <a:ea typeface="新細明體"/>
              </a:rPr>
              <a:t>- Clicca “SCATTA FOTO”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92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  <a:ea typeface="新細明體"/>
              </a:rPr>
              <a:t>- NO TI MUOVERE MENTRE SCATTI LA FOTO E MANTIENI LO SGUARDO NELLA LENTE !!!, il processo puo’ necessitare di alcuni second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3300"/>
                </a:solidFill>
                <a:latin typeface="Arial"/>
              </a:rPr>
              <a:t>Click “SCATTA FOTO” quando sei pr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79480"/>
            <a:ext cx="4953240" cy="8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ff00"/>
                </a:solidFill>
                <a:latin typeface="Arial"/>
              </a:rPr>
              <a:t>Questo è un test della nuova tecnología SONY. Con questo nuovo sistema convertiamo il tuo monitor in una digital camera e realiziamo un tuo ritrat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on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1905120" y="2819520"/>
          <a:ext cx="274320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819520"/>
                    <a:ext cx="2743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>
            <a:hlinkClick r:id="" action="ppaction://hlinkshowjump?jump=nextslide"/>
            <a:hlinkClick r:id="rId4"/>
          </p:cNvPr>
          <p:cNvSpPr/>
          <p:nvPr/>
        </p:nvSpPr>
        <p:spPr>
          <a:xfrm>
            <a:off x="3505320" y="5638680"/>
            <a:ext cx="2057400" cy="762120"/>
          </a:xfrm>
          <a:custGeom>
            <a:avLst/>
            <a:gdLst>
              <a:gd name="textAreaLeft" fmla="*/ 168120 w 2057400"/>
              <a:gd name="textAreaRight" fmla="*/ 1889280 w 2057400"/>
              <a:gd name="textAreaTop" fmla="*/ 168120 h 762120"/>
              <a:gd name="textAreaBottom" fmla="*/ 5940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3523" y="4770"/>
                </a:lnTo>
                <a:lnTo>
                  <a:pt x="4770" y="477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3523" y="16830"/>
                </a:lnTo>
                <a:lnTo>
                  <a:pt x="53523" y="477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4770" y="16830"/>
                </a:lnTo>
                <a:lnTo>
                  <a:pt x="53523" y="1683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4770" y="4770"/>
                </a:lnTo>
                <a:lnTo>
                  <a:pt x="4770" y="16830"/>
                </a:lnTo>
                <a:close/>
              </a:path>
              <a:path fill="darken" w="58293" h="21600">
                <a:moveTo>
                  <a:pt x="24652" y="8556"/>
                </a:moveTo>
                <a:lnTo>
                  <a:pt x="25238" y="8556"/>
                </a:lnTo>
                <a:lnTo>
                  <a:pt x="25484" y="8790"/>
                </a:lnTo>
                <a:lnTo>
                  <a:pt x="31391" y="8790"/>
                </a:lnTo>
                <a:lnTo>
                  <a:pt x="31749" y="9147"/>
                </a:lnTo>
                <a:lnTo>
                  <a:pt x="31749" y="9499"/>
                </a:lnTo>
                <a:lnTo>
                  <a:pt x="32932" y="9499"/>
                </a:lnTo>
                <a:lnTo>
                  <a:pt x="33167" y="9147"/>
                </a:lnTo>
                <a:lnTo>
                  <a:pt x="33641" y="9147"/>
                </a:lnTo>
                <a:lnTo>
                  <a:pt x="33641" y="12453"/>
                </a:lnTo>
                <a:lnTo>
                  <a:pt x="33167" y="12453"/>
                </a:lnTo>
                <a:lnTo>
                  <a:pt x="32932" y="12101"/>
                </a:lnTo>
                <a:lnTo>
                  <a:pt x="31749" y="12101"/>
                </a:lnTo>
                <a:lnTo>
                  <a:pt x="31749" y="12922"/>
                </a:lnTo>
                <a:lnTo>
                  <a:pt x="25601" y="12922"/>
                </a:lnTo>
                <a:lnTo>
                  <a:pt x="25601" y="10208"/>
                </a:lnTo>
                <a:lnTo>
                  <a:pt x="25484" y="10208"/>
                </a:lnTo>
                <a:lnTo>
                  <a:pt x="25238" y="10443"/>
                </a:lnTo>
                <a:lnTo>
                  <a:pt x="24652" y="10443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CATTA F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828800"/>
            <a:ext cx="60958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’ STATA RILEVATA UN’ILLUMINAZIONE INSUFFICIE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Verrà effettuata una correzione automatica del contrast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una compensazione dei fon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on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  <a:hlinkClick r:id="rId2"/>
          </p:cNvPr>
          <p:cNvSpPr/>
          <p:nvPr/>
        </p:nvSpPr>
        <p:spPr>
          <a:xfrm>
            <a:off x="3657600" y="4648320"/>
            <a:ext cx="2057400" cy="457200"/>
          </a:xfrm>
          <a:custGeom>
            <a:avLst/>
            <a:gdLst>
              <a:gd name="textAreaLeft" fmla="*/ 95040 w 2057400"/>
              <a:gd name="textAreaRight" fmla="*/ 1962360 w 20574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2641" y="4500"/>
                </a:lnTo>
                <a:lnTo>
                  <a:pt x="4500" y="45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2641" y="17100"/>
                </a:lnTo>
                <a:lnTo>
                  <a:pt x="92641" y="45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4500" y="17100"/>
                </a:lnTo>
                <a:lnTo>
                  <a:pt x="92641" y="171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4500" y="4500"/>
                </a:lnTo>
                <a:lnTo>
                  <a:pt x="4500" y="17100"/>
                </a:lnTo>
                <a:close/>
              </a:path>
              <a:path fill="darken" w="97141" h="21600">
                <a:moveTo>
                  <a:pt x="43874" y="8455"/>
                </a:moveTo>
                <a:lnTo>
                  <a:pt x="44487" y="8455"/>
                </a:lnTo>
                <a:lnTo>
                  <a:pt x="44744" y="8700"/>
                </a:lnTo>
                <a:lnTo>
                  <a:pt x="50915" y="8700"/>
                </a:lnTo>
                <a:lnTo>
                  <a:pt x="51289" y="9073"/>
                </a:lnTo>
                <a:lnTo>
                  <a:pt x="51289" y="9441"/>
                </a:lnTo>
                <a:lnTo>
                  <a:pt x="52525" y="9441"/>
                </a:lnTo>
                <a:lnTo>
                  <a:pt x="52770" y="9073"/>
                </a:lnTo>
                <a:lnTo>
                  <a:pt x="53266" y="9073"/>
                </a:lnTo>
                <a:lnTo>
                  <a:pt x="53266" y="12527"/>
                </a:lnTo>
                <a:lnTo>
                  <a:pt x="52770" y="12527"/>
                </a:lnTo>
                <a:lnTo>
                  <a:pt x="52525" y="12159"/>
                </a:lnTo>
                <a:lnTo>
                  <a:pt x="51289" y="12159"/>
                </a:lnTo>
                <a:lnTo>
                  <a:pt x="51289" y="13017"/>
                </a:lnTo>
                <a:lnTo>
                  <a:pt x="44866" y="13017"/>
                </a:lnTo>
                <a:lnTo>
                  <a:pt x="44866" y="10182"/>
                </a:lnTo>
                <a:lnTo>
                  <a:pt x="44744" y="10182"/>
                </a:lnTo>
                <a:lnTo>
                  <a:pt x="44487" y="10427"/>
                </a:lnTo>
                <a:lnTo>
                  <a:pt x="43874" y="10427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SVILUPPA F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3680" y="2792520"/>
            <a:ext cx="17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ff00"/>
                </a:solidFill>
                <a:latin typeface="Arial"/>
              </a:rPr>
              <a:t>100% Comple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9200" y="3368520"/>
            <a:ext cx="3500640" cy="2923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971640"/>
            <a:ext cx="7848720" cy="5886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448920" y="57913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4952880" cy="190512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Diventi più figo ogni giorno che passa 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5105520" y="0"/>
            <a:ext cx="3730320" cy="6857280"/>
            <a:chOff x="5105520" y="0"/>
            <a:chExt cx="3730320" cy="6857280"/>
          </a:xfrm>
        </p:grpSpPr>
        <p:graphicFrame>
          <p:nvGraphicFramePr>
            <p:cNvPr id="60" name=""/>
            <p:cNvGraphicFramePr/>
            <p:nvPr/>
          </p:nvGraphicFramePr>
          <p:xfrm>
            <a:off x="5105520" y="0"/>
            <a:ext cx="3730320" cy="631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0"/>
                      <a:ext cx="3730320" cy="63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211000" y="4252320"/>
              <a:ext cx="3284640" cy="26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04920" y="1447920"/>
            <a:ext cx="4038480" cy="3276360"/>
          </a:xfrm>
          <a:prstGeom prst="wedgeRoundRectCallout">
            <a:avLst>
              <a:gd name="adj1" fmla="val 76731"/>
              <a:gd name="adj2" fmla="val -13662"/>
              <a:gd name="adj3" fmla="val 16667"/>
            </a:avLst>
          </a:prstGeom>
          <a:gradFill rotWithShape="0">
            <a:gsLst>
              <a:gs pos="0">
                <a:srgbClr val="005e00"/>
              </a:gs>
              <a:gs pos="50000">
                <a:srgbClr val="00cc00"/>
              </a:gs>
              <a:gs pos="100000">
                <a:srgbClr val="005e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Bisogna proprio essere rincoglioniti per pensare che con il monitor ti possano scattare fo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Schiaccia ESC e continua a lavorare, cretino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sandro Ottogalli</cp:lastModifiedBy>
  <dcterms:modified xsi:type="dcterms:W3CDTF">1999-11-16T05:25:04Z</dcterms:modified>
  <cp:revision>3</cp:revision>
  <dc:subject/>
  <dc:title>No Slide Title</dc:title>
</cp:coreProperties>
</file>