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126A-3789-448A-97FC-EFE134F2F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C996-E53E-4BBA-96CF-71D26E276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07FF-25F9-4A2C-AD3C-2F82E4B4E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FB77-0F10-4757-9AD2-4A0A1871B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5CC1-41A6-4AE0-A4C2-9D4AE9E1C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A218-7CD8-4366-B10A-9DC50843E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13B3-77EC-4689-8A87-801C5808A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B25D-A755-42E6-8E61-1C95241BA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6C00-4450-4DC6-B4F9-2145D6E55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FB05-BF3B-4CA5-9DAA-C4161B78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B1DC-5A3B-468F-9D4A-19B71A07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606C-F4A6-449A-BEDA-73423D52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EFA20-8E87-42CF-AC64-D89B1403E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71640" y="3141720"/>
            <a:ext cx="72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ffet d’image masqué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42920" y="2851200"/>
            <a:ext cx="7272360" cy="1441440"/>
          </a:xfrm>
          <a:prstGeom prst="rect">
            <a:avLst/>
          </a:prstGeom>
          <a:noFill/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22200" y="54936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Départ à partir d’une photo de pharmacie et un calque de mo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211640" y="3645000"/>
            <a:ext cx="3995640" cy="2419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26920" y="1341360"/>
            <a:ext cx="3816360" cy="2863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42800" y="11635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42800" y="1163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5840" y="525600"/>
            <a:ext cx="69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Réalisation finale une moto qu’on ne voit qu’en observant à la loup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2230560"/>
            <a:ext cx="4038480" cy="3263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310360" y="1600200"/>
            <a:ext cx="2714400" cy="2185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305320" y="3938760"/>
            <a:ext cx="2724120" cy="2187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66560" y="260280"/>
            <a:ext cx="312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Étapes pour réaliser cet effe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26920" y="4581360"/>
            <a:ext cx="73454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FR" sz="1200" spc="-1" strike="noStrike">
                <a:solidFill>
                  <a:srgbClr val="ffff00"/>
                </a:solidFill>
                <a:latin typeface="Times New Roman"/>
              </a:rPr>
              <a:t>On commence par créer un cercle dont on épaissit le contour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FR" sz="1200" spc="-1" strike="noStrike">
                <a:solidFill>
                  <a:srgbClr val="ffff00"/>
                </a:solidFill>
                <a:latin typeface="Times New Roman"/>
              </a:rPr>
              <a:t>On applique à ce contour un dégradé de gri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FR" sz="1200" spc="-1" strike="noStrike">
                <a:solidFill>
                  <a:srgbClr val="ffff00"/>
                </a:solidFill>
                <a:latin typeface="Times New Roman"/>
              </a:rPr>
              <a:t>On applique au cercle un dégradé de transparent vers blanc pour créer la lentill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FR" sz="1200" spc="-1" strike="noStrike">
                <a:solidFill>
                  <a:srgbClr val="ffff00"/>
                </a:solidFill>
                <a:latin typeface="Times New Roman"/>
              </a:rPr>
              <a:t>On construit ensuite le manche en 3 morcea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FR" sz="1200" spc="-1" strike="noStrike">
                <a:solidFill>
                  <a:srgbClr val="ffff00"/>
                </a:solidFill>
                <a:latin typeface="Times New Roman"/>
              </a:rPr>
              <a:t>le raccord optique manche : en faisant un rectangle ou on applique un dégradé de noir vers blanc pour l'effet métalliqu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1200" spc="-1" strike="noStrike">
                <a:solidFill>
                  <a:srgbClr val="ffff00"/>
                </a:solidFill>
                <a:latin typeface="Times New Roman"/>
              </a:rPr>
              <a:t>on y incruste un trou pour faire réalist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FR" sz="1200" spc="-1" strike="noStrike">
                <a:solidFill>
                  <a:srgbClr val="ffff00"/>
                </a:solidFill>
                <a:latin typeface="Times New Roman"/>
              </a:rPr>
              <a:t>le manche constitué d'un rectangle noir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FR" sz="1200" spc="-1" strike="noStrike">
                <a:solidFill>
                  <a:srgbClr val="ffff00"/>
                </a:solidFill>
                <a:latin typeface="Times New Roman"/>
              </a:rPr>
              <a:t>le bout de ce manche en créant la forme avec l'outil plum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1200" spc="-1" strike="noStrike">
                <a:solidFill>
                  <a:srgbClr val="ffff00"/>
                </a:solidFill>
                <a:latin typeface="Times New Roman"/>
              </a:rPr>
              <a:t>on y superpose un point elliptique qu'on flou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3320" y="785880"/>
            <a:ext cx="409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On créé dans un premier temps la lou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3673800" cy="29574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443640" y="1413000"/>
            <a:ext cx="1523880" cy="29527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6200" y="260280"/>
            <a:ext cx="37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Étapes pour réaliser cet effet (suite)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9720" y="785880"/>
            <a:ext cx="78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On créé ensuite la composition de l’image de fond avec incrustation de la m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2895840" cy="2346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292720" y="1413000"/>
            <a:ext cx="1536840" cy="23018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826920" y="3860640"/>
            <a:ext cx="6409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On duplique la photo de la pharmac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On applique un flou gaussien sur la photo dupliqué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On applique un masque de réglage de luminosité/contrast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On importe le calque de la mot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On créé l'ombre de la mot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On aplati les calques constituant la loupe et on y applique   un effet biseautage/estompag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On règle l'ordre des calques pour que l'effet soit effecti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5T11:37:36Z</dcterms:created>
  <dc:creator>home</dc:creator>
  <dc:description/>
  <dc:language>en-US</dc:language>
  <cp:lastModifiedBy>home</cp:lastModifiedBy>
  <dcterms:modified xsi:type="dcterms:W3CDTF">2007-12-08T14:54:24Z</dcterms:modified>
  <cp:revision>47</cp:revision>
  <dc:subject/>
  <dc:title>Diapositive 1</dc:title>
</cp:coreProperties>
</file>