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D7D8-06B1-4937-8067-187DF93C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4DC6-0FB9-4FE6-AEC4-32F7A8D2A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E75-1040-444A-BCD7-070BE8AC0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32AD-674F-4D46-8C9F-0002205F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447A-AB43-4FF8-8347-7F00CABFF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36AD-A34E-4C26-AF30-872CA44B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A0B0-BECC-4301-A019-729D28E7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FCD0-EAD3-4C13-AD3E-19C5BF0A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C1A0-EFE1-4259-B43D-3B382D5A4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4F8DA-208F-4358-9D7F-ACA9D762B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2D5C9-FB50-43E5-B6D5-1F2603873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DB4E-1929-45B8-870D-D615D1C8A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A9E66-75B9-4F87-A4CF-E47A13078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8488C-5D81-40A3-AC08-D830C634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52EBD-2258-49DB-90FD-475DD3428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5579F-BB23-4BD7-AADC-C4E85ADC7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1FEF1-53A1-4187-B091-69FFBCD5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22BEE-23A6-4958-A756-129D399B9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9487-80F3-4788-8EFF-6C87279F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CB9F-679C-4A80-B2D9-CDB2B0E2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FA50-5755-4BEE-8729-A792E5D6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3B7B-AADE-4715-A002-76D3109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1403-9181-4030-BE44-DF4636CF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0E32-72F1-49C3-9D94-EF9610CBA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0020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435-1B7B-4114-85AC-7294B1132110}" type="slidenum"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192240" y="228600"/>
          <a:ext cx="1215720" cy="1447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2240" y="228600"/>
                    <a:ext cx="121572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" name=""/>
          <p:cNvGrpSpPr/>
          <p:nvPr/>
        </p:nvGrpSpPr>
        <p:grpSpPr>
          <a:xfrm>
            <a:off x="152280" y="5867280"/>
            <a:ext cx="1142640" cy="314280"/>
            <a:chOff x="152280" y="5867280"/>
            <a:chExt cx="1142640" cy="314280"/>
          </a:xfrm>
        </p:grpSpPr>
        <p:sp>
          <p:nvSpPr>
            <p:cNvPr id="8" name=""/>
            <p:cNvSpPr txBox="1"/>
            <p:nvPr/>
          </p:nvSpPr>
          <p:spPr>
            <a:xfrm>
              <a:off x="152280" y="5867280"/>
              <a:ext cx="708120" cy="31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in</a:t>
              </a:r>
              <a:endPara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" name=""/>
            <p:cNvSpPr txBox="1"/>
            <p:nvPr/>
          </p:nvSpPr>
          <p:spPr>
            <a:xfrm>
              <a:off x="896400" y="5871240"/>
              <a:ext cx="235800" cy="31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</a:t>
              </a:r>
              <a:endPara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0" name=""/>
            <p:cNvSpPr txBox="1"/>
            <p:nvPr/>
          </p:nvSpPr>
          <p:spPr>
            <a:xfrm>
              <a:off x="1161720" y="5871240"/>
              <a:ext cx="133200" cy="310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I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828800" y="6172200"/>
            <a:ext cx="601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6 de julio de 20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484200" y="228600"/>
          <a:ext cx="1344600" cy="16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228600"/>
                    <a:ext cx="134460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809800" y="1414440"/>
            <a:ext cx="50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REPUBLICA BOLIVARIANA DE VENEZU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09680" y="1611360"/>
            <a:ext cx="556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MINISTERIO DE COMUNICACIÓN E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 Black"/>
              </a:rPr>
              <a:t>Despacho de la Vice Ministra de Medios e Informació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3236760" y="485640"/>
            <a:ext cx="3351600" cy="733320"/>
            <a:chOff x="3236760" y="485640"/>
            <a:chExt cx="3351600" cy="733320"/>
          </a:xfrm>
        </p:grpSpPr>
        <p:sp>
          <p:nvSpPr>
            <p:cNvPr id="94" name=""/>
            <p:cNvSpPr txBox="1"/>
            <p:nvPr/>
          </p:nvSpPr>
          <p:spPr>
            <a:xfrm>
              <a:off x="3236760" y="485640"/>
              <a:ext cx="207720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cc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Min</a:t>
              </a:r>
              <a:endPara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5" name=""/>
            <p:cNvSpPr txBox="1"/>
            <p:nvPr/>
          </p:nvSpPr>
          <p:spPr>
            <a:xfrm>
              <a:off x="5419440" y="495000"/>
              <a:ext cx="69192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3366ff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c</a:t>
              </a:r>
              <a:endParaRPr b="0" lang="en-US" sz="24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96" name=""/>
            <p:cNvSpPr txBox="1"/>
            <p:nvPr/>
          </p:nvSpPr>
          <p:spPr>
            <a:xfrm>
              <a:off x="6197400" y="495000"/>
              <a:ext cx="390960" cy="723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/>
                    </a:outerShdw>
                  </a:effectLst>
                  <a:latin typeface="Impact"/>
                </a:rPr>
                <a:t>I</a:t>
              </a:r>
              <a:endParaRPr b="0" lang="en-US" sz="24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990720" y="2590920"/>
            <a:ext cx="7315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TRATÉGIA COMUNICACIONAL PARA PROMOVER EL LANZAMIENTO DE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UNIVERSIDAD </a:t>
            </a:r>
            <a:r>
              <a:rPr b="1" lang="es-ES" sz="2800" spc="-1" strike="noStrike">
                <a:solidFill>
                  <a:srgbClr val="ff3300"/>
                </a:solidFill>
                <a:latin typeface="Times New Roman"/>
              </a:rPr>
              <a:t>BOLIVARIANA 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Times New Roman"/>
              </a:rPr>
              <a:t>VENEZUE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0D1A9-D0E7-4712-9A6E-485694BA20B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906560" y="668160"/>
            <a:ext cx="61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Verdana"/>
              </a:rPr>
              <a:t>PRINCIPIO FUNDAMENTAL</a:t>
            </a:r>
            <a:r>
              <a:rPr b="1" lang="es-ES" sz="2400" spc="-1" strike="noStrike">
                <a:solidFill>
                  <a:srgbClr val="0033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1604880"/>
            <a:ext cx="7315200" cy="47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40000"/>
              </a:lnSpc>
              <a:spcBef>
                <a:spcPts val="87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La Universidad Bolivariana de Venezuela fundamenta su origen en el marco de los principios y derechos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agrados en la Constitución Bolivariana de Venezuela, la democracia en la educación superior, como una de las expresiones y condiciones fundamentales de la democratización social, se convierte en un asunto de interés del Estado venezolano, en el cual se inscribe la creación de la 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Universidad Bolivariana de Venezuela como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proyecto educativo y social</a:t>
            </a:r>
            <a:r>
              <a:rPr b="1" i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  <a:ea typeface="Times New Roman"/>
              </a:rPr>
              <a:t>vinculado a las demandas del desarrollo integral de la Nación que plantea entre sus condiciones fundamentales la elevación del nivel cultural y educativo del pueblo venezolano, la creación permanente de una cultura democrática y la formación integral de profesionales con profundo sentido de país y al servicio de los intereses nacionales.</a:t>
            </a:r>
            <a:r>
              <a:rPr b="1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El mejor gobierno es aquel que da la mayor suma de felicidades a su pueblo”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                                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Simón Bolív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B536-710B-43F2-B201-2B6868F73A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26920" y="533520"/>
            <a:ext cx="497844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Verdana"/>
              </a:rPr>
              <a:t>OBJETIVO GENERAL 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2155680"/>
            <a:ext cx="7010280" cy="14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7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Tahoma"/>
              </a:rPr>
              <a:t>Formar un ejército de profesionales con criterio de autodeterminación y sentido patriótico que pueda ayudar a construir la Venezuela Bolivaria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C23C-513C-430D-ADFF-C29A4030CE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609120"/>
            <a:ext cx="71881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99"/>
                </a:solidFill>
                <a:latin typeface="Verdana"/>
              </a:rPr>
              <a:t>JUSTIFICACIÓN</a:t>
            </a:r>
            <a:endParaRPr b="0" i="1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371600" y="1641600"/>
            <a:ext cx="7086600" cy="39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60000"/>
              </a:lnSpc>
              <a:spcBef>
                <a:spcPts val="1001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Más allá de la insuficiente capacidad física de las universidades públicas... los vicios administrativos, políticos y académicos enquistados en nuestras máximas casas de estudio, además de los elevados costos directos o indirectos han generado un cerco a un amplio porcentaje de bachilleres que teniendo la intención, no cuentan con los recursos, ni las influencias para acceder a un cupo universitario. La Universidad Bolivariana de Venezuela debe ser entonces la alternativa democrática que dé forma material a los preceptos constitucionales que ordenan la garantía de estudio en igualdad de condiciones para todos los venezolano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6D9D-0800-4D9D-9392-F3540B2A13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181480" y="696960"/>
            <a:ext cx="3505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Verdana"/>
              </a:rPr>
              <a:t>ANÁLISIS DO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05720" y="1143000"/>
            <a:ext cx="188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FORTALEZ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08240" y="665280"/>
            <a:ext cx="52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84960" y="2798640"/>
            <a:ext cx="527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001960"/>
            <a:ext cx="6934320" cy="28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 gratui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úblic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ce para acoger a los exclui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s nacional (Con núcleos regional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5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valada por el Ministerio de Educación Super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6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talaciones modernas y equip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0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7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ores seleccionados por concurs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F236-25A4-4B5E-A97F-FE43A0BB01F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181480" y="696960"/>
            <a:ext cx="350532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6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Verdana"/>
              </a:rPr>
              <a:t>ANÁLISIS DO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143000"/>
            <a:ext cx="2495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OPORTUN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2057400"/>
            <a:ext cx="7315200" cy="280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1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Gran número de excluidos de las Univers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vado costo de las actuales univers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3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aturación de las universidades actu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4.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nsación de discriminación social y económica en las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ctuales universidades públic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30000"/>
              </a:lnSpc>
              <a:spcBef>
                <a:spcPts val="1125"/>
              </a:spcBef>
              <a:buClr>
                <a:srgbClr val="996633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5.      Elevado costo de las universidades privada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7F1E-3963-4EBE-807A-4AEDD26A74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133720" y="612720"/>
            <a:ext cx="6811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Verdana"/>
              </a:rPr>
              <a:t>UNIVERSIDAD BOLIVARIANA DE VENEZUE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1600200"/>
            <a:ext cx="7467480" cy="43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recho Constitucional a la edu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Vinculación al Desarrollo Endógeno y susten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Justicia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Democracia Particip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onstrucción de un paí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ormar de manera integral: Como profesional, como persona, como ciudad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quidad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Calidad e innov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89000"/>
            <a:ext cx="4496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Ideas a ser comunic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D647-37E4-4675-9D58-8A70F421627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2133720" y="612720"/>
            <a:ext cx="6811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Verdana"/>
              </a:rPr>
              <a:t>UNIVERSIDAD BOLIVARIANA DE VENEZUE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19320" y="1828800"/>
            <a:ext cx="7467480" cy="380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l ideario Bolivari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jercicio de pensamiento crít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Formación Integ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ducación Humanista y étic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Educación a lo largo de toda la vi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Areas de estudio novedosas y sensibles al Desarrollo Soci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13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Importancia de lo comunitario, lo social y las micro- experiencia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189000"/>
            <a:ext cx="4876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Tahoma"/>
              </a:rPr>
              <a:t>Ideas a ser comunic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9D99-45BE-4B0D-8887-2FF02CB0C4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19320" y="1365120"/>
            <a:ext cx="7696080" cy="50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Telefonos de conta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 de Educación Sup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sesor: Andres Eloy Ruiz- 0414 3045649 Ubicación: Edif. Chaguara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sesora: Magaldy Téllez- 0416 60572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sesora: Marina Smejo- 0414 1277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Viceministra María Egilga Castellano- 0414 264175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ro Héctor Navarro- 79424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Zenaida Hernandez- 0416613197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Ministerio de Energía y Min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ntonio Hernandez- 708.7337-7338 – 0416824424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ngeniero de la obra: Armando Hernandez - 70873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rquitecto de la obra: Hector Renault- 708.18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Directora de In formación: Vivian Alvarado- 0412 9819810 - 041681010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INAJ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Enrique Ramos- 0414842626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Verdana"/>
                <a:ea typeface="Times New Roman"/>
              </a:rPr>
              <a:t>Alberto Castelar- 0416618007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133720" y="374760"/>
            <a:ext cx="6811920" cy="9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cc6600"/>
                </a:solidFill>
                <a:latin typeface="Verdana"/>
              </a:rPr>
              <a:t>UNIVERSIDAD BOLIVARIANA DE VENEZUEL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77080" y="69840"/>
            <a:ext cx="1886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ahoma"/>
              </a:rPr>
              <a:t>Conta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74BD-6F6C-4A75-AFA9-13F51F2818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0T21:11:03Z</dcterms:created>
  <dc:creator>Elena Jensen </dc:creator>
  <dc:description/>
  <dc:language>en-US</dc:language>
  <cp:lastModifiedBy>balfaro</cp:lastModifiedBy>
  <dcterms:modified xsi:type="dcterms:W3CDTF">2003-07-22T16:25:48Z</dcterms:modified>
  <cp:revision>52</cp:revision>
  <dc:subject/>
  <dc:title>Reunión de Directores  de Información</dc:title>
</cp:coreProperties>
</file>