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047B-653F-47E6-A156-E1317B3D0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533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9520" y="3912120"/>
            <a:ext cx="533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8E5C-167E-4447-B7B8-F4E1B2A2C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000" y="152388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9520" y="391212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000" y="391212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74E-0BBC-4A5C-8818-1B683DDD6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171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13120" y="1523880"/>
            <a:ext cx="171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416360" y="1523880"/>
            <a:ext cx="171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9520" y="3912120"/>
            <a:ext cx="171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613120" y="3912120"/>
            <a:ext cx="171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416360" y="3912120"/>
            <a:ext cx="171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B2C0E-6569-4363-86E9-E9BAA311A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952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8DCD-1354-46B6-8C37-374AB723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9AD1-C07D-4785-8D98-05EE366C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260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000" y="1523880"/>
            <a:ext cx="260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DF77-069E-4B77-9FCB-9F4C08500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E84B-6F50-427F-B06A-7E5B7DA23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4572000" cy="812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30BA-3C2D-40C6-8B63-F21910D89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000" y="1523880"/>
            <a:ext cx="260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9520" y="391212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604-B539-4903-887C-DEB9859CE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2602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000" y="152388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000" y="391212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818-4A7E-46F2-A766-02F7823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000" y="1523880"/>
            <a:ext cx="2602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9520" y="3912120"/>
            <a:ext cx="533412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04A-71E4-400E-AE81-A0A51CDF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952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83B13-D69E-40E9-A4F3-B24F95E7D3B2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l modelo de acceso para la población regular de la Universidad Bolivariana de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381720" y="333360"/>
            <a:ext cx="2536920" cy="61977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90440" y="133200"/>
            <a:ext cx="14940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"/>
          <p:cNvGrpSpPr/>
          <p:nvPr/>
        </p:nvGrpSpPr>
        <p:grpSpPr>
          <a:xfrm>
            <a:off x="228600" y="1447920"/>
            <a:ext cx="8610480" cy="1344240"/>
            <a:chOff x="228600" y="1447920"/>
            <a:chExt cx="8610480" cy="1344240"/>
          </a:xfrm>
        </p:grpSpPr>
        <p:sp>
          <p:nvSpPr>
            <p:cNvPr id="73" name=""/>
            <p:cNvSpPr/>
            <p:nvPr/>
          </p:nvSpPr>
          <p:spPr>
            <a:xfrm>
              <a:off x="3504960" y="1447920"/>
              <a:ext cx="1981440" cy="914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lante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duc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8000" y="1447920"/>
              <a:ext cx="1981080" cy="914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Aspirant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28600" y="1447920"/>
              <a:ext cx="1981080" cy="914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UB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3"/>
              <a:endCxn id="73" idx="1"/>
            </p:cNvCxnSpPr>
            <p:nvPr/>
          </p:nvCxnSpPr>
          <p:spPr>
            <a:xfrm>
              <a:off x="2209680" y="1904760"/>
              <a:ext cx="129600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" name=""/>
            <p:cNvCxnSpPr>
              <a:stCxn id="73" idx="3"/>
              <a:endCxn id="74" idx="1"/>
            </p:cNvCxnSpPr>
            <p:nvPr/>
          </p:nvCxnSpPr>
          <p:spPr>
            <a:xfrm>
              <a:off x="5486400" y="1904760"/>
              <a:ext cx="137232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" name=""/>
            <p:cNvCxnSpPr>
              <a:stCxn id="74" idx="2"/>
              <a:endCxn id="75" idx="2"/>
            </p:cNvCxnSpPr>
            <p:nvPr/>
          </p:nvCxnSpPr>
          <p:spPr>
            <a:xfrm rot="5400000">
              <a:off x="4532040" y="-951840"/>
              <a:ext cx="2160" cy="6630120"/>
            </a:xfrm>
            <a:prstGeom prst="bentConnector3">
              <a:avLst>
                <a:gd name="adj1" fmla="val 2388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79" name=""/>
          <p:cNvSpPr/>
          <p:nvPr/>
        </p:nvSpPr>
        <p:spPr>
          <a:xfrm>
            <a:off x="1295280" y="2971800"/>
            <a:ext cx="647712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UBV selecciona a los aspirantes a partir de una comparación interna del propio plantel y envía la información al mism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teriormente, ese aspirante se somete al proceso de evaluación de la UBV para poder ingresar (entrevistas cara a cara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Evolución de la exclusión en Venezu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6381720" y="333360"/>
            <a:ext cx="2536920" cy="61977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190440" y="133200"/>
            <a:ext cx="1494000" cy="149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xcluidos de los excluidos: sectores socio-económicos deprimi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762120" y="1714680"/>
          <a:ext cx="756288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714680"/>
                    <a:ext cx="7562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753480" y="510552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. Citado por Fuenmayor y Vidal (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excluidos de los excluidos: bachilleres de institutos ofic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762120" y="1828800"/>
          <a:ext cx="7638840" cy="259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3884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932760" y="457200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. Citado por Fuenmayor y Vidal (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s últimas décadas de la desigual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43040" y="9907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de el año 1984 se ha manifestado una tendencia perversa de exclusión en el sistema de educación super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 aspirantes de estratos altos y medio alto incrementaron sus ingresos en proporciones tales que menos del 20% se veía fuera de las univer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 contraste, los sectores medio bajo, obrero y marginal, redujeron sus estudiantes en un tercio, un medio y dos tercios respectiv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ha determinado que 2 estudiantes de planteles privados ingresen por cada uno de origen oficial, a pesar de que los últimos superen en el número total de aspirantes a los pri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228600" y="1371600"/>
          <a:ext cx="41911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41911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96280" y="6202440"/>
            <a:ext cx="41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. Citado por Fuenmayor y Vidal (20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4120" y="3352680"/>
            <a:ext cx="30477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rea Gonzá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ván Fidel Rend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 Crisey Por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ría Alejandra Agu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los Gonzá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ancis Chiri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990720"/>
            <a:ext cx="48006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quipo de la UB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usiones selecti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9520" y="1523880"/>
            <a:ext cx="5334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 Proceso de Asignación Nacional CNU-OPSU (2003) ha permitido el ingreso de 44.189 aspirantes a la educación superior de un total de 416.64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 significa que aproximadamente uno de cada 10 aspirantes pueden acceder por esta vía (89,39% de IEX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sta este punto se reproduce un sistema relativamente equitativo entre los tipos de pobl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s otras formas de ingreso son: pruebas de selección, cursos propedéuticos, convenios gremiales, deportivos culturales, y por sobre todas las cosas los pagos de matrículas en institutos priv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04920" y="2362320"/>
          <a:ext cx="3581280" cy="1600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362320"/>
                    <a:ext cx="3581280" cy="16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33520" y="403848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irantes exclu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1905120"/>
          <a:ext cx="7467480" cy="304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467480" cy="30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990720" y="502920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Caso Ca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14800" y="1523880"/>
            <a:ext cx="50292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suma total de los planteles oficiales en el área del Municipio Libertador y los estados Miranda y Vargas es de 19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estos planteles egresarán aproximadamente 21.622 bachilleres este añ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ólo 1949 fueron asignados por el PAN CNU-OP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onfabulación se expresa en un índice de exclusión que supera el 90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nado a ello, 25 de estos 190 planteles no tuvieron ningún asig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171360" y="2209680"/>
          <a:ext cx="3810240" cy="167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2209680"/>
                    <a:ext cx="3810240" cy="16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28600" y="40384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discreta porción ofi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399960" y="1523880"/>
          <a:ext cx="8401320" cy="445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9960" y="1523880"/>
                    <a:ext cx="840132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1162080" y="59436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 Universidad Bolivariana de Venezuela: un intento de revertir la tend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8284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modelo de acceso acota la población regular según los siguiente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Nivel de exclusión: donde se establecen cuatro categorías de planteles según el índice de exclusió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uy Alto: superiores al 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lto: índices entre 90 y 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no: los índices se encuentran entre 80 y 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ajo: inferiores a 80%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apacidad del plantel: determinado por el número de aspirantes, tres categorí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Grandes: mas de 100 aspirant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dianos: entre 50 y 100 aspi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equeños: menos de 50 aspir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ción de los planteles ofi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62120" y="1828800"/>
          <a:ext cx="7619760" cy="2666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828800"/>
                    <a:ext cx="761976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838080" y="457200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ente CNU-OPSU (200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 Modelo de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523880"/>
            <a:ext cx="75438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 ruta que corresponde a la población regular asume como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ioridad de los planteles grandes respecto a los medianos y de estos respecto a los pequeños; 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prioridad de los planteles con muy alto nivel de exclusión respecto a los al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dos estos se ven acotados por otros criter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vel socioeconómico: Medio Bajo, Obrero y Margin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dmitidos en otras univers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15T16:51:57Z</dcterms:created>
  <dc:creator>UBV3</dc:creator>
  <dc:description/>
  <dc:language>en-US</dc:language>
  <cp:lastModifiedBy>balfaro</cp:lastModifiedBy>
  <cp:lastPrinted>2003-07-15T22:08:12Z</cp:lastPrinted>
  <dcterms:modified xsi:type="dcterms:W3CDTF">2003-07-22T16:26:39Z</dcterms:modified>
  <cp:revision>28</cp:revision>
  <dc:subject/>
  <dc:title>Aspirantes excluidos</dc:title>
</cp:coreProperties>
</file>