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47E-08AE-4DB4-BD9F-A4D05BC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FA3-CF9F-4002-A2DB-8049B9D8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A7E-88FD-4BAB-B1C2-E897F19B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79A-DE9F-4E91-A197-AA954D56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843-EB3A-44CD-96B7-401318C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3AE-49E9-4E19-B6CE-39BF444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F34-E46E-482A-9952-2B3B4F8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029-1EA0-413A-8137-4455CE5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7DF-5B98-48CC-BBB1-9BB1319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65E-5973-4190-A29B-5612614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459-5295-4892-BDCC-A70B021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37C-D42B-4819-891A-0F85CC1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A43-70EF-4F47-93E1-378926C3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lma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57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609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u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avuc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72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pana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ispanak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36432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arnabah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karnabahar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6581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arpu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arpuz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0386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av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kavun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ırmızı bi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kirmizibiber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revi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kkereviz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uru soğ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kurusogan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2223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şil soğ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yesilsogan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6511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h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ahan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9448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ra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kiraz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343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arul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324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dan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aydanoz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055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nc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ancar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174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tlı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atlican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6390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Şalga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algam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1385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turp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12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şil bi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yesilbiber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63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3623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www.usta.gen.tr.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rusta@ttnet.net.t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rusta@mynet.c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Şeft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eftali" descr=""/>
          <p:cNvPicPr/>
          <p:nvPr/>
        </p:nvPicPr>
        <p:blipFill>
          <a:blip r:embed="rId1"/>
          <a:stretch/>
        </p:blipFill>
        <p:spPr>
          <a:xfrm>
            <a:off x="2768760" y="1193760"/>
            <a:ext cx="42624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ri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rik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4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amya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270320" cy="522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2320" y="228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my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zely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zelye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52412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ma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domates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atalı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iyar" descr=""/>
          <p:cNvPicPr/>
          <p:nvPr/>
        </p:nvPicPr>
        <p:blipFill>
          <a:blip r:embed="rId1"/>
          <a:stretch/>
        </p:blipFill>
        <p:spPr>
          <a:xfrm>
            <a:off x="2685960" y="1219320"/>
            <a:ext cx="386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38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suly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asulye" descr=""/>
          <p:cNvPicPr/>
          <p:nvPr/>
        </p:nvPicPr>
        <p:blipFill>
          <a:blip r:embed="rId1"/>
          <a:stretch/>
        </p:blipFill>
        <p:spPr>
          <a:xfrm>
            <a:off x="2463840" y="1714680"/>
            <a:ext cx="3860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5T10:20:56Z</dcterms:created>
  <dc:creator>x</dc:creator>
  <dc:description/>
  <dc:language>en-US</dc:language>
  <cp:lastModifiedBy>USTA</cp:lastModifiedBy>
  <dcterms:modified xsi:type="dcterms:W3CDTF">2002-03-24T08:57:05Z</dcterms:modified>
  <cp:revision>2</cp:revision>
  <dc:subject/>
  <dc:title>Slayt Başlığı Yok</dc:title>
</cp:coreProperties>
</file>