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Robot02b.wav" ContentType="audio/x-wav"/>
  <Override PartName="/ppt/media/image5.wmf" ContentType="image/x-wmf"/>
  <Override PartName="/ppt/media/LASER.WAV" ContentType="audio/x-wav"/>
  <Override PartName="/ppt/media/Utopi02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F5D-28F8-4008-B620-46AE9BF9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E37-7CB7-4CBB-A909-2BEB3EC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702-D2DB-4151-8949-B108E16C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868-4A76-4EA4-8194-E24265BD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C36-2C48-4D43-B442-89BF75A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3AC-B20B-477A-A077-E72C9907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0FD-3CF4-46FD-86E8-C0BEA7F3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142-922F-45DD-8F2F-0EFAEA89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016-7FD1-4437-95D1-9FE2F3E6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084-5414-4730-BA18-D691135E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A3F-7F65-4625-9224-79166FC4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E16-4F68-4D00-B507-D859836A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6560"/>
            <a:chOff x="0" y="0"/>
            <a:chExt cx="17524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374760"/>
              <a:ext cx="1525680" cy="1226880"/>
              <a:chOff x="152280" y="374760"/>
              <a:chExt cx="1525680" cy="1226880"/>
            </a:xfrm>
          </p:grpSpPr>
          <p:sp>
            <p:nvSpPr>
              <p:cNvPr id="3" name=""/>
              <p:cNvSpPr/>
              <p:nvPr/>
            </p:nvSpPr>
            <p:spPr>
              <a:xfrm>
                <a:off x="117144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318" y="198"/>
                    </a:moveTo>
                    <a:lnTo>
                      <a:pt x="318" y="318"/>
                    </a:lnTo>
                    <a:lnTo>
                      <a:pt x="1" y="99"/>
                    </a:lnTo>
                    <a:lnTo>
                      <a:pt x="0" y="108"/>
                    </a:lnTo>
                    <a:lnTo>
                      <a:pt x="46" y="0"/>
                    </a:lnTo>
                    <a:lnTo>
                      <a:pt x="318" y="198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5228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0" y="198"/>
                    </a:moveTo>
                    <a:lnTo>
                      <a:pt x="0" y="318"/>
                    </a:lnTo>
                    <a:lnTo>
                      <a:pt x="316" y="99"/>
                    </a:lnTo>
                    <a:lnTo>
                      <a:pt x="318" y="108"/>
                    </a:lnTo>
                    <a:lnTo>
                      <a:pt x="271" y="0"/>
                    </a:lnTo>
                    <a:lnTo>
                      <a:pt x="0" y="198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40480" y="374760"/>
                <a:ext cx="1307160" cy="1226880"/>
                <a:chOff x="240480" y="374760"/>
                <a:chExt cx="1307160" cy="122688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40120" y="374760"/>
                  <a:ext cx="1305000" cy="122544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41200" y="374760"/>
                  <a:ext cx="65412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411" y="772"/>
                      </a:moveTo>
                      <a:lnTo>
                        <a:pt x="411" y="637"/>
                      </a:lnTo>
                      <a:lnTo>
                        <a:pt x="127" y="75"/>
                      </a:lnTo>
                      <a:lnTo>
                        <a:pt x="0" y="0"/>
                      </a:lnTo>
                      <a:lnTo>
                        <a:pt x="411" y="772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41200" y="374760"/>
                  <a:ext cx="1306440" cy="122040"/>
                </a:xfrm>
                <a:custGeom>
                  <a:avLst/>
                  <a:gdLst/>
                  <a:ahLst/>
                  <a:rect l="l" t="t" r="r" b="b"/>
                  <a:pathLst>
                    <a:path w="823" h="77">
                      <a:moveTo>
                        <a:pt x="0" y="0"/>
                      </a:moveTo>
                      <a:lnTo>
                        <a:pt x="127" y="76"/>
                      </a:lnTo>
                      <a:lnTo>
                        <a:pt x="712" y="76"/>
                      </a:lnTo>
                      <a:lnTo>
                        <a:pt x="8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93880" y="374760"/>
                  <a:ext cx="65376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0" y="772"/>
                      </a:moveTo>
                      <a:lnTo>
                        <a:pt x="0" y="637"/>
                      </a:lnTo>
                      <a:lnTo>
                        <a:pt x="283" y="75"/>
                      </a:lnTo>
                      <a:lnTo>
                        <a:pt x="411" y="0"/>
                      </a:lnTo>
                      <a:lnTo>
                        <a:pt x="0" y="772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52280" y="1117440"/>
                <a:ext cx="1522440" cy="1731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9B1-8DBE-40A0-9627-C5825BC1C177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2110-AAD2-4036-8E62-B161C17DD0D8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3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33720" y="472680"/>
              <a:ext cx="4878360" cy="3491280"/>
              <a:chOff x="2133720" y="472680"/>
              <a:chExt cx="4878360" cy="3491280"/>
            </a:xfrm>
          </p:grpSpPr>
          <p:sp>
            <p:nvSpPr>
              <p:cNvPr id="55" name=""/>
              <p:cNvSpPr/>
              <p:nvPr/>
            </p:nvSpPr>
            <p:spPr>
              <a:xfrm>
                <a:off x="2133720" y="1643040"/>
                <a:ext cx="161748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0" y="566"/>
                    </a:moveTo>
                    <a:lnTo>
                      <a:pt x="0" y="906"/>
                    </a:lnTo>
                    <a:lnTo>
                      <a:pt x="1014" y="283"/>
                    </a:lnTo>
                    <a:lnTo>
                      <a:pt x="1018" y="307"/>
                    </a:lnTo>
                    <a:lnTo>
                      <a:pt x="869" y="0"/>
                    </a:lnTo>
                    <a:lnTo>
                      <a:pt x="0" y="56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94240" y="1643040"/>
                <a:ext cx="161784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1018" y="566"/>
                    </a:moveTo>
                    <a:lnTo>
                      <a:pt x="1018" y="906"/>
                    </a:lnTo>
                    <a:lnTo>
                      <a:pt x="3" y="283"/>
                    </a:lnTo>
                    <a:lnTo>
                      <a:pt x="0" y="307"/>
                    </a:lnTo>
                    <a:lnTo>
                      <a:pt x="148" y="0"/>
                    </a:lnTo>
                    <a:lnTo>
                      <a:pt x="1018" y="566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494080" y="472680"/>
                <a:ext cx="4178160" cy="3491280"/>
                <a:chOff x="2494080" y="472680"/>
                <a:chExt cx="4178160" cy="3491280"/>
              </a:xfrm>
            </p:grpSpPr>
            <p:sp>
              <p:nvSpPr>
                <p:cNvPr id="58" name=""/>
                <p:cNvSpPr/>
                <p:nvPr/>
              </p:nvSpPr>
              <p:spPr>
                <a:xfrm flipH="1" rot="10800000">
                  <a:off x="2494080" y="472680"/>
                  <a:ext cx="4176720" cy="348948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94080" y="473040"/>
                  <a:ext cx="2089080" cy="3490920"/>
                </a:xfrm>
                <a:custGeom>
                  <a:avLst/>
                  <a:gdLst/>
                  <a:ahLst/>
                  <a:rect l="l" t="t" r="r" b="b"/>
                  <a:pathLst>
                    <a:path w="1316" h="2199">
                      <a:moveTo>
                        <a:pt x="1315" y="2198"/>
                      </a:moveTo>
                      <a:lnTo>
                        <a:pt x="1315" y="1815"/>
                      </a:lnTo>
                      <a:lnTo>
                        <a:pt x="409" y="214"/>
                      </a:lnTo>
                      <a:lnTo>
                        <a:pt x="0" y="0"/>
                      </a:lnTo>
                      <a:lnTo>
                        <a:pt x="1315" y="2198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94080" y="473040"/>
                  <a:ext cx="4178160" cy="344520"/>
                </a:xfrm>
                <a:custGeom>
                  <a:avLst/>
                  <a:gdLst/>
                  <a:ahLst/>
                  <a:rect l="l" t="t" r="r" b="b"/>
                  <a:pathLst>
                    <a:path w="2632" h="217">
                      <a:moveTo>
                        <a:pt x="0" y="0"/>
                      </a:moveTo>
                      <a:lnTo>
                        <a:pt x="409" y="216"/>
                      </a:lnTo>
                      <a:lnTo>
                        <a:pt x="2279" y="216"/>
                      </a:lnTo>
                      <a:lnTo>
                        <a:pt x="26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581360" y="473040"/>
                  <a:ext cx="2090880" cy="3490920"/>
                </a:xfrm>
                <a:custGeom>
                  <a:avLst/>
                  <a:gdLst/>
                  <a:ahLst/>
                  <a:rect l="l" t="t" r="r" b="b"/>
                  <a:pathLst>
                    <a:path w="1317" h="2199">
                      <a:moveTo>
                        <a:pt x="0" y="2198"/>
                      </a:moveTo>
                      <a:lnTo>
                        <a:pt x="0" y="1815"/>
                      </a:lnTo>
                      <a:lnTo>
                        <a:pt x="906" y="214"/>
                      </a:lnTo>
                      <a:lnTo>
                        <a:pt x="1316" y="0"/>
                      </a:lnTo>
                      <a:lnTo>
                        <a:pt x="0" y="2198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2133720" y="2589120"/>
                <a:ext cx="4871880" cy="492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Robot02b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Robot02b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Robot02b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Robot02b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Utopi02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Utopi02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5105520" cy="1202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ESCUELA DE FONOAUDI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FACULTAD DE CIENCIAS MÉDIC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UNIVERSIDAD NACIONAL DE ROSA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3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 síntesi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nterNet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es otra oportunidad más. No reemplaza libros, publicaciones períodicas, trabajos de campo, ni la comunicación cara a ca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s otro, uno más, un enorme proyecto abierto.    Y debemos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prevenirnos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para que continúe, con mayor extensión y apertura.  Sin restricciones, sin costos, sin intervenciones extern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spacio donde si bien hay negocios y chatarra, también conlleva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libertad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de expresión, extrema velocidad,  gran interactividad,  sin censu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0A4-C067-4F52-8EF7-44FB503981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FD414-D0D5-4E98-AB57-B06DC3E1D872}" type="datetime1">
              <a:rPr lang="en-US"/>
              <a:t>07/31/26</a:t>
            </a:fld>
          </a:p>
        </p:txBody>
      </p:sp>
    </p:spTree>
  </p:cSld>
  <p:transition advTm="1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tonce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90920" y="1294920"/>
            <a:ext cx="5843520" cy="48006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Times New Roman"/>
              </a:rPr>
              <a:t>UNIVERS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ff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Identidad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en  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Diversida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41B-94AB-4DA5-B4BD-24382B81F7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E4663-27CE-4D98-8A10-44B5F00430F3}" type="datetime1">
              <a:rPr lang="en-US"/>
              <a:t>07/31/26</a:t>
            </a:fld>
          </a:p>
        </p:txBody>
      </p:sp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Hoy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Aquí, entre nosotros, nos prometimos  </a:t>
            </a: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       ver  un poco  de Internet.  Entonces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Hoy nos acercamos a un programa que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    nos llevará hacia ese espacio virt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just">
              <a:spcBef>
                <a:spcPts val="4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Está previsto que se active (en 10 segundos de terminada esta lectura) el ícono del programa  que nos sirve de “navegador”     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                                  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s-ES" sz="1600" spc="-1" strike="noStrike">
                <a:solidFill>
                  <a:srgbClr val="ffffcc"/>
                </a:solidFill>
                <a:latin typeface="Times New Roman"/>
              </a:rPr>
              <a:t>Internet Explorer 4  de  Microsoft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666880"/>
            <a:ext cx="457200" cy="1295640"/>
          </a:xfrm>
          <a:custGeom>
            <a:avLst/>
            <a:gdLst>
              <a:gd name="textAreaLeft" fmla="*/ 61200 w 457200"/>
              <a:gd name="textAreaRight" fmla="*/ 396000 w 457200"/>
              <a:gd name="textAreaTop" fmla="*/ 250560 h 1295640"/>
              <a:gd name="textAreaBottom" fmla="*/ 9662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926"/>
                </a:lnTo>
                <a:arcTo wR="21600" hR="8363" stAng="10800000" swAng="-3051069"/>
                <a:lnTo>
                  <a:pt x="15107" y="21213"/>
                </a:lnTo>
                <a:lnTo>
                  <a:pt x="21600" y="18507"/>
                </a:lnTo>
                <a:lnTo>
                  <a:pt x="15107" y="15026"/>
                </a:lnTo>
                <a:lnTo>
                  <a:pt x="15107" y="16338"/>
                </a:lnTo>
                <a:arcTo wR="21600" hR="8363" stAng="7748931" swAng="2761559"/>
                <a:lnTo>
                  <a:pt x="496" y="10144"/>
                </a:lnTo>
                <a:arcTo wR="21600" hR="8363" stAng="-10510490" swAng="5110490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89510"/>
                <a:lnTo>
                  <a:pt x="496" y="10144"/>
                </a:lnTo>
                <a:arcTo wR="21600" hR="8363" stAng="-10510490" swAng="5110490"/>
                <a:close/>
              </a:path>
            </a:pathLst>
          </a:custGeom>
          <a:solidFill>
            <a:srgbClr val="ff00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312408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11E-318B-4821-86B1-581898E7ED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A9460-BA52-47BC-8C9A-65A64F2B129A}" type="datetime1">
              <a:rPr lang="en-US"/>
              <a:t>07/31/26</a:t>
            </a:fld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709-4DC9-4D3C-AD40-2D1E22EBA00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FAD6C-9850-49B4-A9EE-372EFF63BB4F}" type="datetime1">
              <a:rPr lang="en-US"/>
              <a:t>07/31/26</a:t>
            </a:fld>
          </a:p>
        </p:txBody>
      </p:sp>
    </p:spTree>
  </p:cSld>
  <p:transition advTm="0">
    <p:zoom dir="in"/>
    <p:sndAc>
      <p:stSnd>
        <p:snd r:embed="rId2" name="Robot02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9FA-D2DA-4D27-91B6-24A9AB979022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1DA12-1947-4C55-B32F-7B5F94CC9690}" type="datetime1">
              <a:rPr lang="en-US"/>
              <a:t>07/31/26</a:t>
            </a:fld>
          </a:p>
        </p:txBody>
      </p:sp>
    </p:spTree>
  </p:cSld>
  <p:transition advTm="0">
    <p:zoom dir="in"/>
    <p:sndAc>
      <p:stSnd>
        <p:snd r:embed="rId1" name="Robot02b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6811-95A5-41E5-86E5-9A73F46DE7A0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9D6D-5099-4B45-9002-19722F898434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in"/>
    <p:sndAc>
      <p:stSnd>
        <p:snd r:embed="rId1" name="Robot02b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9F36-A82F-4878-A5D6-6BBCD1E060C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2799-C10C-42C5-B2E8-F7CC352D4D6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429000" y="2743200"/>
          <a:ext cx="23623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43200"/>
                    <a:ext cx="2362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in"/>
    <p:sndAc>
      <p:stSnd>
        <p:snd r:embed="rId3" name="Robot02b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EB15-8F4C-44C5-93E3-AD1D75AB15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06A-4486-4E0A-AF1B-02377577DF1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29000" y="2743200"/>
          <a:ext cx="23623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43200"/>
                    <a:ext cx="2362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in"/>
    <p:sndAc>
      <p:stSnd>
        <p:snd r:embed="rId3" name="LAS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6FBE-B8B0-4DF8-851B-BBF6F43B03E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3412-52DB-4525-AB97-39FAC966CBD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7154-6DDF-4B60-A48E-D517FB8BF6B9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AF82-5114-4003-89ED-858BFEC09900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out"/>
    <p:sndAc>
      <p:stSnd>
        <p:snd r:embed="rId1" name="Utopi02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1904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Arial Black"/>
              </a:rPr>
              <a:t>Internet</a:t>
            </a: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1.-   Empezar  a  navegar  en  la  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DE2-7DDF-4399-A50C-0EB8CF591051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509AE-10C8-4B18-BA44-9654F9A9F75B}" type="datetime1">
              <a:rPr lang="en-US"/>
              <a:t>07/31/26</a:t>
            </a:fld>
          </a:p>
        </p:txBody>
      </p:sp>
    </p:spTree>
  </p:cSld>
  <p:transition advTm="0">
    <p:zoom dir="out"/>
    <p:sndAc>
      <p:stSnd>
        <p:snd r:embed="rId1" name="Utopi02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B33-C982-47FF-BA9D-021BC23EF179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8695A-C9C0-47A1-9D4E-8D80AED9BDB4}" type="datetime1">
              <a:rPr lang="en-US"/>
              <a:t>07/31/26</a:t>
            </a:fld>
          </a:p>
        </p:txBody>
      </p:sp>
    </p:spTree>
  </p:cSld>
  <p:transition advTm="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724280"/>
            <a:ext cx="5105520" cy="1202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ESCUELA DE FONOAUDI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FACULTAD DE CIENCIAS MÉDIC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UNIVERSIDAD NACIONAL DE ROSA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tre nosotro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odemos intentar reflexionar                         sobre la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laciones entre                                estas tecnologías,                                               la comunicación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  (humana y social)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y              la información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 (académica y científica)        que hacen a nuestros                              perfiles e incumbencias,                        tareas y proyectos profesionales (anteriores, actuales y futuros).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168-3219-4B17-80F6-5622E18FFC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2B14B-70F8-45B3-BC55-F8AC6218D796}" type="datetime1">
              <a:rPr lang="en-US"/>
              <a:t>07/31/26</a:t>
            </a:fld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n la finalidad de ...</a:t>
            </a: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pensar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lo  propio  y  lo  apropiado;                lo  necesario,  posible  y  satisfactorio;                aquello  que es  sustentable con validez, confiabilidad, empiricidad, factibilidad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escribir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los  estilos  y  estrategias que favorecen nuestras mejores expectativas, actitudes  y  acciones  respecto a nuestra comunicación e inform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3FE-6EF3-4ED2-9AD5-292873E0DB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52322-9F0E-49F7-A94A-AC5AD3D3C5EE}" type="datetime1">
              <a:rPr lang="en-US"/>
              <a:t>07/31/26</a:t>
            </a:fld>
          </a:p>
        </p:txBody>
      </p:sp>
    </p:spTree>
  </p:cSld>
  <p:transition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InterNet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062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abemos que cualquier traductor electrónico elemental traduce: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Windows”  por  VENTANA .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Net”  por  RED o TELA ..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World Wide Web”  ( que  se  abrevia  “WWW” )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lo traduce por  TELA ANCHA MUNDIAL  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           RED  ANCHA  MUNDIAL .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Internet ...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Red Internacional, Telaraña Mundial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Red  de  rede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E8A-D915-4F14-95B8-47A2AE2B18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3E803-D97C-4B68-98D4-1024798033C1}" type="datetime1">
              <a:rPr lang="en-US"/>
              <a:t>07/31/26</a:t>
            </a:fld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Posibilita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291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E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stablecer comunicaciones mediatizadas con múltiples procesadores de:             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textos, bases de datos, cálculos, íconos, gráficos, fotografías, vídeos, sonidos, música, voz ...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</a:t>
            </a: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enviar / recibir 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con otro interlocutor (humano  o  autómata)  enormes         cantidades  de  información  y          establecer “comunicaciones”                          a tiempo real  o  diferid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D1B-4708-4CAB-BEE8-66720AD19D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21F72-B920-49D2-ACAE-E0167E89CB4C}" type="datetime1">
              <a:rPr lang="en-US"/>
              <a:t>07/31/26</a:t>
            </a:fld>
          </a:p>
        </p:txBody>
      </p:sp>
    </p:spTree>
  </p:cSld>
  <p:transition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n la Diversidad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062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e  lenguas  maternas  (y  traducciones  en el  momento),  de  personas,  instituciones, grupos  de  trabajo,  temática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e  100  millones  de  usuarios  que buscan     e  intercambian  activamente  millones  de páginas,  productos,  servicios,  listas  de intercambio,  conversaciones  grupales  en línea,  problemas  e  hipótesis  de  trabajo, líneas de investigación, nuevos desarrollos,  docencia  mediatizada,  aviso de evento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8C5-8BED-45DD-A275-4949314593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4FEE8-F882-4F64-8DEA-DA5E61B0D34B}" type="datetime1">
              <a:rPr lang="en-US"/>
              <a:t>07/31/26</a:t>
            </a:fld>
          </a:p>
        </p:txBody>
      </p:sp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Principalmente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62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os servicios más frecuentemente divulgados s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las “búsquedas en Internet”:  en  las páginas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Web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   mediante el    ambiente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WWW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;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  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los “envíos y recepciones de mensajes personalizados”:  con el uso del    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correo  electrónico</a:t>
            </a:r>
            <a:r>
              <a:rPr b="1" lang="es-E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mediante                 el entorno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-mail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769-4627-4967-B070-74EAF98D64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A6F7A-A7D6-4509-89A8-43D6883FF665}" type="datetime1">
              <a:rPr lang="en-US"/>
              <a:t>07/31/26</a:t>
            </a:fld>
          </a:p>
        </p:txBody>
      </p:sp>
    </p:spTree>
  </p:cSld>
  <p:transition advTm="12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mo universitario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 Black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muy  especialmente  en  la  </a:t>
            </a:r>
            <a:r>
              <a:rPr b="0" lang="es-ES" sz="2400" spc="-1" strike="noStrike">
                <a:solidFill>
                  <a:srgbClr val="ffff00"/>
                </a:solidFill>
                <a:latin typeface="Arial Black"/>
              </a:rPr>
              <a:t>Escuela      de  Fonoaudiología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consideramos  la comunicación  como  la  estrategia inexcusable para  procurarnos la información apropiad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99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es-ES" sz="2800" spc="-1" strike="noStrike">
                <a:solidFill>
                  <a:srgbClr val="ffff66"/>
                </a:solidFill>
                <a:latin typeface="Arial Black"/>
              </a:rPr>
              <a:t>N</a:t>
            </a:r>
            <a:r>
              <a:rPr b="0" lang="es-ES" sz="2400" spc="-1" strike="noStrike">
                <a:solidFill>
                  <a:srgbClr val="ffff66"/>
                </a:solidFill>
                <a:latin typeface="Arial Black"/>
              </a:rPr>
              <a:t>uestra ciudadanía implica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                 un  protagonismo inexcusable                 a  la  hora  de  la  accesibilidad,    obtención, divulgación y generación    del conocimiento en sus más diversas sentidos,  significados  y  proyec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DB4-0AB5-437F-8C6E-9D827B9AB9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CA2AF-C98C-4C36-BECB-C0DBC0F71F28}" type="datetime1">
              <a:rPr lang="en-US"/>
              <a:t>07/31/26</a:t>
            </a:fld>
          </a:p>
        </p:txBody>
      </p:sp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1T18:23:40Z</dcterms:created>
  <dc:creator>guillspa</dc:creator>
  <dc:description/>
  <dc:language>en-US</dc:language>
  <cp:lastModifiedBy>guillspa</cp:lastModifiedBy>
  <dcterms:modified xsi:type="dcterms:W3CDTF">1999-09-14T18:51:25Z</dcterms:modified>
  <cp:revision>10</cp:revision>
  <dc:subject/>
  <dc:title>Internet   (1)</dc:title>
</cp:coreProperties>
</file>