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EEA-3DFC-490C-AE9A-EAE3691F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09E-F90B-4F04-8B64-40483D8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BBD-A8E8-4520-ADA9-063BFE7A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684-D05A-4ED3-8917-B1F557EB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6F2-895C-4817-B1F2-9524D0C4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5DD-E105-473F-ABCB-B8CA2A6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3BD-A86F-44F9-89EF-1AE1CF53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352-4454-450F-964B-3E23BFC6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4D4-F3E7-4F05-809C-93F82AC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C6C-05F0-4751-B52E-AB4A11F8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CD6-3EF7-43D3-BDDA-7706868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37F-2D7C-4DA1-838E-2EF5CD1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E12-DE8D-497E-94BE-4C6E7396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s of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3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scnod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71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Algae is most widely used then other types of alga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in Ice C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ake 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1T17:10:48Z</dcterms:created>
  <dc:creator>Carl J. Harsh</dc:creator>
  <dc:description/>
  <dc:language>en-US</dc:language>
  <cp:lastModifiedBy>Carl J. Harsh</cp:lastModifiedBy>
  <dcterms:modified xsi:type="dcterms:W3CDTF">1999-06-02T13:50:53Z</dcterms:modified>
  <cp:revision>2</cp:revision>
  <dc:subject/>
  <dc:title>Groups of Algae</dc:title>
</cp:coreProperties>
</file>