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70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7240" y="306000"/>
            <a:ext cx="77709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70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920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920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488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2160" y="160020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488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2160" y="3948480"/>
            <a:ext cx="2502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306000"/>
            <a:ext cx="7770960" cy="31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394848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266040"/>
            <a:ext cx="77709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379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709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600200"/>
            <a:ext cx="7770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82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7160"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7160"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7160">
              <a:spcBef>
                <a:spcPts val="825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21840" y="655308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299A-610A-42C6-93AA-EF097BE2C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3354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06400" y="584280"/>
            <a:ext cx="767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BA em Gestão Empresarial Integ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or Meio de Sistemas de ER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UC-PR / SAP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3 Megatendênci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058840" y="4765680"/>
          <a:ext cx="80964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8840" y="4765680"/>
                    <a:ext cx="8096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940120" y="4651200"/>
            <a:ext cx="62038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Globalizaçã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de mercados, produtos, recursos, trabal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98560" y="3313080"/>
            <a:ext cx="996840" cy="90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27000" y="3333600"/>
            <a:ext cx="939960" cy="860400"/>
          </a:xfrm>
          <a:prstGeom prst="rect">
            <a:avLst/>
          </a:prstGeom>
          <a:solidFill>
            <a:srgbClr val="a2c1fe"/>
          </a:solidFill>
          <a:ln w="12600">
            <a:solidFill>
              <a:srgbClr val="ffa2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7680" y="3492360"/>
            <a:ext cx="490680" cy="54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279440" y="3557520"/>
            <a:ext cx="231840" cy="426960"/>
            <a:chOff x="1279440" y="3557520"/>
            <a:chExt cx="231840" cy="426960"/>
          </a:xfrm>
        </p:grpSpPr>
        <p:sp>
          <p:nvSpPr>
            <p:cNvPr id="85" name=""/>
            <p:cNvSpPr/>
            <p:nvPr/>
          </p:nvSpPr>
          <p:spPr>
            <a:xfrm>
              <a:off x="1321920" y="3557520"/>
              <a:ext cx="137880" cy="144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79440" y="3738600"/>
              <a:ext cx="231840" cy="24588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0" y="0"/>
                  </a:moveTo>
                  <a:lnTo>
                    <a:pt x="125" y="0"/>
                  </a:lnTo>
                  <a:lnTo>
                    <a:pt x="125" y="131"/>
                  </a:lnTo>
                  <a:lnTo>
                    <a:pt x="125" y="135"/>
                  </a:lnTo>
                  <a:lnTo>
                    <a:pt x="127" y="138"/>
                  </a:lnTo>
                  <a:lnTo>
                    <a:pt x="128" y="140"/>
                  </a:lnTo>
                  <a:lnTo>
                    <a:pt x="131" y="143"/>
                  </a:lnTo>
                  <a:lnTo>
                    <a:pt x="135" y="144"/>
                  </a:lnTo>
                  <a:lnTo>
                    <a:pt x="140" y="145"/>
                  </a:lnTo>
                  <a:lnTo>
                    <a:pt x="157" y="145"/>
                  </a:lnTo>
                  <a:lnTo>
                    <a:pt x="157" y="154"/>
                  </a:lnTo>
                  <a:lnTo>
                    <a:pt x="4" y="154"/>
                  </a:lnTo>
                  <a:lnTo>
                    <a:pt x="4" y="144"/>
                  </a:lnTo>
                  <a:lnTo>
                    <a:pt x="19" y="144"/>
                  </a:lnTo>
                  <a:lnTo>
                    <a:pt x="25" y="144"/>
                  </a:lnTo>
                  <a:lnTo>
                    <a:pt x="29" y="141"/>
                  </a:lnTo>
                  <a:lnTo>
                    <a:pt x="32" y="138"/>
                  </a:lnTo>
                  <a:lnTo>
                    <a:pt x="34" y="135"/>
                  </a:lnTo>
                  <a:lnTo>
                    <a:pt x="34" y="130"/>
                  </a:lnTo>
                  <a:lnTo>
                    <a:pt x="35" y="20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136960" y="3193920"/>
            <a:ext cx="63064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Trabal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&gt; 70% do trabalho é intensivo em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93760" y="1535040"/>
          <a:ext cx="828720" cy="119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3760" y="1535040"/>
                    <a:ext cx="8287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380600" y="1593720"/>
            <a:ext cx="6158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Tecnologia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- Performance; Conectividade; Portabi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Características Gerais do Novo Paradigm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495800"/>
            <a:ext cx="8534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vos métodos de P&amp;D, redes, CAD, CA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udanças nos processos de produção, CAM, FMS, CI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udanças nas formas de gestão e de organização empresar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udanças no perfil dos bens de capital para C&amp;T e produ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udanças no perfil dos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vos requerimentos por regulação e desregul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xigências de novo formato de intervenção do Est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hecimento é um insumo mais importante do que as vantagens comparativas tradicion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Novas Demandas da Nova Economi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122120"/>
            <a:ext cx="853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udança e convergência tecn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invenção das empresas, do governo, da socie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Rendimentos crescente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do conhecimento e da capacit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ecessidade de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novos modelo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para analisar a produção, troca e utilização do conhecim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Modelo de organização em red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- capacitações complementares, coordenação de fluxos de inform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luster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Externalidades - Socialização do conhecimento inovador, redução de incerteza - sinergia - eficiência colet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Papel do governo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priedade industrial e transferência de tecnologia; sistema educacional, qualificação; base técnico-científica; infra-estrutura; produção e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difusão do conhecimento para a inovação e competitiv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AGRounded BT"/>
              </a:rPr>
              <a:t>Desafios da Economia Baseada em Conhecimento para o Brasil</a:t>
            </a:r>
            <a:endParaRPr b="0" lang="en-US" sz="2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íveis muito baixos de investimento em P&amp;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ção limitada da iniciativa privada nos esforços de P&amp;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lta de coordenação dos esforços de P&amp;D e inov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o ineficaz dos investimentos de P&amp;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acidade limitada de converter desenvolvimentos tecnológicos em aplicações industriais e produtos comerci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spcAft>
                <a:spcPts val="638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iculdade para superar o isolamento -- redes de C&amp;T pouco desenvolvidas e infra-estrutura inadequada em áreas c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spcAft>
                <a:spcPts val="638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iculdade para obter uma “massa crítica” de pessoas qualificadas devido a deficiências sérias em educação e treinamento, além do excesso de oferta de mão-de-ob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atents" descr=""/>
          <p:cNvPicPr/>
          <p:nvPr/>
        </p:nvPicPr>
        <p:blipFill>
          <a:blip r:embed="rId1"/>
          <a:stretch/>
        </p:blipFill>
        <p:spPr>
          <a:xfrm>
            <a:off x="685800" y="71280"/>
            <a:ext cx="7772400" cy="646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global%20science" descr=""/>
          <p:cNvPicPr/>
          <p:nvPr/>
        </p:nvPicPr>
        <p:blipFill>
          <a:blip r:embed="rId1"/>
          <a:stretch/>
        </p:blipFill>
        <p:spPr>
          <a:xfrm>
            <a:off x="304920" y="98280"/>
            <a:ext cx="8610480" cy="648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2591640"/>
            <a:ext cx="89917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VENDAS PELA INTERNET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97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01 (US$ milhõ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gressos para event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79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oupas e Calçad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9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vros e Músic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6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age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54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7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treteniment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98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C Hardware &amp; Softwar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863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rviços Financeir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20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endas entre Empresa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8000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83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Business-to business E-commerce: 78% do total em 1998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2002: Passagens e turismo — 35% das vendas (11% em 1998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livros — 10%; software — 10%; seguros — 9%; música — 8%; roupas — 7%; hardware — 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Dilbert" descr=""/>
          <p:cNvPicPr/>
          <p:nvPr/>
        </p:nvPicPr>
        <p:blipFill>
          <a:blip r:embed="rId1"/>
          <a:srcRect l="0" t="11674" r="0" b="0"/>
          <a:stretch/>
        </p:blipFill>
        <p:spPr>
          <a:xfrm>
            <a:off x="380880" y="101520"/>
            <a:ext cx="8382240" cy="232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1416600"/>
            <a:ext cx="8229600" cy="42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ados Comparativo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 &amp; N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mazon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ercado american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%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entes registrad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,7 milh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ã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8,4 milh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vros vendidos onlin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%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7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ucr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500 milh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alor de mercad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,2 bilhõ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8 bilh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trimôni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bilhõ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Yahoo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996: 34.000.000 …………………1999: 27.000.000.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Mais do que o valor de mercado da Boe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Verdana"/>
              </a:rPr>
              <a:t>Mais do que o valor da indústria siderúrgica america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19480" y="404280"/>
            <a:ext cx="618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Economia da Internet: Exempl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: Acesso Desigu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038240"/>
          <a:ext cx="7848360" cy="64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38240"/>
                    <a:ext cx="7848360" cy="64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net: Distribui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ção e Crescimento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9" name="inthosts" descr=""/>
          <p:cNvPicPr/>
          <p:nvPr/>
        </p:nvPicPr>
        <p:blipFill>
          <a:blip r:embed="rId1"/>
          <a:stretch/>
        </p:blipFill>
        <p:spPr>
          <a:xfrm>
            <a:off x="0" y="1752480"/>
            <a:ext cx="5715000" cy="4273560"/>
          </a:xfrm>
          <a:prstGeom prst="rect">
            <a:avLst/>
          </a:prstGeom>
          <a:ln w="0">
            <a:noFill/>
          </a:ln>
        </p:spPr>
      </p:pic>
      <p:pic>
        <p:nvPicPr>
          <p:cNvPr id="130" name="intgrowth" descr=""/>
          <p:cNvPicPr/>
          <p:nvPr/>
        </p:nvPicPr>
        <p:blipFill>
          <a:blip r:embed="rId2"/>
          <a:stretch/>
        </p:blipFill>
        <p:spPr>
          <a:xfrm>
            <a:off x="4495680" y="1714680"/>
            <a:ext cx="5486400" cy="410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7240" y="152280"/>
            <a:ext cx="777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t: Distribui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ção do Acesso em 1999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480" y="528480"/>
            <a:ext cx="7848720" cy="599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7240" y="306000"/>
            <a:ext cx="7770960" cy="6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Globalizaçã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Verdana"/>
              </a:rPr>
              <a:t>Crescimento do comércio mundia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Brasil 1990-7: cresc. PIB 3%; exportações 6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Verdana"/>
              </a:rPr>
              <a:t>Marcas globais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Verdana"/>
              </a:rPr>
              <a:t>Fusões globai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Verdana"/>
              </a:rPr>
              <a:t>Comunicações globai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&lt;15 cents/min USA-U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ffffff"/>
                </a:solidFill>
                <a:latin typeface="Verdana"/>
              </a:rPr>
              <a:t>Distribuição global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Fedex: 3 milhões / 200 países / 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7240" y="152280"/>
            <a:ext cx="777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t: Acesso em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1999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669960"/>
            <a:ext cx="9144000" cy="551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95280" y="990720"/>
            <a:ext cx="6172200" cy="5105160"/>
          </a:xfrm>
          <a:prstGeom prst="diamond">
            <a:avLst/>
          </a:prstGeom>
          <a:solidFill>
            <a:srgbClr val="000000">
              <a:alpha val="50000"/>
            </a:srgbClr>
          </a:solidFill>
          <a:ln cap="rnd" w="63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572000"/>
            <a:ext cx="236232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merType Md BT"/>
              </a:rPr>
              <a:t>Forças Competitiva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2895480"/>
            <a:ext cx="2362320" cy="12193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1600200"/>
            <a:ext cx="236232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3124080"/>
            <a:ext cx="236232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3124080"/>
            <a:ext cx="2362320" cy="7621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endCxn id="138" idx="2"/>
          </p:cNvCxnSpPr>
          <p:nvPr/>
        </p:nvCxnSpPr>
        <p:spPr>
          <a:xfrm flipV="1">
            <a:off x="4381200" y="4114440"/>
            <a:ext cx="1080" cy="4579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43" name=""/>
          <p:cNvCxnSpPr>
            <a:stCxn id="140" idx="1"/>
            <a:endCxn id="138" idx="3"/>
          </p:cNvCxnSpPr>
          <p:nvPr/>
        </p:nvCxnSpPr>
        <p:spPr>
          <a:xfrm flipH="1">
            <a:off x="5562000" y="3504960"/>
            <a:ext cx="53388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44" name=""/>
          <p:cNvCxnSpPr>
            <a:stCxn id="141" idx="3"/>
            <a:endCxn id="138" idx="1"/>
          </p:cNvCxnSpPr>
          <p:nvPr/>
        </p:nvCxnSpPr>
        <p:spPr>
          <a:xfrm>
            <a:off x="2743200" y="3504960"/>
            <a:ext cx="45792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45" name=""/>
          <p:cNvCxnSpPr>
            <a:stCxn id="139" idx="2"/>
            <a:endCxn id="138" idx="0"/>
          </p:cNvCxnSpPr>
          <p:nvPr/>
        </p:nvCxnSpPr>
        <p:spPr>
          <a:xfrm>
            <a:off x="4381200" y="2361960"/>
            <a:ext cx="1080" cy="5338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46" name=""/>
          <p:cNvSpPr/>
          <p:nvPr/>
        </p:nvSpPr>
        <p:spPr>
          <a:xfrm>
            <a:off x="3400200" y="1828080"/>
            <a:ext cx="19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Novos Entra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54080" y="33519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Compr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7920" y="33519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Fornece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05480" y="472356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AGRounded BT"/>
              </a:rPr>
              <a:t>Substitu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1560" y="335196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AGRounded BT"/>
              </a:rPr>
              <a:t>Concorr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AGRounded BT"/>
              </a:rPr>
              <a:t>Características das Forças Competitivas - 1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trantes Potenciais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Possibilidades de eliminar barreiras de entrada relativas 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conomias de esc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erenciação do produ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ustos de mudanç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cesso aos Canais de Distribui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tras desvantagens de Cu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rnecedores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aracterísticas da ameaç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nt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ortância da companhia como cli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orrência de produtos substit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ortância do Insu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dutos diferenciados ou custos de mudanç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meaça de integração para a f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AGRounded BT"/>
              </a:rPr>
              <a:t>Características das Forças Competitivas -2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radores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aracterísticas da ameaç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ntração; grande volume de 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dutos padroniz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ixos custos de mudanç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cela alta dos custos dos 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meaça de integração para tr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bstitutos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aracterísticas da ameaç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nor Cu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ior Valor Adicion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lhor desempen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orrentes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aracterísticas da ameaç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nde número de concorr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ixa diferenciação ou custos de mudanç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ixo crescimento e alta concorrê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orrência baseada em preç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stratégias de Crescimento e Estratégias Competitivas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Estratégias de Crescimento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) estratégias de crescimento intensiv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) estratégias de crescimento integrativ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) estratégias de crescimento conglomer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Estratégias de crescimento intensivo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netração de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envolvimento de Produ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envolvimento de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versificaçã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Estratégias de crescimento integrativo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gração Verti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gração Horizon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Estratégias de crescimento conglomerativo: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envolvimento Financei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envolvimento de Habilid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envolvimento de Estabil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stratégias de Crescimento e Estratégias Competitivas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ahoma"/>
              </a:rPr>
              <a:t>Estratégias Competitiva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LIDERANÇA EM CUST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) controlando os fatores de cu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conomias de Escala; Aprendizagem; Padrão de Utilização de Capacidade; Ligações; Inter-relacionamentos; “Timing”; Políticas Discricionárias; Localização; Fatores Instituciona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) reconfigurando a cadeia de val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cesso de produção; diferenças na automação; vendas diretas; novo canal de distribuição; novos materiais; integração vertical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DIFERENCIAÇÃ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) desenvolvimento dos fatores de diferenciaçã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líticas Discricionárias; Ligações; “Timing”; Localização; Inter-relacionamentos; Aprendizagem; Escala; Fatores Institucio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) criação de valor para os comprador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ução do custo do comprado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mento do desempenho do comprad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ENFOQU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Conceito da Cadeia de Valor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0" name="CadeiaV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34320" cy="3578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4920" y="449568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ividades PRIMÁRIA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gística Interna, Operações, Logística Externa,  Marketing e Vendas, Serviç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ividades de SUPORT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quisição, Desenvolvimento de Tecnologia, Administração de Recursos Humanos, Infra-Estru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Conceito de Sistema de Valor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3" name="SistemaV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63120" cy="515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Integração de Cadeias de Valor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IntegraV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777520" cy="335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VAGRounded BT"/>
              </a:rPr>
              <a:t>Impacto da Tecnologia da Informação na Competitividade: Indústria /Setor</a:t>
            </a:r>
            <a:endParaRPr b="0" lang="en-US" sz="2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Produtos / Serviço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dução do ciclo de v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ovos produtos e/ou modificações contínu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gilização da distribui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ssociação entre produtos/serviç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Mercado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mpliação do espaço de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ovos produtos para novos merc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ovos canais de distribui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Produçã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ltera o “trade-off” entre padronização e flexibil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gração do processo produ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gração das cadeias de val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lteração das economias de esca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ovas formas de organização da produ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Rounded BT"/>
              </a:rPr>
              <a:t>Crescimento do Com</a:t>
            </a:r>
            <a:r>
              <a:rPr b="0" lang="pt-BR" sz="3200" spc="-1" strike="noStrike">
                <a:solidFill>
                  <a:srgbClr val="ffcc66"/>
                </a:solidFill>
                <a:latin typeface="VAGRounded BT"/>
              </a:rPr>
              <a:t>ércio x Crescimento do Produto Mundia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4" name="1%20-%20World%20trade%20x%20GNP" descr=""/>
          <p:cNvPicPr/>
          <p:nvPr/>
        </p:nvPicPr>
        <p:blipFill>
          <a:blip r:embed="rId1"/>
          <a:stretch/>
        </p:blipFill>
        <p:spPr>
          <a:xfrm>
            <a:off x="2538360" y="914400"/>
            <a:ext cx="4498920" cy="5562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81080" y="914400"/>
            <a:ext cx="5562720" cy="685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VAGRounded BT"/>
              </a:rPr>
              <a:t>Impacto da Tecnologia da Informação na Competitividade: </a:t>
            </a:r>
            <a:r>
              <a:rPr b="0" lang="en-US" sz="2600" spc="-1" strike="noStrike">
                <a:solidFill>
                  <a:srgbClr val="ffffff"/>
                </a:solidFill>
                <a:latin typeface="VAGRounded BT"/>
              </a:rPr>
              <a:t>Empresa e Forças Competitivas</a:t>
            </a:r>
            <a:endParaRPr b="0" lang="en-US" sz="2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Entrantes Potenciais - Pode criar barreiras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conomias de escala - Interligação em Re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ustos de mudanças - Sistemas integr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ferenciação - Aperfeiçoamento contínu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cesso a Canais de distribuição / mercados - No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Compradores e Fornecedor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ferenciação / Custos de mudanç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etição - Sistemas de compra/ven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duzir ameaça de integ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Substituto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elhorar preço e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definir produtos e serviç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Concorrent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ferenciar produtos e serviç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duzir cu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ntrolar acesso a merc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AGRounded BT"/>
              </a:rPr>
              <a:t>Impacto da TI na Competitividade: Estratégi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ratégias de Cresci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valiação, projeto, apoio às decis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ratégias Competitivas Baseadas em Liderança em Cu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scala - Interligação / “Just-in-Time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prendizagem - Ampliação da base tecnoló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r-relacionamentos - Utilização conjun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ming”- Apoio à decisão, logís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ocalização - logíst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configuração da cadeia de val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ratégias Competitivas Baseadas em Diferenci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lterações nas características do produto/serviç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anais de distribui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endimento ao cliente / redução de cu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gração de ativid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Estratégias Competitivas Baseadas em Enfo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aracterísticas das estratégias ac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Rounded BT"/>
              </a:rPr>
              <a:t>Impacto da Tecnologia da Informação na Competitividade: </a:t>
            </a:r>
            <a:r>
              <a:rPr b="0" lang="en-US" sz="2400" spc="-1" strike="noStrike">
                <a:solidFill>
                  <a:srgbClr val="ffffff"/>
                </a:solidFill>
                <a:latin typeface="VAGRounded BT"/>
              </a:rPr>
              <a:t>Empresa - Operações e Produtos - Depende de: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Produçã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úmero / dispersão / variedade de fornece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mplexidade da produ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ível tecnoló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mplexidade da gestão - esp. qua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to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tilização / custos de pess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Produtos / Serviço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teúdo de Informação na operação/uti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ein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sos alternativos / personalização / adição de val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Marketing / Venda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úmero e complexidade de intera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figurações de produto / serviço / preç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lternativas de fornecimento / person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iberdade de preços / regul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Rounded BT"/>
              </a:rPr>
              <a:t>Estrutura das Exportações Mundiai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World%20exports%20by%20type" descr=""/>
          <p:cNvPicPr/>
          <p:nvPr/>
        </p:nvPicPr>
        <p:blipFill>
          <a:blip r:embed="rId1"/>
          <a:stretch/>
        </p:blipFill>
        <p:spPr>
          <a:xfrm>
            <a:off x="3056040" y="838080"/>
            <a:ext cx="3298680" cy="5639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43200" y="762120"/>
            <a:ext cx="3962520" cy="4572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Rounded BT"/>
              </a:rPr>
              <a:t>Investimento Doméstico x Investimento no Estrangeiro 1980 -1996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1%20-%20FDI,%20domestic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4895640" cy="5562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76520" y="1066680"/>
            <a:ext cx="5638680" cy="6098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Rounded BT"/>
              </a:rPr>
              <a:t>Taxas de Crescimento do PIB, Países Avançados e Países em Desenvolviment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3" name="GDP%20growth%20emerging%20and%20rich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4937400" cy="5486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28800" y="990720"/>
            <a:ext cx="54864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Rounded BT"/>
              </a:rPr>
              <a:t>Fluxos de Capital aos Países em Desenvolviment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6" name="K%20flows%20to%20emerging%20econ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4989600" cy="5334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76520" y="1066680"/>
            <a:ext cx="57150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Rounded BT"/>
              </a:rPr>
              <a:t>Produto das Empresas Multinacionais como % do PIB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3%20-%20GDP%20Foreign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69000" cy="5334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47920" y="1295280"/>
            <a:ext cx="586728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Características Gerais do Novo Paradigm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038960"/>
            <a:ext cx="85345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mplexidade das novas tecnologias - gastos em P&amp;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celeração da taxa de mudanç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nologia, processos e 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dução das barreiras de tempo, distância e frontei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luxos mais livres de tecnologia, capital e inform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dutos, processos e mercados glob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adrões de classe mun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alidade, produtividade e eficiê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mpo passa a ser mais crucial do que o cu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são de disciplinas e tecnolog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vanços nas Tecnologias de Inform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2T19:24:20Z</dcterms:created>
  <dc:creator>Carlos Quandt</dc:creator>
  <dc:description/>
  <dc:language>en-US</dc:language>
  <cp:lastModifiedBy>Carlos Quandt</cp:lastModifiedBy>
  <cp:lastPrinted>1999-08-13T14:02:50Z</cp:lastPrinted>
  <dcterms:modified xsi:type="dcterms:W3CDTF">1999-09-17T16:05:44Z</dcterms:modified>
  <cp:revision>74</cp:revision>
  <dc:subject/>
  <dc:title>Economia Baseada em Conhecimento</dc:title>
</cp:coreProperties>
</file>