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630988" cy="9805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631200" cy="98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4040" y="7621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0521-62F2-4691-BA21-EDA78FBC0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FACC-C7AB-48B6-9F71-B77D884C2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25640" y="855720"/>
            <a:ext cx="4581360" cy="34369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84160" y="4673520"/>
            <a:ext cx="48643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B10C-CAAC-4D8B-AEBF-1FF319A22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884160" y="4662360"/>
            <a:ext cx="486432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ldImg"/>
          </p:nvPr>
        </p:nvSpPr>
        <p:spPr>
          <a:xfrm>
            <a:off x="1025640" y="855720"/>
            <a:ext cx="4581360" cy="3435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E368-5892-4ADC-8B82-9F967281A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025640" y="855720"/>
            <a:ext cx="4581360" cy="34351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884160" y="4673520"/>
            <a:ext cx="486432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7335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EC51-F489-4BA9-9B22-D1FB58E69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92962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7335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025640" y="855720"/>
            <a:ext cx="4581360" cy="3436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7240" y="306000"/>
            <a:ext cx="77709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488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216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488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216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306000"/>
            <a:ext cx="77709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8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7160"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7160"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7160"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21840" y="65530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F68B-A44D-4D7C-B549-F2399B98C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3354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06400" y="584280"/>
            <a:ext cx="767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BA em Gestão Empresarial Integ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or Meio de Sistemas de ER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UC-PR / SAP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24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24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24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7240" y="2514240"/>
            <a:ext cx="7770960" cy="22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00"/>
                </a:solidFill>
                <a:latin typeface="Arial"/>
              </a:rPr>
              <a:t>Economia Baseada em Conhecimento e Inovação</a:t>
            </a:r>
            <a:br>
              <a:rPr sz="5000"/>
            </a:br>
            <a:r>
              <a:rPr b="0" lang="pt-BR" sz="5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los O. Quandt, Ph.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Sete Instrum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04440"/>
            <a:ext cx="8675640" cy="441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Conhecimento do Cliente </a:t>
            </a:r>
            <a:r>
              <a:rPr b="0" i="1" lang="pt-BR" sz="2500" spc="-1" strike="noStrike">
                <a:solidFill>
                  <a:srgbClr val="ff3300"/>
                </a:solidFill>
                <a:latin typeface="Times New Roman"/>
              </a:rPr>
              <a:t>- o mais vital de tod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Conhecimento em Produtos </a:t>
            </a:r>
            <a:r>
              <a:rPr b="0" i="1" lang="pt-BR" sz="2500" spc="-1" strike="noStrike">
                <a:solidFill>
                  <a:srgbClr val="ff3300"/>
                </a:solidFill>
                <a:latin typeface="Times New Roman"/>
              </a:rPr>
              <a:t>- ‘inteligência’ é valor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Conhecimento nas Pessoas </a:t>
            </a:r>
            <a:r>
              <a:rPr b="0" i="1" lang="pt-BR" sz="2500" spc="-1" strike="noStrike">
                <a:solidFill>
                  <a:srgbClr val="ff3300"/>
                </a:solidFill>
                <a:latin typeface="Times New Roman"/>
              </a:rPr>
              <a:t>- problema é rete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Conhecimento em Processos </a:t>
            </a:r>
            <a:r>
              <a:rPr b="0" i="1" lang="pt-BR" sz="2500" spc="-1" strike="noStrike">
                <a:solidFill>
                  <a:srgbClr val="ff3300"/>
                </a:solidFill>
                <a:latin typeface="Times New Roman"/>
              </a:rPr>
              <a:t>- know-how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Memória Organizacional </a:t>
            </a:r>
            <a:r>
              <a:rPr b="0" i="1" lang="pt-BR" sz="2500" spc="-1" strike="noStrike">
                <a:solidFill>
                  <a:srgbClr val="ff3300"/>
                </a:solidFill>
                <a:latin typeface="Times New Roman"/>
              </a:rPr>
              <a:t>- sabemos o que sabemos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Conhecimento nas Relações </a:t>
            </a:r>
            <a:r>
              <a:rPr b="0" i="1" lang="pt-BR" sz="2500" spc="-1" strike="noStrike">
                <a:solidFill>
                  <a:srgbClr val="ff3300"/>
                </a:solidFill>
                <a:latin typeface="Times New Roman"/>
              </a:rPr>
              <a:t>- riqueza e profundidade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Times New Roman"/>
              </a:rPr>
              <a:t>Ativos do Conhecimento </a:t>
            </a:r>
            <a:r>
              <a:rPr b="0" i="1" lang="pt-BR" sz="2500" spc="-1" strike="noStrike">
                <a:solidFill>
                  <a:srgbClr val="ff3300"/>
                </a:solidFill>
                <a:latin typeface="Times New Roman"/>
              </a:rPr>
              <a:t>- capital intelectua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75040" y="2597040"/>
            <a:ext cx="2379600" cy="1663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75040" y="2895480"/>
            <a:ext cx="237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568600"/>
            <a:ext cx="162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corpo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5960" y="2895480"/>
            <a:ext cx="20815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mbutido 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rodu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anuais do usuá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anuais técn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Bancos de 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40520" y="3282840"/>
            <a:ext cx="620640" cy="596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99400" y="2292480"/>
            <a:ext cx="620640" cy="596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40520" y="4349880"/>
            <a:ext cx="620640" cy="596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67360" y="3073320"/>
            <a:ext cx="1050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rodu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fus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7280" y="1454040"/>
            <a:ext cx="620640" cy="596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265800" y="2050560"/>
            <a:ext cx="270000" cy="698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265800" y="2812680"/>
            <a:ext cx="692280" cy="469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265800" y="3650760"/>
            <a:ext cx="762120" cy="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5800" y="4044960"/>
            <a:ext cx="7621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76440" y="1682640"/>
            <a:ext cx="0" cy="356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43000" y="1295280"/>
            <a:ext cx="80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ilt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3440" y="5410080"/>
            <a:ext cx="1586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Fontes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onhec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20" y="1828800"/>
            <a:ext cx="28375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esquisa de Merc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rotót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nálise de Necess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Limitações atu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nálise de 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xperiência em aplicaç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Soluções de proble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Observação de usuá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uditoria de qual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udanças de proces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ssistência 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tendimento ao consumi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2760" y="2749680"/>
            <a:ext cx="339840" cy="520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452760" y="3498480"/>
            <a:ext cx="339840" cy="469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8120" y="5410080"/>
            <a:ext cx="1586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onhec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Embut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37600" y="5410080"/>
            <a:ext cx="1586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onhec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Difund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1760" y="304920"/>
            <a:ext cx="7572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Processamento do Conheci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AGRounded BT"/>
              </a:rPr>
              <a:t>Inova</a:t>
            </a:r>
            <a:r>
              <a:rPr b="0" lang="pt-BR" sz="3600" spc="-1" strike="noStrike">
                <a:solidFill>
                  <a:srgbClr val="ffff00"/>
                </a:solidFill>
                <a:latin typeface="VAGRounded BT"/>
              </a:rPr>
              <a:t>ção</a:t>
            </a:r>
            <a:r>
              <a:rPr b="0" lang="en-US" sz="3600" spc="-1" strike="noStrike">
                <a:solidFill>
                  <a:srgbClr val="ffff00"/>
                </a:solidFill>
                <a:latin typeface="VAGRounded BT"/>
              </a:rPr>
              <a:t> - Conceitos Básico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Ciênci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– aquisição sistemática de 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ecnologi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orporação do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conheciment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conceitos científicos, noções práticas e invençõe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técnica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(métodos, rotinas e procedimentos)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padrões sociai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 organização e administ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bre uma 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base material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rramentas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áquinas, produtos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pessoa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qualificadas para usá-los para produzir bens e serviç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AGRounded BT"/>
              </a:rPr>
              <a:t>Inova</a:t>
            </a:r>
            <a:r>
              <a:rPr b="0" lang="pt-BR" sz="3600" spc="-1" strike="noStrike">
                <a:solidFill>
                  <a:srgbClr val="ffffff"/>
                </a:solidFill>
                <a:latin typeface="VAGRounded BT"/>
              </a:rPr>
              <a:t>ção</a:t>
            </a:r>
            <a:r>
              <a:rPr b="0" lang="en-US" sz="3600" spc="-1" strike="noStrike">
                <a:solidFill>
                  <a:srgbClr val="ffffff"/>
                </a:solidFill>
                <a:latin typeface="VAGRounded BT"/>
              </a:rPr>
              <a:t> - 2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ovação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rodução de novos produtos e/ou novos métodos de produção em uma organizaçã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venção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hecimento sobre novas posssibilidades tecnológicas (uma idéia nova que pode dar certo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Definições Em Economi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venção é a primeira concepção de um produto em sua forma substancialmente comer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ovação é a primeira aplicação comercial ou ve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AGRounded BT"/>
              </a:rPr>
              <a:t>Inova</a:t>
            </a:r>
            <a:r>
              <a:rPr b="0" lang="pt-BR" sz="3600" spc="-1" strike="noStrike">
                <a:solidFill>
                  <a:srgbClr val="ffffff"/>
                </a:solidFill>
                <a:latin typeface="VAGRounded BT"/>
              </a:rPr>
              <a:t>ção</a:t>
            </a:r>
            <a:r>
              <a:rPr b="0" lang="en-US" sz="3600" spc="-1" strike="noStrike">
                <a:solidFill>
                  <a:srgbClr val="ffffff"/>
                </a:solidFill>
                <a:latin typeface="VAGRounded BT"/>
              </a:rPr>
              <a:t> - 3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Pesquisa e Desenvolvimento (P&amp;D)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- produção de idéias e transformação de resultados de pesquisa em produtos e processos tangíveis, com valor comerci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Pesquisa Básic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tividades na fronteira do conhecimento, sem aplicações específicas em m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Pesquisa Aplicad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isa um objetivo ou produto fin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Difusão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– adoção generalizada de uma inov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Transferência de tecnologi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– propósito, direção;  difusão de um novo produto ou processo envolve dimensões críticas, inclusive o conhecimento para operar e manter a nova tecnolog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VAGRounded BT"/>
              </a:rPr>
              <a:t>Evolução do </a:t>
            </a:r>
            <a:r>
              <a:rPr b="0" i="1" lang="pt-BR" sz="3200" spc="-1" strike="noStrike">
                <a:solidFill>
                  <a:srgbClr val="ffcc66"/>
                </a:solidFill>
                <a:latin typeface="VAGRounded BT"/>
              </a:rPr>
              <a:t>Conceito de Transferênc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" y="5114880"/>
            <a:ext cx="3007080" cy="442800"/>
          </a:xfrm>
          <a:prstGeom prst="rightArrow">
            <a:avLst>
              <a:gd name="adj1" fmla="val 50000"/>
              <a:gd name="adj2" fmla="val 33958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32240" y="1552680"/>
            <a:ext cx="3006720" cy="442800"/>
          </a:xfrm>
          <a:prstGeom prst="rightArrow">
            <a:avLst>
              <a:gd name="adj1" fmla="val 50000"/>
              <a:gd name="adj2" fmla="val 3395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0160" y="2476440"/>
            <a:ext cx="3006720" cy="442800"/>
          </a:xfrm>
          <a:prstGeom prst="rightArrow">
            <a:avLst>
              <a:gd name="adj1" fmla="val 50000"/>
              <a:gd name="adj2" fmla="val 339543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81040" y="3414600"/>
            <a:ext cx="3006720" cy="443160"/>
          </a:xfrm>
          <a:prstGeom prst="rightArrow">
            <a:avLst>
              <a:gd name="adj1" fmla="val 50000"/>
              <a:gd name="adj2" fmla="val 3392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96760" y="4267080"/>
            <a:ext cx="3007080" cy="443160"/>
          </a:xfrm>
          <a:prstGeom prst="rightArrow">
            <a:avLst>
              <a:gd name="adj1" fmla="val 50000"/>
              <a:gd name="adj2" fmla="val 33930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0320" y="5181480"/>
            <a:ext cx="3631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ransferência de Tecnolog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5960" y="4267080"/>
            <a:ext cx="3191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ntercâmbio Tecno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4720" y="3429000"/>
            <a:ext cx="3828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ntercâmbio de Conhe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78240" y="2514600"/>
            <a:ext cx="326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estão do Conhe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42640" y="1600200"/>
            <a:ext cx="350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novação do Conhe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6172200"/>
            <a:ext cx="708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Adapted fromAmidon, ENTOVATION Intern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Rounded BT"/>
              </a:rPr>
              <a:t>Tipos de Inova</a:t>
            </a:r>
            <a:r>
              <a:rPr b="0" lang="pt-BR" sz="3200" spc="-1" strike="noStrike">
                <a:solidFill>
                  <a:srgbClr val="ffffff"/>
                </a:solidFill>
                <a:latin typeface="VAGRounded BT"/>
              </a:rPr>
              <a:t>çõ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6858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Verdana"/>
              </a:rPr>
              <a:t>Inovações incrementai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Aprender Fazendo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– Aprendizado que começa após o desenho do produto – capacitação na produção, aperfeiçoamentos cumulativos que aumentam a produtividad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Aprender usando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– Aprendizado após a produção, na utilização do produto. Conhecimento específ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bens de capital (aviões, comunicações, energia, informátic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Verdana"/>
              </a:rPr>
              <a:t>Inovações radicai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Impacto pequeno e isolado (geralmente) a não ser que sejam agrup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Verdana"/>
              </a:rPr>
              <a:t>Mudanças de sistema tecnológic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udanças profundas, afetam diversos setores ou criam no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76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Verdana"/>
              </a:rPr>
              <a:t>Mudanças de paradigma tecno-econômic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“revoluções tecnológicas”) quando influenciam ou transformam a economia como um to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Rounded BT"/>
              </a:rPr>
              <a:t>Modelo interativo do processo de inov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Modelo Linear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isão fixa, hierárquica e sequencial do conhecimen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Modelo Interativo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nfatiza o papel do design, efeitos de feedback, interações entre ciência, tecnologia e a prática da inovação em todas as fas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O modelo em cadeia combina dois tipos de interações: processos dentro da firma e relações entre a firma e o sistema científico e tecnológico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Na Firma: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cadeia de inovação é um caminho que começa com a percepção de uma oportunidade de mercado e/ou uma nova invenção baseada em ciência e tecnologia. Relações de “feedback”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76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Um conjunto de relacionamentos liga o processo de inovação das firmas /indústrias com a base de conhecimento e pesquis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AGRounded BT"/>
              </a:rPr>
              <a:t>Modelo de inovação - liga</a:t>
            </a:r>
            <a:r>
              <a:rPr b="0" lang="pt-BR" sz="3200" spc="-1" strike="noStrike">
                <a:solidFill>
                  <a:srgbClr val="ffff00"/>
                </a:solidFill>
                <a:latin typeface="VAGRounded BT"/>
              </a:rPr>
              <a:t>ções em cadei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1219320"/>
            <a:ext cx="6019920" cy="609480"/>
          </a:xfrm>
          <a:prstGeom prst="rect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eração de conhe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124080"/>
            <a:ext cx="1447920" cy="2286000"/>
          </a:xfrm>
          <a:prstGeom prst="rect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3124080"/>
            <a:ext cx="1447920" cy="2286000"/>
          </a:xfrm>
          <a:prstGeom prst="rect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3124080"/>
            <a:ext cx="1447920" cy="2286000"/>
          </a:xfrm>
          <a:prstGeom prst="rect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3124080"/>
            <a:ext cx="1447920" cy="2286000"/>
          </a:xfrm>
          <a:prstGeom prst="rect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124080"/>
            <a:ext cx="1447920" cy="2286000"/>
          </a:xfrm>
          <a:prstGeom prst="rect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0"/>
            <a:endCxn id="180" idx="3"/>
          </p:cNvCxnSpPr>
          <p:nvPr/>
        </p:nvCxnSpPr>
        <p:spPr>
          <a:xfrm flipH="1" flipV="1" rot="5400000">
            <a:off x="6057360" y="1599480"/>
            <a:ext cx="1581840" cy="1429560"/>
          </a:xfrm>
          <a:prstGeom prst="bentConnector4">
            <a:avLst>
              <a:gd name="adj1" fmla="val 17550"/>
              <a:gd name="adj2" fmla="val 114659"/>
            </a:avLst>
          </a:prstGeom>
          <a:ln w="38160">
            <a:solidFill>
              <a:srgbClr val="ffff00"/>
            </a:solidFill>
            <a:miter/>
            <a:headEnd len="sm" type="triangle" w="sm"/>
            <a:tailEnd len="med" type="triangle" w="lg"/>
          </a:ln>
        </p:spPr>
      </p:cxnSp>
      <p:cxnSp>
        <p:nvCxnSpPr>
          <p:cNvPr id="187" name=""/>
          <p:cNvCxnSpPr>
            <a:stCxn id="182" idx="0"/>
            <a:endCxn id="180" idx="1"/>
          </p:cNvCxnSpPr>
          <p:nvPr/>
        </p:nvCxnSpPr>
        <p:spPr>
          <a:xfrm flipV="1" rot="16200000">
            <a:off x="1428120" y="1599480"/>
            <a:ext cx="1581840" cy="1429560"/>
          </a:xfrm>
          <a:prstGeom prst="bentConnector4">
            <a:avLst>
              <a:gd name="adj1" fmla="val 18552"/>
              <a:gd name="adj2" fmla="val 114659"/>
            </a:avLst>
          </a:prstGeom>
          <a:ln w="38160">
            <a:solidFill>
              <a:srgbClr val="ffff00"/>
            </a:solidFill>
            <a:miter/>
            <a:headEnd len="sm" type="triangle" w="sm"/>
            <a:tailEnd len="med" type="triangle" w="lg"/>
          </a:ln>
        </p:spPr>
      </p:cxnSp>
      <p:cxnSp>
        <p:nvCxnSpPr>
          <p:cNvPr id="188" name=""/>
          <p:cNvCxnSpPr>
            <a:stCxn id="183" idx="0"/>
            <a:endCxn id="180" idx="2"/>
          </p:cNvCxnSpPr>
          <p:nvPr/>
        </p:nvCxnSpPr>
        <p:spPr>
          <a:xfrm flipV="1">
            <a:off x="4533480" y="1847520"/>
            <a:ext cx="1080" cy="12578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headEnd len="sm" type="triangle" w="sm"/>
            <a:tailEnd len="med" type="triangle" w="lg"/>
          </a:ln>
        </p:spPr>
      </p:cxnSp>
      <p:sp>
        <p:nvSpPr>
          <p:cNvPr id="189" name=""/>
          <p:cNvSpPr/>
          <p:nvPr/>
        </p:nvSpPr>
        <p:spPr>
          <a:xfrm>
            <a:off x="175248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35812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495288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9000" y="495288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495288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4952880"/>
            <a:ext cx="685800" cy="0"/>
          </a:xfrm>
          <a:prstGeom prst="line">
            <a:avLst/>
          </a:prstGeom>
          <a:ln w="38160">
            <a:solidFill>
              <a:srgbClr val="ffcc66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25146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25146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2514600"/>
            <a:ext cx="0" cy="838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" name=""/>
          <p:cNvCxnSpPr/>
          <p:nvPr/>
        </p:nvCxnSpPr>
        <p:spPr>
          <a:xfrm rot="5400000">
            <a:off x="6170760" y="3810600"/>
            <a:ext cx="2520" cy="3201120"/>
          </a:xfrm>
          <a:prstGeom prst="bentConnector3">
            <a:avLst>
              <a:gd name="adj1" fmla="val 13200000"/>
            </a:avLst>
          </a:prstGeom>
          <a:ln w="38160">
            <a:solidFill>
              <a:srgbClr val="ffcc66"/>
            </a:solidFill>
            <a:miter/>
            <a:tailEnd len="med" type="triangle" w="lg"/>
          </a:ln>
        </p:spPr>
      </p:cxnSp>
      <p:cxnSp>
        <p:nvCxnSpPr>
          <p:cNvPr id="201" name=""/>
          <p:cNvCxnSpPr>
            <a:endCxn id="181" idx="2"/>
          </p:cNvCxnSpPr>
          <p:nvPr/>
        </p:nvCxnSpPr>
        <p:spPr>
          <a:xfrm rot="10800000">
            <a:off x="1332720" y="5428440"/>
            <a:ext cx="6516000" cy="667440"/>
          </a:xfrm>
          <a:prstGeom prst="bentConnector2">
            <a:avLst/>
          </a:prstGeom>
          <a:ln w="38160">
            <a:solidFill>
              <a:srgbClr val="ffcc66"/>
            </a:solidFill>
            <a:miter/>
            <a:tailEnd len="med" type="triangle" w="lg"/>
          </a:ln>
        </p:spPr>
      </p:cxnSp>
      <p:cxnSp>
        <p:nvCxnSpPr>
          <p:cNvPr id="202" name=""/>
          <p:cNvCxnSpPr/>
          <p:nvPr/>
        </p:nvCxnSpPr>
        <p:spPr>
          <a:xfrm rot="10800000">
            <a:off x="2894760" y="5409360"/>
            <a:ext cx="4915800" cy="438840"/>
          </a:xfrm>
          <a:prstGeom prst="bentConnector2">
            <a:avLst/>
          </a:prstGeom>
          <a:ln w="38160">
            <a:solidFill>
              <a:srgbClr val="ffcc66"/>
            </a:solidFill>
            <a:miter/>
            <a:tailEnd len="med" type="triangle" w="lg"/>
          </a:ln>
        </p:spPr>
      </p:cxnSp>
      <p:sp>
        <p:nvSpPr>
          <p:cNvPr id="203" name=""/>
          <p:cNvSpPr/>
          <p:nvPr/>
        </p:nvSpPr>
        <p:spPr>
          <a:xfrm>
            <a:off x="1828800" y="1953360"/>
            <a:ext cx="5410080" cy="856080"/>
          </a:xfrm>
          <a:prstGeom prst="rect">
            <a:avLst/>
          </a:prstGeom>
          <a:solidFill>
            <a:srgbClr val="00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toque de conhe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2600" y="39157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ten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60520" y="4037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ven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26600" y="40521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env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39680" y="405216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du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80560" y="405216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7240" y="606600"/>
            <a:ext cx="7770960" cy="34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66"/>
                </a:solidFill>
                <a:latin typeface="VAGRounded BT"/>
              </a:rPr>
              <a:t>Inovação - Sistema de Val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4920" y="4343400"/>
            <a:ext cx="2089080" cy="920880"/>
            <a:chOff x="304920" y="4343400"/>
            <a:chExt cx="2089080" cy="920880"/>
          </a:xfrm>
        </p:grpSpPr>
        <p:sp>
          <p:nvSpPr>
            <p:cNvPr id="211" name=""/>
            <p:cNvSpPr/>
            <p:nvPr/>
          </p:nvSpPr>
          <p:spPr>
            <a:xfrm>
              <a:off x="304920" y="4343400"/>
              <a:ext cx="2089080" cy="920880"/>
            </a:xfrm>
            <a:prstGeom prst="rect">
              <a:avLst/>
            </a:prstGeom>
            <a:solidFill>
              <a:srgbClr val="ff00d1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60440" y="4543560"/>
              <a:ext cx="1737000" cy="555480"/>
            </a:xfrm>
            <a:prstGeom prst="rect">
              <a:avLst/>
            </a:prstGeom>
            <a:solidFill>
              <a:srgbClr val="ff0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noAutofit/>
            </a:bodyPr>
            <a:p>
              <a:pPr marL="399960" indent="-399960" algn="ctr">
                <a:lnSpc>
                  <a:spcPct val="70000"/>
                </a:lnSpc>
                <a:spcBef>
                  <a:spcPts val="414"/>
                </a:spcBef>
                <a:tabLst>
                  <a:tab algn="l" pos="0"/>
                  <a:tab algn="ctr" pos="800280"/>
                  <a:tab algn="l" pos="1546200"/>
                  <a:tab algn="l" pos="2319480"/>
                  <a:tab algn="l" pos="3092400"/>
                  <a:tab algn="l" pos="3865680"/>
                  <a:tab algn="l" pos="4638600"/>
                  <a:tab algn="l" pos="5411880"/>
                  <a:tab algn="l" pos="6184800"/>
                  <a:tab algn="l" pos="6958080"/>
                  <a:tab algn="l" pos="7731000"/>
                  <a:tab algn="l" pos="8504280"/>
                  <a:tab algn="l" pos="9277200"/>
                  <a:tab algn="l" pos="10050480"/>
                  <a:tab algn="l" pos="10823400"/>
                </a:tabLst>
              </a:pPr>
              <a:r>
                <a:rPr b="1" lang="pt-BR" sz="2200" spc="-1" strike="noStrike">
                  <a:solidFill>
                    <a:srgbClr val="ffffff"/>
                  </a:solidFill>
                  <a:latin typeface="Arial"/>
                </a:rPr>
                <a:t>Penetr. de Mercado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139840" y="3270240"/>
            <a:ext cx="2087640" cy="920880"/>
            <a:chOff x="2139840" y="3270240"/>
            <a:chExt cx="2087640" cy="920880"/>
          </a:xfrm>
        </p:grpSpPr>
        <p:sp>
          <p:nvSpPr>
            <p:cNvPr id="214" name=""/>
            <p:cNvSpPr/>
            <p:nvPr/>
          </p:nvSpPr>
          <p:spPr>
            <a:xfrm>
              <a:off x="2139840" y="3270240"/>
              <a:ext cx="2087640" cy="9208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61160" y="3603600"/>
              <a:ext cx="1734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noAutofit/>
            </a:bodyPr>
            <a:p>
              <a:pPr marL="399960" indent="-399960" algn="ctr">
                <a:lnSpc>
                  <a:spcPct val="70000"/>
                </a:lnSpc>
                <a:spcBef>
                  <a:spcPts val="374"/>
                </a:spcBef>
                <a:tabLst>
                  <a:tab algn="l" pos="0"/>
                  <a:tab algn="ctr" pos="800280"/>
                  <a:tab algn="l" pos="1546200"/>
                  <a:tab algn="l" pos="2319480"/>
                  <a:tab algn="l" pos="3092400"/>
                  <a:tab algn="l" pos="3865680"/>
                  <a:tab algn="l" pos="4638600"/>
                  <a:tab algn="l" pos="5411880"/>
                  <a:tab algn="l" pos="6184800"/>
                  <a:tab algn="l" pos="6958080"/>
                  <a:tab algn="l" pos="7731000"/>
                  <a:tab algn="l" pos="8504280"/>
                  <a:tab algn="l" pos="9277200"/>
                  <a:tab algn="l" pos="10050480"/>
                  <a:tab algn="l" pos="10823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Pesquis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933800" y="3270240"/>
            <a:ext cx="2087640" cy="920880"/>
          </a:xfrm>
          <a:prstGeom prst="rect">
            <a:avLst/>
          </a:prstGeom>
          <a:solidFill>
            <a:srgbClr val="ff742c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32520" y="3581280"/>
            <a:ext cx="17348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noAutofit/>
          </a:bodyPr>
          <a:p>
            <a:pPr marL="399960" indent="-39996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ctr" pos="800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ngenh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581280" y="5105520"/>
            <a:ext cx="2087640" cy="920520"/>
            <a:chOff x="3581280" y="5105520"/>
            <a:chExt cx="2087640" cy="920520"/>
          </a:xfrm>
        </p:grpSpPr>
        <p:sp>
          <p:nvSpPr>
            <p:cNvPr id="219" name=""/>
            <p:cNvSpPr/>
            <p:nvPr/>
          </p:nvSpPr>
          <p:spPr>
            <a:xfrm>
              <a:off x="3581280" y="5105520"/>
              <a:ext cx="2087640" cy="920520"/>
            </a:xfrm>
            <a:prstGeom prst="rect">
              <a:avLst/>
            </a:prstGeom>
            <a:solidFill>
              <a:srgbClr val="f2c41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24840" y="5457600"/>
              <a:ext cx="2031840" cy="555120"/>
            </a:xfrm>
            <a:prstGeom prst="rect">
              <a:avLst/>
            </a:prstGeom>
            <a:solidFill>
              <a:srgbClr val="f2c4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noAutofit/>
            </a:bodyPr>
            <a:p>
              <a:pPr marL="399960" indent="-399960" algn="ctr">
                <a:lnSpc>
                  <a:spcPct val="70000"/>
                </a:lnSpc>
                <a:spcBef>
                  <a:spcPts val="374"/>
                </a:spcBef>
                <a:tabLst>
                  <a:tab algn="l" pos="0"/>
                  <a:tab algn="ctr" pos="800280"/>
                  <a:tab algn="l" pos="1546200"/>
                  <a:tab algn="l" pos="2319480"/>
                  <a:tab algn="l" pos="3092400"/>
                  <a:tab algn="l" pos="3865680"/>
                  <a:tab algn="l" pos="4638600"/>
                  <a:tab algn="l" pos="5411880"/>
                  <a:tab algn="l" pos="6184800"/>
                  <a:tab algn="l" pos="6958080"/>
                  <a:tab algn="l" pos="7731000"/>
                  <a:tab algn="l" pos="8504280"/>
                  <a:tab algn="l" pos="9277200"/>
                  <a:tab algn="l" pos="10050480"/>
                  <a:tab algn="l" pos="10823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Manufatu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711840" y="4454640"/>
            <a:ext cx="2087640" cy="920520"/>
          </a:xfrm>
          <a:prstGeom prst="rect">
            <a:avLst/>
          </a:prstGeom>
          <a:solidFill>
            <a:srgbClr val="36c9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23000" y="4770360"/>
            <a:ext cx="2030400" cy="555840"/>
          </a:xfrm>
          <a:prstGeom prst="rect">
            <a:avLst/>
          </a:prstGeom>
          <a:solidFill>
            <a:srgbClr val="36c9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noAutofit/>
          </a:bodyPr>
          <a:p>
            <a:pPr marL="399960" indent="-399960" algn="ctr">
              <a:lnSpc>
                <a:spcPct val="70000"/>
              </a:lnSpc>
              <a:spcBef>
                <a:spcPts val="374"/>
              </a:spcBef>
              <a:tabLst>
                <a:tab algn="l" pos="0"/>
                <a:tab algn="ctr" pos="800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052880" y="1359000"/>
            <a:ext cx="2089080" cy="920520"/>
            <a:chOff x="4052880" y="1359000"/>
            <a:chExt cx="2089080" cy="920520"/>
          </a:xfrm>
        </p:grpSpPr>
        <p:sp>
          <p:nvSpPr>
            <p:cNvPr id="224" name=""/>
            <p:cNvSpPr/>
            <p:nvPr/>
          </p:nvSpPr>
          <p:spPr>
            <a:xfrm>
              <a:off x="4052880" y="1359000"/>
              <a:ext cx="2089080" cy="92052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34400" y="1692360"/>
              <a:ext cx="1524600" cy="3078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noAutofit/>
            </a:bodyPr>
            <a:p>
              <a:pPr marL="399960" indent="-399960" algn="ctr">
                <a:lnSpc>
                  <a:spcPct val="70000"/>
                </a:lnSpc>
                <a:spcBef>
                  <a:spcPts val="374"/>
                </a:spcBef>
                <a:tabLst>
                  <a:tab algn="l" pos="0"/>
                  <a:tab algn="ctr" pos="800280"/>
                  <a:tab algn="l" pos="1546200"/>
                  <a:tab algn="l" pos="2319480"/>
                  <a:tab algn="l" pos="3092400"/>
                  <a:tab algn="l" pos="3865680"/>
                  <a:tab algn="l" pos="4638600"/>
                  <a:tab algn="l" pos="5411880"/>
                  <a:tab algn="l" pos="6184800"/>
                  <a:tab algn="l" pos="6958080"/>
                  <a:tab algn="l" pos="7731000"/>
                  <a:tab algn="l" pos="8504280"/>
                  <a:tab algn="l" pos="9277200"/>
                  <a:tab algn="l" pos="10050480"/>
                  <a:tab algn="l" pos="10823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Vend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629400" y="1523880"/>
            <a:ext cx="2087640" cy="920520"/>
            <a:chOff x="6629400" y="1523880"/>
            <a:chExt cx="2087640" cy="920520"/>
          </a:xfrm>
        </p:grpSpPr>
        <p:sp>
          <p:nvSpPr>
            <p:cNvPr id="227" name=""/>
            <p:cNvSpPr/>
            <p:nvPr/>
          </p:nvSpPr>
          <p:spPr>
            <a:xfrm>
              <a:off x="6629400" y="1523880"/>
              <a:ext cx="2087640" cy="920520"/>
            </a:xfrm>
            <a:prstGeom prst="rect">
              <a:avLst/>
            </a:prstGeom>
            <a:solidFill>
              <a:srgbClr val="c03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27840" y="1857240"/>
              <a:ext cx="1523880" cy="307800"/>
            </a:xfrm>
            <a:prstGeom prst="rect">
              <a:avLst/>
            </a:prstGeom>
            <a:solidFill>
              <a:srgbClr val="c03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7760" rIns="77760" tIns="39600" bIns="39600" anchor="t">
              <a:noAutofit/>
            </a:bodyPr>
            <a:p>
              <a:pPr marL="399960" indent="-399960" algn="ctr">
                <a:lnSpc>
                  <a:spcPct val="70000"/>
                </a:lnSpc>
                <a:spcBef>
                  <a:spcPts val="337"/>
                </a:spcBef>
                <a:tabLst>
                  <a:tab algn="l" pos="0"/>
                  <a:tab algn="ctr" pos="800280"/>
                  <a:tab algn="l" pos="1546200"/>
                  <a:tab algn="l" pos="2319480"/>
                  <a:tab algn="l" pos="3092400"/>
                  <a:tab algn="l" pos="3865680"/>
                  <a:tab algn="l" pos="4638600"/>
                  <a:tab algn="l" pos="5411880"/>
                  <a:tab algn="l" pos="6184800"/>
                  <a:tab algn="l" pos="6958080"/>
                  <a:tab algn="l" pos="7731000"/>
                  <a:tab algn="l" pos="8504280"/>
                  <a:tab algn="l" pos="9277200"/>
                  <a:tab algn="l" pos="10050480"/>
                  <a:tab algn="l" pos="10823400"/>
                </a:tabLst>
              </a:pPr>
              <a:r>
                <a:rPr b="1" lang="pt-BR" sz="1800" spc="-1" strike="noStrike">
                  <a:solidFill>
                    <a:srgbClr val="ffffff"/>
                  </a:solidFill>
                  <a:latin typeface="Arial"/>
                </a:rPr>
                <a:t>Assistê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 rot="9000000">
            <a:off x="1315080" y="2693880"/>
            <a:ext cx="7127640" cy="681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6" y="21600"/>
                </a:moveTo>
                <a:arcTo wR="10800" hR="10800" stAng="5401414" swAng="5706126"/>
                <a:lnTo>
                  <a:pt x="10800" y="10800"/>
                </a:lnTo>
                <a:close/>
              </a:path>
              <a:path fill="none" w="21600" h="21600">
                <a:moveTo>
                  <a:pt x="10796" y="21600"/>
                </a:moveTo>
                <a:arcTo wR="10800" hR="10800" stAng="5401414" swAng="5706126"/>
              </a:path>
            </a:pathLst>
          </a:custGeom>
          <a:noFill/>
          <a:ln cap="rnd"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78240" y="3720960"/>
            <a:ext cx="6382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943520" y="4247640"/>
            <a:ext cx="770040" cy="8780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3468240" y="4218120"/>
            <a:ext cx="817560" cy="877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1340000">
            <a:off x="4305240" y="2185200"/>
            <a:ext cx="1796760" cy="18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71267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712678"/>
              </a:path>
            </a:pathLst>
          </a:custGeom>
          <a:noFill/>
          <a:ln cap="rnd"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683320" y="5017680"/>
            <a:ext cx="985680" cy="9781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6090840" y="1612440"/>
            <a:ext cx="654120" cy="227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700000">
            <a:off x="-7560" y="-918720"/>
            <a:ext cx="8191080" cy="700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3" y="10032"/>
                </a:moveTo>
                <a:arcTo wR="10800" hR="10800" stAng="-244824" swAng="5511508"/>
                <a:lnTo>
                  <a:pt x="10800" y="10800"/>
                </a:lnTo>
                <a:close/>
              </a:path>
              <a:path fill="none" w="21600" h="21600">
                <a:moveTo>
                  <a:pt x="21573" y="10032"/>
                </a:moveTo>
                <a:arcTo wR="10800" hR="10800" stAng="-244824" swAng="5511508"/>
              </a:path>
            </a:pathLst>
          </a:custGeom>
          <a:noFill/>
          <a:ln cap="rnd"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4580000">
            <a:off x="5903640" y="2158920"/>
            <a:ext cx="2902320" cy="245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267" y="21028"/>
                </a:moveTo>
                <a:arcTo wR="10800" hR="10800" stAng="4276373" swAng="5518688"/>
                <a:lnTo>
                  <a:pt x="10800" y="10800"/>
                </a:lnTo>
                <a:close/>
              </a:path>
              <a:path fill="none" w="21600" h="21600">
                <a:moveTo>
                  <a:pt x="14267" y="21028"/>
                </a:moveTo>
                <a:arcTo wR="10800" hR="10800" stAng="4276373" swAng="5518688"/>
              </a:path>
            </a:pathLst>
          </a:custGeom>
          <a:noFill/>
          <a:ln cap="rnd"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0620000">
            <a:off x="2474280" y="1895400"/>
            <a:ext cx="5654520" cy="504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24" y="20991"/>
                </a:moveTo>
                <a:arcTo wR="10800" hR="10800" stAng="6560322" swAng="4549146"/>
                <a:lnTo>
                  <a:pt x="10800" y="10800"/>
                </a:lnTo>
                <a:close/>
              </a:path>
              <a:path fill="none" w="21600" h="21600">
                <a:moveTo>
                  <a:pt x="7224" y="20991"/>
                </a:moveTo>
                <a:arcTo wR="10800" hR="10800" stAng="6560322" swAng="4549146"/>
              </a:path>
            </a:pathLst>
          </a:custGeom>
          <a:noFill/>
          <a:ln cap="rnd"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8820000">
            <a:off x="2882880" y="1694880"/>
            <a:ext cx="2875320" cy="392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284" y="17484"/>
                </a:moveTo>
                <a:arcTo wR="10800" hR="10800" stAng="2293912" swAng="4904534"/>
                <a:lnTo>
                  <a:pt x="10800" y="10800"/>
                </a:lnTo>
                <a:close/>
              </a:path>
              <a:path fill="none" w="21600" h="21600">
                <a:moveTo>
                  <a:pt x="19284" y="17484"/>
                </a:moveTo>
                <a:arcTo wR="10800" hR="10800" stAng="2293912" swAng="4904534"/>
              </a:path>
            </a:pathLst>
          </a:custGeom>
          <a:noFill/>
          <a:ln cap="rnd"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0980000">
            <a:off x="1060560" y="1641960"/>
            <a:ext cx="6733800" cy="502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56" y="9830"/>
                </a:moveTo>
                <a:arcTo wR="10800" hR="10800" stAng="-309055" swAng="4803303"/>
                <a:lnTo>
                  <a:pt x="10800" y="10800"/>
                </a:lnTo>
                <a:close/>
              </a:path>
              <a:path fill="none" w="21600" h="21600">
                <a:moveTo>
                  <a:pt x="21556" y="9830"/>
                </a:moveTo>
                <a:arcTo wR="10800" hR="10800" stAng="-309055" swAng="4803303"/>
              </a:path>
            </a:pathLst>
          </a:custGeom>
          <a:noFill/>
          <a:ln cap="rnd"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539720" y="3691080"/>
            <a:ext cx="635040" cy="744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055920" y="4246560"/>
            <a:ext cx="617400" cy="6746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6248520"/>
            <a:ext cx="2750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</a:rPr>
              <a:t>Source: ENTOVATION Intern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AGRounded BT"/>
              </a:rPr>
              <a:t>O Paradoxo da Produtividad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Verdana"/>
              </a:rPr>
              <a:t>Investimento em Reengenharia / TI x Produtividad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980s: US$ 1 trilhão em TI nos EUA; Setor de serviços = $ 800 b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scimento da produtividade: 1% a.a. (Japão 5%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Verdana"/>
              </a:rPr>
              <a:t>Explicações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mpo (uma geração?) para dominar nova tecnolo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utralização dos efeitos pela concorrê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perdício, problemas de gerenci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is produtos sem aumento de produtiv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blemas de mensuração -- variedade, qualidade, performance, rapidez -- não aparecem nas medidas tradicionais de produtiv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os ineficazes são automatizados mas não redesenhados porque as empresas procuram adotar a nova tecnologia sem alterar suas estruturas. Porém, a “perturbação” é essencial para que a tecnologia seja út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Verdana"/>
              </a:rPr>
              <a:t>Recompensa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scimento na década de 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tor Financeiro, serviços em g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ústrias relacionadas à inform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As Gerações do Processo Inovativ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ª —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Technology Push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cesso simples, linear,seqüencial. Ênfase: P&amp;D. Mercado: receptáculo dos frutos da P&amp;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ª —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Demand Pull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cesso simples, linear e seqüencial. Ênfase: marketing. Mercado: fonte de novas idéias paraP&amp;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ª — Modelo Interligado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cesso seqüencial,mecanismos d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feed-bac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ombinação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demand pull-technology pus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Balan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ç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&amp;D e marketing. Ênfase: interfaces P&amp;D/market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ª — Modelo Integrado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senvolv. em paralelo, equipes integradas. Articulação com fornecedores e consumidores. Ênfase: integração P&amp;D/produção.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Joint-ventu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ª — Integração de Sistemas e Modelo de Desenvolvimento em Rede (Systems Integration and Networking Model (SIN)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senvolvimento integrado em paralelo. Integração com fornecedores e consumidores. Articulações horizontais. Ênfase: flexibilidade, velocidade de inovações. Foco na qualidade 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non-price fa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6600" y="645840"/>
            <a:ext cx="8488440" cy="34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Contrastes nas Gerações de P&amp;D</a:t>
            </a:r>
            <a:br>
              <a:rPr sz="3600"/>
            </a:br>
            <a:r>
              <a:rPr b="0" i="1" lang="pt-BR" sz="1200" spc="-1" strike="noStrike">
                <a:solidFill>
                  <a:srgbClr val="ffcc66"/>
                </a:solidFill>
                <a:latin typeface="Times New Roman"/>
              </a:rPr>
              <a:t>fonte: ENTOVATION International</a:t>
            </a:r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0200" y="1203480"/>
            <a:ext cx="1252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9900"/>
                </a:solidFill>
                <a:latin typeface="Arial"/>
              </a:rPr>
              <a:t>1.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 Tecnolog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12880" y="1203480"/>
            <a:ext cx="946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9900"/>
                </a:solidFill>
                <a:latin typeface="Arial"/>
              </a:rPr>
              <a:t>2. 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Proje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55960" y="1203480"/>
            <a:ext cx="10944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9900"/>
                </a:solidFill>
                <a:latin typeface="Arial"/>
              </a:rPr>
              <a:t>3.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 Empres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47000" y="1203480"/>
            <a:ext cx="936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9900"/>
                </a:solidFill>
                <a:latin typeface="Arial"/>
              </a:rPr>
              <a:t>4.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 Cli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6160" y="1203480"/>
            <a:ext cx="1530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9900"/>
                </a:solidFill>
                <a:latin typeface="Arial"/>
              </a:rPr>
              <a:t>5.</a:t>
            </a:r>
            <a:r>
              <a:rPr b="0" i="1" lang="pt-BR" sz="1400" spc="-1" strike="noStrike">
                <a:solidFill>
                  <a:srgbClr val="eaec5e"/>
                </a:solidFill>
                <a:latin typeface="Arial"/>
              </a:rPr>
              <a:t> </a:t>
            </a:r>
            <a:r>
              <a:rPr b="0" i="1" lang="pt-BR" sz="1400" spc="-1" strike="noStrike">
                <a:solidFill>
                  <a:srgbClr val="ffffff"/>
                </a:solidFill>
                <a:latin typeface="Arial"/>
              </a:rPr>
              <a:t>Conhecim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9560" y="1714680"/>
            <a:ext cx="1300320" cy="6253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Estratégia</a:t>
            </a:r>
            <a:br>
              <a:rPr sz="1500"/>
            </a:b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560" y="2352600"/>
            <a:ext cx="1300320" cy="62568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Fatores d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ff"/>
                </a:solidFill>
                <a:latin typeface="Arial"/>
              </a:rPr>
              <a:t>Mudanç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9560" y="2990880"/>
            <a:ext cx="1300320" cy="6253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9560" y="3629160"/>
            <a:ext cx="1300320" cy="62388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Estrutu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9560" y="4265640"/>
            <a:ext cx="1300320" cy="6253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Pesso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22480" y="1714680"/>
            <a:ext cx="13017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P&amp;D isolad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22480" y="2352600"/>
            <a:ext cx="1301760" cy="62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Imprevisibi-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lidad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22480" y="2990880"/>
            <a:ext cx="13017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R&amp;D com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Overhead”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22480" y="3629160"/>
            <a:ext cx="1301760" cy="623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Hierárquica;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foco Funcion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22480" y="4265640"/>
            <a:ext cx="13017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ompetiçã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Nós X E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35400" y="1714680"/>
            <a:ext cx="13017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onexão com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Negóci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35400" y="2352600"/>
            <a:ext cx="1301760" cy="62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Inter-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dependênci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35400" y="2990880"/>
            <a:ext cx="13017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ust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ompartilhad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35400" y="3629160"/>
            <a:ext cx="1301760" cy="623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Matrici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35400" y="4265640"/>
            <a:ext cx="13017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ooperaçã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Pró-Ativ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1714680"/>
            <a:ext cx="130320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Integração d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Tecnologia 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Negóci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2352600"/>
            <a:ext cx="1303200" cy="62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Gestão Siste-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mática de P&amp;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2990880"/>
            <a:ext cx="130320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Equilíbrio Risco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Recompens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3629160"/>
            <a:ext cx="1303200" cy="623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oordenaçã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Distribuíd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4265640"/>
            <a:ext cx="130320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olaboraçã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Estruturad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62680" y="1714680"/>
            <a:ext cx="12999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Integração com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P&amp;D do Client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62680" y="2352600"/>
            <a:ext cx="1299960" cy="62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Mudança Glob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Acelerada 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Descontínu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62680" y="2990880"/>
            <a:ext cx="12999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Paradoxo d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Produtividad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62680" y="3629160"/>
            <a:ext cx="1299960" cy="623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omunid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de Prática” Mult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dimensiona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62680" y="4265640"/>
            <a:ext cx="12999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Foco 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Valores 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apacit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73800" y="1714680"/>
            <a:ext cx="13035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olaborativ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de Inovaçã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73800" y="2352600"/>
            <a:ext cx="1303560" cy="62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Dinâmic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aleidoscópic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73800" y="2990880"/>
            <a:ext cx="13035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apacidad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Intelectual 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Impac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73800" y="3629160"/>
            <a:ext cx="1303560" cy="623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Redes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Simbiótic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3800" y="4265640"/>
            <a:ext cx="13035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Autogestão 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trabalhador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do conheci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9560" y="4902120"/>
            <a:ext cx="1300320" cy="62568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Process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9560" y="5540400"/>
            <a:ext cx="1300320" cy="62532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Arial"/>
              </a:rPr>
              <a:t>Tecnologi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22480" y="4902120"/>
            <a:ext cx="1301760" cy="62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Comunic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Míni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22480" y="5540400"/>
            <a:ext cx="13017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Embrionári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35400" y="4902120"/>
            <a:ext cx="1301760" cy="62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Projeto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a Proje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35400" y="5540400"/>
            <a:ext cx="13017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Baseada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em Dad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4902120"/>
            <a:ext cx="1303200" cy="62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Enfoque P&amp;D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Portfoli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540400"/>
            <a:ext cx="130320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Baseada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em Informaçã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62680" y="4902120"/>
            <a:ext cx="1299960" cy="62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Arial"/>
              </a:rPr>
              <a:t>Fluxos de feedback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Arial"/>
              </a:rPr>
              <a:t>e “persistência da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Arial"/>
              </a:rPr>
              <a:t>informação”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62680" y="5540400"/>
            <a:ext cx="12999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IT como arma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ompetitiv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73800" y="4902120"/>
            <a:ext cx="1303560" cy="62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Arial"/>
              </a:rPr>
              <a:t>Aprendizage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Arial"/>
              </a:rPr>
              <a:t>Cruzada e Flux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ffffff"/>
                </a:solidFill>
                <a:latin typeface="Arial"/>
              </a:rPr>
              <a:t>de Conheciment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73800" y="5540400"/>
            <a:ext cx="1303560" cy="62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Processador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Inteligentes d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ffffff"/>
                </a:solidFill>
                <a:latin typeface="Arial"/>
              </a:rPr>
              <a:t>Conheciment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66760" y="6235560"/>
            <a:ext cx="2192400" cy="398520"/>
          </a:xfrm>
          <a:prstGeom prst="rightArrow">
            <a:avLst>
              <a:gd name="adj1" fmla="val 50000"/>
              <a:gd name="adj2" fmla="val 10638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33cc"/>
                </a:solidFill>
                <a:latin typeface="Arial"/>
              </a:rPr>
              <a:t>Retenção 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do Clie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9240" y="6235560"/>
            <a:ext cx="2195640" cy="398520"/>
          </a:xfrm>
          <a:prstGeom prst="rightArrow">
            <a:avLst>
              <a:gd name="adj1" fmla="val 50000"/>
              <a:gd name="adj2" fmla="val 10654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33cc"/>
                </a:solidFill>
                <a:latin typeface="Arial"/>
              </a:rPr>
              <a:t>Satisfação 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do Clie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00680" y="6235560"/>
            <a:ext cx="1967040" cy="398520"/>
          </a:xfrm>
          <a:prstGeom prst="rightArrow">
            <a:avLst>
              <a:gd name="adj1" fmla="val 50000"/>
              <a:gd name="adj2" fmla="val 9544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33cc"/>
                </a:solidFill>
                <a:latin typeface="Arial"/>
              </a:rPr>
              <a:t>Sucesso </a:t>
            </a:r>
            <a:r>
              <a:rPr b="0" lang="pt-BR" sz="1200" spc="-1" strike="noStrike">
                <a:solidFill>
                  <a:srgbClr val="0033cc"/>
                </a:solidFill>
                <a:latin typeface="Arial"/>
              </a:rPr>
              <a:t>do Clie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72960" y="2990520"/>
            <a:ext cx="307800" cy="3181320"/>
            <a:chOff x="372960" y="2990520"/>
            <a:chExt cx="307800" cy="3181320"/>
          </a:xfrm>
        </p:grpSpPr>
        <p:sp>
          <p:nvSpPr>
            <p:cNvPr id="298" name=""/>
            <p:cNvSpPr/>
            <p:nvPr/>
          </p:nvSpPr>
          <p:spPr>
            <a:xfrm rot="16200000">
              <a:off x="-633600" y="4422600"/>
              <a:ext cx="2321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Arial"/>
                </a:rPr>
                <a:t>Operações Gerenci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512280" y="2990520"/>
              <a:ext cx="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12280" y="5810040"/>
              <a:ext cx="0" cy="36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7320" y="2997360"/>
              <a:ext cx="168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7320" y="6165720"/>
              <a:ext cx="168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295280" y="990720"/>
            <a:ext cx="6172200" cy="5105160"/>
          </a:xfrm>
          <a:prstGeom prst="diamond">
            <a:avLst/>
          </a:prstGeom>
          <a:solidFill>
            <a:srgbClr val="000000">
              <a:alpha val="50000"/>
            </a:srgbClr>
          </a:solidFill>
          <a:ln cap="rnd" w="63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4572000"/>
            <a:ext cx="236232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merType Md BT"/>
              </a:rPr>
              <a:t>Forças Competitiva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00400" y="2895480"/>
            <a:ext cx="2362320" cy="12193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1600200"/>
            <a:ext cx="236232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5880" y="3124080"/>
            <a:ext cx="236232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3124080"/>
            <a:ext cx="236232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0" name=""/>
          <p:cNvCxnSpPr>
            <a:endCxn id="306" idx="2"/>
          </p:cNvCxnSpPr>
          <p:nvPr/>
        </p:nvCxnSpPr>
        <p:spPr>
          <a:xfrm flipV="1">
            <a:off x="4381200" y="4114440"/>
            <a:ext cx="1080" cy="4579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8" idx="1"/>
            <a:endCxn id="306" idx="3"/>
          </p:cNvCxnSpPr>
          <p:nvPr/>
        </p:nvCxnSpPr>
        <p:spPr>
          <a:xfrm flipH="1">
            <a:off x="5562000" y="3504960"/>
            <a:ext cx="53388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9" idx="3"/>
            <a:endCxn id="306" idx="1"/>
          </p:cNvCxnSpPr>
          <p:nvPr/>
        </p:nvCxnSpPr>
        <p:spPr>
          <a:xfrm>
            <a:off x="2743200" y="3504960"/>
            <a:ext cx="45792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7" idx="2"/>
            <a:endCxn id="306" idx="0"/>
          </p:cNvCxnSpPr>
          <p:nvPr/>
        </p:nvCxnSpPr>
        <p:spPr>
          <a:xfrm>
            <a:off x="4381200" y="2361960"/>
            <a:ext cx="1080" cy="5338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3400200" y="182808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Novos Entr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54080" y="33519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Compr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7920" y="33519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Fornece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05480" y="47235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Substit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71560" y="33519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AGRounded BT"/>
              </a:rPr>
              <a:t>Concorr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AGRounded BT"/>
              </a:rPr>
              <a:t>Características das Forças Competitivas - 1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trantes Potenciai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ossibilidades de eliminar barreiras de entrada relativas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conomias de esc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erenciação do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esso aos Canais de Distribu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tras desvantagens de C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necedore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aracterísticas da ameaç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nt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ortância da companhia como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orrência de produtos substit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ortância do Insu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dutos diferenciados ou 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eaça de integração para a f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AGRounded BT"/>
              </a:rPr>
              <a:t>Características das Forças Competitivas -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radore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aracterísticas da ameaç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ntração; grande volume de 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dutos padroniz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ixos 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cela alta dos custos dos 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eaça de integração para tr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stituto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aracterísticas da ameaç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nor C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ior Valor Adicio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lhor desempen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orrente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aracterísticas da ameaç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nde número de concorr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ixa diferenciação ou 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ixo crescimento e alta concorr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orrência baseada em preç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stratégias de Crescimento - 1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stratégias de Crescimento Intensiv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1371600"/>
            <a:ext cx="883944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327816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) Penetração de Mercado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 empresa procura maior partici-pação no mercado atual com produtos/serviços já produzi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) Desenvolvimento de Produto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cura maior participação no mercado atual com novos produtos/serviç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) Desenvolvimento de Mercado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vos mercados (geográ-ficos ou estratificados por renda) com os produtos/serviços atu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) Diversificação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 empresa procura entrar em novos mercados com novas linhas de produtos/serviç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763120" cy="176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stratégias de Crescimento - 2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stratégias de crescimento integrativo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gração Vertical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empresa, por motivos estratégicos, resolve investir na aquisição das fontes de fornecimento de insumos ou na aquisição dos canais de distribuiçã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gração Horizontal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 empresa resolve adquirir concorrentes ou associar-se com empresas que produzem produtos complementares aos seus, gerando uma nova linha de negócio para mercados atuais ou novos merca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stratégias de crescimento conglomerativo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envolvimento Financeiro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mpresas com muitas oportunidades de negócios, mas sem capital, associam-se a empresas com capital, mas sem oportunidad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envolvimento de Habilidades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mpresas com muitas oportunidades de negócios, mas sem tecnologia, associam-se a empresas com tecnologia, mas sem oportunidad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senvolvimento de Estabilidade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mpresas que atuam em ambientes de negócio cíclicos ou sazonais procuram diversificar-se em outros ramos, visando obter estabilidade de fluxo de caix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stratégias Competitivas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IDERANÇA EM CUST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) controlando os fatores de c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conomias de Escala; Aprendizagem; Padrão de Utilização de Capacidade; Ligações; Inter-relacionamentos; “Timing”; Políticas Discricionárias; Localização; Fatores Instituciona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) reconfigurando a cadeia de 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so de produção; diferenças na automação; vendas diretas; novo canal de distribuição; novos materiais; integração vertical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DIFERENCIAÇÃ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) desenvolvimento dos fatores de diferencia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líticas Discricionárias; Ligações; “Timing”; Localização; Inter-relacionamentos; Aprendizagem; Escala; Fatores Instituci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) criação de valor para os comprador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ção do custo do comprado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mento do desempenho do comprad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just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NFOQU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228600" y="838080"/>
            <a:ext cx="8686800" cy="571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Outros Requisitos das Estratégias Competitivas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79380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nceito da Cadeia de Valor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6" name="CadeiaV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34320" cy="35780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304920" y="449568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vidades PRIMÁRI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gística Interna, Operações, Logística Externa,  Marketing e Vendas, Serv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vidades de SUPORT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quisição, Desenvolvimento de Tecnologia, Administração de Recursos Humanos, Infra-Estru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US%20productivity" descr=""/>
          <p:cNvPicPr/>
          <p:nvPr/>
        </p:nvPicPr>
        <p:blipFill>
          <a:blip r:embed="rId1"/>
          <a:stretch/>
        </p:blipFill>
        <p:spPr>
          <a:xfrm>
            <a:off x="1676520" y="0"/>
            <a:ext cx="53006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adeia de Valor e ERP: Vis</a:t>
            </a:r>
            <a:r>
              <a:rPr b="0" lang="pt-BR" sz="3000" spc="-1" strike="noStrike">
                <a:solidFill>
                  <a:srgbClr val="ffcc66"/>
                </a:solidFill>
                <a:latin typeface="Times New Roman"/>
              </a:rPr>
              <a:t>ão da Implatação SAP R/3 na Colgate-Palmolive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39" name="ERP%20Colgate" descr=""/>
          <p:cNvPicPr/>
          <p:nvPr/>
        </p:nvPicPr>
        <p:blipFill>
          <a:blip r:embed="rId1"/>
          <a:stretch/>
        </p:blipFill>
        <p:spPr>
          <a:xfrm>
            <a:off x="0" y="1171440"/>
            <a:ext cx="9144000" cy="540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VAGRounded BT"/>
              </a:rPr>
              <a:t>Impacto da Tecnologia da Informação na Competitividade: </a:t>
            </a:r>
            <a:r>
              <a:rPr b="0" lang="en-US" sz="2600" spc="-1" strike="noStrike">
                <a:solidFill>
                  <a:srgbClr val="ffffff"/>
                </a:solidFill>
                <a:latin typeface="VAGRounded BT"/>
              </a:rPr>
              <a:t>Indústria /Setor</a:t>
            </a:r>
            <a:endParaRPr b="0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Produtos / Serviç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ução do ciclo de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vos produtos e/ou modificações contín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gilização da distribu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ssociação entre produtos/serv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Mercad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mpliação do espaço de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vos produtos para novos mer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vos canais de distribu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Produçã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tera o “trade-off” entre padronização e flexibil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gração do processo produ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gração das cadeias de val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teração das economias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vas formas de organização da produ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VAGRounded BT"/>
              </a:rPr>
              <a:t>Impacto da Tecnologia da Informação na Competitividade: </a:t>
            </a:r>
            <a:r>
              <a:rPr b="0" lang="en-US" sz="2600" spc="-1" strike="noStrike">
                <a:solidFill>
                  <a:srgbClr val="ffffff"/>
                </a:solidFill>
                <a:latin typeface="VAGRounded BT"/>
              </a:rPr>
              <a:t>Empresa e Forças Competitivas</a:t>
            </a:r>
            <a:endParaRPr b="0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Entrantes Potenciais - Pode criar barreiras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conomias de escala - Interligação em R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ustos de mudanças - Sistemas integr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ferenciação - Aperfeiçoamento contínu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esso a Canais de distribuição / mercados - No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Compradores e Fornecedor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ferenciação / Custos de mudanç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etição - Sistemas de compra/ve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uzir ameaça de integ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Substitut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lhorar preço e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efinir produtos e serv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Concorrent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ferenciar produtos e serv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uzir cu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ntrolar acesso a mer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AGRounded BT"/>
              </a:rPr>
              <a:t>Impacto da TI na Competitividade: Estratégi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7621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ratégias de Cres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valiação, projeto, apoio às decis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ratégias Competitivas: Liderança em C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scala - Interligação / “Just-in-Tim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prendizagem - Ampliação da base tecnoló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r-relacionamentos - Utilização conju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ming”- Apoio à decisão, logís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calização - logís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configuração da cadeia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ratégias Competitivas Baseadas em Diferenci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terações nas características do produto/serviç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nais de distribu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endimento ao cliente / redução de cu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gração de a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ratégias Competitivas Baseadas em Enfo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racterísticas das estratégias ac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Rounded BT"/>
              </a:rPr>
              <a:t>Impacto da Tecnologia da Informação na Competitividade: </a:t>
            </a:r>
            <a:r>
              <a:rPr b="0" lang="en-US" sz="2400" spc="-1" strike="noStrike">
                <a:solidFill>
                  <a:srgbClr val="ffffff"/>
                </a:solidFill>
                <a:latin typeface="VAGRounded BT"/>
              </a:rPr>
              <a:t>Empresa - Operações e Produtos - Depende de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Produçã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úmero / dispersão / variedade de fornec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mplexidade da produ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ível tecno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mplexidade da gestão - esp. qua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t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tilização / custos de pess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Produtos / Serviç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teúdo de Informação na operação/uti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ein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sos alternativos / personalização / adição de 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Marketing / Venda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úmero e complexidade de inter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figurações de produto / serviço / preç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lternativas de fornecimento / person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berdade de preços / regul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Custos do processo de inov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9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Tempo e custo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do processo de desenvolvimen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scal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de investimentos para a inovação: fator de concentração industrial e globalização. Redes e alianças tecnológicas para reduzir os custos de P&amp;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55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xemplo: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Aviões </a:t>
            </a:r>
            <a:r>
              <a:rPr b="1" lang="en-US" sz="2200" spc="-1" strike="noStrike">
                <a:solidFill>
                  <a:srgbClr val="ffffff"/>
                </a:solidFill>
                <a:latin typeface="WP TypographicSymbols"/>
              </a:rPr>
              <a:t>B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integração de subsistemas complexos, como eletrônica, hidráulica e materiais. Projeto consome muito do custo e tempo tot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oeing 727: 2 </a:t>
            </a:r>
            <a:r>
              <a:rPr b="1" lang="en-US" sz="1800" spc="-1" strike="noStrike">
                <a:solidFill>
                  <a:srgbClr val="ffffff"/>
                </a:solidFill>
                <a:latin typeface="WP TypographicSymbols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anos, 9 projetos. Boeing 767: 6 an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ustos de desenvolvim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ouglas DC-3 (1930s): $3 milh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C-8 (1950s): $112 milh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oeing 747 (1970s): $1 bilh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Boeing 767: $1.5 bilhão; turbina V2500: $1.5 bilhã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Verdana"/>
              </a:rPr>
              <a:t>Aspectos cumulativos do conhecimento</a:t>
            </a:r>
            <a:br>
              <a:rPr sz="2600"/>
            </a:br>
            <a:r>
              <a:rPr b="0" lang="en-US" sz="2600" spc="-1" strike="noStrike">
                <a:solidFill>
                  <a:srgbClr val="ffcc66"/>
                </a:solidFill>
                <a:latin typeface="Verdana"/>
              </a:rPr>
              <a:t>científico e tecnológico</a:t>
            </a:r>
            <a:endParaRPr b="0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Importância dos Processos de aprendizado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 no desenvolvimento e uso de uma nova tecnologia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prender fazendo, usando, interagindo, aprenden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Paradigma tecnológico - 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padrão de princípios selecionados, problemas relevantes, e direções a serem seguidas. Dificulta a visão de outras possibilidades tecnológica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Idéia central: construir capacitações e competência para adaptabilidad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mudança tecnológica torna capacitações e equipamentos </a:t>
            </a:r>
            <a:r>
              <a:rPr b="0" lang="en-US" sz="2100" spc="-1" strike="noStrike">
                <a:solidFill>
                  <a:srgbClr val="ffff00"/>
                </a:solidFill>
                <a:latin typeface="Verdana"/>
              </a:rPr>
              <a:t>obsoletos</a:t>
            </a: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Não destrói instituições, firmas, conhecimento construído através do aprendizado organizacional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de ocorrer a destruição das fundações para o aprendizad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Acumulação do conhecimento: Estruturas de apoi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metáfora do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“efeito bola de neve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a precisa uma massa crítica inicial </a:t>
            </a:r>
            <a:r>
              <a:rPr b="0" lang="en-US" sz="2400" spc="-1" strike="noStrike">
                <a:solidFill>
                  <a:srgbClr val="ffffff"/>
                </a:solidFill>
                <a:latin typeface="WP TypographicSymbols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 base de conhecimento e tecnologia é essen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a precisa encontrar neve no seu caminho </a:t>
            </a:r>
            <a:r>
              <a:rPr b="0" lang="en-US" sz="2400" spc="-1" strike="noStrike">
                <a:solidFill>
                  <a:srgbClr val="ffffff"/>
                </a:solidFill>
                <a:latin typeface="WP TypographicSymbols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Um ambiente rico em conhecimento acessível, com redes formais e informai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a deve ser capaz de acumular mais neve e mais velocidade - A capacidade de absorção das firmas é cru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acumulação pode explicar porque a concentração aumentou em certas indústrias, mesmo com mudan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ças tecnológica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Sistemas Nacionais de Inov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Definiçã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ituições públicas e privadas cujas atividades e interações determinam a produção, difusão e utilização do conhecimento, e o desempenho inovativo das firmas naci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Justificativa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conhecimento da importância econômica do conhecimento como fator de produ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oção de enfoques sistêm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úmero crescente de insituições envolvidas na geração de conhec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Fator essencial: fluxos e distribuição de conhecimento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vidades inter-empresariais: alianças, coop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ações setor público / priv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fusão de tecnolo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bilidade de pesso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AGRounded BT"/>
              </a:rPr>
              <a:t>A importância do enfoque regional - “Clusters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792468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Modelo de organização em rede, TI implicam a “morte da distância”?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história é import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th depend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atureza interativa da produção do conhec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 aprofundamento das interações é demor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dições de apropriação e confiança mút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 Proximidade é import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cooperação é mais fácil quando a distância é peque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 conhecimento tácito como fonte de competitividade: a proximidade espacial e cultural ajud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nerg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Vantagem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s Clusters são difíceis de imit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Risc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rosão dos ativos ou desatualização - “morte entrópi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Economia Baseada em Conhecimento” (</a:t>
            </a:r>
            <a:r>
              <a:rPr b="1" i="1" lang="en-US" sz="2800" spc="-1" strike="noStrike">
                <a:solidFill>
                  <a:srgbClr val="ffcc66"/>
                </a:solidFill>
                <a:latin typeface="Verdana"/>
              </a:rPr>
              <a:t>Knowledge-Based Economy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067760"/>
            <a:ext cx="83818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conhecimento do papel do conhecimento e tecnologia no crescimento econômico. O conhecimento incorporado às pessoas (“capital humano”) e à tecnologia sempre foi a chave do desenvolvimento econômico. Mas o reconhecimento da sua importância é bastante recent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 economias avançadas dependem cada vez mais da produção, distribuição e uso do conhecim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produção e o emprego estão se expandindo mais rapidamente nas indústrias de alta tecnolog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dança tecnológica tem papel chav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vestimentos tangíveis — TI; intangíveis — P&amp;D (2.3% do PIB na OCDE); treinamento, softw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manda por trabalhadores do conhec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ndimentos crescentes do conhecimento e da capacit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cessidade de novos modelos para analisar a produção, troca e utilização do conhecim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O “Cluster” de moda em couro na Itáli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59" name="Italian%20Leather%20Cluster" descr=""/>
          <p:cNvPicPr/>
          <p:nvPr/>
        </p:nvPicPr>
        <p:blipFill>
          <a:blip r:embed="rId1"/>
          <a:stretch/>
        </p:blipFill>
        <p:spPr>
          <a:xfrm>
            <a:off x="-228600" y="838080"/>
            <a:ext cx="9372600" cy="508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Verdana"/>
              </a:rPr>
              <a:t>O “Cluster” de Vinhos na Califórni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61" name="California%20Wine%20clusters" descr=""/>
          <p:cNvPicPr/>
          <p:nvPr/>
        </p:nvPicPr>
        <p:blipFill>
          <a:blip r:embed="rId1"/>
          <a:stretch/>
        </p:blipFill>
        <p:spPr>
          <a:xfrm>
            <a:off x="-380880" y="800280"/>
            <a:ext cx="9548640" cy="546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Rounded BT"/>
              </a:rPr>
              <a:t>Alternativas de acesso a uma tecnologia emergente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14400" y="785160"/>
            <a:ext cx="76201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riação interna de compet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ior independência; maiores prazos e, logo, maiores investimentos. Para uma tecnologia com grande impacto concorrencial, esta via pode assegurar vantagens competitivas duradouras e difíceis de superar. Maior ris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quisição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lução condicionada à existência de uma empresa com a tecnologia procurada e que esteja à ven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ontratação de P&amp;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empresa contrata um laboratório, centro de pesquisa, ou universidade para um desenvolvimento em particu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Licenciamento 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mite o acesso às tecnologias desenvolvidas por terceiros, em geral concorrentes no mesmo domínio de atividade, mas presentes em zonas geográficas diferen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Acordos de coop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ociação de esforços entre várias empresas para desenvolver novas tecnologias. Apresenta a vantagem de dividir os custos e diminuir os risc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457200"/>
            <a:ext cx="9144000" cy="640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09480" y="219240"/>
          <a:ext cx="8229600" cy="707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9240"/>
                    <a:ext cx="822960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639360"/>
            <a:ext cx="815364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Evolução da Corpor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00: Individua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— Pequena, um produto para mercado regional, controladas por uma pessoa com muitas funções administr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50: Vertica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— Maiores, mais gerentes em cada estágio da cadeia, da matéria-prima ao produto acab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900: Divisiona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— Organizadas em torno de cadeias verticais de comando para gerenciar cada produto, ou linha de prod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950: Matricia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— Companhias verticalizadas adicionam uma segunda cadeia que liga administradores com responsabilidades conex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000: Red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— Pequenas unidades usam outras companhias e fornecedores para a fabricação, distribuição, marketing e outras funçõ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304920" y="609480"/>
          <a:ext cx="8610480" cy="31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610480" cy="31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Rounded BT"/>
              </a:rPr>
              <a:t>Acordos de pesquisa, tecnologia e manufatura entre firmas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Verdana"/>
              </a:rPr>
              <a:t>FASE PRÉ-COMPETITIV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operação em Pesquisa e Desenvolv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squisa cooperativa baseada na universidade, financiada por firmas associadas (com ou sem apoio públic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jetos de P&amp;D cooperativo governo-indúst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oint-ventures de P&amp;D com base na iniciativa priv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Verdana"/>
              </a:rPr>
              <a:t>FASE COMPETITIV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operação Tecnológ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apital de risco de corporações em pequenas fi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ordos de P&amp;D cooperativo entre duas fir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ordos técnicos para tecnologia: acordos de tecnologia compartilhada; terceirização; licenciamento cruz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operação em manufatura e/ou marke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Joint-Ventures industriais e consórcios inclusivos de P&amp;D, manufatura e comercializ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ordos cliente-fornecedor, principalmente parceri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icenciamento unidirecional e/ou acordos de marketing (inclusive vendas O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Vantagens da Participação em Arranjos de Colaboração Tecnoló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duzir, minimizar e compartilhar riscos, custos e incertezas de investimentos em P&amp;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umentar possibilidade de sinergias devido à multidisciplinaridade de competências reunid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minuir o período entre invenção e inov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xplorar ao máximo a flexibilidade conferida pelo caráter de network, sem investir em corpo de pesquisa e laboratórios própri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onitorar mudanças e oportunidades tecnológicas e se capacitar para aproveitar novas possibilidades abert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bter treinamento especializado de recursos humanos em áreas de pont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Desvantagens da Participação em Arranjos de Colaboração Tecnoló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confianças e receios mútu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entativas de maximizar os conhecimentos que podem ser adquiridos e minimizar o que podem forne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ú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idas quanto às possibilidades reais por parte das empresas de internalizar e absorver de fato os conhecimentos gerados nos arranjos coope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blemas relacionados a propriedade intelect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1352880"/>
            <a:ext cx="83818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VAGRounde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Rounded B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s recursos complementares - com alto grau d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intensidade tácit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e portanto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propensos à apropriaçã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na forma de conhecimento proprietário ou específico à firma -  representam insumos importantes para a produção de tecnologia e/ou de conhecimento nov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 intercâmbio de tais recursos e os processos associados d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prendizage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ó podem ocorrer através de contatos bastante próximos e relações personalizada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25440" y="-30600"/>
            <a:ext cx="656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AGRounded BT"/>
              </a:rPr>
              <a:t>Condi</a:t>
            </a:r>
            <a:r>
              <a:rPr b="0" lang="pt-BR" sz="2800" spc="-1" strike="noStrike">
                <a:solidFill>
                  <a:srgbClr val="ffcc66"/>
                </a:solidFill>
                <a:latin typeface="VAGRounded BT"/>
              </a:rPr>
              <a:t>ções para a form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VAGRounded BT"/>
              </a:rPr>
              <a:t>de Redes de Cooperação e Alianças -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Aprendizagem e Empreg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740160"/>
            <a:ext cx="853452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prendizag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te crescente da força de trabalho manuseia informação em vez dos fatores mais tangíveis de produ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prender para acumular conhecimento tácito e obter o maior benefício do conhecimento codificado através da 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bilidades: capacitação, informática, “networking”; aprender e esquec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Impactos no Empre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larização dos mercados de trabal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obal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dança tecnoló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udanças na organização das fir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líticas governamentais: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difusão do conhecimento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aperfeiçoamento de RH, promoção da mudança organiz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912960"/>
            <a:ext cx="81532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instabilidade econômica, incerteza tecnológica e mudanças na demanda valorizam 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apidez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tos custos de P&amp;D forçam a buscar maneiras de agrupar recursos com outras firmas, em alguns casos até mesmo com concorrent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lexibilidad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e a possibilidade d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everter decisõ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ão important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ectativa de que 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reciprocidad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revalecerá: existe uma base par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onfianç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e alguma garantia de que o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portunism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erá punid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24720" y="-30600"/>
            <a:ext cx="656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AGRounded BT"/>
              </a:rPr>
              <a:t>Condi</a:t>
            </a:r>
            <a:r>
              <a:rPr b="0" lang="pt-BR" sz="2800" spc="-1" strike="noStrike">
                <a:solidFill>
                  <a:srgbClr val="ffcc66"/>
                </a:solidFill>
                <a:latin typeface="VAGRounded BT"/>
              </a:rPr>
              <a:t>ções para a form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VAGRounded BT"/>
              </a:rPr>
              <a:t>de Redes de Cooperação e Alianças -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28600" y="1049760"/>
            <a:ext cx="8686800" cy="49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ternacionalização / pressão competitiv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scala global e/ou vantagens de escop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menizar a escassez de recursos, reduzir temp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ecessidades e demandas locais / sócio loc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esenvolv. tecnológico / ciclos de vida de produ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aior demanda por soluções sistêmicas “pacote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vos concorrentes / defe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Verdana"/>
              </a:rPr>
              <a:t>839 acordos de colabor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ioria em indústrias de alta tecnologia (high-tech): automobilística (23,7%), aeroespacial (19%), telecomunicações (17,2%), computadores (14%) e outras indústrias elétricas (13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ior participação de acordos: desenvolvimento conjunto de produto (37,7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nde maioria (71,3%) entre empresas rivai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5880" y="167400"/>
            <a:ext cx="797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VAGRounded BT"/>
              </a:rPr>
              <a:t>Alianças e as estratégias das grandes EM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533520" y="0"/>
          <a:ext cx="8153280" cy="775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775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Rounded BT"/>
              </a:rPr>
              <a:t>Economia de Red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69768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O modelo de organização em red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vínculos de longa distância, fluxos instantâneos, “empresas virtuais” - Modelo apropriado a processos dinâm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luxos de Informaçã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horizontal, recíproca, interativa - capacidade de integração e coorden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“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Trade-off”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custos de transação / desenvolv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Vantagens: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cance global, tecnologias, recursos compartilhados, economias de escala e escopo; cooperação pode ser limitada; controle sobre trajetórias tecnológicas; redução na incerteza: busca e decodif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Custos e risc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“certos”: negociação, reorganização. “incertos”: unificação, coordenação, aprendiz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Process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 aprendizagem, confiabilidade e confiança - cria ativos compartilhados e intangíveis - reduz custos e probabilidade de comportamento oportunis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Rounded BT"/>
              </a:rPr>
              <a:t>Efeitos econômicos das Red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4920" y="1100880"/>
            <a:ext cx="86104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Características do conhecimento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- Quanto mais tácito, maior a necessidade de vínculos complexos para a sua transferê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Decodificação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- ajuda a transmitir, verificar, armazenar e reproduzir o conhecimento tácito. Rede = competê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Consolidação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- conhecimento diversificado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Integração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- mecanismos de transferência e integraçã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Complementaridade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-  exige padrões ou formas de compatibilização e coordenação - técnica, tempo e luga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ffff00"/>
                </a:solidFill>
                <a:latin typeface="Verdana"/>
              </a:rPr>
              <a:t>Auto-reforço</a:t>
            </a: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 - Massa crítica e custos de mudança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AGRounded BT"/>
              </a:rPr>
              <a:t>Efeitos de Rede ou Externalidad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89000" y="760680"/>
            <a:ext cx="68896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s benefícios da adição de um novo usuário excedem os benefícios priv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alor = n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feitos diretos e indire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Valor autárquico e valor de sincron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3720" y="2819520"/>
            <a:ext cx="0" cy="3124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33720" y="5943600"/>
            <a:ext cx="4572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33720" y="5105520"/>
            <a:ext cx="4572000" cy="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2133720" y="3581280"/>
            <a:ext cx="4419360" cy="152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133720" y="4419360"/>
            <a:ext cx="4419360" cy="15238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0504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24480" y="327672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AGRounded BT"/>
              </a:rPr>
              <a:t>Valor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AGRounded BT"/>
              </a:rPr>
              <a:t>o usuá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00320" y="4800600"/>
            <a:ext cx="12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AGRounded BT"/>
              </a:rPr>
              <a:t>Va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AGRounded BT"/>
              </a:rPr>
              <a:t>autárqu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97800" y="411480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AGRounded BT"/>
              </a:rPr>
              <a:t>Valor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AGRounded BT"/>
              </a:rPr>
              <a:t>sincroniz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11120" y="342864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AGRounded BT"/>
              </a:rPr>
              <a:t>Valor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97080" y="5715000"/>
            <a:ext cx="129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AGRounded BT"/>
              </a:rPr>
              <a:t>Núme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AGRounded BT"/>
              </a:rPr>
              <a:t>de usuá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Rounded BT"/>
              </a:rPr>
              <a:t>Escolhas entre Red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95112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”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ath Dependence” e “Lock-in”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- Inversão da lei dos rendimentos decrescentes nas indústrias baseadas em conhecimento. Implica um elemento de persistência numa decisã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Fator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- Investimento em ativos complementares, Custo de mudança, Vendas casadas, “pacotes”, contra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28600" y="3575160"/>
            <a:ext cx="8686800" cy="264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Rounded BT"/>
              </a:rPr>
              <a:t>Fatores relacionados à escolh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" y="901440"/>
            <a:ext cx="8077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Tipos de “Lock-in”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Custos de mudança prevalecem na indústria da informação. Escolhas futuras são limitadas. Proxy de valor da base instala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adrões previsív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tra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ns duráveis: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einamento específico: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formação e bancos de dados: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rnecedores especializados: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ustos de bus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Quanto investir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valiar aquis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cisões de projeto que afetam 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lavancar 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ir leal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ver futuras recei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Rounded BT"/>
              </a:rPr>
              <a:t>Estratégias relacionados a “lock-in”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4920" y="836280"/>
            <a:ext cx="883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lient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fluentes; efeitos multiplic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m altos 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m necessidades cresc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mpradores de comple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iderar elasticidade, discriminação de preç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Valorizar a base instalada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tia de mercado não significa altos 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moções; estender o ciclo do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mprador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-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mitar vulnerabi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versificar fontes, usar sistemas aber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xigir compensação, negociar no momento da escol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Vendedor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alorizar a base e clientes c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iar produtos e preços para motivar os cl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ender produtos complement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ender acesso à sua 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Rounded BT"/>
              </a:rPr>
              <a:t>Estratégias de Discriminação de Preço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11440"/>
            <a:ext cx="88390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Custos de Produção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xos: altos, variáveis: baix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icrosoft: margem de 9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conomias de Escal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aixo Custo Marginal, Custo Médio declin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Estratégi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ferenciação - adicionar valor - inovação consta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derança em custos - economias de escala e esco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conhecer ameaças - CP/M, Wordstar, VisiCal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sonalizar produto e preç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hecer Cl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Verdana"/>
              </a:rPr>
              <a:t>Formas de Discrimin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ço personalizado - contato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ersões (deixar o cliente escolh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ço por grupo - identificar grupos, elasticidade; efeitos de rede, “lock-in”, produtos compartilh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Codificação do Conheciment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748080"/>
            <a:ext cx="8458200" cy="54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aber o que (Know-what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— sobre “fatos” = inform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aber porque (Know-why)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— conhecimento científico. Codific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aber como (Know-how)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— capacidade de fazer algo (tácito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aber que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know-who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— Informação sobre quem sabe o que e quem sabe fazer o que. Relacionamentos sociais; internal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Know-what e know-why podem ser obtidos através de livros, palestras, bancos de dados. Os outros dois estão embasados na experiência prátic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 desenvolvimento de TI é uma forma de tornar mais eficiente o uso do conhecimento codificado.  A infra-estrutura de TI e comunicações ajuda a codificar e altera as proporções de conhecimento codificado e tácit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dificação: conhecimento = commodity. Transações de mercado são facilitadas pela codificação, que acelera a difusão, reduz os investimentos adicionais para adquirir novo conhecimento, cria pontes entre áreas de competência e reduz a dispersão do conhecim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VAGRounded BT"/>
              </a:rPr>
              <a:t>Ativos Intangíveis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Verdana"/>
              </a:rPr>
              <a:t>Valor </a:t>
            </a:r>
            <a:r>
              <a:rPr b="1" lang="en-US" sz="1900" spc="-1" strike="noStrike">
                <a:solidFill>
                  <a:srgbClr val="ffffff"/>
                </a:solidFill>
                <a:latin typeface="Verdana"/>
              </a:rPr>
              <a:t>(Microsoft: $1 Valor Contábil + $9 Valor Invisível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1. Competência das pessoa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hecimento explícito (formal), habilidade, conhecimento tácito, experiência, rel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2. Estrutura intern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&amp;D, patentes, conceitos, modelos, sistemas, cultura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3. Estrutura extern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rcas, reputação, imagem, relações com clientes e fornecedores, base de clientes “cativo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Exemplos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, 3: Marcas (Coca-Cola, McDonald’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, 2: P&amp;D, marcas, patentes (Merck, Pfiz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, 3: Base de clientes (Microsof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, 3: Talento, clientes (agências de propagand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AGRounded BT"/>
              </a:rPr>
              <a:t>Parâmetros de Avaliação dos ativos Intangíveis - 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Verdana"/>
              </a:rPr>
              <a:t>Não podemos avaliar o novo com as ferramentas do antigo.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“Contudo, não existe um sistema abrangente de avaliação dos ativos intangíveis que utilize o dinheiro como denominador comum e, ao mesmo tempo, seja útil e prático…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Verdana"/>
              </a:rPr>
              <a:t>1. Avaliação da Competênc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scimento/renov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empo de profissão, nível de escolaridade, titulação, tempo e custos de treinamento, rotatividade, vínculos com cl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fici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porção de profissionais graduados, valor agregado por profiss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tabi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édia etária, tempo de serviço, remuneração, taxa de rotativ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AGRounded BT"/>
              </a:rPr>
              <a:t>Parâmetros de avaliação dos ativos Intangíveis - 2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Verdana"/>
              </a:rPr>
              <a:t>2. Avaliação da Estrutura Intern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scimento/renov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vestimento na estrutura interna, cl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fici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porção de pessoal de suporte, vendas por funcion</a:t>
            </a:r>
            <a:r>
              <a:rPr b="1" lang="pt-BR" sz="1800" spc="-1" strike="noStrike">
                <a:solidFill>
                  <a:srgbClr val="ffffff"/>
                </a:solidFill>
                <a:latin typeface="Verdana"/>
              </a:rPr>
              <a:t>á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o, medidas de valores e atitu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tabi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dade da organização, rotativ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00"/>
                </a:solidFill>
                <a:latin typeface="Verdana"/>
              </a:rPr>
              <a:t>3. Avaliação da Estrutura Extern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scimento/renov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ucratividade por cliente, cresc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fici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Índice de satisfação, ganhos/perdas, vendas por cli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tabi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porção de grandes clientes, tempo, dedicação, repetição de ped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Rounded BT"/>
              </a:rPr>
              <a:t>Possibilidades de inov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os prod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os conceitos de fabri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os segmentos de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os métodos de v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as pesso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os negó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os rumos estraté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as formas de comercial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os serviç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as formas de lide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as técnicas de pesqu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as formas de pens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as adapt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erfeiçoamento de produtos exis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Rounded BT"/>
              </a:rPr>
              <a:t>Riscos e incertezas inerente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VAGRounded BT"/>
              </a:rPr>
              <a:t>ao processo de inovaçã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line e Rosenberg: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“The degree of uncertainty is strongly correlated with the amount of advances that we propose in a given innovation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rteza resultante da concorrê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rteza resultante do processo de produ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rteza resultante do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erteza resultante de erros de gest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Estratégias de Inovação e Risco Tecnológic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8380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fensiv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vantagem de ser o primeiro a introduzir a inov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fensiv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acompanhar inovadores com uma certa defasagem temporal; diferenciação de produ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itativ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administrar o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gap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relativo à sua defasagem; porte e capacitação tecn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pendent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firmas subordinadas a outras que determinam o ritmo do processo inovativ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dicional 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em inovações tecnológicas expressivas: mercados estagnados, "nichos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ortunist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 identificação de "nichos"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Fatores Externos ao Processo Inovativ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848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mbiente econômico estável e competitiv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dentificação de demandas de merc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ducação e níveis de exigências dos consumid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apacidade e políticas do Est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ropriedade industrial e transferência de tecnolog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istema educacional e nível de qualifica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base técnico-científ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spectos socioculturai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apacidade de poupança e investimen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fra-estrutura de serviços técnico-científicos -- TI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apacidade gerencial e de gestão tecnológ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titudes dos empresários e estratégias competitiv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ticas Gerenciais Ligadas à Inov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tamento / internalização de conhecimentos no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ortunidades externas de trein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internos de formação e trein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stemática de aprendizagem das tecnologias implíci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stema interno de aquisição e circulação de inform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rviços de informação externos / bases de d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nitoração de estratégias / produtos dos concorr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áticas gerenciais de qualidade / produtiv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nchmark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ma favorável à criativ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Tendências na Gestão da Inovaçã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ovação unida e integrada à estratégia de negó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ionistas demandam informações sobre atividades inovadoras e sobre retorno gerado por novos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presas desenvolvem medição financeira do retorno sobre a inov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belecimento da inovação como função distinta porém integrada dentro da empr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stores de inovação com características de líderes corpora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squisa de mercado mais enfocada na identificação dos problemas e necessidades dos cli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ponderância do investimento em inovações radicais sobre estratégias de aperfeiçoamento / imi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oção de incentivos para os agentes inov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edindo o Potencial de Inovação - 1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 inovação é um componente estratégico do plano de negócio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xiste um responsável pelo processo de inovação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xistem medidas de desempenho (tangíveis e intangíveis) para avaliar a qualidade das práticas de inovação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xistem mecanismos para recompensar a geração de inovaçõe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s programas de treinamento incorporam maneiras de incubar e gerar novos produtos e negócio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s pontos de presença incorporam mecanismos de aprendizagem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xiste uma estratégia formal para monitorar o posicionamento de competidores atuais e potenciai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824440" y="4362480"/>
            <a:ext cx="138600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difi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69920" y="1617840"/>
            <a:ext cx="138456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á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42080" y="1612800"/>
            <a:ext cx="138564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ác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3160" y="4394160"/>
            <a:ext cx="138600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difi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8960" y="2827440"/>
            <a:ext cx="0" cy="139068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9960" y="2822400"/>
            <a:ext cx="0" cy="13906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6800" y="1905120"/>
            <a:ext cx="1519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Socializ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(proximida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10960" y="4648320"/>
            <a:ext cx="1690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Processa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(red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79760" y="2200320"/>
            <a:ext cx="2266920" cy="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2360" y="3200400"/>
            <a:ext cx="2004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Internaliz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(aprender fazen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5240" y="3124080"/>
            <a:ext cx="1713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Articula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ffffff"/>
                </a:solidFill>
                <a:latin typeface="Arial"/>
              </a:rPr>
              <a:t>(externalizaçã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76520" y="4933800"/>
            <a:ext cx="2266920" cy="0"/>
          </a:xfrm>
          <a:prstGeom prst="line">
            <a:avLst/>
          </a:prstGeom>
          <a:ln w="255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1040" y="304920"/>
            <a:ext cx="7443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AGRounded BT"/>
              </a:rPr>
              <a:t>Processo de Conversão do Conheci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edindo o Potencial de Inovação - 2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omo a taxa de criação de novos produtos e serviços se compara com a média do seto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xiste uma gerência de alianças estratégicas para alavancar inovaçõe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 marketing projeta uma imagem de criadora de novos produtos e mercado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xiste uma visão interna articulada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s recursos de TI estão sendo usados para alavancar a capacidade inovadora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Existem oportunidades para que as pessoas explorem idéias nova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odemos aceitar que 40% a 50% dos nossos lançamentos de novos produtos podem fracassa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erspectivas da Inovação </a:t>
            </a:r>
            <a:r>
              <a:rPr b="0" lang="en-US" sz="1600" spc="-1" strike="noStrike">
                <a:solidFill>
                  <a:srgbClr val="ffcc66"/>
                </a:solidFill>
                <a:latin typeface="Verdana"/>
              </a:rPr>
              <a:t>(Kuczmarski)</a:t>
            </a: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076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 fracasso é uma parte intrínseca da inov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oção de uma estratégia de novos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quipes multifuncionais com integrantes dedic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m processo de desenvolvimento sistemático de novos produtos bem definido e entendido por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entivos ao empreendedorismo geram motiv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rometimento da liderança da empresa (recursos, tolerância e paciência, atitude futurista e positiv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aliação dos esforços de inov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rtfólio de novos produtos - diversifica os riscos e gera um enfoque equilib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icação das necessidades do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icação do potencial e das motivações inter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AGRounded BT"/>
              </a:rPr>
              <a:t>A indústria do conhecimen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Incertez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comprometimento de recursos com esforço de pesquisa que pode não produzir resultado algu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Problemas de apropriaçã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dos benefícios de uma descoberta - especialmente princípios e processos básicos com amplas aplicaçõ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Bem públic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o conhecimento só precisa ser produzido uma vez. Ele não é consumido: o seu uso por uma pessoa não impede que outras o utiliz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Discrepância entre benefícios sociais e privados da pesquisa básic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a sociedade tende a investir menos do que deveria nesse tipo de ativ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Verdana"/>
              </a:rPr>
              <a:t>Arrow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– o “paradoxo fundamental” do conhecimento é que o valor da informação que está sendo adquirida é desconhecido até que a transação se complet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AGRounded BT"/>
              </a:rPr>
              <a:t>Informação e Conheciment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Valor da Informaçã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– afeta a eficiência na obtenção de resultados; informa sobre escolhas possíveis e seu valor potencial para obter resultados.  + grau de conhe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524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9900"/>
                </a:solidFill>
                <a:latin typeface="Verdana"/>
              </a:rPr>
              <a:t>Propriedades da Informaçã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Co-produçã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Intangível (valor?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Consumo de temp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Custo de Investimento/ Reproduçã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Relevância variáve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Bem público (sem apropriação ou desgaste = durável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Externalidades positiva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Indivisibilidade da oferta e custos de transaçã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Economias de escala e escop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Informação sobre informação é mais escass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Relação intrínseca com privacidade e liberdad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505320" y="5334120"/>
            <a:ext cx="2361960" cy="76176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merType Md BT"/>
              </a:rPr>
              <a:t>Da Cadeia de Valor à Rede de Valor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merType Md BT"/>
              </a:rPr>
              <a:t>(Fluxos de Informação Geradores de Valor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05320" y="3352680"/>
            <a:ext cx="2361960" cy="12193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1828800"/>
            <a:ext cx="236196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3581280"/>
            <a:ext cx="182880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3581280"/>
            <a:ext cx="198108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62080" y="20566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Concorr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82680" y="3809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Compr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11800" y="38091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Fornece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798000" y="55620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Colabor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22840" y="380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AGRounded BT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VAGRounded BT"/>
              </a:rPr>
              <a:t>Organ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1" idx="0"/>
            <a:endCxn id="440" idx="3"/>
          </p:cNvCxnSpPr>
          <p:nvPr/>
        </p:nvCxnSpPr>
        <p:spPr>
          <a:xfrm flipV="1" rot="16200000">
            <a:off x="6019200" y="2056680"/>
            <a:ext cx="1372320" cy="1677240"/>
          </a:xfrm>
          <a:prstGeom prst="curvedConnector2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449" name=""/>
          <p:cNvCxnSpPr>
            <a:stCxn id="442" idx="0"/>
            <a:endCxn id="440" idx="1"/>
          </p:cNvCxnSpPr>
          <p:nvPr/>
        </p:nvCxnSpPr>
        <p:spPr>
          <a:xfrm flipH="1" flipV="1" rot="5400000">
            <a:off x="1904760" y="1980720"/>
            <a:ext cx="1372320" cy="1829520"/>
          </a:xfrm>
          <a:prstGeom prst="curvedConnector2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450" name=""/>
          <p:cNvCxnSpPr>
            <a:stCxn id="442" idx="2"/>
            <a:endCxn id="437" idx="1"/>
          </p:cNvCxnSpPr>
          <p:nvPr/>
        </p:nvCxnSpPr>
        <p:spPr>
          <a:xfrm flipH="1" rot="16200000">
            <a:off x="1905120" y="4114440"/>
            <a:ext cx="1372320" cy="1829520"/>
          </a:xfrm>
          <a:prstGeom prst="curvedConnector2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451" name=""/>
          <p:cNvCxnSpPr>
            <a:stCxn id="441" idx="2"/>
            <a:endCxn id="437" idx="3"/>
          </p:cNvCxnSpPr>
          <p:nvPr/>
        </p:nvCxnSpPr>
        <p:spPr>
          <a:xfrm rot="5400000">
            <a:off x="6018840" y="4190760"/>
            <a:ext cx="1372320" cy="1677240"/>
          </a:xfrm>
          <a:prstGeom prst="curvedConnector2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452" name=""/>
          <p:cNvCxnSpPr>
            <a:stCxn id="437" idx="0"/>
            <a:endCxn id="439" idx="2"/>
          </p:cNvCxnSpPr>
          <p:nvPr/>
        </p:nvCxnSpPr>
        <p:spPr>
          <a:xfrm flipV="1">
            <a:off x="4686120" y="4571280"/>
            <a:ext cx="1080" cy="762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453" name=""/>
          <p:cNvCxnSpPr>
            <a:stCxn id="440" idx="2"/>
            <a:endCxn id="439" idx="0"/>
          </p:cNvCxnSpPr>
          <p:nvPr/>
        </p:nvCxnSpPr>
        <p:spPr>
          <a:xfrm>
            <a:off x="4686120" y="2590920"/>
            <a:ext cx="1080" cy="7624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454" name=""/>
          <p:cNvCxnSpPr>
            <a:stCxn id="442" idx="3"/>
            <a:endCxn id="439" idx="1"/>
          </p:cNvCxnSpPr>
          <p:nvPr/>
        </p:nvCxnSpPr>
        <p:spPr>
          <a:xfrm>
            <a:off x="2666520" y="3962160"/>
            <a:ext cx="8391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</p:cxnSp>
      <p:cxnSp>
        <p:nvCxnSpPr>
          <p:cNvPr id="455" name=""/>
          <p:cNvCxnSpPr>
            <a:stCxn id="441" idx="1"/>
            <a:endCxn id="439" idx="3"/>
          </p:cNvCxnSpPr>
          <p:nvPr/>
        </p:nvCxnSpPr>
        <p:spPr>
          <a:xfrm flipH="1">
            <a:off x="5866560" y="3962160"/>
            <a:ext cx="7628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lg" type="triangle" w="med"/>
            <a:tailEnd len="lg" type="triangle" w="med"/>
          </a:ln>
        </p:spPr>
      </p:cxn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75040" y="2597040"/>
            <a:ext cx="2379600" cy="1663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75040" y="2895480"/>
            <a:ext cx="237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267080" y="2568600"/>
            <a:ext cx="162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corpo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55960" y="2895480"/>
            <a:ext cx="20815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mbutido 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rodu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anuais do usuá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anuais técnic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Bancos de 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040520" y="3282840"/>
            <a:ext cx="620640" cy="596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9400" y="2292480"/>
            <a:ext cx="620640" cy="596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40520" y="4349880"/>
            <a:ext cx="620640" cy="596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767360" y="3073320"/>
            <a:ext cx="10501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roduç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fus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407280" y="1454040"/>
            <a:ext cx="620640" cy="5968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265800" y="2050560"/>
            <a:ext cx="270000" cy="698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265800" y="2812680"/>
            <a:ext cx="692280" cy="469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265800" y="3650760"/>
            <a:ext cx="762120" cy="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65800" y="4044960"/>
            <a:ext cx="7621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376440" y="1682640"/>
            <a:ext cx="0" cy="3568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43000" y="1295280"/>
            <a:ext cx="80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Filtr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73440" y="5410080"/>
            <a:ext cx="1586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Fontes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onhec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9720" y="1828800"/>
            <a:ext cx="283752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esquisa de Merc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ntrevi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rotótip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nálise de Necessidad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Limitações atua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nálise de recur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Experiência em aplicaç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Soluções de proble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Observação de usuá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uditoria de quali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udanças de proces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ssistência técn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tendimento ao consumi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Parceiros, concorrent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52760" y="2749680"/>
            <a:ext cx="339840" cy="520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452760" y="3498480"/>
            <a:ext cx="339840" cy="469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58120" y="5410080"/>
            <a:ext cx="1586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onhec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Embut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537600" y="5410080"/>
            <a:ext cx="15865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Conhecim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Difund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1760" y="304920"/>
            <a:ext cx="7572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Processamento do Conheci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Estrat</a:t>
            </a:r>
            <a:r>
              <a:rPr b="1" lang="pt-BR" sz="3200" spc="-1" strike="noStrike">
                <a:solidFill>
                  <a:srgbClr val="ffcc66"/>
                </a:solidFill>
                <a:latin typeface="Verdana"/>
              </a:rPr>
              <a:t>égias relacionadas</a:t>
            </a:r>
            <a:br>
              <a:rPr sz="3200"/>
            </a:br>
            <a:r>
              <a:rPr b="1" lang="pt-BR" sz="3200" spc="-1" strike="noStrike">
                <a:solidFill>
                  <a:srgbClr val="ffcc66"/>
                </a:solidFill>
                <a:latin typeface="Verdana"/>
              </a:rPr>
              <a:t>à i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novação na “Nova Economia” - 1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6781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Intera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ert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inter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solado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conec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ático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tempo 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Substitui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orrência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uto-substitu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duto Final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Meios de aperfeiçoamento (Rapidez x Conteúd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Estrat</a:t>
            </a:r>
            <a:r>
              <a:rPr b="1" lang="pt-BR" sz="3200" spc="-1" strike="noStrike">
                <a:solidFill>
                  <a:srgbClr val="ffcc66"/>
                </a:solidFill>
                <a:latin typeface="Verdana"/>
              </a:rPr>
              <a:t>égias relacionadas</a:t>
            </a:r>
            <a:br>
              <a:rPr sz="3200"/>
            </a:br>
            <a:r>
              <a:rPr b="1" lang="pt-BR" sz="3200" spc="-1" strike="noStrike">
                <a:solidFill>
                  <a:srgbClr val="ffcc66"/>
                </a:solidFill>
                <a:latin typeface="Verdana"/>
              </a:rPr>
              <a:t>à i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novação na “Nova Economia” - 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Organiza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luxo linear entre divisõe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prendizado coletivo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simulações, participação, criação de re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hecimento isolado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onver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cala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esco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I genérica (copiável)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TI transformativa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(competênci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Fornecedores / concorrent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ivalidade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tivos  complementare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, coope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deia fechada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r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istemas proprietário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ompartilh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Estrat</a:t>
            </a:r>
            <a:r>
              <a:rPr b="1" lang="pt-BR" sz="3200" spc="-1" strike="noStrike">
                <a:solidFill>
                  <a:srgbClr val="ffcc66"/>
                </a:solidFill>
                <a:latin typeface="Verdana"/>
              </a:rPr>
              <a:t>égias relacionadas</a:t>
            </a:r>
            <a:br>
              <a:rPr sz="3200"/>
            </a:br>
            <a:r>
              <a:rPr b="1" lang="pt-BR" sz="3200" spc="-1" strike="noStrike">
                <a:solidFill>
                  <a:srgbClr val="ffcc66"/>
                </a:solidFill>
                <a:latin typeface="Verdana"/>
              </a:rPr>
              <a:t>à i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novação na “Nova Economia” - 3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Client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oduto acabado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aprendizado mútu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ente padrão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nicho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e recrut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eço da informação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investir em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formação interna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divulg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iar/lembrar/antecipar/mu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Verdana"/>
              </a:rPr>
              <a:t>Gera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ssão (núcleo) + flu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empenho + acei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xclusividade + cu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empo &gt; cu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ortunidades &gt; probl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cc66"/>
                </a:solidFill>
                <a:latin typeface="VAGRounded BT"/>
              </a:rPr>
              <a:t>Cadeia de Valor do Conhecimen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480" y="1677960"/>
            <a:ext cx="1703520" cy="160164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220840"/>
            <a:ext cx="119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i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581280"/>
            <a:ext cx="198108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bten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scob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64480" y="1596960"/>
            <a:ext cx="1701720" cy="160200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602000"/>
              <a:gd name="textAreaBottom" fmla="*/ 1602360 h 16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10360" y="2139840"/>
            <a:ext cx="110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3581280"/>
            <a:ext cx="1895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ce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27520" y="1639800"/>
            <a:ext cx="1701720" cy="160200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1602000"/>
              <a:gd name="textAreaBottom" fmla="*/ 1602360 h 16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73760" y="2182680"/>
            <a:ext cx="1284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fus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1760" y="3581280"/>
            <a:ext cx="2010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ces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ransfer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68600" y="1644480"/>
            <a:ext cx="1703520" cy="1602000"/>
          </a:xfrm>
          <a:custGeom>
            <a:avLst/>
            <a:gdLst>
              <a:gd name="textAreaLeft" fmla="*/ 0 w 1703520"/>
              <a:gd name="textAreaRight" fmla="*/ 1703880 w 1703520"/>
              <a:gd name="textAreaTop" fmla="*/ 0 h 1602000"/>
              <a:gd name="textAreaBottom" fmla="*/ 1602360 h 16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189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2187720"/>
            <a:ext cx="1676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difi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581280"/>
            <a:ext cx="207648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rgan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trutu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5880" y="4778280"/>
            <a:ext cx="8204400" cy="4017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4800600"/>
            <a:ext cx="603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nfra-estrutura “Hard” - Plataforma Tecn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1200" y="5202360"/>
            <a:ext cx="8204040" cy="4014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5254560"/>
            <a:ext cx="6096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nfra-estrutura “Soft” - Habilidades, processos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1200" y="5616720"/>
            <a:ext cx="8204040" cy="4014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640480"/>
            <a:ext cx="5983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estão - Medir, proteger, explor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Duas Dimensões Essenci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57160" y="2158920"/>
            <a:ext cx="2140200" cy="1354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90760" y="1590840"/>
            <a:ext cx="517104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Compartilhar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Conhecimento Existe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i="1" lang="pt-BR" sz="3200" spc="-1" strike="noStrike">
                <a:solidFill>
                  <a:srgbClr val="ffcc66"/>
                </a:solidFill>
                <a:latin typeface="Arial"/>
              </a:rPr>
              <a:t>Sabendo o que você sab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7160" y="3498840"/>
            <a:ext cx="1994040" cy="1117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3200" y="4133880"/>
            <a:ext cx="40629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Conhecimento para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Inov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cc66"/>
                </a:solidFill>
                <a:latin typeface="Arial"/>
              </a:rPr>
              <a:t>“</a:t>
            </a:r>
            <a:r>
              <a:rPr b="0" i="1" lang="pt-BR" sz="3200" spc="-1" strike="noStrike">
                <a:solidFill>
                  <a:srgbClr val="ffcc66"/>
                </a:solidFill>
                <a:latin typeface="Arial"/>
              </a:rPr>
              <a:t>Criar </a:t>
            </a:r>
            <a:r>
              <a:rPr b="0" i="1" lang="pt-BR" sz="3200" spc="-1" strike="noStrike" u="sng">
                <a:solidFill>
                  <a:srgbClr val="ffcc66"/>
                </a:solidFill>
                <a:uFillTx/>
                <a:latin typeface="Arial"/>
              </a:rPr>
              <a:t>e</a:t>
            </a:r>
            <a:r>
              <a:rPr b="0" i="1" lang="pt-BR" sz="3200" spc="-1" strike="noStrike">
                <a:solidFill>
                  <a:srgbClr val="ffcc66"/>
                </a:solidFill>
                <a:latin typeface="Arial"/>
              </a:rPr>
              <a:t> Convert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9:24:20Z</dcterms:created>
  <dc:creator>Carlos Quandt</dc:creator>
  <dc:description/>
  <dc:language>en-US</dc:language>
  <cp:lastModifiedBy>Carlos Quandt</cp:lastModifiedBy>
  <cp:lastPrinted>1999-05-07T21:01:22Z</cp:lastPrinted>
  <dcterms:modified xsi:type="dcterms:W3CDTF">1999-09-23T17:15:18Z</dcterms:modified>
  <cp:revision>77</cp:revision>
  <dc:subject/>
  <dc:title>Economia Baseada em Conhecimento</dc:title>
</cp:coreProperties>
</file>