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C2D-C360-4B16-AB41-F8D9F4CB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B52-8CD2-418F-8F3B-4DB8D3D9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CD0-BCE2-4D61-9267-15CAAC3A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A23-BF1B-4212-91BF-1216DACD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772-8AEB-4021-9BFE-8A653AEB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CEA-E7B6-4451-9A26-AC5760F0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F23-6E92-4B96-BCB7-778D4C7C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2AF-F449-491A-9900-D5CC126E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3B8-EF7D-406F-A0FC-EDC4EE6D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064-4B7E-46D7-AF5A-BE0402B6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517-A7ED-46EF-AF71-B984452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8E0-8B94-4154-9FD2-364B1AB9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06C9-5E4C-4F65-AB49-FF7A9EB90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8AB-5E77-4952-A3B9-415A3E851F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D47-8BF7-44F1-A24E-F627296B99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666-2EF0-47C0-BB2E-C3D6B76F5A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7BB-C998-4CCD-9342-D72CA48C10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629-99E5-41BD-A962-852E0FFEFB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EFC-0D61-4C05-B37D-0096582584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CDC-786B-4648-A2BD-BF9D795F13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131-2537-4AAA-976D-D9038F8E59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96D-690E-412E-9C19-436F9256CE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AC2-8A41-4C2B-A897-4B6D0C51A9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A91-FB59-4584-9EAF-0A9E09EF5E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世界繪本特選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TOP100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名著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作者：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Shel Silverstein    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謝爾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希爾弗斯坦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書名：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The Missing Piece   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失落的一角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譯者：  林良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出版：  自立晚報社文化出版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有的書上都是字，幾乎沒有畫；　有的書上都是畫，沒有什麼字；這本書上既  沒有幾個字，也只有很少的幾筆畫，但它說的更多，說完了每一故事；就像「人」字，雖只二筆，卻是萬物的根「本」。　　　　（史英：人本教育基金會董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生命的可能，貴在自我實現；生命的欠缺，是努力的空間。                                　＿＿這本書如此啟示我。　　　　　（陳來紅：主婦聯盟基金會顧問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銳與圓，收與放，得與失，能了然於心，必定受益無窮。　　　　　　　　　　　（葉樹珊：台視早安今天主持人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這是我讀過最快的一本書，恐怕也是一輩子最忘不了的一本書。書中不只充滿童趣，豐富的生活想像，還有一種淳樸的本質，使我不會有知識的負擔。　　　　　　　　　　　（劉克襄：自然寫作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5E2-EC96-4D5F-9B68-12E12487A7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CDF-229E-482D-AF2A-A6CC568374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E35-F773-459B-8BA4-8AF36B0CE0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2E9-BCFE-4C07-B155-2A1311F77C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7DF-33AC-47B1-AC2E-07300FE420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DA1-C067-459C-88F5-1DEB9BFA46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AB5-45DC-4110-8FF1-8F40A395EE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FA0-33BE-46F5-8455-7ADE4B0348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053-B9E8-498F-B60D-D357E50055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663-2C0E-464C-827D-78EA4A11B0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8E9-2B75-4C32-AC4C-DDB5F79FF7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EE2-E2BD-43E1-959A-51DD5962DB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5ED-5BDF-4394-8BDA-AB9BFF816C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ED5-8D87-4C38-8F8F-18B92D9948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879-21A6-4048-AFEA-73FBD0AA7E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C02-AD61-4AAE-B852-B65FFEB914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756-A4B3-42FA-B3F0-D5FD381D64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2DD-1669-4429-803B-429607F3EB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923-B541-4879-9615-701A31FECC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0E3-B84F-4DDE-A4EC-20ABF1BDB1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7D2-AF86-49D1-8C64-BE60B611CB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E88-E30C-439C-A3E0-153A14032E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7FF-FF14-4FE7-A114-809D2D0A37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B99-981F-4AF5-9A29-98841F15AEB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C1A-DEF8-4241-B3AE-2BB494FAFDA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4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16F-241D-4357-AA12-C16272A9372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4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A5F-CD8E-4E5E-86A3-C447D443F68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DE3-F1BF-44AE-B201-B25CDEB2DE8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4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F63-0576-4A14-A8A9-C3E0530F0F1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EAF-B65E-4D43-8950-2354AA05FDE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D35-A2BB-4620-A4D7-614D5927A0F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18C-BAA8-425B-8441-D7F351A14EB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20A-993C-4F99-ABCC-756F1F0F264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4B8-5D9D-45CB-840D-6D02D4A0C3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9E7-1D1B-4E81-B04D-7A8FEB2D4DA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93680"/>
            <a:ext cx="689004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這個故事還沒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它繼續往前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跟小蟲聊天、聞聞花香、讓蝴蝶駐足、快樂的唱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漸漸的，它的角磨掉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它成了一個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它不再需要找失落的一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有一天，它碰到了另一個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它們很聊的來，在一起很快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所以就結伴同行，共同往前滾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有時候看起來是兩個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有時候看起來是一個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有時候看起來有部份重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但是沒有誰在誰裡面    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維維補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它們都是圓                    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999.3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ED8-07FF-422A-B063-F55370330F7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754-EDA7-4B9E-BECA-38CBF206C5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A91-804C-4F00-81FC-84D9703071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970-C439-4A52-8342-831F20EF3E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A38-0B19-4E36-9FEA-4F445DBCD1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00:53:01Z</dcterms:created>
  <dc:creator>CGMH</dc:creator>
  <dc:description/>
  <dc:language>en-US</dc:language>
  <cp:lastModifiedBy>Christie</cp:lastModifiedBy>
  <dcterms:modified xsi:type="dcterms:W3CDTF">1999-03-19T04:06:14Z</dcterms:modified>
  <cp:revision>3</cp:revision>
  <dc:subject/>
  <dc:title>無投影片標題</dc:title>
</cp:coreProperties>
</file>