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E96-26F6-42D5-9BCC-E4CD5BE7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E7A-1EA0-4E4D-9C23-47A4D70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C8-DBB4-436E-B155-DE553EDC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24C-EE6F-4EAB-827F-2F44C62C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3F0-570C-461B-84D9-36CA50DD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414-85EF-44CD-9B1E-C468D12E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194-D70E-47F0-AAA2-CE0EC3B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3C5-0808-4483-BEA9-CEC9FF54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EED-A755-422B-8863-1389542C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C7E-7E8B-458F-9EBE-195BD6C4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B21-A699-467A-8FE0-545F017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C85-DEC6-4EE6-8CE4-A150988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C49-2232-4C45-A22C-9D3C2689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:\WINNT\system32\dfsgui.ms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(Verteiltes Dateisyst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617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st DF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teile von 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/Konfiguration von 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0358_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15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 ist DF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ist ein Dienst der bei der Installation von Windows 2000 automatisch mitinstallier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stellt freigegebene Ordner im Netz, in einem logischen Verzeichnisbaum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utzer müssen für den Zugriff auf Dateien nur auf einen Standort im Netzwerk zugreifen, auch wenn die Dateien physisch auf mehrere Server im Netzwerk vertei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10358_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15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teile von D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einfachte Netzwerk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e Ressourcenlokalisierung für den Benu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i- und Verzeichnisrechte haben auch im DFS Baum weiterhin ihre Gül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10358_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15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 für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ktionsweise des D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440" y="3567240"/>
            <a:ext cx="2743560" cy="2666880"/>
            <a:chOff x="5257440" y="3567240"/>
            <a:chExt cx="2743560" cy="2666880"/>
          </a:xfrm>
        </p:grpSpPr>
        <p:cxnSp>
          <p:nvCxnSpPr>
            <p:cNvPr id="52" name=""/>
            <p:cNvCxnSpPr>
              <a:stCxn id="53" idx="3"/>
              <a:endCxn id="54" idx="0"/>
            </p:cNvCxnSpPr>
            <p:nvPr/>
          </p:nvCxnSpPr>
          <p:spPr>
            <a:xfrm>
              <a:off x="5257800" y="4024440"/>
              <a:ext cx="2248560" cy="1614960"/>
            </a:xfrm>
            <a:prstGeom prst="curvedConnector2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6" idx="3"/>
              <a:endCxn id="57" idx="3"/>
            </p:cNvCxnSpPr>
            <p:nvPr/>
          </p:nvCxnSpPr>
          <p:spPr>
            <a:xfrm>
              <a:off x="5257440" y="3567240"/>
              <a:ext cx="2515320" cy="2667240"/>
            </a:xfrm>
            <a:prstGeom prst="curvedConnector5">
              <a:avLst>
                <a:gd name="adj1" fmla="val 109089"/>
                <a:gd name="adj2" fmla="val 50000"/>
                <a:gd name="adj3" fmla="val 109089"/>
              </a:avLst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</p:grpSp>
      <p:grpSp>
        <p:nvGrpSpPr>
          <p:cNvPr id="58" name=""/>
          <p:cNvGrpSpPr/>
          <p:nvPr/>
        </p:nvGrpSpPr>
        <p:grpSpPr>
          <a:xfrm>
            <a:off x="2476080" y="2652840"/>
            <a:ext cx="2248200" cy="3581640"/>
            <a:chOff x="2476080" y="2652840"/>
            <a:chExt cx="2248200" cy="3581640"/>
          </a:xfrm>
        </p:grpSpPr>
        <p:cxnSp>
          <p:nvCxnSpPr>
            <p:cNvPr id="59" name=""/>
            <p:cNvCxnSpPr>
              <a:endCxn id="60" idx="3"/>
            </p:cNvCxnSpPr>
            <p:nvPr/>
          </p:nvCxnSpPr>
          <p:spPr>
            <a:xfrm flipV="1" rot="10800000">
              <a:off x="2758320" y="3109680"/>
              <a:ext cx="1890000" cy="3124800"/>
            </a:xfrm>
            <a:prstGeom prst="curvedConnector5">
              <a:avLst>
                <a:gd name="adj1" fmla="val 49990"/>
                <a:gd name="adj2" fmla="val 49994"/>
                <a:gd name="adj3" fmla="val 49990"/>
              </a:avLst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62" idx="1"/>
              <a:endCxn id="63" idx="0"/>
            </p:cNvCxnSpPr>
            <p:nvPr/>
          </p:nvCxnSpPr>
          <p:spPr>
            <a:xfrm flipV="1" rot="10800000">
              <a:off x="2475720" y="2652480"/>
              <a:ext cx="2248560" cy="2986560"/>
            </a:xfrm>
            <a:prstGeom prst="curvedConnector2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</p:grpSp>
      <p:grpSp>
        <p:nvGrpSpPr>
          <p:cNvPr id="64" name=""/>
          <p:cNvGrpSpPr/>
          <p:nvPr/>
        </p:nvGrpSpPr>
        <p:grpSpPr>
          <a:xfrm>
            <a:off x="3048120" y="1676520"/>
            <a:ext cx="4343400" cy="2590560"/>
            <a:chOff x="3048120" y="1676520"/>
            <a:chExt cx="4343400" cy="2590560"/>
          </a:xfrm>
        </p:grpSpPr>
        <p:sp>
          <p:nvSpPr>
            <p:cNvPr id="65" name="File"/>
            <p:cNvSpPr/>
            <p:nvPr/>
          </p:nvSpPr>
          <p:spPr>
            <a:xfrm>
              <a:off x="3962520" y="1676520"/>
              <a:ext cx="53316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ower"/>
            <p:cNvSpPr/>
            <p:nvPr/>
          </p:nvSpPr>
          <p:spPr>
            <a:xfrm>
              <a:off x="3352680" y="190512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20574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30481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7080" y="2590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ile"/>
            <p:cNvSpPr/>
            <p:nvPr/>
          </p:nvSpPr>
          <p:spPr>
            <a:xfrm>
              <a:off x="4724280" y="24382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ile"/>
            <p:cNvSpPr/>
            <p:nvPr/>
          </p:nvSpPr>
          <p:spPr>
            <a:xfrm>
              <a:off x="4724280" y="28954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39625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505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ile"/>
            <p:cNvSpPr/>
            <p:nvPr/>
          </p:nvSpPr>
          <p:spPr>
            <a:xfrm>
              <a:off x="4724280" y="33526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ile"/>
            <p:cNvSpPr/>
            <p:nvPr/>
          </p:nvSpPr>
          <p:spPr>
            <a:xfrm>
              <a:off x="4724280" y="38098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29718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3920" y="1752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48320" y="17524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-Stammverzeichn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2514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3429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24280" y="38862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2438280"/>
              <a:ext cx="304560" cy="18288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1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32004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-Verknüpf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24280" y="297180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1905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enständiger DFS St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4876920"/>
            <a:ext cx="3810240" cy="1600200"/>
            <a:chOff x="380880" y="4876920"/>
            <a:chExt cx="3810240" cy="1600200"/>
          </a:xfrm>
        </p:grpSpPr>
        <p:sp>
          <p:nvSpPr>
            <p:cNvPr id="84" name="tower"/>
            <p:cNvSpPr/>
            <p:nvPr/>
          </p:nvSpPr>
          <p:spPr>
            <a:xfrm>
              <a:off x="838080" y="487692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52480" y="50292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52480" y="61722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5715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ile"/>
            <p:cNvSpPr/>
            <p:nvPr/>
          </p:nvSpPr>
          <p:spPr>
            <a:xfrm>
              <a:off x="2209680" y="556272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ile"/>
            <p:cNvSpPr/>
            <p:nvPr/>
          </p:nvSpPr>
          <p:spPr>
            <a:xfrm>
              <a:off x="2209680" y="601992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59436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serv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6095880"/>
              <a:ext cx="62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09680" y="5638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556272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4080" y="5867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igegebene Ord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410080" y="4876920"/>
            <a:ext cx="3733920" cy="1600200"/>
            <a:chOff x="5410080" y="4876920"/>
            <a:chExt cx="3733920" cy="1600200"/>
          </a:xfrm>
        </p:grpSpPr>
        <p:sp>
          <p:nvSpPr>
            <p:cNvPr id="94" name="tower"/>
            <p:cNvSpPr/>
            <p:nvPr/>
          </p:nvSpPr>
          <p:spPr>
            <a:xfrm>
              <a:off x="5867280" y="487692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1680" y="50292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1680" y="61722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81680" y="5715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ile"/>
            <p:cNvSpPr/>
            <p:nvPr/>
          </p:nvSpPr>
          <p:spPr>
            <a:xfrm>
              <a:off x="7238880" y="556272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ile"/>
            <p:cNvSpPr/>
            <p:nvPr/>
          </p:nvSpPr>
          <p:spPr>
            <a:xfrm>
              <a:off x="7238880" y="601992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0080" y="59436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38880" y="5638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609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2400" y="556272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586728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igegebene Ord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BD10358_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15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D10358_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152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733920" y="1447920"/>
            <a:ext cx="4343400" cy="2590560"/>
            <a:chOff x="3733920" y="1447920"/>
            <a:chExt cx="4343400" cy="2590560"/>
          </a:xfrm>
        </p:grpSpPr>
        <p:sp>
          <p:nvSpPr>
            <p:cNvPr id="106" name="File"/>
            <p:cNvSpPr/>
            <p:nvPr/>
          </p:nvSpPr>
          <p:spPr>
            <a:xfrm>
              <a:off x="4648320" y="1447920"/>
              <a:ext cx="53316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ower"/>
            <p:cNvSpPr/>
            <p:nvPr/>
          </p:nvSpPr>
          <p:spPr>
            <a:xfrm>
              <a:off x="4038480" y="167652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880" y="18288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819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52880" y="2362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ile"/>
            <p:cNvSpPr/>
            <p:nvPr/>
          </p:nvSpPr>
          <p:spPr>
            <a:xfrm>
              <a:off x="5410080" y="22096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ile"/>
            <p:cNvSpPr/>
            <p:nvPr/>
          </p:nvSpPr>
          <p:spPr>
            <a:xfrm>
              <a:off x="5410080" y="26668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37339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32767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ile"/>
            <p:cNvSpPr/>
            <p:nvPr/>
          </p:nvSpPr>
          <p:spPr>
            <a:xfrm>
              <a:off x="5410080" y="31240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ile"/>
            <p:cNvSpPr/>
            <p:nvPr/>
          </p:nvSpPr>
          <p:spPr>
            <a:xfrm>
              <a:off x="5410080" y="3581280"/>
              <a:ext cx="533520" cy="381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920" y="27432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15238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15238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-Stammverzeichn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2286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32004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10080" y="36576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2209680"/>
              <a:ext cx="304560" cy="18288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1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0800" y="2971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FS-Verknüpf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274320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280" y="1523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änen DFS St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-152280" y="5029200"/>
            <a:ext cx="2301840" cy="1523880"/>
            <a:chOff x="-152280" y="5029200"/>
            <a:chExt cx="2301840" cy="1523880"/>
          </a:xfrm>
        </p:grpSpPr>
        <p:sp>
          <p:nvSpPr>
            <p:cNvPr id="128" name=""/>
            <p:cNvSpPr/>
            <p:nvPr/>
          </p:nvSpPr>
          <p:spPr>
            <a:xfrm>
              <a:off x="-152280" y="609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serv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ower"/>
            <p:cNvSpPr/>
            <p:nvPr/>
          </p:nvSpPr>
          <p:spPr>
            <a:xfrm>
              <a:off x="228600" y="502920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1814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43000" y="6324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5867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ile"/>
            <p:cNvSpPr/>
            <p:nvPr/>
          </p:nvSpPr>
          <p:spPr>
            <a:xfrm>
              <a:off x="1600200" y="571500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ile"/>
            <p:cNvSpPr/>
            <p:nvPr/>
          </p:nvSpPr>
          <p:spPr>
            <a:xfrm>
              <a:off x="1600200" y="617220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624852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0200" y="57913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019920" y="5029200"/>
            <a:ext cx="2361600" cy="1523880"/>
            <a:chOff x="6019920" y="5029200"/>
            <a:chExt cx="2361600" cy="1523880"/>
          </a:xfrm>
        </p:grpSpPr>
        <p:sp>
          <p:nvSpPr>
            <p:cNvPr id="138" name="tower"/>
            <p:cNvSpPr/>
            <p:nvPr/>
          </p:nvSpPr>
          <p:spPr>
            <a:xfrm>
              <a:off x="6476760" y="5029200"/>
              <a:ext cx="533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1160" y="51814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91160" y="63244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160" y="5867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ile"/>
            <p:cNvSpPr/>
            <p:nvPr/>
          </p:nvSpPr>
          <p:spPr>
            <a:xfrm>
              <a:off x="7848360" y="5715000"/>
              <a:ext cx="53316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ile"/>
            <p:cNvSpPr/>
            <p:nvPr/>
          </p:nvSpPr>
          <p:spPr>
            <a:xfrm>
              <a:off x="7848360" y="6172200"/>
              <a:ext cx="53316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9920" y="6095880"/>
              <a:ext cx="137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8360" y="579132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360" y="624852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38080" y="2362320"/>
            <a:ext cx="1371600" cy="1343160"/>
            <a:chOff x="838080" y="2362320"/>
            <a:chExt cx="1371600" cy="1343160"/>
          </a:xfrm>
        </p:grpSpPr>
        <p:sp>
          <p:nvSpPr>
            <p:cNvPr id="148" name="tower"/>
            <p:cNvSpPr/>
            <p:nvPr/>
          </p:nvSpPr>
          <p:spPr>
            <a:xfrm>
              <a:off x="1295280" y="236232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3429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itere DC´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772400" y="1600200"/>
            <a:ext cx="1371600" cy="1343160"/>
            <a:chOff x="7772400" y="1600200"/>
            <a:chExt cx="1371600" cy="1343160"/>
          </a:xfrm>
        </p:grpSpPr>
        <p:sp>
          <p:nvSpPr>
            <p:cNvPr id="151" name="tower"/>
            <p:cNvSpPr/>
            <p:nvPr/>
          </p:nvSpPr>
          <p:spPr>
            <a:xfrm>
              <a:off x="8229600" y="160020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2400" y="2666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itere DC´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1080" y="2209680"/>
            <a:ext cx="1447560" cy="1098720"/>
            <a:chOff x="1981080" y="2209680"/>
            <a:chExt cx="1447560" cy="1098720"/>
          </a:xfrm>
        </p:grpSpPr>
        <p:sp>
          <p:nvSpPr>
            <p:cNvPr id="154" name=""/>
            <p:cNvSpPr/>
            <p:nvPr/>
          </p:nvSpPr>
          <p:spPr>
            <a:xfrm>
              <a:off x="1981080" y="2209680"/>
              <a:ext cx="1295280" cy="457200"/>
            </a:xfrm>
            <a:prstGeom prst="leftArrow">
              <a:avLst>
                <a:gd name="adj1" fmla="val 50000"/>
                <a:gd name="adj2" fmla="val 7082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7040" y="266688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plikation des DFS Baums durch F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827360"/>
            <a:ext cx="1448640" cy="1100160"/>
            <a:chOff x="6629400" y="1827360"/>
            <a:chExt cx="1448640" cy="1100160"/>
          </a:xfrm>
        </p:grpSpPr>
        <p:sp>
          <p:nvSpPr>
            <p:cNvPr id="157" name=""/>
            <p:cNvSpPr/>
            <p:nvPr/>
          </p:nvSpPr>
          <p:spPr>
            <a:xfrm rot="10807200">
              <a:off x="6782040" y="1828800"/>
              <a:ext cx="1295280" cy="457200"/>
            </a:xfrm>
            <a:prstGeom prst="leftArrow">
              <a:avLst>
                <a:gd name="adj1" fmla="val 50000"/>
                <a:gd name="adj2" fmla="val 7082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28600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plikation des DFS Baums durch F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 für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ktionsweise des D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86200" y="5029200"/>
            <a:ext cx="2073240" cy="1523880"/>
            <a:chOff x="3886200" y="5029200"/>
            <a:chExt cx="2073240" cy="1523880"/>
          </a:xfrm>
        </p:grpSpPr>
        <p:sp>
          <p:nvSpPr>
            <p:cNvPr id="161" name="tower"/>
            <p:cNvSpPr/>
            <p:nvPr/>
          </p:nvSpPr>
          <p:spPr>
            <a:xfrm>
              <a:off x="4038480" y="5029200"/>
              <a:ext cx="53352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51814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2880" y="6324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ile"/>
            <p:cNvSpPr/>
            <p:nvPr/>
          </p:nvSpPr>
          <p:spPr>
            <a:xfrm>
              <a:off x="5410080" y="571500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ile"/>
            <p:cNvSpPr/>
            <p:nvPr/>
          </p:nvSpPr>
          <p:spPr>
            <a:xfrm>
              <a:off x="5410080" y="6172200"/>
              <a:ext cx="533520" cy="380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4120" y="6248520"/>
              <a:ext cx="62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57913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6200" y="60958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leserver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70920" y="2424240"/>
            <a:ext cx="3538800" cy="3962520"/>
            <a:chOff x="1870920" y="2424240"/>
            <a:chExt cx="3538800" cy="3962520"/>
          </a:xfrm>
        </p:grpSpPr>
        <p:cxnSp>
          <p:nvCxnSpPr>
            <p:cNvPr id="171" name=""/>
            <p:cNvCxnSpPr>
              <a:stCxn id="120" idx="1"/>
              <a:endCxn id="133" idx="6"/>
            </p:cNvCxnSpPr>
            <p:nvPr/>
          </p:nvCxnSpPr>
          <p:spPr>
            <a:xfrm flipV="1" rot="10800000">
              <a:off x="1870920" y="2423880"/>
              <a:ext cx="3539160" cy="3348720"/>
            </a:xfrm>
            <a:prstGeom prst="curvedConnector2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25" idx="1"/>
            </p:cNvCxnSpPr>
            <p:nvPr/>
          </p:nvCxnSpPr>
          <p:spPr>
            <a:xfrm flipV="1" rot="10800000">
              <a:off x="2148840" y="2881080"/>
              <a:ext cx="3261240" cy="3505680"/>
            </a:xfrm>
            <a:prstGeom prst="curvedConnector2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5943240" y="3338640"/>
            <a:ext cx="2438640" cy="3048120"/>
            <a:chOff x="5943240" y="3338640"/>
            <a:chExt cx="2438640" cy="3048120"/>
          </a:xfrm>
        </p:grpSpPr>
        <p:cxnSp>
          <p:nvCxnSpPr>
            <p:cNvPr id="174" name=""/>
            <p:cNvCxnSpPr>
              <a:stCxn id="121" idx="3"/>
            </p:cNvCxnSpPr>
            <p:nvPr/>
          </p:nvCxnSpPr>
          <p:spPr>
            <a:xfrm>
              <a:off x="5943240" y="3338640"/>
              <a:ext cx="2439000" cy="3048480"/>
            </a:xfrm>
            <a:prstGeom prst="curvedConnector2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22" idx="3"/>
              <a:endCxn id="145" idx="1"/>
            </p:cNvCxnSpPr>
            <p:nvPr/>
          </p:nvCxnSpPr>
          <p:spPr>
            <a:xfrm>
              <a:off x="5943600" y="3795840"/>
              <a:ext cx="1905840" cy="2134080"/>
            </a:xfrm>
            <a:prstGeom prst="curvedConnector5">
              <a:avLst>
                <a:gd name="adj1" fmla="val 49990"/>
                <a:gd name="adj2" fmla="val 49991"/>
                <a:gd name="adj3" fmla="val 49990"/>
              </a:avLst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</p:cxnSp>
      </p:grpSp>
      <p:grpSp>
        <p:nvGrpSpPr>
          <p:cNvPr id="176" name=""/>
          <p:cNvGrpSpPr/>
          <p:nvPr/>
        </p:nvGrpSpPr>
        <p:grpSpPr>
          <a:xfrm>
            <a:off x="2286000" y="5715000"/>
            <a:ext cx="1676520" cy="916200"/>
            <a:chOff x="2286000" y="5715000"/>
            <a:chExt cx="1676520" cy="916200"/>
          </a:xfrm>
        </p:grpSpPr>
        <p:sp>
          <p:nvSpPr>
            <p:cNvPr id="177" name=""/>
            <p:cNvSpPr/>
            <p:nvPr/>
          </p:nvSpPr>
          <p:spPr>
            <a:xfrm>
              <a:off x="2286000" y="5715000"/>
              <a:ext cx="1676520" cy="457200"/>
            </a:xfrm>
            <a:prstGeom prst="leftRightArrow">
              <a:avLst>
                <a:gd name="adj1" fmla="val 50000"/>
                <a:gd name="adj2" fmla="val 72999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6172200"/>
              <a:ext cx="167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plikation der Ressourc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00040" y="2424240"/>
            <a:ext cx="1311120" cy="3962520"/>
            <a:chOff x="4100040" y="2424240"/>
            <a:chExt cx="1311120" cy="3962520"/>
          </a:xfrm>
        </p:grpSpPr>
        <p:cxnSp>
          <p:nvCxnSpPr>
            <p:cNvPr id="180" name=""/>
            <p:cNvCxnSpPr>
              <a:stCxn id="120" idx="1"/>
              <a:endCxn id="168" idx="1"/>
            </p:cNvCxnSpPr>
            <p:nvPr/>
          </p:nvCxnSpPr>
          <p:spPr>
            <a:xfrm flipH="1" flipV="1" rot="10800000">
              <a:off x="5409000" y="2423880"/>
              <a:ext cx="2520" cy="3505680"/>
            </a:xfrm>
            <a:prstGeom prst="curvedConnector5">
              <a:avLst>
                <a:gd name="adj1" fmla="val -60600000"/>
                <a:gd name="adj2" fmla="val 49994"/>
                <a:gd name="adj3" fmla="val -60600000"/>
              </a:avLst>
            </a:prstGeom>
            <a:ln w="25560">
              <a:solidFill>
                <a:srgbClr val="00008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25" idx="1"/>
              <a:endCxn id="167" idx="1"/>
            </p:cNvCxnSpPr>
            <p:nvPr/>
          </p:nvCxnSpPr>
          <p:spPr>
            <a:xfrm flipV="1" rot="10800000">
              <a:off x="5333400" y="2881080"/>
              <a:ext cx="76680" cy="3505680"/>
            </a:xfrm>
            <a:prstGeom prst="curvedConnector5">
              <a:avLst>
                <a:gd name="adj1" fmla="val 808018"/>
                <a:gd name="adj2" fmla="val 49994"/>
                <a:gd name="adj3" fmla="val 808018"/>
              </a:avLst>
            </a:prstGeom>
            <a:ln w="25560">
              <a:solidFill>
                <a:srgbClr val="000080"/>
              </a:solidFill>
              <a:prstDash val="dash"/>
              <a:miter/>
              <a:tailEnd len="med" type="triangle" w="med"/>
            </a:ln>
          </p:spPr>
        </p:cxn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/K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 DFS-Dienst durch Klicken hinzufü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3886200" y="3276720"/>
            <a:ext cx="533520" cy="533160"/>
          </a:xfrm>
          <a:custGeom>
            <a:avLst/>
            <a:gdLst>
              <a:gd name="textAreaLeft" fmla="*/ 52200 w 533520"/>
              <a:gd name="textAreaRight" fmla="*/ 481320 w 533520"/>
              <a:gd name="textAreaTop" fmla="*/ 52200 h 533160"/>
              <a:gd name="textAreaBottom" fmla="*/ 48096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9494" y="2121"/>
                </a:lnTo>
                <a:lnTo>
                  <a:pt x="2121" y="2121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9494" y="19479"/>
                </a:lnTo>
                <a:lnTo>
                  <a:pt x="19494" y="2121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2121" y="19479"/>
                </a:lnTo>
                <a:lnTo>
                  <a:pt x="19494" y="19479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2121" y="2121"/>
                </a:lnTo>
                <a:lnTo>
                  <a:pt x="2121" y="19479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9:44:01Z</dcterms:created>
  <dc:creator>Daniel Lerose</dc:creator>
  <dc:description/>
  <dc:language>en-US</dc:language>
  <cp:lastModifiedBy>Hehlmut Kohl</cp:lastModifiedBy>
  <dcterms:modified xsi:type="dcterms:W3CDTF">2001-04-04T20:36:41Z</dcterms:modified>
  <cp:revision>12</cp:revision>
  <dc:subject/>
  <dc:title>DFS (Verteiltes Dateisystem)</dc:title>
</cp:coreProperties>
</file>