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956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187280" y="4208760"/>
            <a:ext cx="7956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388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64280" y="1844640"/>
            <a:ext cx="388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187280" y="4208760"/>
            <a:ext cx="388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264280" y="4208760"/>
            <a:ext cx="388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256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77560" y="1844640"/>
            <a:ext cx="256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567840" y="1844640"/>
            <a:ext cx="256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187280" y="4208760"/>
            <a:ext cx="256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77560" y="4208760"/>
            <a:ext cx="256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567840" y="4208760"/>
            <a:ext cx="256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187280" y="1844640"/>
            <a:ext cx="7956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95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388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4280" y="1844640"/>
            <a:ext cx="388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187280" y="549000"/>
            <a:ext cx="79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388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4280" y="1844640"/>
            <a:ext cx="388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7280" y="4208760"/>
            <a:ext cx="388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388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4280" y="1844640"/>
            <a:ext cx="388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64280" y="4208760"/>
            <a:ext cx="388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388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4280" y="1844640"/>
            <a:ext cx="388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7280" y="4208760"/>
            <a:ext cx="7956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BinnerD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844640"/>
            <a:ext cx="795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nne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Binne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nne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nne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Binne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nne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Binne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nne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inne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nne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inne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nne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4360" y="-360"/>
            <a:ext cx="268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bbe0e3"/>
                </a:solidFill>
                <a:latin typeface="Binner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bbe0e3"/>
                </a:solidFill>
                <a:latin typeface="Binner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1042920" cy="6858000"/>
            <a:chOff x="0" y="0"/>
            <a:chExt cx="1042920" cy="6858000"/>
          </a:xfrm>
        </p:grpSpPr>
        <p:graphicFrame>
          <p:nvGraphicFramePr>
            <p:cNvPr id="4" name=""/>
            <p:cNvGraphicFramePr/>
            <p:nvPr/>
          </p:nvGraphicFramePr>
          <p:xfrm>
            <a:off x="0" y="0"/>
            <a:ext cx="1042920" cy="1143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0"/>
                      <a:ext cx="104292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" name=""/>
            <p:cNvGraphicFramePr/>
            <p:nvPr/>
          </p:nvGraphicFramePr>
          <p:xfrm>
            <a:off x="0" y="1143000"/>
            <a:ext cx="1042920" cy="1143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1143000"/>
                      <a:ext cx="104292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0" y="2286000"/>
            <a:ext cx="1042920" cy="1143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0" y="2286000"/>
                      <a:ext cx="104292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" name=""/>
            <p:cNvGraphicFramePr/>
            <p:nvPr/>
          </p:nvGraphicFramePr>
          <p:xfrm>
            <a:off x="0" y="3429000"/>
            <a:ext cx="1042920" cy="1143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0" y="3429000"/>
                      <a:ext cx="104292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" name=""/>
            <p:cNvGraphicFramePr/>
            <p:nvPr/>
          </p:nvGraphicFramePr>
          <p:xfrm>
            <a:off x="0" y="4572000"/>
            <a:ext cx="1042920" cy="1143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0" y="4572000"/>
                      <a:ext cx="104292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" name=""/>
            <p:cNvGraphicFramePr/>
            <p:nvPr/>
          </p:nvGraphicFramePr>
          <p:xfrm>
            <a:off x="0" y="5715000"/>
            <a:ext cx="1042920" cy="11430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0" y="5715000"/>
                      <a:ext cx="104292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" name=""/>
          <p:cNvSpPr/>
          <p:nvPr/>
        </p:nvSpPr>
        <p:spPr>
          <a:xfrm>
            <a:off x="6938640" y="6553080"/>
            <a:ext cx="224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bbe0e3"/>
                </a:solidFill>
                <a:latin typeface="BinnerD"/>
              </a:rPr>
              <a:t>Cra. Claudia G. Pasquar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2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ffcc00"/>
                </a:solidFill>
                <a:uFillTx/>
                <a:latin typeface="BinnerD"/>
              </a:rPr>
              <a:t>UNIDAD 1</a:t>
            </a:r>
            <a:r>
              <a:rPr b="0" lang="es-ES" sz="4400" spc="-1" strike="noStrike">
                <a:solidFill>
                  <a:srgbClr val="ffcc00"/>
                </a:solidFill>
                <a:latin typeface="BinnerD"/>
              </a:rPr>
              <a:t>: GESTION DE RECURSOS HUMANOS</a:t>
            </a: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tador Público                   </a:t>
            </a: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68360" y="476280"/>
            <a:ext cx="5256000" cy="4968000"/>
            <a:chOff x="2268360" y="476280"/>
            <a:chExt cx="5256000" cy="4968000"/>
          </a:xfrm>
        </p:grpSpPr>
        <p:grpSp>
          <p:nvGrpSpPr>
            <p:cNvPr id="74" name=""/>
            <p:cNvGrpSpPr/>
            <p:nvPr/>
          </p:nvGrpSpPr>
          <p:grpSpPr>
            <a:xfrm>
              <a:off x="2268360" y="476280"/>
              <a:ext cx="5186520" cy="4968000"/>
              <a:chOff x="2268360" y="476280"/>
              <a:chExt cx="5186520" cy="4968000"/>
            </a:xfrm>
          </p:grpSpPr>
          <p:sp>
            <p:nvSpPr>
              <p:cNvPr id="75" name=""/>
              <p:cNvSpPr/>
              <p:nvPr/>
            </p:nvSpPr>
            <p:spPr>
              <a:xfrm>
                <a:off x="2268360" y="1718280"/>
                <a:ext cx="3131640" cy="305712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d800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34000" y="476280"/>
                <a:ext cx="3131280" cy="305748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323240" y="2387160"/>
                <a:ext cx="3131640" cy="3057120"/>
              </a:xfrm>
              <a:prstGeom prst="ellipse">
                <a:avLst/>
              </a:prstGeom>
              <a:solidFill>
                <a:srgbClr val="333399">
                  <a:alpha val="50000"/>
                </a:srgbClr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2605320" y="258120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Rockwell Extra Bold"/>
                </a:rPr>
                <a:t>ACC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99640" y="3277080"/>
              <a:ext cx="103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Rockwell Extra Bold"/>
                </a:rPr>
                <a:t>“</a:t>
              </a:r>
              <a:r>
                <a:rPr b="0" lang="es-ES_tradnl" sz="2000" spc="-1" strike="noStrike">
                  <a:solidFill>
                    <a:srgbClr val="ffffff"/>
                  </a:solidFill>
                  <a:latin typeface="Rockwell Extra Bold"/>
                </a:rPr>
                <a:t>actúo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21800" y="1164240"/>
              <a:ext cx="22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Rockwell Extra Bold"/>
                </a:rPr>
                <a:t>CAPAC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3080" y="1836360"/>
              <a:ext cx="119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Rockwell Extra Bold"/>
                </a:rPr>
                <a:t>“ </a:t>
              </a:r>
              <a:r>
                <a:rPr b="0" lang="es-ES_tradnl" sz="2000" spc="-1" strike="noStrike">
                  <a:solidFill>
                    <a:srgbClr val="ffffff"/>
                  </a:solidFill>
                  <a:latin typeface="Rockwell Extra Bold"/>
                </a:rPr>
                <a:t>puedo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04840" y="429804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Rockwell Extra Bold"/>
                </a:rPr>
                <a:t>COMPROMI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61080" y="3624480"/>
              <a:ext cx="121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Rockwell Extra Bold"/>
                </a:rPr>
                <a:t>“ </a:t>
              </a:r>
              <a:r>
                <a:rPr b="0" lang="es-ES_tradnl" sz="2000" spc="-1" strike="noStrike">
                  <a:solidFill>
                    <a:srgbClr val="ffffff"/>
                  </a:solidFill>
                  <a:latin typeface="Rockwell Extra Bold"/>
                </a:rPr>
                <a:t>quiero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727280" y="479520"/>
            <a:ext cx="2663280" cy="1941840"/>
            <a:chOff x="1727280" y="479520"/>
            <a:chExt cx="2663280" cy="1941840"/>
          </a:xfrm>
        </p:grpSpPr>
        <p:sp>
          <p:nvSpPr>
            <p:cNvPr id="85" name=""/>
            <p:cNvSpPr/>
            <p:nvPr/>
          </p:nvSpPr>
          <p:spPr>
            <a:xfrm flipH="1" flipV="1">
              <a:off x="3477600" y="1050120"/>
              <a:ext cx="912960" cy="1371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27280" y="479520"/>
              <a:ext cx="215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Rockwell Extra Bold"/>
                </a:rPr>
                <a:t>Desmotiv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759280" y="2279520"/>
            <a:ext cx="2904120" cy="647640"/>
            <a:chOff x="5759280" y="2279520"/>
            <a:chExt cx="2904120" cy="647640"/>
          </a:xfrm>
        </p:grpSpPr>
        <p:sp>
          <p:nvSpPr>
            <p:cNvPr id="88" name=""/>
            <p:cNvSpPr/>
            <p:nvPr/>
          </p:nvSpPr>
          <p:spPr>
            <a:xfrm flipV="1">
              <a:off x="5759280" y="2469960"/>
              <a:ext cx="1355400" cy="457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11520" y="2279520"/>
              <a:ext cx="145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Rockwell Extra Bold"/>
                </a:rPr>
                <a:t>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Rockwell Extra Bold"/>
                </a:rPr>
                <a:t>Llega tar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158920" y="4006800"/>
            <a:ext cx="2592360" cy="2097360"/>
            <a:chOff x="2158920" y="4006800"/>
            <a:chExt cx="2592360" cy="2097360"/>
          </a:xfrm>
        </p:grpSpPr>
        <p:sp>
          <p:nvSpPr>
            <p:cNvPr id="91" name=""/>
            <p:cNvSpPr/>
            <p:nvPr/>
          </p:nvSpPr>
          <p:spPr>
            <a:xfrm flipH="1">
              <a:off x="4274280" y="4006800"/>
              <a:ext cx="476640" cy="1709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58920" y="573588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Rockwell Extra Bold"/>
                </a:rPr>
                <a:t>Buenas inten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332000" y="3071880"/>
            <a:ext cx="3851280" cy="2677320"/>
            <a:chOff x="1332000" y="3071880"/>
            <a:chExt cx="3851280" cy="2677320"/>
          </a:xfrm>
        </p:grpSpPr>
        <p:sp>
          <p:nvSpPr>
            <p:cNvPr id="94" name=""/>
            <p:cNvSpPr/>
            <p:nvPr/>
          </p:nvSpPr>
          <p:spPr>
            <a:xfrm flipH="1">
              <a:off x="3197520" y="3071880"/>
              <a:ext cx="1985760" cy="1831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32000" y="5106600"/>
              <a:ext cx="242676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8080"/>
                  </a:solidFill>
                  <a:latin typeface="Rockwell Extra Bold"/>
                </a:rPr>
                <a:t>TALENTO INDIVID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tador Público                   </a:t>
            </a: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71280" y="36468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BinnerD"/>
              </a:rPr>
              <a:t>RECURSOS “ DE LOS” HUMANOS</a:t>
            </a: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04720" y="2707920"/>
            <a:ext cx="77389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BinnerD"/>
              </a:rPr>
              <a:t>Conjunto de conocimientos, capacidades y habilidades que las personas pueden y quieren poner en acción.</a:t>
            </a:r>
            <a:endParaRPr b="0" lang="en-US" sz="44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tador Público                   </a:t>
            </a: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1640" y="1412640"/>
            <a:ext cx="745164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BinnerD"/>
              </a:rPr>
              <a:t>CUÁLES DE LAS FACULTADES HUMANAS MENCIONADAS REQUIERE EL PERFIL DEL CONTADOR PÚBLICO?</a:t>
            </a: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596360" y="5157720"/>
            <a:ext cx="1274760" cy="135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tador Público                   </a:t>
            </a: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188640"/>
            <a:ext cx="8001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BinnerD"/>
              </a:rPr>
              <a:t>  </a:t>
            </a:r>
            <a:r>
              <a:rPr b="0" lang="es-ES" sz="4400" spc="-1" strike="noStrike">
                <a:solidFill>
                  <a:srgbClr val="ffcc00"/>
                </a:solidFill>
                <a:latin typeface="BinnerD"/>
              </a:rPr>
              <a:t>OPCIONE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2640" y="134100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52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BinnerD"/>
              </a:rPr>
              <a:t>COMO RECURSOS:</a:t>
            </a: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 se denominan recursos humanos y deben ser administrados, es decir son sujetos pasivos de la acción organizacional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3429000"/>
            <a:ext cx="8001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BinnerD"/>
              </a:rPr>
              <a:t>COMO SOCIOS:</a:t>
            </a:r>
            <a:r>
              <a:rPr b="0" lang="es-ES" sz="3200" spc="-1" strike="noStrike">
                <a:solidFill>
                  <a:srgbClr val="cc0000"/>
                </a:solidFill>
                <a:latin typeface="Binner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son proveedoras de conocimientos, habilidades, capacidades y sobre todo, del más importante aporte a las organizaciones: la inteligencia; el capital intelectual de la organ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tador Público                   </a:t>
            </a:r>
          </a:p>
        </p:txBody>
      </p:sp>
    </p:spTree>
  </p:cSld>
  <p:transition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74920" y="763560"/>
            <a:ext cx="2449440" cy="2197080"/>
          </a:xfrm>
          <a:prstGeom prst="rect">
            <a:avLst/>
          </a:prstGeom>
          <a:solidFill>
            <a:srgbClr val="8fc2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1480" y="2960640"/>
            <a:ext cx="2449440" cy="2195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21480" y="763560"/>
            <a:ext cx="2449440" cy="2197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2960640"/>
            <a:ext cx="2449440" cy="219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5659560"/>
            <a:ext cx="47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BinnerD"/>
              </a:rPr>
              <a:t>Valor agregado o impacto en 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67000" y="51800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innerD"/>
              </a:rPr>
              <a:t>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94680" y="530064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innerD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521640" y="3228840"/>
            <a:ext cx="40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BinnerD"/>
              </a:rPr>
              <a:t>Ha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72960" y="83520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innerD"/>
              </a:rPr>
              <a:t>U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880" y="472428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innerD"/>
              </a:rPr>
              <a:t>GENER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74160" y="378936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BinnerD"/>
              </a:rPr>
              <a:t>DESINVIE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24360" y="3716280"/>
            <a:ext cx="237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BinnerD"/>
              </a:rPr>
              <a:t>ADMINISTRACION DE 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68960" y="17002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BinnerD"/>
              </a:rPr>
              <a:t>TERCER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162720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BinnerD"/>
              </a:rPr>
              <a:t>CORE COMPET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tador Público                   </a:t>
            </a: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BinnerD"/>
              </a:rPr>
              <a:t>  </a:t>
            </a:r>
            <a:r>
              <a:rPr b="0" lang="es-ES" sz="4400" spc="-1" strike="noStrike">
                <a:solidFill>
                  <a:srgbClr val="ffcc00"/>
                </a:solidFill>
                <a:latin typeface="BinnerD"/>
              </a:rPr>
              <a:t>COMPETENCIAS ESENCIALES</a:t>
            </a: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160360"/>
            <a:ext cx="771192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Valiosas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455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455400" indent="-455400"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Únicas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455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455400" indent="-455400"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Difíciles de imitar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455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455400" indent="-455400"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Gestionados adecuadamente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455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tador Público                   </a:t>
            </a: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7677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BinnerD"/>
              </a:rPr>
              <a:t>  </a:t>
            </a:r>
            <a:r>
              <a:rPr b="0" lang="es-ES" sz="4400" spc="-1" strike="noStrike">
                <a:solidFill>
                  <a:srgbClr val="ffcc00"/>
                </a:solidFill>
                <a:latin typeface="BinnerD"/>
              </a:rPr>
              <a:t>DEBE TENERSE EN CUENTA</a:t>
            </a: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19280" y="2133360"/>
            <a:ext cx="7129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422640" indent="-422640"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Son seres humanos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42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422640" indent="-422640"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Activadores inteligentes de los recursos organizacionales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42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422640" indent="-422640"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Socios de la organización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tador Público                   </a:t>
            </a: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8028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BinnerD"/>
              </a:rPr>
              <a:t>  </a:t>
            </a:r>
            <a:r>
              <a:rPr b="0" lang="es-ES" sz="4400" spc="-1" strike="noStrike">
                <a:solidFill>
                  <a:srgbClr val="ffcc00"/>
                </a:solidFill>
                <a:latin typeface="BinnerD"/>
              </a:rPr>
              <a:t>DIRIGIR RECURSOS HUMANOS</a:t>
            </a: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3280" y="2133360"/>
            <a:ext cx="7129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innerD"/>
              </a:rPr>
              <a:t>Son todas las decisiones y acciones directivas que afectan la naturaleza de las relaciones entre la organización y los empleados.</a:t>
            </a:r>
            <a:endParaRPr b="0" lang="en-US" sz="40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tador Público                   </a:t>
            </a: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0960" y="296640"/>
            <a:ext cx="83916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BinnerD"/>
              </a:rPr>
              <a:t>  </a:t>
            </a:r>
            <a:r>
              <a:rPr b="0" lang="es-ES" sz="4400" spc="-1" strike="noStrike">
                <a:solidFill>
                  <a:srgbClr val="ffcc00"/>
                </a:solidFill>
                <a:latin typeface="BinnerD"/>
              </a:rPr>
              <a:t>ADMINISTRACION DE RECURSOS HUMANOS</a:t>
            </a: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6000" y="1521000"/>
            <a:ext cx="8028000" cy="38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73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BinnerD"/>
              </a:rPr>
              <a:t>Conjunto de políticas y prácticas necesarias para dirigir los aspectos relacionados con las personas o recursos humanos.</a:t>
            </a:r>
            <a:endParaRPr b="0" lang="en-US" sz="3600" spc="-1" strike="noStrike">
              <a:solidFill>
                <a:srgbClr val="ffffff"/>
              </a:solidFill>
              <a:latin typeface="BinnerD"/>
            </a:endParaRPr>
          </a:p>
          <a:p>
            <a:pPr marL="4273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BinnerD"/>
              </a:rPr>
              <a:t>Es una función administrativa dedicada a la adquisición, entrenamiento, evaluación y remuneración de los empleados.</a:t>
            </a:r>
            <a:endParaRPr b="0" lang="en-US" sz="36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125" name=""/>
          <p:cNvSpPr/>
          <p:nvPr/>
        </p:nvSpPr>
        <p:spPr>
          <a:xfrm>
            <a:off x="1042920" y="6035760"/>
            <a:ext cx="780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Benguiat Bk BT"/>
              </a:rPr>
              <a:t>TODOS LOS GERENTES SON GERENTES DE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tador Público                   </a:t>
            </a:r>
          </a:p>
        </p:txBody>
      </p:sp>
    </p:spTree>
  </p:cSld>
  <p:transition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6000" y="262080"/>
            <a:ext cx="8028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BinnerD"/>
              </a:rPr>
              <a:t>CUÁLES SON LAS CARACTERÍSTICAS DEL CONTEXTO QUE INFLUYEN EN LA GESTION DE RECURSOS HUMANOS</a:t>
            </a:r>
            <a:endParaRPr b="0" lang="en-US" sz="3200" spc="-1" strike="noStrike">
              <a:solidFill>
                <a:srgbClr val="ffcc00"/>
              </a:solidFill>
              <a:latin typeface="Binner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524720" y="5157720"/>
            <a:ext cx="1143000" cy="1128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16000" y="3068640"/>
            <a:ext cx="8028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BinnerD"/>
              </a:rPr>
              <a:t>CUÁLES SON LAS CARACTERÍSTICAS DE LA ORGANIZACIÓN QUE INFLUYEN EN LA GESTION DE RECURSOS HU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tador Público                   </a:t>
            </a: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BinnerD"/>
              </a:rPr>
              <a:t>CONTEXTO DE LA GESTION DE RECURSOS HUMANOS</a:t>
            </a: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81280" y="2793600"/>
            <a:ext cx="646272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innerD"/>
              </a:rPr>
              <a:t>Personas </a:t>
            </a:r>
            <a:endParaRPr b="0" lang="en-US" sz="4000" spc="-1" strike="noStrike">
              <a:solidFill>
                <a:srgbClr val="ffffff"/>
              </a:solidFill>
              <a:latin typeface="Binner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innerD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innerD"/>
              </a:rPr>
              <a:t>Organizaciones</a:t>
            </a:r>
            <a:endParaRPr b="0" lang="en-US" sz="40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tador Público                   </a:t>
            </a: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66640" y="0"/>
            <a:ext cx="7677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BinnerD"/>
              </a:rPr>
              <a:t>  </a:t>
            </a:r>
            <a:r>
              <a:rPr b="0" lang="es-ES" sz="4400" spc="-1" strike="noStrike">
                <a:solidFill>
                  <a:srgbClr val="ffcc00"/>
                </a:solidFill>
                <a:latin typeface="BinnerD"/>
              </a:rPr>
              <a:t>CONDICIONES EXTERNAS</a:t>
            </a: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17560" y="1584000"/>
            <a:ext cx="7129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99240" indent="-399240"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Cambios sociales y demográficos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399240" indent="-399240"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Condiciones económicas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399240" indent="-399240"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Globalización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399240" indent="-399240"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Tecnología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399240" indent="-399240"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Leyes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399240" indent="-399240"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Roles de los sindicatos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399240" indent="-399240"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Competidores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399240" indent="-399240"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Otras.            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tador Público                   </a:t>
            </a: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0"/>
            <a:ext cx="84042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BinnerD"/>
              </a:rPr>
              <a:t>  </a:t>
            </a:r>
            <a:r>
              <a:rPr b="0" lang="es-ES" sz="4400" spc="-1" strike="noStrike">
                <a:solidFill>
                  <a:srgbClr val="ffcc00"/>
                </a:solidFill>
                <a:latin typeface="BinnerD"/>
              </a:rPr>
              <a:t>CONDICIONES INTERNAS</a:t>
            </a: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560" y="907920"/>
            <a:ext cx="810108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BinnerD"/>
              </a:rPr>
              <a:t>A NIVEL ORGANIZACIONAL: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Tamaño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Condiciones financieras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Estrategia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Tecnología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Cultura. 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Estilo de dirección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44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BinnerD"/>
              </a:rPr>
              <a:t>SEGÚN LA NATURALEZA DEL TRABAJO: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Contenidos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Requisitos para desempeñarlo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Retribuciones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44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44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tador Público                   </a:t>
            </a: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16000" y="765000"/>
            <a:ext cx="80280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BinnerD"/>
              </a:rPr>
              <a:t>"una empresa que no sepa imaginar el futuro, no estará allí para disfrutarlo... el mejor método de predecir el futuro es crearlo"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BinnerD"/>
              </a:rPr>
              <a:t>Hamel y Prahalat , "Compitiendo por el Futuro"</a:t>
            </a:r>
            <a:endParaRPr b="0" lang="en-US" sz="28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tador Público                   </a:t>
            </a: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rot="16200000">
            <a:off x="6620760" y="3792240"/>
            <a:ext cx="46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Benguiat Bk BT"/>
              </a:rPr>
              <a:t>La Nación, Empleos, Diciembre de 1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0"/>
            <a:ext cx="810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BinnerD"/>
              </a:rPr>
              <a:t>  </a:t>
            </a:r>
            <a:r>
              <a:rPr b="0" lang="es-ES" sz="4400" spc="-1" strike="noStrike">
                <a:solidFill>
                  <a:srgbClr val="ffcc00"/>
                </a:solidFill>
                <a:latin typeface="BinnerD"/>
              </a:rPr>
              <a:t>REDEFINICION DEL 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907920"/>
            <a:ext cx="712944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Fin de la es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Emple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Capaci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Remuneración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Trabajo tempor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Jóvenes profesio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Trabajo por proyec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Mujeres ejecu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Horario flex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Vacaciones bre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Trabajo en célu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tador Público                   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6000" y="765000"/>
            <a:ext cx="80280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BinnerD"/>
              </a:rPr>
              <a:t>La organización del futuro tendrá una tecnología tan avanzada que sólo será necesaria una persona y un perro para administrarla.</a:t>
            </a:r>
            <a:endParaRPr b="0" lang="en-US" sz="36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3716280"/>
            <a:ext cx="7128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00"/>
                </a:solidFill>
                <a:latin typeface="BinnerD"/>
              </a:rPr>
              <a:t>La persona se encargará de alimentar al perro y éste se encargará de que la persona no toque na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tador Público                   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BinnerD"/>
              </a:rPr>
              <a:t>QUÉ ES UNA ORGANIZACIÓN? </a:t>
            </a: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3429000"/>
            <a:ext cx="657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BinnerD"/>
              </a:rPr>
              <a:t>Redes de personas que agregan valor a un producto o proce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tador Público                   </a:t>
            </a: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6919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00"/>
                </a:solidFill>
                <a:latin typeface="BinnerD"/>
              </a:rPr>
              <a:t>	</a:t>
            </a:r>
            <a:r>
              <a:rPr b="0" lang="es-ES" sz="4000" spc="-1" strike="noStrike">
                <a:solidFill>
                  <a:srgbClr val="ffcc00"/>
                </a:solidFill>
                <a:latin typeface="BinnerD"/>
              </a:rPr>
              <a:t>PRINCIPALES CARACTERISTICAS DE LAS EMPRESAS DE NUESTROS DIAS</a:t>
            </a:r>
            <a:endParaRPr b="0" lang="en-US" sz="40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7280" y="3112560"/>
            <a:ext cx="795672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Achatamiento de la pirámide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Tercerización de actividades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Organización de actividades por proyectos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Concentración de las áreas de staff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nnerD"/>
              </a:rPr>
              <a:t>Globalización.</a:t>
            </a:r>
            <a:endParaRPr b="0" lang="en-US" sz="32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tador Público                   </a:t>
            </a: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1640" y="981000"/>
            <a:ext cx="7451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BinnerD"/>
              </a:rPr>
              <a:t>QUÉ HACE AL SER HUMANO DIFERENTE DE LAS MAQUINAS O LOS ANIMALES? </a:t>
            </a: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380360" y="4797360"/>
            <a:ext cx="1274760" cy="135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tador Público                   </a:t>
            </a: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20640"/>
            <a:ext cx="8001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00"/>
                </a:solidFill>
                <a:latin typeface="BinnerD"/>
              </a:rPr>
              <a:t>  </a:t>
            </a:r>
            <a:r>
              <a:rPr b="0" lang="es-ES" sz="4000" spc="-1" strike="noStrike">
                <a:solidFill>
                  <a:srgbClr val="ffcc00"/>
                </a:solidFill>
                <a:latin typeface="BinnerD"/>
              </a:rPr>
              <a:t>LAS FACULTADES HUMANAS</a:t>
            </a:r>
            <a:br>
              <a:rPr sz="4000"/>
            </a:br>
            <a:br>
              <a:rPr sz="4000"/>
            </a:br>
            <a:r>
              <a:rPr b="0" lang="es-ES" sz="2800" spc="-1" strike="noStrike">
                <a:solidFill>
                  <a:srgbClr val="ff3300"/>
                </a:solidFill>
                <a:latin typeface="BinnerD"/>
              </a:rPr>
              <a:t>Según la Real Academia Española</a:t>
            </a:r>
            <a:endParaRPr b="0" lang="en-US" sz="28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22280" y="2491920"/>
            <a:ext cx="705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BinnerD"/>
              </a:rPr>
              <a:t>Facultad:</a:t>
            </a:r>
            <a:r>
              <a:rPr b="0" lang="es-ES" sz="2800" spc="-1" strike="noStrike">
                <a:solidFill>
                  <a:srgbClr val="ffffff"/>
                </a:solidFill>
                <a:latin typeface="BinnerD"/>
              </a:rPr>
              <a:t> “aptitud, potencia física o moral: poder, derecho para hacer alguna cosa... licencia o permiso”.</a:t>
            </a:r>
            <a:endParaRPr b="0" lang="en-US" sz="28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66" name=""/>
          <p:cNvSpPr/>
          <p:nvPr/>
        </p:nvSpPr>
        <p:spPr>
          <a:xfrm>
            <a:off x="1177920" y="4292640"/>
            <a:ext cx="7345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356760" indent="-3567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BinnerD"/>
              </a:rPr>
              <a:t>Recurso:</a:t>
            </a:r>
            <a:r>
              <a:rPr b="0" lang="es-ES" sz="2800" spc="-1" strike="noStrike">
                <a:solidFill>
                  <a:srgbClr val="ffffff"/>
                </a:solidFill>
                <a:latin typeface="BinnerD"/>
              </a:rPr>
              <a:t> “medio de cualquier clase que, en caso de necesidad sirve para conseguir lo que se pretende. Conjunto de elementos disponibles para resolver una necesidad o llevar a cabo una empresa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tador Público                   </a:t>
            </a:r>
          </a:p>
        </p:txBody>
      </p:sp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BinnerD"/>
              </a:rPr>
              <a:t>  </a:t>
            </a:r>
            <a:r>
              <a:rPr b="0" lang="es-ES" sz="4400" spc="-1" strike="noStrike" u="sng">
                <a:solidFill>
                  <a:srgbClr val="ffcc00"/>
                </a:solidFill>
                <a:uFillTx/>
                <a:latin typeface="BinnerD"/>
              </a:rPr>
              <a:t>LAS FACULTADES HUMANAS</a:t>
            </a: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1305000"/>
            <a:ext cx="41036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7320" indent="-427320">
              <a:spcBef>
                <a:spcPts val="774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Raciocinio.</a:t>
            </a:r>
            <a:endParaRPr b="0" lang="en-US" sz="3100" spc="-1" strike="noStrike">
              <a:solidFill>
                <a:srgbClr val="ffffff"/>
              </a:solidFill>
              <a:latin typeface="BinnerD"/>
            </a:endParaRPr>
          </a:p>
          <a:p>
            <a:pPr marL="42732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BinnerD"/>
            </a:endParaRPr>
          </a:p>
          <a:p>
            <a:pPr marL="427320" indent="-427320">
              <a:spcBef>
                <a:spcPts val="774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Sentido del tiempo.</a:t>
            </a:r>
            <a:endParaRPr b="0" lang="en-US" sz="3100" spc="-1" strike="noStrike">
              <a:solidFill>
                <a:srgbClr val="ffffff"/>
              </a:solidFill>
              <a:latin typeface="BinnerD"/>
            </a:endParaRPr>
          </a:p>
          <a:p>
            <a:pPr marL="42732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BinnerD"/>
            </a:endParaRPr>
          </a:p>
          <a:p>
            <a:pPr marL="427320" indent="-427320">
              <a:spcBef>
                <a:spcPts val="774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Fijación de misión y metas. </a:t>
            </a:r>
            <a:endParaRPr b="0" lang="en-US" sz="3100" spc="-1" strike="noStrike">
              <a:solidFill>
                <a:srgbClr val="ffffff"/>
              </a:solidFill>
              <a:latin typeface="BinnerD"/>
            </a:endParaRPr>
          </a:p>
          <a:p>
            <a:pPr marL="4273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      </a:t>
            </a:r>
            <a:endParaRPr b="0" lang="en-US" sz="3100" spc="-1" strike="noStrike">
              <a:solidFill>
                <a:srgbClr val="ffffff"/>
              </a:solidFill>
              <a:latin typeface="BinnerD"/>
            </a:endParaRPr>
          </a:p>
          <a:p>
            <a:pPr marL="427320" indent="-427320">
              <a:spcBef>
                <a:spcPts val="774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Toma de decisiones.</a:t>
            </a:r>
            <a:endParaRPr b="0" lang="en-US" sz="3100" spc="-1" strike="noStrike">
              <a:solidFill>
                <a:srgbClr val="ffffff"/>
              </a:solidFill>
              <a:latin typeface="BinnerD"/>
            </a:endParaRPr>
          </a:p>
          <a:p>
            <a:pPr marL="4273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1246320"/>
            <a:ext cx="4140360" cy="43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361440" indent="-361440">
              <a:lnSpc>
                <a:spcPct val="90000"/>
              </a:lnSpc>
              <a:spcBef>
                <a:spcPts val="774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Significado de l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    </a:t>
            </a: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propia vid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90000"/>
              </a:lnSpc>
              <a:spcBef>
                <a:spcPts val="774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Libre albedrí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90000"/>
              </a:lnSpc>
              <a:spcBef>
                <a:spcPts val="774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Sentido de la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    </a:t>
            </a: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inelasticidad del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    </a:t>
            </a: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tiemp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90000"/>
              </a:lnSpc>
              <a:spcBef>
                <a:spcPts val="774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Responsabilida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innerD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tador Público                   </a:t>
            </a: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BinnerD"/>
              </a:rPr>
              <a:t>  </a:t>
            </a:r>
            <a:r>
              <a:rPr b="0" lang="es-ES" sz="4400" spc="-1" strike="noStrike">
                <a:solidFill>
                  <a:srgbClr val="ffcc00"/>
                </a:solidFill>
                <a:latin typeface="BinnerD"/>
              </a:rPr>
              <a:t>LAS FACULTADES HUMANAS</a:t>
            </a:r>
            <a:endParaRPr b="0" lang="en-US" sz="4400" spc="-1" strike="noStrike">
              <a:solidFill>
                <a:srgbClr val="ffcc00"/>
              </a:solidFill>
              <a:latin typeface="Binner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4622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spcBef>
                <a:spcPts val="774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Autocrítica</a:t>
            </a:r>
            <a:endParaRPr b="0" lang="en-US" sz="3100" spc="-1" strike="noStrike">
              <a:solidFill>
                <a:srgbClr val="ffffff"/>
              </a:solidFill>
              <a:latin typeface="BinnerD"/>
            </a:endParaRPr>
          </a:p>
          <a:p>
            <a:pPr marL="4460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BinnerD"/>
            </a:endParaRPr>
          </a:p>
          <a:p>
            <a:pPr marL="446040" indent="-446040">
              <a:spcBef>
                <a:spcPts val="774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Transformación de sí </a:t>
            </a:r>
            <a:endParaRPr b="0" lang="en-US" sz="3100" spc="-1" strike="noStrike">
              <a:solidFill>
                <a:srgbClr val="ffffff"/>
              </a:solidFill>
              <a:latin typeface="BinnerD"/>
            </a:endParaRPr>
          </a:p>
          <a:p>
            <a:pPr marL="446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    </a:t>
            </a: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mismo y del ambiente</a:t>
            </a:r>
            <a:endParaRPr b="0" lang="en-US" sz="3100" spc="-1" strike="noStrike">
              <a:solidFill>
                <a:srgbClr val="ffffff"/>
              </a:solidFill>
              <a:latin typeface="BinnerD"/>
            </a:endParaRPr>
          </a:p>
          <a:p>
            <a:pPr marL="4460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BinnerD"/>
            </a:endParaRPr>
          </a:p>
          <a:p>
            <a:pPr marL="446040" indent="-446040">
              <a:spcBef>
                <a:spcPts val="774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Creatividad</a:t>
            </a:r>
            <a:endParaRPr b="0" lang="en-US" sz="3100" spc="-1" strike="noStrike">
              <a:solidFill>
                <a:srgbClr val="ffffff"/>
              </a:solidFill>
              <a:latin typeface="BinnerD"/>
            </a:endParaRPr>
          </a:p>
          <a:p>
            <a:pPr marL="446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      </a:t>
            </a:r>
            <a:endParaRPr b="0" lang="en-US" sz="3100" spc="-1" strike="noStrike">
              <a:solidFill>
                <a:srgbClr val="ffffff"/>
              </a:solidFill>
              <a:latin typeface="BinnerD"/>
            </a:endParaRPr>
          </a:p>
          <a:p>
            <a:pPr marL="446040" indent="-446040">
              <a:spcBef>
                <a:spcPts val="774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Cultura</a:t>
            </a:r>
            <a:endParaRPr b="0" lang="en-US" sz="3100" spc="-1" strike="noStrike">
              <a:solidFill>
                <a:srgbClr val="ffffff"/>
              </a:solidFill>
              <a:latin typeface="BinnerD"/>
            </a:endParaRPr>
          </a:p>
          <a:p>
            <a:pPr marL="446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BinnerD"/>
            </a:endParaRPr>
          </a:p>
        </p:txBody>
      </p:sp>
      <p:sp>
        <p:nvSpPr>
          <p:cNvPr id="72" name=""/>
          <p:cNvSpPr/>
          <p:nvPr/>
        </p:nvSpPr>
        <p:spPr>
          <a:xfrm>
            <a:off x="5580000" y="1390680"/>
            <a:ext cx="356400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80000"/>
              </a:lnSpc>
              <a:spcBef>
                <a:spcPts val="774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Risas y lágrima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74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Amo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74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Perseveranci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74"/>
              </a:spcBef>
              <a:buClr>
                <a:srgbClr val="ffff66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innerD"/>
              </a:rPr>
              <a:t>Otro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innerD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tador Público                   </a:t>
            </a: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23:51:56Z</dcterms:created>
  <dc:creator>Claudia Pasquaré</dc:creator>
  <dc:description/>
  <dc:language>en-US</dc:language>
  <cp:lastModifiedBy>Claudia Pasquaré</cp:lastModifiedBy>
  <dcterms:modified xsi:type="dcterms:W3CDTF">2005-03-11T15:22:22Z</dcterms:modified>
  <cp:revision>30</cp:revision>
  <dc:subject/>
  <dc:title>Diapositiva 1</dc:title>
</cp:coreProperties>
</file>