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691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4138560"/>
            <a:ext cx="691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198900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413856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413856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22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15680" y="1989000"/>
            <a:ext cx="22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52080" y="1989000"/>
            <a:ext cx="22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4138560"/>
            <a:ext cx="22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15680" y="4138560"/>
            <a:ext cx="22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852080" y="4138560"/>
            <a:ext cx="22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691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691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7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1989000"/>
            <a:ext cx="337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61704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1989000"/>
            <a:ext cx="337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413856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7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198900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413856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198900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4138560"/>
            <a:ext cx="691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nguiat Bk BT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989000"/>
            <a:ext cx="691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enguiat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Benguiat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Benguiat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Benguiat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Benguiat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03280" y="6544800"/>
            <a:ext cx="259236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Zurich Ex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Zurich Ex BT"/>
              </a:rPr>
              <a:t>Cra. Claudia Pasquar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9280" y="1890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Zurich Ex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Zurich Ex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Benguiat Bk BT"/>
              </a:rPr>
              <a:t>UNIDAD 1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: GESTION DE RECURSOS HUMANOS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001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OPCIONE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7056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Benguiat Bk BT"/>
              </a:rPr>
              <a:t>COMO RECURSOS:</a:t>
            </a: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 se denominan recursos humanos y deben ser administrados, es decir son sujetos pasivos de la acción organizacional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645000"/>
            <a:ext cx="7345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Benguiat Bk BT"/>
              </a:rPr>
              <a:t>COMO SOCIOS: </a:t>
            </a: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son proveedoras de conocimientos, habilidades, capacidades y sobre todo, del más importante aporte a las organizaciones: la inteligencia; el capital intelectual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1835280" y="620640"/>
            <a:ext cx="4895280" cy="4392000"/>
            <a:chOff x="1835280" y="620640"/>
            <a:chExt cx="4895280" cy="4392000"/>
          </a:xfrm>
        </p:grpSpPr>
        <p:sp>
          <p:nvSpPr>
            <p:cNvPr id="217" name=""/>
            <p:cNvSpPr/>
            <p:nvPr/>
          </p:nvSpPr>
          <p:spPr>
            <a:xfrm>
              <a:off x="1835280" y="620640"/>
              <a:ext cx="2448720" cy="219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82200" y="2816640"/>
              <a:ext cx="2448360" cy="2196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82200" y="620640"/>
              <a:ext cx="2448360" cy="2196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35280" y="2816640"/>
              <a:ext cx="2448720" cy="2196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79640" y="5516640"/>
            <a:ext cx="47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nguiat Bk BT"/>
              </a:rPr>
              <a:t>Valor agregado o impacto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49680" y="5037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nguiat Bk BT"/>
              </a:rPr>
              <a:t>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78440" y="51577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nguiat Bk BT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-1494000" y="3012840"/>
            <a:ext cx="40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nguiat Bk BT"/>
              </a:rPr>
              <a:t>H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8160" y="6922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nguiat Bk BT"/>
              </a:rPr>
              <a:t>U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2760" y="45813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nguiat Bk BT"/>
              </a:rPr>
              <a:t>GENE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5640" y="3645000"/>
            <a:ext cx="16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nguiat Bk BT"/>
              </a:rPr>
              <a:t>Desinv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27640" y="3573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nguiat Bk BT"/>
              </a:rPr>
              <a:t>Administración de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29480" y="15573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nguiat Bk BT"/>
              </a:rPr>
              <a:t>Terce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148428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enguiat Bk BT"/>
              </a:rPr>
              <a:t>CORE COMPE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24360" y="476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COMPETENCIAS ESENCIALES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6697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Valiosa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Única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Difíciles de imitar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Gestionados adecuadamente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-324000" y="476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DESTREZ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0578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Benguiat Bk BT"/>
              </a:rPr>
              <a:t>COMERCIALES:</a:t>
            </a:r>
            <a:r>
              <a:rPr b="1" lang="es-ES" sz="2000" spc="-1" strike="noStrike">
                <a:solidFill>
                  <a:srgbClr val="000000"/>
                </a:solidFill>
                <a:latin typeface="Benguiat Bk BT"/>
              </a:rPr>
              <a:t> No son propias de una rama en particular, se obtienen fácilmente. Su valor es más o menos el mismo para todas las empresas.</a:t>
            </a:r>
            <a:endParaRPr b="1" lang="en-US" sz="20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Benguiat Bk BT"/>
              </a:rPr>
              <a:t>POTENCIADAS:</a:t>
            </a:r>
            <a:r>
              <a:rPr b="1" lang="es-ES" sz="2000" spc="-1" strike="noStrike">
                <a:solidFill>
                  <a:srgbClr val="000000"/>
                </a:solidFill>
                <a:latin typeface="Benguiat Bk BT"/>
              </a:rPr>
              <a:t> Conocimientos que sin ser exclusivos de una empresa en particular son más valiosos para ella que para otras. Más propias de una rama de actividad que de una empresa.</a:t>
            </a:r>
            <a:endParaRPr b="1" lang="en-US" sz="20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Benguiat Bk BT"/>
              </a:rPr>
              <a:t>EXCLUSIVAS:</a:t>
            </a:r>
            <a:r>
              <a:rPr b="1" lang="es-ES" sz="2000" spc="-1" strike="noStrike">
                <a:solidFill>
                  <a:srgbClr val="000000"/>
                </a:solidFill>
                <a:latin typeface="Benguiat Bk BT"/>
              </a:rPr>
              <a:t> Es el conocimiento que genera ventaja competitiva para la organización.</a:t>
            </a:r>
            <a:endParaRPr b="1" lang="en-US" sz="20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7677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DEBE TENERSE EN CUENTA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Son seres humano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Activadores inteligentes de los recursos organizacionale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Socios de la organización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7451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DIRIGIR RECURSOS HUMANOS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enguiat Bk BT"/>
              </a:rPr>
              <a:t>Son todas las decisiones y acciones directivas que afectan la naturaleza de las relaciones entre la organización y los empleados.</a:t>
            </a:r>
            <a:endParaRPr b="1" lang="en-US" sz="32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7451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ADMINISTRACION DE RECURSOS HUMANOS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enguiat Bk BT"/>
              </a:rPr>
              <a:t>Conjunto de políticas y prácticas necesarias para dirigir los aspectos relacionados con las personas o recursos humanos.</a:t>
            </a:r>
            <a:endParaRPr b="1" lang="en-US" sz="28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enguiat Bk BT"/>
              </a:rPr>
              <a:t>Es una función administrativa dedicada a la adquisición, entrenamiento, evaluación y remuneración de los empleados.</a:t>
            </a:r>
            <a:endParaRPr b="1" lang="en-US" sz="28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02" name=""/>
          <p:cNvSpPr/>
          <p:nvPr/>
        </p:nvSpPr>
        <p:spPr>
          <a:xfrm>
            <a:off x="303120" y="5611680"/>
            <a:ext cx="69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Benguiat Bk BT"/>
              </a:rPr>
              <a:t>TODOS LOS GERENTES SON GERENTES DE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7677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CONDICIONES EXTERNAS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129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ambios sociales y demográfico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ondiciones económica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Globalización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ecnología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Leye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Roles de los sindicato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ompetidore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Otras.            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677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CONDICIONES INTERNAS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712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Benguiat Bk BT"/>
              </a:rPr>
              <a:t>A NIVEL ORGANIZACIONAL: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amaño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ondiciones financiera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Estrategia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ecnología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ultura. 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Estilo de dirección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Benguiat Bk BT"/>
              </a:rPr>
              <a:t>SEGÚN LA NATURALEZA DEL TRABAJO: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ontenido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Requisitos para desempeñarlo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Retribucione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0" y="1341360"/>
            <a:ext cx="7451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Benguiat Bk BT"/>
              </a:rPr>
              <a:t>"una empresa que no sepa imaginar el futuro, no estará allí para disfrutarlo... el mejor método de predecir el futuro es crearlo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enguiat Bk BT"/>
              </a:rPr>
              <a:t>Hamel y Prahalat , "Compitiendo por el Futuro"</a:t>
            </a:r>
            <a:endParaRPr b="1" lang="en-US" sz="20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CONTEXTO DE LA GESTION DE RECURSOS HUMANOS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6000" y="2852280"/>
            <a:ext cx="561348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enguiat Bk BT"/>
              </a:rPr>
              <a:t>Personas </a:t>
            </a:r>
            <a:endParaRPr b="1" lang="en-US" sz="32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enguiat Bk BT"/>
              </a:rPr>
              <a:t>Organizaciones</a:t>
            </a:r>
            <a:endParaRPr b="1" lang="en-US" sz="32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677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REDEFINICION DEL TRABAJO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12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Fin de la estabilidad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Empleabilidad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apacitación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Remuneración variable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rabajo temporario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Jóvenes profesionale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rabajo por proyecto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Mujeres ejecutiva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Horario flexible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Vacaciones breve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rabajo en célula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59" name=""/>
          <p:cNvSpPr/>
          <p:nvPr/>
        </p:nvSpPr>
        <p:spPr>
          <a:xfrm>
            <a:off x="2131200" y="602136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Benguiat Bk BT"/>
              </a:rPr>
              <a:t>La Nación, Empleos, Diciembre de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Benguiat Bk BT"/>
              </a:rPr>
              <a:t>QUÉ ES UNA ORGANIZACIÓN? 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2997360"/>
            <a:ext cx="657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Redes de personas que agregan valor a un producto o proce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73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enguiat Bk BT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enguiat Bk BT"/>
              </a:rPr>
              <a:t>PRINCIPALES CARACTERISTICAS DE LAS EMPRESAS DE NUESTROS DIAS</a:t>
            </a:r>
            <a:endParaRPr b="1" lang="en-US" sz="32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3141720"/>
            <a:ext cx="6910560" cy="29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Achatamiento de la pirámide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ercerización de actividade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Organización de actividades por proyecto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oncentración de las áreas de staff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Globalización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001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Benguiat Bk BT"/>
              </a:rPr>
              <a:t>LAS FACULTADES HUMANAS</a:t>
            </a:r>
            <a:br>
              <a:rPr sz="3200"/>
            </a:br>
            <a:br>
              <a:rPr sz="3200"/>
            </a:br>
            <a:r>
              <a:rPr b="1" lang="es-ES" sz="2000" spc="-1" strike="noStrike">
                <a:solidFill>
                  <a:srgbClr val="1a61b0"/>
                </a:solidFill>
                <a:latin typeface="Benguiat Bk BT"/>
              </a:rPr>
              <a:t>Según la Real Academia Española</a:t>
            </a:r>
            <a:endParaRPr b="1" lang="en-US" sz="20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2565360"/>
            <a:ext cx="705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Benguiat Bk BT"/>
              </a:rPr>
              <a:t>Facultad:</a:t>
            </a:r>
            <a:r>
              <a:rPr b="1" lang="es-ES" sz="2000" spc="-1" strike="noStrike">
                <a:solidFill>
                  <a:srgbClr val="000000"/>
                </a:solidFill>
                <a:latin typeface="Benguiat Bk BT"/>
              </a:rPr>
              <a:t> “aptitud, potencia física o moral: poder, derecho para hacer alguna cosa... licencia o permiso”.</a:t>
            </a:r>
            <a:endParaRPr b="1" lang="en-US" sz="20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09" name=""/>
          <p:cNvSpPr/>
          <p:nvPr/>
        </p:nvSpPr>
        <p:spPr>
          <a:xfrm>
            <a:off x="34920" y="4365720"/>
            <a:ext cx="7345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Benguiat Bk BT"/>
              </a:rPr>
              <a:t>Recurso:</a:t>
            </a:r>
            <a:r>
              <a:rPr b="1" lang="es-ES" sz="2000" spc="-1" strike="noStrike">
                <a:solidFill>
                  <a:srgbClr val="000000"/>
                </a:solidFill>
                <a:latin typeface="Benguiat Bk BT"/>
              </a:rPr>
              <a:t> “medio de cualquier clase que, en caso de necesidad sirve para conseguir lo que se pretende. Conjunto de elementos disponibles para resolver una necesidad o llevar a cabo una empres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 u="sng">
                <a:solidFill>
                  <a:srgbClr val="000000"/>
                </a:solidFill>
                <a:uFillTx/>
                <a:latin typeface="Benguiat Bk BT"/>
              </a:rPr>
              <a:t>LAS FACULTADES HUMANAS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640" y="1988640"/>
            <a:ext cx="4103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Raciocinio.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Sentido del tiempo.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Fijación de misión y metas. 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      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Toma de decisiones.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1916280"/>
            <a:ext cx="414036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Significado de 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    </a:t>
            </a: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propia vi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Libre albedrí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Sentido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    </a:t>
            </a: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inelasticidad d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    </a:t>
            </a: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tiemp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Responsabili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enguiat Bk BT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543800" y="457200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2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LAS FACULTADES HUMANAS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3889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Autocrítica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Transformación de sí 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    </a:t>
            </a: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mismo y del ambiente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Creatividad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      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-46980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Cultura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39" name=""/>
          <p:cNvSpPr/>
          <p:nvPr/>
        </p:nvSpPr>
        <p:spPr>
          <a:xfrm>
            <a:off x="4067280" y="1844640"/>
            <a:ext cx="3213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Risas y lágri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Am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Persevera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enguiat Bk BT"/>
              </a:rPr>
              <a:t>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enguiat Bk BT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543800" y="457992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992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971640" y="549360"/>
            <a:ext cx="5184360" cy="4952520"/>
            <a:chOff x="971640" y="549360"/>
            <a:chExt cx="5184360" cy="4952520"/>
          </a:xfrm>
        </p:grpSpPr>
        <p:grpSp>
          <p:nvGrpSpPr>
            <p:cNvPr id="153" name=""/>
            <p:cNvGrpSpPr/>
            <p:nvPr/>
          </p:nvGrpSpPr>
          <p:grpSpPr>
            <a:xfrm>
              <a:off x="971640" y="549360"/>
              <a:ext cx="5115960" cy="4952520"/>
              <a:chOff x="971640" y="549360"/>
              <a:chExt cx="5115960" cy="4952520"/>
            </a:xfrm>
          </p:grpSpPr>
          <p:sp>
            <p:nvSpPr>
              <p:cNvPr id="154" name=""/>
              <p:cNvSpPr/>
              <p:nvPr/>
            </p:nvSpPr>
            <p:spPr>
              <a:xfrm>
                <a:off x="971640" y="1787400"/>
                <a:ext cx="3089160" cy="304740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d800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6040" y="549360"/>
                <a:ext cx="3088440" cy="3047760"/>
              </a:xfrm>
              <a:prstGeom prst="ellipse">
                <a:avLst/>
              </a:prstGeom>
              <a:solidFill>
                <a:srgbClr val="00b600">
                  <a:alpha val="50000"/>
                </a:srgbClr>
              </a:solidFill>
              <a:ln w="9360">
                <a:solidFill>
                  <a:srgbClr val="00b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98440" y="2454480"/>
                <a:ext cx="3089160" cy="30474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305720" y="264780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Rockwell Extra Bold"/>
                </a:rPr>
                <a:t>ACC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00040" y="3341520"/>
              <a:ext cx="103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Rockwell Extra Bold"/>
                </a:rPr>
                <a:t>“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Rockwell Extra Bold"/>
                </a:rPr>
                <a:t>actú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99520" y="123516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Rockwell Extra Bold"/>
                </a:rPr>
                <a:t>CAPAC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58200" y="190512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Rockwell Extra Bold"/>
                </a:rPr>
                <a:t>“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Rockwell Extra Bold"/>
                </a:rPr>
                <a:t>pued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75000" y="4359240"/>
              <a:ext cx="27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Rockwell Extra Bold"/>
                </a:rPr>
                <a:t>COMPROMI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000" y="3687840"/>
              <a:ext cx="12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Rockwell Extra Bold"/>
                </a:rPr>
                <a:t>“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Rockwell Extra Bold"/>
                </a:rPr>
                <a:t>quier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95280" y="549360"/>
            <a:ext cx="2663640" cy="1941840"/>
            <a:chOff x="395280" y="549360"/>
            <a:chExt cx="2663640" cy="1941840"/>
          </a:xfrm>
        </p:grpSpPr>
        <p:sp>
          <p:nvSpPr>
            <p:cNvPr id="164" name=""/>
            <p:cNvSpPr/>
            <p:nvPr/>
          </p:nvSpPr>
          <p:spPr>
            <a:xfrm flipH="1" flipV="1">
              <a:off x="2145960" y="1119960"/>
              <a:ext cx="91296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5280" y="549360"/>
              <a:ext cx="215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Rockwell Extra Bold"/>
                </a:rPr>
                <a:t>Desmotiv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427640" y="2349360"/>
            <a:ext cx="2903760" cy="647640"/>
            <a:chOff x="4427640" y="2349360"/>
            <a:chExt cx="2903760" cy="647640"/>
          </a:xfrm>
        </p:grpSpPr>
        <p:sp>
          <p:nvSpPr>
            <p:cNvPr id="167" name=""/>
            <p:cNvSpPr/>
            <p:nvPr/>
          </p:nvSpPr>
          <p:spPr>
            <a:xfrm flipV="1">
              <a:off x="4427640" y="2539800"/>
              <a:ext cx="13554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79520" y="2349360"/>
              <a:ext cx="145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Rockwell Extra Bold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Rockwell Extra Bold"/>
                </a:rPr>
                <a:t>Llega tar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26920" y="4076640"/>
            <a:ext cx="2592720" cy="2097360"/>
            <a:chOff x="826920" y="4076640"/>
            <a:chExt cx="2592720" cy="2097360"/>
          </a:xfrm>
        </p:grpSpPr>
        <p:sp>
          <p:nvSpPr>
            <p:cNvPr id="170" name=""/>
            <p:cNvSpPr/>
            <p:nvPr/>
          </p:nvSpPr>
          <p:spPr>
            <a:xfrm flipH="1">
              <a:off x="2942640" y="4076640"/>
              <a:ext cx="476640" cy="170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6920" y="5805720"/>
              <a:ext cx="259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Rockwell Extra Bold"/>
                </a:rPr>
                <a:t>Buenas inten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0" y="3141720"/>
            <a:ext cx="3851280" cy="2677320"/>
            <a:chOff x="0" y="3141720"/>
            <a:chExt cx="3851280" cy="2677320"/>
          </a:xfrm>
        </p:grpSpPr>
        <p:sp>
          <p:nvSpPr>
            <p:cNvPr id="173" name=""/>
            <p:cNvSpPr/>
            <p:nvPr/>
          </p:nvSpPr>
          <p:spPr>
            <a:xfrm flipH="1">
              <a:off x="1865520" y="3141720"/>
              <a:ext cx="1985760" cy="183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176440"/>
              <a:ext cx="24267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Rockwell Extra Bold"/>
                </a:rPr>
                <a:t>TALENTO INDIVID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7543800" y="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7543800" y="1143000"/>
          <a:ext cx="16002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7543800" y="2286000"/>
          <a:ext cx="1600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43800" y="3429000"/>
          <a:ext cx="160020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429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7543800" y="4579920"/>
          <a:ext cx="16002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457992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543800" y="571500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571500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6170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Benguiat Bk BT"/>
              </a:rPr>
              <a:t>RECURSOS “ DE LOS” HUMANOS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69105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Benguiat Bk BT"/>
              </a:rPr>
              <a:t>Conjunto de conocimientos, capacidades y habilidades que las personas pueden y quieren poner en acción.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3:51:56Z</dcterms:created>
  <dc:creator>Claudia Pasquaré</dc:creator>
  <dc:description/>
  <dc:language>en-US</dc:language>
  <cp:lastModifiedBy>Jack</cp:lastModifiedBy>
  <dcterms:modified xsi:type="dcterms:W3CDTF">2004-08-20T21:57:57Z</dcterms:modified>
  <cp:revision>39</cp:revision>
  <dc:subject/>
  <dc:title>Diapositiva 1</dc:title>
</cp:coreProperties>
</file>