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691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4138560"/>
            <a:ext cx="691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413856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413856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15680" y="198900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52080" y="198900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413856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15680" y="413856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852080" y="4138560"/>
            <a:ext cx="222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61704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413856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413856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1989000"/>
            <a:ext cx="3372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4138560"/>
            <a:ext cx="6910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nguiat Bk BT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989000"/>
            <a:ext cx="691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enguiat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Benguiat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nguiat Bk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03280" y="6544800"/>
            <a:ext cx="25923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Zurich Ex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Zurich Ex BT"/>
              </a:rPr>
              <a:t>Cra. Claudia Pasquar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9280" y="18900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Zurich Ex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Zurich Ex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.ar/imgres?imgurl=www.frc.utn.edu.ar/secretarias/planeamiento/first_archivos/demo01.jpg&amp;imgrefurl=http://www.frc.utn.edu.ar/secretarias/planeamiento/&amp;hl=es&amp;h=250&amp;w=250&amp;start=27&amp;prev=/images%3Fq%3Dplaneamiento%26start%3D20%26svnum%3D100%26hl%3Des%26lr%3D%26ie%3DUTF-8%26oe%3DUTF-8%26sa%3D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hyperlink" Target="http://images.google.com.ar/imgres?imgurl=www.jobsletter.org.nz/images/drucker.gif&amp;imgrefurl=http://www.jobsletter.org.nz/jbl12510.htm&amp;h=171&amp;w=208&amp;sz=23&amp;tbnid=5_5djC0uTa8J:&amp;tbnh=82&amp;tbnw=99&amp;prev=/images%3Fq%3DPeter%2Bdrucker%26hl%3Des%26lr%3D%26ie%3DUTF-8%26oe%3DUTF-8%26sa%3DG" TargetMode="External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7543800" y="0"/>
            <a:ext cx="1600200" cy="6858000"/>
            <a:chOff x="7543800" y="0"/>
            <a:chExt cx="1600200" cy="6858000"/>
          </a:xfrm>
        </p:grpSpPr>
        <p:graphicFrame>
          <p:nvGraphicFramePr>
            <p:cNvPr id="41" name=""/>
            <p:cNvGraphicFramePr/>
            <p:nvPr/>
          </p:nvGraphicFramePr>
          <p:xfrm>
            <a:off x="7543800" y="0"/>
            <a:ext cx="160020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" name=""/>
            <p:cNvGraphicFramePr/>
            <p:nvPr/>
          </p:nvGraphicFramePr>
          <p:xfrm>
            <a:off x="7543800" y="1143000"/>
            <a:ext cx="1600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43800" y="1143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" name=""/>
            <p:cNvGraphicFramePr/>
            <p:nvPr/>
          </p:nvGraphicFramePr>
          <p:xfrm>
            <a:off x="7543800" y="2286000"/>
            <a:ext cx="1600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2286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"/>
            <p:cNvGraphicFramePr/>
            <p:nvPr/>
          </p:nvGraphicFramePr>
          <p:xfrm>
            <a:off x="7543800" y="3429000"/>
            <a:ext cx="16002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3429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" name=""/>
            <p:cNvGraphicFramePr/>
            <p:nvPr/>
          </p:nvGraphicFramePr>
          <p:xfrm>
            <a:off x="7543800" y="4572000"/>
            <a:ext cx="160020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43800" y="4572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" name=""/>
            <p:cNvGraphicFramePr/>
            <p:nvPr/>
          </p:nvGraphicFramePr>
          <p:xfrm>
            <a:off x="7543800" y="5715000"/>
            <a:ext cx="160020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43800" y="5715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" name=""/>
          <p:cNvSpPr/>
          <p:nvPr/>
        </p:nvSpPr>
        <p:spPr>
          <a:xfrm>
            <a:off x="0" y="620640"/>
            <a:ext cx="7451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Benguiat Bk BT"/>
              </a:rPr>
              <a:t>CUÁLES SON LAS CARACTERÍSTICAS DEL CONTEXTO QUE INFLUYEN EN LA GESTIO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41720"/>
            <a:ext cx="7451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Benguiat Bk BT"/>
              </a:rPr>
              <a:t>CUÁLES SON LAS CARACTERÍSTICAS DE LA ORGANIZACIÓN QUE INFLUYEN EN LA GESTIO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4920" y="3645000"/>
            <a:ext cx="1219320" cy="5202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Benguiat Bk BT"/>
              </a:rPr>
              <a:t>Admisión de pers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6520" y="3645000"/>
            <a:ext cx="1295280" cy="5202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Benguiat Bk BT"/>
              </a:rPr>
              <a:t>Aplicación de pers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3645000"/>
            <a:ext cx="1584360" cy="5202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Benguiat Bk BT"/>
              </a:rPr>
              <a:t>Compensación de pers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54640" y="3645000"/>
            <a:ext cx="1218960" cy="5202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Benguiat Bk BT"/>
              </a:rPr>
              <a:t>Desarrollo de pers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3645000"/>
            <a:ext cx="1655640" cy="5202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Benguiat Bk BT"/>
              </a:rPr>
              <a:t>Mantenimiento de pers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78720" y="3645000"/>
            <a:ext cx="1219320" cy="5202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Benguiat Bk BT"/>
              </a:rPr>
              <a:t>Monitoreo de pers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3520" y="1131840"/>
            <a:ext cx="3657600" cy="3070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Benguiat Bk BT"/>
              </a:rPr>
              <a:t>Influencias ambientales ext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3520" y="1512720"/>
            <a:ext cx="3657600" cy="1159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Leyes y reglamentos</a:t>
            </a:r>
            <a:br>
              <a:rPr sz="1400"/>
            </a:b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Sindicatos</a:t>
            </a:r>
            <a:br>
              <a:rPr sz="1400"/>
            </a:b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Condiciones socioeconómicas</a:t>
            </a:r>
            <a:br>
              <a:rPr sz="1400"/>
            </a:b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Competitividad</a:t>
            </a:r>
            <a:br>
              <a:rPr sz="1400"/>
            </a:b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Condiciones sociales y cultu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00720" y="1125360"/>
            <a:ext cx="3657600" cy="3070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Benguiat Bk BT"/>
              </a:rPr>
              <a:t>Influencias ambientales inter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30600" y="1512720"/>
            <a:ext cx="3657600" cy="1159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Misión organizacional</a:t>
            </a:r>
            <a:br>
              <a:rPr sz="1400"/>
            </a:b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Visión, objetivos y estrategia</a:t>
            </a:r>
            <a:br>
              <a:rPr sz="1400"/>
            </a:b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Cultura organizacional</a:t>
            </a:r>
            <a:br>
              <a:rPr sz="1400"/>
            </a:b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Naturaleza de las tareas</a:t>
            </a:r>
            <a:br>
              <a:rPr sz="1400"/>
            </a:br>
            <a:r>
              <a:rPr b="1" lang="es-AR" sz="1400" spc="-1" strike="noStrike">
                <a:solidFill>
                  <a:srgbClr val="000000"/>
                </a:solidFill>
                <a:latin typeface="Benguiat Bk BT"/>
              </a:rPr>
              <a:t>Estilo de lideraz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5680" y="5067360"/>
            <a:ext cx="6212160" cy="3070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Benguiat Bk BT"/>
              </a:rPr>
              <a:t>Resultados finales dese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447880"/>
            <a:ext cx="1714680" cy="946440"/>
          </a:xfrm>
          <a:prstGeom prst="rect">
            <a:avLst/>
          </a:prstGeom>
          <a:solidFill>
            <a:srgbClr val="333399"/>
          </a:solidFill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Benguiat Bk BT"/>
              </a:rPr>
              <a:t>Prácticas éticas socialmente responsable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33800" y="5441760"/>
            <a:ext cx="1920960" cy="946440"/>
          </a:xfrm>
          <a:prstGeom prst="rect">
            <a:avLst/>
          </a:prstGeom>
          <a:solidFill>
            <a:srgbClr val="333399"/>
          </a:solidFill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Benguiat Bk BT"/>
              </a:rPr>
              <a:t>Productos y servicios competitivos y de alta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5447880"/>
            <a:ext cx="1714680" cy="946440"/>
          </a:xfrm>
          <a:prstGeom prst="rect">
            <a:avLst/>
          </a:prstGeom>
          <a:solidFill>
            <a:srgbClr val="333399"/>
          </a:solidFill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Benguiat Bk BT"/>
              </a:rPr>
              <a:t>Calidad de vida en el trabajo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44400" y="2731680"/>
            <a:ext cx="7543800" cy="914760"/>
            <a:chOff x="644400" y="2731680"/>
            <a:chExt cx="7543800" cy="914760"/>
          </a:xfrm>
        </p:grpSpPr>
        <p:sp>
          <p:nvSpPr>
            <p:cNvPr id="172" name=""/>
            <p:cNvSpPr/>
            <p:nvPr/>
          </p:nvSpPr>
          <p:spPr>
            <a:xfrm>
              <a:off x="1482480" y="3036960"/>
              <a:ext cx="5105520" cy="0"/>
            </a:xfrm>
            <a:prstGeom prst="line">
              <a:avLst/>
            </a:prstGeom>
            <a:ln w="9360">
              <a:solidFill>
                <a:srgbClr val="1a6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4400" y="3341520"/>
              <a:ext cx="7543800" cy="0"/>
            </a:xfrm>
            <a:prstGeom prst="line">
              <a:avLst/>
            </a:prstGeom>
            <a:ln w="9360">
              <a:solidFill>
                <a:srgbClr val="1a6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4400" y="3341520"/>
              <a:ext cx="0" cy="30492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16000" y="3341520"/>
              <a:ext cx="0" cy="30492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39880" y="3341520"/>
              <a:ext cx="0" cy="30492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87800" y="3341520"/>
              <a:ext cx="0" cy="30492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11680" y="3341520"/>
              <a:ext cx="0" cy="30492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88200" y="3341520"/>
              <a:ext cx="0" cy="30492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5680" y="3036960"/>
              <a:ext cx="0" cy="30456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482480" y="2731680"/>
              <a:ext cx="0" cy="304920"/>
            </a:xfrm>
            <a:prstGeom prst="line">
              <a:avLst/>
            </a:prstGeom>
            <a:ln w="9360">
              <a:solidFill>
                <a:srgbClr val="1a6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588000" y="2731680"/>
              <a:ext cx="0" cy="304920"/>
            </a:xfrm>
            <a:prstGeom prst="line">
              <a:avLst/>
            </a:prstGeom>
            <a:ln w="9360">
              <a:solidFill>
                <a:srgbClr val="1a6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20720" y="4435560"/>
            <a:ext cx="7543800" cy="609120"/>
            <a:chOff x="720720" y="4435560"/>
            <a:chExt cx="7543800" cy="609120"/>
          </a:xfrm>
        </p:grpSpPr>
        <p:sp>
          <p:nvSpPr>
            <p:cNvPr id="184" name=""/>
            <p:cNvSpPr/>
            <p:nvPr/>
          </p:nvSpPr>
          <p:spPr>
            <a:xfrm>
              <a:off x="720720" y="4740120"/>
              <a:ext cx="7543800" cy="0"/>
            </a:xfrm>
            <a:prstGeom prst="line">
              <a:avLst/>
            </a:prstGeom>
            <a:ln w="9360">
              <a:solidFill>
                <a:srgbClr val="1a6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720" y="4435560"/>
              <a:ext cx="0" cy="30456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92320" y="4435560"/>
              <a:ext cx="0" cy="30456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16560" y="4435560"/>
              <a:ext cx="0" cy="30456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64120" y="4435560"/>
              <a:ext cx="0" cy="30456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88360" y="4435560"/>
              <a:ext cx="0" cy="30456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64520" y="4435560"/>
              <a:ext cx="0" cy="30456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26040" y="4740120"/>
              <a:ext cx="0" cy="304560"/>
            </a:xfrm>
            <a:prstGeom prst="line">
              <a:avLst/>
            </a:prstGeom>
            <a:ln w="9360">
              <a:solidFill>
                <a:srgbClr val="1a6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Benguiat Bk BT"/>
              </a:rPr>
              <a:t>ESTRUCTURA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890720"/>
            <a:ext cx="7345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Benguiat Bk BT"/>
              </a:rPr>
              <a:t>PUNTO DE VISTA TRADICIONAL: </a:t>
            </a:r>
            <a:r>
              <a:rPr b="0" lang="es-MX" sz="2400" spc="-1" strike="noStrike">
                <a:solidFill>
                  <a:srgbClr val="000000"/>
                </a:solidFill>
                <a:latin typeface="Benguiat Bk BT"/>
              </a:rPr>
              <a:t>Departamentalización funcional. Privilegia la especialización de cada sector y la cooperación interdepartamental pero produce consecuencias indeseables como el predominio de objetivos parcial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Benguiat Bk BT"/>
              </a:rPr>
              <a:t>PUNTO DE VISTA ACTUAL: </a:t>
            </a:r>
            <a:r>
              <a:rPr b="0" lang="es-MX" sz="2400" spc="-1" strike="noStrike">
                <a:solidFill>
                  <a:srgbClr val="000000"/>
                </a:solidFill>
                <a:latin typeface="Benguiat Bk BT"/>
              </a:rPr>
              <a:t>Visión sistémica y enfatiza la unión con el foco, no en tareas, si no en fines y resultados, no encargos individuales si no en el trabajo conjunto realizado por equipos autónomos y multidisciplinario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800" y="0"/>
            <a:ext cx="1600200" cy="6858000"/>
            <a:chOff x="7543800" y="0"/>
            <a:chExt cx="1600200" cy="6858000"/>
          </a:xfrm>
        </p:grpSpPr>
        <p:graphicFrame>
          <p:nvGraphicFramePr>
            <p:cNvPr id="195" name=""/>
            <p:cNvGraphicFramePr/>
            <p:nvPr/>
          </p:nvGraphicFramePr>
          <p:xfrm>
            <a:off x="7543800" y="0"/>
            <a:ext cx="160020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7543800" y="1143000"/>
            <a:ext cx="1600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43800" y="1143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"/>
            <p:cNvGraphicFramePr/>
            <p:nvPr/>
          </p:nvGraphicFramePr>
          <p:xfrm>
            <a:off x="7543800" y="2286000"/>
            <a:ext cx="1600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2286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"/>
            <p:cNvGraphicFramePr/>
            <p:nvPr/>
          </p:nvGraphicFramePr>
          <p:xfrm>
            <a:off x="7543800" y="3429000"/>
            <a:ext cx="16002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3429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7543800" y="4572000"/>
            <a:ext cx="160020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43800" y="4572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7543800" y="5715000"/>
            <a:ext cx="160020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43800" y="5715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208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4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0" name=""/>
          <p:cNvSpPr/>
          <p:nvPr/>
        </p:nvSpPr>
        <p:spPr>
          <a:xfrm>
            <a:off x="395280" y="476280"/>
            <a:ext cx="3268800" cy="368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nguiat Bk BT"/>
              </a:rPr>
              <a:t>Modelo Centr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476280"/>
            <a:ext cx="3335400" cy="368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nguiat Bk BT"/>
              </a:rPr>
              <a:t>Modelo Descentrali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125360"/>
            <a:ext cx="3673440" cy="173988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nguiat Bk BT"/>
              </a:rPr>
              <a:t>El órgano de RH monopoliza todas las funciones de RH: recluta, selecciona, entrena, remunera, evalúa, promueve, desvincula o jubila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1125360"/>
            <a:ext cx="3635280" cy="201420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nguiat Bk BT"/>
              </a:rPr>
              <a:t>Los gerentes asumen las responsabilidades sobre sus subordinados: reclutan, seleccionan, entrenan, remuneran, evalúan, promueven, desvinculan o jubil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3429000"/>
            <a:ext cx="3600360" cy="228852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Benguiat Bk BT"/>
              </a:rPr>
              <a:t>Tratamiento genérico igual para todos los empleados: horarios, salarios, tareas, reglas iguales para todos. Reglas establecidas por la media o la mediana para tod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95640" y="3573360"/>
            <a:ext cx="3668760" cy="201420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Benguiat Bk BT"/>
              </a:rPr>
              <a:t>Tratamiento específico e individual para cada empleado: horarios, salarios, tareas y metas específicas e individuales. Soluciones a la medida de cada persona de acuerdo con sus diferencias individ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836640"/>
            <a:ext cx="0" cy="288720"/>
          </a:xfrm>
          <a:prstGeom prst="line">
            <a:avLst/>
          </a:prstGeom>
          <a:ln w="28440">
            <a:solidFill>
              <a:srgbClr val="1a6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836640"/>
            <a:ext cx="0" cy="288720"/>
          </a:xfrm>
          <a:prstGeom prst="line">
            <a:avLst/>
          </a:prstGeom>
          <a:ln w="28440">
            <a:solidFill>
              <a:srgbClr val="1a6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924280"/>
            <a:ext cx="1800" cy="479160"/>
          </a:xfrm>
          <a:prstGeom prst="line">
            <a:avLst/>
          </a:prstGeom>
          <a:ln w="28440">
            <a:solidFill>
              <a:srgbClr val="1a6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2000" y="3141720"/>
            <a:ext cx="1440" cy="398520"/>
          </a:xfrm>
          <a:prstGeom prst="line">
            <a:avLst/>
          </a:prstGeom>
          <a:ln w="28440">
            <a:solidFill>
              <a:srgbClr val="1a6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6237360"/>
            <a:ext cx="3402000" cy="368280"/>
          </a:xfrm>
          <a:prstGeom prst="rect">
            <a:avLst/>
          </a:prstGeom>
          <a:solidFill>
            <a:srgbClr val="1a61b0"/>
          </a:solidFill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nguiat Bk BT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6165720"/>
            <a:ext cx="3402000" cy="368280"/>
          </a:xfrm>
          <a:prstGeom prst="rect">
            <a:avLst/>
          </a:prstGeom>
          <a:solidFill>
            <a:srgbClr val="1a61b0"/>
          </a:solidFill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nguiat Bk BT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35280" y="6021360"/>
            <a:ext cx="1440" cy="192240"/>
          </a:xfrm>
          <a:prstGeom prst="line">
            <a:avLst/>
          </a:prstGeom>
          <a:ln w="28440">
            <a:solidFill>
              <a:srgbClr val="1a6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5877000"/>
            <a:ext cx="1800" cy="303120"/>
          </a:xfrm>
          <a:prstGeom prst="line">
            <a:avLst/>
          </a:prstGeom>
          <a:ln w="28440">
            <a:solidFill>
              <a:srgbClr val="1a61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235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7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9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47" name=""/>
          <p:cNvGraphicFramePr/>
          <p:nvPr/>
        </p:nvGraphicFramePr>
        <p:xfrm>
          <a:off x="0" y="781200"/>
          <a:ext cx="3581280" cy="415440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</a:tr>
              <a:tr h="37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Reúne los especialistas de RH en un solo órg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Incentiva la especial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Proporciona elevada integración intradeparta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l área de ARH esta perfectamente delimi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Focalizar la función y , en consecuencia, las tareas y actividades de 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Ideal para pequeñas organ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581280" y="781200"/>
          <a:ext cx="4159080" cy="4160160"/>
        </p:xfrm>
        <a:graphic>
          <a:graphicData uri="http://schemas.openxmlformats.org/drawingml/2006/table">
            <a:tbl>
              <a:tblPr/>
              <a:tblGrid>
                <a:gridCol w="4159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ont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</a:tr>
              <a:tr h="376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oncentración excesiva de las decisiones y acciones en el staff de R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Monopolio y exclusividad de las decisiones y acciones de RH en el sta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Mantenimiento y conservación de las condiciones actua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Distanciamiento del foco de ac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l órgano de ARH se torna operacional y burocrá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Benguiat Bk B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La administración se torna autoritaria y autocrá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0" y="260280"/>
            <a:ext cx="658800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enguiat Bk BT"/>
              </a:rPr>
              <a:t>Centralización de la A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013360"/>
            <a:ext cx="6264360" cy="3988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enguiat Bk BT"/>
              </a:rPr>
              <a:t>Descentralización de la AR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5516640"/>
            <a:ext cx="7740720" cy="824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El área de RH ofrece productos y servicios a los gere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Es una unidad de negocios que debe generar ganancias y atender a los clientes 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enguiat Bk BT"/>
              </a:rPr>
              <a:t>EL PROFESIONAL DE RECURSOS HUMANOS</a:t>
            </a: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254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784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Benguiat Bk BT"/>
              </a:rPr>
              <a:t>Debe saber de recursos humanos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Benguiat Bk BT"/>
              </a:rPr>
              <a:t>Debe tener sentido del negocio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Benguiat Bk BT"/>
              </a:rPr>
              <a:t>Debe estar compenetrado con la estrategia organizacional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Benguiat Bk BT"/>
              </a:rPr>
              <a:t>Debe tener habilidades de gestión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Benguiat Bk BT"/>
              </a:rPr>
              <a:t>Debe tener credibilidad personal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Benguiat Bk BT"/>
              </a:rPr>
              <a:t>Debe tener capacidad de asesoramiento.</a:t>
            </a:r>
            <a:endParaRPr b="1" lang="en-US" sz="2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268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0" name=""/>
          <p:cNvSpPr/>
          <p:nvPr/>
        </p:nvSpPr>
        <p:spPr>
          <a:xfrm>
            <a:off x="2527200" y="620640"/>
            <a:ext cx="243864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nguiat Bk BT"/>
              </a:rPr>
              <a:t>Enfoque en el futur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27200" y="5192640"/>
            <a:ext cx="274320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nguiat Bk BT"/>
              </a:rPr>
              <a:t>Enfoque en lo cotidiano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2708280"/>
            <a:ext cx="243828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nguiat Bk BT"/>
              </a:rPr>
              <a:t>Enfoque en las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637000"/>
            <a:ext cx="243828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enguiat Bk BT"/>
              </a:rPr>
              <a:t>Enfoque en l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61160" y="1674720"/>
            <a:ext cx="19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Administr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estrategias de 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73920" y="189072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Administración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transformación y el camb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03560" y="3691080"/>
            <a:ext cx="217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Administr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la infraestructur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82200" y="3691080"/>
            <a:ext cx="227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Administr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la contribución de 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Benguiat Bk BT"/>
              </a:rPr>
              <a:t>emple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8360" y="1413000"/>
            <a:ext cx="0" cy="3600360"/>
          </a:xfrm>
          <a:prstGeom prst="line">
            <a:avLst/>
          </a:prstGeom>
          <a:ln w="28440">
            <a:solidFill>
              <a:srgbClr val="1a61b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11280" y="2997360"/>
            <a:ext cx="2881440" cy="0"/>
          </a:xfrm>
          <a:prstGeom prst="line">
            <a:avLst/>
          </a:prstGeom>
          <a:ln w="38160">
            <a:solidFill>
              <a:srgbClr val="1a61b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-27000"/>
          <a:ext cx="9144000" cy="6516720"/>
        </p:xfrm>
        <a:graphic>
          <a:graphicData uri="http://schemas.openxmlformats.org/drawingml/2006/table">
            <a:tbl>
              <a:tblPr/>
              <a:tblGrid>
                <a:gridCol w="2400480"/>
                <a:gridCol w="2247840"/>
                <a:gridCol w="2247840"/>
                <a:gridCol w="2247840"/>
              </a:tblGrid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Papel de 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aracterística Princip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dministración de estrategias de recursos hum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jecución de la estrate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Socio estratégico para ayudar a conseguir objetivos organiz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Ajuste de las estrategias de RH a la empresarial: diagnóstico organizacional para detectar fortalezas y debil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dministración de la infraestructura de la emp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onstrucción de una infraestructura efic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specialista administrativo para reducir costos y aumentar el 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Reingeniería de procesos de la organización: servicios en común para el mejoramiento contin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dministración de la contribución de los emple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Aumento del involucramiento y la capacidad de los emple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Defensor de los empleados para capacitar e incentivar a las perso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scuchar y responder a los empleados: proporcionarles recursos para incentivar sus contribu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dministración de la transformación y el camb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reación de una organización renov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Agente de cambio e innovación para mejorar la capacidad de adap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Gestionara la transformación: asegurar capacidad para el cambio y la identificación y solución de problem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>
            <a:hlinkClick r:id="rId1"/>
          </p:cNvPr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106640" y="2637000"/>
            <a:ext cx="738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enguiat Bk BT"/>
              </a:rPr>
              <a:t>Planeamiento Estratégico</a:t>
            </a:r>
            <a:br>
              <a:rPr sz="4400"/>
            </a:br>
            <a:r>
              <a:rPr b="1" lang="es-ES_tradnl" sz="4400" spc="-1" strike="noStrike">
                <a:solidFill>
                  <a:srgbClr val="ffffff"/>
                </a:solidFill>
                <a:latin typeface="Benguiat Bk BT"/>
              </a:rPr>
              <a:t>de Recursos Hum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14520" y="1484280"/>
            <a:ext cx="6981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nguiat Bk BT"/>
                <a:ea typeface="Arial"/>
              </a:rPr>
              <a:t>  “</a:t>
            </a:r>
            <a:r>
              <a:rPr b="0" lang="es-MX" sz="3200" spc="-1" strike="noStrike">
                <a:solidFill>
                  <a:srgbClr val="000000"/>
                </a:solidFill>
                <a:latin typeface="Benguiat Bk BT"/>
                <a:ea typeface="Arial"/>
              </a:rPr>
              <a:t>Adaptación de los recursos y habilidades de la organización al entorno cambiante, aprovechando sus oportunidades y evaluando los riesgos en función de objetivos y metas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Benguiat Bk BT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295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1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308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0" name=""/>
          <p:cNvSpPr/>
          <p:nvPr/>
        </p:nvSpPr>
        <p:spPr>
          <a:xfrm>
            <a:off x="0" y="457200"/>
            <a:ext cx="774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Benguiat Bk BT"/>
              </a:rPr>
              <a:t>El Plan Estratégico  da  respuestas a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s-VE" sz="3200" spc="-1" strike="noStrike">
                <a:solidFill>
                  <a:srgbClr val="000000"/>
                </a:solidFill>
                <a:latin typeface="Benguiat Bk BT"/>
              </a:rPr>
              <a:t> estas tres pregun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149720"/>
            <a:ext cx="2138400" cy="126036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Benguiat Bk BT"/>
              </a:rPr>
              <a:t>H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80000" y="1773360"/>
            <a:ext cx="2160720" cy="1303200"/>
          </a:xfrm>
          <a:prstGeom prst="ellipse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Benguiat Bk BT"/>
              </a:rPr>
              <a:t>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9999800">
            <a:off x="1979280" y="2133360"/>
            <a:ext cx="3838680" cy="3085920"/>
          </a:xfrm>
          <a:custGeom>
            <a:avLst/>
            <a:gdLst>
              <a:gd name="textAreaLeft" fmla="*/ 599760 w 3838680"/>
              <a:gd name="textAreaRight" fmla="*/ 3359160 w 3838680"/>
              <a:gd name="textAreaTop" fmla="*/ 771480 h 3085920"/>
              <a:gd name="textAreaBottom" fmla="*/ 2314440 h 3085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9997400">
            <a:off x="2381760" y="3159000"/>
            <a:ext cx="30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cc"/>
                </a:solidFill>
                <a:latin typeface="Benguiat Bk BT"/>
              </a:rPr>
              <a:t>PLAN ESTRATE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58792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cc0000"/>
                </a:solidFill>
                <a:latin typeface="Benguiat Bk BT"/>
              </a:rPr>
              <a:t>1.</a:t>
            </a:r>
            <a:r>
              <a:rPr b="0" lang="es-VE" sz="20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nguiat Bk BT"/>
              </a:rPr>
              <a:t>¿</a:t>
            </a:r>
            <a:r>
              <a:rPr b="0" lang="es-VE" sz="2000" spc="-1" strike="noStrike">
                <a:solidFill>
                  <a:srgbClr val="000000"/>
                </a:solidFill>
                <a:latin typeface="Benguiat Bk BT"/>
              </a:rPr>
              <a:t>Dónde estam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51640" y="2997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cc"/>
                </a:solidFill>
                <a:latin typeface="Benguiat Bk BT"/>
              </a:rPr>
              <a:t>2.</a:t>
            </a:r>
            <a:r>
              <a:rPr b="0" lang="es-VE" sz="20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nguiat Bk BT"/>
              </a:rPr>
              <a:t>¿</a:t>
            </a:r>
            <a:r>
              <a:rPr b="0" lang="es-VE" sz="2000" spc="-1" strike="noStrike">
                <a:solidFill>
                  <a:srgbClr val="000000"/>
                </a:solidFill>
                <a:latin typeface="Benguiat Bk BT"/>
              </a:rPr>
              <a:t>Hacia dónde vam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050800">
            <a:off x="3188160" y="4790880"/>
            <a:ext cx="276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6600"/>
                </a:solidFill>
                <a:latin typeface="Benguiat Bk BT"/>
              </a:rPr>
              <a:t>3.</a:t>
            </a:r>
            <a:r>
              <a:rPr b="0" lang="es-VE" sz="20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nguiat Bk BT"/>
              </a:rPr>
              <a:t>¿</a:t>
            </a:r>
            <a:r>
              <a:rPr b="0" lang="es-VE" sz="2000" spc="-1" strike="noStrike">
                <a:solidFill>
                  <a:srgbClr val="000000"/>
                </a:solidFill>
                <a:latin typeface="Benguiat Bk BT"/>
              </a:rPr>
              <a:t>Cómo vamos hacia all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543800" y="0"/>
            <a:ext cx="1600200" cy="6858000"/>
            <a:chOff x="7543800" y="0"/>
            <a:chExt cx="1600200" cy="6858000"/>
          </a:xfrm>
        </p:grpSpPr>
        <p:graphicFrame>
          <p:nvGraphicFramePr>
            <p:cNvPr id="56" name=""/>
            <p:cNvGraphicFramePr/>
            <p:nvPr/>
          </p:nvGraphicFramePr>
          <p:xfrm>
            <a:off x="7543800" y="0"/>
            <a:ext cx="160020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7543800" y="1143000"/>
            <a:ext cx="1600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43800" y="1143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7543800" y="2286000"/>
            <a:ext cx="1600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2286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7543800" y="3429000"/>
            <a:ext cx="16002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3429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7543800" y="4572000"/>
            <a:ext cx="160020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43800" y="4572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7543800" y="5715000"/>
            <a:ext cx="160020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43800" y="5715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" name=""/>
          <p:cNvSpPr/>
          <p:nvPr/>
        </p:nvSpPr>
        <p:spPr>
          <a:xfrm>
            <a:off x="0" y="476280"/>
            <a:ext cx="7677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CONDICIONES EXTER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060640"/>
            <a:ext cx="7129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ambios sociales y demográ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ndiciones económ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Glob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Roles de los sindic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mpet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Otras.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981000"/>
            <a:ext cx="7667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nguiat Bk BT"/>
                <a:ea typeface="Arial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Benguiat Bk BT"/>
                <a:ea typeface="Arial"/>
              </a:rPr>
              <a:t>La implementación es la parte realmente crítica de una estrategia exitosa. Lo más importante no es la idea sino la manera en que se lleva a cab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nguiat Bk BT"/>
                <a:ea typeface="Arial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Benguiat Bk BT"/>
                <a:ea typeface="Arial"/>
              </a:rPr>
              <a:t>La implementación es más importante que la estrategia en sí mis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enguiat Bk BT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330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4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0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2" name=""/>
          <p:cNvSpPr/>
          <p:nvPr/>
        </p:nvSpPr>
        <p:spPr>
          <a:xfrm>
            <a:off x="0" y="4005360"/>
            <a:ext cx="55800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  </a:t>
            </a:r>
            <a:r>
              <a:rPr b="1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“</a:t>
            </a:r>
            <a:r>
              <a:rPr b="1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Por una buena idea 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   </a:t>
            </a:r>
            <a:r>
              <a:rPr b="1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pagaría 5 centavos,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   </a:t>
            </a:r>
            <a:r>
              <a:rPr b="1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una buena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   </a:t>
            </a:r>
            <a:r>
              <a:rPr b="1" i="1" lang="es-MX" sz="2400" spc="-1" strike="noStrike">
                <a:solidFill>
                  <a:srgbClr val="cc0000"/>
                </a:solidFill>
                <a:latin typeface="Benguiat Bk BT"/>
                <a:ea typeface="Arial"/>
              </a:rPr>
              <a:t>te pagaría una fortun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ccff"/>
                </a:solidFill>
                <a:uFillTx/>
                <a:latin typeface="Benguiat Bk BT"/>
                <a:ea typeface="Arial"/>
                <a:hlinkClick r:id="rId1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88880" y="5907240"/>
            <a:ext cx="117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6600"/>
                </a:solidFill>
                <a:latin typeface="Benguiat Bk BT"/>
                <a:ea typeface="Arial"/>
              </a:rPr>
              <a:t>Peter Dru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4"/>
          <a:stretch/>
        </p:blipFill>
        <p:spPr>
          <a:xfrm>
            <a:off x="5796000" y="3789360"/>
            <a:ext cx="1512720" cy="20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280" y="61704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enguiat Bk BT"/>
              </a:rPr>
              <a:t>ENFOQUES EN LA GESTION ESTRATEGICA DE RECURSOS HUMANOS</a:t>
            </a: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756144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Cómo puede contribuir el sector en el proceso de elaboración e implantación de estrategias?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Qué prácticas concretas de recursos humanos ayudan a mejorar los resultados de la empresa?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348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8920" y="6170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enguiat Bk BT"/>
              </a:rPr>
              <a:t>REQUERIMIENTOS PARA UNA GESTION ESTRATEGICA DE RECURSOS HUMANOS</a:t>
            </a: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774072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La empresa debe tener un estrategia clara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Contar con apoyo de la dirección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Visón estratégica compartida de la gestión de recursos humano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Participación de los responsables de recursos humanos en el proceso estratégico desde el principio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Contar con SIRH fiabl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Foco del sector en la satisfacción de las necesidades organizativ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363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7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9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8920" y="6170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Benguiat Bk BT"/>
              </a:rPr>
              <a:t>DOS OPCIONES</a:t>
            </a:r>
            <a:endParaRPr b="1" lang="en-US" sz="36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774072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Política de desarrollar internamente al personal dueño de competencias esenciale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Política de cubrir posiciones de cualquier nivel con personas provenientes del mercado laboral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378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0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2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4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6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8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8920" y="6170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Benguiat Bk BT"/>
              </a:rPr>
              <a:t>AMBITOS DONDE SE TIENEN EN CUENTA LAS DOS OPCIONES</a:t>
            </a:r>
            <a:endParaRPr b="1" lang="en-US" sz="32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774072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Gestión del flujo interno de la gente en la empresa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Gestión del desempeño del personal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Gestión de los sistemas de recompens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Gestión de cobertura de funciones directivas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enguiat Bk BT"/>
              </a:rPr>
              <a:t>Gestión de canales de comunicación entre la empresa y su gente.</a:t>
            </a:r>
            <a:endParaRPr b="1" lang="en-US" sz="2400" spc="-1" strike="noStrike">
              <a:solidFill>
                <a:srgbClr val="000000"/>
              </a:solidFill>
              <a:latin typeface="Benguiat Bk BT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393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5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692280"/>
            <a:ext cx="228600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nguiat Bk BT"/>
              </a:rPr>
              <a:t>Planeación adapt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56000" y="663480"/>
            <a:ext cx="236196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nguiat Bk BT"/>
              </a:rPr>
              <a:t>Planeación integ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19640" y="692280"/>
            <a:ext cx="251460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Benguiat Bk BT"/>
              </a:rPr>
              <a:t>Planeación autónoma y ais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1484280"/>
          <a:ext cx="2438280" cy="475272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l foco se concentra en la planeación empresarial, y las practicas de RH, se consideran una reflexión pos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Los análisis corresponden a los gerentes de línea, los profesionales de RH se involucran tangencial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l resultado es una síntesis de las prácticas de RH necesarias para la realización de los planes empresa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2411280" y="1484280"/>
          <a:ext cx="2808360" cy="475272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l foco se concentra en una síntesis entre planeación empresarial y planeación de 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Los gerentes de línea y los profesionales de RH trabajan como socios para garantizar un proceso integrado de planeación de 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l resultado es un plan que destaca las prácticas de RH prioritarias para la obtención de resultados empresa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5219640" y="1484280"/>
          <a:ext cx="2511360" cy="4776840"/>
        </p:xfrm>
        <a:graphic>
          <a:graphicData uri="http://schemas.openxmlformats.org/drawingml/2006/table">
            <a:tbl>
              <a:tblPr/>
              <a:tblGrid>
                <a:gridCol w="251136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l foco se concentra en las prácticas de RH y en la forma como la función de RH puede agregar valor a la emp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Los profesionales de RH trabajan en el plan y lo presentan a los gerentes de lí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l resultado es un plan para la función de RH que incluye prácticas priorita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1" name=""/>
          <p:cNvGrpSpPr/>
          <p:nvPr/>
        </p:nvGrpSpPr>
        <p:grpSpPr>
          <a:xfrm>
            <a:off x="7743960" y="0"/>
            <a:ext cx="1400040" cy="6858000"/>
            <a:chOff x="7743960" y="0"/>
            <a:chExt cx="1400040" cy="6858000"/>
          </a:xfrm>
        </p:grpSpPr>
        <p:graphicFrame>
          <p:nvGraphicFramePr>
            <p:cNvPr id="412" name=""/>
            <p:cNvGraphicFramePr/>
            <p:nvPr/>
          </p:nvGraphicFramePr>
          <p:xfrm>
            <a:off x="7743960" y="0"/>
            <a:ext cx="140004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3960" y="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4" name=""/>
            <p:cNvGraphicFramePr/>
            <p:nvPr/>
          </p:nvGraphicFramePr>
          <p:xfrm>
            <a:off x="7743960" y="1143000"/>
            <a:ext cx="140004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743960" y="1143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6" name=""/>
            <p:cNvGraphicFramePr/>
            <p:nvPr/>
          </p:nvGraphicFramePr>
          <p:xfrm>
            <a:off x="7743960" y="2286000"/>
            <a:ext cx="140004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43960" y="2286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8" name=""/>
            <p:cNvGraphicFramePr/>
            <p:nvPr/>
          </p:nvGraphicFramePr>
          <p:xfrm>
            <a:off x="7743960" y="3429000"/>
            <a:ext cx="140004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429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0" name=""/>
            <p:cNvGraphicFramePr/>
            <p:nvPr/>
          </p:nvGraphicFramePr>
          <p:xfrm>
            <a:off x="7743960" y="4572000"/>
            <a:ext cx="140004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43960" y="4572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"/>
            <p:cNvGraphicFramePr/>
            <p:nvPr/>
          </p:nvGraphicFramePr>
          <p:xfrm>
            <a:off x="7743960" y="5715000"/>
            <a:ext cx="140004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743960" y="5715000"/>
                      <a:ext cx="140004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0" y="609480"/>
          <a:ext cx="9144000" cy="5983560"/>
        </p:xfrm>
        <a:graphic>
          <a:graphicData uri="http://schemas.openxmlformats.org/drawingml/2006/table">
            <a:tbl>
              <a:tblPr/>
              <a:tblGrid>
                <a:gridCol w="1722600"/>
                <a:gridCol w="3660480"/>
                <a:gridCol w="376092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Flujos de trabaj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Énfasis en el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Descripción explícita de car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Planeación detallada del car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Inno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Flex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Planeación  poco detallada del car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Admis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Reclutamiento in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DRH decide sobre sele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Énfasis en las calif. técn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Reclutamiento exter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Gerente decide la selec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Adecuación de la persona a la 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»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Desvinculación de emple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ongelación de las admi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Apoyo continuo a los desvincul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Política de preferencia a la read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Reclutamiento cuando es neces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Desvinculaciones sin apo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Ningún trato prefer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Evaluación del desempeñ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standarización de la 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valuación como medio de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Dependencia exclusiva del sup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valuación person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Evaluación como desarro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Múltiples entradas para 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apacit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apacitación indiv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apacitación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omparación de habil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apacitación en equ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apacitación genérica relacionada con la flex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Construcción de habil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Compens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Salario fi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Salario basado en el car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Salario basado en la antigü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Decisiones centralizadas sobre sal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Salario 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Salario basado en el individu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Salario basado en el desempe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Benguiat Bk B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Benguiat Bk BT"/>
                        </a:rPr>
                        <a:t>Decisiones descentraliz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-28440" y="77760"/>
          <a:ext cx="9200880" cy="515880"/>
        </p:xfrm>
        <a:graphic>
          <a:graphicData uri="http://schemas.openxmlformats.org/drawingml/2006/table">
            <a:tbl>
              <a:tblPr/>
              <a:tblGrid>
                <a:gridCol w="1760400"/>
                <a:gridCol w="3679920"/>
                <a:gridCol w="3760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Área estratégica de RRH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Estrategia conservadora y defen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Benguiat Bk BT"/>
                        </a:rPr>
                        <a:t>Estrategia prospectiva y ofen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543800" y="0"/>
            <a:ext cx="1600200" cy="6858000"/>
            <a:chOff x="7543800" y="0"/>
            <a:chExt cx="1600200" cy="6858000"/>
          </a:xfrm>
        </p:grpSpPr>
        <p:graphicFrame>
          <p:nvGraphicFramePr>
            <p:cNvPr id="71" name=""/>
            <p:cNvGraphicFramePr/>
            <p:nvPr/>
          </p:nvGraphicFramePr>
          <p:xfrm>
            <a:off x="7543800" y="0"/>
            <a:ext cx="160020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7543800" y="1143000"/>
            <a:ext cx="1600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43800" y="1143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7543800" y="2286000"/>
            <a:ext cx="1600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2286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7543800" y="3429000"/>
            <a:ext cx="16002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3429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"/>
            <p:cNvGraphicFramePr/>
            <p:nvPr/>
          </p:nvGraphicFramePr>
          <p:xfrm>
            <a:off x="7543800" y="4572000"/>
            <a:ext cx="160020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43800" y="4572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" name=""/>
            <p:cNvGraphicFramePr/>
            <p:nvPr/>
          </p:nvGraphicFramePr>
          <p:xfrm>
            <a:off x="7543800" y="5715000"/>
            <a:ext cx="160020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43800" y="5715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"/>
          <p:cNvSpPr/>
          <p:nvPr/>
        </p:nvSpPr>
        <p:spPr>
          <a:xfrm>
            <a:off x="0" y="260280"/>
            <a:ext cx="7677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CONDICIONES INTER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484280"/>
            <a:ext cx="7129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enguiat Bk BT"/>
              </a:rPr>
              <a:t>A NIVEL ORGANIZAC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am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ndiciones financi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Estrate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ul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Estilo de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Benguiat Bk BT"/>
              </a:rPr>
              <a:t>SEGÚN LA NATURALEZA DEL TRABA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onte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Requisitos para desempeñ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Retribu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523880"/>
            <a:ext cx="658800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enguiat Bk BT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Benguiat Bk BT"/>
              </a:rPr>
              <a:t>...si nosotros no l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Benguiat Bk BT"/>
              </a:rPr>
              <a:t> decimo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Benguiat Bk BT"/>
              </a:rPr>
              <a:t>a la organización lo qu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Benguiat Bk BT"/>
              </a:rPr>
              <a:t> está pasando, alguno lo hará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Benguiat Bk BT"/>
              </a:rPr>
              <a:t>en nuestro lugar, y no nos v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Benguiat Bk BT"/>
              </a:rPr>
              <a:t> a gustar lo que diga”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Benguiat Bk BT"/>
              </a:rPr>
              <a:t>                               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Benguiat Bk BT"/>
              </a:rPr>
              <a:t>Peter Dru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82880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543800" y="0"/>
            <a:ext cx="1600200" cy="6858000"/>
            <a:chOff x="7543800" y="0"/>
            <a:chExt cx="1600200" cy="6858000"/>
          </a:xfrm>
        </p:grpSpPr>
        <p:graphicFrame>
          <p:nvGraphicFramePr>
            <p:cNvPr id="88" name=""/>
            <p:cNvGraphicFramePr/>
            <p:nvPr/>
          </p:nvGraphicFramePr>
          <p:xfrm>
            <a:off x="7543800" y="0"/>
            <a:ext cx="160020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7543800" y="1143000"/>
            <a:ext cx="1600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43800" y="1143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"/>
            <p:cNvGraphicFramePr/>
            <p:nvPr/>
          </p:nvGraphicFramePr>
          <p:xfrm>
            <a:off x="7543800" y="2286000"/>
            <a:ext cx="1600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2286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7543800" y="3429000"/>
            <a:ext cx="16002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3429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7543800" y="4572000"/>
            <a:ext cx="160020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43800" y="4572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7543800" y="5715000"/>
            <a:ext cx="160020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43800" y="5715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"/>
          <p:cNvSpPr/>
          <p:nvPr/>
        </p:nvSpPr>
        <p:spPr>
          <a:xfrm>
            <a:off x="0" y="1341360"/>
            <a:ext cx="7451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enguiat Bk BT"/>
              </a:rPr>
              <a:t>"una empresa que no sepa imaginar el futuro, no estará allí para disfrutarlo... el mejor método de predecir el futuro es crearlo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enguiat Bk BT"/>
              </a:rPr>
              <a:t>Hamel y Prahalat , "Compitiendo por el Futur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543800" y="0"/>
            <a:ext cx="1600200" cy="6858000"/>
            <a:chOff x="7543800" y="0"/>
            <a:chExt cx="1600200" cy="6858000"/>
          </a:xfrm>
        </p:grpSpPr>
        <p:graphicFrame>
          <p:nvGraphicFramePr>
            <p:cNvPr id="103" name=""/>
            <p:cNvGraphicFramePr/>
            <p:nvPr/>
          </p:nvGraphicFramePr>
          <p:xfrm>
            <a:off x="7543800" y="0"/>
            <a:ext cx="160020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7543800" y="1143000"/>
            <a:ext cx="1600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43800" y="1143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7543800" y="2286000"/>
            <a:ext cx="1600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2286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7543800" y="3429000"/>
            <a:ext cx="16002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3429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7543800" y="4572000"/>
            <a:ext cx="160020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43800" y="4572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7543800" y="5715000"/>
            <a:ext cx="160020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43800" y="5715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>
            <a:off x="0" y="260280"/>
            <a:ext cx="7677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Benguiat Bk BT"/>
              </a:rPr>
              <a:t>REDEFINICION DEL TRAB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628640"/>
            <a:ext cx="71294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Fin de la est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Emple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Capac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Remuneración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rabajo tempor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Jóvenes profes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rabajo por proy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Mujeres ejecu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Horario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Vacaciones bre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enguiat Bk BT"/>
              </a:rPr>
              <a:t>Trabajo en cél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981000"/>
          <a:ext cx="9178560" cy="360360"/>
        </p:xfrm>
        <a:graphic>
          <a:graphicData uri="http://schemas.openxmlformats.org/drawingml/2006/table">
            <a:tbl>
              <a:tblPr/>
              <a:tblGrid>
                <a:gridCol w="2331000"/>
                <a:gridCol w="2294640"/>
                <a:gridCol w="2368080"/>
                <a:gridCol w="218484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ío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0-1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0 - 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pués de 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1a61b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1341360"/>
          <a:ext cx="9144000" cy="547920"/>
        </p:xfrm>
        <a:graphic>
          <a:graphicData uri="http://schemas.openxmlformats.org/drawingml/2006/table">
            <a:tbl>
              <a:tblPr/>
              <a:tblGrid>
                <a:gridCol w="2340000"/>
                <a:gridCol w="2303280"/>
                <a:gridCol w="2376720"/>
                <a:gridCol w="21240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ción de person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1a61b0"/>
                          </a:solidFill>
                          <a:latin typeface="Arial"/>
                        </a:rPr>
                        <a:t>Relaciones industri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1a61b0"/>
                          </a:solidFill>
                          <a:latin typeface="Arial"/>
                        </a:rPr>
                        <a:t>Administración de recursos human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500" spc="-1" strike="noStrike">
                          <a:solidFill>
                            <a:srgbClr val="1a61b0"/>
                          </a:solidFill>
                          <a:latin typeface="Arial"/>
                        </a:rPr>
                        <a:t>Gestión del talento huma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340000" y="447840"/>
          <a:ext cx="6804000" cy="533160"/>
        </p:xfrm>
        <a:graphic>
          <a:graphicData uri="http://schemas.openxmlformats.org/drawingml/2006/table">
            <a:tbl>
              <a:tblPr/>
              <a:tblGrid>
                <a:gridCol w="2289240"/>
                <a:gridCol w="2390760"/>
                <a:gridCol w="2124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a de la industrialización clá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a de la industrialización neoclá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a de la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0" y="1916280"/>
          <a:ext cx="9144000" cy="4705200"/>
        </p:xfrm>
        <a:graphic>
          <a:graphicData uri="http://schemas.openxmlformats.org/drawingml/2006/table">
            <a:tbl>
              <a:tblPr/>
              <a:tblGrid>
                <a:gridCol w="2340000"/>
                <a:gridCol w="2303280"/>
                <a:gridCol w="2376720"/>
                <a:gridCol w="2124000"/>
              </a:tblGrid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o de trabaj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ción total de las operaciones en R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 de línea y función de staf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ción hacia los ge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vel de actu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ocratizada y operaciona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c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alización global y estratég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ridad que ordena a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es originadas en la cúpula de la organiz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es originadas en la cúpula del áre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es y acciones originadas en el ger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 de activ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servicios especializado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oría interna y servicios especializ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oría interna. Descentralizar y compartir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es activida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sión, desvinculación, control de asistencia y puntualidad, legislación laboral, disciplina, relaciones sindic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lutamiento, selección, capacitación, administración de salarios, beneficios, higiene y seguridad, relaciones sindical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o pueden los gerentes y sus equipos elegir, entrenar, liderar, motivar, evaluar y compensar a sus participante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ión del áre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gilancia, coerción, coacción, castigos. Aislamiento social de las person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er y mantener los mejores emple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r la mejor empresa y la mejor calidad en el trabaj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7543800" y="0"/>
            <a:ext cx="1600200" cy="6858000"/>
            <a:chOff x="7543800" y="0"/>
            <a:chExt cx="1600200" cy="6858000"/>
          </a:xfrm>
        </p:grpSpPr>
        <p:graphicFrame>
          <p:nvGraphicFramePr>
            <p:cNvPr id="122" name=""/>
            <p:cNvGraphicFramePr/>
            <p:nvPr/>
          </p:nvGraphicFramePr>
          <p:xfrm>
            <a:off x="7543800" y="0"/>
            <a:ext cx="160020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>
            <a:off x="7543800" y="1143000"/>
            <a:ext cx="160020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43800" y="1143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>
            <a:off x="7543800" y="2286000"/>
            <a:ext cx="1600200" cy="1143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2286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"/>
            <p:cNvGraphicFramePr/>
            <p:nvPr/>
          </p:nvGraphicFramePr>
          <p:xfrm>
            <a:off x="7543800" y="3429000"/>
            <a:ext cx="1600200" cy="1143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43800" y="3429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7543800" y="4572000"/>
            <a:ext cx="1600200" cy="114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43800" y="4572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543800" y="5715000"/>
            <a:ext cx="1600200" cy="1143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43800" y="571500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0" y="1484280"/>
            <a:ext cx="752472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Benguiat Bk BT"/>
              </a:rPr>
              <a:t>Ayudar a la organización a alcanzar sus objetivos y realizar su mis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Benguiat Bk BT"/>
              </a:rPr>
              <a:t>Proporcionar competitividad a l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Benguiat Bk BT"/>
              </a:rPr>
              <a:t>Suministrar a la organización empleados bien entrenados y motiv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Benguiat Bk BT"/>
              </a:rPr>
              <a:t>Permitir el aumento de la autorrealización y la satisfacción de los empleados en el trabaj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Benguiat Bk BT"/>
              </a:rPr>
              <a:t>Desarrollar y mantener la calidad de vida en el trabaj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Benguiat Bk BT"/>
              </a:rPr>
              <a:t>Administrar el camb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Benguiat Bk BT"/>
              </a:rPr>
              <a:t>Establecer políticas éticas y desarrollar comportamientos socialmente respons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" y="40428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Benguiat Bk BT"/>
              </a:rPr>
              <a:t>LA GRH DEBE CONTRIBUIR A LA EFICACIA ORGANIZACIONAL</a:t>
            </a:r>
            <a:endParaRPr b="1" lang="en-US" sz="3000" spc="-1" strike="noStrike">
              <a:solidFill>
                <a:srgbClr val="000000"/>
              </a:solidFill>
              <a:latin typeface="Benguiat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14600" y="533520"/>
            <a:ext cx="373392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Benguiat Bk BT"/>
              </a:rPr>
              <a:t>GESTIÓN DEL TALENTO </a:t>
            </a:r>
            <a:br>
              <a:rPr sz="1800"/>
            </a:br>
            <a:r>
              <a:rPr b="1" lang="es-AR" sz="1800" spc="-1" strike="noStrike">
                <a:solidFill>
                  <a:srgbClr val="ffffff"/>
                </a:solidFill>
                <a:latin typeface="Benguiat Bk B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771560"/>
            <a:ext cx="175248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Benguiat Bk BT"/>
              </a:rPr>
              <a:t>Admisión de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771560"/>
            <a:ext cx="175248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Benguiat Bk BT"/>
              </a:rPr>
              <a:t>Aplicación de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752480"/>
            <a:ext cx="207648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Benguiat Bk BT"/>
              </a:rPr>
              <a:t>Compensación de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1752480"/>
            <a:ext cx="175248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Benguiat Bk BT"/>
              </a:rPr>
              <a:t>Desarrollo de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3981600"/>
            <a:ext cx="198144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Benguiat Bk BT"/>
              </a:rPr>
              <a:t>Mantenimiento de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3962520"/>
            <a:ext cx="1752840" cy="642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Benguiat Bk BT"/>
              </a:rPr>
              <a:t>Monitoreo de 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920" y="2639880"/>
            <a:ext cx="2057400" cy="78552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Reclut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Sel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2492280"/>
            <a:ext cx="2286000" cy="105984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Diseño de c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Evaluación del desemp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3280" y="2637000"/>
            <a:ext cx="2286000" cy="105984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Remu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Beneficios y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2666880"/>
            <a:ext cx="2124000" cy="147708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Entre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Programas de cam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4724280"/>
            <a:ext cx="2667240" cy="175140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Discip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Higiene, seguridad y calidad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Relaciones con los sindic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724280"/>
            <a:ext cx="2057400" cy="1334160"/>
          </a:xfrm>
          <a:prstGeom prst="rect">
            <a:avLst/>
          </a:prstGeom>
          <a:noFill/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Bases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enguiat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Benguiat Bk BT"/>
              </a:rPr>
              <a:t>Sistemas de información 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1143000"/>
            <a:ext cx="0" cy="380880"/>
          </a:xfrm>
          <a:prstGeom prst="line">
            <a:avLst/>
          </a:prstGeom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523880"/>
            <a:ext cx="6781680" cy="0"/>
          </a:xfrm>
          <a:prstGeom prst="line">
            <a:avLst/>
          </a:prstGeom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523880"/>
            <a:ext cx="0" cy="228600"/>
          </a:xfrm>
          <a:prstGeom prst="line">
            <a:avLst/>
          </a:prstGeom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523880"/>
            <a:ext cx="0" cy="228600"/>
          </a:xfrm>
          <a:prstGeom prst="line">
            <a:avLst/>
          </a:prstGeom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1523880"/>
            <a:ext cx="0" cy="228600"/>
          </a:xfrm>
          <a:prstGeom prst="line">
            <a:avLst/>
          </a:prstGeom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2400" y="1523880"/>
            <a:ext cx="0" cy="228600"/>
          </a:xfrm>
          <a:prstGeom prst="line">
            <a:avLst/>
          </a:prstGeom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523880"/>
            <a:ext cx="0" cy="2438640"/>
          </a:xfrm>
          <a:prstGeom prst="line">
            <a:avLst/>
          </a:prstGeom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523880"/>
            <a:ext cx="0" cy="2438640"/>
          </a:xfrm>
          <a:prstGeom prst="line">
            <a:avLst/>
          </a:prstGeom>
          <a:ln w="9360">
            <a:solidFill>
              <a:srgbClr val="1a6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ministración de Personal L.A.                         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3:51:56Z</dcterms:created>
  <dc:creator>Claudia Pasquaré</dc:creator>
  <dc:description/>
  <dc:language>en-US</dc:language>
  <cp:lastModifiedBy> Claudia Pasquare</cp:lastModifiedBy>
  <dcterms:modified xsi:type="dcterms:W3CDTF">2005-08-19T14:07:05Z</dcterms:modified>
  <cp:revision>48</cp:revision>
  <dc:subject/>
  <dc:title>Diapositiva 1</dc:title>
</cp:coreProperties>
</file>