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0655-4554-4076-8E56-980BAB928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F1C0-04C0-4C2A-8D1C-83A7A0E9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932E-6EF8-4DCB-8D97-F9D549693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3809-9702-4A15-89F5-E0A25DC0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7DA7-16D9-47CF-9223-9FF23C4F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6280-6FD4-4E12-9D28-E93D44D5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B02B-CAC8-4BE1-A9E4-526EDA34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DDE3-B318-4CA0-92A2-D34ED980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B7C4-506C-44B0-82B8-B334DCAD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E6F9-7F66-42B3-AFAB-A1CBC5E9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B94B-6065-4401-BC80-488E1087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DD31-F9E7-41D7-AA88-D03C4FB2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F1BB-5FD5-467F-96FA-5489579A2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5158" t="40626" r="35158" b="12502"/>
          <a:stretch/>
        </p:blipFill>
        <p:spPr>
          <a:xfrm>
            <a:off x="1828800" y="0"/>
            <a:ext cx="5470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13:52:53Z</dcterms:created>
  <dc:creator>Ariel Aurelio</dc:creator>
  <dc:description/>
  <dc:language>en-US</dc:language>
  <cp:lastModifiedBy>Ariel Aurelio</cp:lastModifiedBy>
  <dcterms:modified xsi:type="dcterms:W3CDTF">2003-02-27T13:55:23Z</dcterms:modified>
  <cp:revision>1</cp:revision>
  <dc:subject/>
  <dc:title>Presentación de PowerPoint</dc:title>
</cp:coreProperties>
</file>