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A46-3241-42EC-8E20-B27A337B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0A0-880F-442D-BC7C-FE6EB940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105-23BE-4156-B107-83BB773B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B3A-5054-4CE2-A2CE-12A87122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512-240B-4858-9504-DDACB177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4E3-B647-4E66-B16F-3AD95250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DA9-F44A-4134-90C8-44437A4F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950-66BD-4827-B70C-D863488B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9D8-D846-4E45-A8A0-AB515A5A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C20-4438-49E2-A3C8-7581218A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3E7-6F5D-44C3-ABE3-99F07AB6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120-0F4A-4105-AAAC-6BCAD856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8157-ED9B-448B-AFB3-9C96E6CBA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4880" y="623880"/>
            <a:ext cx="77342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7360" y="623880"/>
            <a:ext cx="78292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1880" y="685800"/>
            <a:ext cx="8220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90480" y="723960"/>
            <a:ext cx="7763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7344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0480" y="824040"/>
            <a:ext cx="7763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7360" y="623880"/>
            <a:ext cx="78292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9560" y="700200"/>
            <a:ext cx="772488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6160" y="804960"/>
            <a:ext cx="75916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47720" y="890640"/>
            <a:ext cx="7648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0480" y="800280"/>
            <a:ext cx="7763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28640" y="652320"/>
            <a:ext cx="768672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560" y="785880"/>
            <a:ext cx="77248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5240" y="752400"/>
            <a:ext cx="75535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52480" y="966960"/>
            <a:ext cx="743904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1120" y="771480"/>
            <a:ext cx="77817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6160" y="804960"/>
            <a:ext cx="75916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9560" y="700200"/>
            <a:ext cx="772488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3880" y="690480"/>
            <a:ext cx="78962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2960" y="647640"/>
            <a:ext cx="7858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0:25:56Z</dcterms:created>
  <dc:creator>cti</dc:creator>
  <dc:description/>
  <dc:language>en-US</dc:language>
  <cp:lastModifiedBy>Chélide Teixeira</cp:lastModifiedBy>
  <dcterms:modified xsi:type="dcterms:W3CDTF">2006-04-07T19:07:36Z</dcterms:modified>
  <cp:revision>5</cp:revision>
  <dc:subject/>
  <dc:title>Apresentação do PowerPoint</dc:title>
</cp:coreProperties>
</file>