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projctor.wav" ContentType="audio/x-wav"/>
  <Override PartName="/ppt/media/image5.gif" ContentType="image/gif"/>
  <Override PartName="/ppt/media/image3.gif" ContentType="image/gif"/>
  <Override PartName="/ppt/media/image4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B7E-D38B-4359-A147-B86AAE92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260-A258-41B7-9F45-EB209FF7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DA7-F2C6-44F6-A6B1-86652D5F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22E-2A6A-4B34-B399-FCCC938C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0AB-9710-45AC-AE62-F3679830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29D-C42B-4213-A69B-F846942E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DBD-3D5B-476A-B2AD-1C1BD66B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4B4-F323-4724-9BF5-8F8A75AD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8F3-4702-4BCB-AF18-CF75A9F8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5D1-E203-42F3-811E-F2D52137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633-35DC-41E3-BCEA-776DF0F2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E2C-2A8C-4ADF-BBC8-5EB48BAF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B61D-484F-46B9-8C3C-549339532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ULAS DE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FÍSICA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ROF: ANTONIO CARLO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ampada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571680" cy="857160"/>
          </a:xfrm>
          <a:prstGeom prst="rect">
            <a:avLst/>
          </a:prstGeom>
          <a:ln w="0">
            <a:noFill/>
          </a:ln>
        </p:spPr>
      </p:pic>
      <p:pic>
        <p:nvPicPr>
          <p:cNvPr id="43" name="brasil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34928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281-5A93-411B-8332-D85B8A9F8C56}" type="slidenum">
              <a:t>1</a:t>
            </a:fld>
          </a:p>
        </p:txBody>
      </p:sp>
    </p:spTree>
  </p:cSld>
  <p:transition>
    <p:dissolve/>
    <p:sndAc>
      <p:stSnd>
        <p:snd r:embed="rId3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1- Quantos elétrons precisam ser retirados de um corpo para que ele fique com a carga de 1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oluçã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=1,6 x10</a:t>
            </a:r>
            <a:r>
              <a:rPr b="0" lang="pt-BR" sz="44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,q=1C, n=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embremos que q=ne, ent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1=1,6 x 10</a:t>
            </a:r>
            <a:r>
              <a:rPr b="0" lang="pt-BR" sz="44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x n, n=1/1,6 x 10</a:t>
            </a:r>
            <a:r>
              <a:rPr b="0" lang="pt-BR" sz="44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e é igual a 6,25 x 10</a:t>
            </a:r>
            <a:r>
              <a:rPr b="0" lang="pt-BR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644-84E3-4453-9D54-FB313946B531}" type="slidenum">
              <a:t>10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79132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 partículas com carga elétrica nos corpos neutr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-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 condutor A está eletrizado negativamente e a intensidade de sua carga é superior à de um condutor B, eletrizado positivamente.Após terem sido colocados em contato um com o outro durante algum tempo e em seguida afastados ,qual será o sinal da carga de cada condutor? (ambos negativamente,troca-se elé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068-FDE0-4573-8A3A-47937A8A80FA}" type="slidenum">
              <a:t>11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m corpo possui 4 x 10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étrons e 3,5 x 10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ótons.Quanto a carga elétrica deste corpo, determ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sinal              b) a inten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ga elétrica- neg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sidade  (-4 x10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3,5 x 10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x 1,6 x 10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o o sinal da intensidade é neg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850-4CEE-4110-B0F1-979EEAB2DB54}" type="slidenum">
              <a:t>12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m corpo que não está eletricamente carregado contém elétrons? Explic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sposta- Sim, pois um corpo descarregado possui a mesma quantidade de carga elétrica positiva e negativa ,ou seja possui a mesma quantidade de prótons e elétrons,sendo então eletricamente neut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DA7-F2BA-45B3-9EDC-E5ACC5C2FC48}" type="slidenum">
              <a:t>13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 sistema Internacional de medidas a unidade de carga elétrica 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- Coulom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m corpo tem 2 . 10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elétrons e 4. 10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18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ótons .Como a carga elétrica de um elétron(ou de um próton) vale, em módulo 1,6. 10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–19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C ,podemos afirmar que o corpo está carregado com uma carga elétrica 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-( 4-2). 10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. 1,6. 10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–19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0,32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DB7-C705-4F6F-A38C-4D92E0B7B8D4}" type="slidenum">
              <a:t>14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80fe8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3333cc"/>
                </a:solidFill>
                <a:latin typeface="Times New Roman"/>
              </a:rPr>
              <a:t>Considerando que e= 1,6. 10 </a:t>
            </a:r>
            <a:r>
              <a:rPr b="0" lang="pt-BR" sz="5400" spc="-1" strike="noStrike" baseline="30000">
                <a:solidFill>
                  <a:srgbClr val="3333cc"/>
                </a:solidFill>
                <a:latin typeface="Times New Roman"/>
              </a:rPr>
              <a:t>–19</a:t>
            </a:r>
            <a:r>
              <a:rPr b="0" lang="pt-BR" sz="5400" spc="-1" strike="noStrike">
                <a:solidFill>
                  <a:srgbClr val="3333cc"/>
                </a:solidFill>
                <a:latin typeface="Times New Roman"/>
              </a:rPr>
              <a:t> C ,quantos elétrons  devem ser retirados de um corpo , para que sua carga elétrica  final seja de 4 C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3333cc"/>
                </a:solidFill>
                <a:latin typeface="Times New Roman"/>
              </a:rPr>
              <a:t>R: q=ne- n=q/e – n= 4/1,6.10 </a:t>
            </a:r>
            <a:r>
              <a:rPr b="0" lang="pt-BR" sz="5400" spc="-1" strike="noStrike" baseline="30000">
                <a:solidFill>
                  <a:srgbClr val="3333cc"/>
                </a:solidFill>
                <a:latin typeface="Times New Roman"/>
              </a:rPr>
              <a:t>–19</a:t>
            </a:r>
            <a:r>
              <a:rPr b="0" lang="pt-BR" sz="5400" spc="-1" strike="noStrike">
                <a:solidFill>
                  <a:srgbClr val="3333cc"/>
                </a:solidFill>
                <a:latin typeface="Times New Roman"/>
              </a:rPr>
              <a:t> = 2,5. 10 </a:t>
            </a:r>
            <a:r>
              <a:rPr b="0" lang="pt-BR" sz="5400" spc="-1" strike="noStrike" baseline="30000">
                <a:solidFill>
                  <a:srgbClr val="3333cc"/>
                </a:solidFill>
                <a:latin typeface="Times New Roman"/>
              </a:rPr>
              <a:t>19 </a:t>
            </a:r>
            <a:r>
              <a:rPr b="0" lang="pt-BR" sz="5400" spc="-1" strike="noStrike">
                <a:solidFill>
                  <a:srgbClr val="3333cc"/>
                </a:solidFill>
                <a:latin typeface="Times New Roman"/>
              </a:rPr>
              <a:t>elétr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FC4-FDA9-4F3F-921C-6F5A3E10FDB4}" type="slidenum">
              <a:t>15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zer que a carga elétrica é quantizada significa dizer que ela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- Só pode existir como múltipla de uma quantidade mínima defin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 próton tem massa muito maior que o elétr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-S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480-64F3-4904-BFE0-5277AFDC2F2D}" type="slidenum">
              <a:t>16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cê Sab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No navios que transportam combustível ( petróleo,óleo,gasolina),os marinheiros precisam usar sapatos cuja sola seja de material condutor  de eletricidade .O uso de sapato de sola de borracha  a bordo do navio tanque  pode ser extremamente perigoso ,tanto que no passado ,explosões  causaram a destruição  de muito desses nav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hrome_1" descr=""/>
          <p:cNvPicPr/>
          <p:nvPr/>
        </p:nvPicPr>
        <p:blipFill>
          <a:blip r:embed="rId1"/>
          <a:stretch/>
        </p:blipFill>
        <p:spPr>
          <a:xfrm>
            <a:off x="4267080" y="6095880"/>
            <a:ext cx="57168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93D-5F93-4EFB-9BE1-8836D19A00D6}" type="slidenum">
              <a:t>17</a:t>
            </a:fld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7f6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ja o que pode acontecer  se um marinheiro estiver de sapato com sola de borrach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 corpo do marinheiro está carregado  positivamente  e essas cargas  atraem elétrons (-) das partes do navio que estão mais próx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o tocar numa parte do navio  com as mãos ,elétrons fluem através  do marinheiro  para anular suas cargas positivas .Nesse momento pode ser produzida uma faísca , que causa a explos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ma faísca acidental num navio tanque  pode ser fatal .Por isso todo cuidado deve ser tomado para evitar a acumulação  de carga elétrica  nesses nav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r isso que na informática também devemos descarregar o corpo antes de tocar em componentes eletrônicos ,estando o computador lig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a descarregar o corpo é só tocar  no gabinete com as mãos ou usar uma corrente eletrost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FD8-72F7-42D5-B950-4914F989DDC6}" type="slidenum">
              <a:t>18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Você Sab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Os aviões e as espaçonaves em movimento adquirem  grande quantidade de carga elétrica  pelo atrito entre a lataria e o ar atmosférico.Estas cargas vão sendo descarregadas pelas várias pontas  existentes  na superfície destes veículos : o bico ,as asas e diversas hastes metálicas  colocadas como proteção contra o acumulo de cargas .Esse acumulo poderia fazer explodir o avião ;se uma faísca produzida  pelo atrito se formasse nas proximidades  do tanque de  combustível ,incendiando  seus vap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3AB-E61E-44A2-B961-8632D9623D2F}" type="slidenum">
              <a:t>19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eb9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Sejam bem Vindos e tenham um bom</a:t>
            </a:r>
            <a:br>
              <a:rPr sz="8800"/>
            </a:b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proveit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mputador4" descr=""/>
          <p:cNvPicPr/>
          <p:nvPr/>
        </p:nvPicPr>
        <p:blipFill>
          <a:blip r:embed="rId1"/>
          <a:stretch/>
        </p:blipFill>
        <p:spPr>
          <a:xfrm>
            <a:off x="6629400" y="4800600"/>
            <a:ext cx="1600200" cy="10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967-223B-46AF-970F-8C4E10258859}" type="slidenum">
              <a:t>2</a:t>
            </a:fld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cdffd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rque os caminhões que transportam combustível  tem na carroceria uma corrente de metal  ou uma tira de borracha que toca o so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: Ao se deslocar o combustível choca com a carroceria metálica do caminhão,criando se então cargas elétricas,como a terra tem carga contrária a carga do combustível no caminhão as partículas elétricas são atraídas para a terra havendo desta forma  descarregamento de energia,caso isto não ocorra teremos uma grande explosão no caminh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107-9437-41F2-95A1-34FECD33F717}" type="slidenum">
              <a:t>20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7f6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3333cc"/>
                </a:solidFill>
                <a:latin typeface="Times New Roman"/>
              </a:rPr>
              <a:t>Você sabia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3333cc"/>
                </a:solidFill>
                <a:latin typeface="Times New Roman"/>
              </a:rPr>
              <a:t>A faísca de um relâmpago pode conter uma ddp de</a:t>
            </a:r>
            <a:r>
              <a:rPr b="0" lang="pt-BR" sz="8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3333cc"/>
                </a:solidFill>
                <a:latin typeface="Times New Roman"/>
              </a:rPr>
              <a:t>Até 100.000.000 de volts</a:t>
            </a:r>
            <a:r>
              <a:rPr b="0" lang="pt-BR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38D-4F04-48EB-B3EF-68AAD310B52C}" type="slidenum">
              <a:t>21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ípolo</a:t>
            </a:r>
            <a:r>
              <a:rPr b="0" lang="pt-BR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Times New Roman"/>
              </a:rPr>
              <a:t>Denominação dada a todo dispositivo que apresenta terminais com um pólo positivo e um pólo negativo(exemplos pilhas e bateria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237-E25B-4063-9A33-731DE0A074A4}" type="slidenum">
              <a:t>22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cdffd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Times New Roman"/>
              </a:rPr>
              <a:t>Black-out- escurecimento determinado pela interrupção do fornecimento de energia elét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Times New Roman"/>
              </a:rPr>
              <a:t>A velocidade de deslocamento dos elétrons num fio condutor é bem pequena .Por exemplo ,num fio de cobre  de 0,8 cm de raio ,a velocidade de uma corrente elétrica de 10</a:t>
            </a:r>
            <a:r>
              <a:rPr b="0" lang="pt-BR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BR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pt-BR" sz="4000" spc="-1" strike="noStrike">
                <a:solidFill>
                  <a:srgbClr val="ff0000"/>
                </a:solidFill>
                <a:latin typeface="Times New Roman"/>
              </a:rPr>
              <a:t> é de aproximadamente 3,8cm/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CFE-5D7F-4B24-9430-8E961585F36E}" type="slidenum">
              <a:t>23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HOQUE EL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ebeb9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A gravidade do choque elétrico – que age diretamente no sistema nervoso do corpo humano ,podendo provocar desde pequenas contrações musculares até a morte-é determinada tanto pela intensidade da corrente elétrica como pelo caminho que ela percorre no corpo da pesso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A menor intensidade da corrente elétrica que percebemos como um formigamento é de 1mA(míliampère).Uma corrente com intensidade de 10mA faz a pessoa perder o controle muscular.O valor entre 10mA e 3A pode ser mortal se atravessar o torax da pessoa pois atinge o coração,modificando o seu ritmo e fazendo com que ele pare de bombear sangue,podendo então a pessoa morrer em poucos minu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E20-DF8B-44D6-8892-E4F5304D36BC}" type="slidenum">
              <a:t>24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HOQUE EL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ensidade acima de 3A levam a morte certa por asfixia em poucos segun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 choque mais grave é o que atravessa o tórax ,pois afeta o coração .Nesse caso mesmo uma intensidade não muito alta  da corrente pode ser fatal .Por outro lado uma corrente de alta intensidade que circule de uma perna para a outra  pode resultar só em queimaduras locais ,sem lesões mais séria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D1A-9230-4116-A42C-A7E2F280B0D4}" type="slidenum">
              <a:t>25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HOQUE EL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 acordo com o choque elétrico veja quanto de corrente passa pelo cor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na direita-passa 10% pelo coração e sai pela cabe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na esquerda-passa 8% pelo coração e sai pelo braço dire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s braços-passa 3% pelo coração e sai pelo braço esquerdo ou dir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beça-passa 2% pelo coração e sai pelo braço esq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 pernas não passa pelo coração,portanto neste caso não há r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C3F-C4D3-4F18-BA26-A63ED3E8A769}" type="slidenum">
              <a:t>26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HOQUE EL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UMA LÂMPADA FLUORECENTE É CONHEC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Como lâmpada de neon ou lâmpada fria embora fique aquecida depois de acesa, a descarga elétrica passa através  de um tubo cheio de gás  neon rarefeito ou argôn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nquanto acontece a descarga elétrica  os elétrons excitam os átomos de neon e este emite lu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E4A-D923-4C3D-9925-C82DD573CBDB}" type="slidenum">
              <a:t>27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HOQUE EL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7f6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Um chuveiro elétrico é um grande consumidor de energia elétrica.Aproximadamente 25% do total de energia gasta numa residência  .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ANTENDO 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AVE NA POSIÇÃO VERÃO VOCÊ ECONOMIZA CERCA DE 30% DESSA ENERG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AC7-7949-4884-8E3F-994505D88DA3}" type="slidenum">
              <a:t>28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letric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486400"/>
          </a:xfrm>
          <a:prstGeom prst="rect">
            <a:avLst/>
          </a:prstGeom>
          <a:solidFill>
            <a:srgbClr val="fde3f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eletricidade não tem cor não tem cheiro,não se vê,mas sente-se seus efe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Nos dias atuais é praticamente impossível vivermos sem eletricidade, pois ela está presente em quase tudo que faze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fe8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m nossa casa se prestarmos atenção contaremos muitos aparelhos que usam eletric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omputador7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1292040" cy="12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FB5-6A4F-4B12-B43A-61ED147CC00C}" type="slidenum">
              <a:t>3</a:t>
            </a:fld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solidFill>
            <a:srgbClr val="fedbc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s dois tipos de eletricidade são: atrativa e repuls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udo começa pelo átomo é nele que se encontra  aquilo que gera eletric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 átomo é composto por prótons, nêutrons e elé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tomo" descr=""/>
          <p:cNvPicPr/>
          <p:nvPr/>
        </p:nvPicPr>
        <p:blipFill>
          <a:blip r:embed="rId1"/>
          <a:stretch/>
        </p:blipFill>
        <p:spPr>
          <a:xfrm>
            <a:off x="4267080" y="5715000"/>
            <a:ext cx="685800" cy="743040"/>
          </a:xfrm>
          <a:prstGeom prst="rect">
            <a:avLst/>
          </a:prstGeom>
          <a:ln w="0">
            <a:noFill/>
          </a:ln>
        </p:spPr>
      </p:pic>
      <p:pic>
        <p:nvPicPr>
          <p:cNvPr id="52" name="atomo" descr=""/>
          <p:cNvPicPr/>
          <p:nvPr/>
        </p:nvPicPr>
        <p:blipFill>
          <a:blip r:embed="rId2"/>
          <a:stretch/>
        </p:blipFill>
        <p:spPr>
          <a:xfrm>
            <a:off x="7543800" y="5715000"/>
            <a:ext cx="68580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atomo" descr=""/>
          <p:cNvPicPr/>
          <p:nvPr/>
        </p:nvPicPr>
        <p:blipFill>
          <a:blip r:embed="rId3"/>
          <a:stretch/>
        </p:blipFill>
        <p:spPr>
          <a:xfrm>
            <a:off x="990720" y="5715000"/>
            <a:ext cx="685800" cy="7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C13-493C-4B4F-9E00-9B9C08A4F827}" type="slidenum">
              <a:t>4</a:t>
            </a:fld>
          </a:p>
        </p:txBody>
      </p:sp>
    </p:spTree>
  </p:cSld>
  <p:transition>
    <p:dissolve/>
    <p:sndAc>
      <p:stSnd>
        <p:snd r:embed="rId4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ê sab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86000"/>
            <a:ext cx="6629400" cy="2669400"/>
          </a:xfrm>
          <a:prstGeom prst="rect">
            <a:avLst/>
          </a:prstGeom>
          <a:solidFill>
            <a:srgbClr val="cdf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ma coluna de quinze trilhões de elétrons seria igual a altura de uma pesso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 ampliássemos  a imagem do próton até 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manho de uma bola de golfe o elétron no átomo de hidrogênio estaria em órbita em torno de uma distância de 1,6 k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ark018" descr=""/>
          <p:cNvPicPr/>
          <p:nvPr/>
        </p:nvPicPr>
        <p:blipFill>
          <a:blip r:embed="rId1"/>
          <a:stretch/>
        </p:blipFill>
        <p:spPr>
          <a:xfrm>
            <a:off x="640080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E03-D245-4F17-9B17-A10F01FD4F52}" type="slidenum">
              <a:t>5</a:t>
            </a:fld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solidFill>
            <a:srgbClr val="cdffd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 acrescentarmos elétrons aos corpos  os mesmos ficarão carregados negativ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 retirarmos elétrons dos corpos os mesmos ficarão carregados positiv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mentando –neg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minuindo-pos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ocê percebeu que quem deixa a carga mais positiva ou mais negativa é o elét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ark006" descr=""/>
          <p:cNvPicPr/>
          <p:nvPr/>
        </p:nvPicPr>
        <p:blipFill>
          <a:blip r:embed="rId1"/>
          <a:stretch/>
        </p:blipFill>
        <p:spPr>
          <a:xfrm>
            <a:off x="4495680" y="5410080"/>
            <a:ext cx="8114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904-5447-43BA-9848-24C0A47B4CC7}" type="slidenum">
              <a:t>6</a:t>
            </a:fld>
          </a:p>
        </p:txBody>
      </p:sp>
    </p:spTree>
  </p:cSld>
  <p:transition>
    <p:dissolve/>
    <p:sndAc>
      <p:stSnd>
        <p:snd r:embed="rId2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solidFill>
            <a:srgbClr val="ebeb9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3333cc"/>
                </a:solidFill>
                <a:latin typeface="Times New Roman"/>
              </a:rPr>
              <a:t>A carga elementar de um elétron é igual a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3333cc"/>
                </a:solidFill>
                <a:latin typeface="Times New Roman"/>
              </a:rPr>
              <a:t>1,6 x 10</a:t>
            </a:r>
            <a:r>
              <a:rPr b="0" lang="pt-BR" sz="8000" spc="-1" strike="noStrike" baseline="30000">
                <a:solidFill>
                  <a:srgbClr val="3333cc"/>
                </a:solidFill>
                <a:latin typeface="Times New Roman"/>
              </a:rPr>
              <a:t>-19</a:t>
            </a:r>
            <a:r>
              <a:rPr b="0" lang="pt-BR" sz="8000" spc="-1" strike="noStrike">
                <a:solidFill>
                  <a:srgbClr val="3333cc"/>
                </a:solidFill>
                <a:latin typeface="Times New Roman"/>
              </a:rPr>
              <a:t> coulom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C07-5E5C-4CBE-B159-EE20ED554199}" type="slidenum">
              <a:t>7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solidFill>
            <a:srgbClr val="f7f6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o sistema internacional de medidas temos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carga é medida em coulombs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tempo é calculado em segundos 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quantidade de elétrons é representado pela letra (n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ndo assim temos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=n .e onde ,q=carga elementar do elét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= quantidade de elétr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= carga elementar de um elét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200-FA8E-405C-978E-BB902557F6A8}" type="slidenum">
              <a:t>8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O Poder da Carga El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Vamos agora fazer alguns exercícios sobre o que vimo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913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 física é fascinante não é mesm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4FD-CC82-43A3-BBC7-E9A8642CEE7A}" type="slidenum">
              <a:t>9</a:t>
            </a:fld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3T12:59:20Z</dcterms:created>
  <dc:creator>User</dc:creator>
  <dc:description/>
  <dc:language>en-US</dc:language>
  <cp:lastModifiedBy>User</cp:lastModifiedBy>
  <dcterms:modified xsi:type="dcterms:W3CDTF">2002-03-28T23:01:29Z</dcterms:modified>
  <cp:revision>38</cp:revision>
  <dc:subject/>
  <dc:title>AULAS DE  FÍSICA PROF: ANTONIO CARLOS</dc:title>
</cp:coreProperties>
</file>