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23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C8B3-0F1E-45C4-B901-2E5C09B89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F0B3-D7E5-4190-970C-992BDE7DC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3FD0-D9F3-4FEF-8F86-FF0583B00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1F12-262E-4AAE-BD35-559586CDC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C9A5-A1CF-49BF-B16E-F3E502CD1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A90D-1EC6-4742-BFFD-F37FE3B22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151E-218C-43D0-9767-50C8ED6CC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B0F2-1363-4400-B35D-F9A6895E2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F18F-3893-48F4-9036-5E79A092E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9C95-1259-4E61-9B5E-49C41143C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48BE-931C-43A7-930A-6CBC816B1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D498-9A4F-425A-BFF6-9189EEB36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CA72F-F50C-4DEA-88EC-D27A5986F2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404640"/>
            <a:ext cx="7772400" cy="5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olu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99640" y="981000"/>
            <a:ext cx="748836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mos estudar o volume de figuras  com três dimensões ou seja comprimento, largura e alt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sa figura é chamada de 3D, pois é possível colocar algo em seu interi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195640" y="4437000"/>
            <a:ext cx="3744720" cy="151308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916360" y="386064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lelepípedo Retângu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700360" y="602136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ri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 rot="9470400">
            <a:off x="5651280" y="5509080"/>
            <a:ext cx="10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rg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rot="16200000">
            <a:off x="5619960" y="454140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pacida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899640" y="620640"/>
            <a:ext cx="748836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)Quantos mililitros tem um litro de águ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)O hidrômetro de minha casa registrou nesse mês  o consumo de 27 m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de água.Qual a quantidade consumida em litro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)Uma caixa de água de forma cúbica tem internamente 1,3 m de aresta.Qual é a sua capacida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)Um reservatório apresenta as seguintes dimensões internas 4 m ,    2,5 m   e 1, 5 m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lcule o volume desse reservatório e   m 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lcule a capacidade desse reservatório em litros.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ss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899640" y="620640"/>
            <a:ext cx="748836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Massa de um corpo é sua capacidade de maté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A unidade fundamental de massa é o quilograma(K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Na prática, entretanto, usamos como unidade principal o grama(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Medidas maiores que o gra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1000 g= 1kg( quilogram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100g = 1hg(hectogram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10g = 1dag(decagram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Medidas menores que o gra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1g= 10 dg(decigram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1g=100cg(centigram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1g= 1000 mg(miligram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Temos ainda tonelada = 1000 kg símbolo T- arroba 15 kg – quilate 0,2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ss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899640" y="620640"/>
            <a:ext cx="748836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ercício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presse em gra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kg   b)3,5 kg   c)0,640 kg   d)0,78 kg  e)5,84 k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)92,3 kg    f)1/2 kg  g)0,06 kg  h)3/4 kg  i)0,1 k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presse em quilogram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 t          b) 0,5 t          c) 18,1 t        d) 4,89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) 4000 g      f)1/4 t            g) 3750 g      h)12 859 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) 2/5 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blem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m mamão pesa 872 gramas , um abacaxi pesa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,208 kg e uma melancia pesa 7,05 kg.Qual o peso total em quilograma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ss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99640" y="620640"/>
            <a:ext cx="748836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) Uma tonelada  e meia equivale a quantos quilo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)Quantas toneladas pesa um boi de 25 arroba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) Um quilograma de um produto alimentício  cus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$ 84,00. Calcule o preço de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0 g            b) 900 g               c) 750 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) 1,2 kg              e)2,5 kg                f) 6,4 k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ercícios Complementa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m copo tem capacidade de 0,25 l. Quantos copos  podemos encher com 5 litros de leit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)Um reservatório de água tem as seguintes dimensões internas  7m de comprimento, 4 m de largura  e 3 m de altura .Quantos litros de água cabem no reservatóri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ss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99640" y="620640"/>
            <a:ext cx="748836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3) Uma piscina tem 12 m de comprimento, 7 m de largura  e 1,80 de profundidade .Como estava completamente cheia , foram retirados 3750 litros Quantos litros ainda restara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4) Um quilograma de uma substância  química custa R$ 6 800,00.Quanto pagarei por 1,2 kg dessa substânci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s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899640" y="620640"/>
            <a:ext cx="748836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,25 kg equivalem a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250 g         b)32 500 g      c)32,5 g     d)325 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)O volume de um cubo de 2m de aresta é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)2m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b)4m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c)6m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d)8 m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)35 kg de amendoim enchem 140 sacos iguais 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)200g      b)250g         c)300g     d)150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)Uma caixa de 2 m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ontém 130 litros de água Nesta caixa ainda cabe um volume de água 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)70 l        b)370 l      c)870 l        d)1870 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)Numa casa gastaram-se 37,2 m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de água  durante o mês de abril.O número de litros gastos , em média por dia foi 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) 120 l     b)  124 l     c) 1240 l     d) 1200 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s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899640" y="620640"/>
            <a:ext cx="748836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)Um laboratório dispõe  apenas de frascos com volume de  125 cm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. Quantos frascos serão necessários para acomodar  350 l de certa substânci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800          b) 1400          c) 280       d) 12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)Uma caixa de água mede 3,5 m de comprimento 2,4 m de largura  e 1 m de altura .A metade de sua capacidade é igual a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400 l    b) 4200 l    c ) 5900 l    d) 16 800 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) Uma piscina de 8m de comprimento por 3 m de largura  e 3 m de profundidade  está cheia até  os 3/8 de sua capacidade. Quantos metros cúbicos de água ainda cabem na piscin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)27          b)36             c)45           d)5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s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99640" y="620640"/>
            <a:ext cx="748836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)Uma industria produz 900 litros de óleo vegetal por dia , que devem ser embalados  em latas de 30cm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Para isso o número de latas necessários será de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)300            b)  3000          c) 30 000    d) 300 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) Uma lata tem a forma de paralelepípedo com 30 cm de comprimento, 15 cm de largura e 40 cm de altura.Despejei 20 litros de água  nessa lata e a águ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bordou           b)ocupou metade da l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) Ocupou menos da metade da l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)Ocupou mais da metade da lata sem  enchê-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s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899640" y="620640"/>
            <a:ext cx="748836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1) As medidas internas de uma caixa d`água  em forma de paralelepípedo retângulo são 1,2 m  , 1m   e 0,7 m .Sua capacidade é 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8,4 litros       b)84 litros        c)840 litros   d)8400 lit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 volume da figura abaixo é 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547640" y="2924280"/>
            <a:ext cx="468000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s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899640" y="620640"/>
            <a:ext cx="748836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Volume do Cilindr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O cilindro é um sólido geométrico cuja base  é um circul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pt-BR" sz="2400" spc="-1" strike="noStrike" baseline="-25000">
                <a:solidFill>
                  <a:srgbClr val="ffffff"/>
                </a:solidFill>
                <a:latin typeface="Arial"/>
              </a:rPr>
              <a:t>cil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= área da base x al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Como a base do cilindro é um circulo, sua área  é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¶R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= ¶R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x 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64000" y="3573360"/>
            <a:ext cx="1366920" cy="266400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924360" y="378936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rot="16200000">
            <a:off x="3401640" y="504792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51280" y="595008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olu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899640" y="691920"/>
            <a:ext cx="748836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olume do paralelepípedo retângu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olume = comprimento x largura x al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 = a x b x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emp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al o volume de um paralelepípedo de 6m de comprimento, 4 m de largura e 3 m de altur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olução: V= 6m x 4m x 3m = 72 m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627280" y="2565360"/>
            <a:ext cx="1440000" cy="93492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350028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140360" y="27082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284720" y="249228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4284720" y="3068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995280" y="3284640"/>
            <a:ext cx="7164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780000" y="335772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59280" y="364500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2555640" y="371628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ilindr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899640" y="620640"/>
            <a:ext cx="748836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Exempl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Qual é o volume de um cilindro em que a altura mede  5m e o raio da base mede  2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Soluçã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D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Raio da base mede 2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Altura mede 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V= ab x 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Então tem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V= 3,14 x 2 </a:t>
            </a:r>
            <a:r>
              <a:rPr b="0" lang="pt-BR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x 5   v= 2,14 x 20   v = 62,8 m</a:t>
            </a:r>
            <a:r>
              <a:rPr b="0" lang="pt-BR" sz="24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Resposta: O volume do cilindro é de 62,8 m</a:t>
            </a:r>
            <a:r>
              <a:rPr b="0" lang="pt-BR" sz="24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ilindr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899640" y="620640"/>
            <a:ext cx="748836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utro exempl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al o volume de uma carga cilíndrica  de uma caneta esferográfica  sabendo-se que  seu diâmetro é 2 mm e seu comprimento 10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d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tura h=10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io= 2mm = 2mm/2 = 1mm   1mm = 0,1 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=3,14 x (0,1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x 10           v= 3,14 x 0,01 x 10 =0,314cm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blem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)Qual o volume de um cilindro de altura 6m sabendo-se que o raio de sua base mede 3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780000" y="378936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ilindr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899640" y="620640"/>
            <a:ext cx="748836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)Um reservatório de gasolina  de forma cilíndrica  tem uma altura de 20m e o diâmetro de sua b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6m.Qual o volume desse reservatóri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)Uma lata de ervilhas de forma  cilíndrica  tem a altura de 13,5 cm e o diâmetro de sua base mede 6cm.Qual o volume dessa lat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) O recipiente de um desodorante tem forma cilíndrica com 3 cm de raio.Se a altura do recipiente é 15cm,qual é o volume máximo de liquido que ele pode cont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ilindr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899640" y="620640"/>
            <a:ext cx="748836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al das duas latas da figura possui o volume maio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547640" y="3429000"/>
            <a:ext cx="1224000" cy="266400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851280" y="4221000"/>
            <a:ext cx="3241800" cy="86364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63640" y="371628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rot="16200000">
            <a:off x="1693080" y="472320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788000" y="414972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rot="16200000">
            <a:off x="7164000" y="4581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03280" y="616572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ta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56000" y="515772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ta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olu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99640" y="620640"/>
            <a:ext cx="748836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ercíci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)Qual o volume de um paralelepípedo de 8 cm de comprimento, 3 cm de altura e 4 cm de largur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)As dimensões de um paralelepípedo são 3m, 4m e 5 m .Qual o seu volu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) Calcular o volume de um paralelepípedo retângulo de  cuja base mede  18 cm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e altura 4 c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olu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99640" y="549360"/>
            <a:ext cx="748836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olume do Cub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 cubo é uma figura geométrica de 3 dimensões, todas iguais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cubo a largura a altura e o comprimento tem sempre  a mesma medi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da lado do cubo chamamos de ares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03640" y="3213000"/>
            <a:ext cx="1225440" cy="115092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43657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427640" y="350028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284720" y="422100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92360" y="2924280"/>
            <a:ext cx="935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411280" y="37162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olu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899640" y="475920"/>
            <a:ext cx="748836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tão o volume do cubo é també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olume=Comprimento x largura x alt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s como todos os lado são igua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m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olume= aresta x aresta x ares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tão V= a x a x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go V= a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Exempl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Qual o volume de um cubo que tem 4cm de ares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Resoluçã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V=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4cm x 4 cm x 4cm = 64 cm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olu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899640" y="620640"/>
            <a:ext cx="748836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ercíci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- Calcular o volume de um cubo que tem 5 cm de ares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- Qual o volume de um cubo que tem 2,5 cm de ares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- Qual é o volume ocupado por 50 caixas em forma de cubo, com 20cm de ares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pacida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899640" y="620640"/>
            <a:ext cx="748836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Para medir o volume de líquidos  que ocupam determinados  recipientes totalmente, usamos unidades de capacidade, cuja unidade padrão é o lit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Medidas maiores que o lit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1000 litros = 1kl(quilolitr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100 litros = 1hl(hectolitr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10 litros= 1 dal(decalitr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Medidas menores que o lit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1litro=   10 dl ( decílitr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1 litro = 100 cl( centílitr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1 litro = 100(ml(mililitr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A capacidade de 1 litro é equivalente a 1 dm</a:t>
            </a:r>
            <a:r>
              <a:rPr b="0" lang="pt-BR" sz="20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pacida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971640" y="620640"/>
            <a:ext cx="74880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empl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 dimensões internas de um reservatório de água com forma de paralelepípedo são 1,2 m , 80 cm e 60 cm. Qual a quantidade de água , em litros  que cabe nesse reservatóri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luçã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mos transformar todas as dimensões em dm po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litro = 1 dm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,2 m = 12 dm              Volume= 12 x 6 x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= 57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0 cm= 8 dm                          calculo da capacid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0cm=6 dm                            576 dm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576 lit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pacida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899640" y="620640"/>
            <a:ext cx="748836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ercíci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resse em litr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)70dm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  h)1,4 dm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)853 dm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i)58 cm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)72,6 dm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)4m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)1,3 m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)2,78m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)15m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2T13:39:38Z</dcterms:created>
  <dc:creator>Antonio Carlos Ribeiro</dc:creator>
  <dc:description/>
  <dc:language>en-US</dc:language>
  <cp:lastModifiedBy>Antonio Carlos Ribeiro</cp:lastModifiedBy>
  <dcterms:modified xsi:type="dcterms:W3CDTF">2007-06-02T16:28:48Z</dcterms:modified>
  <cp:revision>8</cp:revision>
  <dc:subject/>
  <dc:title>Volume</dc:title>
</cp:coreProperties>
</file>