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A3B-A815-44FA-9C55-CB1E4929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5D4-D41C-48CD-82CD-5CEEE2FF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FD7-3F9D-492A-A132-9EBF442E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375-8822-4445-A2D0-6BA5CB8C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6A95-5EBD-4060-8562-D98DA916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8808-AB8C-4D71-B1AB-13DD7798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4946-22AB-49AE-A27F-02468ADE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74A0-1EE9-401F-B3D2-4F1C2EF0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5114-F9D3-4863-9C77-7FDADA76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5676-84BC-4067-8264-1A3B0F4F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46DB-9C02-4597-B4C1-9A4FC197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277-A041-4623-8DD7-E11FA37D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878C-9D3E-4C89-955B-59CEF6C7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064C-6492-44A7-B38B-33DBA792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0E53-9A97-4EE3-81EA-E04F5E6E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206D-22EF-4DDE-8F12-D0A2E7FE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DA45-313D-4C38-8B9B-6D98544E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319-0034-4947-BC3A-F1787DED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B8C-567E-4DD2-AEDB-B85341D8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03F-D647-489E-8C57-D2506A9A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18B-A8DC-40C9-900A-C6713661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BCF-A150-4D2A-8CF2-FF9B84D0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728-8ADF-48D6-AEF2-A1DE12E0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286-E019-49EB-AA7F-654EE16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6908-3E5A-4E83-B816-0854592D68D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1D4D-6447-4E79-B8D1-BD925758EC9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286000" y="6364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04920"/>
            <a:ext cx="9144000" cy="570204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7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04920" y="507960"/>
            <a:ext cx="8076960" cy="556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57200" y="6858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260b"/>
                </a:solidFill>
                <a:latin typeface="Times New Roman"/>
              </a:rPr>
              <a:t>Você precisa  comunicar-se sempr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CB3-27CF-4391-BC85-886D6DB18D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43000" y="0"/>
            <a:ext cx="80010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</a:t>
            </a: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No ponto de ônibus em frente a escola Aggêo  passa um ônibus para o terminal Santo Antonio de 15 em 15 minutos e um ônibus para o terminal S.Paulo de 25 em 25 minutos. Se os dois ônibus passaram juntos  às 8h e 30 min ,a que horas vão passar juntos de novo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   </a:t>
            </a: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      8h 55 min      b)    9h 15 min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  c)      9h 30 min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  d)     9h45 min</a:t>
            </a:r>
            <a:r>
              <a:rPr b="0" lang="pt-BR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601-8B28-4E60-BA62-6F13A92FFE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304920"/>
            <a:ext cx="91440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- Uma torta de morangos  dividida em pedaços  iguais foi colocada á venda na Padaria do Seu Manoel .Em meia hora 3/4  da torta havia sendo vendida  restando apenas 6 pedaços .Em quantos pedaços a torta foi dividida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6      b) 7        c) 24      d 26</a:t>
            </a:r>
            <a:r>
              <a:rPr b="0" lang="en-US" sz="4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69C-9627-4857-9694-20926EFEDE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4572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-Vovô consultou o relógio e disse : Já se passaram 3/8 deste dia 25 de julho de 1978.A que horas isso aconteceu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8 h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) 9h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)11 h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)15 h</a:t>
            </a:r>
            <a:r>
              <a:rPr b="0" lang="en-US" sz="4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4BD-3AFE-4E18-8C1E-7162279BCC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6094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BLEMAS</a:t>
            </a:r>
            <a:r>
              <a:rPr b="0" lang="pt-BR" sz="9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ff"/>
                </a:solidFill>
                <a:latin typeface="Times New Roman"/>
              </a:rPr>
              <a:t>PROFESSOR</a:t>
            </a: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ff"/>
                </a:solidFill>
                <a:latin typeface="Times New Roman"/>
              </a:rPr>
              <a:t>ANTONIO </a:t>
            </a: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ff"/>
                </a:solidFill>
                <a:latin typeface="Times New Roman"/>
              </a:rPr>
              <a:t>CARLOS</a:t>
            </a: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39C-E067-4BFC-9BD1-2D50B50959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4572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aquário de vidro tem a forma de um paralelepípedo retangular .Internamente ele tem 60cm de comprimento ,30 cm de largura e 35 cm de altura.Nele colocou-se água até que seu nível ficasse 6 cm abaixo do nível máximo.Quantos litros d`´agua foram colocados neste aquário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308-415E-4984-88AD-8ADC1B7860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30492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a piscina tem a forma de um paralelepípedo retangular .Ela tem 5 m de comprimento ,3 m de largura e 2,20 m de profundidade ( da borda até o fundo) O nível  de água está  20 cm abaixo da borda. Quantos litros de água há nesta piscina?</a:t>
            </a:r>
            <a:r>
              <a:rPr b="0" lang="en-US" sz="4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545-DA55-4C05-8FC2-B6F856F63D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3808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a distribuir 2320 litros de um refrigerante em garrafas de 290 ml Quantas garrafas são necessárias?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F11-59CE-416B-A3BA-88F1F69E14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22860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uma  caixa d água o nível da água está 5 cm abaixo do seu limite máximo  e sabemos que esta caixa tem as seguintes dimensões 25 cm de altura, 40 cm de comprimento e 30 cm de largura. Vamos agora virar a caixa de modo que ela fique em pé sendo então desta forma a altura igual a 40 cm.nestas condições o nível da água estará quantos cm abaixo do limite máximo?</a:t>
            </a:r>
            <a:r>
              <a:rPr b="0" lang="en-US" sz="4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A24-6938-44F1-BE5E-84AE22DD08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30492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al o volume de um cilindro em que a altura mede 5 m e o raio da base mede 2 m?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E9A-7A81-4D54-81F5-DC8DFC654F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4572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al  o volume de uma carga cilíndrica de uma caneta esferográfica  sabendo-se que seu diâmetro  é de 2 mm e seu comprimento é 10 cm?</a:t>
            </a:r>
            <a:r>
              <a:rPr b="0" lang="en-US" sz="6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184-C2FE-4828-9C1A-9E377B0B32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0" y="6364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04920"/>
            <a:ext cx="9144000" cy="1057788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per Testes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tras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fessor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onio Carlos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7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4EC-8801-45E3-9AD1-0301ECB36F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228600"/>
            <a:ext cx="9144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1-</a:t>
            </a:r>
            <a:r>
              <a:rPr b="0" lang="en-US" sz="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    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reservatório de gasolina de forma cilíndrica  tem altura de 20m e o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âmetro de sua base mede 16 m. Qual o volume desse reservatório</a:t>
            </a:r>
            <a:r>
              <a:rPr b="0" lang="en-US" sz="6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ECE-55BB-4874-8AEC-EBBA22E376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3049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al destes sólidos  terá mais volume um cubo de aresta 4cm ou um paralelepípedo retângulo  de medidas</a:t>
            </a:r>
            <a:r>
              <a:rPr b="0" lang="en-US" sz="6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385-4797-4EC9-AF7E-634D3CAE69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38088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depósito de material para construção utiliza um caminhão basculante para transportar areia .As dimensões internas da carroceria do caminhão são comprimento=3,40 m largura= 2,10 m e altura= 0,80 m.Quantos m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e areia este caminhão pode carregar no máximo?</a:t>
            </a:r>
            <a:r>
              <a:rPr b="0" lang="en-US" sz="4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7DB-7599-4DC7-9BE9-0CE38E4653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22860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a lata de ervilhas de forma cilíndrica tem a altura de 13,5 cm e o diâmetro de sua base 6 cm .Qual o volume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essa lata?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C4A-6F64-4B55-B6F0-2DCBD1F8B1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53352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 dimensões de um tijolo são 20 cm de comprimento ,9 cm de largura e 7 cm de altura .Qual o volume de argila empregado para fabricar esse tijolo?</a:t>
            </a:r>
            <a:r>
              <a:rPr b="0" lang="en-US" sz="4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97A-3D0B-4FD6-8E37-0B2E272FE6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30492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 recepiente de um desodorante tem forma cilíndrica  com 3 cm de raio .Se a altura do recepiente  é 15 cm ,qual o volume máximo de liquido que ele pode conter?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69D-67F5-443F-AD0A-3EDA1DA32B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2286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al dessas duas latas possue um volume maior? Uma lata cilíndrica com raio da base igual a 4 cm e altura igual a 10 cm ou uma lata com raio da base igual a 10 cm e altura igual a 4 cm</a:t>
            </a:r>
            <a:r>
              <a:rPr b="0" lang="pt-BR" sz="44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.</a:t>
            </a:r>
            <a:r>
              <a:rPr b="0" lang="pt-BR" sz="4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69F-357D-4D32-B3C5-87813C7222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4572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a caixa dágua tem a forma de um paralelepípedo retângulo .Seu comprimento é 70 cm , sua largura é 30 cm e sua altura é 40 cm .Qual é o seu volume?</a:t>
            </a:r>
            <a:r>
              <a:rPr b="0" lang="pt-BR" sz="4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C34-4EB2-4622-8937-909EFB41AA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m um copo d´agua  comum cabem 125 cm</a:t>
            </a:r>
            <a:r>
              <a:rPr b="0" lang="pt-BR" sz="6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pt-BR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e água .Quantos copos de água serão necessários para encher uma caixa dágua com volume de? 84000cm</a:t>
            </a:r>
            <a:r>
              <a:rPr b="0" lang="pt-BR" sz="6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59B-2A4F-4F54-9BD2-D323A1DC19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paralelepípedo retangular tem 27 cm de comprimento. Esse comprimento é o triplo da largura do paralelepípedo ,essa largura é por sua vez a metade da altura .Qual o volume desse paralelepípedo?</a:t>
            </a:r>
            <a:r>
              <a:rPr b="0" lang="en-US" sz="5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5E7-EB02-49BC-8136-2A0426C189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304920"/>
            <a:ext cx="9144000" cy="585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-Quantas caixas de 48 kg podem ser transportadas de uma só vez em um elevador que suporta apenas 600 Kilos?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 10         b) 11     c)12          d)13</a:t>
            </a:r>
            <a:r>
              <a:rPr b="0" lang="pt-BR" sz="4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BEF-9B70-4794-946F-284855822D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4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paralelepípedo tem 25 cm de comprimento 12 cm de largura e seu volume é 1500 cm</a:t>
            </a:r>
            <a:r>
              <a:rPr b="0" lang="en-US" sz="72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Qual é a sua altura?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106-244B-4564-B21C-87ED978321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2286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piso de 60 m</a:t>
            </a:r>
            <a:r>
              <a:rPr b="0" lang="en-US" sz="72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será revestido com tábuas de 1,2 m</a:t>
            </a:r>
            <a:r>
              <a:rPr b="0" lang="en-US" sz="72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Quantas tábuas serão necessárias?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949-1984-4E84-BE44-C05FA1C7DC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um jardim de 8 m</a:t>
            </a:r>
            <a:r>
              <a:rPr b="0" lang="en-US" sz="72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serão colocadas placas de grama de 1600 cm</a:t>
            </a:r>
            <a:r>
              <a:rPr b="0" lang="en-US" sz="72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Quantas placas serão necessárias?</a:t>
            </a:r>
            <a:r>
              <a:rPr b="0" lang="en-US" sz="7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DCB-17F4-40E4-A736-FCAADEE1DF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2286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 piso de uma Varanda será de ladrilhos hexagonais de 300 cm</a:t>
            </a:r>
            <a:r>
              <a:rPr b="0" lang="en-US" sz="4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A Varanda é retangular e tem 6 m de comprimento por 3 m de largura Aproximadamente quantos pisos serão utilizados para cobrir a Varanda?</a:t>
            </a:r>
            <a:r>
              <a:rPr b="0" lang="en-US" sz="4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C28-63F1-4817-8473-FCCE3E81E3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53352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BLEMAS</a:t>
            </a: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SOBRE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RAZÕES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PROFESSOR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ANTONIO CARLOS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386-EEE5-49F5-AC53-F806F70A81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91440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soma de dois números é 21 e a razão entre eles é 5/2 Calcule esses números.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988-E4D3-4AAD-BF7B-C470953335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380880"/>
            <a:ext cx="9144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is irmãos tem juntos 80 anos .Se a razão entre essas idades é 3/2 calcule a idade do mais velho.</a:t>
            </a: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B6B-9457-4F12-A809-5ED2669451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2286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arame de 30 cm é dividido em duas partes.Se a razão entre as partes é 2/3,calcule o comprimento da parte maior.</a:t>
            </a: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29D-5E77-4FA9-8B5A-30719C6926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533520"/>
            <a:ext cx="914400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diferença entre as idades  de 2 irmãos é  5 anos e  a razão  entre essas idades é de 4/3 .Calcule a idade de cada um .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CEE-8C51-43F0-8B73-90EAADF298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diferença entre os preços de dois objetos é R$90,00 e a razão desses preços é 3/2.Calcule o preço de cada um .</a:t>
            </a:r>
            <a:r>
              <a:rPr b="0" lang="en-US" sz="66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F99-FAB9-443D-AF86-A2039C2C67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76212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-Um vídeo cassete começou a gravar um programa de TV as 17h e 35 min e desligou as 18 horas e 23 minutos por que a fita havia terminado .Quantos minutos de programas foram gravados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56 min        b) 52 min        c) 48 min      d) 43 min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84C-BF13-443B-B947-2FA6E6D2A8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4572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componha 420 em duas partes tais que a razão entre elas seja 0,75.</a:t>
            </a:r>
            <a:r>
              <a:rPr b="0" lang="en-US" sz="8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6AD-56CB-4090-9B0B-2F73AF78E88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533520"/>
            <a:ext cx="9144000" cy="649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-Uma gráfica produziu 34 928 exemplares de um certo livro e os operários  foram fazendo pacotes de 12 livros .Quando não foi mais possível fazer estes pacotes quantos livros sobraram?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2               b) 4                   c ) 6               d) 8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8CF-BA0D-42C0-ADA6-5BA11587FC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04920" y="380880"/>
            <a:ext cx="883908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- </a:t>
            </a:r>
            <a:r>
              <a:rPr b="0" lang="pt-B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 ônibus do Jardim Gutierres saiu do ponto inicial com certo número de passageiros .No trajeto subiram 16  e depois subiram 13 ,desceram 16 e logo depois desceram mais 23 .Quando chegou ao ponto final o ônibus 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      não tinha passageiro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)      tinha 10 passageiros a mais que no inicio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)      tinha 10 passageiros</a:t>
            </a: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 menos que no inicio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)      tinha 12 passageiros a menos que no inicio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A57-3CCA-4F76-B41C-DF50C88E06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609480"/>
            <a:ext cx="914400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)Uma sala retangular foi ladrilhada usando –se 770 ladrilhos quadrados .O comprimento da sala é igual ao comprimento de 35 ladrilhos , a largura da sala é igual a largura de quantos ladrilhos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18     b)  20     c) 21      d) 22</a:t>
            </a:r>
            <a:r>
              <a:rPr b="0" lang="en-US" sz="4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A17-8A01-4F32-A79F-B1C594D025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6094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- Imagine que N é um número efetuei 5 x N – 18 ( comecei os cálculos pela multiplicação) Se o resultado foi 92 , qual o valor de N?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20        b) 21         c) 22              d)23</a:t>
            </a:r>
            <a:r>
              <a:rPr b="0" lang="en-US" sz="4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17C-3AAF-492B-B9D4-0ACA249374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4572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- Para ir a pé de casa até a escola Beneditinho gasta o triplo do tempo que gastaria se fosse de bicicleta .Ontem ele foi a pé da  escola  até sua casa pegou a bicicleta  e imediatamente voltou para a escola .Tudo isso demorou 72 minutos .Quantos minutos ele demorou na volta para a escola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18       b) 36      c) 54     d) 72 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6F8-3878-484A-BA72-E1FB33A6E5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2:19:32Z</dcterms:created>
  <dc:creator>User</dc:creator>
  <dc:description/>
  <dc:language>en-US</dc:language>
  <cp:lastModifiedBy>Antonio Carlos</cp:lastModifiedBy>
  <dcterms:modified xsi:type="dcterms:W3CDTF">2003-03-04T23:43:01Z</dcterms:modified>
  <cp:revision>12</cp:revision>
  <dc:subject/>
  <dc:title>Apresentação do PowerPoint</dc:title>
</cp:coreProperties>
</file>