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D1B-C1EB-4F5D-91C9-9C59AD88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01C5-F87F-45AA-995A-0CA87B46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2A6-0C50-4AFB-AF0A-37E72928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899-342F-400E-8A99-428CE2B5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4345-2437-4BE8-8E96-32FD67EC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2F03-6595-4A78-AEC7-3FBCBE1C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6FA2-FE95-4645-B0E8-5F0939EC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5139-51EF-490C-91B3-088087E1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E521-D74C-42C7-94DD-C1521A51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F4D0-770C-4E46-8E41-B4E619D1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88BF-9011-465A-B525-888C9CE8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7AD-2BC3-4C3B-89DB-50ED6C0C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F2B0-B77C-4F77-A2C8-79222C27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9776-7556-4760-B70C-B8937BE4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8B8A-D902-49E9-B81C-D4A0943F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4581-579D-4552-8A58-BF717567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4478-B8DD-40A9-AC57-2FEF7486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417C-6331-41B3-8B71-B478BA99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AF0-6E74-412A-BABE-D835BB2C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A28-262D-43A4-A010-5AF208CC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5C80-C1DB-4579-9943-6EFC800D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7BA-EC07-48DB-A674-81E7F5B7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AF4E-8022-4566-8C9A-8335FF5F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E03-9FD9-4C4D-BAF6-D6F62DEC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6C0C-350F-4A8E-9BCB-ABEDE8F1794A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1E4C-501E-452C-8F38-90D92A07BDE1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286000" y="63648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04920"/>
            <a:ext cx="9144000" cy="570204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7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04920" y="507960"/>
            <a:ext cx="8076960" cy="5568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57200" y="6858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260b"/>
                </a:solidFill>
                <a:latin typeface="Times New Roman"/>
              </a:rPr>
              <a:t>Você precisa  comunicar-se sempr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FE4-0E7D-4770-872B-D598E0F595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143000" y="0"/>
            <a:ext cx="800100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</a:t>
            </a:r>
            <a:r>
              <a:rPr b="0" lang="pt-B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No ponto de ônibus em frente a escola Aggêo  passa um ônibus para o terminal Santo Antonio de 15 em 15 minutos e um ônibus para o terminal S.Paulo de 25 em 25 minutos. Se os dois ônibus passaram juntos  às 8h e 30 min ,a que horas vão passar juntos de novo?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   </a:t>
            </a:r>
            <a:r>
              <a:rPr b="0" lang="pt-B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      8h 55 min      b)    9h 15 min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  c)      9h 30 min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9  d)     9h45 min</a:t>
            </a:r>
            <a:r>
              <a:rPr b="0" lang="pt-BR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3CD-82A5-4A55-8584-CA0D4847F1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304920"/>
            <a:ext cx="91440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9- Uma torta de morangos  dividida em pedaços  iguais foi colocada á venda na Padaria do Seu Manoel .Em meia hora 3/4  da torta havia sendo vendida  restando apenas 6 pedaços .Em quantos pedaços a torta foi dividida?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 6      b) 7        c) 24      d 26</a:t>
            </a:r>
            <a:r>
              <a:rPr b="0" lang="en-US" sz="40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93B-4259-408B-8352-11C41248D9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45720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0-Vovô consultou o relógio e disse : Já se passaram 3/8 deste dia 25 de julho de 1978.A que horas isso aconteceu?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8 h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) 9h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)11 h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)15 h</a:t>
            </a:r>
            <a:r>
              <a:rPr b="0" lang="en-US" sz="4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90F8-6508-40EC-8D1E-06B4D62453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6094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BLEMAS</a:t>
            </a:r>
            <a:r>
              <a:rPr b="0" lang="pt-BR" sz="9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0000ff"/>
                </a:solidFill>
                <a:latin typeface="Times New Roman"/>
              </a:rPr>
              <a:t>PROFESSOR</a:t>
            </a:r>
            <a:endParaRPr b="0" lang="en-US" sz="9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0000ff"/>
                </a:solidFill>
                <a:latin typeface="Times New Roman"/>
              </a:rPr>
              <a:t>ANTONIO </a:t>
            </a:r>
            <a:endParaRPr b="0" lang="en-US" sz="9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0000ff"/>
                </a:solidFill>
                <a:latin typeface="Times New Roman"/>
              </a:rPr>
              <a:t>CARLOS</a:t>
            </a:r>
            <a:endParaRPr b="0" lang="en-US" sz="9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3E9-2068-4950-8F48-15F70C524D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45720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 aquário de vidro tem a forma de um paralelepípedo retangular .Internamente ele tem 60cm de comprimento ,30 cm de largura e 35 cm de altura.Nele colocou-se água até que seu nível ficasse 6 cm abaixo do nível máximo.Quantos litros d`´agua foram colocados neste aquário?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1DB-E9EB-420B-9616-B745BD5855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30492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a piscina tem a forma de um paralelepípedo retangular .Ela tem 5 m de comprimento ,3 m de largura e 2,20 m de profundidade ( da borda até o fundo) O nível  de água está  20 cm abaixo da borda. Quantos litros de água há nesta piscina?</a:t>
            </a:r>
            <a:r>
              <a:rPr b="0" lang="en-US" sz="4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8F9-D619-4805-ABE4-C52BD270E9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3808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ra distribuir 2320 litros de um refrigerante em garrafas de 290 ml Quantas garrafas são necessárias?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096-59B2-4DDB-A1F9-EFB0953A79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22860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uma  caixa d água o nível da água está 5 cm abaixo do seu limite máximo  e sabemos que esta caixa tem as seguintes dimensões 25 cm de altura, 40 cm de comprimento e 30 cm de largura. Vamos agora virar a caixa de modo que ela fique em pé sendo então desta forma a altura igual a 40 cm.nestas condições o nível da água estará quantos cm abaixo do limite máximo?</a:t>
            </a:r>
            <a:r>
              <a:rPr b="0" lang="en-US" sz="4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019-7237-44BE-9CDB-2972BE8F9C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30492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al o volume de um cilindro em que a altura mede 5 m e o raio da base mede 2 m?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051-3900-4E8E-9DB5-55EDE05EBA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45720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al  o volume de uma carga cilíndrica de uma caneta esferográfica  sabendo-se que seu diâmetro  é de 2 mm e seu comprimento é 10 cm?</a:t>
            </a:r>
            <a:r>
              <a:rPr b="0" lang="en-US" sz="66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4CBD-4E0B-401C-AA11-551C57CA48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286000" y="63648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04920"/>
            <a:ext cx="9144000" cy="1057788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uper Testes</a:t>
            </a: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tras</a:t>
            </a: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fessor</a:t>
            </a: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onio Carlos</a:t>
            </a: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7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9ACC-D78F-4C9C-BA00-5CF56C495A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228600"/>
            <a:ext cx="91440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1-</a:t>
            </a:r>
            <a:r>
              <a:rPr b="0" lang="en-US" sz="7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    </a:t>
            </a: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 reservatório de gasolina de forma cilíndrica  tem altura de 20m e o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âmetro de sua base mede 16 m. Qual o volume desse reservatório</a:t>
            </a:r>
            <a:r>
              <a:rPr b="0" lang="en-US" sz="60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4A7-BD67-4641-8361-91C292055C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3049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al destes sólidos  terá mais volume um cubo de aresta 4cm ou um paralelepípedo retângulo  de medidas</a:t>
            </a:r>
            <a:r>
              <a:rPr b="0" lang="en-US" sz="6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599-B579-41CC-B8AE-D4CEE095C0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38088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 depósito de material para construção utiliza um caminhão basculante para transportar areia .As dimensões internas da carroceria do caminhão são comprimento=3,40 m largura= 2,10 m e altura= 0,80 m.Quantos m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e areia este caminhão pode carregar no máximo?</a:t>
            </a:r>
            <a:r>
              <a:rPr b="0" lang="en-US" sz="40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1D0-E389-4447-B4DE-7A20E32933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22860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a lata de ervilhas de forma cilíndrica tem a altura de 13,5 cm e o diâmetro de sua base 6 cm .Qual o volume</a:t>
            </a: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essa lata?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5DC-B3EB-49C2-8096-9C7426F62F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53352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 dimensões de um tijolo são 20 cm de comprimento ,9 cm de largura e 7 cm de altura .Qual o volume de argila empregado para fabricar esse tijolo?</a:t>
            </a:r>
            <a:r>
              <a:rPr b="0" lang="en-US" sz="4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9AA-EEAF-470D-99E8-3B8810856B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30492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 recepiente de um desodorante tem forma cilíndrica  com 3 cm de raio .Se a altura do recepiente  é 15 cm ,qual o volume máximo de liquido que ele pode conter? 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2FA-E4D0-4727-81E0-9DB1DD0902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2286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al dessas duas latas possue um volume maior? Uma lata cilíndrica com raio da base igual a 4 cm e altura igual a 10 cm ou uma lata com raio da base igual a 10 cm e altura igual a 4 cm</a:t>
            </a:r>
            <a:r>
              <a:rPr b="0" lang="pt-BR" sz="44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.</a:t>
            </a:r>
            <a:r>
              <a:rPr b="0" lang="pt-BR" sz="4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32F-9283-444C-BE0A-3F8BF4A1E0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4572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a caixa dágua tem a forma de um paralelepípedo retângulo .Seu comprimento é 70 cm , sua largura é 30 cm e sua altura é 40 cm .Qual é o seu volume?</a:t>
            </a:r>
            <a:r>
              <a:rPr b="0" lang="pt-BR" sz="4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09A-9D4D-43CA-89BA-611F97790D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m um copo d´agua  comum cabem 125 cm</a:t>
            </a:r>
            <a:r>
              <a:rPr b="0" lang="pt-BR" sz="6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pt-BR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e água .Quantos copos de água serão necessários para encher uma caixa dágua com volume de? 84000cm</a:t>
            </a:r>
            <a:r>
              <a:rPr b="0" lang="pt-BR" sz="6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BF5-E88D-45A8-B333-4C43781B3E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 paralelepípedo retangular tem 27 cm de comprimento. Esse comprimento é o triplo da largura do paralelepípedo ,essa largura é por sua vez a metade da altura .Qual o volume desse paralelepípedo?</a:t>
            </a:r>
            <a:r>
              <a:rPr b="0" lang="en-US" sz="5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A33-473A-462A-AA19-A10CB2C569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304920"/>
            <a:ext cx="9144000" cy="5854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-Quantas caixas de 48 kg podem ser transportadas de uma só vez em um elevador que suporta apenas 600 Kilos?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  10         b) 11     c)12          d)13</a:t>
            </a:r>
            <a:r>
              <a:rPr b="0" lang="pt-BR" sz="40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FB3-1CBA-403D-9133-CAD71BDC1B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4572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 paralelepípedo tem 25 cm de comprimento 12 cm de largura e seu volume é 1500 cm</a:t>
            </a:r>
            <a:r>
              <a:rPr b="0" lang="en-US" sz="72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Qual é a sua altura?</a:t>
            </a: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4868-A0A2-4C50-B633-17C8AB6E276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2286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 piso de 60 m</a:t>
            </a:r>
            <a:r>
              <a:rPr b="0" lang="en-US" sz="72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será revestido com tábuas de 1,2 m</a:t>
            </a:r>
            <a:r>
              <a:rPr b="0" lang="en-US" sz="72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Quantas tábuas serão necessárias?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99F-9E7A-49A1-994A-8AEE92052A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um jardim de 8 m</a:t>
            </a:r>
            <a:r>
              <a:rPr b="0" lang="en-US" sz="72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serão colocadas placas de grama de 1600 cm</a:t>
            </a:r>
            <a:r>
              <a:rPr b="0" lang="en-US" sz="72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Quantas placas serão necessárias?</a:t>
            </a:r>
            <a:r>
              <a:rPr b="0" lang="en-US" sz="7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F40-8C23-466A-BD84-19EFBBC5E3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2286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 piso de uma Varanda será de ladrilhos hexagonais de 300 cm</a:t>
            </a:r>
            <a:r>
              <a:rPr b="0" lang="en-US" sz="4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A Varanda é retangular e tem 6 m de comprimento por 3 m de largura Aproximadamente quantos pisos serão utilizados para cobrir a Varanda?</a:t>
            </a:r>
            <a:r>
              <a:rPr b="0" lang="en-US" sz="4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471-7C6E-4BBC-BCA3-08DB315BC2C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533520"/>
            <a:ext cx="914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BLEMAS</a:t>
            </a: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SOBRE 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RAZÕES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PROFESSOR 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ANTONIO CARLOS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815-4BA5-49CA-924A-F1617704E50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0"/>
            <a:ext cx="914400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soma de dois números é 21 e a razão entre eles é 5/2 Calcule esses números.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1EE1-27E0-4A34-A9B1-50F23BE421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380880"/>
            <a:ext cx="91440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is irmãos tem juntos 80 anos .Se a razão entre essas idades é 3/2 calcule a idade do mais velho.</a:t>
            </a: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5B0-12F3-4315-BEE9-C00B0741A4B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22860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 arame de 30 cm é dividido em duas partes.Se a razão entre as partes é 2/3,calcule o comprimento da parte maior.</a:t>
            </a: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B94D-EB72-42B2-807A-981C9B7DB85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533520"/>
            <a:ext cx="914400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diferença entre as idades  de 2 irmãos é  5 anos e  a razão  entre essas idades é de 4/3 .Calcule a idade de cada um .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60A-C074-4D33-9AE9-F46E7AC7177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914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diferença entre os preços de dois objetos é R$90,00 e a razão desses preços é 3/2.Calcule o preço de cada um .</a:t>
            </a:r>
            <a:r>
              <a:rPr b="0" lang="en-US" sz="66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FCB9-2878-4BF8-89F8-9F954966B8A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76212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-Um vídeo cassete começou a gravar um programa de TV as 17h e 35 min e desligou as 18 horas e 23 minutos por que a fita havia terminado .Quantos minutos de programas foram gravados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 56 min        b) 52 min        c) 48 min      d) 43 min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D17-CFA7-473E-89AE-9DC62F1B61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45720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componha 420 em duas partes tais que a razão entre elas seja 0,75.</a:t>
            </a:r>
            <a:r>
              <a:rPr b="0" lang="en-US" sz="8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17D-D067-4C5C-8E28-DEAAECC3707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533520"/>
            <a:ext cx="9144000" cy="649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-Uma gráfica produziu 34 928 exemplares de um certo livro e os operários  foram fazendo pacotes de 12 livros .Quando não foi mais possível fazer estes pacotes quantos livros sobraram?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 2               b) 4                   c ) 6               d) 8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EF8-50D4-417C-848C-AF97EC879C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04920" y="380880"/>
            <a:ext cx="883908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- </a:t>
            </a:r>
            <a:r>
              <a:rPr b="0" lang="pt-B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 ônibus do Jardim Gutierres saiu do ponto inicial com certo número de passageiros .No trajeto subiram 16  e depois subiram 13 ,desceram 16 e logo depois desceram mais 23 .Quando chegou ao ponto final o ônibus :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      não tinha passageiros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)      tinha 10 passageiros a mais que no inicio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)      tinha 10 passageiros</a:t>
            </a:r>
            <a:r>
              <a:rPr b="0" lang="pt-BR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 menos que no inicio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)      tinha 12 passageiros a menos que no inicio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DD8E-CBE8-4A9C-82E2-6D5945EF63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609480"/>
            <a:ext cx="914400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)Uma sala retangular foi ladrilhada usando –se 770 ladrilhos quadrados .O comprimento da sala é igual ao comprimento de 35 ladrilhos , a largura da sala é igual a largura de quantos ladrilhos?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 18     b)  20     c) 21      d) 22</a:t>
            </a:r>
            <a:r>
              <a:rPr b="0" lang="en-US" sz="40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1F4-0E26-4C00-8F0D-4C09D78912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60948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- Imagine que N é um número efetuei 5 x N – 18 ( comecei os cálculos pela multiplicação) Se o resultado foi 92 , qual o valor de N?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 20        b) 21         c) 22              d)23</a:t>
            </a:r>
            <a:r>
              <a:rPr b="0" lang="en-US" sz="4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6D4-35EF-4AC5-A8A3-2AAC2F37D9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45720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- Para ir a pé de casa até a escola Beneditinho gasta o triplo do tempo que gastaria se fosse de bicicleta .Ontem ele foi a pé da  escola  até sua casa pegou a bicicleta  e imediatamente voltou para a escola .Tudo isso demorou 72 minutos .Quantos minutos ele demorou na volta para a escola?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 18       b) 36      c) 54     d) 72 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essor Antonio Carl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EC4-F403-48A1-A6F2-EB094D86E7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2:19:32Z</dcterms:created>
  <dc:creator>User</dc:creator>
  <dc:description/>
  <dc:language>en-US</dc:language>
  <cp:lastModifiedBy>Antonio Carlos</cp:lastModifiedBy>
  <dcterms:modified xsi:type="dcterms:W3CDTF">2003-03-04T23:43:01Z</dcterms:modified>
  <cp:revision>12</cp:revision>
  <dc:subject/>
  <dc:title>Apresentação do PowerPoint</dc:title>
</cp:coreProperties>
</file>