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1020-F039-4D4E-8272-50A20881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EB1C-B167-426D-838A-AECD49C4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DCA-31F7-4A62-B0D5-DA16FFC3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51DC-D553-4485-BC36-731AA450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7901-4BC3-4CE6-BD40-470959A2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03DF-38F2-4512-B77C-60886F4E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33C4-A73A-4A84-BA81-656476DE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5624-CC07-46EA-B662-AA18C3C0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4E77-8F09-4CB8-A14C-3ECDD5A0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911A-02BF-48B9-9BF8-72B11C60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F259-85DC-4CF2-B376-D3EB6CA2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367-1498-4FDF-8027-419BE3EA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FEE9-9FB3-4D1A-BC8D-39CAAA66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BA8B-FC10-47DB-A341-1FFBFCBE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D863-4D4F-4343-B14E-8BA50CF0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63A1-2E4A-4521-B925-62A880BD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F140-3997-4AE9-B266-2CE2F5CB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475-6332-46FB-8BDD-61B6082A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9E0-1E4A-4D53-A5AA-CB1BD2C6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063-2F2D-45C4-88CB-6E26CD0C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70C-E923-433B-BB85-6174FA84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0B0-E69F-4CAE-8283-C4E134C8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8C74-074B-4254-ACA0-D45E75A6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F5F1-8168-4996-8644-91FEF20A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A3D8-CD45-4279-BF21-EC2EDF27767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35F9-0D3C-48DE-A09B-BF9805C89A6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Outsourcing Informático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Desarrollo y mantenimiento de aplicacion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90920" y="2133360"/>
            <a:ext cx="487656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lanificación conceptu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specificación funcion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lan de aplica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señ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mplementa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uebas de módulos y del sistem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El contrato de Outsourc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240" y="22860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uración del Contra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ndiciones en la gestión de proyectos informátic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ndiciones de finalización de proyectos informátic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opiedad intelectu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Niveles en el Servici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nálisis de Factibilidad (Técnica y Operativa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nálisis detallado de compromisos contraíd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400" y="23619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ostos de Outsourc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Aspectos en el diseño de una solución Outsourc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19160" y="2437920"/>
            <a:ext cx="3886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Gestión del Proyec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seño de la solu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esarrollo de la Solu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mplementa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Análisis de las necesidades del Client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80720" y="2133720"/>
            <a:ext cx="5791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acionalización Financier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ortalecimiento de competenci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aptura de valor agreg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seño de la estrategia de la organiza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Diseño de la estrategia de la organizació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33720" y="2133720"/>
            <a:ext cx="62481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bjetivos clar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mpromiso del clien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efinición detallada de los servicios incluid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lexibilidad financier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lexibilidad tecnológic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lexibilidad opera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onsideraciones de costos a la hora de realizar un Outsourc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quipo físic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quipo lógic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ntenimiento del equipo físico y/o lógic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stalacion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ersonal dedicado a su funcionamien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upervis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tros costos (Servicios de terceros, Energía, Consumibles y papel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Identificación de aplicaciones utilizadas por la empres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52120" y="2286000"/>
            <a:ext cx="6172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oductos que se obtienen y su periodicida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ivel de confidencialidad de la informa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Valoración de las aplicacion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uarios a los que da servicio actualmen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úmeros de transacciones por día, et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Servicio nuevo con recursos extern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0106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lcance del nivel de servicio a contratar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areas de operación de sistem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ntenimiento de equip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oporte técnic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esarrollo y mantenimientos de aplicaciones, et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nsultor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120" y="5331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2743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Generalidades del Outsourcing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Definición de los mecanismos de medición del servici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uración del contrato y determinación de salidas programad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eríodos de tiempo de puesta en marcha del servicio a contratar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iempo hasta el arranque operativo del sistem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ndiciones de devolución del servicio y cancelación anticipa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Aspectos relativos a segurida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guridad del lugar de residencia donde están los equipos físic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pia periódica de la información en almacén confia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ntingencia ante desast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spositivos específicos de seguridad (accesos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Factores clave a tener en cuenta en la gestión de un contrato de Outsourcing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nfoque sobre un objetivo fin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dentificar riesgos y solucion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esarrollo de planes de transición detallad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riterios de rendimien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mportancia del factor human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ransferencia efectiva de conocimien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eparar y gestionar casos de conflic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ocumentar en detalle todas las actividad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fraestructura adecua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nocimiento actualizado del costo y calidad del merc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Normas y Estándares aplicab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971440" y="2133360"/>
            <a:ext cx="4800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SO 90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N 290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specíficas de cada paí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Verificación y Contro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efinición de responsables y responsabilidades en el control del servi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uniones periódicas de seguimiento y evalua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o de herramientas informáticas de planificación y contro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mprobación periódica de back-up y recupera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uditoría periódica sobre seguridad de la firma contratada de outsourcing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ntrol de cambios y especificaciones de los sistem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upervisión del progreso y diseño de los sistem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lanificación y control de las pruebas de aceptación de los sistem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720" y="2590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onsideraciones Etica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5640" y="25905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Outsourcing en Chil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Outsourcing en Chile</a:t>
            </a:r>
            <a:br>
              <a:rPr sz="4400"/>
            </a:b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Evolución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239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a especialización genera productivida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mpetitividad y Venta de servi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recimiento del Outsourcing entre un 10% y 12% del rubro informátic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atinoamérica es el próximo merc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tapas del Outsourcing en Chil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 cree que el 2000 Chile estará a nivel de U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Outsourcing en Chile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Razon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ra la integración de sistemas, mantenimiento de equipos, redes y consultor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l cliente busca bajar costos, explotar nuevos negocios, mantener al día sus tecnologí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l nivel de ganancias es bajo a corto plazo y el riesgo es al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a inversión se recupera al largo plaz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 busca alta confianza y ética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Outsourcing en Chile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Proveedor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ercado chileno compartido por pocas empres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emanda : Comunicaciones(redes), y hasta el año pasado Y2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yudan a mejorar la productividad del paí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hile tendrá que competir con empresas extranjer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Desarrollo del Tem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28954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Análisis del Outsourcing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Outsourcing en Chile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ent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uchos no consideran a la informática como elemento estratégic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uscan precio, calidad, y confianz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vitan fallas, descuid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as empresas deben preocuparse sólo por sus rubr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uestionario Técnico de Outsourc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55627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ontrato de Outsourc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ombre, Rut, Dirección, Teléfono, e-mail, sucursal(es) de la empresa interesa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ombre, Rut, Teléfonos, e-mail de los empresarios involucrados(de la empresa que contrata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iudad en que se realiza el contra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ombre, Rut, Dirección, Teléfono, e-mail, de la empresa de Outsourcing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ombre de la gerencia que realiza el Outsourcing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8288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La primera parte del contrato se refiere 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ontrato de Outsourc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bjetivos de la asesoría (descripción detallada de los pasos que realizará la empresa de Outsourcing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l área de la empresa que está involucra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etalles del acuerdo económico que se logra (forma de pago, compra de tecnología, etc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ponsabilidades y compromisos de ambas empres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stablecimiento de contro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8288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La segunda parte del contrato se refiere 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90720" y="5410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onsideraciones Final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666880"/>
            <a:ext cx="79246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imes New Roman"/>
              </a:rPr>
              <a:t>Este trabajo estará prontamente disponible en internet en la siguiente dirección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6633"/>
                </a:solidFill>
                <a:latin typeface="Times New Roman"/>
              </a:rPr>
              <a:t>http://www.geocities.com/Colosseum/Stadium/5671/outsourcing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FI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aracterísticas del Outsourc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520" y="1600200"/>
            <a:ext cx="3962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laboración Complej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ura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ntrol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querimientos del Clien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ransferencia de Person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ntra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lexibilida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strategi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mpetitivida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mpromi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Objetivos del Outsourc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251460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ptimizar costos de la emp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liminación o minimización de Riesg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120" y="1904760"/>
            <a:ext cx="6324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Algunos ejemplos de Outsourcing Informátic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Gestión y Operación de los SI de una Organizació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5120" y="2514600"/>
            <a:ext cx="5790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des de Comunicacion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ocedimientos de Seguridad de los Da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ontrol y Supervisión de Sistema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ctualización y mantenimiento del Sistema Operativ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seño y administración de las bases de dat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90720" y="21337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seño de Redes de comunicacion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nsultor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ntenimiento de Equipos Físicos y Lógic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oporte Técnico (usuarios y Relación con vendedores y/o fabricantes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Más ejemplos de Outsourcing Informátic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1:53Z</dcterms:created>
  <dc:creator>Jaime Riveros Pineda</dc:creator>
  <dc:description/>
  <dc:language>en-US</dc:language>
  <cp:lastModifiedBy>Jaime Riveros Pineda</cp:lastModifiedBy>
  <dcterms:modified xsi:type="dcterms:W3CDTF">2000-07-02T23:46:37Z</dcterms:modified>
  <cp:revision>53</cp:revision>
  <dc:subject/>
  <dc:title>Outsourcing Informático</dc:title>
</cp:coreProperties>
</file>