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A6CF-2DF1-44F0-A324-6B482290D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EC20-A64F-415A-828D-D52ED0A1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A32A-56A0-41F1-9B2E-2F84ADE0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66B3-8703-4DEA-94E9-BF9DFB80A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9AE1-A4DA-4BF0-81EA-52768E9B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C652-8047-4AC8-AD8C-02E04A8B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5270-D6EB-41A4-9C22-DFBCB1B4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6FCB-DC78-4B3A-8B48-F58A621E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FACD-413F-40D3-A064-FAB17287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7E32-B343-445D-9E31-169312FB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0A26-C47A-440F-AFE1-6EB3430B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B4A7-5A13-48ED-A813-1AC70FB5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819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5257-577C-4E7D-9488-5890BE6DBA6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ore Steps in Financial Cooperation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2514240"/>
            <a:ext cx="74674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Steps in Regional Currency Co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Asian Bond F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Asian Bond 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Asian Monetary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APT in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67280" y="1295280"/>
            <a:ext cx="2590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. Fukush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3-8-5, in K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st East Asia Cong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19280" y="8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17600" y="609480"/>
            <a:ext cx="4640400" cy="5738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781680" y="1295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81680" y="2057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81680" y="42670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781680" y="48769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60040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Times 2003-7-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7B84-CA28-46E4-BFFC-B86FFAA658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3333cc"/>
                </a:solidFill>
                <a:latin typeface="Times New Roman"/>
              </a:rPr>
              <a:t>1. Steps in Regional Currency Cooperation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28800" y="22096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pan’s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Int’l Use of Yen        80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Asian Monetary Fund 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) Chen Mai Initiative     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) Asian Bond Fund        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EE19-86A2-4504-94D1-0278520A5D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3333cc"/>
                </a:solidFill>
                <a:latin typeface="Times New Roman"/>
              </a:rPr>
              <a:t>2. Asian Bond Fund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1) Launched: June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2) Functions: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① to use $1 bil collected fm central B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　　　　　　    ②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to invest in $ denominated pub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bond in Asia, passi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3) Limitations: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① currency mismatch pers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　　　　　　　　 ②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no active trading nor deepening Mk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　　　　　　　　 ③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no inv’t for corporate bond 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securitized ass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69B5-301B-49A9-9403-71E28BB3EC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3333cc"/>
                </a:solidFill>
                <a:latin typeface="Times New Roman"/>
              </a:rPr>
              <a:t>3. Asian Bond Corporation, proposed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by Prof Ito et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1) purchase bond issued in local curr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2) use 1) as collateral &amp; issue ABC b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3) higher return with less X’ge risk in AB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bonds for inves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4) Introduction of Asian Currency Unit &amp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deeper bond Mkt are in s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FC33-5A51-4A57-B64B-05967225A3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3333cc"/>
                </a:solidFill>
                <a:latin typeface="Times New Roman"/>
              </a:rPr>
              <a:t>4. Asian Monetary Institute: an Idea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Intellectual Infrastructure for APT cooperation (data, conference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Study and make Proposals for financial co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) Public Education and Info Disse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) Hub of a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222F-A84A-40EC-AC29-3CBA643199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3333cc"/>
                </a:solidFill>
                <a:latin typeface="Times New Roman"/>
              </a:rPr>
              <a:t>5. APT in Perspective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85800" y="1828800"/>
          <a:ext cx="7772400" cy="41148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r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pulation (mi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DP (bil $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, yen and mix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99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896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F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405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 </a:t>
                      </a: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　</a:t>
                      </a: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6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955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4191120" y="5943600"/>
            <a:ext cx="53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Source: Meti, White Paper on Trade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3E1A-8E00-41AB-8F59-0D22E39C86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781680" y="2890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6858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685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18892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3A1B-B266-4732-AD3E-C685797C8D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04:32:14Z</dcterms:created>
  <dc:creator>z-kokubo</dc:creator>
  <dc:description/>
  <dc:language>en-US</dc:language>
  <cp:lastModifiedBy>Thangam</cp:lastModifiedBy>
  <dcterms:modified xsi:type="dcterms:W3CDTF">2003-08-05T00:17:39Z</dcterms:modified>
  <cp:revision>10</cp:revision>
  <dc:subject/>
  <dc:title>More Steps in Financial Cooperation</dc:title>
</cp:coreProperties>
</file>