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526D-2BC8-4096-9A69-B924DACF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5819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464640"/>
            <a:ext cx="75819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643-81C2-406D-A9AA-0CF6CD6F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46464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1440" y="346464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5AA-35B9-42B6-A4CF-21A888C4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29880" y="106632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93440" y="106632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46464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29880" y="346464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93440" y="346464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408-D42D-4879-84E4-D8A10FE9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066320"/>
            <a:ext cx="758196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FAD2-FCE5-4020-9DBB-B0ABFB57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58196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6126-615C-4FF1-801C-680AFA11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2AF-649C-472D-90BF-4C334642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537-232A-4CCB-9934-167B4C47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753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4D0-A5D0-4D12-8867-D441AF83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46464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8D8-38C7-40E2-B503-CB8328D0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1440" y="346464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486-19CA-43EA-A175-19E5591F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464640"/>
            <a:ext cx="75819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822-C5D8-4B83-8B30-2B67C05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066320" y="1066320"/>
            <a:ext cx="758196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"/>
          <p:cNvSpPr/>
          <p:nvPr/>
        </p:nvSpPr>
        <p:spPr>
          <a:xfrm>
            <a:off x="177840" y="76320"/>
            <a:ext cx="609480" cy="6705360"/>
          </a:xfrm>
          <a:prstGeom prst="rect">
            <a:avLst/>
          </a:prstGeom>
          <a:gradFill rotWithShape="0">
            <a:gsLst>
              <a:gs pos="0">
                <a:srgbClr val="011348"/>
              </a:gs>
              <a:gs pos="100000">
                <a:srgbClr val="0640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828080" y="206460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ational Science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81080" y="6161040"/>
            <a:ext cx="581040" cy="6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819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lizabeth VanderPutten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rogram Director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search on Learning and Education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vanderp@nsf.gov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"/>
            <a:ext cx="792468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53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457200"/>
            <a:ext cx="758196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Science of Learning</a:t>
            </a:r>
            <a:br>
              <a:rPr sz="3200"/>
            </a:b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Integrated, Four Quadrant Continuum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752480"/>
            <a:ext cx="7467480" cy="3581280"/>
            <a:chOff x="990720" y="1752480"/>
            <a:chExt cx="7467480" cy="3581280"/>
          </a:xfrm>
        </p:grpSpPr>
        <p:sp>
          <p:nvSpPr>
            <p:cNvPr id="48" name=""/>
            <p:cNvSpPr/>
            <p:nvPr/>
          </p:nvSpPr>
          <p:spPr>
            <a:xfrm>
              <a:off x="9907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059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771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483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95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990720" y="1752480"/>
              <a:ext cx="7467480" cy="3581280"/>
              <a:chOff x="990720" y="1752480"/>
              <a:chExt cx="7467480" cy="3581280"/>
            </a:xfrm>
          </p:grpSpPr>
          <p:sp>
            <p:nvSpPr>
              <p:cNvPr id="54" name=""/>
              <p:cNvSpPr/>
              <p:nvPr/>
            </p:nvSpPr>
            <p:spPr>
              <a:xfrm>
                <a:off x="46483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195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907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71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059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990720" y="1752480"/>
                <a:ext cx="7467480" cy="3581280"/>
                <a:chOff x="990720" y="1752480"/>
                <a:chExt cx="7467480" cy="358128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1143000" y="2285640"/>
                  <a:ext cx="7315200" cy="3048120"/>
                  <a:chOff x="1143000" y="2285640"/>
                  <a:chExt cx="7315200" cy="3048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1143000" y="2285640"/>
                    <a:ext cx="1828800" cy="3048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971800" y="2285640"/>
                    <a:ext cx="1828800" cy="3048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4800600" y="2285640"/>
                    <a:ext cx="1828800" cy="3048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6629400" y="2285640"/>
                    <a:ext cx="1828800" cy="3048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990720" y="1752480"/>
                  <a:ext cx="7315200" cy="3047760"/>
                  <a:chOff x="990720" y="1752480"/>
                  <a:chExt cx="7315200" cy="3047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990720" y="1752480"/>
                    <a:ext cx="1828800" cy="30477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2819520" y="1752480"/>
                    <a:ext cx="1828800" cy="30477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4648320" y="1752480"/>
                    <a:ext cx="1828800" cy="30477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6477120" y="1752480"/>
                    <a:ext cx="1828800" cy="30477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>
                  <a:off x="1219320" y="2361960"/>
                  <a:ext cx="14475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 Gothic"/>
                    </a:rPr>
                    <a:t>Brain Research As Foundation for Research on Learn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971800" y="2361960"/>
                  <a:ext cx="1752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 Gothic"/>
                    </a:rPr>
                    <a:t>Fundamental Research on Learn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3880" y="48607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505320" y="4860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I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800600" y="2285640"/>
                  <a:ext cx="160020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 Gothic"/>
                    </a:rPr>
                    <a:t>Research on Learning in Formal and Informal Educational Setting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629400" y="2285640"/>
                  <a:ext cx="152388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 Gothic"/>
                    </a:rPr>
                    <a:t>Research on Learning in Complex Educational System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334120" y="4860720"/>
                  <a:ext cx="457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II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162920" y="4860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I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"/>
          <p:cNvSpPr/>
          <p:nvPr/>
        </p:nvSpPr>
        <p:spPr>
          <a:xfrm>
            <a:off x="2209680" y="55497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general) time horizon to use; micro/macro 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5791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218960" y="5791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295280"/>
            <a:ext cx="914400" cy="99072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342680" y="4800600"/>
            <a:ext cx="685800" cy="83808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1295280"/>
            <a:ext cx="914400" cy="99072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1295280"/>
            <a:ext cx="914400" cy="99072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590200" y="4723560"/>
            <a:ext cx="685800" cy="83844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247800" y="4800600"/>
            <a:ext cx="685800" cy="83808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594360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Century Gothic"/>
              </a:rPr>
              <a:t>Any quadrant may serve as the generator of research hypotheses for another quadrant (as appropriate) and provide context and conditions for testing a range of hypoth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19320" y="1752480"/>
            <a:ext cx="79246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Other Research Programs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58196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ERI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gital Librarie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pplied Research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novation and Organizational Change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1219320"/>
            <a:ext cx="79246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Garamond"/>
              </a:rPr>
              <a:t>Conditions in which people learn differently</a:t>
            </a:r>
            <a:endParaRPr b="1" lang="en-US" sz="36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58196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ransford (86)  Teachable agent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afai (123)  Design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ienkowski (203) Representations of genetic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ank (165) Chemsense  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e (96)   Virtual World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nn (90) Authentic Experimentation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chbacher (200) Inquiry Learning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e (54) Linguistically diverse student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wis (130) Teacher Learning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ineberg (196) Argumentation in social &amp;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physical science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9320" y="1219320"/>
            <a:ext cx="79246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ae00"/>
                </a:solidFill>
                <a:latin typeface="Garamond"/>
              </a:rPr>
              <a:t>Children can learn sooner, deeper and better </a:t>
            </a:r>
            <a:br>
              <a:rPr sz="3600"/>
            </a:br>
            <a:endParaRPr b="1" lang="en-US" sz="36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58196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IMSS-R  (153) High achievement is possibl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arraher (88) Early Algebra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her (136) Problem solving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bb (91) Statistics and Technology intensive classe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chauble (166) Statistical distribution models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etz (141) Children’s Scientific Inquiry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rotzer (114) Complex Causality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Improved and More Accurate Assessments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8196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Quellmalz (24) Cognitive and Content demands of large scale assessment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IMSS-R (224) Item developmen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unt (122) Assessing “facets” of knowledg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habbott (4)  Knowing What Students Know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Zollman (241) Models Based Assessment in Physic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delson (101) On-line portfolio assessmen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elson-Barber (Cultural Validity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ests)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Nature of systems and of context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8196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millard (162)  Urban educatio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arton (79) Urban homeless childre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odriquez (163) Inquiry science/multicultural educatio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pillane (180) Distributed Leadership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oney (119) Ubiquitous computing in urban school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200"/>
                </a:solidFill>
                <a:latin typeface="Garamond"/>
              </a:rPr>
              <a:t>Issues in equity, socioeconomic status, and opportunity to learn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819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IMSS-R and Benchmarking Studie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im (15) Urban Minority &amp; Poor students can achiev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avis (209) Mathematical Literacy for African American Student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lau (83) Talent Loss and Schooling Los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mith (29) Retention of SMET major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arren (239) Explicit Instructio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New Avenues of Research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819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derson (199) Eye-movement/mathematical problem solving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pelke (236) Sources of mathematical thinking (exact vs estimation)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uttenlocher (216) Spatial Competenc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Jones (217) Nanotechnology and science inquiry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icard (229) Computers and Emotion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9:05:05Z</dcterms:created>
  <dc:creator>Eric Hamilton</dc:creator>
  <dc:description/>
  <dc:language>en-US</dc:language>
  <cp:lastModifiedBy>evanderp</cp:lastModifiedBy>
  <cp:lastPrinted>2001-11-10T18:30:14Z</cp:lastPrinted>
  <dcterms:modified xsi:type="dcterms:W3CDTF">2001-11-10T18:37:53Z</dcterms:modified>
  <cp:revision>94</cp:revision>
  <dc:subject/>
  <dc:title>No Slide Title</dc:title>
</cp:coreProperties>
</file>