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A57-C0C5-4588-BEFD-A6D7304C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4AF-AB0C-42C2-8483-C725755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090A-75D7-46CD-97DA-5A5037FA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05E-F76B-4ED0-97FC-4C94D5AC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7FAE-140B-4420-AB2C-4947DD7F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1DA9-302A-4828-B979-3EF2AEEB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11FF-44A3-4639-80DD-7AC7974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9DD8-92B6-4EF3-AC9F-DC511C5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FF30-FD5C-4061-8B04-4FA0E601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85A7-F7D2-41B7-BC22-F460F4DC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FE33-ABCC-4E7E-B93D-7AD4BB9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A6D-037E-4AE5-825E-8EAFD4E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134C-78CA-4668-91BD-0C432963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8689-473E-4E09-B935-682B6E5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16C4-3C17-44D7-8911-4F1ED8C0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81F-8707-4CAC-92F1-6A91B23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2FF-4E16-40D8-AEF7-BCD02FB4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FB4-9B1F-4A5E-81A4-1150887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4E3-5DF9-410C-A26A-338C886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D01-D1E5-4B63-9A4E-E0651D34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676-B07D-4DC2-BCA0-6DA70119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C7F-82E8-47AE-A196-841E059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060-A442-4AC9-8195-49179127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644-CD85-4A50-B503-C2E3D808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4630-FB90-4EE8-8144-19AFB4CB77F0}" type="datetime2">
              <a:rPr b="0" lang="en-US" sz="1400" spc="-1" strike="noStrike">
                <a:solidFill>
                  <a:srgbClr val="000000"/>
                </a:solidFill>
                <a:latin typeface="Tahoma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AD89-4F34-498D-9FEF-917AD61AD8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14400" y="647712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3B8-AEB3-43BB-854A-6D7DA0350857}" type="datetime2">
              <a:rPr b="0" lang="en-US" sz="1400" spc="-1" strike="noStrike">
                <a:solidFill>
                  <a:srgbClr val="1c1c1c"/>
                </a:solidFill>
                <a:latin typeface="Tahoma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D5F6-EF68-45BB-92BC-BD1B1188C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sdn.microsoft.com/architecture/default.aspx?pull=/library/en-us/dnea/html/eaappconintro.asp" TargetMode="External"/><Relationship Id="rId2" Type="http://schemas.openxmlformats.org/officeDocument/2006/relationships/hyperlink" Target="http://www.microsoft.com/usa/webcasts/ondemand/1617.asp" TargetMode="External"/><Relationship Id="rId3" Type="http://schemas.openxmlformats.org/officeDocument/2006/relationships/hyperlink" Target="http://support.microsoft.com/default.aspx?scid=kb%3Ben-us%3B324806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ww.novatecno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gestão de estrutura de sistemas – projeto de conversão 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EC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10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siness entity compo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itas aplicações requerem que os dados sejam passados entre componen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eremos desenvolver uma aplicação para o back-office e integrá-la com o sistema de cobrança e através disso, uma aplicação servir a outra com dados e pacotes de informaçã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ão utilizadas internamente e são geralmente estruturas de dados como dataSets, dataReaders, streams de XML et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3657600"/>
            <a:ext cx="144792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Segurança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11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curity, operational management, and commun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ssa aplicação vai muito provavelmente utilizar componentes para executar gerenciamento de exceções, autorização e comunicação com outros serviç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ar como um grande esforço de desenvolvimento em .NET, já que as interfaces estarão expostas e o framework virá aber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em conferências específicas somente sobre o assunto segurança no .NET frame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657600"/>
            <a:ext cx="243864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comendações para aplicações e serviços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12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entificar os tipos de componentes da nossa aplicação e seu escopo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gumas aplicações. Algumas aplicações não requerem certos componentes, outras terão somente uma interface básica de inter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jetar todos os componentes para ser o mais consistente possível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juda na predicatibilidade e sua manutenção pela equipe. Em alguns casos pode ser difícil de manter o projeto lógico quando unindo ASP.NET e winForms; entretanto devemos manter a consistencia em cada ambient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ender como os componentes do sistema vão se comunic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r feito antes de escolher a implementação; sugestão: manter baixo acoplamento, alta coesã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comendações para aplicações e serviços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13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nter o formato de dados que será intercambiado consisten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través de toda a aplicação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vavelmente desejaremos retornar dados num DataReader do DAL para fazer uma renderização rápida no ASP.NET, mas usar DataSets para consumi-los. Resultado: mixar XML strings, DataSets, objetos serializaveis, DataReaders, e outros formatos na mesma aplicação tornará difícil de desenvolver, manter e escal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nter o código das politicas de seguranca e comunicação o mais abstrata possíve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a camada de lógica do negócio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fie nos atributos, APIs, configurações do config.web etc para autorizações, exceções et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imite as chamadas ao seu escopo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onentes na camada A não devem chamar componentes da camada C sem passar pela B. Cuidado ao projetar componentes que resultem em efeito cascata, repetindo processos ou componentes que não fazem nada a não ser redistribuir chamadas para outras cama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que pode vir por aí…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14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Camada de apresentaçã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Interface com o usuário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HTML embutido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Plug-in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winForm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Página de erro customizada (global.aspx+global handler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Mobile device user interf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Web User Interf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Smart Device User Interf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Document-based User Interfac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Trabalhar com documentos internos e externo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Entrada de dados/Gerar relatório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Acessar DAL através da interface do usuár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User interfaces e user process components. Como separar?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Local Cach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Implementar notificações instantanea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Projetar camada de negócio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Projetar componentes do negóc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Projetar pacotes de dado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acessar muiltiplos dada source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executar validacao dos dados intercambiado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Cache data para queries comun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O servico que solicita tambem autoriza ?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ahoma"/>
              </a:rPr>
              <a:t>Usar HTTPCredentialCache para validação via XML ?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ahoma"/>
              </a:rPr>
              <a:t>Implementar segurança e mecanismos de exchange e comunicação, interna e externamen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ns relaciona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msdn.microsoft.com/architecture/default.aspx?pull=/library/en-us/dnea/html/eaappconintro.as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ebca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http://www.microsoft.com/usa/webcasts/ondemand/1617.as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http://support.microsoft.com/default.aspx?scid=kb%3Ben-us%3B3248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2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868480" cy="355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UI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3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ser interface (UI) compon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maioria das soluções precisam prover uma maneira aos usuários interagirem com a aplicação. Serão implementadas através de windows forms, páginas Microsoft ASP.NET pages, controles ou outra tecnologia para renderizar e formatar dados assim como permitir a inserção del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429000"/>
            <a:ext cx="2438640" cy="2286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657600"/>
            <a:ext cx="243864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UPC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4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er process compone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á casos em que a interação do usuário segue um processo previsí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ionar a uma estratégia e então selecionar um devedor individual para visualizar seus detalh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mbém a interação às vezes segue um padrão previsível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brador seleciona o devedor, provê os detalhes de pagamento e depois detalha os próximos passos da negociaçã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 ajudar essas interações, pode ser útil guiar esses processos usando separados componente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ntagens: A lógica não ficará hardcoded e a mesma interação do usuário será reaproveitada em outras rotinas ou por múltiplas interfaces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nutenção ganha: changing one, change 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38280" y="3124080"/>
            <a:ext cx="2438640" cy="3049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3657600"/>
            <a:ext cx="243864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BW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5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siness workflow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opcional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pois da entrada de dados pelo usuário, o dado pode ser reutilizado para o negócio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is dos detalhes de pagamento e atualização de ststus, o processo de consolidação das informações tem seu start-u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 quando muitos passos de consolidação que seguem múltiplos passos devem ser executados em uma específica orde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sse processo pode levar uma quantidade de tempo indeterminada para ser completada (uma validação de cartão de crédito, endereç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zTalk Server (aquil volta a discussão sobre o ED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657600"/>
            <a:ext cx="2438640" cy="3049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BC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6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siness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ependente da aplicação consistir de um passo único ou múltiplos passos, as nossas aplicações terão camadas de componentes que implementarão regras do negócio e executarão tarefas gerencia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de otimização de rotinas até geração de relatórios via consumo de serviços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3657600"/>
            <a:ext cx="2438640" cy="3049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SA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7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ice ag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do um componente de negócio necessitar usar funcionalidade oferecida por um serviç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uma companhia pode oferecer validação de CPF ou verificação de endereços onlin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vez seja interessante utilizar esses recursos e implementar uma semântica apropriada para uso desse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657600"/>
            <a:ext cx="243864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419720"/>
            <a:ext cx="114300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SI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8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rvice interfa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or regras do negócio como serviços, criando interfaces que suportem comunicação nos departamentos da Credi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 Setor de back-office pode requerer um relatório X para uma tomada de decisão imediata, sendo gerado através do seu brow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sas interfaces de serviços são chamdas também d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business facad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962520"/>
            <a:ext cx="2438640" cy="457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4419720"/>
            <a:ext cx="2438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delo Proposto - DAL</a:t>
            </a: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(9 of 14)</a:t>
            </a:r>
            <a:endParaRPr b="0" lang="en-US" sz="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ata access logic compon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plicações e serviços irão precisar de acessar dados armazenados em algum momento durante o processamen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 nossa aplicação, o gerente poderá querer saber como vai a performance de determinado cobrador, quantas ligações ele fez, como está seu andamento na lista et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z sentido abstrair a lógica necessária para essa tarefa em uma camada separada, a D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ralização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ess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dados, de funcionalidade e facilita a manutenção e configuraçã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55640" y="2298600"/>
            <a:ext cx="2868840" cy="3551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8280" y="3124080"/>
            <a:ext cx="2438640" cy="5335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3657600"/>
            <a:ext cx="2438640" cy="76212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419720"/>
            <a:ext cx="1295640" cy="5331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4952880"/>
            <a:ext cx="2438640" cy="9144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124080"/>
            <a:ext cx="761760" cy="274320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2133720"/>
            <a:ext cx="3200400" cy="990360"/>
          </a:xfrm>
          <a:prstGeom prst="rect">
            <a:avLst/>
          </a:prstGeom>
          <a:solidFill>
            <a:srgbClr val="c0c0c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novatecno.com -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12:43:20Z</dcterms:created>
  <dc:creator>www.novatecno.com</dc:creator>
  <dc:description/>
  <dc:language>en-US</dc:language>
  <cp:lastModifiedBy>Edge</cp:lastModifiedBy>
  <dcterms:modified xsi:type="dcterms:W3CDTF">2003-10-23T04:19:42Z</dcterms:modified>
  <cp:revision>58</cp:revision>
  <dc:subject/>
  <dc:title>Modelo proposto</dc:title>
</cp:coreProperties>
</file>