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3D3-58E0-482C-B521-08FF1703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E53-A4DF-47CC-B57F-FA90737A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C86-94A3-4CD0-B7E1-D01AB66A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27A-D199-4A60-817B-4487A326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315F-027F-468F-ACE2-94D892CB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9503-6696-4620-A68E-BE95B464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5351-5446-4AA8-A505-6FCCD63D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A0CE-ACB1-4E98-845D-193E3F6E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3AFA-D99A-44C6-AF1A-9B84B97C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B667-7A38-40AF-AF7B-7EB24847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095D-1F5B-4495-959E-D9D0E42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E21-F161-44CB-B570-A18C8468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5F19-2A62-49B3-9576-22291B72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6C4C-4C8D-4B15-B4EA-A6C8DE87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E625-84F5-4E9E-A269-3EEBA1F7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B40D-50D1-48C2-BA9C-70F0BF85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22D5-5EB2-4C89-94DF-F7F02896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D28-4BB3-4A1E-A0D5-44A06A1E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121-4657-40F0-9356-FD85F10C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51A-6A65-45EC-A0CF-EC3D2678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1E8-8834-41A3-8FC8-B52320FB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53D-01DA-40DF-94C6-B87F3F7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C05-E043-4720-B6E8-7D1CD891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291-758F-4734-90D8-95D63C8E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137C-DE22-4EDC-B8DC-5583DC4604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14400" y="6248520"/>
            <a:ext cx="80773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E338-B52A-4905-8181-DC33B5C3E8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ovatecno.com/" TargetMode="External"/><Relationship Id="rId2" Type="http://schemas.openxmlformats.org/officeDocument/2006/relationships/hyperlink" Target="mailto:edge@novatecno.com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ovatecno.com/" TargetMode="External"/><Relationship Id="rId2" Type="http://schemas.openxmlformats.org/officeDocument/2006/relationships/hyperlink" Target="http://www.superedge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www.novatecno.com</a:t>
            </a:r>
            <a:br>
              <a:rPr sz="3500"/>
            </a:br>
            <a:r>
              <a:rPr b="0" lang="en-US" sz="1900" spc="-1" strike="noStrike">
                <a:solidFill>
                  <a:srgbClr val="333399"/>
                </a:solidFill>
                <a:latin typeface="Verdana"/>
              </a:rPr>
              <a:t>Bussiness Inteligence</a:t>
            </a:r>
            <a:endParaRPr b="0" lang="en-US" sz="1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4724280"/>
            <a:ext cx="777240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D – Object-Oriented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dvar Pereira 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edge@novatecno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n-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and What isn’t a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and Classes are like saying “I like to read Paulo Coelho”, but they are clearly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, Protected, Priv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new .NET sc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6248520"/>
            <a:ext cx="403884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itance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aclass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6248520"/>
            <a:ext cx="37339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Qu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should be built using a minimal set of interchangeable components; they must be as general as possible” – Ing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6248520"/>
            <a:ext cx="32767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ntifying Classes and Ob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a conference, Stroustrup sai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’s a holy graal”; Other said “That is a fundamental question that there is no easy answer; I try thing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going to represent the 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to, Aristoteles, “is a animal, vegetal, mineral? Does it fly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ptual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Talles if it is heavy metal, Death metal or  progressive rock – More like tas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type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ying by resemblance – discussion with Kai and Ram about what is a competition or lea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6248520"/>
            <a:ext cx="2819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e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243864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ball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cou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beau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act in the 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 per hour? Program? Change? Increment? Number of lines? Days tak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-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CoMo (Michael Jackson’s impac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6248520"/>
            <a:ext cx="205740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O Design and Life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is – Design – Coding – Testing – Integration – Golden Gate Bri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mental/Spi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because OO is cool, we are not going to leave good techniques a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6248520"/>
            <a:ext cx="182880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t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OD is not new, but is still getting m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its the power of the OO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urage the reuse of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a system more resilient to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development risk ($$$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l for our human recognition; Good tools+medium developers=medium systems;Good Developers+Poor Tools=Goo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6248520"/>
            <a:ext cx="129564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n you handle the contr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 ris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good brain needs good fo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ier to describe and project; but add memory and CPU for objetcs in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rbage Collector is expensive;a method invocation costs about 2 or 2.5 times more than a normal subprocedure c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at’s why in .NET all the parameters are passed by value by defa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-up co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engineering killed 75% of the compan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uld you keep 2 programmers researching design meanwhile the superbowl is 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rn OO is not like learning to programming; is more complex and more expensive; and even more without no installed base of knowl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6248520"/>
            <a:ext cx="83844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O Tran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na make a cake? Break some eg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 to 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the OO project with small projects and try to integrate them with legacy ones by releases (Erik van Mar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se managers to real examples of the system (sell the ide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610480" y="6248520"/>
            <a:ext cx="38124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Object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y is beautiful; I understand it, but don’t know how it work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6248520"/>
            <a:ext cx="76201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itional L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29718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more info ac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novatecn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uperedg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nging Order to Cha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echnique of mastering complexity has been known since ancient times: divide et impera” – Dijkst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ic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Oriented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6248520"/>
            <a:ext cx="7391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nging Order to Cha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created the world first? Civil Engineer, Physician or develop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omplexity is inh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le;discrete;scalable;exten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Bring order to cha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;Plants;blood cir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ations of the human capacity for dealing with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6248520"/>
            <a:ext cx="71629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eaning of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ly there isn’t magic; silver bul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wonder it 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engineering discipline teach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feel comfortable walking in a house with falling floo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mplex by nature; and often exceeds human capa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6248520"/>
            <a:ext cx="205740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olution of Object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OO came from so many sources, there is terminology for each language (Smalltalk-&gt;methods;C++-&gt;virtual member fun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OP, OOD, O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of implementation with collection of objects using inheritance;represent system graphically with a notation enough dynamic based in objects interactions;examines requirements of the domain and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6248520"/>
            <a:ext cx="60199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the Object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 always write the same book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strac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ow humans deal with complexity;Similarit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ly touch;no love;information hi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ularit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exander’s Vie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ierarch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anking of order;single-Multiple hierarc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yping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llection of entities which all the objects share;ASP/HTML weak typed;Delphi Strong typ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currenc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maphores;clustering;Tanemba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sisten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ves the state and class in time 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6248520"/>
            <a:ext cx="525780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and What isn’t an Ob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love; be quiet, let the time work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hild and the bright b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age of 1 – concept of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has state, behavior and identity – the terms instance and object are eq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6248520"/>
            <a:ext cx="525780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make the system work by collaborating to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or, Server and Agent (mess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6248520"/>
            <a:ext cx="46483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5:35:05Z</dcterms:created>
  <dc:creator>Edvar Pereira</dc:creator>
  <dc:description/>
  <dc:language>en-US</dc:language>
  <cp:lastModifiedBy>Edge</cp:lastModifiedBy>
  <dcterms:modified xsi:type="dcterms:W3CDTF">2003-10-22T05:00:34Z</dcterms:modified>
  <cp:revision>7</cp:revision>
  <dc:subject/>
  <dc:title>OOD - Object-Oriented Model</dc:title>
</cp:coreProperties>
</file>