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20374-9DEF-4C7F-AD8F-296D4978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88939-59B9-4ECE-9A3D-47D6404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B1875-5BA7-4F10-81AB-B6154304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F8948-4E0E-4AD3-A8E7-D7370C5A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28C14-2F91-40AD-BED5-F94308B7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257E5-F3C9-4E63-9101-3B4582FD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A9D7A-9945-4829-B46D-0A011A14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2CAD9-FEC8-40C7-9FE8-6EB96FC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D5FBB-0A78-4AEB-996C-87C694F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65C59-C2CE-45BE-ABF6-B4BE14D8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FB158-92FD-4E54-9EE4-9A006A5C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690FC-5991-4D4A-94A9-8304E655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Georgia"/>
              </a:rPr>
              <a:t>METU/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96080" y="6643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362720" y="6583320"/>
            <a:ext cx="1755720" cy="276480"/>
            <a:chOff x="7362720" y="6583320"/>
            <a:chExt cx="1755720" cy="276480"/>
          </a:xfrm>
        </p:grpSpPr>
        <p:sp>
          <p:nvSpPr>
            <p:cNvPr id="12" name=""/>
            <p:cNvSpPr/>
            <p:nvPr/>
          </p:nvSpPr>
          <p:spPr>
            <a:xfrm>
              <a:off x="7362720" y="6583320"/>
              <a:ext cx="163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Berlin Sans FB"/>
                </a:rPr>
                <a:t>Dr. Soner YILDIR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logo" descr=""/>
            <p:cNvPicPr/>
            <p:nvPr/>
          </p:nvPicPr>
          <p:blipFill>
            <a:blip r:embed="rId2"/>
            <a:stretch/>
          </p:blipFill>
          <p:spPr>
            <a:xfrm>
              <a:off x="8889840" y="6616800"/>
              <a:ext cx="228600" cy="20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035C-EC18-4040-BB84-B41D016C9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gune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6781680" cy="53690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91080" y="2692440"/>
            <a:ext cx="8894880" cy="3352680"/>
            <a:chOff x="91080" y="2692440"/>
            <a:chExt cx="8894880" cy="3352680"/>
          </a:xfrm>
        </p:grpSpPr>
        <p:grpSp>
          <p:nvGrpSpPr>
            <p:cNvPr id="94" name=""/>
            <p:cNvGrpSpPr/>
            <p:nvPr/>
          </p:nvGrpSpPr>
          <p:grpSpPr>
            <a:xfrm>
              <a:off x="91080" y="2692440"/>
              <a:ext cx="8824320" cy="3352680"/>
              <a:chOff x="91080" y="2692440"/>
              <a:chExt cx="8824320" cy="3352680"/>
            </a:xfrm>
          </p:grpSpPr>
          <p:sp>
            <p:nvSpPr>
              <p:cNvPr id="95" name=""/>
              <p:cNvSpPr/>
              <p:nvPr/>
            </p:nvSpPr>
            <p:spPr>
              <a:xfrm>
                <a:off x="304920" y="5254560"/>
                <a:ext cx="8610480" cy="79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52880" y="2692440"/>
                <a:ext cx="3668760" cy="703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81185" dir="1312197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4000" spc="-1" strike="noStrike">
                    <a:solidFill>
                      <a:srgbClr val="ca7800"/>
                    </a:solidFill>
                    <a:latin typeface="Arial Narrow"/>
                  </a:rPr>
                  <a:t>UYGULAMALARI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1080" y="4444920"/>
                <a:ext cx="2192400" cy="703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80486" dir="1191096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 Narrow"/>
                  </a:rPr>
                  <a:t>EĞ</a:t>
                </a:r>
                <a:r>
                  <a:rPr b="1" lang="tr-TR" sz="4000" spc="-1" strike="noStrike">
                    <a:solidFill>
                      <a:srgbClr val="3333cc"/>
                    </a:solidFill>
                    <a:latin typeface="Arial Narrow"/>
                  </a:rPr>
                  <a:t>İTİMD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38280" y="4394160"/>
                <a:ext cx="6477120" cy="855720"/>
              </a:xfrm>
              <a:prstGeom prst="rect">
                <a:avLst/>
              </a:prstGeom>
              <a:solidFill>
                <a:srgbClr val="ffcf01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23720" y="3606840"/>
                <a:ext cx="2747160" cy="703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91658" dir="1281766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4000" spc="-1" strike="noStrike">
                    <a:solidFill>
                      <a:srgbClr val="a20211"/>
                    </a:solidFill>
                    <a:latin typeface="Arial Narrow"/>
                  </a:rPr>
                  <a:t>BİLGİSAYAR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05520" y="3532320"/>
                <a:ext cx="3809880" cy="8571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250000" y="5217120"/>
                <a:ext cx="2151720" cy="633240"/>
              </a:xfrm>
              <a:prstGeom prst="line">
                <a:avLst/>
              </a:prstGeom>
              <a:ln w="57240">
                <a:solidFill>
                  <a:srgbClr val="ffcf01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424040" y="4356720"/>
                <a:ext cx="2318400" cy="815040"/>
              </a:xfrm>
              <a:prstGeom prst="line">
                <a:avLst/>
              </a:prstGeom>
              <a:ln w="57240">
                <a:solidFill>
                  <a:srgbClr val="6699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V="1">
              <a:off x="6815880" y="3030120"/>
              <a:ext cx="2170080" cy="132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Alıştırma ve Uygulama Programlarının Bilişsel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İşlevler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Bilginin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ısa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üreli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ellekten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U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zun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üreli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elleğe aktarı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Aktarılan bilginin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erektiği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 zamanda hatırlanıp kullanılmasına yardımcı ol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Öğrencinin tekrar ve örnekler yardımı ile hatırlamasına ve öğrenmesine yardım et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S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ınıf öğretimini desteklemes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Hazırlanması en kolay olan BDE örnekleri olması nedeniyle kolay erişilebilir olmas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bs0204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867280" y="2514600"/>
            <a:ext cx="2133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bd07205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0" y="2362320"/>
            <a:ext cx="3886200" cy="3222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90360" y="2742840"/>
            <a:ext cx="46846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nel olarak, temel matematik ve dil uygulamaları için kullanılmışlar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en bilimleri eğitiminde; bilimsel şekiller, kavramlar, mikroskopun parçaları, sınıflandırma, eşitlik ayarları ve semboller gibi konularda öğrencilere yardımcı olması için kullanıl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6094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Alıştırma ve Uygulama Programlarının Bilişsel Fonksiyon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bs0122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038480" y="2286000"/>
            <a:ext cx="403884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294920" y="2743200"/>
            <a:ext cx="51418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den hızlı yanıt beklendiğinde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temel yeti ve bilgi düzeyinde kullanışlı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nellikle detaylı bir dizi oturumda kullanmak en uygunu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Şu andaki g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nel eğilim bireysel kullanım yönünde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ler için uygun bir düzeye yönelik hazırlanmalı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094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Alıştırma ve Uygulama Programlarının Bilişsel Fonksiyon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40752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lgisayarın öğretmenin rolünü üstlendiği bilgisayara dayalı öğretim modeli -- içerik sunma, uygulama sağlama ve öğrenmeyi değerlendir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re-bir eğitim programları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 içeriği neredeyse gerçek bir öğretmen gibi öğrenciye sunmak için kullanılır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e03717_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67848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914400" y="3200400"/>
            <a:ext cx="7772400" cy="1480320"/>
            <a:chOff x="914400" y="3200400"/>
            <a:chExt cx="7772400" cy="1480320"/>
          </a:xfrm>
        </p:grpSpPr>
        <p:sp>
          <p:nvSpPr>
            <p:cNvPr id="185" name=""/>
            <p:cNvSpPr/>
            <p:nvPr/>
          </p:nvSpPr>
          <p:spPr>
            <a:xfrm>
              <a:off x="914400" y="3200400"/>
              <a:ext cx="106668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Bilg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un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3200400"/>
              <a:ext cx="106668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or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or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35053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57600" y="35053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4120" y="350532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43600" y="3200400"/>
              <a:ext cx="106668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Dönü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ağ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6600" y="35053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200400"/>
              <a:ext cx="106668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onrak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Sı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6760" y="3962520"/>
              <a:ext cx="216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449568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90760" y="434340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İpuçları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19320" y="4495680"/>
              <a:ext cx="1904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8960" y="3962520"/>
              <a:ext cx="216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7080" y="3200400"/>
              <a:ext cx="1067040" cy="685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Yanıt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Tahoma"/>
                </a:rPr>
                <a:t>Yargı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nın</a:t>
            </a: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İşlev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nın</a:t>
            </a: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Detaylı İşlev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2362320"/>
            <a:ext cx="7391520" cy="3429000"/>
            <a:chOff x="914400" y="2362320"/>
            <a:chExt cx="7391520" cy="3429000"/>
          </a:xfrm>
        </p:grpSpPr>
        <p:sp>
          <p:nvSpPr>
            <p:cNvPr id="202" name=""/>
            <p:cNvSpPr/>
            <p:nvPr/>
          </p:nvSpPr>
          <p:spPr>
            <a:xfrm>
              <a:off x="914400" y="2362320"/>
              <a:ext cx="106704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Dikk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çekme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motivasy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ağ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38640" y="2362320"/>
              <a:ext cx="106668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Hedefle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un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81440" y="2895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2895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38840" y="2438640"/>
              <a:ext cx="1066680" cy="990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Önbilgiy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hatır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05520" y="2895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39040" y="2438640"/>
              <a:ext cx="1066680" cy="990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Ye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materya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un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2895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9240" y="2438640"/>
              <a:ext cx="1066680" cy="990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Öğrenmey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yönlendir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6440" y="34290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476760" y="403884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32840" y="3865680"/>
              <a:ext cx="153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Yanlış Yanı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581280" y="403884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640" y="403884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4800600"/>
              <a:ext cx="121932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Performans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600" spc="-1" strike="noStrike">
                  <a:solidFill>
                    <a:srgbClr val="000000"/>
                  </a:solidFill>
                  <a:latin typeface="Tahoma"/>
                </a:rPr>
                <a:t>Ortay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600" spc="-1" strike="noStrike">
                  <a:solidFill>
                    <a:srgbClr val="000000"/>
                  </a:solidFill>
                  <a:latin typeface="Tahoma"/>
                </a:rPr>
                <a:t>Çıkar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3400" y="5334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6920" y="4800600"/>
              <a:ext cx="121932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Dönü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ağl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2200" y="5334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5720" y="4800600"/>
              <a:ext cx="1219320" cy="990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onrak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Tahoma"/>
                </a:rPr>
                <a:t>sı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e03717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0" y="1828800"/>
            <a:ext cx="4419720" cy="4167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yazılımlar,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çeriği öğrenciye sundukları için bilimin herhangi bir alanında aşağıdaki nedenler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en dolay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kullanılabili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 gerekli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n-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lgiye ihtiyaç duyduğunda hatırlatma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 amacıy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nin daha fazla öğrenmek istediği durumlarda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ortam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zenginleştirme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 amacıy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çeriğin tüm öğrencilere tanıtılması (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arada,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tmenin diğer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timsel etkinliklerle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lgilenmesinde kolaylık)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amacıy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6094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nın</a:t>
            </a: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işsel İşl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e03717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09680" y="1828800"/>
            <a:ext cx="4419720" cy="4167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219320" y="2438280"/>
            <a:ext cx="586728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Sözel ve kavramsal öğrenme için iyi bir terci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nin zamanının büyük bir kısmını harcamasını gerektirebili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reysel ve 2-3 kişilik gruplar tarafından etkin bir biçimde kullanılabili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Öğrencinin aldığı bilgiyi uygulamasına yönelik fırsatlarla desteklenmeli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6094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re-Bir Eğitim Programlarının</a:t>
            </a:r>
            <a:r>
              <a:rPr b="1" lang="en-AU" sz="3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işsel İşl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enzeşim Programları (Simülasy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4074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rçek bir durumun, olayın veya sürecin basite indirgenmiş olarak sunulmasını sağlayan bilgisayara dayalı öğretim model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rçek ortamda oluşabilecek zaman,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maliyet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ve diğer riskler gibi olumsuzlukları ortadan kaldırarak öğrenciye bilgisini gerçek bir ortamda uygulama olanağı sağ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bd06496_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682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bd06496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743200" y="1828800"/>
            <a:ext cx="4351320" cy="4572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enzeşim Programları (Simülasy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lgisayara dayalı eğitimi bilim alanında kullanmanın en iyi yollarından biri; simülasyon bilgisayarın iyi yapabildiğini uygun bir biçimde kullanmak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en bilimleri eğitimi örnekleri şöyledir: genetik bilimi, kimyasal reaksiyonlar, hareket eden nesnelerin fiziği v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gisayar Destekli Eğitim (B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D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e88a00"/>
                </a:solidFill>
                <a:latin typeface="Arial"/>
              </a:rPr>
              <a:t>Günd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ğ</a:t>
            </a: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itimde bilgisayar uygulamalar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Bilgisayar Destekli Eğitim (B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BDE’in Türle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Avantajları ve Sınırlılıklar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Berlin Sans FB"/>
              </a:rPr>
              <a:t>Araştırma Sonuçlar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bd05010_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33526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496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743200" y="1828800"/>
            <a:ext cx="4351320" cy="4572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enzeşim Programları (Simülasyo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n uygun kullanım alanları bilginin, problem çözmenin ve düşünme yetilerinin uygulanması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Simülasyona göre ayrılan zaman dilimi kısa veya uzatılmış ol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ireysel olarak kullanılabileceği gibi, küçük öğrenci grupları içinde uygundu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tkin kullanım için yönlendirme ve takip gerekt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Öğretici Oyunla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50292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nellikle oyun elemanlarını kapsayan şekilde uyarlanmış (örnek: alıştırma ve uygulama veya simülasyon) diğer bir bilgisayara dayalı öğretim model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enel Özellikler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varılacak bir hedef ve oyunun kurallar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duyusal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lgılam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üdüleyici unsur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(e.g., yarışma, ortak çalışma,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ğlenc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e03058_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870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e03058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86200" y="2514600"/>
            <a:ext cx="3827520" cy="3962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Öğretici Oyunla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tür uygulama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genelde ilköğretim düzeyindeki öğrenciler için hazırlanm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tadı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 Eğitim oyunlarının genel özellikler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ylenerek Öğrenme</a:t>
            </a:r>
            <a:r>
              <a:rPr b="0" lang="en-AU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Problem Çöz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ritik Düşün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avram Öğreti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trateji Geliştir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66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Olgunlaş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d00028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14600" y="2133720"/>
            <a:ext cx="3581280" cy="35082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Problem Çöz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361200" cy="40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tür BDE uygulamaları, öğrencilerin d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ş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ünme ve problem çözm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yeteneklerini geliştirmeye yönelik ve herhangi bir BDE uygulaması altında olamyan program türleri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tür yazılımlar geneld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elirli bir alana yönelik problem durumları üzerind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rcok örnek problem ve çözümünü içeren uygulamalar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Problem çözme türü uygulamaların en sık kullanıldığı alan f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n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bilimleri eğitimidir. 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neğin,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iolojide organlar ve genetik, kimyada reaksiyon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en yaygın örnekler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s0118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76720" y="1981080"/>
            <a:ext cx="5029200" cy="4146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tkileşimli öğrenme sağla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nında dönüt verebilm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abırlı o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nciyi güdülem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timde bir süreklilik sağla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ncinin öğrenme düz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y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ine uygun öğrenme ortamı sunabilme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Her öğrencinin ihtiyacına uygun içeriğin sunu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Yeni içeriğin öğretimde birden fazla sunum formatının kullanı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Öğrencinin performans kayıtlarının tutulmas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ilgisayara Dayalı Öğretimin Avantaj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bd0703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0" y="2362320"/>
            <a:ext cx="4038480" cy="3584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ilgisayara Dayalı Öğretimin Dezavantaj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raç-gereç ve yazılımlar pahalı ol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 nin geliştirilmesi ve yaygınlaştırılması zaman ve para gerekt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 her öğrenici için uygun değil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Piyadaki eğitim yazılımlarının birç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ğ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u öğretimsel ve teknik kalite açısından yetersiz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ürekli kullanıldığı taktirde, öğrencilerin psiko-sosyal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lişimlerini olumsuz etkiliye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ilgisayara Dayalı Eğitim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n Etkinliği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 Hakkında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Araştırmalar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 Ne Diyo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2057400"/>
            <a:ext cx="5257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Mic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an Üniversitesinden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James Kulik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ve arkadaşları, BDE v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eleneksel öğretim ortamlarının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tkinliği üzerinde met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-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nalizler yapmış ve BDE 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n genelde daha etkin olduğunu bulmuşlardır.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eleneksel öğretim ortamlarıyla karşılaştırıldığında, BD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’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nin öğrenci başarısına et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k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isi %30 or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ı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nda daha faz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d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etki daha alt kademelerdeki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ınıflarda daha y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k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e01451_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365760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e0145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09680" y="2057400"/>
            <a:ext cx="4724640" cy="3946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Bilgisayara Dayalı Eğitim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n Etkinliği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 Hakkında 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Araştırmalar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 Ne Diyo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Genelde, BDE geleneksel öğretime oranla %30 daha az zamanda başarılabilmekte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 aynı zamanda öğrencilerin bilgisayara ve konuya karşı olan tutumlarını poz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tif yönde etkilemekte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 de öğrencinin başarısını etkileyen unsur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lgisayarın kendisi değil, eğitim yazılımının teknik ve öğretimsel kalitesid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B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E u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ulamalarınd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öğretmenin becerisi ve yönlendirmeleride öğrenc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başarısına di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r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k etki eden diger unsurlar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Eğitimde Bil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g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sayar Uygulama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981080" y="1981080"/>
            <a:ext cx="5346720" cy="4407120"/>
            <a:chOff x="1981080" y="1981080"/>
            <a:chExt cx="5346720" cy="4407120"/>
          </a:xfrm>
        </p:grpSpPr>
        <p:sp>
          <p:nvSpPr>
            <p:cNvPr id="109" name=""/>
            <p:cNvSpPr/>
            <p:nvPr/>
          </p:nvSpPr>
          <p:spPr>
            <a:xfrm>
              <a:off x="1981080" y="4025880"/>
              <a:ext cx="2667240" cy="2362320"/>
            </a:xfrm>
            <a:prstGeom prst="ellipse">
              <a:avLst/>
            </a:prstGeom>
            <a:solidFill>
              <a:srgbClr val="ffde9d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01920" y="1981080"/>
              <a:ext cx="2667240" cy="2362320"/>
            </a:xfrm>
            <a:prstGeom prst="ellipse">
              <a:avLst/>
            </a:prstGeom>
            <a:solidFill>
              <a:srgbClr val="17ffc2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ÖĞRETİM ARACI OLARA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BİLGİSAYAR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(B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60920" y="4025880"/>
              <a:ext cx="2666880" cy="236232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ÖĞRETİMİ DESTEKYECİ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UYGULAMA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07360" y="5029200"/>
              <a:ext cx="260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YÖNETİM UYGULAMALA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Eğitimde Bil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g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isayar Uygulama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2362320"/>
            <a:ext cx="8763120" cy="3809880"/>
            <a:chOff x="228600" y="2362320"/>
            <a:chExt cx="8763120" cy="3809880"/>
          </a:xfrm>
        </p:grpSpPr>
        <p:sp>
          <p:nvSpPr>
            <p:cNvPr id="115" name=""/>
            <p:cNvSpPr/>
            <p:nvPr/>
          </p:nvSpPr>
          <p:spPr>
            <a:xfrm>
              <a:off x="228600" y="2362320"/>
              <a:ext cx="2743200" cy="457200"/>
            </a:xfrm>
            <a:prstGeom prst="rect">
              <a:avLst/>
            </a:prstGeom>
            <a:solidFill>
              <a:srgbClr val="17ffc2"/>
            </a:solidFill>
            <a:ln w="0">
              <a:noFill/>
            </a:ln>
            <a:effectLst>
              <a:outerShdw dist="17819" dir="2700000" blurRad="0" rotWithShape="0">
                <a:srgbClr val="0d98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Bilgisayar Destekli Eğit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8520" y="2362320"/>
              <a:ext cx="2743200" cy="4572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Öğretimi Destekleyici Ara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51160" y="2362320"/>
              <a:ext cx="2743200" cy="457200"/>
            </a:xfrm>
            <a:prstGeom prst="rect">
              <a:avLst/>
            </a:prstGeom>
            <a:solidFill>
              <a:srgbClr val="ffde9d"/>
            </a:solidFill>
            <a:ln w="0">
              <a:noFill/>
            </a:ln>
            <a:effectLst>
              <a:outerShdw dist="17819" dir="2700000" blurRad="0" rotWithShape="0">
                <a:srgbClr val="9884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Yönetim Uygulamalar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2819520"/>
              <a:ext cx="76320" cy="3200400"/>
            </a:xfrm>
            <a:prstGeom prst="rect">
              <a:avLst/>
            </a:prstGeom>
            <a:solidFill>
              <a:srgbClr val="1bffc3"/>
            </a:solidFill>
            <a:ln w="0">
              <a:noFill/>
            </a:ln>
            <a:effectLst>
              <a:outerShdw dist="17819" dir="2700000" blurRad="0" rotWithShape="0">
                <a:srgbClr val="10987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51160" y="2819520"/>
              <a:ext cx="76320" cy="3200400"/>
            </a:xfrm>
            <a:prstGeom prst="rect">
              <a:avLst/>
            </a:prstGeom>
            <a:solidFill>
              <a:srgbClr val="ffde9d"/>
            </a:solidFill>
            <a:ln w="0">
              <a:noFill/>
            </a:ln>
            <a:effectLst>
              <a:outerShdw dist="17819" dir="2700000" blurRad="0" rotWithShape="0">
                <a:srgbClr val="9884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2819520"/>
              <a:ext cx="75960" cy="32004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322596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34672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920" y="599436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7520" y="464832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520" y="3962520"/>
              <a:ext cx="457200" cy="0"/>
            </a:xfrm>
            <a:prstGeom prst="line">
              <a:avLst/>
            </a:prstGeom>
            <a:ln w="57240">
              <a:solidFill>
                <a:srgbClr val="17ff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3480" y="3048120"/>
              <a:ext cx="192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Alıştırma Uygula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8000" y="375912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Bire-Bir Öğret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4840" y="444168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Benzeş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514368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Öğretici Oyun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4280" y="5803920"/>
              <a:ext cx="15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Problem Çöz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40080" y="3251160"/>
              <a:ext cx="457200" cy="0"/>
            </a:xfrm>
            <a:prstGeom prst="line">
              <a:avLst/>
            </a:prstGeom>
            <a:ln w="57240">
              <a:solidFill>
                <a:srgbClr val="ffde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27480" y="4572000"/>
              <a:ext cx="457200" cy="0"/>
            </a:xfrm>
            <a:prstGeom prst="line">
              <a:avLst/>
            </a:prstGeom>
            <a:ln w="57240">
              <a:solidFill>
                <a:srgbClr val="ffde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7480" y="5994360"/>
              <a:ext cx="457200" cy="0"/>
            </a:xfrm>
            <a:prstGeom prst="line">
              <a:avLst/>
            </a:prstGeom>
            <a:ln w="57240">
              <a:solidFill>
                <a:srgbClr val="ffde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98080" y="30481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Ofis Otomasyo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5440" y="438156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Veri Taban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90880" y="577836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Tablolaştı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5994360"/>
              <a:ext cx="45720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4480" y="4572000"/>
              <a:ext cx="45720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4480" y="3225960"/>
              <a:ext cx="45720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63400" y="30607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Ofis Uygulamalar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86000" y="441972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Çizim Programlar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75920" y="5791320"/>
              <a:ext cx="21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000000"/>
                  </a:solidFill>
                  <a:latin typeface="Arial Narrow"/>
                </a:rPr>
                <a:t>Yazarlık Uygulamalar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gisay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a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r Destekli Eğitim (BD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38462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lgisayar Destek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Eğitim, öğretimin bilgisayar kull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ı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larak yapılması ve öğretim içeriğinin bilgisayar yoluyla aktarılmasıd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e02081_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3886200" cy="29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Bilgisay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a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r Destekli Eğitim (BD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3809880" cy="28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DE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,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 eğitimde bilgisayar kullanımı için kullanılan en eski kavramlardan biridir. Bu yüzden, farklı amaçlarla dahi olsa, eğitim ortamında bilgisayar kull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n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ımı genellikle BDE olar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k adlandırıl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7157_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3124080" cy="26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Yaygın BDE 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U</a:t>
            </a: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ygulama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419076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lıştırma Uygulama Program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ire-bir Uygulama Program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enzeşim (Simülasyon) Program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ğitim Oyun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Problem Çözme Program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Diğer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bd04978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00600" y="2209680"/>
            <a:ext cx="3486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Alıştırma Uygulama Programlar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Alıştırmalar, öğrencinin yeni öğrendiği bilgi ve becerileri kullanma olasılığını artırmak ve hali hazırdaki bilgileri ile yeni öğrendiği bilgileri ilişkilendirmesine yardım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ı olmak amacıyla kullanıl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Bu yaklaşıma göre, öğreni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l</a:t>
            </a:r>
            <a:r>
              <a:rPr b="0" lang="tr-TR" sz="2000" spc="-1" strike="noStrike">
                <a:solidFill>
                  <a:srgbClr val="000000"/>
                </a:solidFill>
                <a:latin typeface="Berlin Sans FB"/>
              </a:rPr>
              <a:t>ecek konu hali hazırda öğrencilere sunu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bd00146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181480" y="2209680"/>
            <a:ext cx="3200400" cy="31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a50021"/>
                </a:solidFill>
                <a:latin typeface="Arial Narrow"/>
              </a:rPr>
              <a:t>Alıştırma ve Uygulama Programlarının İşlev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2767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32767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Cev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3048120"/>
            <a:ext cx="990720" cy="990360"/>
          </a:xfrm>
          <a:prstGeom prst="diamond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Doğru</a:t>
            </a:r>
            <a:r>
              <a:rPr b="1" lang="en-AU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3581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358128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32767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Pekiştire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3581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327672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24040" y="3282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Ev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3920" y="4038480"/>
            <a:ext cx="180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038480"/>
            <a:ext cx="320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5720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11840" y="444672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Tekr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D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45720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8960" y="4038480"/>
            <a:ext cx="216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3T09:15:35Z</dcterms:created>
  <dc:creator>Soner YILDIRIM</dc:creator>
  <dc:description/>
  <dc:language>en-US</dc:language>
  <cp:lastModifiedBy>Kenan ÇETİN</cp:lastModifiedBy>
  <cp:lastPrinted>2009-04-22T19:24:48Z</cp:lastPrinted>
  <dcterms:modified xsi:type="dcterms:W3CDTF">2002-02-10T20:28:46Z</dcterms:modified>
  <cp:revision>103</cp:revision>
  <dc:subject/>
  <dc:title>CA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soe.purdue.edu/~lehman/edci663/intro663.htm</vt:lpwstr>
  </property>
  <property fmtid="{D5CDD505-2E9C-101B-9397-08002B2CF9AE}" pid="9" name="LinkColor">
    <vt:r8>16711782</vt:r8>
  </property>
  <property fmtid="{D5CDD505-2E9C-101B-9397-08002B2CF9AE}" pid="10" name="MailAddress">
    <vt:lpwstr>lehman@purdue.edu</vt:lpwstr>
  </property>
  <property fmtid="{D5CDD505-2E9C-101B-9397-08002B2CF9AE}" pid="11" name="NavBtnPos">
    <vt:r8>3</vt:r8>
  </property>
  <property fmtid="{D5CDD505-2E9C-101B-9397-08002B2CF9AE}" pid="12" name="Other">
    <vt:lpwstr>Interactive Video and Multimedia presentation by James Lehman for EDCI 663 at Purdue University, Fall 1998.</vt:lpwstr>
  </property>
  <property fmtid="{D5CDD505-2E9C-101B-9397-08002B2CF9AE}" pid="13" name="OutputDir">
    <vt:lpwstr>S:\EDCI 663\cbi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