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F75-4718-41CF-9D50-3D5F6EB7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A42C-E279-499F-B4B9-BD835F9D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E408-4609-4EE9-949B-688E2EA9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677-28A0-4C59-8F43-3F2DC6A2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AADA-22F0-45EF-83A2-1B1CF790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ED58-82A5-4FA9-94DD-E0FB456B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C6D8-666C-4B32-A66B-B907F14E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5493-A0A3-47A6-B605-97CBEEF8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558B-1A50-4027-9A94-23DDED23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0CD9-D205-44A9-ACE9-92634899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7011-5A05-4A25-B8A9-317C5CF4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8D75-2611-434C-8FA3-06171F09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2C26-6764-4736-A9A4-4C4CB381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0979-E560-4A3E-B6C1-B1E092B6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5671-DB56-4D29-A28E-3CC577E7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73A9-E878-4CB2-BE4C-F538A7F8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DB7E-CA1B-4F4F-8917-F8E84193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7C0-70F9-40FE-A307-82DDCC22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235-F918-4D05-BC74-5596D163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384-1F95-4B19-980E-5B94FA49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6EC6-8DA8-4337-B307-B8414C96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11AD-2234-4262-8CD8-7F135BB4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597-5DAC-4B76-A4F5-F14E857D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F4D-C199-44F4-AE9B-520FABF9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1800" y="3378240"/>
            <a:ext cx="5359320" cy="2425680"/>
          </a:xfrm>
          <a:custGeom>
            <a:avLst/>
            <a:gdLst/>
            <a:ahLst/>
            <a:rect l="l" t="t" r="r" b="b"/>
            <a:pathLst>
              <a:path w="3376" h="1528">
                <a:moveTo>
                  <a:pt x="0" y="1525"/>
                </a:moveTo>
                <a:lnTo>
                  <a:pt x="79" y="1498"/>
                </a:lnTo>
                <a:lnTo>
                  <a:pt x="753" y="1223"/>
                </a:lnTo>
                <a:lnTo>
                  <a:pt x="1048" y="1054"/>
                </a:lnTo>
                <a:lnTo>
                  <a:pt x="1122" y="1007"/>
                </a:lnTo>
                <a:lnTo>
                  <a:pt x="1164" y="974"/>
                </a:lnTo>
                <a:lnTo>
                  <a:pt x="1164" y="918"/>
                </a:lnTo>
                <a:lnTo>
                  <a:pt x="1637" y="734"/>
                </a:lnTo>
                <a:lnTo>
                  <a:pt x="1715" y="731"/>
                </a:lnTo>
                <a:lnTo>
                  <a:pt x="1787" y="725"/>
                </a:lnTo>
                <a:lnTo>
                  <a:pt x="1901" y="707"/>
                </a:lnTo>
                <a:lnTo>
                  <a:pt x="2015" y="678"/>
                </a:lnTo>
                <a:lnTo>
                  <a:pt x="2162" y="620"/>
                </a:lnTo>
                <a:lnTo>
                  <a:pt x="2069" y="578"/>
                </a:lnTo>
                <a:lnTo>
                  <a:pt x="2195" y="605"/>
                </a:lnTo>
                <a:lnTo>
                  <a:pt x="2276" y="578"/>
                </a:lnTo>
                <a:lnTo>
                  <a:pt x="2186" y="533"/>
                </a:lnTo>
                <a:lnTo>
                  <a:pt x="2309" y="560"/>
                </a:lnTo>
                <a:lnTo>
                  <a:pt x="2399" y="521"/>
                </a:lnTo>
                <a:lnTo>
                  <a:pt x="2315" y="470"/>
                </a:lnTo>
                <a:lnTo>
                  <a:pt x="2453" y="494"/>
                </a:lnTo>
                <a:lnTo>
                  <a:pt x="2619" y="430"/>
                </a:lnTo>
                <a:lnTo>
                  <a:pt x="2888" y="302"/>
                </a:lnTo>
                <a:lnTo>
                  <a:pt x="3099" y="182"/>
                </a:lnTo>
                <a:lnTo>
                  <a:pt x="3376" y="0"/>
                </a:lnTo>
                <a:lnTo>
                  <a:pt x="3016" y="144"/>
                </a:lnTo>
                <a:lnTo>
                  <a:pt x="2801" y="230"/>
                </a:lnTo>
                <a:lnTo>
                  <a:pt x="2619" y="302"/>
                </a:lnTo>
                <a:lnTo>
                  <a:pt x="2386" y="398"/>
                </a:lnTo>
                <a:lnTo>
                  <a:pt x="2146" y="478"/>
                </a:lnTo>
                <a:lnTo>
                  <a:pt x="1792" y="624"/>
                </a:lnTo>
                <a:lnTo>
                  <a:pt x="1601" y="710"/>
                </a:lnTo>
                <a:lnTo>
                  <a:pt x="1135" y="886"/>
                </a:lnTo>
                <a:lnTo>
                  <a:pt x="1098" y="871"/>
                </a:lnTo>
                <a:lnTo>
                  <a:pt x="993" y="871"/>
                </a:lnTo>
                <a:lnTo>
                  <a:pt x="450" y="1039"/>
                </a:lnTo>
                <a:lnTo>
                  <a:pt x="8" y="1214"/>
                </a:lnTo>
                <a:lnTo>
                  <a:pt x="27" y="1240"/>
                </a:lnTo>
                <a:lnTo>
                  <a:pt x="35" y="1237"/>
                </a:lnTo>
                <a:lnTo>
                  <a:pt x="10" y="1528"/>
                </a:lnTo>
                <a:lnTo>
                  <a:pt x="0" y="1525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97000" y="3022560"/>
            <a:ext cx="976320" cy="2828880"/>
            <a:chOff x="297000" y="3022560"/>
            <a:chExt cx="976320" cy="2828880"/>
          </a:xfrm>
        </p:grpSpPr>
        <p:grpSp>
          <p:nvGrpSpPr>
            <p:cNvPr id="2" name=""/>
            <p:cNvGrpSpPr/>
            <p:nvPr/>
          </p:nvGrpSpPr>
          <p:grpSpPr>
            <a:xfrm>
              <a:off x="297000" y="5091120"/>
              <a:ext cx="695160" cy="760320"/>
              <a:chOff x="297000" y="5091120"/>
              <a:chExt cx="695160" cy="760320"/>
            </a:xfrm>
          </p:grpSpPr>
          <p:sp>
            <p:nvSpPr>
              <p:cNvPr id="3" name=""/>
              <p:cNvSpPr/>
              <p:nvPr/>
            </p:nvSpPr>
            <p:spPr>
              <a:xfrm>
                <a:off x="297000" y="5626080"/>
                <a:ext cx="690480" cy="225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98440" y="5610240"/>
                <a:ext cx="693720" cy="223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0000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36680" y="5091120"/>
                <a:ext cx="423720" cy="13320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9560" y="5091120"/>
                <a:ext cx="414360" cy="11124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V="1">
                <a:off x="297000" y="5163480"/>
                <a:ext cx="695160" cy="183960"/>
              </a:xfrm>
              <a:custGeom>
                <a:avLst/>
                <a:gdLst>
                  <a:gd name="textAreaLeft" fmla="*/ 152640 w 695160"/>
                  <a:gd name="textAreaRight" fmla="*/ 542520 w 695160"/>
                  <a:gd name="textAreaTop" fmla="*/ 40320 h 183960"/>
                  <a:gd name="textAreaBottom" fmla="*/ 143640 h 18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97000" y="5370480"/>
                <a:ext cx="691920" cy="370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0000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97000" y="5284800"/>
                <a:ext cx="69192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43080" y="5210280"/>
                <a:ext cx="179280" cy="623880"/>
              </a:xfrm>
              <a:custGeom>
                <a:avLst/>
                <a:gdLst/>
                <a:ahLst/>
                <a:rect l="l" t="t" r="r" b="b"/>
                <a:pathLst>
                  <a:path w="113" h="393">
                    <a:moveTo>
                      <a:pt x="68" y="0"/>
                    </a:moveTo>
                    <a:lnTo>
                      <a:pt x="0" y="110"/>
                    </a:lnTo>
                    <a:lnTo>
                      <a:pt x="3" y="361"/>
                    </a:lnTo>
                    <a:lnTo>
                      <a:pt x="36" y="379"/>
                    </a:lnTo>
                    <a:lnTo>
                      <a:pt x="63" y="385"/>
                    </a:lnTo>
                    <a:lnTo>
                      <a:pt x="92" y="392"/>
                    </a:lnTo>
                    <a:lnTo>
                      <a:pt x="90" y="136"/>
                    </a:lnTo>
                    <a:lnTo>
                      <a:pt x="112" y="10"/>
                    </a:lnTo>
                    <a:lnTo>
                      <a:pt x="102" y="10"/>
                    </a:lnTo>
                    <a:lnTo>
                      <a:pt x="81" y="6"/>
                    </a:lnTo>
                    <a:lnTo>
                      <a:pt x="68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5113440"/>
                <a:ext cx="352440" cy="7128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04920" y="5289480"/>
                <a:ext cx="663480" cy="136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68280" y="5211720"/>
                <a:ext cx="106560" cy="585720"/>
              </a:xfrm>
              <a:custGeom>
                <a:avLst/>
                <a:gdLst/>
                <a:ahLst/>
                <a:rect l="l" t="t" r="r" b="b"/>
                <a:pathLst>
                  <a:path w="67" h="369">
                    <a:moveTo>
                      <a:pt x="0" y="133"/>
                    </a:moveTo>
                    <a:lnTo>
                      <a:pt x="0" y="357"/>
                    </a:lnTo>
                    <a:lnTo>
                      <a:pt x="20" y="368"/>
                    </a:lnTo>
                    <a:lnTo>
                      <a:pt x="20" y="141"/>
                    </a:lnTo>
                    <a:lnTo>
                      <a:pt x="20" y="125"/>
                    </a:lnTo>
                    <a:lnTo>
                      <a:pt x="29" y="111"/>
                    </a:lnTo>
                    <a:lnTo>
                      <a:pt x="66" y="4"/>
                    </a:lnTo>
                    <a:lnTo>
                      <a:pt x="59" y="0"/>
                    </a:lnTo>
                    <a:lnTo>
                      <a:pt x="8" y="113"/>
                    </a:lnTo>
                    <a:lnTo>
                      <a:pt x="0" y="133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26920" y="5199120"/>
                <a:ext cx="157320" cy="576360"/>
              </a:xfrm>
              <a:custGeom>
                <a:avLst/>
                <a:gdLst/>
                <a:ahLst/>
                <a:rect l="l" t="t" r="r" b="b"/>
                <a:pathLst>
                  <a:path w="99" h="363">
                    <a:moveTo>
                      <a:pt x="98" y="102"/>
                    </a:moveTo>
                    <a:lnTo>
                      <a:pt x="98" y="348"/>
                    </a:lnTo>
                    <a:lnTo>
                      <a:pt x="81" y="362"/>
                    </a:lnTo>
                    <a:lnTo>
                      <a:pt x="81" y="106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98" y="102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00200" y="5103720"/>
                <a:ext cx="117360" cy="36720"/>
              </a:xfrm>
              <a:custGeom>
                <a:avLst/>
                <a:gdLst/>
                <a:ahLst/>
                <a:rect l="l" t="t" r="r" b="b"/>
                <a:pathLst>
                  <a:path w="74" h="23">
                    <a:moveTo>
                      <a:pt x="0" y="0"/>
                    </a:moveTo>
                    <a:lnTo>
                      <a:pt x="34" y="4"/>
                    </a:lnTo>
                    <a:lnTo>
                      <a:pt x="56" y="10"/>
                    </a:lnTo>
                    <a:lnTo>
                      <a:pt x="73" y="16"/>
                    </a:lnTo>
                    <a:lnTo>
                      <a:pt x="67" y="22"/>
                    </a:lnTo>
                    <a:lnTo>
                      <a:pt x="51" y="14"/>
                    </a:lnTo>
                    <a:lnTo>
                      <a:pt x="27" y="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81200" y="5281560"/>
                <a:ext cx="117360" cy="36720"/>
              </a:xfrm>
              <a:custGeom>
                <a:avLst/>
                <a:gdLst/>
                <a:ahLst/>
                <a:rect l="l" t="t" r="r" b="b"/>
                <a:pathLst>
                  <a:path w="74" h="23">
                    <a:moveTo>
                      <a:pt x="0" y="0"/>
                    </a:moveTo>
                    <a:lnTo>
                      <a:pt x="34" y="4"/>
                    </a:lnTo>
                    <a:lnTo>
                      <a:pt x="56" y="10"/>
                    </a:lnTo>
                    <a:lnTo>
                      <a:pt x="73" y="16"/>
                    </a:lnTo>
                    <a:lnTo>
                      <a:pt x="67" y="22"/>
                    </a:lnTo>
                    <a:lnTo>
                      <a:pt x="51" y="14"/>
                    </a:lnTo>
                    <a:lnTo>
                      <a:pt x="27" y="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3960" y="5159520"/>
                <a:ext cx="115920" cy="36360"/>
              </a:xfrm>
              <a:custGeom>
                <a:avLst/>
                <a:gdLst/>
                <a:ahLst/>
                <a:rect l="l" t="t" r="r" b="b"/>
                <a:pathLst>
                  <a:path w="73" h="23">
                    <a:moveTo>
                      <a:pt x="72" y="22"/>
                    </a:moveTo>
                    <a:lnTo>
                      <a:pt x="37" y="18"/>
                    </a:lnTo>
                    <a:lnTo>
                      <a:pt x="16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21" y="8"/>
                    </a:lnTo>
                    <a:lnTo>
                      <a:pt x="45" y="14"/>
                    </a:lnTo>
                    <a:lnTo>
                      <a:pt x="68" y="14"/>
                    </a:lnTo>
                    <a:lnTo>
                      <a:pt x="72" y="22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36400" y="5213520"/>
                <a:ext cx="128880" cy="187200"/>
              </a:xfrm>
              <a:custGeom>
                <a:avLst/>
                <a:gdLst/>
                <a:ahLst/>
                <a:rect l="l" t="t" r="r" b="b"/>
                <a:pathLst>
                  <a:path w="81" h="118">
                    <a:moveTo>
                      <a:pt x="40" y="0"/>
                    </a:moveTo>
                    <a:lnTo>
                      <a:pt x="80" y="4"/>
                    </a:lnTo>
                    <a:lnTo>
                      <a:pt x="65" y="40"/>
                    </a:lnTo>
                    <a:lnTo>
                      <a:pt x="58" y="62"/>
                    </a:lnTo>
                    <a:lnTo>
                      <a:pt x="47" y="82"/>
                    </a:lnTo>
                    <a:lnTo>
                      <a:pt x="40" y="105"/>
                    </a:lnTo>
                    <a:lnTo>
                      <a:pt x="37" y="117"/>
                    </a:lnTo>
                    <a:lnTo>
                      <a:pt x="16" y="114"/>
                    </a:lnTo>
                    <a:lnTo>
                      <a:pt x="0" y="108"/>
                    </a:lnTo>
                    <a:lnTo>
                      <a:pt x="7" y="84"/>
                    </a:lnTo>
                    <a:lnTo>
                      <a:pt x="25" y="60"/>
                    </a:lnTo>
                    <a:lnTo>
                      <a:pt x="29" y="40"/>
                    </a:lnTo>
                    <a:lnTo>
                      <a:pt x="36" y="20"/>
                    </a:lnTo>
                    <a:lnTo>
                      <a:pt x="4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b3666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47840" y="5183280"/>
                <a:ext cx="414000" cy="55440"/>
              </a:xfrm>
              <a:custGeom>
                <a:avLst/>
                <a:gdLst/>
                <a:ahLst/>
                <a:rect l="l" t="t" r="r" b="b"/>
                <a:pathLst>
                  <a:path w="261" h="35">
                    <a:moveTo>
                      <a:pt x="0" y="0"/>
                    </a:moveTo>
                    <a:lnTo>
                      <a:pt x="25" y="10"/>
                    </a:lnTo>
                    <a:lnTo>
                      <a:pt x="66" y="18"/>
                    </a:lnTo>
                    <a:lnTo>
                      <a:pt x="122" y="19"/>
                    </a:lnTo>
                    <a:lnTo>
                      <a:pt x="177" y="19"/>
                    </a:lnTo>
                    <a:lnTo>
                      <a:pt x="218" y="12"/>
                    </a:lnTo>
                    <a:lnTo>
                      <a:pt x="240" y="6"/>
                    </a:lnTo>
                    <a:lnTo>
                      <a:pt x="248" y="0"/>
                    </a:lnTo>
                    <a:lnTo>
                      <a:pt x="260" y="15"/>
                    </a:lnTo>
                    <a:lnTo>
                      <a:pt x="221" y="28"/>
                    </a:lnTo>
                    <a:lnTo>
                      <a:pt x="164" y="34"/>
                    </a:lnTo>
                    <a:lnTo>
                      <a:pt x="98" y="33"/>
                    </a:lnTo>
                    <a:lnTo>
                      <a:pt x="39" y="24"/>
                    </a:lnTo>
                    <a:lnTo>
                      <a:pt x="5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601560" y="3022560"/>
              <a:ext cx="671760" cy="2168640"/>
            </a:xfrm>
            <a:custGeom>
              <a:avLst/>
              <a:gdLst/>
              <a:ahLst/>
              <a:rect l="l" t="t" r="r" b="b"/>
              <a:pathLst>
                <a:path w="423" h="1366">
                  <a:moveTo>
                    <a:pt x="356" y="64"/>
                  </a:moveTo>
                  <a:lnTo>
                    <a:pt x="326" y="163"/>
                  </a:lnTo>
                  <a:lnTo>
                    <a:pt x="292" y="293"/>
                  </a:lnTo>
                  <a:lnTo>
                    <a:pt x="258" y="417"/>
                  </a:lnTo>
                  <a:lnTo>
                    <a:pt x="219" y="585"/>
                  </a:lnTo>
                  <a:lnTo>
                    <a:pt x="168" y="775"/>
                  </a:lnTo>
                  <a:lnTo>
                    <a:pt x="126" y="952"/>
                  </a:lnTo>
                  <a:lnTo>
                    <a:pt x="89" y="1085"/>
                  </a:lnTo>
                  <a:lnTo>
                    <a:pt x="0" y="1362"/>
                  </a:lnTo>
                  <a:lnTo>
                    <a:pt x="29" y="1365"/>
                  </a:lnTo>
                  <a:lnTo>
                    <a:pt x="132" y="1061"/>
                  </a:lnTo>
                  <a:lnTo>
                    <a:pt x="223" y="957"/>
                  </a:lnTo>
                  <a:lnTo>
                    <a:pt x="271" y="866"/>
                  </a:lnTo>
                  <a:lnTo>
                    <a:pt x="308" y="798"/>
                  </a:lnTo>
                  <a:lnTo>
                    <a:pt x="214" y="790"/>
                  </a:lnTo>
                  <a:lnTo>
                    <a:pt x="311" y="782"/>
                  </a:lnTo>
                  <a:lnTo>
                    <a:pt x="325" y="751"/>
                  </a:lnTo>
                  <a:lnTo>
                    <a:pt x="231" y="742"/>
                  </a:lnTo>
                  <a:lnTo>
                    <a:pt x="329" y="738"/>
                  </a:lnTo>
                  <a:lnTo>
                    <a:pt x="344" y="690"/>
                  </a:lnTo>
                  <a:lnTo>
                    <a:pt x="240" y="690"/>
                  </a:lnTo>
                  <a:lnTo>
                    <a:pt x="351" y="664"/>
                  </a:lnTo>
                  <a:lnTo>
                    <a:pt x="387" y="486"/>
                  </a:lnTo>
                  <a:lnTo>
                    <a:pt x="411" y="322"/>
                  </a:lnTo>
                  <a:lnTo>
                    <a:pt x="422" y="197"/>
                  </a:lnTo>
                  <a:lnTo>
                    <a:pt x="422" y="119"/>
                  </a:lnTo>
                  <a:lnTo>
                    <a:pt x="408" y="68"/>
                  </a:lnTo>
                  <a:lnTo>
                    <a:pt x="381" y="0"/>
                  </a:lnTo>
                  <a:lnTo>
                    <a:pt x="356" y="64"/>
                  </a:lnTo>
                </a:path>
              </a:pathLst>
            </a:custGeom>
            <a:gradFill rotWithShape="0">
              <a:gsLst>
                <a:gs pos="0">
                  <a:srgbClr val="8d1919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21" name=""/>
          <p:cNvSpPr/>
          <p:nvPr/>
        </p:nvSpPr>
        <p:spPr>
          <a:xfrm>
            <a:off x="600120" y="3164040"/>
            <a:ext cx="560520" cy="2022480"/>
          </a:xfrm>
          <a:custGeom>
            <a:avLst/>
            <a:gdLst/>
            <a:ahLst/>
            <a:rect l="l" t="t" r="r" b="b"/>
            <a:pathLst>
              <a:path w="353" h="1274">
                <a:moveTo>
                  <a:pt x="0" y="1272"/>
                </a:moveTo>
                <a:lnTo>
                  <a:pt x="352" y="0"/>
                </a:lnTo>
                <a:lnTo>
                  <a:pt x="26" y="1273"/>
                </a:lnTo>
                <a:lnTo>
                  <a:pt x="0" y="12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Monotype Sor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Monotype Sor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Monotype Sor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Monotype Sor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Monotype Sor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cc66"/>
              </a:buClr>
              <a:buFont typeface="Monotype Sor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cc66"/>
              </a:buClr>
              <a:buFont typeface="Monotype Sor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169920" y="6273720"/>
            <a:ext cx="2496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2782800" y="6400800"/>
            <a:ext cx="357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6511680" y="6286680"/>
            <a:ext cx="2462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63560" y="3327480"/>
            <a:ext cx="7480440" cy="3087720"/>
          </a:xfrm>
          <a:custGeom>
            <a:avLst/>
            <a:gdLst/>
            <a:ahLst/>
            <a:rect l="l" t="t" r="r" b="b"/>
            <a:pathLst>
              <a:path w="4712" h="1945">
                <a:moveTo>
                  <a:pt x="104" y="1944"/>
                </a:moveTo>
                <a:lnTo>
                  <a:pt x="144" y="1912"/>
                </a:lnTo>
                <a:lnTo>
                  <a:pt x="1320" y="1568"/>
                </a:lnTo>
                <a:lnTo>
                  <a:pt x="2000" y="1264"/>
                </a:lnTo>
                <a:lnTo>
                  <a:pt x="2104" y="1208"/>
                </a:lnTo>
                <a:lnTo>
                  <a:pt x="2312" y="1056"/>
                </a:lnTo>
                <a:lnTo>
                  <a:pt x="2416" y="936"/>
                </a:lnTo>
                <a:lnTo>
                  <a:pt x="2464" y="824"/>
                </a:lnTo>
                <a:lnTo>
                  <a:pt x="3376" y="504"/>
                </a:lnTo>
                <a:lnTo>
                  <a:pt x="3648" y="496"/>
                </a:lnTo>
                <a:lnTo>
                  <a:pt x="4160" y="400"/>
                </a:lnTo>
                <a:lnTo>
                  <a:pt x="4416" y="304"/>
                </a:lnTo>
                <a:lnTo>
                  <a:pt x="4472" y="296"/>
                </a:lnTo>
                <a:lnTo>
                  <a:pt x="4711" y="224"/>
                </a:lnTo>
                <a:lnTo>
                  <a:pt x="4711" y="0"/>
                </a:lnTo>
                <a:lnTo>
                  <a:pt x="2440" y="768"/>
                </a:lnTo>
                <a:lnTo>
                  <a:pt x="2232" y="760"/>
                </a:lnTo>
                <a:lnTo>
                  <a:pt x="1784" y="808"/>
                </a:lnTo>
                <a:lnTo>
                  <a:pt x="1600" y="848"/>
                </a:lnTo>
                <a:lnTo>
                  <a:pt x="760" y="1056"/>
                </a:lnTo>
                <a:lnTo>
                  <a:pt x="0" y="1288"/>
                </a:lnTo>
                <a:lnTo>
                  <a:pt x="104" y="1384"/>
                </a:lnTo>
                <a:lnTo>
                  <a:pt x="104" y="1944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23840" y="165240"/>
            <a:ext cx="2471760" cy="6400800"/>
            <a:chOff x="123840" y="165240"/>
            <a:chExt cx="2471760" cy="6400800"/>
          </a:xfrm>
        </p:grpSpPr>
        <p:grpSp>
          <p:nvGrpSpPr>
            <p:cNvPr id="65" name=""/>
            <p:cNvGrpSpPr/>
            <p:nvPr/>
          </p:nvGrpSpPr>
          <p:grpSpPr>
            <a:xfrm>
              <a:off x="123840" y="4903920"/>
              <a:ext cx="1741320" cy="1662120"/>
              <a:chOff x="123840" y="4903920"/>
              <a:chExt cx="1741320" cy="1662120"/>
            </a:xfrm>
          </p:grpSpPr>
          <p:sp>
            <p:nvSpPr>
              <p:cNvPr id="66" name=""/>
              <p:cNvSpPr/>
              <p:nvPr/>
            </p:nvSpPr>
            <p:spPr>
              <a:xfrm>
                <a:off x="130320" y="5518080"/>
                <a:ext cx="1722240" cy="814320"/>
              </a:xfrm>
              <a:prstGeom prst="rect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8240" y="6073920"/>
                <a:ext cx="1720800" cy="49212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2920" y="5318280"/>
                <a:ext cx="1722240" cy="33156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123840" y="5064840"/>
                <a:ext cx="1728720" cy="405000"/>
              </a:xfrm>
              <a:custGeom>
                <a:avLst/>
                <a:gdLst>
                  <a:gd name="textAreaLeft" fmla="*/ 380160 w 1728720"/>
                  <a:gd name="textAreaRight" fmla="*/ 1348560 w 1728720"/>
                  <a:gd name="textAreaTop" fmla="*/ 88920 h 405000"/>
                  <a:gd name="textAreaBottom" fmla="*/ 31608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6760" y="5113440"/>
                <a:ext cx="446040" cy="1369800"/>
              </a:xfrm>
              <a:custGeom>
                <a:avLst/>
                <a:gdLst/>
                <a:ahLst/>
                <a:rect l="l" t="t" r="r" b="b"/>
                <a:pathLst>
                  <a:path w="281" h="863">
                    <a:moveTo>
                      <a:pt x="171" y="0"/>
                    </a:moveTo>
                    <a:lnTo>
                      <a:pt x="0" y="241"/>
                    </a:lnTo>
                    <a:lnTo>
                      <a:pt x="0" y="818"/>
                    </a:lnTo>
                    <a:lnTo>
                      <a:pt x="90" y="844"/>
                    </a:lnTo>
                    <a:lnTo>
                      <a:pt x="153" y="853"/>
                    </a:lnTo>
                    <a:lnTo>
                      <a:pt x="230" y="862"/>
                    </a:lnTo>
                    <a:lnTo>
                      <a:pt x="230" y="294"/>
                    </a:lnTo>
                    <a:lnTo>
                      <a:pt x="280" y="21"/>
                    </a:lnTo>
                    <a:lnTo>
                      <a:pt x="256" y="21"/>
                    </a:lnTo>
                    <a:lnTo>
                      <a:pt x="204" y="13"/>
                    </a:lnTo>
                    <a:lnTo>
                      <a:pt x="171" y="0"/>
                    </a:lnTo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800000"/>
                  </a:gs>
                  <a:gs pos="100000">
                    <a:srgbClr val="59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8120" y="5318280"/>
                <a:ext cx="1648080" cy="2998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3880" y="5176800"/>
                <a:ext cx="209520" cy="1271520"/>
              </a:xfrm>
              <a:custGeom>
                <a:avLst/>
                <a:gdLst/>
                <a:ahLst/>
                <a:rect l="l" t="t" r="r" b="b"/>
                <a:pathLst>
                  <a:path w="132" h="801">
                    <a:moveTo>
                      <a:pt x="0" y="254"/>
                    </a:moveTo>
                    <a:lnTo>
                      <a:pt x="0" y="795"/>
                    </a:lnTo>
                    <a:lnTo>
                      <a:pt x="40" y="800"/>
                    </a:lnTo>
                    <a:lnTo>
                      <a:pt x="40" y="263"/>
                    </a:lnTo>
                    <a:lnTo>
                      <a:pt x="131" y="8"/>
                    </a:lnTo>
                    <a:lnTo>
                      <a:pt x="114" y="0"/>
                    </a:lnTo>
                    <a:lnTo>
                      <a:pt x="0" y="254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50800" y="5141880"/>
                <a:ext cx="389160" cy="1265400"/>
              </a:xfrm>
              <a:custGeom>
                <a:avLst/>
                <a:gdLst/>
                <a:ahLst/>
                <a:rect l="l" t="t" r="r" b="b"/>
                <a:pathLst>
                  <a:path w="245" h="797">
                    <a:moveTo>
                      <a:pt x="244" y="224"/>
                    </a:moveTo>
                    <a:lnTo>
                      <a:pt x="244" y="765"/>
                    </a:lnTo>
                    <a:lnTo>
                      <a:pt x="203" y="796"/>
                    </a:lnTo>
                    <a:lnTo>
                      <a:pt x="203" y="233"/>
                    </a:lnTo>
                    <a:lnTo>
                      <a:pt x="0" y="8"/>
                    </a:lnTo>
                    <a:lnTo>
                      <a:pt x="18" y="0"/>
                    </a:lnTo>
                    <a:lnTo>
                      <a:pt x="244" y="224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466560" y="4903920"/>
                <a:ext cx="1055880" cy="293400"/>
                <a:chOff x="466560" y="4903920"/>
                <a:chExt cx="1055880" cy="2934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66560" y="4903920"/>
                  <a:ext cx="1055880" cy="29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8000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74840" y="4903920"/>
                  <a:ext cx="103176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8000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63400" y="4938840"/>
                  <a:ext cx="879480" cy="15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800000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cc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195120" y="5499000"/>
                <a:ext cx="511200" cy="120600"/>
              </a:xfrm>
              <a:custGeom>
                <a:avLst/>
                <a:gdLst/>
                <a:ahLst/>
                <a:rect l="l" t="t" r="r" b="b"/>
                <a:pathLst>
                  <a:path w="322" h="76">
                    <a:moveTo>
                      <a:pt x="0" y="0"/>
                    </a:moveTo>
                    <a:lnTo>
                      <a:pt x="49" y="30"/>
                    </a:lnTo>
                    <a:lnTo>
                      <a:pt x="85" y="44"/>
                    </a:lnTo>
                    <a:lnTo>
                      <a:pt x="153" y="61"/>
                    </a:lnTo>
                    <a:lnTo>
                      <a:pt x="212" y="70"/>
                    </a:lnTo>
                    <a:lnTo>
                      <a:pt x="275" y="75"/>
                    </a:lnTo>
                    <a:lnTo>
                      <a:pt x="321" y="70"/>
                    </a:lnTo>
                    <a:lnTo>
                      <a:pt x="248" y="61"/>
                    </a:lnTo>
                    <a:lnTo>
                      <a:pt x="171" y="44"/>
                    </a:lnTo>
                    <a:lnTo>
                      <a:pt x="94" y="22"/>
                    </a:lnTo>
                    <a:lnTo>
                      <a:pt x="31" y="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35080" y="4906800"/>
                <a:ext cx="287280" cy="7812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0" y="0"/>
                    </a:moveTo>
                    <a:lnTo>
                      <a:pt x="85" y="8"/>
                    </a:lnTo>
                    <a:lnTo>
                      <a:pt x="139" y="21"/>
                    </a:lnTo>
                    <a:lnTo>
                      <a:pt x="180" y="34"/>
                    </a:lnTo>
                    <a:lnTo>
                      <a:pt x="166" y="48"/>
                    </a:lnTo>
                    <a:lnTo>
                      <a:pt x="126" y="30"/>
                    </a:lnTo>
                    <a:lnTo>
                      <a:pt x="67" y="17"/>
                    </a:lnTo>
                    <a:lnTo>
                      <a:pt x="9" y="1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36680" y="5305320"/>
                <a:ext cx="287280" cy="7776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0" y="0"/>
                    </a:moveTo>
                    <a:lnTo>
                      <a:pt x="85" y="8"/>
                    </a:lnTo>
                    <a:lnTo>
                      <a:pt x="139" y="21"/>
                    </a:lnTo>
                    <a:lnTo>
                      <a:pt x="180" y="34"/>
                    </a:lnTo>
                    <a:lnTo>
                      <a:pt x="166" y="48"/>
                    </a:lnTo>
                    <a:lnTo>
                      <a:pt x="126" y="30"/>
                    </a:lnTo>
                    <a:lnTo>
                      <a:pt x="67" y="17"/>
                    </a:lnTo>
                    <a:lnTo>
                      <a:pt x="9" y="1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1200" y="5040360"/>
                <a:ext cx="287280" cy="7776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180" y="48"/>
                    </a:moveTo>
                    <a:lnTo>
                      <a:pt x="94" y="39"/>
                    </a:lnTo>
                    <a:lnTo>
                      <a:pt x="40" y="26"/>
                    </a:lnTo>
                    <a:lnTo>
                      <a:pt x="0" y="13"/>
                    </a:lnTo>
                    <a:lnTo>
                      <a:pt x="13" y="0"/>
                    </a:lnTo>
                    <a:lnTo>
                      <a:pt x="54" y="17"/>
                    </a:lnTo>
                    <a:lnTo>
                      <a:pt x="112" y="30"/>
                    </a:lnTo>
                    <a:lnTo>
                      <a:pt x="171" y="30"/>
                    </a:lnTo>
                    <a:lnTo>
                      <a:pt x="180" y="48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50000">
                    <a:srgbClr val="ffffff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19000" y="5197320"/>
                <a:ext cx="317520" cy="365400"/>
              </a:xfrm>
              <a:custGeom>
                <a:avLst/>
                <a:gdLst/>
                <a:ahLst/>
                <a:rect l="l" t="t" r="r" b="b"/>
                <a:pathLst>
                  <a:path w="200" h="230">
                    <a:moveTo>
                      <a:pt x="104" y="4"/>
                    </a:moveTo>
                    <a:lnTo>
                      <a:pt x="199" y="0"/>
                    </a:lnTo>
                    <a:lnTo>
                      <a:pt x="162" y="79"/>
                    </a:lnTo>
                    <a:lnTo>
                      <a:pt x="144" y="127"/>
                    </a:lnTo>
                    <a:lnTo>
                      <a:pt x="117" y="171"/>
                    </a:lnTo>
                    <a:lnTo>
                      <a:pt x="104" y="229"/>
                    </a:lnTo>
                    <a:lnTo>
                      <a:pt x="0" y="229"/>
                    </a:lnTo>
                    <a:lnTo>
                      <a:pt x="18" y="176"/>
                    </a:lnTo>
                    <a:lnTo>
                      <a:pt x="63" y="123"/>
                    </a:lnTo>
                    <a:lnTo>
                      <a:pt x="72" y="79"/>
                    </a:lnTo>
                    <a:lnTo>
                      <a:pt x="90" y="35"/>
                    </a:lnTo>
                    <a:lnTo>
                      <a:pt x="104" y="4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b366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000080" y="165240"/>
              <a:ext cx="1595520" cy="4890960"/>
              <a:chOff x="1000080" y="165240"/>
              <a:chExt cx="1595520" cy="4890960"/>
            </a:xfrm>
          </p:grpSpPr>
          <p:sp>
            <p:nvSpPr>
              <p:cNvPr id="84" name=""/>
              <p:cNvSpPr/>
              <p:nvPr/>
            </p:nvSpPr>
            <p:spPr>
              <a:xfrm>
                <a:off x="1386000" y="165240"/>
                <a:ext cx="1209600" cy="3676680"/>
              </a:xfrm>
              <a:custGeom>
                <a:avLst/>
                <a:gdLst/>
                <a:ahLst/>
                <a:rect l="l" t="t" r="r" b="b"/>
                <a:pathLst>
                  <a:path w="762" h="2316">
                    <a:moveTo>
                      <a:pt x="598" y="140"/>
                    </a:moveTo>
                    <a:lnTo>
                      <a:pt x="523" y="358"/>
                    </a:lnTo>
                    <a:lnTo>
                      <a:pt x="440" y="644"/>
                    </a:lnTo>
                    <a:lnTo>
                      <a:pt x="354" y="916"/>
                    </a:lnTo>
                    <a:lnTo>
                      <a:pt x="257" y="1286"/>
                    </a:lnTo>
                    <a:lnTo>
                      <a:pt x="130" y="1703"/>
                    </a:lnTo>
                    <a:lnTo>
                      <a:pt x="51" y="2079"/>
                    </a:lnTo>
                    <a:lnTo>
                      <a:pt x="15" y="2224"/>
                    </a:lnTo>
                    <a:lnTo>
                      <a:pt x="0" y="2315"/>
                    </a:lnTo>
                    <a:lnTo>
                      <a:pt x="63" y="2264"/>
                    </a:lnTo>
                    <a:lnTo>
                      <a:pt x="268" y="2103"/>
                    </a:lnTo>
                    <a:lnTo>
                      <a:pt x="124" y="2084"/>
                    </a:lnTo>
                    <a:lnTo>
                      <a:pt x="286" y="2088"/>
                    </a:lnTo>
                    <a:lnTo>
                      <a:pt x="313" y="2040"/>
                    </a:lnTo>
                    <a:lnTo>
                      <a:pt x="135" y="2042"/>
                    </a:lnTo>
                    <a:lnTo>
                      <a:pt x="322" y="2022"/>
                    </a:lnTo>
                    <a:lnTo>
                      <a:pt x="372" y="1941"/>
                    </a:lnTo>
                    <a:lnTo>
                      <a:pt x="162" y="1945"/>
                    </a:lnTo>
                    <a:lnTo>
                      <a:pt x="379" y="1923"/>
                    </a:lnTo>
                    <a:lnTo>
                      <a:pt x="426" y="1837"/>
                    </a:lnTo>
                    <a:lnTo>
                      <a:pt x="480" y="1712"/>
                    </a:lnTo>
                    <a:lnTo>
                      <a:pt x="526" y="1569"/>
                    </a:lnTo>
                    <a:lnTo>
                      <a:pt x="246" y="1587"/>
                    </a:lnTo>
                    <a:lnTo>
                      <a:pt x="530" y="1545"/>
                    </a:lnTo>
                    <a:lnTo>
                      <a:pt x="546" y="1497"/>
                    </a:lnTo>
                    <a:lnTo>
                      <a:pt x="284" y="1530"/>
                    </a:lnTo>
                    <a:lnTo>
                      <a:pt x="557" y="1475"/>
                    </a:lnTo>
                    <a:lnTo>
                      <a:pt x="602" y="1308"/>
                    </a:lnTo>
                    <a:lnTo>
                      <a:pt x="372" y="1358"/>
                    </a:lnTo>
                    <a:lnTo>
                      <a:pt x="611" y="1277"/>
                    </a:lnTo>
                    <a:lnTo>
                      <a:pt x="636" y="1204"/>
                    </a:lnTo>
                    <a:lnTo>
                      <a:pt x="381" y="1283"/>
                    </a:lnTo>
                    <a:lnTo>
                      <a:pt x="639" y="1182"/>
                    </a:lnTo>
                    <a:lnTo>
                      <a:pt x="654" y="1127"/>
                    </a:lnTo>
                    <a:lnTo>
                      <a:pt x="695" y="958"/>
                    </a:lnTo>
                    <a:lnTo>
                      <a:pt x="503" y="1042"/>
                    </a:lnTo>
                    <a:lnTo>
                      <a:pt x="700" y="923"/>
                    </a:lnTo>
                    <a:lnTo>
                      <a:pt x="758" y="679"/>
                    </a:lnTo>
                    <a:lnTo>
                      <a:pt x="541" y="743"/>
                    </a:lnTo>
                    <a:lnTo>
                      <a:pt x="758" y="655"/>
                    </a:lnTo>
                    <a:lnTo>
                      <a:pt x="758" y="479"/>
                    </a:lnTo>
                    <a:lnTo>
                      <a:pt x="575" y="560"/>
                    </a:lnTo>
                    <a:lnTo>
                      <a:pt x="761" y="433"/>
                    </a:lnTo>
                    <a:lnTo>
                      <a:pt x="761" y="261"/>
                    </a:lnTo>
                    <a:lnTo>
                      <a:pt x="727" y="149"/>
                    </a:lnTo>
                    <a:lnTo>
                      <a:pt x="661" y="0"/>
                    </a:lnTo>
                    <a:lnTo>
                      <a:pt x="598" y="14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a64c4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000080" y="181080"/>
                <a:ext cx="1452600" cy="4875120"/>
              </a:xfrm>
              <a:custGeom>
                <a:avLst/>
                <a:gdLst/>
                <a:ahLst/>
                <a:rect l="l" t="t" r="r" b="b"/>
                <a:pathLst>
                  <a:path w="915" h="3071">
                    <a:moveTo>
                      <a:pt x="0" y="3070"/>
                    </a:moveTo>
                    <a:lnTo>
                      <a:pt x="372" y="1696"/>
                    </a:lnTo>
                    <a:lnTo>
                      <a:pt x="432" y="1458"/>
                    </a:lnTo>
                    <a:lnTo>
                      <a:pt x="484" y="1276"/>
                    </a:lnTo>
                    <a:lnTo>
                      <a:pt x="570" y="982"/>
                    </a:lnTo>
                    <a:lnTo>
                      <a:pt x="670" y="658"/>
                    </a:lnTo>
                    <a:lnTo>
                      <a:pt x="782" y="316"/>
                    </a:lnTo>
                    <a:lnTo>
                      <a:pt x="844" y="144"/>
                    </a:lnTo>
                    <a:lnTo>
                      <a:pt x="888" y="42"/>
                    </a:lnTo>
                    <a:lnTo>
                      <a:pt x="914" y="0"/>
                    </a:lnTo>
                    <a:lnTo>
                      <a:pt x="866" y="116"/>
                    </a:lnTo>
                    <a:lnTo>
                      <a:pt x="806" y="296"/>
                    </a:lnTo>
                    <a:lnTo>
                      <a:pt x="520" y="1230"/>
                    </a:lnTo>
                    <a:lnTo>
                      <a:pt x="442" y="1518"/>
                    </a:lnTo>
                    <a:lnTo>
                      <a:pt x="378" y="1774"/>
                    </a:lnTo>
                    <a:lnTo>
                      <a:pt x="314" y="2028"/>
                    </a:lnTo>
                    <a:lnTo>
                      <a:pt x="266" y="2238"/>
                    </a:lnTo>
                    <a:lnTo>
                      <a:pt x="258" y="2294"/>
                    </a:lnTo>
                    <a:lnTo>
                      <a:pt x="186" y="2558"/>
                    </a:lnTo>
                    <a:lnTo>
                      <a:pt x="50" y="3070"/>
                    </a:lnTo>
                    <a:lnTo>
                      <a:pt x="0" y="3070"/>
                    </a:lnTo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PlaceHolder 1"/>
          <p:cNvSpPr>
            <a:spLocks noGrp="1"/>
          </p:cNvSpPr>
          <p:nvPr>
            <p:ph type="dt" idx="4"/>
          </p:nvPr>
        </p:nvSpPr>
        <p:spPr>
          <a:xfrm>
            <a:off x="228600" y="6261120"/>
            <a:ext cx="252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5"/>
          </p:nvPr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44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Monotype Sorts" charset="2"/>
              <a:buChar char="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Monotype Sorts" charset="2"/>
              <a:buChar char="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Monotype Sorts" charset="2"/>
              <a:buChar char="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cc66"/>
              </a:buClr>
              <a:buFont typeface="Monotype Sor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cc66"/>
              </a:buClr>
              <a:buFont typeface="Monotype Sorts" charset="2"/>
              <a:buChar char="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520" y="156204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cc66"/>
                </a:solidFill>
                <a:latin typeface="Times New Roman"/>
              </a:rPr>
              <a:t>KENAR MAHALLE</a:t>
            </a:r>
            <a:endParaRPr b="0" lang="en-US" sz="10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6645240"/>
            <a:ext cx="2133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uammer ÇETİNKAYA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76520" y="304920"/>
            <a:ext cx="7162560" cy="22870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Yaşam, daima bizim ona verdiğimizi bize geri verir. Sizin hayatınız bir tesadüfler yumağı değil; yaptıklarınızın aynasıdır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5638680"/>
            <a:ext cx="8686800" cy="696960"/>
          </a:xfrm>
          <a:prstGeom prst="rect">
            <a:avLst/>
          </a:prstGeom>
          <a:solidFill>
            <a:srgbClr val="000000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cc66ff"/>
                </a:solidFill>
                <a:latin typeface="Times New Roman"/>
              </a:rPr>
              <a:t>Beklediğiniz şeyi elde edersiniz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895480"/>
            <a:ext cx="7238880" cy="2505960"/>
          </a:xfrm>
          <a:prstGeom prst="rect">
            <a:avLst/>
          </a:prstGeom>
          <a:solidFill>
            <a:srgbClr val="000000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 öğrencinize ilişkin, özellikle sesli ifade ettiğiniz beklentileriniz mutlaka gerçekleşir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6645240"/>
            <a:ext cx="2133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uammer ÇETİNKAYA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828800" y="762120"/>
            <a:ext cx="6858000" cy="3931920"/>
          </a:xfrm>
          <a:prstGeom prst="rect">
            <a:avLst/>
          </a:prstGeom>
          <a:solidFill>
            <a:srgbClr val="000000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atif duyguları sürdüren ve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“suçlu arama alışkanlığına sahip”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ir öğretmen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lmaktan ziyade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“sorunun çözümüne katkı sağlayan”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ir öğretmen olunuz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0344200">
            <a:off x="291240" y="2764440"/>
            <a:ext cx="8686800" cy="1409400"/>
          </a:xfrm>
          <a:prstGeom prst="rect">
            <a:avLst/>
          </a:prstGeom>
          <a:solidFill>
            <a:srgbClr val="000000"/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Öğrencilerinizin geleceğini belirliyorsunuz!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4969800">
            <a:off x="2752560" y="-1914120"/>
            <a:ext cx="2113200" cy="7161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UNUTMAYIN !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6645240"/>
            <a:ext cx="2133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uammer ÇETİNKAYA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782800" y="6400800"/>
            <a:ext cx="357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69920" y="6273720"/>
            <a:ext cx="2496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na00864_" descr=""/>
          <p:cNvPicPr/>
          <p:nvPr/>
        </p:nvPicPr>
        <p:blipFill>
          <a:blip r:embed="rId1"/>
          <a:stretch/>
        </p:blipFill>
        <p:spPr>
          <a:xfrm>
            <a:off x="533520" y="0"/>
            <a:ext cx="1218960" cy="54936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-16920" y="-14400"/>
            <a:ext cx="743400" cy="1237680"/>
            <a:chOff x="-16920" y="-14400"/>
            <a:chExt cx="743400" cy="1237680"/>
          </a:xfrm>
        </p:grpSpPr>
        <p:sp>
          <p:nvSpPr>
            <p:cNvPr id="170" name=""/>
            <p:cNvSpPr/>
            <p:nvPr/>
          </p:nvSpPr>
          <p:spPr>
            <a:xfrm rot="16378200">
              <a:off x="251640" y="846720"/>
              <a:ext cx="468000" cy="252000"/>
            </a:xfrm>
            <a:custGeom>
              <a:avLst/>
              <a:gdLst/>
              <a:ahLst/>
              <a:rect l="l" t="t" r="r" b="b"/>
              <a:pathLst>
                <a:path w="1179" h="836">
                  <a:moveTo>
                    <a:pt x="1164" y="440"/>
                  </a:moveTo>
                  <a:lnTo>
                    <a:pt x="981" y="701"/>
                  </a:lnTo>
                  <a:lnTo>
                    <a:pt x="857" y="771"/>
                  </a:lnTo>
                  <a:lnTo>
                    <a:pt x="802" y="705"/>
                  </a:lnTo>
                  <a:lnTo>
                    <a:pt x="790" y="585"/>
                  </a:lnTo>
                  <a:lnTo>
                    <a:pt x="623" y="767"/>
                  </a:lnTo>
                  <a:lnTo>
                    <a:pt x="526" y="776"/>
                  </a:lnTo>
                  <a:lnTo>
                    <a:pt x="464" y="641"/>
                  </a:lnTo>
                  <a:lnTo>
                    <a:pt x="240" y="836"/>
                  </a:lnTo>
                  <a:lnTo>
                    <a:pt x="195" y="780"/>
                  </a:lnTo>
                  <a:lnTo>
                    <a:pt x="236" y="682"/>
                  </a:lnTo>
                  <a:lnTo>
                    <a:pt x="63" y="701"/>
                  </a:lnTo>
                  <a:lnTo>
                    <a:pt x="0" y="618"/>
                  </a:lnTo>
                  <a:lnTo>
                    <a:pt x="36" y="539"/>
                  </a:lnTo>
                  <a:lnTo>
                    <a:pt x="113" y="472"/>
                  </a:lnTo>
                  <a:lnTo>
                    <a:pt x="81" y="398"/>
                  </a:lnTo>
                  <a:lnTo>
                    <a:pt x="148" y="347"/>
                  </a:lnTo>
                  <a:lnTo>
                    <a:pt x="409" y="286"/>
                  </a:lnTo>
                  <a:lnTo>
                    <a:pt x="373" y="201"/>
                  </a:lnTo>
                  <a:lnTo>
                    <a:pt x="464" y="132"/>
                  </a:lnTo>
                  <a:lnTo>
                    <a:pt x="766" y="150"/>
                  </a:lnTo>
                  <a:lnTo>
                    <a:pt x="765" y="30"/>
                  </a:lnTo>
                  <a:lnTo>
                    <a:pt x="869" y="0"/>
                  </a:lnTo>
                  <a:lnTo>
                    <a:pt x="1113" y="140"/>
                  </a:lnTo>
                  <a:lnTo>
                    <a:pt x="1179" y="290"/>
                  </a:lnTo>
                  <a:lnTo>
                    <a:pt x="1164" y="440"/>
                  </a:lnTo>
                  <a:lnTo>
                    <a:pt x="1164" y="440"/>
                  </a:lnTo>
                  <a:lnTo>
                    <a:pt x="1164" y="440"/>
                  </a:lnTo>
                  <a:close/>
                </a:path>
              </a:pathLst>
            </a:custGeom>
            <a:solidFill>
              <a:srgbClr val="3df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378200">
              <a:off x="430560" y="1019520"/>
              <a:ext cx="133200" cy="68040"/>
            </a:xfrm>
            <a:custGeom>
              <a:avLst/>
              <a:gdLst/>
              <a:ahLst/>
              <a:rect l="l" t="t" r="r" b="b"/>
              <a:pathLst>
                <a:path w="335" h="227">
                  <a:moveTo>
                    <a:pt x="234" y="59"/>
                  </a:moveTo>
                  <a:lnTo>
                    <a:pt x="167" y="72"/>
                  </a:lnTo>
                  <a:lnTo>
                    <a:pt x="99" y="86"/>
                  </a:lnTo>
                  <a:lnTo>
                    <a:pt x="60" y="97"/>
                  </a:lnTo>
                  <a:lnTo>
                    <a:pt x="20" y="108"/>
                  </a:lnTo>
                  <a:lnTo>
                    <a:pt x="0" y="101"/>
                  </a:lnTo>
                  <a:lnTo>
                    <a:pt x="0" y="91"/>
                  </a:lnTo>
                  <a:lnTo>
                    <a:pt x="9" y="83"/>
                  </a:lnTo>
                  <a:lnTo>
                    <a:pt x="28" y="74"/>
                  </a:lnTo>
                  <a:lnTo>
                    <a:pt x="63" y="64"/>
                  </a:lnTo>
                  <a:lnTo>
                    <a:pt x="106" y="51"/>
                  </a:lnTo>
                  <a:lnTo>
                    <a:pt x="154" y="38"/>
                  </a:lnTo>
                  <a:lnTo>
                    <a:pt x="203" y="26"/>
                  </a:lnTo>
                  <a:lnTo>
                    <a:pt x="246" y="14"/>
                  </a:lnTo>
                  <a:lnTo>
                    <a:pt x="304" y="0"/>
                  </a:lnTo>
                  <a:lnTo>
                    <a:pt x="334" y="4"/>
                  </a:lnTo>
                  <a:lnTo>
                    <a:pt x="335" y="25"/>
                  </a:lnTo>
                  <a:lnTo>
                    <a:pt x="327" y="39"/>
                  </a:lnTo>
                  <a:lnTo>
                    <a:pt x="316" y="57"/>
                  </a:lnTo>
                  <a:lnTo>
                    <a:pt x="299" y="76"/>
                  </a:lnTo>
                  <a:lnTo>
                    <a:pt x="281" y="97"/>
                  </a:lnTo>
                  <a:lnTo>
                    <a:pt x="260" y="118"/>
                  </a:lnTo>
                  <a:lnTo>
                    <a:pt x="250" y="129"/>
                  </a:lnTo>
                  <a:lnTo>
                    <a:pt x="240" y="140"/>
                  </a:lnTo>
                  <a:lnTo>
                    <a:pt x="228" y="149"/>
                  </a:lnTo>
                  <a:lnTo>
                    <a:pt x="219" y="158"/>
                  </a:lnTo>
                  <a:lnTo>
                    <a:pt x="198" y="177"/>
                  </a:lnTo>
                  <a:lnTo>
                    <a:pt x="181" y="192"/>
                  </a:lnTo>
                  <a:lnTo>
                    <a:pt x="166" y="206"/>
                  </a:lnTo>
                  <a:lnTo>
                    <a:pt x="148" y="220"/>
                  </a:lnTo>
                  <a:lnTo>
                    <a:pt x="118" y="227"/>
                  </a:lnTo>
                  <a:lnTo>
                    <a:pt x="96" y="215"/>
                  </a:lnTo>
                  <a:lnTo>
                    <a:pt x="93" y="188"/>
                  </a:lnTo>
                  <a:lnTo>
                    <a:pt x="105" y="168"/>
                  </a:lnTo>
                  <a:lnTo>
                    <a:pt x="124" y="146"/>
                  </a:lnTo>
                  <a:lnTo>
                    <a:pt x="138" y="134"/>
                  </a:lnTo>
                  <a:lnTo>
                    <a:pt x="151" y="124"/>
                  </a:lnTo>
                  <a:lnTo>
                    <a:pt x="165" y="113"/>
                  </a:lnTo>
                  <a:lnTo>
                    <a:pt x="180" y="103"/>
                  </a:lnTo>
                  <a:lnTo>
                    <a:pt x="193" y="92"/>
                  </a:lnTo>
                  <a:lnTo>
                    <a:pt x="207" y="82"/>
                  </a:lnTo>
                  <a:lnTo>
                    <a:pt x="221" y="71"/>
                  </a:lnTo>
                  <a:lnTo>
                    <a:pt x="234" y="59"/>
                  </a:lnTo>
                  <a:lnTo>
                    <a:pt x="234" y="59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378200">
              <a:off x="427320" y="979200"/>
              <a:ext cx="13680" cy="104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28"/>
                  </a:moveTo>
                  <a:lnTo>
                    <a:pt x="4" y="17"/>
                  </a:lnTo>
                  <a:lnTo>
                    <a:pt x="17" y="5"/>
                  </a:lnTo>
                  <a:lnTo>
                    <a:pt x="30" y="0"/>
                  </a:lnTo>
                  <a:lnTo>
                    <a:pt x="35" y="7"/>
                  </a:lnTo>
                  <a:lnTo>
                    <a:pt x="28" y="3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378200">
              <a:off x="421200" y="900000"/>
              <a:ext cx="104400" cy="88560"/>
            </a:xfrm>
            <a:custGeom>
              <a:avLst/>
              <a:gdLst/>
              <a:ahLst/>
              <a:rect l="l" t="t" r="r" b="b"/>
              <a:pathLst>
                <a:path w="264" h="299">
                  <a:moveTo>
                    <a:pt x="198" y="102"/>
                  </a:moveTo>
                  <a:lnTo>
                    <a:pt x="157" y="91"/>
                  </a:lnTo>
                  <a:lnTo>
                    <a:pt x="103" y="74"/>
                  </a:lnTo>
                  <a:lnTo>
                    <a:pt x="51" y="56"/>
                  </a:lnTo>
                  <a:lnTo>
                    <a:pt x="15" y="4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2" y="0"/>
                  </a:lnTo>
                  <a:lnTo>
                    <a:pt x="35" y="3"/>
                  </a:lnTo>
                  <a:lnTo>
                    <a:pt x="87" y="19"/>
                  </a:lnTo>
                  <a:lnTo>
                    <a:pt x="138" y="31"/>
                  </a:lnTo>
                  <a:lnTo>
                    <a:pt x="241" y="54"/>
                  </a:lnTo>
                  <a:lnTo>
                    <a:pt x="261" y="65"/>
                  </a:lnTo>
                  <a:lnTo>
                    <a:pt x="264" y="86"/>
                  </a:lnTo>
                  <a:lnTo>
                    <a:pt x="254" y="135"/>
                  </a:lnTo>
                  <a:lnTo>
                    <a:pt x="238" y="185"/>
                  </a:lnTo>
                  <a:lnTo>
                    <a:pt x="229" y="210"/>
                  </a:lnTo>
                  <a:lnTo>
                    <a:pt x="218" y="235"/>
                  </a:lnTo>
                  <a:lnTo>
                    <a:pt x="207" y="258"/>
                  </a:lnTo>
                  <a:lnTo>
                    <a:pt x="195" y="280"/>
                  </a:lnTo>
                  <a:lnTo>
                    <a:pt x="185" y="292"/>
                  </a:lnTo>
                  <a:lnTo>
                    <a:pt x="173" y="299"/>
                  </a:lnTo>
                  <a:lnTo>
                    <a:pt x="148" y="298"/>
                  </a:lnTo>
                  <a:lnTo>
                    <a:pt x="129" y="281"/>
                  </a:lnTo>
                  <a:lnTo>
                    <a:pt x="126" y="268"/>
                  </a:lnTo>
                  <a:lnTo>
                    <a:pt x="128" y="253"/>
                  </a:lnTo>
                  <a:lnTo>
                    <a:pt x="148" y="200"/>
                  </a:lnTo>
                  <a:lnTo>
                    <a:pt x="159" y="174"/>
                  </a:lnTo>
                  <a:lnTo>
                    <a:pt x="173" y="151"/>
                  </a:lnTo>
                  <a:lnTo>
                    <a:pt x="187" y="127"/>
                  </a:lnTo>
                  <a:lnTo>
                    <a:pt x="198" y="102"/>
                  </a:lnTo>
                  <a:lnTo>
                    <a:pt x="198" y="102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6378200">
              <a:off x="422640" y="773640"/>
              <a:ext cx="86760" cy="95400"/>
            </a:xfrm>
            <a:custGeom>
              <a:avLst/>
              <a:gdLst/>
              <a:ahLst/>
              <a:rect l="l" t="t" r="r" b="b"/>
              <a:pathLst>
                <a:path w="222" h="316">
                  <a:moveTo>
                    <a:pt x="19" y="0"/>
                  </a:moveTo>
                  <a:lnTo>
                    <a:pt x="104" y="14"/>
                  </a:lnTo>
                  <a:lnTo>
                    <a:pt x="184" y="44"/>
                  </a:lnTo>
                  <a:lnTo>
                    <a:pt x="208" y="66"/>
                  </a:lnTo>
                  <a:lnTo>
                    <a:pt x="220" y="91"/>
                  </a:lnTo>
                  <a:lnTo>
                    <a:pt x="222" y="120"/>
                  </a:lnTo>
                  <a:lnTo>
                    <a:pt x="215" y="148"/>
                  </a:lnTo>
                  <a:lnTo>
                    <a:pt x="204" y="178"/>
                  </a:lnTo>
                  <a:lnTo>
                    <a:pt x="189" y="207"/>
                  </a:lnTo>
                  <a:lnTo>
                    <a:pt x="174" y="234"/>
                  </a:lnTo>
                  <a:lnTo>
                    <a:pt x="160" y="258"/>
                  </a:lnTo>
                  <a:lnTo>
                    <a:pt x="145" y="291"/>
                  </a:lnTo>
                  <a:lnTo>
                    <a:pt x="135" y="305"/>
                  </a:lnTo>
                  <a:lnTo>
                    <a:pt x="123" y="314"/>
                  </a:lnTo>
                  <a:lnTo>
                    <a:pt x="94" y="316"/>
                  </a:lnTo>
                  <a:lnTo>
                    <a:pt x="72" y="300"/>
                  </a:lnTo>
                  <a:lnTo>
                    <a:pt x="67" y="271"/>
                  </a:lnTo>
                  <a:lnTo>
                    <a:pt x="79" y="242"/>
                  </a:lnTo>
                  <a:lnTo>
                    <a:pt x="88" y="228"/>
                  </a:lnTo>
                  <a:lnTo>
                    <a:pt x="97" y="215"/>
                  </a:lnTo>
                  <a:lnTo>
                    <a:pt x="108" y="201"/>
                  </a:lnTo>
                  <a:lnTo>
                    <a:pt x="118" y="188"/>
                  </a:lnTo>
                  <a:lnTo>
                    <a:pt x="138" y="163"/>
                  </a:lnTo>
                  <a:lnTo>
                    <a:pt x="164" y="120"/>
                  </a:lnTo>
                  <a:lnTo>
                    <a:pt x="167" y="110"/>
                  </a:lnTo>
                  <a:lnTo>
                    <a:pt x="164" y="102"/>
                  </a:lnTo>
                  <a:lnTo>
                    <a:pt x="152" y="87"/>
                  </a:lnTo>
                  <a:lnTo>
                    <a:pt x="134" y="77"/>
                  </a:lnTo>
                  <a:lnTo>
                    <a:pt x="117" y="67"/>
                  </a:lnTo>
                  <a:lnTo>
                    <a:pt x="84" y="52"/>
                  </a:lnTo>
                  <a:lnTo>
                    <a:pt x="49" y="40"/>
                  </a:lnTo>
                  <a:lnTo>
                    <a:pt x="12" y="27"/>
                  </a:lnTo>
                  <a:lnTo>
                    <a:pt x="2" y="20"/>
                  </a:lnTo>
                  <a:lnTo>
                    <a:pt x="0" y="10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378200">
              <a:off x="6840" y="589320"/>
              <a:ext cx="320400" cy="338760"/>
            </a:xfrm>
            <a:custGeom>
              <a:avLst/>
              <a:gdLst/>
              <a:ahLst/>
              <a:rect l="l" t="t" r="r" b="b"/>
              <a:pathLst>
                <a:path w="807" h="1119">
                  <a:moveTo>
                    <a:pt x="551" y="1087"/>
                  </a:moveTo>
                  <a:lnTo>
                    <a:pt x="664" y="985"/>
                  </a:lnTo>
                  <a:lnTo>
                    <a:pt x="807" y="727"/>
                  </a:lnTo>
                  <a:lnTo>
                    <a:pt x="776" y="620"/>
                  </a:lnTo>
                  <a:lnTo>
                    <a:pt x="680" y="610"/>
                  </a:lnTo>
                  <a:lnTo>
                    <a:pt x="628" y="624"/>
                  </a:lnTo>
                  <a:lnTo>
                    <a:pt x="668" y="438"/>
                  </a:lnTo>
                  <a:lnTo>
                    <a:pt x="638" y="339"/>
                  </a:lnTo>
                  <a:lnTo>
                    <a:pt x="464" y="392"/>
                  </a:lnTo>
                  <a:lnTo>
                    <a:pt x="552" y="199"/>
                  </a:lnTo>
                  <a:lnTo>
                    <a:pt x="551" y="75"/>
                  </a:lnTo>
                  <a:lnTo>
                    <a:pt x="404" y="148"/>
                  </a:lnTo>
                  <a:lnTo>
                    <a:pt x="327" y="4"/>
                  </a:lnTo>
                  <a:lnTo>
                    <a:pt x="240" y="0"/>
                  </a:lnTo>
                  <a:lnTo>
                    <a:pt x="169" y="102"/>
                  </a:lnTo>
                  <a:lnTo>
                    <a:pt x="169" y="158"/>
                  </a:lnTo>
                  <a:lnTo>
                    <a:pt x="91" y="173"/>
                  </a:lnTo>
                  <a:lnTo>
                    <a:pt x="61" y="223"/>
                  </a:lnTo>
                  <a:lnTo>
                    <a:pt x="113" y="404"/>
                  </a:lnTo>
                  <a:lnTo>
                    <a:pt x="128" y="517"/>
                  </a:lnTo>
                  <a:lnTo>
                    <a:pt x="30" y="509"/>
                  </a:lnTo>
                  <a:lnTo>
                    <a:pt x="0" y="574"/>
                  </a:lnTo>
                  <a:lnTo>
                    <a:pt x="51" y="686"/>
                  </a:lnTo>
                  <a:lnTo>
                    <a:pt x="169" y="848"/>
                  </a:lnTo>
                  <a:lnTo>
                    <a:pt x="57" y="913"/>
                  </a:lnTo>
                  <a:lnTo>
                    <a:pt x="93" y="993"/>
                  </a:lnTo>
                  <a:lnTo>
                    <a:pt x="352" y="1119"/>
                  </a:lnTo>
                  <a:lnTo>
                    <a:pt x="551" y="1087"/>
                  </a:lnTo>
                  <a:lnTo>
                    <a:pt x="551" y="1087"/>
                  </a:lnTo>
                  <a:lnTo>
                    <a:pt x="551" y="1087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378200">
              <a:off x="46800" y="766440"/>
              <a:ext cx="113760" cy="76320"/>
            </a:xfrm>
            <a:custGeom>
              <a:avLst/>
              <a:gdLst/>
              <a:ahLst/>
              <a:rect l="l" t="t" r="r" b="b"/>
              <a:pathLst>
                <a:path w="292" h="254">
                  <a:moveTo>
                    <a:pt x="134" y="199"/>
                  </a:moveTo>
                  <a:lnTo>
                    <a:pt x="141" y="196"/>
                  </a:lnTo>
                  <a:lnTo>
                    <a:pt x="154" y="175"/>
                  </a:lnTo>
                  <a:lnTo>
                    <a:pt x="169" y="151"/>
                  </a:lnTo>
                  <a:lnTo>
                    <a:pt x="185" y="126"/>
                  </a:lnTo>
                  <a:lnTo>
                    <a:pt x="201" y="100"/>
                  </a:lnTo>
                  <a:lnTo>
                    <a:pt x="218" y="74"/>
                  </a:lnTo>
                  <a:lnTo>
                    <a:pt x="235" y="49"/>
                  </a:lnTo>
                  <a:lnTo>
                    <a:pt x="250" y="27"/>
                  </a:lnTo>
                  <a:lnTo>
                    <a:pt x="265" y="8"/>
                  </a:lnTo>
                  <a:lnTo>
                    <a:pt x="276" y="0"/>
                  </a:lnTo>
                  <a:lnTo>
                    <a:pt x="286" y="2"/>
                  </a:lnTo>
                  <a:lnTo>
                    <a:pt x="292" y="20"/>
                  </a:lnTo>
                  <a:lnTo>
                    <a:pt x="285" y="39"/>
                  </a:lnTo>
                  <a:lnTo>
                    <a:pt x="274" y="66"/>
                  </a:lnTo>
                  <a:lnTo>
                    <a:pt x="260" y="97"/>
                  </a:lnTo>
                  <a:lnTo>
                    <a:pt x="246" y="131"/>
                  </a:lnTo>
                  <a:lnTo>
                    <a:pt x="231" y="165"/>
                  </a:lnTo>
                  <a:lnTo>
                    <a:pt x="217" y="195"/>
                  </a:lnTo>
                  <a:lnTo>
                    <a:pt x="205" y="219"/>
                  </a:lnTo>
                  <a:lnTo>
                    <a:pt x="197" y="233"/>
                  </a:lnTo>
                  <a:lnTo>
                    <a:pt x="189" y="242"/>
                  </a:lnTo>
                  <a:lnTo>
                    <a:pt x="179" y="248"/>
                  </a:lnTo>
                  <a:lnTo>
                    <a:pt x="142" y="254"/>
                  </a:lnTo>
                  <a:lnTo>
                    <a:pt x="106" y="247"/>
                  </a:lnTo>
                  <a:lnTo>
                    <a:pt x="79" y="213"/>
                  </a:lnTo>
                  <a:lnTo>
                    <a:pt x="62" y="183"/>
                  </a:lnTo>
                  <a:lnTo>
                    <a:pt x="45" y="147"/>
                  </a:lnTo>
                  <a:lnTo>
                    <a:pt x="29" y="111"/>
                  </a:lnTo>
                  <a:lnTo>
                    <a:pt x="15" y="76"/>
                  </a:lnTo>
                  <a:lnTo>
                    <a:pt x="0" y="30"/>
                  </a:lnTo>
                  <a:lnTo>
                    <a:pt x="1" y="18"/>
                  </a:lnTo>
                  <a:lnTo>
                    <a:pt x="11" y="12"/>
                  </a:lnTo>
                  <a:lnTo>
                    <a:pt x="29" y="23"/>
                  </a:lnTo>
                  <a:lnTo>
                    <a:pt x="44" y="54"/>
                  </a:lnTo>
                  <a:lnTo>
                    <a:pt x="51" y="71"/>
                  </a:lnTo>
                  <a:lnTo>
                    <a:pt x="59" y="87"/>
                  </a:lnTo>
                  <a:lnTo>
                    <a:pt x="68" y="102"/>
                  </a:lnTo>
                  <a:lnTo>
                    <a:pt x="77" y="115"/>
                  </a:lnTo>
                  <a:lnTo>
                    <a:pt x="87" y="129"/>
                  </a:lnTo>
                  <a:lnTo>
                    <a:pt x="96" y="143"/>
                  </a:lnTo>
                  <a:lnTo>
                    <a:pt x="115" y="170"/>
                  </a:lnTo>
                  <a:lnTo>
                    <a:pt x="134" y="199"/>
                  </a:lnTo>
                  <a:lnTo>
                    <a:pt x="134" y="199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6378200">
              <a:off x="110880" y="750240"/>
              <a:ext cx="131400" cy="76320"/>
            </a:xfrm>
            <a:custGeom>
              <a:avLst/>
              <a:gdLst/>
              <a:ahLst/>
              <a:rect l="l" t="t" r="r" b="b"/>
              <a:pathLst>
                <a:path w="331" h="253">
                  <a:moveTo>
                    <a:pt x="189" y="195"/>
                  </a:moveTo>
                  <a:lnTo>
                    <a:pt x="196" y="169"/>
                  </a:lnTo>
                  <a:lnTo>
                    <a:pt x="204" y="144"/>
                  </a:lnTo>
                  <a:lnTo>
                    <a:pt x="216" y="119"/>
                  </a:lnTo>
                  <a:lnTo>
                    <a:pt x="227" y="94"/>
                  </a:lnTo>
                  <a:lnTo>
                    <a:pt x="242" y="71"/>
                  </a:lnTo>
                  <a:lnTo>
                    <a:pt x="258" y="48"/>
                  </a:lnTo>
                  <a:lnTo>
                    <a:pt x="276" y="27"/>
                  </a:lnTo>
                  <a:lnTo>
                    <a:pt x="294" y="7"/>
                  </a:lnTo>
                  <a:lnTo>
                    <a:pt x="309" y="0"/>
                  </a:lnTo>
                  <a:lnTo>
                    <a:pt x="323" y="4"/>
                  </a:lnTo>
                  <a:lnTo>
                    <a:pt x="331" y="14"/>
                  </a:lnTo>
                  <a:lnTo>
                    <a:pt x="326" y="30"/>
                  </a:lnTo>
                  <a:lnTo>
                    <a:pt x="307" y="60"/>
                  </a:lnTo>
                  <a:lnTo>
                    <a:pt x="292" y="84"/>
                  </a:lnTo>
                  <a:lnTo>
                    <a:pt x="275" y="126"/>
                  </a:lnTo>
                  <a:lnTo>
                    <a:pt x="253" y="227"/>
                  </a:lnTo>
                  <a:lnTo>
                    <a:pt x="243" y="246"/>
                  </a:lnTo>
                  <a:lnTo>
                    <a:pt x="223" y="253"/>
                  </a:lnTo>
                  <a:lnTo>
                    <a:pt x="204" y="251"/>
                  </a:lnTo>
                  <a:lnTo>
                    <a:pt x="187" y="241"/>
                  </a:lnTo>
                  <a:lnTo>
                    <a:pt x="172" y="228"/>
                  </a:lnTo>
                  <a:lnTo>
                    <a:pt x="156" y="217"/>
                  </a:lnTo>
                  <a:lnTo>
                    <a:pt x="119" y="203"/>
                  </a:lnTo>
                  <a:lnTo>
                    <a:pt x="81" y="192"/>
                  </a:lnTo>
                  <a:lnTo>
                    <a:pt x="9" y="165"/>
                  </a:lnTo>
                  <a:lnTo>
                    <a:pt x="0" y="156"/>
                  </a:lnTo>
                  <a:lnTo>
                    <a:pt x="1" y="146"/>
                  </a:lnTo>
                  <a:lnTo>
                    <a:pt x="9" y="140"/>
                  </a:lnTo>
                  <a:lnTo>
                    <a:pt x="22" y="140"/>
                  </a:lnTo>
                  <a:lnTo>
                    <a:pt x="56" y="151"/>
                  </a:lnTo>
                  <a:lnTo>
                    <a:pt x="82" y="161"/>
                  </a:lnTo>
                  <a:lnTo>
                    <a:pt x="110" y="170"/>
                  </a:lnTo>
                  <a:lnTo>
                    <a:pt x="160" y="188"/>
                  </a:lnTo>
                  <a:lnTo>
                    <a:pt x="189" y="195"/>
                  </a:lnTo>
                  <a:lnTo>
                    <a:pt x="189" y="195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378200">
              <a:off x="188280" y="696600"/>
              <a:ext cx="142560" cy="76320"/>
            </a:xfrm>
            <a:custGeom>
              <a:avLst/>
              <a:gdLst/>
              <a:ahLst/>
              <a:rect l="l" t="t" r="r" b="b"/>
              <a:pathLst>
                <a:path w="361" h="253">
                  <a:moveTo>
                    <a:pt x="134" y="185"/>
                  </a:moveTo>
                  <a:lnTo>
                    <a:pt x="151" y="164"/>
                  </a:lnTo>
                  <a:lnTo>
                    <a:pt x="168" y="142"/>
                  </a:lnTo>
                  <a:lnTo>
                    <a:pt x="186" y="122"/>
                  </a:lnTo>
                  <a:lnTo>
                    <a:pt x="204" y="102"/>
                  </a:lnTo>
                  <a:lnTo>
                    <a:pt x="218" y="88"/>
                  </a:lnTo>
                  <a:lnTo>
                    <a:pt x="234" y="74"/>
                  </a:lnTo>
                  <a:lnTo>
                    <a:pt x="250" y="60"/>
                  </a:lnTo>
                  <a:lnTo>
                    <a:pt x="269" y="48"/>
                  </a:lnTo>
                  <a:lnTo>
                    <a:pt x="286" y="35"/>
                  </a:lnTo>
                  <a:lnTo>
                    <a:pt x="304" y="23"/>
                  </a:lnTo>
                  <a:lnTo>
                    <a:pt x="322" y="12"/>
                  </a:lnTo>
                  <a:lnTo>
                    <a:pt x="339" y="0"/>
                  </a:lnTo>
                  <a:lnTo>
                    <a:pt x="361" y="1"/>
                  </a:lnTo>
                  <a:lnTo>
                    <a:pt x="360" y="21"/>
                  </a:lnTo>
                  <a:lnTo>
                    <a:pt x="335" y="48"/>
                  </a:lnTo>
                  <a:lnTo>
                    <a:pt x="312" y="74"/>
                  </a:lnTo>
                  <a:lnTo>
                    <a:pt x="290" y="101"/>
                  </a:lnTo>
                  <a:lnTo>
                    <a:pt x="269" y="129"/>
                  </a:lnTo>
                  <a:lnTo>
                    <a:pt x="258" y="142"/>
                  </a:lnTo>
                  <a:lnTo>
                    <a:pt x="247" y="156"/>
                  </a:lnTo>
                  <a:lnTo>
                    <a:pt x="236" y="171"/>
                  </a:lnTo>
                  <a:lnTo>
                    <a:pt x="225" y="185"/>
                  </a:lnTo>
                  <a:lnTo>
                    <a:pt x="214" y="198"/>
                  </a:lnTo>
                  <a:lnTo>
                    <a:pt x="203" y="212"/>
                  </a:lnTo>
                  <a:lnTo>
                    <a:pt x="181" y="239"/>
                  </a:lnTo>
                  <a:lnTo>
                    <a:pt x="166" y="250"/>
                  </a:lnTo>
                  <a:lnTo>
                    <a:pt x="146" y="253"/>
                  </a:lnTo>
                  <a:lnTo>
                    <a:pt x="76" y="230"/>
                  </a:lnTo>
                  <a:lnTo>
                    <a:pt x="41" y="212"/>
                  </a:lnTo>
                  <a:lnTo>
                    <a:pt x="9" y="195"/>
                  </a:lnTo>
                  <a:lnTo>
                    <a:pt x="0" y="187"/>
                  </a:lnTo>
                  <a:lnTo>
                    <a:pt x="0" y="177"/>
                  </a:lnTo>
                  <a:lnTo>
                    <a:pt x="7" y="170"/>
                  </a:lnTo>
                  <a:lnTo>
                    <a:pt x="19" y="169"/>
                  </a:lnTo>
                  <a:lnTo>
                    <a:pt x="76" y="179"/>
                  </a:lnTo>
                  <a:lnTo>
                    <a:pt x="134" y="185"/>
                  </a:lnTo>
                  <a:lnTo>
                    <a:pt x="134" y="185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378200">
              <a:off x="82800" y="24120"/>
              <a:ext cx="580680" cy="558720"/>
            </a:xfrm>
            <a:custGeom>
              <a:avLst/>
              <a:gdLst/>
              <a:ahLst/>
              <a:rect l="l" t="t" r="r" b="b"/>
              <a:pathLst>
                <a:path w="1464" h="1845">
                  <a:moveTo>
                    <a:pt x="235" y="1416"/>
                  </a:moveTo>
                  <a:lnTo>
                    <a:pt x="169" y="1288"/>
                  </a:lnTo>
                  <a:lnTo>
                    <a:pt x="15" y="1168"/>
                  </a:lnTo>
                  <a:lnTo>
                    <a:pt x="0" y="1000"/>
                  </a:lnTo>
                  <a:lnTo>
                    <a:pt x="45" y="930"/>
                  </a:lnTo>
                  <a:lnTo>
                    <a:pt x="123" y="911"/>
                  </a:lnTo>
                  <a:lnTo>
                    <a:pt x="317" y="999"/>
                  </a:lnTo>
                  <a:lnTo>
                    <a:pt x="352" y="939"/>
                  </a:lnTo>
                  <a:lnTo>
                    <a:pt x="333" y="518"/>
                  </a:lnTo>
                  <a:lnTo>
                    <a:pt x="418" y="445"/>
                  </a:lnTo>
                  <a:lnTo>
                    <a:pt x="501" y="499"/>
                  </a:lnTo>
                  <a:lnTo>
                    <a:pt x="598" y="616"/>
                  </a:lnTo>
                  <a:lnTo>
                    <a:pt x="644" y="574"/>
                  </a:lnTo>
                  <a:lnTo>
                    <a:pt x="679" y="323"/>
                  </a:lnTo>
                  <a:lnTo>
                    <a:pt x="776" y="202"/>
                  </a:lnTo>
                  <a:lnTo>
                    <a:pt x="919" y="258"/>
                  </a:lnTo>
                  <a:lnTo>
                    <a:pt x="1103" y="0"/>
                  </a:lnTo>
                  <a:lnTo>
                    <a:pt x="1206" y="1"/>
                  </a:lnTo>
                  <a:lnTo>
                    <a:pt x="1251" y="84"/>
                  </a:lnTo>
                  <a:lnTo>
                    <a:pt x="1153" y="258"/>
                  </a:lnTo>
                  <a:lnTo>
                    <a:pt x="1332" y="258"/>
                  </a:lnTo>
                  <a:lnTo>
                    <a:pt x="1464" y="291"/>
                  </a:lnTo>
                  <a:lnTo>
                    <a:pt x="1449" y="402"/>
                  </a:lnTo>
                  <a:lnTo>
                    <a:pt x="1189" y="533"/>
                  </a:lnTo>
                  <a:lnTo>
                    <a:pt x="1399" y="612"/>
                  </a:lnTo>
                  <a:lnTo>
                    <a:pt x="1439" y="744"/>
                  </a:lnTo>
                  <a:lnTo>
                    <a:pt x="1321" y="850"/>
                  </a:lnTo>
                  <a:lnTo>
                    <a:pt x="1153" y="930"/>
                  </a:lnTo>
                  <a:lnTo>
                    <a:pt x="1312" y="1022"/>
                  </a:lnTo>
                  <a:lnTo>
                    <a:pt x="1291" y="1172"/>
                  </a:lnTo>
                  <a:lnTo>
                    <a:pt x="1206" y="1341"/>
                  </a:lnTo>
                  <a:lnTo>
                    <a:pt x="1026" y="1419"/>
                  </a:lnTo>
                  <a:lnTo>
                    <a:pt x="781" y="1452"/>
                  </a:lnTo>
                  <a:lnTo>
                    <a:pt x="567" y="1620"/>
                  </a:lnTo>
                  <a:lnTo>
                    <a:pt x="379" y="1559"/>
                  </a:lnTo>
                  <a:lnTo>
                    <a:pt x="266" y="1661"/>
                  </a:lnTo>
                  <a:lnTo>
                    <a:pt x="138" y="1845"/>
                  </a:lnTo>
                  <a:lnTo>
                    <a:pt x="67" y="1732"/>
                  </a:lnTo>
                  <a:lnTo>
                    <a:pt x="235" y="1416"/>
                  </a:lnTo>
                  <a:lnTo>
                    <a:pt x="235" y="1416"/>
                  </a:lnTo>
                  <a:lnTo>
                    <a:pt x="235" y="1416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378200">
              <a:off x="138240" y="131400"/>
              <a:ext cx="213840" cy="90720"/>
            </a:xfrm>
            <a:custGeom>
              <a:avLst/>
              <a:gdLst/>
              <a:ahLst/>
              <a:rect l="l" t="t" r="r" b="b"/>
              <a:pathLst>
                <a:path w="540" h="301">
                  <a:moveTo>
                    <a:pt x="127" y="191"/>
                  </a:moveTo>
                  <a:lnTo>
                    <a:pt x="143" y="181"/>
                  </a:lnTo>
                  <a:lnTo>
                    <a:pt x="163" y="170"/>
                  </a:lnTo>
                  <a:lnTo>
                    <a:pt x="185" y="160"/>
                  </a:lnTo>
                  <a:lnTo>
                    <a:pt x="209" y="150"/>
                  </a:lnTo>
                  <a:lnTo>
                    <a:pt x="234" y="140"/>
                  </a:lnTo>
                  <a:lnTo>
                    <a:pt x="261" y="130"/>
                  </a:lnTo>
                  <a:lnTo>
                    <a:pt x="289" y="120"/>
                  </a:lnTo>
                  <a:lnTo>
                    <a:pt x="316" y="111"/>
                  </a:lnTo>
                  <a:lnTo>
                    <a:pt x="373" y="95"/>
                  </a:lnTo>
                  <a:lnTo>
                    <a:pt x="428" y="81"/>
                  </a:lnTo>
                  <a:lnTo>
                    <a:pt x="478" y="71"/>
                  </a:lnTo>
                  <a:lnTo>
                    <a:pt x="521" y="66"/>
                  </a:lnTo>
                  <a:lnTo>
                    <a:pt x="540" y="77"/>
                  </a:lnTo>
                  <a:lnTo>
                    <a:pt x="539" y="86"/>
                  </a:lnTo>
                  <a:lnTo>
                    <a:pt x="529" y="93"/>
                  </a:lnTo>
                  <a:lnTo>
                    <a:pt x="481" y="109"/>
                  </a:lnTo>
                  <a:lnTo>
                    <a:pt x="433" y="125"/>
                  </a:lnTo>
                  <a:lnTo>
                    <a:pt x="406" y="137"/>
                  </a:lnTo>
                  <a:lnTo>
                    <a:pt x="380" y="148"/>
                  </a:lnTo>
                  <a:lnTo>
                    <a:pt x="353" y="161"/>
                  </a:lnTo>
                  <a:lnTo>
                    <a:pt x="328" y="174"/>
                  </a:lnTo>
                  <a:lnTo>
                    <a:pt x="301" y="187"/>
                  </a:lnTo>
                  <a:lnTo>
                    <a:pt x="276" y="201"/>
                  </a:lnTo>
                  <a:lnTo>
                    <a:pt x="251" y="214"/>
                  </a:lnTo>
                  <a:lnTo>
                    <a:pt x="225" y="227"/>
                  </a:lnTo>
                  <a:lnTo>
                    <a:pt x="200" y="241"/>
                  </a:lnTo>
                  <a:lnTo>
                    <a:pt x="176" y="257"/>
                  </a:lnTo>
                  <a:lnTo>
                    <a:pt x="151" y="274"/>
                  </a:lnTo>
                  <a:lnTo>
                    <a:pt x="128" y="289"/>
                  </a:lnTo>
                  <a:lnTo>
                    <a:pt x="101" y="301"/>
                  </a:lnTo>
                  <a:lnTo>
                    <a:pt x="79" y="299"/>
                  </a:lnTo>
                  <a:lnTo>
                    <a:pt x="64" y="284"/>
                  </a:lnTo>
                  <a:lnTo>
                    <a:pt x="58" y="257"/>
                  </a:lnTo>
                  <a:lnTo>
                    <a:pt x="54" y="227"/>
                  </a:lnTo>
                  <a:lnTo>
                    <a:pt x="46" y="196"/>
                  </a:lnTo>
                  <a:lnTo>
                    <a:pt x="35" y="163"/>
                  </a:lnTo>
                  <a:lnTo>
                    <a:pt x="22" y="129"/>
                  </a:lnTo>
                  <a:lnTo>
                    <a:pt x="3" y="66"/>
                  </a:lnTo>
                  <a:lnTo>
                    <a:pt x="0" y="12"/>
                  </a:lnTo>
                  <a:lnTo>
                    <a:pt x="7" y="3"/>
                  </a:lnTo>
                  <a:lnTo>
                    <a:pt x="16" y="0"/>
                  </a:lnTo>
                  <a:lnTo>
                    <a:pt x="31" y="16"/>
                  </a:lnTo>
                  <a:lnTo>
                    <a:pt x="38" y="49"/>
                  </a:lnTo>
                  <a:lnTo>
                    <a:pt x="46" y="75"/>
                  </a:lnTo>
                  <a:lnTo>
                    <a:pt x="56" y="95"/>
                  </a:lnTo>
                  <a:lnTo>
                    <a:pt x="67" y="111"/>
                  </a:lnTo>
                  <a:lnTo>
                    <a:pt x="80" y="127"/>
                  </a:lnTo>
                  <a:lnTo>
                    <a:pt x="94" y="144"/>
                  </a:lnTo>
                  <a:lnTo>
                    <a:pt x="110" y="165"/>
                  </a:lnTo>
                  <a:lnTo>
                    <a:pt x="127" y="191"/>
                  </a:lnTo>
                  <a:lnTo>
                    <a:pt x="127" y="191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378200">
              <a:off x="196560" y="208800"/>
              <a:ext cx="304200" cy="120240"/>
            </a:xfrm>
            <a:custGeom>
              <a:avLst/>
              <a:gdLst/>
              <a:ahLst/>
              <a:rect l="l" t="t" r="r" b="b"/>
              <a:pathLst>
                <a:path w="769" h="399">
                  <a:moveTo>
                    <a:pt x="210" y="308"/>
                  </a:moveTo>
                  <a:lnTo>
                    <a:pt x="241" y="287"/>
                  </a:lnTo>
                  <a:lnTo>
                    <a:pt x="270" y="268"/>
                  </a:lnTo>
                  <a:lnTo>
                    <a:pt x="296" y="249"/>
                  </a:lnTo>
                  <a:lnTo>
                    <a:pt x="324" y="231"/>
                  </a:lnTo>
                  <a:lnTo>
                    <a:pt x="352" y="213"/>
                  </a:lnTo>
                  <a:lnTo>
                    <a:pt x="381" y="196"/>
                  </a:lnTo>
                  <a:lnTo>
                    <a:pt x="412" y="179"/>
                  </a:lnTo>
                  <a:lnTo>
                    <a:pt x="445" y="162"/>
                  </a:lnTo>
                  <a:lnTo>
                    <a:pt x="475" y="154"/>
                  </a:lnTo>
                  <a:lnTo>
                    <a:pt x="523" y="146"/>
                  </a:lnTo>
                  <a:lnTo>
                    <a:pt x="641" y="132"/>
                  </a:lnTo>
                  <a:lnTo>
                    <a:pt x="743" y="127"/>
                  </a:lnTo>
                  <a:lnTo>
                    <a:pt x="769" y="130"/>
                  </a:lnTo>
                  <a:lnTo>
                    <a:pt x="768" y="137"/>
                  </a:lnTo>
                  <a:lnTo>
                    <a:pt x="395" y="273"/>
                  </a:lnTo>
                  <a:lnTo>
                    <a:pt x="371" y="288"/>
                  </a:lnTo>
                  <a:lnTo>
                    <a:pt x="348" y="303"/>
                  </a:lnTo>
                  <a:lnTo>
                    <a:pt x="325" y="319"/>
                  </a:lnTo>
                  <a:lnTo>
                    <a:pt x="303" y="336"/>
                  </a:lnTo>
                  <a:lnTo>
                    <a:pt x="281" y="353"/>
                  </a:lnTo>
                  <a:lnTo>
                    <a:pt x="260" y="370"/>
                  </a:lnTo>
                  <a:lnTo>
                    <a:pt x="236" y="386"/>
                  </a:lnTo>
                  <a:lnTo>
                    <a:pt x="212" y="399"/>
                  </a:lnTo>
                  <a:lnTo>
                    <a:pt x="180" y="396"/>
                  </a:lnTo>
                  <a:lnTo>
                    <a:pt x="162" y="384"/>
                  </a:lnTo>
                  <a:lnTo>
                    <a:pt x="142" y="364"/>
                  </a:lnTo>
                  <a:lnTo>
                    <a:pt x="122" y="339"/>
                  </a:lnTo>
                  <a:lnTo>
                    <a:pt x="103" y="310"/>
                  </a:lnTo>
                  <a:lnTo>
                    <a:pt x="84" y="277"/>
                  </a:lnTo>
                  <a:lnTo>
                    <a:pt x="66" y="242"/>
                  </a:lnTo>
                  <a:lnTo>
                    <a:pt x="48" y="207"/>
                  </a:lnTo>
                  <a:lnTo>
                    <a:pt x="33" y="170"/>
                  </a:lnTo>
                  <a:lnTo>
                    <a:pt x="21" y="134"/>
                  </a:lnTo>
                  <a:lnTo>
                    <a:pt x="10" y="99"/>
                  </a:lnTo>
                  <a:lnTo>
                    <a:pt x="0" y="40"/>
                  </a:lnTo>
                  <a:lnTo>
                    <a:pt x="6" y="0"/>
                  </a:lnTo>
                  <a:lnTo>
                    <a:pt x="15" y="9"/>
                  </a:lnTo>
                  <a:lnTo>
                    <a:pt x="27" y="45"/>
                  </a:lnTo>
                  <a:lnTo>
                    <a:pt x="38" y="89"/>
                  </a:lnTo>
                  <a:lnTo>
                    <a:pt x="46" y="117"/>
                  </a:lnTo>
                  <a:lnTo>
                    <a:pt x="55" y="134"/>
                  </a:lnTo>
                  <a:lnTo>
                    <a:pt x="63" y="151"/>
                  </a:lnTo>
                  <a:lnTo>
                    <a:pt x="73" y="165"/>
                  </a:lnTo>
                  <a:lnTo>
                    <a:pt x="82" y="178"/>
                  </a:lnTo>
                  <a:lnTo>
                    <a:pt x="99" y="201"/>
                  </a:lnTo>
                  <a:lnTo>
                    <a:pt x="119" y="221"/>
                  </a:lnTo>
                  <a:lnTo>
                    <a:pt x="128" y="231"/>
                  </a:lnTo>
                  <a:lnTo>
                    <a:pt x="138" y="241"/>
                  </a:lnTo>
                  <a:lnTo>
                    <a:pt x="160" y="260"/>
                  </a:lnTo>
                  <a:lnTo>
                    <a:pt x="172" y="271"/>
                  </a:lnTo>
                  <a:lnTo>
                    <a:pt x="185" y="283"/>
                  </a:lnTo>
                  <a:lnTo>
                    <a:pt x="197" y="294"/>
                  </a:lnTo>
                  <a:lnTo>
                    <a:pt x="210" y="308"/>
                  </a:lnTo>
                  <a:lnTo>
                    <a:pt x="210" y="308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6378200">
              <a:off x="254880" y="298080"/>
              <a:ext cx="379080" cy="74160"/>
            </a:xfrm>
            <a:custGeom>
              <a:avLst/>
              <a:gdLst/>
              <a:ahLst/>
              <a:rect l="l" t="t" r="r" b="b"/>
              <a:pathLst>
                <a:path w="956" h="248">
                  <a:moveTo>
                    <a:pt x="57" y="0"/>
                  </a:moveTo>
                  <a:lnTo>
                    <a:pt x="96" y="17"/>
                  </a:lnTo>
                  <a:lnTo>
                    <a:pt x="134" y="39"/>
                  </a:lnTo>
                  <a:lnTo>
                    <a:pt x="152" y="51"/>
                  </a:lnTo>
                  <a:lnTo>
                    <a:pt x="171" y="63"/>
                  </a:lnTo>
                  <a:lnTo>
                    <a:pt x="188" y="76"/>
                  </a:lnTo>
                  <a:lnTo>
                    <a:pt x="207" y="89"/>
                  </a:lnTo>
                  <a:lnTo>
                    <a:pt x="225" y="102"/>
                  </a:lnTo>
                  <a:lnTo>
                    <a:pt x="244" y="113"/>
                  </a:lnTo>
                  <a:lnTo>
                    <a:pt x="262" y="125"/>
                  </a:lnTo>
                  <a:lnTo>
                    <a:pt x="280" y="137"/>
                  </a:lnTo>
                  <a:lnTo>
                    <a:pt x="300" y="146"/>
                  </a:lnTo>
                  <a:lnTo>
                    <a:pt x="321" y="155"/>
                  </a:lnTo>
                  <a:lnTo>
                    <a:pt x="364" y="166"/>
                  </a:lnTo>
                  <a:lnTo>
                    <a:pt x="387" y="164"/>
                  </a:lnTo>
                  <a:lnTo>
                    <a:pt x="407" y="151"/>
                  </a:lnTo>
                  <a:lnTo>
                    <a:pt x="426" y="136"/>
                  </a:lnTo>
                  <a:lnTo>
                    <a:pt x="445" y="123"/>
                  </a:lnTo>
                  <a:lnTo>
                    <a:pt x="492" y="109"/>
                  </a:lnTo>
                  <a:lnTo>
                    <a:pt x="553" y="98"/>
                  </a:lnTo>
                  <a:lnTo>
                    <a:pt x="621" y="88"/>
                  </a:lnTo>
                  <a:lnTo>
                    <a:pt x="695" y="82"/>
                  </a:lnTo>
                  <a:lnTo>
                    <a:pt x="838" y="81"/>
                  </a:lnTo>
                  <a:lnTo>
                    <a:pt x="944" y="100"/>
                  </a:lnTo>
                  <a:lnTo>
                    <a:pt x="956" y="116"/>
                  </a:lnTo>
                  <a:lnTo>
                    <a:pt x="952" y="123"/>
                  </a:lnTo>
                  <a:lnTo>
                    <a:pt x="939" y="127"/>
                  </a:lnTo>
                  <a:lnTo>
                    <a:pt x="831" y="120"/>
                  </a:lnTo>
                  <a:lnTo>
                    <a:pt x="742" y="129"/>
                  </a:lnTo>
                  <a:lnTo>
                    <a:pt x="651" y="149"/>
                  </a:lnTo>
                  <a:lnTo>
                    <a:pt x="606" y="163"/>
                  </a:lnTo>
                  <a:lnTo>
                    <a:pt x="562" y="177"/>
                  </a:lnTo>
                  <a:lnTo>
                    <a:pt x="518" y="191"/>
                  </a:lnTo>
                  <a:lnTo>
                    <a:pt x="477" y="205"/>
                  </a:lnTo>
                  <a:lnTo>
                    <a:pt x="442" y="221"/>
                  </a:lnTo>
                  <a:lnTo>
                    <a:pt x="410" y="238"/>
                  </a:lnTo>
                  <a:lnTo>
                    <a:pt x="375" y="248"/>
                  </a:lnTo>
                  <a:lnTo>
                    <a:pt x="336" y="246"/>
                  </a:lnTo>
                  <a:lnTo>
                    <a:pt x="294" y="234"/>
                  </a:lnTo>
                  <a:lnTo>
                    <a:pt x="254" y="215"/>
                  </a:lnTo>
                  <a:lnTo>
                    <a:pt x="234" y="204"/>
                  </a:lnTo>
                  <a:lnTo>
                    <a:pt x="214" y="191"/>
                  </a:lnTo>
                  <a:lnTo>
                    <a:pt x="194" y="180"/>
                  </a:lnTo>
                  <a:lnTo>
                    <a:pt x="174" y="166"/>
                  </a:lnTo>
                  <a:lnTo>
                    <a:pt x="155" y="153"/>
                  </a:lnTo>
                  <a:lnTo>
                    <a:pt x="135" y="140"/>
                  </a:lnTo>
                  <a:lnTo>
                    <a:pt x="117" y="127"/>
                  </a:lnTo>
                  <a:lnTo>
                    <a:pt x="97" y="113"/>
                  </a:lnTo>
                  <a:lnTo>
                    <a:pt x="79" y="101"/>
                  </a:lnTo>
                  <a:lnTo>
                    <a:pt x="59" y="88"/>
                  </a:lnTo>
                  <a:lnTo>
                    <a:pt x="41" y="77"/>
                  </a:lnTo>
                  <a:lnTo>
                    <a:pt x="22" y="66"/>
                  </a:lnTo>
                  <a:lnTo>
                    <a:pt x="0" y="42"/>
                  </a:lnTo>
                  <a:lnTo>
                    <a:pt x="2" y="17"/>
                  </a:lnTo>
                  <a:lnTo>
                    <a:pt x="12" y="6"/>
                  </a:lnTo>
                  <a:lnTo>
                    <a:pt x="23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378200">
              <a:off x="-3600" y="583200"/>
              <a:ext cx="342360" cy="351360"/>
            </a:xfrm>
            <a:custGeom>
              <a:avLst/>
              <a:gdLst/>
              <a:ahLst/>
              <a:rect l="l" t="t" r="r" b="b"/>
              <a:pathLst>
                <a:path w="863" h="1161">
                  <a:moveTo>
                    <a:pt x="62" y="909"/>
                  </a:moveTo>
                  <a:lnTo>
                    <a:pt x="83" y="895"/>
                  </a:lnTo>
                  <a:lnTo>
                    <a:pt x="106" y="884"/>
                  </a:lnTo>
                  <a:lnTo>
                    <a:pt x="129" y="872"/>
                  </a:lnTo>
                  <a:lnTo>
                    <a:pt x="153" y="861"/>
                  </a:lnTo>
                  <a:lnTo>
                    <a:pt x="132" y="843"/>
                  </a:lnTo>
                  <a:lnTo>
                    <a:pt x="111" y="819"/>
                  </a:lnTo>
                  <a:lnTo>
                    <a:pt x="90" y="791"/>
                  </a:lnTo>
                  <a:lnTo>
                    <a:pt x="79" y="775"/>
                  </a:lnTo>
                  <a:lnTo>
                    <a:pt x="69" y="759"/>
                  </a:lnTo>
                  <a:lnTo>
                    <a:pt x="49" y="724"/>
                  </a:lnTo>
                  <a:lnTo>
                    <a:pt x="33" y="690"/>
                  </a:lnTo>
                  <a:lnTo>
                    <a:pt x="19" y="654"/>
                  </a:lnTo>
                  <a:lnTo>
                    <a:pt x="8" y="619"/>
                  </a:lnTo>
                  <a:lnTo>
                    <a:pt x="0" y="555"/>
                  </a:lnTo>
                  <a:lnTo>
                    <a:pt x="4" y="528"/>
                  </a:lnTo>
                  <a:lnTo>
                    <a:pt x="14" y="507"/>
                  </a:lnTo>
                  <a:lnTo>
                    <a:pt x="22" y="499"/>
                  </a:lnTo>
                  <a:lnTo>
                    <a:pt x="31" y="493"/>
                  </a:lnTo>
                  <a:lnTo>
                    <a:pt x="55" y="484"/>
                  </a:lnTo>
                  <a:lnTo>
                    <a:pt x="129" y="494"/>
                  </a:lnTo>
                  <a:lnTo>
                    <a:pt x="115" y="468"/>
                  </a:lnTo>
                  <a:lnTo>
                    <a:pt x="102" y="440"/>
                  </a:lnTo>
                  <a:lnTo>
                    <a:pt x="90" y="409"/>
                  </a:lnTo>
                  <a:lnTo>
                    <a:pt x="79" y="378"/>
                  </a:lnTo>
                  <a:lnTo>
                    <a:pt x="54" y="256"/>
                  </a:lnTo>
                  <a:lnTo>
                    <a:pt x="56" y="205"/>
                  </a:lnTo>
                  <a:lnTo>
                    <a:pt x="62" y="185"/>
                  </a:lnTo>
                  <a:lnTo>
                    <a:pt x="71" y="169"/>
                  </a:lnTo>
                  <a:lnTo>
                    <a:pt x="84" y="158"/>
                  </a:lnTo>
                  <a:lnTo>
                    <a:pt x="101" y="152"/>
                  </a:lnTo>
                  <a:lnTo>
                    <a:pt x="147" y="161"/>
                  </a:lnTo>
                  <a:lnTo>
                    <a:pt x="157" y="129"/>
                  </a:lnTo>
                  <a:lnTo>
                    <a:pt x="169" y="101"/>
                  </a:lnTo>
                  <a:lnTo>
                    <a:pt x="183" y="74"/>
                  </a:lnTo>
                  <a:lnTo>
                    <a:pt x="200" y="52"/>
                  </a:lnTo>
                  <a:lnTo>
                    <a:pt x="209" y="43"/>
                  </a:lnTo>
                  <a:lnTo>
                    <a:pt x="219" y="33"/>
                  </a:lnTo>
                  <a:lnTo>
                    <a:pt x="239" y="19"/>
                  </a:lnTo>
                  <a:lnTo>
                    <a:pt x="259" y="7"/>
                  </a:lnTo>
                  <a:lnTo>
                    <a:pt x="281" y="1"/>
                  </a:lnTo>
                  <a:lnTo>
                    <a:pt x="325" y="0"/>
                  </a:lnTo>
                  <a:lnTo>
                    <a:pt x="369" y="19"/>
                  </a:lnTo>
                  <a:lnTo>
                    <a:pt x="407" y="58"/>
                  </a:lnTo>
                  <a:lnTo>
                    <a:pt x="424" y="86"/>
                  </a:lnTo>
                  <a:lnTo>
                    <a:pt x="438" y="121"/>
                  </a:lnTo>
                  <a:lnTo>
                    <a:pt x="461" y="106"/>
                  </a:lnTo>
                  <a:lnTo>
                    <a:pt x="482" y="94"/>
                  </a:lnTo>
                  <a:lnTo>
                    <a:pt x="519" y="78"/>
                  </a:lnTo>
                  <a:lnTo>
                    <a:pt x="549" y="69"/>
                  </a:lnTo>
                  <a:lnTo>
                    <a:pt x="572" y="69"/>
                  </a:lnTo>
                  <a:lnTo>
                    <a:pt x="603" y="88"/>
                  </a:lnTo>
                  <a:lnTo>
                    <a:pt x="615" y="127"/>
                  </a:lnTo>
                  <a:lnTo>
                    <a:pt x="611" y="180"/>
                  </a:lnTo>
                  <a:lnTo>
                    <a:pt x="604" y="209"/>
                  </a:lnTo>
                  <a:lnTo>
                    <a:pt x="596" y="239"/>
                  </a:lnTo>
                  <a:lnTo>
                    <a:pt x="585" y="268"/>
                  </a:lnTo>
                  <a:lnTo>
                    <a:pt x="573" y="296"/>
                  </a:lnTo>
                  <a:lnTo>
                    <a:pt x="560" y="322"/>
                  </a:lnTo>
                  <a:lnTo>
                    <a:pt x="548" y="345"/>
                  </a:lnTo>
                  <a:lnTo>
                    <a:pt x="585" y="336"/>
                  </a:lnTo>
                  <a:lnTo>
                    <a:pt x="617" y="333"/>
                  </a:lnTo>
                  <a:lnTo>
                    <a:pt x="667" y="341"/>
                  </a:lnTo>
                  <a:lnTo>
                    <a:pt x="700" y="367"/>
                  </a:lnTo>
                  <a:lnTo>
                    <a:pt x="718" y="406"/>
                  </a:lnTo>
                  <a:lnTo>
                    <a:pt x="724" y="454"/>
                  </a:lnTo>
                  <a:lnTo>
                    <a:pt x="721" y="505"/>
                  </a:lnTo>
                  <a:lnTo>
                    <a:pt x="708" y="558"/>
                  </a:lnTo>
                  <a:lnTo>
                    <a:pt x="699" y="582"/>
                  </a:lnTo>
                  <a:lnTo>
                    <a:pt x="690" y="605"/>
                  </a:lnTo>
                  <a:lnTo>
                    <a:pt x="747" y="592"/>
                  </a:lnTo>
                  <a:lnTo>
                    <a:pt x="792" y="591"/>
                  </a:lnTo>
                  <a:lnTo>
                    <a:pt x="825" y="600"/>
                  </a:lnTo>
                  <a:lnTo>
                    <a:pt x="847" y="618"/>
                  </a:lnTo>
                  <a:lnTo>
                    <a:pt x="859" y="644"/>
                  </a:lnTo>
                  <a:lnTo>
                    <a:pt x="863" y="678"/>
                  </a:lnTo>
                  <a:lnTo>
                    <a:pt x="859" y="716"/>
                  </a:lnTo>
                  <a:lnTo>
                    <a:pt x="849" y="758"/>
                  </a:lnTo>
                  <a:lnTo>
                    <a:pt x="835" y="802"/>
                  </a:lnTo>
                  <a:lnTo>
                    <a:pt x="826" y="825"/>
                  </a:lnTo>
                  <a:lnTo>
                    <a:pt x="817" y="848"/>
                  </a:lnTo>
                  <a:lnTo>
                    <a:pt x="807" y="870"/>
                  </a:lnTo>
                  <a:lnTo>
                    <a:pt x="797" y="892"/>
                  </a:lnTo>
                  <a:lnTo>
                    <a:pt x="785" y="914"/>
                  </a:lnTo>
                  <a:lnTo>
                    <a:pt x="775" y="935"/>
                  </a:lnTo>
                  <a:lnTo>
                    <a:pt x="763" y="955"/>
                  </a:lnTo>
                  <a:lnTo>
                    <a:pt x="753" y="974"/>
                  </a:lnTo>
                  <a:lnTo>
                    <a:pt x="743" y="993"/>
                  </a:lnTo>
                  <a:lnTo>
                    <a:pt x="732" y="1009"/>
                  </a:lnTo>
                  <a:lnTo>
                    <a:pt x="714" y="1038"/>
                  </a:lnTo>
                  <a:lnTo>
                    <a:pt x="700" y="1059"/>
                  </a:lnTo>
                  <a:lnTo>
                    <a:pt x="687" y="1071"/>
                  </a:lnTo>
                  <a:lnTo>
                    <a:pt x="673" y="1076"/>
                  </a:lnTo>
                  <a:lnTo>
                    <a:pt x="645" y="1072"/>
                  </a:lnTo>
                  <a:lnTo>
                    <a:pt x="627" y="1052"/>
                  </a:lnTo>
                  <a:lnTo>
                    <a:pt x="631" y="1022"/>
                  </a:lnTo>
                  <a:lnTo>
                    <a:pt x="642" y="1005"/>
                  </a:lnTo>
                  <a:lnTo>
                    <a:pt x="655" y="985"/>
                  </a:lnTo>
                  <a:lnTo>
                    <a:pt x="670" y="965"/>
                  </a:lnTo>
                  <a:lnTo>
                    <a:pt x="687" y="943"/>
                  </a:lnTo>
                  <a:lnTo>
                    <a:pt x="705" y="920"/>
                  </a:lnTo>
                  <a:lnTo>
                    <a:pt x="721" y="896"/>
                  </a:lnTo>
                  <a:lnTo>
                    <a:pt x="738" y="873"/>
                  </a:lnTo>
                  <a:lnTo>
                    <a:pt x="754" y="848"/>
                  </a:lnTo>
                  <a:lnTo>
                    <a:pt x="769" y="823"/>
                  </a:lnTo>
                  <a:lnTo>
                    <a:pt x="782" y="798"/>
                  </a:lnTo>
                  <a:lnTo>
                    <a:pt x="799" y="749"/>
                  </a:lnTo>
                  <a:lnTo>
                    <a:pt x="804" y="701"/>
                  </a:lnTo>
                  <a:lnTo>
                    <a:pt x="799" y="678"/>
                  </a:lnTo>
                  <a:lnTo>
                    <a:pt x="789" y="656"/>
                  </a:lnTo>
                  <a:lnTo>
                    <a:pt x="775" y="645"/>
                  </a:lnTo>
                  <a:lnTo>
                    <a:pt x="755" y="646"/>
                  </a:lnTo>
                  <a:lnTo>
                    <a:pt x="703" y="669"/>
                  </a:lnTo>
                  <a:lnTo>
                    <a:pt x="677" y="685"/>
                  </a:lnTo>
                  <a:lnTo>
                    <a:pt x="652" y="702"/>
                  </a:lnTo>
                  <a:lnTo>
                    <a:pt x="631" y="715"/>
                  </a:lnTo>
                  <a:lnTo>
                    <a:pt x="617" y="722"/>
                  </a:lnTo>
                  <a:lnTo>
                    <a:pt x="581" y="729"/>
                  </a:lnTo>
                  <a:lnTo>
                    <a:pt x="568" y="712"/>
                  </a:lnTo>
                  <a:lnTo>
                    <a:pt x="572" y="677"/>
                  </a:lnTo>
                  <a:lnTo>
                    <a:pt x="579" y="655"/>
                  </a:lnTo>
                  <a:lnTo>
                    <a:pt x="588" y="631"/>
                  </a:lnTo>
                  <a:lnTo>
                    <a:pt x="598" y="605"/>
                  </a:lnTo>
                  <a:lnTo>
                    <a:pt x="610" y="579"/>
                  </a:lnTo>
                  <a:lnTo>
                    <a:pt x="622" y="553"/>
                  </a:lnTo>
                  <a:lnTo>
                    <a:pt x="633" y="528"/>
                  </a:lnTo>
                  <a:lnTo>
                    <a:pt x="650" y="484"/>
                  </a:lnTo>
                  <a:lnTo>
                    <a:pt x="658" y="454"/>
                  </a:lnTo>
                  <a:lnTo>
                    <a:pt x="656" y="424"/>
                  </a:lnTo>
                  <a:lnTo>
                    <a:pt x="649" y="405"/>
                  </a:lnTo>
                  <a:lnTo>
                    <a:pt x="638" y="395"/>
                  </a:lnTo>
                  <a:lnTo>
                    <a:pt x="623" y="392"/>
                  </a:lnTo>
                  <a:lnTo>
                    <a:pt x="586" y="400"/>
                  </a:lnTo>
                  <a:lnTo>
                    <a:pt x="543" y="421"/>
                  </a:lnTo>
                  <a:lnTo>
                    <a:pt x="522" y="433"/>
                  </a:lnTo>
                  <a:lnTo>
                    <a:pt x="502" y="443"/>
                  </a:lnTo>
                  <a:lnTo>
                    <a:pt x="483" y="453"/>
                  </a:lnTo>
                  <a:lnTo>
                    <a:pt x="467" y="457"/>
                  </a:lnTo>
                  <a:lnTo>
                    <a:pt x="445" y="451"/>
                  </a:lnTo>
                  <a:lnTo>
                    <a:pt x="440" y="414"/>
                  </a:lnTo>
                  <a:lnTo>
                    <a:pt x="450" y="379"/>
                  </a:lnTo>
                  <a:lnTo>
                    <a:pt x="465" y="345"/>
                  </a:lnTo>
                  <a:lnTo>
                    <a:pt x="474" y="328"/>
                  </a:lnTo>
                  <a:lnTo>
                    <a:pt x="483" y="311"/>
                  </a:lnTo>
                  <a:lnTo>
                    <a:pt x="503" y="278"/>
                  </a:lnTo>
                  <a:lnTo>
                    <a:pt x="522" y="245"/>
                  </a:lnTo>
                  <a:lnTo>
                    <a:pt x="537" y="211"/>
                  </a:lnTo>
                  <a:lnTo>
                    <a:pt x="547" y="142"/>
                  </a:lnTo>
                  <a:lnTo>
                    <a:pt x="506" y="159"/>
                  </a:lnTo>
                  <a:lnTo>
                    <a:pt x="480" y="179"/>
                  </a:lnTo>
                  <a:lnTo>
                    <a:pt x="458" y="203"/>
                  </a:lnTo>
                  <a:lnTo>
                    <a:pt x="445" y="217"/>
                  </a:lnTo>
                  <a:lnTo>
                    <a:pt x="432" y="234"/>
                  </a:lnTo>
                  <a:lnTo>
                    <a:pt x="415" y="250"/>
                  </a:lnTo>
                  <a:lnTo>
                    <a:pt x="402" y="259"/>
                  </a:lnTo>
                  <a:lnTo>
                    <a:pt x="386" y="254"/>
                  </a:lnTo>
                  <a:lnTo>
                    <a:pt x="372" y="184"/>
                  </a:lnTo>
                  <a:lnTo>
                    <a:pt x="365" y="138"/>
                  </a:lnTo>
                  <a:lnTo>
                    <a:pt x="360" y="114"/>
                  </a:lnTo>
                  <a:lnTo>
                    <a:pt x="352" y="94"/>
                  </a:lnTo>
                  <a:lnTo>
                    <a:pt x="340" y="77"/>
                  </a:lnTo>
                  <a:lnTo>
                    <a:pt x="325" y="64"/>
                  </a:lnTo>
                  <a:lnTo>
                    <a:pt x="305" y="55"/>
                  </a:lnTo>
                  <a:lnTo>
                    <a:pt x="280" y="54"/>
                  </a:lnTo>
                  <a:lnTo>
                    <a:pt x="250" y="68"/>
                  </a:lnTo>
                  <a:lnTo>
                    <a:pt x="232" y="100"/>
                  </a:lnTo>
                  <a:lnTo>
                    <a:pt x="215" y="183"/>
                  </a:lnTo>
                  <a:lnTo>
                    <a:pt x="207" y="220"/>
                  </a:lnTo>
                  <a:lnTo>
                    <a:pt x="202" y="234"/>
                  </a:lnTo>
                  <a:lnTo>
                    <a:pt x="194" y="243"/>
                  </a:lnTo>
                  <a:lnTo>
                    <a:pt x="169" y="245"/>
                  </a:lnTo>
                  <a:lnTo>
                    <a:pt x="128" y="219"/>
                  </a:lnTo>
                  <a:lnTo>
                    <a:pt x="115" y="263"/>
                  </a:lnTo>
                  <a:lnTo>
                    <a:pt x="123" y="321"/>
                  </a:lnTo>
                  <a:lnTo>
                    <a:pt x="131" y="353"/>
                  </a:lnTo>
                  <a:lnTo>
                    <a:pt x="143" y="386"/>
                  </a:lnTo>
                  <a:lnTo>
                    <a:pt x="154" y="420"/>
                  </a:lnTo>
                  <a:lnTo>
                    <a:pt x="167" y="453"/>
                  </a:lnTo>
                  <a:lnTo>
                    <a:pt x="179" y="483"/>
                  </a:lnTo>
                  <a:lnTo>
                    <a:pt x="188" y="512"/>
                  </a:lnTo>
                  <a:lnTo>
                    <a:pt x="197" y="558"/>
                  </a:lnTo>
                  <a:lnTo>
                    <a:pt x="195" y="574"/>
                  </a:lnTo>
                  <a:lnTo>
                    <a:pt x="188" y="583"/>
                  </a:lnTo>
                  <a:lnTo>
                    <a:pt x="152" y="582"/>
                  </a:lnTo>
                  <a:lnTo>
                    <a:pt x="114" y="564"/>
                  </a:lnTo>
                  <a:lnTo>
                    <a:pt x="96" y="555"/>
                  </a:lnTo>
                  <a:lnTo>
                    <a:pt x="75" y="550"/>
                  </a:lnTo>
                  <a:lnTo>
                    <a:pt x="62" y="575"/>
                  </a:lnTo>
                  <a:lnTo>
                    <a:pt x="57" y="601"/>
                  </a:lnTo>
                  <a:lnTo>
                    <a:pt x="62" y="626"/>
                  </a:lnTo>
                  <a:lnTo>
                    <a:pt x="71" y="653"/>
                  </a:lnTo>
                  <a:lnTo>
                    <a:pt x="87" y="678"/>
                  </a:lnTo>
                  <a:lnTo>
                    <a:pt x="97" y="691"/>
                  </a:lnTo>
                  <a:lnTo>
                    <a:pt x="107" y="703"/>
                  </a:lnTo>
                  <a:lnTo>
                    <a:pt x="129" y="729"/>
                  </a:lnTo>
                  <a:lnTo>
                    <a:pt x="141" y="740"/>
                  </a:lnTo>
                  <a:lnTo>
                    <a:pt x="152" y="752"/>
                  </a:lnTo>
                  <a:lnTo>
                    <a:pt x="165" y="763"/>
                  </a:lnTo>
                  <a:lnTo>
                    <a:pt x="176" y="775"/>
                  </a:lnTo>
                  <a:lnTo>
                    <a:pt x="188" y="787"/>
                  </a:lnTo>
                  <a:lnTo>
                    <a:pt x="199" y="797"/>
                  </a:lnTo>
                  <a:lnTo>
                    <a:pt x="210" y="808"/>
                  </a:lnTo>
                  <a:lnTo>
                    <a:pt x="220" y="817"/>
                  </a:lnTo>
                  <a:lnTo>
                    <a:pt x="237" y="836"/>
                  </a:lnTo>
                  <a:lnTo>
                    <a:pt x="257" y="869"/>
                  </a:lnTo>
                  <a:lnTo>
                    <a:pt x="257" y="882"/>
                  </a:lnTo>
                  <a:lnTo>
                    <a:pt x="248" y="893"/>
                  </a:lnTo>
                  <a:lnTo>
                    <a:pt x="233" y="902"/>
                  </a:lnTo>
                  <a:lnTo>
                    <a:pt x="217" y="909"/>
                  </a:lnTo>
                  <a:lnTo>
                    <a:pt x="182" y="918"/>
                  </a:lnTo>
                  <a:lnTo>
                    <a:pt x="115" y="944"/>
                  </a:lnTo>
                  <a:lnTo>
                    <a:pt x="117" y="973"/>
                  </a:lnTo>
                  <a:lnTo>
                    <a:pt x="127" y="989"/>
                  </a:lnTo>
                  <a:lnTo>
                    <a:pt x="143" y="1004"/>
                  </a:lnTo>
                  <a:lnTo>
                    <a:pt x="162" y="1018"/>
                  </a:lnTo>
                  <a:lnTo>
                    <a:pt x="184" y="1033"/>
                  </a:lnTo>
                  <a:lnTo>
                    <a:pt x="211" y="1047"/>
                  </a:lnTo>
                  <a:lnTo>
                    <a:pt x="239" y="1061"/>
                  </a:lnTo>
                  <a:lnTo>
                    <a:pt x="267" y="1073"/>
                  </a:lnTo>
                  <a:lnTo>
                    <a:pt x="296" y="1085"/>
                  </a:lnTo>
                  <a:lnTo>
                    <a:pt x="325" y="1094"/>
                  </a:lnTo>
                  <a:lnTo>
                    <a:pt x="353" y="1103"/>
                  </a:lnTo>
                  <a:lnTo>
                    <a:pt x="401" y="1115"/>
                  </a:lnTo>
                  <a:lnTo>
                    <a:pt x="437" y="1120"/>
                  </a:lnTo>
                  <a:lnTo>
                    <a:pt x="455" y="1130"/>
                  </a:lnTo>
                  <a:lnTo>
                    <a:pt x="454" y="1140"/>
                  </a:lnTo>
                  <a:lnTo>
                    <a:pt x="444" y="1147"/>
                  </a:lnTo>
                  <a:lnTo>
                    <a:pt x="415" y="1156"/>
                  </a:lnTo>
                  <a:lnTo>
                    <a:pt x="384" y="1161"/>
                  </a:lnTo>
                  <a:lnTo>
                    <a:pt x="316" y="1158"/>
                  </a:lnTo>
                  <a:lnTo>
                    <a:pt x="243" y="1142"/>
                  </a:lnTo>
                  <a:lnTo>
                    <a:pt x="209" y="1129"/>
                  </a:lnTo>
                  <a:lnTo>
                    <a:pt x="175" y="1113"/>
                  </a:lnTo>
                  <a:lnTo>
                    <a:pt x="144" y="1094"/>
                  </a:lnTo>
                  <a:lnTo>
                    <a:pt x="116" y="1073"/>
                  </a:lnTo>
                  <a:lnTo>
                    <a:pt x="104" y="1062"/>
                  </a:lnTo>
                  <a:lnTo>
                    <a:pt x="93" y="1050"/>
                  </a:lnTo>
                  <a:lnTo>
                    <a:pt x="74" y="1025"/>
                  </a:lnTo>
                  <a:lnTo>
                    <a:pt x="53" y="969"/>
                  </a:lnTo>
                  <a:lnTo>
                    <a:pt x="53" y="955"/>
                  </a:lnTo>
                  <a:lnTo>
                    <a:pt x="54" y="939"/>
                  </a:lnTo>
                  <a:lnTo>
                    <a:pt x="62" y="909"/>
                  </a:lnTo>
                  <a:lnTo>
                    <a:pt x="62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378200">
              <a:off x="243720" y="840240"/>
              <a:ext cx="483840" cy="268560"/>
            </a:xfrm>
            <a:custGeom>
              <a:avLst/>
              <a:gdLst/>
              <a:ahLst/>
              <a:rect l="l" t="t" r="r" b="b"/>
              <a:pathLst>
                <a:path w="1218" h="887">
                  <a:moveTo>
                    <a:pt x="754" y="47"/>
                  </a:moveTo>
                  <a:lnTo>
                    <a:pt x="752" y="96"/>
                  </a:lnTo>
                  <a:lnTo>
                    <a:pt x="754" y="144"/>
                  </a:lnTo>
                  <a:lnTo>
                    <a:pt x="693" y="132"/>
                  </a:lnTo>
                  <a:lnTo>
                    <a:pt x="616" y="129"/>
                  </a:lnTo>
                  <a:lnTo>
                    <a:pt x="452" y="151"/>
                  </a:lnTo>
                  <a:lnTo>
                    <a:pt x="389" y="176"/>
                  </a:lnTo>
                  <a:lnTo>
                    <a:pt x="350" y="211"/>
                  </a:lnTo>
                  <a:lnTo>
                    <a:pt x="344" y="232"/>
                  </a:lnTo>
                  <a:lnTo>
                    <a:pt x="348" y="255"/>
                  </a:lnTo>
                  <a:lnTo>
                    <a:pt x="355" y="268"/>
                  </a:lnTo>
                  <a:lnTo>
                    <a:pt x="365" y="280"/>
                  </a:lnTo>
                  <a:lnTo>
                    <a:pt x="378" y="294"/>
                  </a:lnTo>
                  <a:lnTo>
                    <a:pt x="395" y="309"/>
                  </a:lnTo>
                  <a:lnTo>
                    <a:pt x="260" y="327"/>
                  </a:lnTo>
                  <a:lnTo>
                    <a:pt x="191" y="346"/>
                  </a:lnTo>
                  <a:lnTo>
                    <a:pt x="132" y="369"/>
                  </a:lnTo>
                  <a:lnTo>
                    <a:pt x="106" y="381"/>
                  </a:lnTo>
                  <a:lnTo>
                    <a:pt x="84" y="395"/>
                  </a:lnTo>
                  <a:lnTo>
                    <a:pt x="58" y="425"/>
                  </a:lnTo>
                  <a:lnTo>
                    <a:pt x="58" y="457"/>
                  </a:lnTo>
                  <a:lnTo>
                    <a:pt x="68" y="473"/>
                  </a:lnTo>
                  <a:lnTo>
                    <a:pt x="77" y="481"/>
                  </a:lnTo>
                  <a:lnTo>
                    <a:pt x="89" y="490"/>
                  </a:lnTo>
                  <a:lnTo>
                    <a:pt x="75" y="501"/>
                  </a:lnTo>
                  <a:lnTo>
                    <a:pt x="63" y="513"/>
                  </a:lnTo>
                  <a:lnTo>
                    <a:pt x="42" y="537"/>
                  </a:lnTo>
                  <a:lnTo>
                    <a:pt x="12" y="586"/>
                  </a:lnTo>
                  <a:lnTo>
                    <a:pt x="0" y="633"/>
                  </a:lnTo>
                  <a:lnTo>
                    <a:pt x="3" y="675"/>
                  </a:lnTo>
                  <a:lnTo>
                    <a:pt x="12" y="695"/>
                  </a:lnTo>
                  <a:lnTo>
                    <a:pt x="24" y="711"/>
                  </a:lnTo>
                  <a:lnTo>
                    <a:pt x="43" y="725"/>
                  </a:lnTo>
                  <a:lnTo>
                    <a:pt x="63" y="735"/>
                  </a:lnTo>
                  <a:lnTo>
                    <a:pt x="90" y="743"/>
                  </a:lnTo>
                  <a:lnTo>
                    <a:pt x="121" y="747"/>
                  </a:lnTo>
                  <a:lnTo>
                    <a:pt x="195" y="741"/>
                  </a:lnTo>
                  <a:lnTo>
                    <a:pt x="193" y="788"/>
                  </a:lnTo>
                  <a:lnTo>
                    <a:pt x="195" y="826"/>
                  </a:lnTo>
                  <a:lnTo>
                    <a:pt x="202" y="853"/>
                  </a:lnTo>
                  <a:lnTo>
                    <a:pt x="213" y="872"/>
                  </a:lnTo>
                  <a:lnTo>
                    <a:pt x="228" y="883"/>
                  </a:lnTo>
                  <a:lnTo>
                    <a:pt x="247" y="887"/>
                  </a:lnTo>
                  <a:lnTo>
                    <a:pt x="291" y="877"/>
                  </a:lnTo>
                  <a:lnTo>
                    <a:pt x="314" y="864"/>
                  </a:lnTo>
                  <a:lnTo>
                    <a:pt x="338" y="847"/>
                  </a:lnTo>
                  <a:lnTo>
                    <a:pt x="362" y="827"/>
                  </a:lnTo>
                  <a:lnTo>
                    <a:pt x="375" y="816"/>
                  </a:lnTo>
                  <a:lnTo>
                    <a:pt x="386" y="806"/>
                  </a:lnTo>
                  <a:lnTo>
                    <a:pt x="398" y="794"/>
                  </a:lnTo>
                  <a:lnTo>
                    <a:pt x="408" y="783"/>
                  </a:lnTo>
                  <a:lnTo>
                    <a:pt x="429" y="760"/>
                  </a:lnTo>
                  <a:lnTo>
                    <a:pt x="448" y="736"/>
                  </a:lnTo>
                  <a:lnTo>
                    <a:pt x="463" y="714"/>
                  </a:lnTo>
                  <a:lnTo>
                    <a:pt x="473" y="749"/>
                  </a:lnTo>
                  <a:lnTo>
                    <a:pt x="486" y="775"/>
                  </a:lnTo>
                  <a:lnTo>
                    <a:pt x="501" y="796"/>
                  </a:lnTo>
                  <a:lnTo>
                    <a:pt x="518" y="811"/>
                  </a:lnTo>
                  <a:lnTo>
                    <a:pt x="539" y="821"/>
                  </a:lnTo>
                  <a:lnTo>
                    <a:pt x="559" y="824"/>
                  </a:lnTo>
                  <a:lnTo>
                    <a:pt x="606" y="820"/>
                  </a:lnTo>
                  <a:lnTo>
                    <a:pt x="654" y="801"/>
                  </a:lnTo>
                  <a:lnTo>
                    <a:pt x="678" y="787"/>
                  </a:lnTo>
                  <a:lnTo>
                    <a:pt x="701" y="771"/>
                  </a:lnTo>
                  <a:lnTo>
                    <a:pt x="724" y="753"/>
                  </a:lnTo>
                  <a:lnTo>
                    <a:pt x="745" y="735"/>
                  </a:lnTo>
                  <a:lnTo>
                    <a:pt x="764" y="715"/>
                  </a:lnTo>
                  <a:lnTo>
                    <a:pt x="781" y="696"/>
                  </a:lnTo>
                  <a:lnTo>
                    <a:pt x="788" y="725"/>
                  </a:lnTo>
                  <a:lnTo>
                    <a:pt x="797" y="749"/>
                  </a:lnTo>
                  <a:lnTo>
                    <a:pt x="806" y="769"/>
                  </a:lnTo>
                  <a:lnTo>
                    <a:pt x="818" y="786"/>
                  </a:lnTo>
                  <a:lnTo>
                    <a:pt x="829" y="799"/>
                  </a:lnTo>
                  <a:lnTo>
                    <a:pt x="842" y="807"/>
                  </a:lnTo>
                  <a:lnTo>
                    <a:pt x="871" y="815"/>
                  </a:lnTo>
                  <a:lnTo>
                    <a:pt x="902" y="811"/>
                  </a:lnTo>
                  <a:lnTo>
                    <a:pt x="936" y="798"/>
                  </a:lnTo>
                  <a:lnTo>
                    <a:pt x="970" y="775"/>
                  </a:lnTo>
                  <a:lnTo>
                    <a:pt x="987" y="762"/>
                  </a:lnTo>
                  <a:lnTo>
                    <a:pt x="1005" y="747"/>
                  </a:lnTo>
                  <a:lnTo>
                    <a:pt x="1022" y="730"/>
                  </a:lnTo>
                  <a:lnTo>
                    <a:pt x="1039" y="713"/>
                  </a:lnTo>
                  <a:lnTo>
                    <a:pt x="1057" y="695"/>
                  </a:lnTo>
                  <a:lnTo>
                    <a:pt x="1074" y="676"/>
                  </a:lnTo>
                  <a:lnTo>
                    <a:pt x="1090" y="657"/>
                  </a:lnTo>
                  <a:lnTo>
                    <a:pt x="1105" y="637"/>
                  </a:lnTo>
                  <a:lnTo>
                    <a:pt x="1121" y="618"/>
                  </a:lnTo>
                  <a:lnTo>
                    <a:pt x="1135" y="599"/>
                  </a:lnTo>
                  <a:lnTo>
                    <a:pt x="1149" y="581"/>
                  </a:lnTo>
                  <a:lnTo>
                    <a:pt x="1162" y="563"/>
                  </a:lnTo>
                  <a:lnTo>
                    <a:pt x="1173" y="545"/>
                  </a:lnTo>
                  <a:lnTo>
                    <a:pt x="1185" y="529"/>
                  </a:lnTo>
                  <a:lnTo>
                    <a:pt x="1194" y="514"/>
                  </a:lnTo>
                  <a:lnTo>
                    <a:pt x="1202" y="500"/>
                  </a:lnTo>
                  <a:lnTo>
                    <a:pt x="1216" y="478"/>
                  </a:lnTo>
                  <a:lnTo>
                    <a:pt x="1218" y="448"/>
                  </a:lnTo>
                  <a:lnTo>
                    <a:pt x="1211" y="437"/>
                  </a:lnTo>
                  <a:lnTo>
                    <a:pt x="1200" y="428"/>
                  </a:lnTo>
                  <a:lnTo>
                    <a:pt x="1172" y="425"/>
                  </a:lnTo>
                  <a:lnTo>
                    <a:pt x="1146" y="442"/>
                  </a:lnTo>
                  <a:lnTo>
                    <a:pt x="1122" y="480"/>
                  </a:lnTo>
                  <a:lnTo>
                    <a:pt x="1111" y="503"/>
                  </a:lnTo>
                  <a:lnTo>
                    <a:pt x="1098" y="526"/>
                  </a:lnTo>
                  <a:lnTo>
                    <a:pt x="1086" y="551"/>
                  </a:lnTo>
                  <a:lnTo>
                    <a:pt x="1072" y="576"/>
                  </a:lnTo>
                  <a:lnTo>
                    <a:pt x="1058" y="602"/>
                  </a:lnTo>
                  <a:lnTo>
                    <a:pt x="1043" y="627"/>
                  </a:lnTo>
                  <a:lnTo>
                    <a:pt x="1027" y="651"/>
                  </a:lnTo>
                  <a:lnTo>
                    <a:pt x="1009" y="673"/>
                  </a:lnTo>
                  <a:lnTo>
                    <a:pt x="991" y="694"/>
                  </a:lnTo>
                  <a:lnTo>
                    <a:pt x="982" y="704"/>
                  </a:lnTo>
                  <a:lnTo>
                    <a:pt x="971" y="712"/>
                  </a:lnTo>
                  <a:lnTo>
                    <a:pt x="951" y="727"/>
                  </a:lnTo>
                  <a:lnTo>
                    <a:pt x="927" y="740"/>
                  </a:lnTo>
                  <a:lnTo>
                    <a:pt x="903" y="747"/>
                  </a:lnTo>
                  <a:lnTo>
                    <a:pt x="878" y="750"/>
                  </a:lnTo>
                  <a:lnTo>
                    <a:pt x="862" y="745"/>
                  </a:lnTo>
                  <a:lnTo>
                    <a:pt x="853" y="728"/>
                  </a:lnTo>
                  <a:lnTo>
                    <a:pt x="848" y="675"/>
                  </a:lnTo>
                  <a:lnTo>
                    <a:pt x="856" y="581"/>
                  </a:lnTo>
                  <a:lnTo>
                    <a:pt x="851" y="560"/>
                  </a:lnTo>
                  <a:lnTo>
                    <a:pt x="843" y="549"/>
                  </a:lnTo>
                  <a:lnTo>
                    <a:pt x="820" y="548"/>
                  </a:lnTo>
                  <a:lnTo>
                    <a:pt x="790" y="568"/>
                  </a:lnTo>
                  <a:lnTo>
                    <a:pt x="772" y="585"/>
                  </a:lnTo>
                  <a:lnTo>
                    <a:pt x="753" y="604"/>
                  </a:lnTo>
                  <a:lnTo>
                    <a:pt x="735" y="625"/>
                  </a:lnTo>
                  <a:lnTo>
                    <a:pt x="716" y="647"/>
                  </a:lnTo>
                  <a:lnTo>
                    <a:pt x="697" y="669"/>
                  </a:lnTo>
                  <a:lnTo>
                    <a:pt x="679" y="690"/>
                  </a:lnTo>
                  <a:lnTo>
                    <a:pt x="662" y="710"/>
                  </a:lnTo>
                  <a:lnTo>
                    <a:pt x="646" y="727"/>
                  </a:lnTo>
                  <a:lnTo>
                    <a:pt x="632" y="740"/>
                  </a:lnTo>
                  <a:lnTo>
                    <a:pt x="621" y="748"/>
                  </a:lnTo>
                  <a:lnTo>
                    <a:pt x="592" y="761"/>
                  </a:lnTo>
                  <a:lnTo>
                    <a:pt x="571" y="764"/>
                  </a:lnTo>
                  <a:lnTo>
                    <a:pt x="544" y="751"/>
                  </a:lnTo>
                  <a:lnTo>
                    <a:pt x="534" y="717"/>
                  </a:lnTo>
                  <a:lnTo>
                    <a:pt x="533" y="673"/>
                  </a:lnTo>
                  <a:lnTo>
                    <a:pt x="528" y="595"/>
                  </a:lnTo>
                  <a:lnTo>
                    <a:pt x="523" y="585"/>
                  </a:lnTo>
                  <a:lnTo>
                    <a:pt x="512" y="581"/>
                  </a:lnTo>
                  <a:lnTo>
                    <a:pt x="475" y="595"/>
                  </a:lnTo>
                  <a:lnTo>
                    <a:pt x="446" y="619"/>
                  </a:lnTo>
                  <a:lnTo>
                    <a:pt x="422" y="648"/>
                  </a:lnTo>
                  <a:lnTo>
                    <a:pt x="411" y="664"/>
                  </a:lnTo>
                  <a:lnTo>
                    <a:pt x="399" y="681"/>
                  </a:lnTo>
                  <a:lnTo>
                    <a:pt x="389" y="696"/>
                  </a:lnTo>
                  <a:lnTo>
                    <a:pt x="377" y="713"/>
                  </a:lnTo>
                  <a:lnTo>
                    <a:pt x="366" y="729"/>
                  </a:lnTo>
                  <a:lnTo>
                    <a:pt x="355" y="745"/>
                  </a:lnTo>
                  <a:lnTo>
                    <a:pt x="343" y="760"/>
                  </a:lnTo>
                  <a:lnTo>
                    <a:pt x="331" y="773"/>
                  </a:lnTo>
                  <a:lnTo>
                    <a:pt x="317" y="786"/>
                  </a:lnTo>
                  <a:lnTo>
                    <a:pt x="302" y="798"/>
                  </a:lnTo>
                  <a:lnTo>
                    <a:pt x="287" y="807"/>
                  </a:lnTo>
                  <a:lnTo>
                    <a:pt x="270" y="814"/>
                  </a:lnTo>
                  <a:lnTo>
                    <a:pt x="266" y="775"/>
                  </a:lnTo>
                  <a:lnTo>
                    <a:pt x="271" y="744"/>
                  </a:lnTo>
                  <a:lnTo>
                    <a:pt x="283" y="714"/>
                  </a:lnTo>
                  <a:lnTo>
                    <a:pt x="299" y="678"/>
                  </a:lnTo>
                  <a:lnTo>
                    <a:pt x="309" y="643"/>
                  </a:lnTo>
                  <a:lnTo>
                    <a:pt x="305" y="634"/>
                  </a:lnTo>
                  <a:lnTo>
                    <a:pt x="295" y="632"/>
                  </a:lnTo>
                  <a:lnTo>
                    <a:pt x="265" y="640"/>
                  </a:lnTo>
                  <a:lnTo>
                    <a:pt x="224" y="656"/>
                  </a:lnTo>
                  <a:lnTo>
                    <a:pt x="200" y="666"/>
                  </a:lnTo>
                  <a:lnTo>
                    <a:pt x="175" y="674"/>
                  </a:lnTo>
                  <a:lnTo>
                    <a:pt x="127" y="685"/>
                  </a:lnTo>
                  <a:lnTo>
                    <a:pt x="85" y="678"/>
                  </a:lnTo>
                  <a:lnTo>
                    <a:pt x="68" y="667"/>
                  </a:lnTo>
                  <a:lnTo>
                    <a:pt x="54" y="649"/>
                  </a:lnTo>
                  <a:lnTo>
                    <a:pt x="52" y="617"/>
                  </a:lnTo>
                  <a:lnTo>
                    <a:pt x="60" y="602"/>
                  </a:lnTo>
                  <a:lnTo>
                    <a:pt x="73" y="587"/>
                  </a:lnTo>
                  <a:lnTo>
                    <a:pt x="89" y="573"/>
                  </a:lnTo>
                  <a:lnTo>
                    <a:pt x="106" y="559"/>
                  </a:lnTo>
                  <a:lnTo>
                    <a:pt x="126" y="546"/>
                  </a:lnTo>
                  <a:lnTo>
                    <a:pt x="144" y="533"/>
                  </a:lnTo>
                  <a:lnTo>
                    <a:pt x="190" y="486"/>
                  </a:lnTo>
                  <a:lnTo>
                    <a:pt x="188" y="474"/>
                  </a:lnTo>
                  <a:lnTo>
                    <a:pt x="179" y="465"/>
                  </a:lnTo>
                  <a:lnTo>
                    <a:pt x="162" y="454"/>
                  </a:lnTo>
                  <a:lnTo>
                    <a:pt x="134" y="446"/>
                  </a:lnTo>
                  <a:lnTo>
                    <a:pt x="148" y="428"/>
                  </a:lnTo>
                  <a:lnTo>
                    <a:pt x="168" y="414"/>
                  </a:lnTo>
                  <a:lnTo>
                    <a:pt x="196" y="401"/>
                  </a:lnTo>
                  <a:lnTo>
                    <a:pt x="227" y="391"/>
                  </a:lnTo>
                  <a:lnTo>
                    <a:pt x="263" y="381"/>
                  </a:lnTo>
                  <a:lnTo>
                    <a:pt x="300" y="373"/>
                  </a:lnTo>
                  <a:lnTo>
                    <a:pt x="374" y="359"/>
                  </a:lnTo>
                  <a:lnTo>
                    <a:pt x="489" y="331"/>
                  </a:lnTo>
                  <a:lnTo>
                    <a:pt x="509" y="310"/>
                  </a:lnTo>
                  <a:lnTo>
                    <a:pt x="505" y="297"/>
                  </a:lnTo>
                  <a:lnTo>
                    <a:pt x="490" y="282"/>
                  </a:lnTo>
                  <a:lnTo>
                    <a:pt x="472" y="272"/>
                  </a:lnTo>
                  <a:lnTo>
                    <a:pt x="453" y="261"/>
                  </a:lnTo>
                  <a:lnTo>
                    <a:pt x="420" y="237"/>
                  </a:lnTo>
                  <a:lnTo>
                    <a:pt x="428" y="225"/>
                  </a:lnTo>
                  <a:lnTo>
                    <a:pt x="438" y="215"/>
                  </a:lnTo>
                  <a:lnTo>
                    <a:pt x="449" y="205"/>
                  </a:lnTo>
                  <a:lnTo>
                    <a:pt x="460" y="199"/>
                  </a:lnTo>
                  <a:lnTo>
                    <a:pt x="487" y="189"/>
                  </a:lnTo>
                  <a:lnTo>
                    <a:pt x="517" y="183"/>
                  </a:lnTo>
                  <a:lnTo>
                    <a:pt x="583" y="185"/>
                  </a:lnTo>
                  <a:lnTo>
                    <a:pt x="651" y="198"/>
                  </a:lnTo>
                  <a:lnTo>
                    <a:pt x="716" y="213"/>
                  </a:lnTo>
                  <a:lnTo>
                    <a:pt x="773" y="223"/>
                  </a:lnTo>
                  <a:lnTo>
                    <a:pt x="813" y="222"/>
                  </a:lnTo>
                  <a:lnTo>
                    <a:pt x="832" y="203"/>
                  </a:lnTo>
                  <a:lnTo>
                    <a:pt x="832" y="170"/>
                  </a:lnTo>
                  <a:lnTo>
                    <a:pt x="824" y="138"/>
                  </a:lnTo>
                  <a:lnTo>
                    <a:pt x="814" y="73"/>
                  </a:lnTo>
                  <a:lnTo>
                    <a:pt x="827" y="63"/>
                  </a:lnTo>
                  <a:lnTo>
                    <a:pt x="843" y="59"/>
                  </a:lnTo>
                  <a:lnTo>
                    <a:pt x="884" y="64"/>
                  </a:lnTo>
                  <a:lnTo>
                    <a:pt x="933" y="83"/>
                  </a:lnTo>
                  <a:lnTo>
                    <a:pt x="960" y="97"/>
                  </a:lnTo>
                  <a:lnTo>
                    <a:pt x="986" y="112"/>
                  </a:lnTo>
                  <a:lnTo>
                    <a:pt x="1012" y="129"/>
                  </a:lnTo>
                  <a:lnTo>
                    <a:pt x="1037" y="145"/>
                  </a:lnTo>
                  <a:lnTo>
                    <a:pt x="1061" y="163"/>
                  </a:lnTo>
                  <a:lnTo>
                    <a:pt x="1083" y="181"/>
                  </a:lnTo>
                  <a:lnTo>
                    <a:pt x="1103" y="198"/>
                  </a:lnTo>
                  <a:lnTo>
                    <a:pt x="1119" y="214"/>
                  </a:lnTo>
                  <a:lnTo>
                    <a:pt x="1141" y="239"/>
                  </a:lnTo>
                  <a:lnTo>
                    <a:pt x="1150" y="248"/>
                  </a:lnTo>
                  <a:lnTo>
                    <a:pt x="1161" y="249"/>
                  </a:lnTo>
                  <a:lnTo>
                    <a:pt x="1171" y="232"/>
                  </a:lnTo>
                  <a:lnTo>
                    <a:pt x="1165" y="204"/>
                  </a:lnTo>
                  <a:lnTo>
                    <a:pt x="1154" y="177"/>
                  </a:lnTo>
                  <a:lnTo>
                    <a:pt x="1137" y="151"/>
                  </a:lnTo>
                  <a:lnTo>
                    <a:pt x="1128" y="137"/>
                  </a:lnTo>
                  <a:lnTo>
                    <a:pt x="1118" y="123"/>
                  </a:lnTo>
                  <a:lnTo>
                    <a:pt x="1094" y="99"/>
                  </a:lnTo>
                  <a:lnTo>
                    <a:pt x="1080" y="86"/>
                  </a:lnTo>
                  <a:lnTo>
                    <a:pt x="1066" y="75"/>
                  </a:lnTo>
                  <a:lnTo>
                    <a:pt x="1051" y="64"/>
                  </a:lnTo>
                  <a:lnTo>
                    <a:pt x="1036" y="54"/>
                  </a:lnTo>
                  <a:lnTo>
                    <a:pt x="1020" y="44"/>
                  </a:lnTo>
                  <a:lnTo>
                    <a:pt x="1004" y="36"/>
                  </a:lnTo>
                  <a:lnTo>
                    <a:pt x="971" y="21"/>
                  </a:lnTo>
                  <a:lnTo>
                    <a:pt x="937" y="10"/>
                  </a:lnTo>
                  <a:lnTo>
                    <a:pt x="870" y="0"/>
                  </a:lnTo>
                  <a:lnTo>
                    <a:pt x="808" y="11"/>
                  </a:lnTo>
                  <a:lnTo>
                    <a:pt x="754" y="47"/>
                  </a:lnTo>
                  <a:lnTo>
                    <a:pt x="75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378200">
              <a:off x="68040" y="9360"/>
              <a:ext cx="614160" cy="596880"/>
            </a:xfrm>
            <a:custGeom>
              <a:avLst/>
              <a:gdLst/>
              <a:ahLst/>
              <a:rect l="l" t="t" r="r" b="b"/>
              <a:pathLst>
                <a:path w="1547" h="1979">
                  <a:moveTo>
                    <a:pt x="206" y="1599"/>
                  </a:moveTo>
                  <a:lnTo>
                    <a:pt x="227" y="1506"/>
                  </a:lnTo>
                  <a:lnTo>
                    <a:pt x="226" y="1468"/>
                  </a:lnTo>
                  <a:lnTo>
                    <a:pt x="218" y="1437"/>
                  </a:lnTo>
                  <a:lnTo>
                    <a:pt x="205" y="1408"/>
                  </a:lnTo>
                  <a:lnTo>
                    <a:pt x="197" y="1396"/>
                  </a:lnTo>
                  <a:lnTo>
                    <a:pt x="189" y="1383"/>
                  </a:lnTo>
                  <a:lnTo>
                    <a:pt x="168" y="1361"/>
                  </a:lnTo>
                  <a:lnTo>
                    <a:pt x="157" y="1350"/>
                  </a:lnTo>
                  <a:lnTo>
                    <a:pt x="145" y="1340"/>
                  </a:lnTo>
                  <a:lnTo>
                    <a:pt x="134" y="1330"/>
                  </a:lnTo>
                  <a:lnTo>
                    <a:pt x="122" y="1320"/>
                  </a:lnTo>
                  <a:lnTo>
                    <a:pt x="98" y="1301"/>
                  </a:lnTo>
                  <a:lnTo>
                    <a:pt x="75" y="1280"/>
                  </a:lnTo>
                  <a:lnTo>
                    <a:pt x="63" y="1269"/>
                  </a:lnTo>
                  <a:lnTo>
                    <a:pt x="53" y="1258"/>
                  </a:lnTo>
                  <a:lnTo>
                    <a:pt x="33" y="1234"/>
                  </a:lnTo>
                  <a:lnTo>
                    <a:pt x="17" y="1205"/>
                  </a:lnTo>
                  <a:lnTo>
                    <a:pt x="0" y="1137"/>
                  </a:lnTo>
                  <a:lnTo>
                    <a:pt x="3" y="1105"/>
                  </a:lnTo>
                  <a:lnTo>
                    <a:pt x="15" y="1069"/>
                  </a:lnTo>
                  <a:lnTo>
                    <a:pt x="24" y="1052"/>
                  </a:lnTo>
                  <a:lnTo>
                    <a:pt x="35" y="1034"/>
                  </a:lnTo>
                  <a:lnTo>
                    <a:pt x="46" y="1018"/>
                  </a:lnTo>
                  <a:lnTo>
                    <a:pt x="60" y="1002"/>
                  </a:lnTo>
                  <a:lnTo>
                    <a:pt x="75" y="987"/>
                  </a:lnTo>
                  <a:lnTo>
                    <a:pt x="91" y="974"/>
                  </a:lnTo>
                  <a:lnTo>
                    <a:pt x="107" y="964"/>
                  </a:lnTo>
                  <a:lnTo>
                    <a:pt x="125" y="955"/>
                  </a:lnTo>
                  <a:lnTo>
                    <a:pt x="161" y="946"/>
                  </a:lnTo>
                  <a:lnTo>
                    <a:pt x="200" y="949"/>
                  </a:lnTo>
                  <a:lnTo>
                    <a:pt x="235" y="972"/>
                  </a:lnTo>
                  <a:lnTo>
                    <a:pt x="258" y="990"/>
                  </a:lnTo>
                  <a:lnTo>
                    <a:pt x="284" y="1008"/>
                  </a:lnTo>
                  <a:lnTo>
                    <a:pt x="309" y="1023"/>
                  </a:lnTo>
                  <a:lnTo>
                    <a:pt x="332" y="1032"/>
                  </a:lnTo>
                  <a:lnTo>
                    <a:pt x="353" y="1032"/>
                  </a:lnTo>
                  <a:lnTo>
                    <a:pt x="369" y="1020"/>
                  </a:lnTo>
                  <a:lnTo>
                    <a:pt x="376" y="974"/>
                  </a:lnTo>
                  <a:lnTo>
                    <a:pt x="367" y="897"/>
                  </a:lnTo>
                  <a:lnTo>
                    <a:pt x="351" y="801"/>
                  </a:lnTo>
                  <a:lnTo>
                    <a:pt x="338" y="698"/>
                  </a:lnTo>
                  <a:lnTo>
                    <a:pt x="336" y="650"/>
                  </a:lnTo>
                  <a:lnTo>
                    <a:pt x="338" y="604"/>
                  </a:lnTo>
                  <a:lnTo>
                    <a:pt x="345" y="563"/>
                  </a:lnTo>
                  <a:lnTo>
                    <a:pt x="352" y="546"/>
                  </a:lnTo>
                  <a:lnTo>
                    <a:pt x="360" y="529"/>
                  </a:lnTo>
                  <a:lnTo>
                    <a:pt x="369" y="515"/>
                  </a:lnTo>
                  <a:lnTo>
                    <a:pt x="382" y="503"/>
                  </a:lnTo>
                  <a:lnTo>
                    <a:pt x="396" y="494"/>
                  </a:lnTo>
                  <a:lnTo>
                    <a:pt x="413" y="488"/>
                  </a:lnTo>
                  <a:lnTo>
                    <a:pt x="453" y="483"/>
                  </a:lnTo>
                  <a:lnTo>
                    <a:pt x="506" y="493"/>
                  </a:lnTo>
                  <a:lnTo>
                    <a:pt x="551" y="518"/>
                  </a:lnTo>
                  <a:lnTo>
                    <a:pt x="569" y="536"/>
                  </a:lnTo>
                  <a:lnTo>
                    <a:pt x="584" y="555"/>
                  </a:lnTo>
                  <a:lnTo>
                    <a:pt x="599" y="575"/>
                  </a:lnTo>
                  <a:lnTo>
                    <a:pt x="614" y="593"/>
                  </a:lnTo>
                  <a:lnTo>
                    <a:pt x="632" y="609"/>
                  </a:lnTo>
                  <a:lnTo>
                    <a:pt x="654" y="619"/>
                  </a:lnTo>
                  <a:lnTo>
                    <a:pt x="658" y="537"/>
                  </a:lnTo>
                  <a:lnTo>
                    <a:pt x="669" y="453"/>
                  </a:lnTo>
                  <a:lnTo>
                    <a:pt x="678" y="412"/>
                  </a:lnTo>
                  <a:lnTo>
                    <a:pt x="690" y="372"/>
                  </a:lnTo>
                  <a:lnTo>
                    <a:pt x="704" y="336"/>
                  </a:lnTo>
                  <a:lnTo>
                    <a:pt x="712" y="319"/>
                  </a:lnTo>
                  <a:lnTo>
                    <a:pt x="720" y="303"/>
                  </a:lnTo>
                  <a:lnTo>
                    <a:pt x="729" y="289"/>
                  </a:lnTo>
                  <a:lnTo>
                    <a:pt x="739" y="276"/>
                  </a:lnTo>
                  <a:lnTo>
                    <a:pt x="750" y="264"/>
                  </a:lnTo>
                  <a:lnTo>
                    <a:pt x="761" y="254"/>
                  </a:lnTo>
                  <a:lnTo>
                    <a:pt x="774" y="245"/>
                  </a:lnTo>
                  <a:lnTo>
                    <a:pt x="787" y="238"/>
                  </a:lnTo>
                  <a:lnTo>
                    <a:pt x="816" y="230"/>
                  </a:lnTo>
                  <a:lnTo>
                    <a:pt x="882" y="239"/>
                  </a:lnTo>
                  <a:lnTo>
                    <a:pt x="922" y="259"/>
                  </a:lnTo>
                  <a:lnTo>
                    <a:pt x="942" y="273"/>
                  </a:lnTo>
                  <a:lnTo>
                    <a:pt x="964" y="290"/>
                  </a:lnTo>
                  <a:lnTo>
                    <a:pt x="977" y="266"/>
                  </a:lnTo>
                  <a:lnTo>
                    <a:pt x="989" y="244"/>
                  </a:lnTo>
                  <a:lnTo>
                    <a:pt x="1001" y="223"/>
                  </a:lnTo>
                  <a:lnTo>
                    <a:pt x="1014" y="203"/>
                  </a:lnTo>
                  <a:lnTo>
                    <a:pt x="1026" y="184"/>
                  </a:lnTo>
                  <a:lnTo>
                    <a:pt x="1037" y="167"/>
                  </a:lnTo>
                  <a:lnTo>
                    <a:pt x="1050" y="149"/>
                  </a:lnTo>
                  <a:lnTo>
                    <a:pt x="1061" y="135"/>
                  </a:lnTo>
                  <a:lnTo>
                    <a:pt x="1073" y="120"/>
                  </a:lnTo>
                  <a:lnTo>
                    <a:pt x="1083" y="105"/>
                  </a:lnTo>
                  <a:lnTo>
                    <a:pt x="1106" y="81"/>
                  </a:lnTo>
                  <a:lnTo>
                    <a:pt x="1117" y="69"/>
                  </a:lnTo>
                  <a:lnTo>
                    <a:pt x="1127" y="60"/>
                  </a:lnTo>
                  <a:lnTo>
                    <a:pt x="1149" y="42"/>
                  </a:lnTo>
                  <a:lnTo>
                    <a:pt x="1169" y="27"/>
                  </a:lnTo>
                  <a:lnTo>
                    <a:pt x="1188" y="16"/>
                  </a:lnTo>
                  <a:lnTo>
                    <a:pt x="1224" y="2"/>
                  </a:lnTo>
                  <a:lnTo>
                    <a:pt x="1255" y="0"/>
                  </a:lnTo>
                  <a:lnTo>
                    <a:pt x="1283" y="7"/>
                  </a:lnTo>
                  <a:lnTo>
                    <a:pt x="1305" y="23"/>
                  </a:lnTo>
                  <a:lnTo>
                    <a:pt x="1321" y="46"/>
                  </a:lnTo>
                  <a:lnTo>
                    <a:pt x="1336" y="110"/>
                  </a:lnTo>
                  <a:lnTo>
                    <a:pt x="1334" y="149"/>
                  </a:lnTo>
                  <a:lnTo>
                    <a:pt x="1323" y="193"/>
                  </a:lnTo>
                  <a:lnTo>
                    <a:pt x="1316" y="214"/>
                  </a:lnTo>
                  <a:lnTo>
                    <a:pt x="1306" y="236"/>
                  </a:lnTo>
                  <a:lnTo>
                    <a:pt x="1294" y="258"/>
                  </a:lnTo>
                  <a:lnTo>
                    <a:pt x="1280" y="280"/>
                  </a:lnTo>
                  <a:lnTo>
                    <a:pt x="1384" y="277"/>
                  </a:lnTo>
                  <a:lnTo>
                    <a:pt x="1464" y="295"/>
                  </a:lnTo>
                  <a:lnTo>
                    <a:pt x="1519" y="327"/>
                  </a:lnTo>
                  <a:lnTo>
                    <a:pt x="1547" y="373"/>
                  </a:lnTo>
                  <a:lnTo>
                    <a:pt x="1545" y="427"/>
                  </a:lnTo>
                  <a:lnTo>
                    <a:pt x="1532" y="455"/>
                  </a:lnTo>
                  <a:lnTo>
                    <a:pt x="1523" y="470"/>
                  </a:lnTo>
                  <a:lnTo>
                    <a:pt x="1512" y="484"/>
                  </a:lnTo>
                  <a:lnTo>
                    <a:pt x="1498" y="499"/>
                  </a:lnTo>
                  <a:lnTo>
                    <a:pt x="1482" y="514"/>
                  </a:lnTo>
                  <a:lnTo>
                    <a:pt x="1465" y="529"/>
                  </a:lnTo>
                  <a:lnTo>
                    <a:pt x="1445" y="542"/>
                  </a:lnTo>
                  <a:lnTo>
                    <a:pt x="1423" y="557"/>
                  </a:lnTo>
                  <a:lnTo>
                    <a:pt x="1399" y="571"/>
                  </a:lnTo>
                  <a:lnTo>
                    <a:pt x="1373" y="584"/>
                  </a:lnTo>
                  <a:lnTo>
                    <a:pt x="1344" y="597"/>
                  </a:lnTo>
                  <a:lnTo>
                    <a:pt x="1438" y="628"/>
                  </a:lnTo>
                  <a:lnTo>
                    <a:pt x="1475" y="648"/>
                  </a:lnTo>
                  <a:lnTo>
                    <a:pt x="1504" y="671"/>
                  </a:lnTo>
                  <a:lnTo>
                    <a:pt x="1540" y="723"/>
                  </a:lnTo>
                  <a:lnTo>
                    <a:pt x="1547" y="779"/>
                  </a:lnTo>
                  <a:lnTo>
                    <a:pt x="1538" y="809"/>
                  </a:lnTo>
                  <a:lnTo>
                    <a:pt x="1531" y="824"/>
                  </a:lnTo>
                  <a:lnTo>
                    <a:pt x="1522" y="837"/>
                  </a:lnTo>
                  <a:lnTo>
                    <a:pt x="1510" y="852"/>
                  </a:lnTo>
                  <a:lnTo>
                    <a:pt x="1497" y="867"/>
                  </a:lnTo>
                  <a:lnTo>
                    <a:pt x="1482" y="881"/>
                  </a:lnTo>
                  <a:lnTo>
                    <a:pt x="1465" y="894"/>
                  </a:lnTo>
                  <a:lnTo>
                    <a:pt x="1447" y="908"/>
                  </a:lnTo>
                  <a:lnTo>
                    <a:pt x="1426" y="922"/>
                  </a:lnTo>
                  <a:lnTo>
                    <a:pt x="1403" y="934"/>
                  </a:lnTo>
                  <a:lnTo>
                    <a:pt x="1379" y="947"/>
                  </a:lnTo>
                  <a:lnTo>
                    <a:pt x="1352" y="959"/>
                  </a:lnTo>
                  <a:lnTo>
                    <a:pt x="1323" y="969"/>
                  </a:lnTo>
                  <a:lnTo>
                    <a:pt x="1292" y="980"/>
                  </a:lnTo>
                  <a:lnTo>
                    <a:pt x="1259" y="989"/>
                  </a:lnTo>
                  <a:lnTo>
                    <a:pt x="1328" y="1011"/>
                  </a:lnTo>
                  <a:lnTo>
                    <a:pt x="1354" y="1026"/>
                  </a:lnTo>
                  <a:lnTo>
                    <a:pt x="1376" y="1043"/>
                  </a:lnTo>
                  <a:lnTo>
                    <a:pt x="1406" y="1084"/>
                  </a:lnTo>
                  <a:lnTo>
                    <a:pt x="1419" y="1131"/>
                  </a:lnTo>
                  <a:lnTo>
                    <a:pt x="1418" y="1183"/>
                  </a:lnTo>
                  <a:lnTo>
                    <a:pt x="1411" y="1210"/>
                  </a:lnTo>
                  <a:lnTo>
                    <a:pt x="1402" y="1238"/>
                  </a:lnTo>
                  <a:lnTo>
                    <a:pt x="1390" y="1266"/>
                  </a:lnTo>
                  <a:lnTo>
                    <a:pt x="1375" y="1295"/>
                  </a:lnTo>
                  <a:lnTo>
                    <a:pt x="1357" y="1322"/>
                  </a:lnTo>
                  <a:lnTo>
                    <a:pt x="1347" y="1336"/>
                  </a:lnTo>
                  <a:lnTo>
                    <a:pt x="1337" y="1349"/>
                  </a:lnTo>
                  <a:lnTo>
                    <a:pt x="1327" y="1363"/>
                  </a:lnTo>
                  <a:lnTo>
                    <a:pt x="1315" y="1377"/>
                  </a:lnTo>
                  <a:lnTo>
                    <a:pt x="1291" y="1403"/>
                  </a:lnTo>
                  <a:lnTo>
                    <a:pt x="1278" y="1416"/>
                  </a:lnTo>
                  <a:lnTo>
                    <a:pt x="1265" y="1428"/>
                  </a:lnTo>
                  <a:lnTo>
                    <a:pt x="1252" y="1440"/>
                  </a:lnTo>
                  <a:lnTo>
                    <a:pt x="1238" y="1452"/>
                  </a:lnTo>
                  <a:lnTo>
                    <a:pt x="1224" y="1463"/>
                  </a:lnTo>
                  <a:lnTo>
                    <a:pt x="1209" y="1474"/>
                  </a:lnTo>
                  <a:lnTo>
                    <a:pt x="1194" y="1484"/>
                  </a:lnTo>
                  <a:lnTo>
                    <a:pt x="1179" y="1495"/>
                  </a:lnTo>
                  <a:lnTo>
                    <a:pt x="1164" y="1504"/>
                  </a:lnTo>
                  <a:lnTo>
                    <a:pt x="1149" y="1514"/>
                  </a:lnTo>
                  <a:lnTo>
                    <a:pt x="1118" y="1530"/>
                  </a:lnTo>
                  <a:lnTo>
                    <a:pt x="1085" y="1543"/>
                  </a:lnTo>
                  <a:lnTo>
                    <a:pt x="1053" y="1555"/>
                  </a:lnTo>
                  <a:lnTo>
                    <a:pt x="1021" y="1563"/>
                  </a:lnTo>
                  <a:lnTo>
                    <a:pt x="989" y="1569"/>
                  </a:lnTo>
                  <a:lnTo>
                    <a:pt x="925" y="1569"/>
                  </a:lnTo>
                  <a:lnTo>
                    <a:pt x="865" y="1553"/>
                  </a:lnTo>
                  <a:lnTo>
                    <a:pt x="839" y="1566"/>
                  </a:lnTo>
                  <a:lnTo>
                    <a:pt x="813" y="1582"/>
                  </a:lnTo>
                  <a:lnTo>
                    <a:pt x="789" y="1598"/>
                  </a:lnTo>
                  <a:lnTo>
                    <a:pt x="766" y="1616"/>
                  </a:lnTo>
                  <a:lnTo>
                    <a:pt x="743" y="1634"/>
                  </a:lnTo>
                  <a:lnTo>
                    <a:pt x="720" y="1652"/>
                  </a:lnTo>
                  <a:lnTo>
                    <a:pt x="696" y="1669"/>
                  </a:lnTo>
                  <a:lnTo>
                    <a:pt x="673" y="1687"/>
                  </a:lnTo>
                  <a:lnTo>
                    <a:pt x="645" y="1702"/>
                  </a:lnTo>
                  <a:lnTo>
                    <a:pt x="622" y="1712"/>
                  </a:lnTo>
                  <a:lnTo>
                    <a:pt x="581" y="1714"/>
                  </a:lnTo>
                  <a:lnTo>
                    <a:pt x="549" y="1701"/>
                  </a:lnTo>
                  <a:lnTo>
                    <a:pt x="519" y="1683"/>
                  </a:lnTo>
                  <a:lnTo>
                    <a:pt x="504" y="1675"/>
                  </a:lnTo>
                  <a:lnTo>
                    <a:pt x="489" y="1669"/>
                  </a:lnTo>
                  <a:lnTo>
                    <a:pt x="453" y="1667"/>
                  </a:lnTo>
                  <a:lnTo>
                    <a:pt x="409" y="1685"/>
                  </a:lnTo>
                  <a:lnTo>
                    <a:pt x="383" y="1707"/>
                  </a:lnTo>
                  <a:lnTo>
                    <a:pt x="368" y="1720"/>
                  </a:lnTo>
                  <a:lnTo>
                    <a:pt x="353" y="1736"/>
                  </a:lnTo>
                  <a:lnTo>
                    <a:pt x="278" y="1743"/>
                  </a:lnTo>
                  <a:lnTo>
                    <a:pt x="277" y="1731"/>
                  </a:lnTo>
                  <a:lnTo>
                    <a:pt x="278" y="1717"/>
                  </a:lnTo>
                  <a:lnTo>
                    <a:pt x="287" y="1690"/>
                  </a:lnTo>
                  <a:lnTo>
                    <a:pt x="298" y="1675"/>
                  </a:lnTo>
                  <a:lnTo>
                    <a:pt x="314" y="1658"/>
                  </a:lnTo>
                  <a:lnTo>
                    <a:pt x="323" y="1650"/>
                  </a:lnTo>
                  <a:lnTo>
                    <a:pt x="335" y="1640"/>
                  </a:lnTo>
                  <a:lnTo>
                    <a:pt x="348" y="1630"/>
                  </a:lnTo>
                  <a:lnTo>
                    <a:pt x="363" y="1619"/>
                  </a:lnTo>
                  <a:lnTo>
                    <a:pt x="390" y="1609"/>
                  </a:lnTo>
                  <a:lnTo>
                    <a:pt x="420" y="1606"/>
                  </a:lnTo>
                  <a:lnTo>
                    <a:pt x="487" y="1619"/>
                  </a:lnTo>
                  <a:lnTo>
                    <a:pt x="521" y="1628"/>
                  </a:lnTo>
                  <a:lnTo>
                    <a:pt x="555" y="1632"/>
                  </a:lnTo>
                  <a:lnTo>
                    <a:pt x="613" y="1618"/>
                  </a:lnTo>
                  <a:lnTo>
                    <a:pt x="636" y="1601"/>
                  </a:lnTo>
                  <a:lnTo>
                    <a:pt x="648" y="1592"/>
                  </a:lnTo>
                  <a:lnTo>
                    <a:pt x="662" y="1581"/>
                  </a:lnTo>
                  <a:lnTo>
                    <a:pt x="677" y="1570"/>
                  </a:lnTo>
                  <a:lnTo>
                    <a:pt x="692" y="1558"/>
                  </a:lnTo>
                  <a:lnTo>
                    <a:pt x="707" y="1546"/>
                  </a:lnTo>
                  <a:lnTo>
                    <a:pt x="723" y="1535"/>
                  </a:lnTo>
                  <a:lnTo>
                    <a:pt x="738" y="1523"/>
                  </a:lnTo>
                  <a:lnTo>
                    <a:pt x="754" y="1513"/>
                  </a:lnTo>
                  <a:lnTo>
                    <a:pt x="769" y="1502"/>
                  </a:lnTo>
                  <a:lnTo>
                    <a:pt x="784" y="1493"/>
                  </a:lnTo>
                  <a:lnTo>
                    <a:pt x="812" y="1478"/>
                  </a:lnTo>
                  <a:lnTo>
                    <a:pt x="836" y="1468"/>
                  </a:lnTo>
                  <a:lnTo>
                    <a:pt x="906" y="1454"/>
                  </a:lnTo>
                  <a:lnTo>
                    <a:pt x="970" y="1446"/>
                  </a:lnTo>
                  <a:lnTo>
                    <a:pt x="1090" y="1432"/>
                  </a:lnTo>
                  <a:lnTo>
                    <a:pt x="1144" y="1416"/>
                  </a:lnTo>
                  <a:lnTo>
                    <a:pt x="1195" y="1387"/>
                  </a:lnTo>
                  <a:lnTo>
                    <a:pt x="1219" y="1367"/>
                  </a:lnTo>
                  <a:lnTo>
                    <a:pt x="1242" y="1342"/>
                  </a:lnTo>
                  <a:lnTo>
                    <a:pt x="1264" y="1311"/>
                  </a:lnTo>
                  <a:lnTo>
                    <a:pt x="1285" y="1276"/>
                  </a:lnTo>
                  <a:lnTo>
                    <a:pt x="1298" y="1251"/>
                  </a:lnTo>
                  <a:lnTo>
                    <a:pt x="1308" y="1229"/>
                  </a:lnTo>
                  <a:lnTo>
                    <a:pt x="1323" y="1189"/>
                  </a:lnTo>
                  <a:lnTo>
                    <a:pt x="1334" y="1130"/>
                  </a:lnTo>
                  <a:lnTo>
                    <a:pt x="1329" y="1110"/>
                  </a:lnTo>
                  <a:lnTo>
                    <a:pt x="1320" y="1094"/>
                  </a:lnTo>
                  <a:lnTo>
                    <a:pt x="1306" y="1083"/>
                  </a:lnTo>
                  <a:lnTo>
                    <a:pt x="1287" y="1075"/>
                  </a:lnTo>
                  <a:lnTo>
                    <a:pt x="1238" y="1070"/>
                  </a:lnTo>
                  <a:lnTo>
                    <a:pt x="1178" y="1073"/>
                  </a:lnTo>
                  <a:lnTo>
                    <a:pt x="1110" y="1083"/>
                  </a:lnTo>
                  <a:lnTo>
                    <a:pt x="1038" y="1091"/>
                  </a:lnTo>
                  <a:lnTo>
                    <a:pt x="1004" y="1088"/>
                  </a:lnTo>
                  <a:lnTo>
                    <a:pt x="983" y="1070"/>
                  </a:lnTo>
                  <a:lnTo>
                    <a:pt x="982" y="1046"/>
                  </a:lnTo>
                  <a:lnTo>
                    <a:pt x="989" y="1032"/>
                  </a:lnTo>
                  <a:lnTo>
                    <a:pt x="1001" y="1019"/>
                  </a:lnTo>
                  <a:lnTo>
                    <a:pt x="1019" y="1006"/>
                  </a:lnTo>
                  <a:lnTo>
                    <a:pt x="1042" y="993"/>
                  </a:lnTo>
                  <a:lnTo>
                    <a:pt x="1069" y="979"/>
                  </a:lnTo>
                  <a:lnTo>
                    <a:pt x="1102" y="965"/>
                  </a:lnTo>
                  <a:lnTo>
                    <a:pt x="1136" y="951"/>
                  </a:lnTo>
                  <a:lnTo>
                    <a:pt x="1173" y="936"/>
                  </a:lnTo>
                  <a:lnTo>
                    <a:pt x="1210" y="922"/>
                  </a:lnTo>
                  <a:lnTo>
                    <a:pt x="1248" y="908"/>
                  </a:lnTo>
                  <a:lnTo>
                    <a:pt x="1285" y="894"/>
                  </a:lnTo>
                  <a:lnTo>
                    <a:pt x="1321" y="881"/>
                  </a:lnTo>
                  <a:lnTo>
                    <a:pt x="1354" y="868"/>
                  </a:lnTo>
                  <a:lnTo>
                    <a:pt x="1383" y="856"/>
                  </a:lnTo>
                  <a:lnTo>
                    <a:pt x="1427" y="836"/>
                  </a:lnTo>
                  <a:lnTo>
                    <a:pt x="1447" y="822"/>
                  </a:lnTo>
                  <a:lnTo>
                    <a:pt x="1452" y="786"/>
                  </a:lnTo>
                  <a:lnTo>
                    <a:pt x="1447" y="755"/>
                  </a:lnTo>
                  <a:lnTo>
                    <a:pt x="1430" y="731"/>
                  </a:lnTo>
                  <a:lnTo>
                    <a:pt x="1420" y="720"/>
                  </a:lnTo>
                  <a:lnTo>
                    <a:pt x="1408" y="712"/>
                  </a:lnTo>
                  <a:lnTo>
                    <a:pt x="1380" y="696"/>
                  </a:lnTo>
                  <a:lnTo>
                    <a:pt x="1346" y="684"/>
                  </a:lnTo>
                  <a:lnTo>
                    <a:pt x="1312" y="674"/>
                  </a:lnTo>
                  <a:lnTo>
                    <a:pt x="1276" y="667"/>
                  </a:lnTo>
                  <a:lnTo>
                    <a:pt x="1163" y="638"/>
                  </a:lnTo>
                  <a:lnTo>
                    <a:pt x="1149" y="617"/>
                  </a:lnTo>
                  <a:lnTo>
                    <a:pt x="1159" y="601"/>
                  </a:lnTo>
                  <a:lnTo>
                    <a:pt x="1170" y="593"/>
                  </a:lnTo>
                  <a:lnTo>
                    <a:pt x="1184" y="582"/>
                  </a:lnTo>
                  <a:lnTo>
                    <a:pt x="1201" y="571"/>
                  </a:lnTo>
                  <a:lnTo>
                    <a:pt x="1219" y="561"/>
                  </a:lnTo>
                  <a:lnTo>
                    <a:pt x="1256" y="543"/>
                  </a:lnTo>
                  <a:lnTo>
                    <a:pt x="1294" y="529"/>
                  </a:lnTo>
                  <a:lnTo>
                    <a:pt x="1332" y="513"/>
                  </a:lnTo>
                  <a:lnTo>
                    <a:pt x="1369" y="496"/>
                  </a:lnTo>
                  <a:lnTo>
                    <a:pt x="1404" y="476"/>
                  </a:lnTo>
                  <a:lnTo>
                    <a:pt x="1420" y="463"/>
                  </a:lnTo>
                  <a:lnTo>
                    <a:pt x="1435" y="450"/>
                  </a:lnTo>
                  <a:lnTo>
                    <a:pt x="1460" y="418"/>
                  </a:lnTo>
                  <a:lnTo>
                    <a:pt x="1425" y="370"/>
                  </a:lnTo>
                  <a:lnTo>
                    <a:pt x="1368" y="359"/>
                  </a:lnTo>
                  <a:lnTo>
                    <a:pt x="1314" y="361"/>
                  </a:lnTo>
                  <a:lnTo>
                    <a:pt x="1259" y="370"/>
                  </a:lnTo>
                  <a:lnTo>
                    <a:pt x="1202" y="378"/>
                  </a:lnTo>
                  <a:lnTo>
                    <a:pt x="1158" y="376"/>
                  </a:lnTo>
                  <a:lnTo>
                    <a:pt x="1145" y="360"/>
                  </a:lnTo>
                  <a:lnTo>
                    <a:pt x="1149" y="348"/>
                  </a:lnTo>
                  <a:lnTo>
                    <a:pt x="1157" y="332"/>
                  </a:lnTo>
                  <a:lnTo>
                    <a:pt x="1169" y="314"/>
                  </a:lnTo>
                  <a:lnTo>
                    <a:pt x="1182" y="294"/>
                  </a:lnTo>
                  <a:lnTo>
                    <a:pt x="1197" y="273"/>
                  </a:lnTo>
                  <a:lnTo>
                    <a:pt x="1214" y="251"/>
                  </a:lnTo>
                  <a:lnTo>
                    <a:pt x="1229" y="226"/>
                  </a:lnTo>
                  <a:lnTo>
                    <a:pt x="1242" y="202"/>
                  </a:lnTo>
                  <a:lnTo>
                    <a:pt x="1260" y="154"/>
                  </a:lnTo>
                  <a:lnTo>
                    <a:pt x="1257" y="106"/>
                  </a:lnTo>
                  <a:lnTo>
                    <a:pt x="1195" y="107"/>
                  </a:lnTo>
                  <a:lnTo>
                    <a:pt x="1160" y="125"/>
                  </a:lnTo>
                  <a:lnTo>
                    <a:pt x="1142" y="141"/>
                  </a:lnTo>
                  <a:lnTo>
                    <a:pt x="1124" y="161"/>
                  </a:lnTo>
                  <a:lnTo>
                    <a:pt x="1105" y="183"/>
                  </a:lnTo>
                  <a:lnTo>
                    <a:pt x="1087" y="207"/>
                  </a:lnTo>
                  <a:lnTo>
                    <a:pt x="1069" y="233"/>
                  </a:lnTo>
                  <a:lnTo>
                    <a:pt x="1052" y="259"/>
                  </a:lnTo>
                  <a:lnTo>
                    <a:pt x="1037" y="285"/>
                  </a:lnTo>
                  <a:lnTo>
                    <a:pt x="1022" y="310"/>
                  </a:lnTo>
                  <a:lnTo>
                    <a:pt x="1008" y="333"/>
                  </a:lnTo>
                  <a:lnTo>
                    <a:pt x="998" y="354"/>
                  </a:lnTo>
                  <a:lnTo>
                    <a:pt x="982" y="385"/>
                  </a:lnTo>
                  <a:lnTo>
                    <a:pt x="976" y="397"/>
                  </a:lnTo>
                  <a:lnTo>
                    <a:pt x="939" y="380"/>
                  </a:lnTo>
                  <a:lnTo>
                    <a:pt x="924" y="368"/>
                  </a:lnTo>
                  <a:lnTo>
                    <a:pt x="910" y="353"/>
                  </a:lnTo>
                  <a:lnTo>
                    <a:pt x="895" y="337"/>
                  </a:lnTo>
                  <a:lnTo>
                    <a:pt x="879" y="322"/>
                  </a:lnTo>
                  <a:lnTo>
                    <a:pt x="859" y="309"/>
                  </a:lnTo>
                  <a:lnTo>
                    <a:pt x="836" y="297"/>
                  </a:lnTo>
                  <a:lnTo>
                    <a:pt x="811" y="320"/>
                  </a:lnTo>
                  <a:lnTo>
                    <a:pt x="790" y="351"/>
                  </a:lnTo>
                  <a:lnTo>
                    <a:pt x="762" y="435"/>
                  </a:lnTo>
                  <a:lnTo>
                    <a:pt x="749" y="541"/>
                  </a:lnTo>
                  <a:lnTo>
                    <a:pt x="745" y="664"/>
                  </a:lnTo>
                  <a:lnTo>
                    <a:pt x="707" y="705"/>
                  </a:lnTo>
                  <a:lnTo>
                    <a:pt x="670" y="705"/>
                  </a:lnTo>
                  <a:lnTo>
                    <a:pt x="640" y="692"/>
                  </a:lnTo>
                  <a:lnTo>
                    <a:pt x="614" y="672"/>
                  </a:lnTo>
                  <a:lnTo>
                    <a:pt x="591" y="648"/>
                  </a:lnTo>
                  <a:lnTo>
                    <a:pt x="568" y="620"/>
                  </a:lnTo>
                  <a:lnTo>
                    <a:pt x="555" y="608"/>
                  </a:lnTo>
                  <a:lnTo>
                    <a:pt x="543" y="595"/>
                  </a:lnTo>
                  <a:lnTo>
                    <a:pt x="529" y="585"/>
                  </a:lnTo>
                  <a:lnTo>
                    <a:pt x="516" y="575"/>
                  </a:lnTo>
                  <a:lnTo>
                    <a:pt x="484" y="562"/>
                  </a:lnTo>
                  <a:lnTo>
                    <a:pt x="457" y="561"/>
                  </a:lnTo>
                  <a:lnTo>
                    <a:pt x="435" y="571"/>
                  </a:lnTo>
                  <a:lnTo>
                    <a:pt x="411" y="614"/>
                  </a:lnTo>
                  <a:lnTo>
                    <a:pt x="404" y="683"/>
                  </a:lnTo>
                  <a:lnTo>
                    <a:pt x="408" y="767"/>
                  </a:lnTo>
                  <a:lnTo>
                    <a:pt x="418" y="858"/>
                  </a:lnTo>
                  <a:lnTo>
                    <a:pt x="426" y="946"/>
                  </a:lnTo>
                  <a:lnTo>
                    <a:pt x="424" y="1021"/>
                  </a:lnTo>
                  <a:lnTo>
                    <a:pt x="419" y="1049"/>
                  </a:lnTo>
                  <a:lnTo>
                    <a:pt x="408" y="1072"/>
                  </a:lnTo>
                  <a:lnTo>
                    <a:pt x="401" y="1081"/>
                  </a:lnTo>
                  <a:lnTo>
                    <a:pt x="392" y="1086"/>
                  </a:lnTo>
                  <a:lnTo>
                    <a:pt x="373" y="1091"/>
                  </a:lnTo>
                  <a:lnTo>
                    <a:pt x="323" y="1082"/>
                  </a:lnTo>
                  <a:lnTo>
                    <a:pt x="295" y="1070"/>
                  </a:lnTo>
                  <a:lnTo>
                    <a:pt x="265" y="1057"/>
                  </a:lnTo>
                  <a:lnTo>
                    <a:pt x="235" y="1041"/>
                  </a:lnTo>
                  <a:lnTo>
                    <a:pt x="206" y="1027"/>
                  </a:lnTo>
                  <a:lnTo>
                    <a:pt x="178" y="1014"/>
                  </a:lnTo>
                  <a:lnTo>
                    <a:pt x="151" y="1007"/>
                  </a:lnTo>
                  <a:lnTo>
                    <a:pt x="106" y="1009"/>
                  </a:lnTo>
                  <a:lnTo>
                    <a:pt x="90" y="1023"/>
                  </a:lnTo>
                  <a:lnTo>
                    <a:pt x="78" y="1047"/>
                  </a:lnTo>
                  <a:lnTo>
                    <a:pt x="73" y="1132"/>
                  </a:lnTo>
                  <a:lnTo>
                    <a:pt x="77" y="1168"/>
                  </a:lnTo>
                  <a:lnTo>
                    <a:pt x="89" y="1199"/>
                  </a:lnTo>
                  <a:lnTo>
                    <a:pt x="104" y="1224"/>
                  </a:lnTo>
                  <a:lnTo>
                    <a:pt x="121" y="1245"/>
                  </a:lnTo>
                  <a:lnTo>
                    <a:pt x="131" y="1255"/>
                  </a:lnTo>
                  <a:lnTo>
                    <a:pt x="143" y="1263"/>
                  </a:lnTo>
                  <a:lnTo>
                    <a:pt x="165" y="1279"/>
                  </a:lnTo>
                  <a:lnTo>
                    <a:pt x="189" y="1294"/>
                  </a:lnTo>
                  <a:lnTo>
                    <a:pt x="212" y="1307"/>
                  </a:lnTo>
                  <a:lnTo>
                    <a:pt x="235" y="1321"/>
                  </a:lnTo>
                  <a:lnTo>
                    <a:pt x="256" y="1337"/>
                  </a:lnTo>
                  <a:lnTo>
                    <a:pt x="290" y="1375"/>
                  </a:lnTo>
                  <a:lnTo>
                    <a:pt x="307" y="1427"/>
                  </a:lnTo>
                  <a:lnTo>
                    <a:pt x="307" y="1444"/>
                  </a:lnTo>
                  <a:lnTo>
                    <a:pt x="307" y="1462"/>
                  </a:lnTo>
                  <a:lnTo>
                    <a:pt x="300" y="1503"/>
                  </a:lnTo>
                  <a:lnTo>
                    <a:pt x="318" y="1485"/>
                  </a:lnTo>
                  <a:lnTo>
                    <a:pt x="339" y="1467"/>
                  </a:lnTo>
                  <a:lnTo>
                    <a:pt x="359" y="1448"/>
                  </a:lnTo>
                  <a:lnTo>
                    <a:pt x="381" y="1428"/>
                  </a:lnTo>
                  <a:lnTo>
                    <a:pt x="391" y="1419"/>
                  </a:lnTo>
                  <a:lnTo>
                    <a:pt x="403" y="1408"/>
                  </a:lnTo>
                  <a:lnTo>
                    <a:pt x="413" y="1398"/>
                  </a:lnTo>
                  <a:lnTo>
                    <a:pt x="424" y="1387"/>
                  </a:lnTo>
                  <a:lnTo>
                    <a:pt x="436" y="1377"/>
                  </a:lnTo>
                  <a:lnTo>
                    <a:pt x="448" y="1365"/>
                  </a:lnTo>
                  <a:lnTo>
                    <a:pt x="459" y="1354"/>
                  </a:lnTo>
                  <a:lnTo>
                    <a:pt x="471" y="1342"/>
                  </a:lnTo>
                  <a:lnTo>
                    <a:pt x="482" y="1331"/>
                  </a:lnTo>
                  <a:lnTo>
                    <a:pt x="493" y="1321"/>
                  </a:lnTo>
                  <a:lnTo>
                    <a:pt x="511" y="1301"/>
                  </a:lnTo>
                  <a:lnTo>
                    <a:pt x="527" y="1282"/>
                  </a:lnTo>
                  <a:lnTo>
                    <a:pt x="541" y="1264"/>
                  </a:lnTo>
                  <a:lnTo>
                    <a:pt x="553" y="1247"/>
                  </a:lnTo>
                  <a:lnTo>
                    <a:pt x="563" y="1231"/>
                  </a:lnTo>
                  <a:lnTo>
                    <a:pt x="580" y="1198"/>
                  </a:lnTo>
                  <a:lnTo>
                    <a:pt x="604" y="1126"/>
                  </a:lnTo>
                  <a:lnTo>
                    <a:pt x="615" y="1082"/>
                  </a:lnTo>
                  <a:lnTo>
                    <a:pt x="626" y="1029"/>
                  </a:lnTo>
                  <a:lnTo>
                    <a:pt x="640" y="981"/>
                  </a:lnTo>
                  <a:lnTo>
                    <a:pt x="648" y="957"/>
                  </a:lnTo>
                  <a:lnTo>
                    <a:pt x="658" y="935"/>
                  </a:lnTo>
                  <a:lnTo>
                    <a:pt x="667" y="913"/>
                  </a:lnTo>
                  <a:lnTo>
                    <a:pt x="677" y="891"/>
                  </a:lnTo>
                  <a:lnTo>
                    <a:pt x="689" y="870"/>
                  </a:lnTo>
                  <a:lnTo>
                    <a:pt x="700" y="850"/>
                  </a:lnTo>
                  <a:lnTo>
                    <a:pt x="714" y="830"/>
                  </a:lnTo>
                  <a:lnTo>
                    <a:pt x="727" y="810"/>
                  </a:lnTo>
                  <a:lnTo>
                    <a:pt x="741" y="791"/>
                  </a:lnTo>
                  <a:lnTo>
                    <a:pt x="756" y="772"/>
                  </a:lnTo>
                  <a:lnTo>
                    <a:pt x="771" y="754"/>
                  </a:lnTo>
                  <a:lnTo>
                    <a:pt x="786" y="736"/>
                  </a:lnTo>
                  <a:lnTo>
                    <a:pt x="802" y="718"/>
                  </a:lnTo>
                  <a:lnTo>
                    <a:pt x="818" y="700"/>
                  </a:lnTo>
                  <a:lnTo>
                    <a:pt x="835" y="684"/>
                  </a:lnTo>
                  <a:lnTo>
                    <a:pt x="852" y="667"/>
                  </a:lnTo>
                  <a:lnTo>
                    <a:pt x="870" y="650"/>
                  </a:lnTo>
                  <a:lnTo>
                    <a:pt x="887" y="633"/>
                  </a:lnTo>
                  <a:lnTo>
                    <a:pt x="906" y="616"/>
                  </a:lnTo>
                  <a:lnTo>
                    <a:pt x="924" y="599"/>
                  </a:lnTo>
                  <a:lnTo>
                    <a:pt x="942" y="584"/>
                  </a:lnTo>
                  <a:lnTo>
                    <a:pt x="961" y="567"/>
                  </a:lnTo>
                  <a:lnTo>
                    <a:pt x="979" y="551"/>
                  </a:lnTo>
                  <a:lnTo>
                    <a:pt x="998" y="535"/>
                  </a:lnTo>
                  <a:lnTo>
                    <a:pt x="1016" y="518"/>
                  </a:lnTo>
                  <a:lnTo>
                    <a:pt x="1036" y="502"/>
                  </a:lnTo>
                  <a:lnTo>
                    <a:pt x="1054" y="486"/>
                  </a:lnTo>
                  <a:lnTo>
                    <a:pt x="1073" y="469"/>
                  </a:lnTo>
                  <a:lnTo>
                    <a:pt x="1092" y="453"/>
                  </a:lnTo>
                  <a:lnTo>
                    <a:pt x="1111" y="436"/>
                  </a:lnTo>
                  <a:lnTo>
                    <a:pt x="1133" y="456"/>
                  </a:lnTo>
                  <a:lnTo>
                    <a:pt x="1120" y="467"/>
                  </a:lnTo>
                  <a:lnTo>
                    <a:pt x="1109" y="477"/>
                  </a:lnTo>
                  <a:lnTo>
                    <a:pt x="1098" y="488"/>
                  </a:lnTo>
                  <a:lnTo>
                    <a:pt x="1087" y="498"/>
                  </a:lnTo>
                  <a:lnTo>
                    <a:pt x="1076" y="509"/>
                  </a:lnTo>
                  <a:lnTo>
                    <a:pt x="1065" y="519"/>
                  </a:lnTo>
                  <a:lnTo>
                    <a:pt x="1054" y="530"/>
                  </a:lnTo>
                  <a:lnTo>
                    <a:pt x="1045" y="540"/>
                  </a:lnTo>
                  <a:lnTo>
                    <a:pt x="1026" y="560"/>
                  </a:lnTo>
                  <a:lnTo>
                    <a:pt x="1007" y="580"/>
                  </a:lnTo>
                  <a:lnTo>
                    <a:pt x="989" y="600"/>
                  </a:lnTo>
                  <a:lnTo>
                    <a:pt x="972" y="619"/>
                  </a:lnTo>
                  <a:lnTo>
                    <a:pt x="956" y="638"/>
                  </a:lnTo>
                  <a:lnTo>
                    <a:pt x="941" y="657"/>
                  </a:lnTo>
                  <a:lnTo>
                    <a:pt x="926" y="675"/>
                  </a:lnTo>
                  <a:lnTo>
                    <a:pt x="912" y="693"/>
                  </a:lnTo>
                  <a:lnTo>
                    <a:pt x="900" y="711"/>
                  </a:lnTo>
                  <a:lnTo>
                    <a:pt x="887" y="729"/>
                  </a:lnTo>
                  <a:lnTo>
                    <a:pt x="876" y="746"/>
                  </a:lnTo>
                  <a:lnTo>
                    <a:pt x="864" y="763"/>
                  </a:lnTo>
                  <a:lnTo>
                    <a:pt x="844" y="796"/>
                  </a:lnTo>
                  <a:lnTo>
                    <a:pt x="826" y="829"/>
                  </a:lnTo>
                  <a:lnTo>
                    <a:pt x="810" y="861"/>
                  </a:lnTo>
                  <a:lnTo>
                    <a:pt x="795" y="891"/>
                  </a:lnTo>
                  <a:lnTo>
                    <a:pt x="782" y="921"/>
                  </a:lnTo>
                  <a:lnTo>
                    <a:pt x="771" y="949"/>
                  </a:lnTo>
                  <a:lnTo>
                    <a:pt x="760" y="978"/>
                  </a:lnTo>
                  <a:lnTo>
                    <a:pt x="751" y="1005"/>
                  </a:lnTo>
                  <a:lnTo>
                    <a:pt x="734" y="1059"/>
                  </a:lnTo>
                  <a:lnTo>
                    <a:pt x="719" y="1110"/>
                  </a:lnTo>
                  <a:lnTo>
                    <a:pt x="709" y="1136"/>
                  </a:lnTo>
                  <a:lnTo>
                    <a:pt x="701" y="1161"/>
                  </a:lnTo>
                  <a:lnTo>
                    <a:pt x="692" y="1186"/>
                  </a:lnTo>
                  <a:lnTo>
                    <a:pt x="682" y="1210"/>
                  </a:lnTo>
                  <a:lnTo>
                    <a:pt x="671" y="1235"/>
                  </a:lnTo>
                  <a:lnTo>
                    <a:pt x="659" y="1259"/>
                  </a:lnTo>
                  <a:lnTo>
                    <a:pt x="645" y="1283"/>
                  </a:lnTo>
                  <a:lnTo>
                    <a:pt x="630" y="1308"/>
                  </a:lnTo>
                  <a:lnTo>
                    <a:pt x="613" y="1333"/>
                  </a:lnTo>
                  <a:lnTo>
                    <a:pt x="593" y="1357"/>
                  </a:lnTo>
                  <a:lnTo>
                    <a:pt x="571" y="1381"/>
                  </a:lnTo>
                  <a:lnTo>
                    <a:pt x="558" y="1394"/>
                  </a:lnTo>
                  <a:lnTo>
                    <a:pt x="547" y="1406"/>
                  </a:lnTo>
                  <a:lnTo>
                    <a:pt x="528" y="1423"/>
                  </a:lnTo>
                  <a:lnTo>
                    <a:pt x="510" y="1440"/>
                  </a:lnTo>
                  <a:lnTo>
                    <a:pt x="491" y="1457"/>
                  </a:lnTo>
                  <a:lnTo>
                    <a:pt x="473" y="1473"/>
                  </a:lnTo>
                  <a:lnTo>
                    <a:pt x="454" y="1487"/>
                  </a:lnTo>
                  <a:lnTo>
                    <a:pt x="435" y="1502"/>
                  </a:lnTo>
                  <a:lnTo>
                    <a:pt x="416" y="1517"/>
                  </a:lnTo>
                  <a:lnTo>
                    <a:pt x="398" y="1532"/>
                  </a:lnTo>
                  <a:lnTo>
                    <a:pt x="379" y="1546"/>
                  </a:lnTo>
                  <a:lnTo>
                    <a:pt x="362" y="1561"/>
                  </a:lnTo>
                  <a:lnTo>
                    <a:pt x="344" y="1576"/>
                  </a:lnTo>
                  <a:lnTo>
                    <a:pt x="326" y="1591"/>
                  </a:lnTo>
                  <a:lnTo>
                    <a:pt x="309" y="1604"/>
                  </a:lnTo>
                  <a:lnTo>
                    <a:pt x="292" y="1619"/>
                  </a:lnTo>
                  <a:lnTo>
                    <a:pt x="276" y="1635"/>
                  </a:lnTo>
                  <a:lnTo>
                    <a:pt x="260" y="1650"/>
                  </a:lnTo>
                  <a:lnTo>
                    <a:pt x="245" y="1665"/>
                  </a:lnTo>
                  <a:lnTo>
                    <a:pt x="230" y="1681"/>
                  </a:lnTo>
                  <a:lnTo>
                    <a:pt x="216" y="1698"/>
                  </a:lnTo>
                  <a:lnTo>
                    <a:pt x="202" y="1715"/>
                  </a:lnTo>
                  <a:lnTo>
                    <a:pt x="189" y="1732"/>
                  </a:lnTo>
                  <a:lnTo>
                    <a:pt x="178" y="1751"/>
                  </a:lnTo>
                  <a:lnTo>
                    <a:pt x="157" y="1789"/>
                  </a:lnTo>
                  <a:lnTo>
                    <a:pt x="141" y="1831"/>
                  </a:lnTo>
                  <a:lnTo>
                    <a:pt x="128" y="1876"/>
                  </a:lnTo>
                  <a:lnTo>
                    <a:pt x="118" y="1979"/>
                  </a:lnTo>
                  <a:lnTo>
                    <a:pt x="86" y="1979"/>
                  </a:lnTo>
                  <a:lnTo>
                    <a:pt x="95" y="1855"/>
                  </a:lnTo>
                  <a:lnTo>
                    <a:pt x="104" y="1802"/>
                  </a:lnTo>
                  <a:lnTo>
                    <a:pt x="118" y="1754"/>
                  </a:lnTo>
                  <a:lnTo>
                    <a:pt x="126" y="1732"/>
                  </a:lnTo>
                  <a:lnTo>
                    <a:pt x="135" y="1711"/>
                  </a:lnTo>
                  <a:lnTo>
                    <a:pt x="144" y="1691"/>
                  </a:lnTo>
                  <a:lnTo>
                    <a:pt x="156" y="1672"/>
                  </a:lnTo>
                  <a:lnTo>
                    <a:pt x="167" y="1653"/>
                  </a:lnTo>
                  <a:lnTo>
                    <a:pt x="180" y="1634"/>
                  </a:lnTo>
                  <a:lnTo>
                    <a:pt x="193" y="1617"/>
                  </a:lnTo>
                  <a:lnTo>
                    <a:pt x="206" y="1599"/>
                  </a:lnTo>
                  <a:lnTo>
                    <a:pt x="206" y="1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6378200">
              <a:off x="132840" y="468000"/>
              <a:ext cx="537480" cy="622440"/>
            </a:xfrm>
            <a:custGeom>
              <a:avLst/>
              <a:gdLst/>
              <a:ahLst/>
              <a:rect l="l" t="t" r="r" b="b"/>
              <a:pathLst>
                <a:path w="1354" h="2058">
                  <a:moveTo>
                    <a:pt x="598" y="4"/>
                  </a:moveTo>
                  <a:lnTo>
                    <a:pt x="594" y="111"/>
                  </a:lnTo>
                  <a:lnTo>
                    <a:pt x="599" y="166"/>
                  </a:lnTo>
                  <a:lnTo>
                    <a:pt x="607" y="221"/>
                  </a:lnTo>
                  <a:lnTo>
                    <a:pt x="618" y="275"/>
                  </a:lnTo>
                  <a:lnTo>
                    <a:pt x="633" y="331"/>
                  </a:lnTo>
                  <a:lnTo>
                    <a:pt x="641" y="359"/>
                  </a:lnTo>
                  <a:lnTo>
                    <a:pt x="651" y="386"/>
                  </a:lnTo>
                  <a:lnTo>
                    <a:pt x="661" y="413"/>
                  </a:lnTo>
                  <a:lnTo>
                    <a:pt x="671" y="440"/>
                  </a:lnTo>
                  <a:lnTo>
                    <a:pt x="683" y="467"/>
                  </a:lnTo>
                  <a:lnTo>
                    <a:pt x="694" y="493"/>
                  </a:lnTo>
                  <a:lnTo>
                    <a:pt x="707" y="520"/>
                  </a:lnTo>
                  <a:lnTo>
                    <a:pt x="720" y="546"/>
                  </a:lnTo>
                  <a:lnTo>
                    <a:pt x="734" y="572"/>
                  </a:lnTo>
                  <a:lnTo>
                    <a:pt x="748" y="598"/>
                  </a:lnTo>
                  <a:lnTo>
                    <a:pt x="763" y="623"/>
                  </a:lnTo>
                  <a:lnTo>
                    <a:pt x="778" y="647"/>
                  </a:lnTo>
                  <a:lnTo>
                    <a:pt x="794" y="673"/>
                  </a:lnTo>
                  <a:lnTo>
                    <a:pt x="810" y="696"/>
                  </a:lnTo>
                  <a:lnTo>
                    <a:pt x="826" y="720"/>
                  </a:lnTo>
                  <a:lnTo>
                    <a:pt x="843" y="743"/>
                  </a:lnTo>
                  <a:lnTo>
                    <a:pt x="861" y="765"/>
                  </a:lnTo>
                  <a:lnTo>
                    <a:pt x="878" y="787"/>
                  </a:lnTo>
                  <a:lnTo>
                    <a:pt x="896" y="808"/>
                  </a:lnTo>
                  <a:lnTo>
                    <a:pt x="915" y="830"/>
                  </a:lnTo>
                  <a:lnTo>
                    <a:pt x="926" y="813"/>
                  </a:lnTo>
                  <a:lnTo>
                    <a:pt x="939" y="798"/>
                  </a:lnTo>
                  <a:lnTo>
                    <a:pt x="953" y="782"/>
                  </a:lnTo>
                  <a:lnTo>
                    <a:pt x="968" y="768"/>
                  </a:lnTo>
                  <a:lnTo>
                    <a:pt x="982" y="754"/>
                  </a:lnTo>
                  <a:lnTo>
                    <a:pt x="998" y="741"/>
                  </a:lnTo>
                  <a:lnTo>
                    <a:pt x="1014" y="727"/>
                  </a:lnTo>
                  <a:lnTo>
                    <a:pt x="1030" y="715"/>
                  </a:lnTo>
                  <a:lnTo>
                    <a:pt x="1046" y="703"/>
                  </a:lnTo>
                  <a:lnTo>
                    <a:pt x="1064" y="692"/>
                  </a:lnTo>
                  <a:lnTo>
                    <a:pt x="1081" y="680"/>
                  </a:lnTo>
                  <a:lnTo>
                    <a:pt x="1099" y="669"/>
                  </a:lnTo>
                  <a:lnTo>
                    <a:pt x="1118" y="659"/>
                  </a:lnTo>
                  <a:lnTo>
                    <a:pt x="1135" y="648"/>
                  </a:lnTo>
                  <a:lnTo>
                    <a:pt x="1154" y="639"/>
                  </a:lnTo>
                  <a:lnTo>
                    <a:pt x="1173" y="629"/>
                  </a:lnTo>
                  <a:lnTo>
                    <a:pt x="1234" y="658"/>
                  </a:lnTo>
                  <a:lnTo>
                    <a:pt x="1201" y="669"/>
                  </a:lnTo>
                  <a:lnTo>
                    <a:pt x="1169" y="684"/>
                  </a:lnTo>
                  <a:lnTo>
                    <a:pt x="1139" y="701"/>
                  </a:lnTo>
                  <a:lnTo>
                    <a:pt x="1110" y="721"/>
                  </a:lnTo>
                  <a:lnTo>
                    <a:pt x="1096" y="732"/>
                  </a:lnTo>
                  <a:lnTo>
                    <a:pt x="1082" y="742"/>
                  </a:lnTo>
                  <a:lnTo>
                    <a:pt x="1069" y="754"/>
                  </a:lnTo>
                  <a:lnTo>
                    <a:pt x="1057" y="766"/>
                  </a:lnTo>
                  <a:lnTo>
                    <a:pt x="1034" y="792"/>
                  </a:lnTo>
                  <a:lnTo>
                    <a:pt x="1012" y="818"/>
                  </a:lnTo>
                  <a:lnTo>
                    <a:pt x="993" y="846"/>
                  </a:lnTo>
                  <a:lnTo>
                    <a:pt x="976" y="877"/>
                  </a:lnTo>
                  <a:lnTo>
                    <a:pt x="961" y="908"/>
                  </a:lnTo>
                  <a:lnTo>
                    <a:pt x="949" y="938"/>
                  </a:lnTo>
                  <a:lnTo>
                    <a:pt x="932" y="1002"/>
                  </a:lnTo>
                  <a:lnTo>
                    <a:pt x="926" y="1068"/>
                  </a:lnTo>
                  <a:lnTo>
                    <a:pt x="932" y="1123"/>
                  </a:lnTo>
                  <a:lnTo>
                    <a:pt x="938" y="1150"/>
                  </a:lnTo>
                  <a:lnTo>
                    <a:pt x="947" y="1176"/>
                  </a:lnTo>
                  <a:lnTo>
                    <a:pt x="957" y="1202"/>
                  </a:lnTo>
                  <a:lnTo>
                    <a:pt x="970" y="1228"/>
                  </a:lnTo>
                  <a:lnTo>
                    <a:pt x="984" y="1253"/>
                  </a:lnTo>
                  <a:lnTo>
                    <a:pt x="1000" y="1278"/>
                  </a:lnTo>
                  <a:lnTo>
                    <a:pt x="1016" y="1304"/>
                  </a:lnTo>
                  <a:lnTo>
                    <a:pt x="1035" y="1329"/>
                  </a:lnTo>
                  <a:lnTo>
                    <a:pt x="1054" y="1353"/>
                  </a:lnTo>
                  <a:lnTo>
                    <a:pt x="1074" y="1378"/>
                  </a:lnTo>
                  <a:lnTo>
                    <a:pt x="1094" y="1404"/>
                  </a:lnTo>
                  <a:lnTo>
                    <a:pt x="1116" y="1430"/>
                  </a:lnTo>
                  <a:lnTo>
                    <a:pt x="1136" y="1455"/>
                  </a:lnTo>
                  <a:lnTo>
                    <a:pt x="1157" y="1482"/>
                  </a:lnTo>
                  <a:lnTo>
                    <a:pt x="1178" y="1509"/>
                  </a:lnTo>
                  <a:lnTo>
                    <a:pt x="1199" y="1535"/>
                  </a:lnTo>
                  <a:lnTo>
                    <a:pt x="1218" y="1564"/>
                  </a:lnTo>
                  <a:lnTo>
                    <a:pt x="1238" y="1592"/>
                  </a:lnTo>
                  <a:lnTo>
                    <a:pt x="1247" y="1607"/>
                  </a:lnTo>
                  <a:lnTo>
                    <a:pt x="1256" y="1622"/>
                  </a:lnTo>
                  <a:lnTo>
                    <a:pt x="1275" y="1651"/>
                  </a:lnTo>
                  <a:lnTo>
                    <a:pt x="1291" y="1683"/>
                  </a:lnTo>
                  <a:lnTo>
                    <a:pt x="1306" y="1714"/>
                  </a:lnTo>
                  <a:lnTo>
                    <a:pt x="1319" y="1748"/>
                  </a:lnTo>
                  <a:lnTo>
                    <a:pt x="1330" y="1782"/>
                  </a:lnTo>
                  <a:lnTo>
                    <a:pt x="1347" y="1855"/>
                  </a:lnTo>
                  <a:lnTo>
                    <a:pt x="1354" y="1932"/>
                  </a:lnTo>
                  <a:lnTo>
                    <a:pt x="1351" y="2015"/>
                  </a:lnTo>
                  <a:lnTo>
                    <a:pt x="1347" y="2036"/>
                  </a:lnTo>
                  <a:lnTo>
                    <a:pt x="1340" y="2050"/>
                  </a:lnTo>
                  <a:lnTo>
                    <a:pt x="1331" y="2057"/>
                  </a:lnTo>
                  <a:lnTo>
                    <a:pt x="1321" y="2058"/>
                  </a:lnTo>
                  <a:lnTo>
                    <a:pt x="1294" y="2044"/>
                  </a:lnTo>
                  <a:lnTo>
                    <a:pt x="1280" y="2032"/>
                  </a:lnTo>
                  <a:lnTo>
                    <a:pt x="1267" y="2016"/>
                  </a:lnTo>
                  <a:lnTo>
                    <a:pt x="1252" y="1998"/>
                  </a:lnTo>
                  <a:lnTo>
                    <a:pt x="1238" y="1979"/>
                  </a:lnTo>
                  <a:lnTo>
                    <a:pt x="1225" y="1959"/>
                  </a:lnTo>
                  <a:lnTo>
                    <a:pt x="1214" y="1940"/>
                  </a:lnTo>
                  <a:lnTo>
                    <a:pt x="1195" y="1904"/>
                  </a:lnTo>
                  <a:lnTo>
                    <a:pt x="1186" y="1879"/>
                  </a:lnTo>
                  <a:lnTo>
                    <a:pt x="1175" y="1838"/>
                  </a:lnTo>
                  <a:lnTo>
                    <a:pt x="1163" y="1799"/>
                  </a:lnTo>
                  <a:lnTo>
                    <a:pt x="1149" y="1759"/>
                  </a:lnTo>
                  <a:lnTo>
                    <a:pt x="1132" y="1721"/>
                  </a:lnTo>
                  <a:lnTo>
                    <a:pt x="1122" y="1701"/>
                  </a:lnTo>
                  <a:lnTo>
                    <a:pt x="1113" y="1682"/>
                  </a:lnTo>
                  <a:lnTo>
                    <a:pt x="1103" y="1663"/>
                  </a:lnTo>
                  <a:lnTo>
                    <a:pt x="1092" y="1644"/>
                  </a:lnTo>
                  <a:lnTo>
                    <a:pt x="1082" y="1625"/>
                  </a:lnTo>
                  <a:lnTo>
                    <a:pt x="1072" y="1606"/>
                  </a:lnTo>
                  <a:lnTo>
                    <a:pt x="1061" y="1587"/>
                  </a:lnTo>
                  <a:lnTo>
                    <a:pt x="1050" y="1568"/>
                  </a:lnTo>
                  <a:lnTo>
                    <a:pt x="1039" y="1549"/>
                  </a:lnTo>
                  <a:lnTo>
                    <a:pt x="1028" y="1531"/>
                  </a:lnTo>
                  <a:lnTo>
                    <a:pt x="1016" y="1512"/>
                  </a:lnTo>
                  <a:lnTo>
                    <a:pt x="1005" y="1493"/>
                  </a:lnTo>
                  <a:lnTo>
                    <a:pt x="994" y="1474"/>
                  </a:lnTo>
                  <a:lnTo>
                    <a:pt x="983" y="1455"/>
                  </a:lnTo>
                  <a:lnTo>
                    <a:pt x="972" y="1436"/>
                  </a:lnTo>
                  <a:lnTo>
                    <a:pt x="961" y="1417"/>
                  </a:lnTo>
                  <a:lnTo>
                    <a:pt x="951" y="1398"/>
                  </a:lnTo>
                  <a:lnTo>
                    <a:pt x="940" y="1379"/>
                  </a:lnTo>
                  <a:lnTo>
                    <a:pt x="931" y="1361"/>
                  </a:lnTo>
                  <a:lnTo>
                    <a:pt x="922" y="1342"/>
                  </a:lnTo>
                  <a:lnTo>
                    <a:pt x="903" y="1304"/>
                  </a:lnTo>
                  <a:lnTo>
                    <a:pt x="887" y="1265"/>
                  </a:lnTo>
                  <a:lnTo>
                    <a:pt x="841" y="1267"/>
                  </a:lnTo>
                  <a:lnTo>
                    <a:pt x="784" y="1261"/>
                  </a:lnTo>
                  <a:lnTo>
                    <a:pt x="726" y="1254"/>
                  </a:lnTo>
                  <a:lnTo>
                    <a:pt x="673" y="1253"/>
                  </a:lnTo>
                  <a:lnTo>
                    <a:pt x="329" y="1291"/>
                  </a:lnTo>
                  <a:lnTo>
                    <a:pt x="255" y="1311"/>
                  </a:lnTo>
                  <a:lnTo>
                    <a:pt x="218" y="1324"/>
                  </a:lnTo>
                  <a:lnTo>
                    <a:pt x="181" y="1338"/>
                  </a:lnTo>
                  <a:lnTo>
                    <a:pt x="142" y="1356"/>
                  </a:lnTo>
                  <a:lnTo>
                    <a:pt x="103" y="1377"/>
                  </a:lnTo>
                  <a:lnTo>
                    <a:pt x="82" y="1389"/>
                  </a:lnTo>
                  <a:lnTo>
                    <a:pt x="61" y="1401"/>
                  </a:lnTo>
                  <a:lnTo>
                    <a:pt x="39" y="1414"/>
                  </a:lnTo>
                  <a:lnTo>
                    <a:pt x="17" y="1428"/>
                  </a:lnTo>
                  <a:lnTo>
                    <a:pt x="0" y="1405"/>
                  </a:lnTo>
                  <a:lnTo>
                    <a:pt x="23" y="1390"/>
                  </a:lnTo>
                  <a:lnTo>
                    <a:pt x="46" y="1375"/>
                  </a:lnTo>
                  <a:lnTo>
                    <a:pt x="70" y="1362"/>
                  </a:lnTo>
                  <a:lnTo>
                    <a:pt x="95" y="1348"/>
                  </a:lnTo>
                  <a:lnTo>
                    <a:pt x="119" y="1334"/>
                  </a:lnTo>
                  <a:lnTo>
                    <a:pt x="144" y="1322"/>
                  </a:lnTo>
                  <a:lnTo>
                    <a:pt x="170" y="1309"/>
                  </a:lnTo>
                  <a:lnTo>
                    <a:pt x="195" y="1296"/>
                  </a:lnTo>
                  <a:lnTo>
                    <a:pt x="220" y="1285"/>
                  </a:lnTo>
                  <a:lnTo>
                    <a:pt x="247" y="1273"/>
                  </a:lnTo>
                  <a:lnTo>
                    <a:pt x="273" y="1263"/>
                  </a:lnTo>
                  <a:lnTo>
                    <a:pt x="299" y="1252"/>
                  </a:lnTo>
                  <a:lnTo>
                    <a:pt x="326" y="1241"/>
                  </a:lnTo>
                  <a:lnTo>
                    <a:pt x="353" y="1232"/>
                  </a:lnTo>
                  <a:lnTo>
                    <a:pt x="407" y="1215"/>
                  </a:lnTo>
                  <a:lnTo>
                    <a:pt x="463" y="1200"/>
                  </a:lnTo>
                  <a:lnTo>
                    <a:pt x="518" y="1189"/>
                  </a:lnTo>
                  <a:lnTo>
                    <a:pt x="574" y="1179"/>
                  </a:lnTo>
                  <a:lnTo>
                    <a:pt x="631" y="1173"/>
                  </a:lnTo>
                  <a:lnTo>
                    <a:pt x="745" y="1169"/>
                  </a:lnTo>
                  <a:lnTo>
                    <a:pt x="859" y="1178"/>
                  </a:lnTo>
                  <a:lnTo>
                    <a:pt x="847" y="1110"/>
                  </a:lnTo>
                  <a:lnTo>
                    <a:pt x="843" y="1041"/>
                  </a:lnTo>
                  <a:lnTo>
                    <a:pt x="850" y="972"/>
                  </a:lnTo>
                  <a:lnTo>
                    <a:pt x="859" y="938"/>
                  </a:lnTo>
                  <a:lnTo>
                    <a:pt x="871" y="905"/>
                  </a:lnTo>
                  <a:lnTo>
                    <a:pt x="832" y="882"/>
                  </a:lnTo>
                  <a:lnTo>
                    <a:pt x="813" y="866"/>
                  </a:lnTo>
                  <a:lnTo>
                    <a:pt x="796" y="849"/>
                  </a:lnTo>
                  <a:lnTo>
                    <a:pt x="778" y="827"/>
                  </a:lnTo>
                  <a:lnTo>
                    <a:pt x="761" y="804"/>
                  </a:lnTo>
                  <a:lnTo>
                    <a:pt x="745" y="780"/>
                  </a:lnTo>
                  <a:lnTo>
                    <a:pt x="730" y="753"/>
                  </a:lnTo>
                  <a:lnTo>
                    <a:pt x="715" y="724"/>
                  </a:lnTo>
                  <a:lnTo>
                    <a:pt x="701" y="695"/>
                  </a:lnTo>
                  <a:lnTo>
                    <a:pt x="688" y="663"/>
                  </a:lnTo>
                  <a:lnTo>
                    <a:pt x="675" y="630"/>
                  </a:lnTo>
                  <a:lnTo>
                    <a:pt x="662" y="597"/>
                  </a:lnTo>
                  <a:lnTo>
                    <a:pt x="652" y="563"/>
                  </a:lnTo>
                  <a:lnTo>
                    <a:pt x="640" y="528"/>
                  </a:lnTo>
                  <a:lnTo>
                    <a:pt x="631" y="492"/>
                  </a:lnTo>
                  <a:lnTo>
                    <a:pt x="613" y="421"/>
                  </a:lnTo>
                  <a:lnTo>
                    <a:pt x="598" y="349"/>
                  </a:lnTo>
                  <a:lnTo>
                    <a:pt x="585" y="279"/>
                  </a:lnTo>
                  <a:lnTo>
                    <a:pt x="576" y="212"/>
                  </a:lnTo>
                  <a:lnTo>
                    <a:pt x="565" y="92"/>
                  </a:lnTo>
                  <a:lnTo>
                    <a:pt x="566" y="0"/>
                  </a:lnTo>
                  <a:lnTo>
                    <a:pt x="598" y="4"/>
                  </a:lnTo>
                  <a:lnTo>
                    <a:pt x="59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pic>
        <p:nvPicPr>
          <p:cNvPr id="187" name="na00864_" descr=""/>
          <p:cNvPicPr/>
          <p:nvPr/>
        </p:nvPicPr>
        <p:blipFill>
          <a:blip r:embed="rId2"/>
          <a:stretch/>
        </p:blipFill>
        <p:spPr>
          <a:xfrm>
            <a:off x="2895480" y="0"/>
            <a:ext cx="1219320" cy="549360"/>
          </a:xfrm>
          <a:prstGeom prst="rect">
            <a:avLst/>
          </a:prstGeom>
          <a:ln w="0">
            <a:noFill/>
          </a:ln>
        </p:spPr>
      </p:pic>
      <p:pic>
        <p:nvPicPr>
          <p:cNvPr id="188" name="na00864_" descr=""/>
          <p:cNvPicPr/>
          <p:nvPr/>
        </p:nvPicPr>
        <p:blipFill>
          <a:blip r:embed="rId3"/>
          <a:stretch/>
        </p:blipFill>
        <p:spPr>
          <a:xfrm>
            <a:off x="4038480" y="0"/>
            <a:ext cx="1219320" cy="549360"/>
          </a:xfrm>
          <a:prstGeom prst="rect">
            <a:avLst/>
          </a:prstGeom>
          <a:ln w="0">
            <a:noFill/>
          </a:ln>
        </p:spPr>
      </p:pic>
      <p:pic>
        <p:nvPicPr>
          <p:cNvPr id="189" name="na00864_" descr=""/>
          <p:cNvPicPr/>
          <p:nvPr/>
        </p:nvPicPr>
        <p:blipFill>
          <a:blip r:embed="rId4"/>
          <a:stretch/>
        </p:blipFill>
        <p:spPr>
          <a:xfrm>
            <a:off x="5105520" y="0"/>
            <a:ext cx="1218960" cy="549360"/>
          </a:xfrm>
          <a:prstGeom prst="rect">
            <a:avLst/>
          </a:prstGeom>
          <a:ln w="0">
            <a:noFill/>
          </a:ln>
        </p:spPr>
      </p:pic>
      <p:pic>
        <p:nvPicPr>
          <p:cNvPr id="190" name="na00864_" descr=""/>
          <p:cNvPicPr/>
          <p:nvPr/>
        </p:nvPicPr>
        <p:blipFill>
          <a:blip r:embed="rId5"/>
          <a:stretch/>
        </p:blipFill>
        <p:spPr>
          <a:xfrm>
            <a:off x="6172200" y="0"/>
            <a:ext cx="1219320" cy="549360"/>
          </a:xfrm>
          <a:prstGeom prst="rect">
            <a:avLst/>
          </a:prstGeom>
          <a:ln w="0">
            <a:noFill/>
          </a:ln>
        </p:spPr>
      </p:pic>
      <p:pic>
        <p:nvPicPr>
          <p:cNvPr id="191" name="na00864_" descr=""/>
          <p:cNvPicPr/>
          <p:nvPr/>
        </p:nvPicPr>
        <p:blipFill>
          <a:blip r:embed="rId6"/>
          <a:stretch/>
        </p:blipFill>
        <p:spPr>
          <a:xfrm>
            <a:off x="7238880" y="0"/>
            <a:ext cx="1219320" cy="549360"/>
          </a:xfrm>
          <a:prstGeom prst="rect">
            <a:avLst/>
          </a:prstGeom>
          <a:ln w="0">
            <a:noFill/>
          </a:ln>
        </p:spPr>
      </p:pic>
      <p:pic>
        <p:nvPicPr>
          <p:cNvPr id="192" name="na00864_" descr=""/>
          <p:cNvPicPr/>
          <p:nvPr/>
        </p:nvPicPr>
        <p:blipFill>
          <a:blip r:embed="rId7"/>
          <a:stretch/>
        </p:blipFill>
        <p:spPr>
          <a:xfrm>
            <a:off x="1752480" y="0"/>
            <a:ext cx="12193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-16920" y="1204920"/>
            <a:ext cx="743400" cy="1237680"/>
            <a:chOff x="-16920" y="1204920"/>
            <a:chExt cx="743400" cy="1237680"/>
          </a:xfrm>
        </p:grpSpPr>
        <p:sp>
          <p:nvSpPr>
            <p:cNvPr id="194" name=""/>
            <p:cNvSpPr/>
            <p:nvPr/>
          </p:nvSpPr>
          <p:spPr>
            <a:xfrm rot="16378200">
              <a:off x="251640" y="2066040"/>
              <a:ext cx="468000" cy="252000"/>
            </a:xfrm>
            <a:custGeom>
              <a:avLst/>
              <a:gdLst/>
              <a:ahLst/>
              <a:rect l="l" t="t" r="r" b="b"/>
              <a:pathLst>
                <a:path w="1179" h="836">
                  <a:moveTo>
                    <a:pt x="1164" y="440"/>
                  </a:moveTo>
                  <a:lnTo>
                    <a:pt x="981" y="701"/>
                  </a:lnTo>
                  <a:lnTo>
                    <a:pt x="857" y="771"/>
                  </a:lnTo>
                  <a:lnTo>
                    <a:pt x="802" y="705"/>
                  </a:lnTo>
                  <a:lnTo>
                    <a:pt x="790" y="585"/>
                  </a:lnTo>
                  <a:lnTo>
                    <a:pt x="623" y="767"/>
                  </a:lnTo>
                  <a:lnTo>
                    <a:pt x="526" y="776"/>
                  </a:lnTo>
                  <a:lnTo>
                    <a:pt x="464" y="641"/>
                  </a:lnTo>
                  <a:lnTo>
                    <a:pt x="240" y="836"/>
                  </a:lnTo>
                  <a:lnTo>
                    <a:pt x="195" y="780"/>
                  </a:lnTo>
                  <a:lnTo>
                    <a:pt x="236" y="682"/>
                  </a:lnTo>
                  <a:lnTo>
                    <a:pt x="63" y="701"/>
                  </a:lnTo>
                  <a:lnTo>
                    <a:pt x="0" y="618"/>
                  </a:lnTo>
                  <a:lnTo>
                    <a:pt x="36" y="539"/>
                  </a:lnTo>
                  <a:lnTo>
                    <a:pt x="113" y="472"/>
                  </a:lnTo>
                  <a:lnTo>
                    <a:pt x="81" y="398"/>
                  </a:lnTo>
                  <a:lnTo>
                    <a:pt x="148" y="347"/>
                  </a:lnTo>
                  <a:lnTo>
                    <a:pt x="409" y="286"/>
                  </a:lnTo>
                  <a:lnTo>
                    <a:pt x="373" y="201"/>
                  </a:lnTo>
                  <a:lnTo>
                    <a:pt x="464" y="132"/>
                  </a:lnTo>
                  <a:lnTo>
                    <a:pt x="766" y="150"/>
                  </a:lnTo>
                  <a:lnTo>
                    <a:pt x="765" y="30"/>
                  </a:lnTo>
                  <a:lnTo>
                    <a:pt x="869" y="0"/>
                  </a:lnTo>
                  <a:lnTo>
                    <a:pt x="1113" y="140"/>
                  </a:lnTo>
                  <a:lnTo>
                    <a:pt x="1179" y="290"/>
                  </a:lnTo>
                  <a:lnTo>
                    <a:pt x="1164" y="440"/>
                  </a:lnTo>
                  <a:lnTo>
                    <a:pt x="1164" y="440"/>
                  </a:lnTo>
                  <a:lnTo>
                    <a:pt x="1164" y="440"/>
                  </a:lnTo>
                  <a:close/>
                </a:path>
              </a:pathLst>
            </a:custGeom>
            <a:solidFill>
              <a:srgbClr val="3df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6378200">
              <a:off x="430560" y="2238840"/>
              <a:ext cx="133200" cy="68040"/>
            </a:xfrm>
            <a:custGeom>
              <a:avLst/>
              <a:gdLst/>
              <a:ahLst/>
              <a:rect l="l" t="t" r="r" b="b"/>
              <a:pathLst>
                <a:path w="335" h="227">
                  <a:moveTo>
                    <a:pt x="234" y="59"/>
                  </a:moveTo>
                  <a:lnTo>
                    <a:pt x="167" y="72"/>
                  </a:lnTo>
                  <a:lnTo>
                    <a:pt x="99" y="86"/>
                  </a:lnTo>
                  <a:lnTo>
                    <a:pt x="60" y="97"/>
                  </a:lnTo>
                  <a:lnTo>
                    <a:pt x="20" y="108"/>
                  </a:lnTo>
                  <a:lnTo>
                    <a:pt x="0" y="101"/>
                  </a:lnTo>
                  <a:lnTo>
                    <a:pt x="0" y="91"/>
                  </a:lnTo>
                  <a:lnTo>
                    <a:pt x="9" y="83"/>
                  </a:lnTo>
                  <a:lnTo>
                    <a:pt x="28" y="74"/>
                  </a:lnTo>
                  <a:lnTo>
                    <a:pt x="63" y="64"/>
                  </a:lnTo>
                  <a:lnTo>
                    <a:pt x="106" y="51"/>
                  </a:lnTo>
                  <a:lnTo>
                    <a:pt x="154" y="38"/>
                  </a:lnTo>
                  <a:lnTo>
                    <a:pt x="203" y="26"/>
                  </a:lnTo>
                  <a:lnTo>
                    <a:pt x="246" y="14"/>
                  </a:lnTo>
                  <a:lnTo>
                    <a:pt x="304" y="0"/>
                  </a:lnTo>
                  <a:lnTo>
                    <a:pt x="334" y="4"/>
                  </a:lnTo>
                  <a:lnTo>
                    <a:pt x="335" y="25"/>
                  </a:lnTo>
                  <a:lnTo>
                    <a:pt x="327" y="39"/>
                  </a:lnTo>
                  <a:lnTo>
                    <a:pt x="316" y="57"/>
                  </a:lnTo>
                  <a:lnTo>
                    <a:pt x="299" y="76"/>
                  </a:lnTo>
                  <a:lnTo>
                    <a:pt x="281" y="97"/>
                  </a:lnTo>
                  <a:lnTo>
                    <a:pt x="260" y="118"/>
                  </a:lnTo>
                  <a:lnTo>
                    <a:pt x="250" y="129"/>
                  </a:lnTo>
                  <a:lnTo>
                    <a:pt x="240" y="140"/>
                  </a:lnTo>
                  <a:lnTo>
                    <a:pt x="228" y="149"/>
                  </a:lnTo>
                  <a:lnTo>
                    <a:pt x="219" y="158"/>
                  </a:lnTo>
                  <a:lnTo>
                    <a:pt x="198" y="177"/>
                  </a:lnTo>
                  <a:lnTo>
                    <a:pt x="181" y="192"/>
                  </a:lnTo>
                  <a:lnTo>
                    <a:pt x="166" y="206"/>
                  </a:lnTo>
                  <a:lnTo>
                    <a:pt x="148" y="220"/>
                  </a:lnTo>
                  <a:lnTo>
                    <a:pt x="118" y="227"/>
                  </a:lnTo>
                  <a:lnTo>
                    <a:pt x="96" y="215"/>
                  </a:lnTo>
                  <a:lnTo>
                    <a:pt x="93" y="188"/>
                  </a:lnTo>
                  <a:lnTo>
                    <a:pt x="105" y="168"/>
                  </a:lnTo>
                  <a:lnTo>
                    <a:pt x="124" y="146"/>
                  </a:lnTo>
                  <a:lnTo>
                    <a:pt x="138" y="134"/>
                  </a:lnTo>
                  <a:lnTo>
                    <a:pt x="151" y="124"/>
                  </a:lnTo>
                  <a:lnTo>
                    <a:pt x="165" y="113"/>
                  </a:lnTo>
                  <a:lnTo>
                    <a:pt x="180" y="103"/>
                  </a:lnTo>
                  <a:lnTo>
                    <a:pt x="193" y="92"/>
                  </a:lnTo>
                  <a:lnTo>
                    <a:pt x="207" y="82"/>
                  </a:lnTo>
                  <a:lnTo>
                    <a:pt x="221" y="71"/>
                  </a:lnTo>
                  <a:lnTo>
                    <a:pt x="234" y="59"/>
                  </a:lnTo>
                  <a:lnTo>
                    <a:pt x="234" y="59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378200">
              <a:off x="427320" y="2198520"/>
              <a:ext cx="13680" cy="104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28"/>
                  </a:moveTo>
                  <a:lnTo>
                    <a:pt x="4" y="17"/>
                  </a:lnTo>
                  <a:lnTo>
                    <a:pt x="17" y="5"/>
                  </a:lnTo>
                  <a:lnTo>
                    <a:pt x="30" y="0"/>
                  </a:lnTo>
                  <a:lnTo>
                    <a:pt x="35" y="7"/>
                  </a:lnTo>
                  <a:lnTo>
                    <a:pt x="28" y="3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378200">
              <a:off x="421200" y="2119320"/>
              <a:ext cx="104400" cy="88560"/>
            </a:xfrm>
            <a:custGeom>
              <a:avLst/>
              <a:gdLst/>
              <a:ahLst/>
              <a:rect l="l" t="t" r="r" b="b"/>
              <a:pathLst>
                <a:path w="264" h="299">
                  <a:moveTo>
                    <a:pt x="198" y="102"/>
                  </a:moveTo>
                  <a:lnTo>
                    <a:pt x="157" y="91"/>
                  </a:lnTo>
                  <a:lnTo>
                    <a:pt x="103" y="74"/>
                  </a:lnTo>
                  <a:lnTo>
                    <a:pt x="51" y="56"/>
                  </a:lnTo>
                  <a:lnTo>
                    <a:pt x="15" y="4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2" y="0"/>
                  </a:lnTo>
                  <a:lnTo>
                    <a:pt x="35" y="3"/>
                  </a:lnTo>
                  <a:lnTo>
                    <a:pt x="87" y="19"/>
                  </a:lnTo>
                  <a:lnTo>
                    <a:pt x="138" y="31"/>
                  </a:lnTo>
                  <a:lnTo>
                    <a:pt x="241" y="54"/>
                  </a:lnTo>
                  <a:lnTo>
                    <a:pt x="261" y="65"/>
                  </a:lnTo>
                  <a:lnTo>
                    <a:pt x="264" y="86"/>
                  </a:lnTo>
                  <a:lnTo>
                    <a:pt x="254" y="135"/>
                  </a:lnTo>
                  <a:lnTo>
                    <a:pt x="238" y="185"/>
                  </a:lnTo>
                  <a:lnTo>
                    <a:pt x="229" y="210"/>
                  </a:lnTo>
                  <a:lnTo>
                    <a:pt x="218" y="235"/>
                  </a:lnTo>
                  <a:lnTo>
                    <a:pt x="207" y="258"/>
                  </a:lnTo>
                  <a:lnTo>
                    <a:pt x="195" y="280"/>
                  </a:lnTo>
                  <a:lnTo>
                    <a:pt x="185" y="292"/>
                  </a:lnTo>
                  <a:lnTo>
                    <a:pt x="173" y="299"/>
                  </a:lnTo>
                  <a:lnTo>
                    <a:pt x="148" y="298"/>
                  </a:lnTo>
                  <a:lnTo>
                    <a:pt x="129" y="281"/>
                  </a:lnTo>
                  <a:lnTo>
                    <a:pt x="126" y="268"/>
                  </a:lnTo>
                  <a:lnTo>
                    <a:pt x="128" y="253"/>
                  </a:lnTo>
                  <a:lnTo>
                    <a:pt x="148" y="200"/>
                  </a:lnTo>
                  <a:lnTo>
                    <a:pt x="159" y="174"/>
                  </a:lnTo>
                  <a:lnTo>
                    <a:pt x="173" y="151"/>
                  </a:lnTo>
                  <a:lnTo>
                    <a:pt x="187" y="127"/>
                  </a:lnTo>
                  <a:lnTo>
                    <a:pt x="198" y="102"/>
                  </a:lnTo>
                  <a:lnTo>
                    <a:pt x="198" y="102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378200">
              <a:off x="422640" y="1992960"/>
              <a:ext cx="86760" cy="95400"/>
            </a:xfrm>
            <a:custGeom>
              <a:avLst/>
              <a:gdLst/>
              <a:ahLst/>
              <a:rect l="l" t="t" r="r" b="b"/>
              <a:pathLst>
                <a:path w="222" h="316">
                  <a:moveTo>
                    <a:pt x="19" y="0"/>
                  </a:moveTo>
                  <a:lnTo>
                    <a:pt x="104" y="14"/>
                  </a:lnTo>
                  <a:lnTo>
                    <a:pt x="184" y="44"/>
                  </a:lnTo>
                  <a:lnTo>
                    <a:pt x="208" y="66"/>
                  </a:lnTo>
                  <a:lnTo>
                    <a:pt x="220" y="91"/>
                  </a:lnTo>
                  <a:lnTo>
                    <a:pt x="222" y="120"/>
                  </a:lnTo>
                  <a:lnTo>
                    <a:pt x="215" y="148"/>
                  </a:lnTo>
                  <a:lnTo>
                    <a:pt x="204" y="178"/>
                  </a:lnTo>
                  <a:lnTo>
                    <a:pt x="189" y="207"/>
                  </a:lnTo>
                  <a:lnTo>
                    <a:pt x="174" y="234"/>
                  </a:lnTo>
                  <a:lnTo>
                    <a:pt x="160" y="258"/>
                  </a:lnTo>
                  <a:lnTo>
                    <a:pt x="145" y="291"/>
                  </a:lnTo>
                  <a:lnTo>
                    <a:pt x="135" y="305"/>
                  </a:lnTo>
                  <a:lnTo>
                    <a:pt x="123" y="314"/>
                  </a:lnTo>
                  <a:lnTo>
                    <a:pt x="94" y="316"/>
                  </a:lnTo>
                  <a:lnTo>
                    <a:pt x="72" y="300"/>
                  </a:lnTo>
                  <a:lnTo>
                    <a:pt x="67" y="271"/>
                  </a:lnTo>
                  <a:lnTo>
                    <a:pt x="79" y="242"/>
                  </a:lnTo>
                  <a:lnTo>
                    <a:pt x="88" y="228"/>
                  </a:lnTo>
                  <a:lnTo>
                    <a:pt x="97" y="215"/>
                  </a:lnTo>
                  <a:lnTo>
                    <a:pt x="108" y="201"/>
                  </a:lnTo>
                  <a:lnTo>
                    <a:pt x="118" y="188"/>
                  </a:lnTo>
                  <a:lnTo>
                    <a:pt x="138" y="163"/>
                  </a:lnTo>
                  <a:lnTo>
                    <a:pt x="164" y="120"/>
                  </a:lnTo>
                  <a:lnTo>
                    <a:pt x="167" y="110"/>
                  </a:lnTo>
                  <a:lnTo>
                    <a:pt x="164" y="102"/>
                  </a:lnTo>
                  <a:lnTo>
                    <a:pt x="152" y="87"/>
                  </a:lnTo>
                  <a:lnTo>
                    <a:pt x="134" y="77"/>
                  </a:lnTo>
                  <a:lnTo>
                    <a:pt x="117" y="67"/>
                  </a:lnTo>
                  <a:lnTo>
                    <a:pt x="84" y="52"/>
                  </a:lnTo>
                  <a:lnTo>
                    <a:pt x="49" y="40"/>
                  </a:lnTo>
                  <a:lnTo>
                    <a:pt x="12" y="27"/>
                  </a:lnTo>
                  <a:lnTo>
                    <a:pt x="2" y="20"/>
                  </a:lnTo>
                  <a:lnTo>
                    <a:pt x="0" y="10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378200">
              <a:off x="6840" y="1808640"/>
              <a:ext cx="320400" cy="338760"/>
            </a:xfrm>
            <a:custGeom>
              <a:avLst/>
              <a:gdLst/>
              <a:ahLst/>
              <a:rect l="l" t="t" r="r" b="b"/>
              <a:pathLst>
                <a:path w="807" h="1119">
                  <a:moveTo>
                    <a:pt x="551" y="1087"/>
                  </a:moveTo>
                  <a:lnTo>
                    <a:pt x="664" y="985"/>
                  </a:lnTo>
                  <a:lnTo>
                    <a:pt x="807" y="727"/>
                  </a:lnTo>
                  <a:lnTo>
                    <a:pt x="776" y="620"/>
                  </a:lnTo>
                  <a:lnTo>
                    <a:pt x="680" y="610"/>
                  </a:lnTo>
                  <a:lnTo>
                    <a:pt x="628" y="624"/>
                  </a:lnTo>
                  <a:lnTo>
                    <a:pt x="668" y="438"/>
                  </a:lnTo>
                  <a:lnTo>
                    <a:pt x="638" y="339"/>
                  </a:lnTo>
                  <a:lnTo>
                    <a:pt x="464" y="392"/>
                  </a:lnTo>
                  <a:lnTo>
                    <a:pt x="552" y="199"/>
                  </a:lnTo>
                  <a:lnTo>
                    <a:pt x="551" y="75"/>
                  </a:lnTo>
                  <a:lnTo>
                    <a:pt x="404" y="148"/>
                  </a:lnTo>
                  <a:lnTo>
                    <a:pt x="327" y="4"/>
                  </a:lnTo>
                  <a:lnTo>
                    <a:pt x="240" y="0"/>
                  </a:lnTo>
                  <a:lnTo>
                    <a:pt x="169" y="102"/>
                  </a:lnTo>
                  <a:lnTo>
                    <a:pt x="169" y="158"/>
                  </a:lnTo>
                  <a:lnTo>
                    <a:pt x="91" y="173"/>
                  </a:lnTo>
                  <a:lnTo>
                    <a:pt x="61" y="223"/>
                  </a:lnTo>
                  <a:lnTo>
                    <a:pt x="113" y="404"/>
                  </a:lnTo>
                  <a:lnTo>
                    <a:pt x="128" y="517"/>
                  </a:lnTo>
                  <a:lnTo>
                    <a:pt x="30" y="509"/>
                  </a:lnTo>
                  <a:lnTo>
                    <a:pt x="0" y="574"/>
                  </a:lnTo>
                  <a:lnTo>
                    <a:pt x="51" y="686"/>
                  </a:lnTo>
                  <a:lnTo>
                    <a:pt x="169" y="848"/>
                  </a:lnTo>
                  <a:lnTo>
                    <a:pt x="57" y="913"/>
                  </a:lnTo>
                  <a:lnTo>
                    <a:pt x="93" y="993"/>
                  </a:lnTo>
                  <a:lnTo>
                    <a:pt x="352" y="1119"/>
                  </a:lnTo>
                  <a:lnTo>
                    <a:pt x="551" y="1087"/>
                  </a:lnTo>
                  <a:lnTo>
                    <a:pt x="551" y="1087"/>
                  </a:lnTo>
                  <a:lnTo>
                    <a:pt x="551" y="1087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378200">
              <a:off x="46800" y="1985760"/>
              <a:ext cx="113760" cy="76320"/>
            </a:xfrm>
            <a:custGeom>
              <a:avLst/>
              <a:gdLst/>
              <a:ahLst/>
              <a:rect l="l" t="t" r="r" b="b"/>
              <a:pathLst>
                <a:path w="292" h="254">
                  <a:moveTo>
                    <a:pt x="134" y="199"/>
                  </a:moveTo>
                  <a:lnTo>
                    <a:pt x="141" y="196"/>
                  </a:lnTo>
                  <a:lnTo>
                    <a:pt x="154" y="175"/>
                  </a:lnTo>
                  <a:lnTo>
                    <a:pt x="169" y="151"/>
                  </a:lnTo>
                  <a:lnTo>
                    <a:pt x="185" y="126"/>
                  </a:lnTo>
                  <a:lnTo>
                    <a:pt x="201" y="100"/>
                  </a:lnTo>
                  <a:lnTo>
                    <a:pt x="218" y="74"/>
                  </a:lnTo>
                  <a:lnTo>
                    <a:pt x="235" y="49"/>
                  </a:lnTo>
                  <a:lnTo>
                    <a:pt x="250" y="27"/>
                  </a:lnTo>
                  <a:lnTo>
                    <a:pt x="265" y="8"/>
                  </a:lnTo>
                  <a:lnTo>
                    <a:pt x="276" y="0"/>
                  </a:lnTo>
                  <a:lnTo>
                    <a:pt x="286" y="2"/>
                  </a:lnTo>
                  <a:lnTo>
                    <a:pt x="292" y="20"/>
                  </a:lnTo>
                  <a:lnTo>
                    <a:pt x="285" y="39"/>
                  </a:lnTo>
                  <a:lnTo>
                    <a:pt x="274" y="66"/>
                  </a:lnTo>
                  <a:lnTo>
                    <a:pt x="260" y="97"/>
                  </a:lnTo>
                  <a:lnTo>
                    <a:pt x="246" y="131"/>
                  </a:lnTo>
                  <a:lnTo>
                    <a:pt x="231" y="165"/>
                  </a:lnTo>
                  <a:lnTo>
                    <a:pt x="217" y="195"/>
                  </a:lnTo>
                  <a:lnTo>
                    <a:pt x="205" y="219"/>
                  </a:lnTo>
                  <a:lnTo>
                    <a:pt x="197" y="233"/>
                  </a:lnTo>
                  <a:lnTo>
                    <a:pt x="189" y="242"/>
                  </a:lnTo>
                  <a:lnTo>
                    <a:pt x="179" y="248"/>
                  </a:lnTo>
                  <a:lnTo>
                    <a:pt x="142" y="254"/>
                  </a:lnTo>
                  <a:lnTo>
                    <a:pt x="106" y="247"/>
                  </a:lnTo>
                  <a:lnTo>
                    <a:pt x="79" y="213"/>
                  </a:lnTo>
                  <a:lnTo>
                    <a:pt x="62" y="183"/>
                  </a:lnTo>
                  <a:lnTo>
                    <a:pt x="45" y="147"/>
                  </a:lnTo>
                  <a:lnTo>
                    <a:pt x="29" y="111"/>
                  </a:lnTo>
                  <a:lnTo>
                    <a:pt x="15" y="76"/>
                  </a:lnTo>
                  <a:lnTo>
                    <a:pt x="0" y="30"/>
                  </a:lnTo>
                  <a:lnTo>
                    <a:pt x="1" y="18"/>
                  </a:lnTo>
                  <a:lnTo>
                    <a:pt x="11" y="12"/>
                  </a:lnTo>
                  <a:lnTo>
                    <a:pt x="29" y="23"/>
                  </a:lnTo>
                  <a:lnTo>
                    <a:pt x="44" y="54"/>
                  </a:lnTo>
                  <a:lnTo>
                    <a:pt x="51" y="71"/>
                  </a:lnTo>
                  <a:lnTo>
                    <a:pt x="59" y="87"/>
                  </a:lnTo>
                  <a:lnTo>
                    <a:pt x="68" y="102"/>
                  </a:lnTo>
                  <a:lnTo>
                    <a:pt x="77" y="115"/>
                  </a:lnTo>
                  <a:lnTo>
                    <a:pt x="87" y="129"/>
                  </a:lnTo>
                  <a:lnTo>
                    <a:pt x="96" y="143"/>
                  </a:lnTo>
                  <a:lnTo>
                    <a:pt x="115" y="170"/>
                  </a:lnTo>
                  <a:lnTo>
                    <a:pt x="134" y="199"/>
                  </a:lnTo>
                  <a:lnTo>
                    <a:pt x="134" y="199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378200">
              <a:off x="110880" y="1969560"/>
              <a:ext cx="131400" cy="76320"/>
            </a:xfrm>
            <a:custGeom>
              <a:avLst/>
              <a:gdLst/>
              <a:ahLst/>
              <a:rect l="l" t="t" r="r" b="b"/>
              <a:pathLst>
                <a:path w="331" h="253">
                  <a:moveTo>
                    <a:pt x="189" y="195"/>
                  </a:moveTo>
                  <a:lnTo>
                    <a:pt x="196" y="169"/>
                  </a:lnTo>
                  <a:lnTo>
                    <a:pt x="204" y="144"/>
                  </a:lnTo>
                  <a:lnTo>
                    <a:pt x="216" y="119"/>
                  </a:lnTo>
                  <a:lnTo>
                    <a:pt x="227" y="94"/>
                  </a:lnTo>
                  <a:lnTo>
                    <a:pt x="242" y="71"/>
                  </a:lnTo>
                  <a:lnTo>
                    <a:pt x="258" y="48"/>
                  </a:lnTo>
                  <a:lnTo>
                    <a:pt x="276" y="27"/>
                  </a:lnTo>
                  <a:lnTo>
                    <a:pt x="294" y="7"/>
                  </a:lnTo>
                  <a:lnTo>
                    <a:pt x="309" y="0"/>
                  </a:lnTo>
                  <a:lnTo>
                    <a:pt x="323" y="4"/>
                  </a:lnTo>
                  <a:lnTo>
                    <a:pt x="331" y="14"/>
                  </a:lnTo>
                  <a:lnTo>
                    <a:pt x="326" y="30"/>
                  </a:lnTo>
                  <a:lnTo>
                    <a:pt x="307" y="60"/>
                  </a:lnTo>
                  <a:lnTo>
                    <a:pt x="292" y="84"/>
                  </a:lnTo>
                  <a:lnTo>
                    <a:pt x="275" y="126"/>
                  </a:lnTo>
                  <a:lnTo>
                    <a:pt x="253" y="227"/>
                  </a:lnTo>
                  <a:lnTo>
                    <a:pt x="243" y="246"/>
                  </a:lnTo>
                  <a:lnTo>
                    <a:pt x="223" y="253"/>
                  </a:lnTo>
                  <a:lnTo>
                    <a:pt x="204" y="251"/>
                  </a:lnTo>
                  <a:lnTo>
                    <a:pt x="187" y="241"/>
                  </a:lnTo>
                  <a:lnTo>
                    <a:pt x="172" y="228"/>
                  </a:lnTo>
                  <a:lnTo>
                    <a:pt x="156" y="217"/>
                  </a:lnTo>
                  <a:lnTo>
                    <a:pt x="119" y="203"/>
                  </a:lnTo>
                  <a:lnTo>
                    <a:pt x="81" y="192"/>
                  </a:lnTo>
                  <a:lnTo>
                    <a:pt x="9" y="165"/>
                  </a:lnTo>
                  <a:lnTo>
                    <a:pt x="0" y="156"/>
                  </a:lnTo>
                  <a:lnTo>
                    <a:pt x="1" y="146"/>
                  </a:lnTo>
                  <a:lnTo>
                    <a:pt x="9" y="140"/>
                  </a:lnTo>
                  <a:lnTo>
                    <a:pt x="22" y="140"/>
                  </a:lnTo>
                  <a:lnTo>
                    <a:pt x="56" y="151"/>
                  </a:lnTo>
                  <a:lnTo>
                    <a:pt x="82" y="161"/>
                  </a:lnTo>
                  <a:lnTo>
                    <a:pt x="110" y="170"/>
                  </a:lnTo>
                  <a:lnTo>
                    <a:pt x="160" y="188"/>
                  </a:lnTo>
                  <a:lnTo>
                    <a:pt x="189" y="195"/>
                  </a:lnTo>
                  <a:lnTo>
                    <a:pt x="189" y="195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6378200">
              <a:off x="188280" y="1915920"/>
              <a:ext cx="142560" cy="76320"/>
            </a:xfrm>
            <a:custGeom>
              <a:avLst/>
              <a:gdLst/>
              <a:ahLst/>
              <a:rect l="l" t="t" r="r" b="b"/>
              <a:pathLst>
                <a:path w="361" h="253">
                  <a:moveTo>
                    <a:pt x="134" y="185"/>
                  </a:moveTo>
                  <a:lnTo>
                    <a:pt x="151" y="164"/>
                  </a:lnTo>
                  <a:lnTo>
                    <a:pt x="168" y="142"/>
                  </a:lnTo>
                  <a:lnTo>
                    <a:pt x="186" y="122"/>
                  </a:lnTo>
                  <a:lnTo>
                    <a:pt x="204" y="102"/>
                  </a:lnTo>
                  <a:lnTo>
                    <a:pt x="218" y="88"/>
                  </a:lnTo>
                  <a:lnTo>
                    <a:pt x="234" y="74"/>
                  </a:lnTo>
                  <a:lnTo>
                    <a:pt x="250" y="60"/>
                  </a:lnTo>
                  <a:lnTo>
                    <a:pt x="269" y="48"/>
                  </a:lnTo>
                  <a:lnTo>
                    <a:pt x="286" y="35"/>
                  </a:lnTo>
                  <a:lnTo>
                    <a:pt x="304" y="23"/>
                  </a:lnTo>
                  <a:lnTo>
                    <a:pt x="322" y="12"/>
                  </a:lnTo>
                  <a:lnTo>
                    <a:pt x="339" y="0"/>
                  </a:lnTo>
                  <a:lnTo>
                    <a:pt x="361" y="1"/>
                  </a:lnTo>
                  <a:lnTo>
                    <a:pt x="360" y="21"/>
                  </a:lnTo>
                  <a:lnTo>
                    <a:pt x="335" y="48"/>
                  </a:lnTo>
                  <a:lnTo>
                    <a:pt x="312" y="74"/>
                  </a:lnTo>
                  <a:lnTo>
                    <a:pt x="290" y="101"/>
                  </a:lnTo>
                  <a:lnTo>
                    <a:pt x="269" y="129"/>
                  </a:lnTo>
                  <a:lnTo>
                    <a:pt x="258" y="142"/>
                  </a:lnTo>
                  <a:lnTo>
                    <a:pt x="247" y="156"/>
                  </a:lnTo>
                  <a:lnTo>
                    <a:pt x="236" y="171"/>
                  </a:lnTo>
                  <a:lnTo>
                    <a:pt x="225" y="185"/>
                  </a:lnTo>
                  <a:lnTo>
                    <a:pt x="214" y="198"/>
                  </a:lnTo>
                  <a:lnTo>
                    <a:pt x="203" y="212"/>
                  </a:lnTo>
                  <a:lnTo>
                    <a:pt x="181" y="239"/>
                  </a:lnTo>
                  <a:lnTo>
                    <a:pt x="166" y="250"/>
                  </a:lnTo>
                  <a:lnTo>
                    <a:pt x="146" y="253"/>
                  </a:lnTo>
                  <a:lnTo>
                    <a:pt x="76" y="230"/>
                  </a:lnTo>
                  <a:lnTo>
                    <a:pt x="41" y="212"/>
                  </a:lnTo>
                  <a:lnTo>
                    <a:pt x="9" y="195"/>
                  </a:lnTo>
                  <a:lnTo>
                    <a:pt x="0" y="187"/>
                  </a:lnTo>
                  <a:lnTo>
                    <a:pt x="0" y="177"/>
                  </a:lnTo>
                  <a:lnTo>
                    <a:pt x="7" y="170"/>
                  </a:lnTo>
                  <a:lnTo>
                    <a:pt x="19" y="169"/>
                  </a:lnTo>
                  <a:lnTo>
                    <a:pt x="76" y="179"/>
                  </a:lnTo>
                  <a:lnTo>
                    <a:pt x="134" y="185"/>
                  </a:lnTo>
                  <a:lnTo>
                    <a:pt x="134" y="185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378200">
              <a:off x="82800" y="1243440"/>
              <a:ext cx="580680" cy="558720"/>
            </a:xfrm>
            <a:custGeom>
              <a:avLst/>
              <a:gdLst/>
              <a:ahLst/>
              <a:rect l="l" t="t" r="r" b="b"/>
              <a:pathLst>
                <a:path w="1464" h="1845">
                  <a:moveTo>
                    <a:pt x="235" y="1416"/>
                  </a:moveTo>
                  <a:lnTo>
                    <a:pt x="169" y="1288"/>
                  </a:lnTo>
                  <a:lnTo>
                    <a:pt x="15" y="1168"/>
                  </a:lnTo>
                  <a:lnTo>
                    <a:pt x="0" y="1000"/>
                  </a:lnTo>
                  <a:lnTo>
                    <a:pt x="45" y="930"/>
                  </a:lnTo>
                  <a:lnTo>
                    <a:pt x="123" y="911"/>
                  </a:lnTo>
                  <a:lnTo>
                    <a:pt x="317" y="999"/>
                  </a:lnTo>
                  <a:lnTo>
                    <a:pt x="352" y="939"/>
                  </a:lnTo>
                  <a:lnTo>
                    <a:pt x="333" y="518"/>
                  </a:lnTo>
                  <a:lnTo>
                    <a:pt x="418" y="445"/>
                  </a:lnTo>
                  <a:lnTo>
                    <a:pt x="501" y="499"/>
                  </a:lnTo>
                  <a:lnTo>
                    <a:pt x="598" y="616"/>
                  </a:lnTo>
                  <a:lnTo>
                    <a:pt x="644" y="574"/>
                  </a:lnTo>
                  <a:lnTo>
                    <a:pt x="679" y="323"/>
                  </a:lnTo>
                  <a:lnTo>
                    <a:pt x="776" y="202"/>
                  </a:lnTo>
                  <a:lnTo>
                    <a:pt x="919" y="258"/>
                  </a:lnTo>
                  <a:lnTo>
                    <a:pt x="1103" y="0"/>
                  </a:lnTo>
                  <a:lnTo>
                    <a:pt x="1206" y="1"/>
                  </a:lnTo>
                  <a:lnTo>
                    <a:pt x="1251" y="84"/>
                  </a:lnTo>
                  <a:lnTo>
                    <a:pt x="1153" y="258"/>
                  </a:lnTo>
                  <a:lnTo>
                    <a:pt x="1332" y="258"/>
                  </a:lnTo>
                  <a:lnTo>
                    <a:pt x="1464" y="291"/>
                  </a:lnTo>
                  <a:lnTo>
                    <a:pt x="1449" y="402"/>
                  </a:lnTo>
                  <a:lnTo>
                    <a:pt x="1189" y="533"/>
                  </a:lnTo>
                  <a:lnTo>
                    <a:pt x="1399" y="612"/>
                  </a:lnTo>
                  <a:lnTo>
                    <a:pt x="1439" y="744"/>
                  </a:lnTo>
                  <a:lnTo>
                    <a:pt x="1321" y="850"/>
                  </a:lnTo>
                  <a:lnTo>
                    <a:pt x="1153" y="930"/>
                  </a:lnTo>
                  <a:lnTo>
                    <a:pt x="1312" y="1022"/>
                  </a:lnTo>
                  <a:lnTo>
                    <a:pt x="1291" y="1172"/>
                  </a:lnTo>
                  <a:lnTo>
                    <a:pt x="1206" y="1341"/>
                  </a:lnTo>
                  <a:lnTo>
                    <a:pt x="1026" y="1419"/>
                  </a:lnTo>
                  <a:lnTo>
                    <a:pt x="781" y="1452"/>
                  </a:lnTo>
                  <a:lnTo>
                    <a:pt x="567" y="1620"/>
                  </a:lnTo>
                  <a:lnTo>
                    <a:pt x="379" y="1559"/>
                  </a:lnTo>
                  <a:lnTo>
                    <a:pt x="266" y="1661"/>
                  </a:lnTo>
                  <a:lnTo>
                    <a:pt x="138" y="1845"/>
                  </a:lnTo>
                  <a:lnTo>
                    <a:pt x="67" y="1732"/>
                  </a:lnTo>
                  <a:lnTo>
                    <a:pt x="235" y="1416"/>
                  </a:lnTo>
                  <a:lnTo>
                    <a:pt x="235" y="1416"/>
                  </a:lnTo>
                  <a:lnTo>
                    <a:pt x="235" y="1416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6378200">
              <a:off x="138240" y="1350720"/>
              <a:ext cx="213840" cy="90720"/>
            </a:xfrm>
            <a:custGeom>
              <a:avLst/>
              <a:gdLst/>
              <a:ahLst/>
              <a:rect l="l" t="t" r="r" b="b"/>
              <a:pathLst>
                <a:path w="540" h="301">
                  <a:moveTo>
                    <a:pt x="127" y="191"/>
                  </a:moveTo>
                  <a:lnTo>
                    <a:pt x="143" y="181"/>
                  </a:lnTo>
                  <a:lnTo>
                    <a:pt x="163" y="170"/>
                  </a:lnTo>
                  <a:lnTo>
                    <a:pt x="185" y="160"/>
                  </a:lnTo>
                  <a:lnTo>
                    <a:pt x="209" y="150"/>
                  </a:lnTo>
                  <a:lnTo>
                    <a:pt x="234" y="140"/>
                  </a:lnTo>
                  <a:lnTo>
                    <a:pt x="261" y="130"/>
                  </a:lnTo>
                  <a:lnTo>
                    <a:pt x="289" y="120"/>
                  </a:lnTo>
                  <a:lnTo>
                    <a:pt x="316" y="111"/>
                  </a:lnTo>
                  <a:lnTo>
                    <a:pt x="373" y="95"/>
                  </a:lnTo>
                  <a:lnTo>
                    <a:pt x="428" y="81"/>
                  </a:lnTo>
                  <a:lnTo>
                    <a:pt x="478" y="71"/>
                  </a:lnTo>
                  <a:lnTo>
                    <a:pt x="521" y="66"/>
                  </a:lnTo>
                  <a:lnTo>
                    <a:pt x="540" y="77"/>
                  </a:lnTo>
                  <a:lnTo>
                    <a:pt x="539" y="86"/>
                  </a:lnTo>
                  <a:lnTo>
                    <a:pt x="529" y="93"/>
                  </a:lnTo>
                  <a:lnTo>
                    <a:pt x="481" y="109"/>
                  </a:lnTo>
                  <a:lnTo>
                    <a:pt x="433" y="125"/>
                  </a:lnTo>
                  <a:lnTo>
                    <a:pt x="406" y="137"/>
                  </a:lnTo>
                  <a:lnTo>
                    <a:pt x="380" y="148"/>
                  </a:lnTo>
                  <a:lnTo>
                    <a:pt x="353" y="161"/>
                  </a:lnTo>
                  <a:lnTo>
                    <a:pt x="328" y="174"/>
                  </a:lnTo>
                  <a:lnTo>
                    <a:pt x="301" y="187"/>
                  </a:lnTo>
                  <a:lnTo>
                    <a:pt x="276" y="201"/>
                  </a:lnTo>
                  <a:lnTo>
                    <a:pt x="251" y="214"/>
                  </a:lnTo>
                  <a:lnTo>
                    <a:pt x="225" y="227"/>
                  </a:lnTo>
                  <a:lnTo>
                    <a:pt x="200" y="241"/>
                  </a:lnTo>
                  <a:lnTo>
                    <a:pt x="176" y="257"/>
                  </a:lnTo>
                  <a:lnTo>
                    <a:pt x="151" y="274"/>
                  </a:lnTo>
                  <a:lnTo>
                    <a:pt x="128" y="289"/>
                  </a:lnTo>
                  <a:lnTo>
                    <a:pt x="101" y="301"/>
                  </a:lnTo>
                  <a:lnTo>
                    <a:pt x="79" y="299"/>
                  </a:lnTo>
                  <a:lnTo>
                    <a:pt x="64" y="284"/>
                  </a:lnTo>
                  <a:lnTo>
                    <a:pt x="58" y="257"/>
                  </a:lnTo>
                  <a:lnTo>
                    <a:pt x="54" y="227"/>
                  </a:lnTo>
                  <a:lnTo>
                    <a:pt x="46" y="196"/>
                  </a:lnTo>
                  <a:lnTo>
                    <a:pt x="35" y="163"/>
                  </a:lnTo>
                  <a:lnTo>
                    <a:pt x="22" y="129"/>
                  </a:lnTo>
                  <a:lnTo>
                    <a:pt x="3" y="66"/>
                  </a:lnTo>
                  <a:lnTo>
                    <a:pt x="0" y="12"/>
                  </a:lnTo>
                  <a:lnTo>
                    <a:pt x="7" y="3"/>
                  </a:lnTo>
                  <a:lnTo>
                    <a:pt x="16" y="0"/>
                  </a:lnTo>
                  <a:lnTo>
                    <a:pt x="31" y="16"/>
                  </a:lnTo>
                  <a:lnTo>
                    <a:pt x="38" y="49"/>
                  </a:lnTo>
                  <a:lnTo>
                    <a:pt x="46" y="75"/>
                  </a:lnTo>
                  <a:lnTo>
                    <a:pt x="56" y="95"/>
                  </a:lnTo>
                  <a:lnTo>
                    <a:pt x="67" y="111"/>
                  </a:lnTo>
                  <a:lnTo>
                    <a:pt x="80" y="127"/>
                  </a:lnTo>
                  <a:lnTo>
                    <a:pt x="94" y="144"/>
                  </a:lnTo>
                  <a:lnTo>
                    <a:pt x="110" y="165"/>
                  </a:lnTo>
                  <a:lnTo>
                    <a:pt x="127" y="191"/>
                  </a:lnTo>
                  <a:lnTo>
                    <a:pt x="127" y="191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378200">
              <a:off x="196560" y="1428120"/>
              <a:ext cx="304200" cy="120240"/>
            </a:xfrm>
            <a:custGeom>
              <a:avLst/>
              <a:gdLst/>
              <a:ahLst/>
              <a:rect l="l" t="t" r="r" b="b"/>
              <a:pathLst>
                <a:path w="769" h="399">
                  <a:moveTo>
                    <a:pt x="210" y="308"/>
                  </a:moveTo>
                  <a:lnTo>
                    <a:pt x="241" y="287"/>
                  </a:lnTo>
                  <a:lnTo>
                    <a:pt x="270" y="268"/>
                  </a:lnTo>
                  <a:lnTo>
                    <a:pt x="296" y="249"/>
                  </a:lnTo>
                  <a:lnTo>
                    <a:pt x="324" y="231"/>
                  </a:lnTo>
                  <a:lnTo>
                    <a:pt x="352" y="213"/>
                  </a:lnTo>
                  <a:lnTo>
                    <a:pt x="381" y="196"/>
                  </a:lnTo>
                  <a:lnTo>
                    <a:pt x="412" y="179"/>
                  </a:lnTo>
                  <a:lnTo>
                    <a:pt x="445" y="162"/>
                  </a:lnTo>
                  <a:lnTo>
                    <a:pt x="475" y="154"/>
                  </a:lnTo>
                  <a:lnTo>
                    <a:pt x="523" y="146"/>
                  </a:lnTo>
                  <a:lnTo>
                    <a:pt x="641" y="132"/>
                  </a:lnTo>
                  <a:lnTo>
                    <a:pt x="743" y="127"/>
                  </a:lnTo>
                  <a:lnTo>
                    <a:pt x="769" y="130"/>
                  </a:lnTo>
                  <a:lnTo>
                    <a:pt x="768" y="137"/>
                  </a:lnTo>
                  <a:lnTo>
                    <a:pt x="395" y="273"/>
                  </a:lnTo>
                  <a:lnTo>
                    <a:pt x="371" y="288"/>
                  </a:lnTo>
                  <a:lnTo>
                    <a:pt x="348" y="303"/>
                  </a:lnTo>
                  <a:lnTo>
                    <a:pt x="325" y="319"/>
                  </a:lnTo>
                  <a:lnTo>
                    <a:pt x="303" y="336"/>
                  </a:lnTo>
                  <a:lnTo>
                    <a:pt x="281" y="353"/>
                  </a:lnTo>
                  <a:lnTo>
                    <a:pt x="260" y="370"/>
                  </a:lnTo>
                  <a:lnTo>
                    <a:pt x="236" y="386"/>
                  </a:lnTo>
                  <a:lnTo>
                    <a:pt x="212" y="399"/>
                  </a:lnTo>
                  <a:lnTo>
                    <a:pt x="180" y="396"/>
                  </a:lnTo>
                  <a:lnTo>
                    <a:pt x="162" y="384"/>
                  </a:lnTo>
                  <a:lnTo>
                    <a:pt x="142" y="364"/>
                  </a:lnTo>
                  <a:lnTo>
                    <a:pt x="122" y="339"/>
                  </a:lnTo>
                  <a:lnTo>
                    <a:pt x="103" y="310"/>
                  </a:lnTo>
                  <a:lnTo>
                    <a:pt x="84" y="277"/>
                  </a:lnTo>
                  <a:lnTo>
                    <a:pt x="66" y="242"/>
                  </a:lnTo>
                  <a:lnTo>
                    <a:pt x="48" y="207"/>
                  </a:lnTo>
                  <a:lnTo>
                    <a:pt x="33" y="170"/>
                  </a:lnTo>
                  <a:lnTo>
                    <a:pt x="21" y="134"/>
                  </a:lnTo>
                  <a:lnTo>
                    <a:pt x="10" y="99"/>
                  </a:lnTo>
                  <a:lnTo>
                    <a:pt x="0" y="40"/>
                  </a:lnTo>
                  <a:lnTo>
                    <a:pt x="6" y="0"/>
                  </a:lnTo>
                  <a:lnTo>
                    <a:pt x="15" y="9"/>
                  </a:lnTo>
                  <a:lnTo>
                    <a:pt x="27" y="45"/>
                  </a:lnTo>
                  <a:lnTo>
                    <a:pt x="38" y="89"/>
                  </a:lnTo>
                  <a:lnTo>
                    <a:pt x="46" y="117"/>
                  </a:lnTo>
                  <a:lnTo>
                    <a:pt x="55" y="134"/>
                  </a:lnTo>
                  <a:lnTo>
                    <a:pt x="63" y="151"/>
                  </a:lnTo>
                  <a:lnTo>
                    <a:pt x="73" y="165"/>
                  </a:lnTo>
                  <a:lnTo>
                    <a:pt x="82" y="178"/>
                  </a:lnTo>
                  <a:lnTo>
                    <a:pt x="99" y="201"/>
                  </a:lnTo>
                  <a:lnTo>
                    <a:pt x="119" y="221"/>
                  </a:lnTo>
                  <a:lnTo>
                    <a:pt x="128" y="231"/>
                  </a:lnTo>
                  <a:lnTo>
                    <a:pt x="138" y="241"/>
                  </a:lnTo>
                  <a:lnTo>
                    <a:pt x="160" y="260"/>
                  </a:lnTo>
                  <a:lnTo>
                    <a:pt x="172" y="271"/>
                  </a:lnTo>
                  <a:lnTo>
                    <a:pt x="185" y="283"/>
                  </a:lnTo>
                  <a:lnTo>
                    <a:pt x="197" y="294"/>
                  </a:lnTo>
                  <a:lnTo>
                    <a:pt x="210" y="308"/>
                  </a:lnTo>
                  <a:lnTo>
                    <a:pt x="210" y="308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378200">
              <a:off x="254880" y="1517400"/>
              <a:ext cx="379080" cy="74160"/>
            </a:xfrm>
            <a:custGeom>
              <a:avLst/>
              <a:gdLst/>
              <a:ahLst/>
              <a:rect l="l" t="t" r="r" b="b"/>
              <a:pathLst>
                <a:path w="956" h="248">
                  <a:moveTo>
                    <a:pt x="57" y="0"/>
                  </a:moveTo>
                  <a:lnTo>
                    <a:pt x="96" y="17"/>
                  </a:lnTo>
                  <a:lnTo>
                    <a:pt x="134" y="39"/>
                  </a:lnTo>
                  <a:lnTo>
                    <a:pt x="152" y="51"/>
                  </a:lnTo>
                  <a:lnTo>
                    <a:pt x="171" y="63"/>
                  </a:lnTo>
                  <a:lnTo>
                    <a:pt x="188" y="76"/>
                  </a:lnTo>
                  <a:lnTo>
                    <a:pt x="207" y="89"/>
                  </a:lnTo>
                  <a:lnTo>
                    <a:pt x="225" y="102"/>
                  </a:lnTo>
                  <a:lnTo>
                    <a:pt x="244" y="113"/>
                  </a:lnTo>
                  <a:lnTo>
                    <a:pt x="262" y="125"/>
                  </a:lnTo>
                  <a:lnTo>
                    <a:pt x="280" y="137"/>
                  </a:lnTo>
                  <a:lnTo>
                    <a:pt x="300" y="146"/>
                  </a:lnTo>
                  <a:lnTo>
                    <a:pt x="321" y="155"/>
                  </a:lnTo>
                  <a:lnTo>
                    <a:pt x="364" y="166"/>
                  </a:lnTo>
                  <a:lnTo>
                    <a:pt x="387" y="164"/>
                  </a:lnTo>
                  <a:lnTo>
                    <a:pt x="407" y="151"/>
                  </a:lnTo>
                  <a:lnTo>
                    <a:pt x="426" y="136"/>
                  </a:lnTo>
                  <a:lnTo>
                    <a:pt x="445" y="123"/>
                  </a:lnTo>
                  <a:lnTo>
                    <a:pt x="492" y="109"/>
                  </a:lnTo>
                  <a:lnTo>
                    <a:pt x="553" y="98"/>
                  </a:lnTo>
                  <a:lnTo>
                    <a:pt x="621" y="88"/>
                  </a:lnTo>
                  <a:lnTo>
                    <a:pt x="695" y="82"/>
                  </a:lnTo>
                  <a:lnTo>
                    <a:pt x="838" y="81"/>
                  </a:lnTo>
                  <a:lnTo>
                    <a:pt x="944" y="100"/>
                  </a:lnTo>
                  <a:lnTo>
                    <a:pt x="956" y="116"/>
                  </a:lnTo>
                  <a:lnTo>
                    <a:pt x="952" y="123"/>
                  </a:lnTo>
                  <a:lnTo>
                    <a:pt x="939" y="127"/>
                  </a:lnTo>
                  <a:lnTo>
                    <a:pt x="831" y="120"/>
                  </a:lnTo>
                  <a:lnTo>
                    <a:pt x="742" y="129"/>
                  </a:lnTo>
                  <a:lnTo>
                    <a:pt x="651" y="149"/>
                  </a:lnTo>
                  <a:lnTo>
                    <a:pt x="606" y="163"/>
                  </a:lnTo>
                  <a:lnTo>
                    <a:pt x="562" y="177"/>
                  </a:lnTo>
                  <a:lnTo>
                    <a:pt x="518" y="191"/>
                  </a:lnTo>
                  <a:lnTo>
                    <a:pt x="477" y="205"/>
                  </a:lnTo>
                  <a:lnTo>
                    <a:pt x="442" y="221"/>
                  </a:lnTo>
                  <a:lnTo>
                    <a:pt x="410" y="238"/>
                  </a:lnTo>
                  <a:lnTo>
                    <a:pt x="375" y="248"/>
                  </a:lnTo>
                  <a:lnTo>
                    <a:pt x="336" y="246"/>
                  </a:lnTo>
                  <a:lnTo>
                    <a:pt x="294" y="234"/>
                  </a:lnTo>
                  <a:lnTo>
                    <a:pt x="254" y="215"/>
                  </a:lnTo>
                  <a:lnTo>
                    <a:pt x="234" y="204"/>
                  </a:lnTo>
                  <a:lnTo>
                    <a:pt x="214" y="191"/>
                  </a:lnTo>
                  <a:lnTo>
                    <a:pt x="194" y="180"/>
                  </a:lnTo>
                  <a:lnTo>
                    <a:pt x="174" y="166"/>
                  </a:lnTo>
                  <a:lnTo>
                    <a:pt x="155" y="153"/>
                  </a:lnTo>
                  <a:lnTo>
                    <a:pt x="135" y="140"/>
                  </a:lnTo>
                  <a:lnTo>
                    <a:pt x="117" y="127"/>
                  </a:lnTo>
                  <a:lnTo>
                    <a:pt x="97" y="113"/>
                  </a:lnTo>
                  <a:lnTo>
                    <a:pt x="79" y="101"/>
                  </a:lnTo>
                  <a:lnTo>
                    <a:pt x="59" y="88"/>
                  </a:lnTo>
                  <a:lnTo>
                    <a:pt x="41" y="77"/>
                  </a:lnTo>
                  <a:lnTo>
                    <a:pt x="22" y="66"/>
                  </a:lnTo>
                  <a:lnTo>
                    <a:pt x="0" y="42"/>
                  </a:lnTo>
                  <a:lnTo>
                    <a:pt x="2" y="17"/>
                  </a:lnTo>
                  <a:lnTo>
                    <a:pt x="12" y="6"/>
                  </a:lnTo>
                  <a:lnTo>
                    <a:pt x="23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378200">
              <a:off x="-3600" y="1802520"/>
              <a:ext cx="342360" cy="351360"/>
            </a:xfrm>
            <a:custGeom>
              <a:avLst/>
              <a:gdLst/>
              <a:ahLst/>
              <a:rect l="l" t="t" r="r" b="b"/>
              <a:pathLst>
                <a:path w="863" h="1161">
                  <a:moveTo>
                    <a:pt x="62" y="909"/>
                  </a:moveTo>
                  <a:lnTo>
                    <a:pt x="83" y="895"/>
                  </a:lnTo>
                  <a:lnTo>
                    <a:pt x="106" y="884"/>
                  </a:lnTo>
                  <a:lnTo>
                    <a:pt x="129" y="872"/>
                  </a:lnTo>
                  <a:lnTo>
                    <a:pt x="153" y="861"/>
                  </a:lnTo>
                  <a:lnTo>
                    <a:pt x="132" y="843"/>
                  </a:lnTo>
                  <a:lnTo>
                    <a:pt x="111" y="819"/>
                  </a:lnTo>
                  <a:lnTo>
                    <a:pt x="90" y="791"/>
                  </a:lnTo>
                  <a:lnTo>
                    <a:pt x="79" y="775"/>
                  </a:lnTo>
                  <a:lnTo>
                    <a:pt x="69" y="759"/>
                  </a:lnTo>
                  <a:lnTo>
                    <a:pt x="49" y="724"/>
                  </a:lnTo>
                  <a:lnTo>
                    <a:pt x="33" y="690"/>
                  </a:lnTo>
                  <a:lnTo>
                    <a:pt x="19" y="654"/>
                  </a:lnTo>
                  <a:lnTo>
                    <a:pt x="8" y="619"/>
                  </a:lnTo>
                  <a:lnTo>
                    <a:pt x="0" y="555"/>
                  </a:lnTo>
                  <a:lnTo>
                    <a:pt x="4" y="528"/>
                  </a:lnTo>
                  <a:lnTo>
                    <a:pt x="14" y="507"/>
                  </a:lnTo>
                  <a:lnTo>
                    <a:pt x="22" y="499"/>
                  </a:lnTo>
                  <a:lnTo>
                    <a:pt x="31" y="493"/>
                  </a:lnTo>
                  <a:lnTo>
                    <a:pt x="55" y="484"/>
                  </a:lnTo>
                  <a:lnTo>
                    <a:pt x="129" y="494"/>
                  </a:lnTo>
                  <a:lnTo>
                    <a:pt x="115" y="468"/>
                  </a:lnTo>
                  <a:lnTo>
                    <a:pt x="102" y="440"/>
                  </a:lnTo>
                  <a:lnTo>
                    <a:pt x="90" y="409"/>
                  </a:lnTo>
                  <a:lnTo>
                    <a:pt x="79" y="378"/>
                  </a:lnTo>
                  <a:lnTo>
                    <a:pt x="54" y="256"/>
                  </a:lnTo>
                  <a:lnTo>
                    <a:pt x="56" y="205"/>
                  </a:lnTo>
                  <a:lnTo>
                    <a:pt x="62" y="185"/>
                  </a:lnTo>
                  <a:lnTo>
                    <a:pt x="71" y="169"/>
                  </a:lnTo>
                  <a:lnTo>
                    <a:pt x="84" y="158"/>
                  </a:lnTo>
                  <a:lnTo>
                    <a:pt x="101" y="152"/>
                  </a:lnTo>
                  <a:lnTo>
                    <a:pt x="147" y="161"/>
                  </a:lnTo>
                  <a:lnTo>
                    <a:pt x="157" y="129"/>
                  </a:lnTo>
                  <a:lnTo>
                    <a:pt x="169" y="101"/>
                  </a:lnTo>
                  <a:lnTo>
                    <a:pt x="183" y="74"/>
                  </a:lnTo>
                  <a:lnTo>
                    <a:pt x="200" y="52"/>
                  </a:lnTo>
                  <a:lnTo>
                    <a:pt x="209" y="43"/>
                  </a:lnTo>
                  <a:lnTo>
                    <a:pt x="219" y="33"/>
                  </a:lnTo>
                  <a:lnTo>
                    <a:pt x="239" y="19"/>
                  </a:lnTo>
                  <a:lnTo>
                    <a:pt x="259" y="7"/>
                  </a:lnTo>
                  <a:lnTo>
                    <a:pt x="281" y="1"/>
                  </a:lnTo>
                  <a:lnTo>
                    <a:pt x="325" y="0"/>
                  </a:lnTo>
                  <a:lnTo>
                    <a:pt x="369" y="19"/>
                  </a:lnTo>
                  <a:lnTo>
                    <a:pt x="407" y="58"/>
                  </a:lnTo>
                  <a:lnTo>
                    <a:pt x="424" y="86"/>
                  </a:lnTo>
                  <a:lnTo>
                    <a:pt x="438" y="121"/>
                  </a:lnTo>
                  <a:lnTo>
                    <a:pt x="461" y="106"/>
                  </a:lnTo>
                  <a:lnTo>
                    <a:pt x="482" y="94"/>
                  </a:lnTo>
                  <a:lnTo>
                    <a:pt x="519" y="78"/>
                  </a:lnTo>
                  <a:lnTo>
                    <a:pt x="549" y="69"/>
                  </a:lnTo>
                  <a:lnTo>
                    <a:pt x="572" y="69"/>
                  </a:lnTo>
                  <a:lnTo>
                    <a:pt x="603" y="88"/>
                  </a:lnTo>
                  <a:lnTo>
                    <a:pt x="615" y="127"/>
                  </a:lnTo>
                  <a:lnTo>
                    <a:pt x="611" y="180"/>
                  </a:lnTo>
                  <a:lnTo>
                    <a:pt x="604" y="209"/>
                  </a:lnTo>
                  <a:lnTo>
                    <a:pt x="596" y="239"/>
                  </a:lnTo>
                  <a:lnTo>
                    <a:pt x="585" y="268"/>
                  </a:lnTo>
                  <a:lnTo>
                    <a:pt x="573" y="296"/>
                  </a:lnTo>
                  <a:lnTo>
                    <a:pt x="560" y="322"/>
                  </a:lnTo>
                  <a:lnTo>
                    <a:pt x="548" y="345"/>
                  </a:lnTo>
                  <a:lnTo>
                    <a:pt x="585" y="336"/>
                  </a:lnTo>
                  <a:lnTo>
                    <a:pt x="617" y="333"/>
                  </a:lnTo>
                  <a:lnTo>
                    <a:pt x="667" y="341"/>
                  </a:lnTo>
                  <a:lnTo>
                    <a:pt x="700" y="367"/>
                  </a:lnTo>
                  <a:lnTo>
                    <a:pt x="718" y="406"/>
                  </a:lnTo>
                  <a:lnTo>
                    <a:pt x="724" y="454"/>
                  </a:lnTo>
                  <a:lnTo>
                    <a:pt x="721" y="505"/>
                  </a:lnTo>
                  <a:lnTo>
                    <a:pt x="708" y="558"/>
                  </a:lnTo>
                  <a:lnTo>
                    <a:pt x="699" y="582"/>
                  </a:lnTo>
                  <a:lnTo>
                    <a:pt x="690" y="605"/>
                  </a:lnTo>
                  <a:lnTo>
                    <a:pt x="747" y="592"/>
                  </a:lnTo>
                  <a:lnTo>
                    <a:pt x="792" y="591"/>
                  </a:lnTo>
                  <a:lnTo>
                    <a:pt x="825" y="600"/>
                  </a:lnTo>
                  <a:lnTo>
                    <a:pt x="847" y="618"/>
                  </a:lnTo>
                  <a:lnTo>
                    <a:pt x="859" y="644"/>
                  </a:lnTo>
                  <a:lnTo>
                    <a:pt x="863" y="678"/>
                  </a:lnTo>
                  <a:lnTo>
                    <a:pt x="859" y="716"/>
                  </a:lnTo>
                  <a:lnTo>
                    <a:pt x="849" y="758"/>
                  </a:lnTo>
                  <a:lnTo>
                    <a:pt x="835" y="802"/>
                  </a:lnTo>
                  <a:lnTo>
                    <a:pt x="826" y="825"/>
                  </a:lnTo>
                  <a:lnTo>
                    <a:pt x="817" y="848"/>
                  </a:lnTo>
                  <a:lnTo>
                    <a:pt x="807" y="870"/>
                  </a:lnTo>
                  <a:lnTo>
                    <a:pt x="797" y="892"/>
                  </a:lnTo>
                  <a:lnTo>
                    <a:pt x="785" y="914"/>
                  </a:lnTo>
                  <a:lnTo>
                    <a:pt x="775" y="935"/>
                  </a:lnTo>
                  <a:lnTo>
                    <a:pt x="763" y="955"/>
                  </a:lnTo>
                  <a:lnTo>
                    <a:pt x="753" y="974"/>
                  </a:lnTo>
                  <a:lnTo>
                    <a:pt x="743" y="993"/>
                  </a:lnTo>
                  <a:lnTo>
                    <a:pt x="732" y="1009"/>
                  </a:lnTo>
                  <a:lnTo>
                    <a:pt x="714" y="1038"/>
                  </a:lnTo>
                  <a:lnTo>
                    <a:pt x="700" y="1059"/>
                  </a:lnTo>
                  <a:lnTo>
                    <a:pt x="687" y="1071"/>
                  </a:lnTo>
                  <a:lnTo>
                    <a:pt x="673" y="1076"/>
                  </a:lnTo>
                  <a:lnTo>
                    <a:pt x="645" y="1072"/>
                  </a:lnTo>
                  <a:lnTo>
                    <a:pt x="627" y="1052"/>
                  </a:lnTo>
                  <a:lnTo>
                    <a:pt x="631" y="1022"/>
                  </a:lnTo>
                  <a:lnTo>
                    <a:pt x="642" y="1005"/>
                  </a:lnTo>
                  <a:lnTo>
                    <a:pt x="655" y="985"/>
                  </a:lnTo>
                  <a:lnTo>
                    <a:pt x="670" y="965"/>
                  </a:lnTo>
                  <a:lnTo>
                    <a:pt x="687" y="943"/>
                  </a:lnTo>
                  <a:lnTo>
                    <a:pt x="705" y="920"/>
                  </a:lnTo>
                  <a:lnTo>
                    <a:pt x="721" y="896"/>
                  </a:lnTo>
                  <a:lnTo>
                    <a:pt x="738" y="873"/>
                  </a:lnTo>
                  <a:lnTo>
                    <a:pt x="754" y="848"/>
                  </a:lnTo>
                  <a:lnTo>
                    <a:pt x="769" y="823"/>
                  </a:lnTo>
                  <a:lnTo>
                    <a:pt x="782" y="798"/>
                  </a:lnTo>
                  <a:lnTo>
                    <a:pt x="799" y="749"/>
                  </a:lnTo>
                  <a:lnTo>
                    <a:pt x="804" y="701"/>
                  </a:lnTo>
                  <a:lnTo>
                    <a:pt x="799" y="678"/>
                  </a:lnTo>
                  <a:lnTo>
                    <a:pt x="789" y="656"/>
                  </a:lnTo>
                  <a:lnTo>
                    <a:pt x="775" y="645"/>
                  </a:lnTo>
                  <a:lnTo>
                    <a:pt x="755" y="646"/>
                  </a:lnTo>
                  <a:lnTo>
                    <a:pt x="703" y="669"/>
                  </a:lnTo>
                  <a:lnTo>
                    <a:pt x="677" y="685"/>
                  </a:lnTo>
                  <a:lnTo>
                    <a:pt x="652" y="702"/>
                  </a:lnTo>
                  <a:lnTo>
                    <a:pt x="631" y="715"/>
                  </a:lnTo>
                  <a:lnTo>
                    <a:pt x="617" y="722"/>
                  </a:lnTo>
                  <a:lnTo>
                    <a:pt x="581" y="729"/>
                  </a:lnTo>
                  <a:lnTo>
                    <a:pt x="568" y="712"/>
                  </a:lnTo>
                  <a:lnTo>
                    <a:pt x="572" y="677"/>
                  </a:lnTo>
                  <a:lnTo>
                    <a:pt x="579" y="655"/>
                  </a:lnTo>
                  <a:lnTo>
                    <a:pt x="588" y="631"/>
                  </a:lnTo>
                  <a:lnTo>
                    <a:pt x="598" y="605"/>
                  </a:lnTo>
                  <a:lnTo>
                    <a:pt x="610" y="579"/>
                  </a:lnTo>
                  <a:lnTo>
                    <a:pt x="622" y="553"/>
                  </a:lnTo>
                  <a:lnTo>
                    <a:pt x="633" y="528"/>
                  </a:lnTo>
                  <a:lnTo>
                    <a:pt x="650" y="484"/>
                  </a:lnTo>
                  <a:lnTo>
                    <a:pt x="658" y="454"/>
                  </a:lnTo>
                  <a:lnTo>
                    <a:pt x="656" y="424"/>
                  </a:lnTo>
                  <a:lnTo>
                    <a:pt x="649" y="405"/>
                  </a:lnTo>
                  <a:lnTo>
                    <a:pt x="638" y="395"/>
                  </a:lnTo>
                  <a:lnTo>
                    <a:pt x="623" y="392"/>
                  </a:lnTo>
                  <a:lnTo>
                    <a:pt x="586" y="400"/>
                  </a:lnTo>
                  <a:lnTo>
                    <a:pt x="543" y="421"/>
                  </a:lnTo>
                  <a:lnTo>
                    <a:pt x="522" y="433"/>
                  </a:lnTo>
                  <a:lnTo>
                    <a:pt x="502" y="443"/>
                  </a:lnTo>
                  <a:lnTo>
                    <a:pt x="483" y="453"/>
                  </a:lnTo>
                  <a:lnTo>
                    <a:pt x="467" y="457"/>
                  </a:lnTo>
                  <a:lnTo>
                    <a:pt x="445" y="451"/>
                  </a:lnTo>
                  <a:lnTo>
                    <a:pt x="440" y="414"/>
                  </a:lnTo>
                  <a:lnTo>
                    <a:pt x="450" y="379"/>
                  </a:lnTo>
                  <a:lnTo>
                    <a:pt x="465" y="345"/>
                  </a:lnTo>
                  <a:lnTo>
                    <a:pt x="474" y="328"/>
                  </a:lnTo>
                  <a:lnTo>
                    <a:pt x="483" y="311"/>
                  </a:lnTo>
                  <a:lnTo>
                    <a:pt x="503" y="278"/>
                  </a:lnTo>
                  <a:lnTo>
                    <a:pt x="522" y="245"/>
                  </a:lnTo>
                  <a:lnTo>
                    <a:pt x="537" y="211"/>
                  </a:lnTo>
                  <a:lnTo>
                    <a:pt x="547" y="142"/>
                  </a:lnTo>
                  <a:lnTo>
                    <a:pt x="506" y="159"/>
                  </a:lnTo>
                  <a:lnTo>
                    <a:pt x="480" y="179"/>
                  </a:lnTo>
                  <a:lnTo>
                    <a:pt x="458" y="203"/>
                  </a:lnTo>
                  <a:lnTo>
                    <a:pt x="445" y="217"/>
                  </a:lnTo>
                  <a:lnTo>
                    <a:pt x="432" y="234"/>
                  </a:lnTo>
                  <a:lnTo>
                    <a:pt x="415" y="250"/>
                  </a:lnTo>
                  <a:lnTo>
                    <a:pt x="402" y="259"/>
                  </a:lnTo>
                  <a:lnTo>
                    <a:pt x="386" y="254"/>
                  </a:lnTo>
                  <a:lnTo>
                    <a:pt x="372" y="184"/>
                  </a:lnTo>
                  <a:lnTo>
                    <a:pt x="365" y="138"/>
                  </a:lnTo>
                  <a:lnTo>
                    <a:pt x="360" y="114"/>
                  </a:lnTo>
                  <a:lnTo>
                    <a:pt x="352" y="94"/>
                  </a:lnTo>
                  <a:lnTo>
                    <a:pt x="340" y="77"/>
                  </a:lnTo>
                  <a:lnTo>
                    <a:pt x="325" y="64"/>
                  </a:lnTo>
                  <a:lnTo>
                    <a:pt x="305" y="55"/>
                  </a:lnTo>
                  <a:lnTo>
                    <a:pt x="280" y="54"/>
                  </a:lnTo>
                  <a:lnTo>
                    <a:pt x="250" y="68"/>
                  </a:lnTo>
                  <a:lnTo>
                    <a:pt x="232" y="100"/>
                  </a:lnTo>
                  <a:lnTo>
                    <a:pt x="215" y="183"/>
                  </a:lnTo>
                  <a:lnTo>
                    <a:pt x="207" y="220"/>
                  </a:lnTo>
                  <a:lnTo>
                    <a:pt x="202" y="234"/>
                  </a:lnTo>
                  <a:lnTo>
                    <a:pt x="194" y="243"/>
                  </a:lnTo>
                  <a:lnTo>
                    <a:pt x="169" y="245"/>
                  </a:lnTo>
                  <a:lnTo>
                    <a:pt x="128" y="219"/>
                  </a:lnTo>
                  <a:lnTo>
                    <a:pt x="115" y="263"/>
                  </a:lnTo>
                  <a:lnTo>
                    <a:pt x="123" y="321"/>
                  </a:lnTo>
                  <a:lnTo>
                    <a:pt x="131" y="353"/>
                  </a:lnTo>
                  <a:lnTo>
                    <a:pt x="143" y="386"/>
                  </a:lnTo>
                  <a:lnTo>
                    <a:pt x="154" y="420"/>
                  </a:lnTo>
                  <a:lnTo>
                    <a:pt x="167" y="453"/>
                  </a:lnTo>
                  <a:lnTo>
                    <a:pt x="179" y="483"/>
                  </a:lnTo>
                  <a:lnTo>
                    <a:pt x="188" y="512"/>
                  </a:lnTo>
                  <a:lnTo>
                    <a:pt x="197" y="558"/>
                  </a:lnTo>
                  <a:lnTo>
                    <a:pt x="195" y="574"/>
                  </a:lnTo>
                  <a:lnTo>
                    <a:pt x="188" y="583"/>
                  </a:lnTo>
                  <a:lnTo>
                    <a:pt x="152" y="582"/>
                  </a:lnTo>
                  <a:lnTo>
                    <a:pt x="114" y="564"/>
                  </a:lnTo>
                  <a:lnTo>
                    <a:pt x="96" y="555"/>
                  </a:lnTo>
                  <a:lnTo>
                    <a:pt x="75" y="550"/>
                  </a:lnTo>
                  <a:lnTo>
                    <a:pt x="62" y="575"/>
                  </a:lnTo>
                  <a:lnTo>
                    <a:pt x="57" y="601"/>
                  </a:lnTo>
                  <a:lnTo>
                    <a:pt x="62" y="626"/>
                  </a:lnTo>
                  <a:lnTo>
                    <a:pt x="71" y="653"/>
                  </a:lnTo>
                  <a:lnTo>
                    <a:pt x="87" y="678"/>
                  </a:lnTo>
                  <a:lnTo>
                    <a:pt x="97" y="691"/>
                  </a:lnTo>
                  <a:lnTo>
                    <a:pt x="107" y="703"/>
                  </a:lnTo>
                  <a:lnTo>
                    <a:pt x="129" y="729"/>
                  </a:lnTo>
                  <a:lnTo>
                    <a:pt x="141" y="740"/>
                  </a:lnTo>
                  <a:lnTo>
                    <a:pt x="152" y="752"/>
                  </a:lnTo>
                  <a:lnTo>
                    <a:pt x="165" y="763"/>
                  </a:lnTo>
                  <a:lnTo>
                    <a:pt x="176" y="775"/>
                  </a:lnTo>
                  <a:lnTo>
                    <a:pt x="188" y="787"/>
                  </a:lnTo>
                  <a:lnTo>
                    <a:pt x="199" y="797"/>
                  </a:lnTo>
                  <a:lnTo>
                    <a:pt x="210" y="808"/>
                  </a:lnTo>
                  <a:lnTo>
                    <a:pt x="220" y="817"/>
                  </a:lnTo>
                  <a:lnTo>
                    <a:pt x="237" y="836"/>
                  </a:lnTo>
                  <a:lnTo>
                    <a:pt x="257" y="869"/>
                  </a:lnTo>
                  <a:lnTo>
                    <a:pt x="257" y="882"/>
                  </a:lnTo>
                  <a:lnTo>
                    <a:pt x="248" y="893"/>
                  </a:lnTo>
                  <a:lnTo>
                    <a:pt x="233" y="902"/>
                  </a:lnTo>
                  <a:lnTo>
                    <a:pt x="217" y="909"/>
                  </a:lnTo>
                  <a:lnTo>
                    <a:pt x="182" y="918"/>
                  </a:lnTo>
                  <a:lnTo>
                    <a:pt x="115" y="944"/>
                  </a:lnTo>
                  <a:lnTo>
                    <a:pt x="117" y="973"/>
                  </a:lnTo>
                  <a:lnTo>
                    <a:pt x="127" y="989"/>
                  </a:lnTo>
                  <a:lnTo>
                    <a:pt x="143" y="1004"/>
                  </a:lnTo>
                  <a:lnTo>
                    <a:pt x="162" y="1018"/>
                  </a:lnTo>
                  <a:lnTo>
                    <a:pt x="184" y="1033"/>
                  </a:lnTo>
                  <a:lnTo>
                    <a:pt x="211" y="1047"/>
                  </a:lnTo>
                  <a:lnTo>
                    <a:pt x="239" y="1061"/>
                  </a:lnTo>
                  <a:lnTo>
                    <a:pt x="267" y="1073"/>
                  </a:lnTo>
                  <a:lnTo>
                    <a:pt x="296" y="1085"/>
                  </a:lnTo>
                  <a:lnTo>
                    <a:pt x="325" y="1094"/>
                  </a:lnTo>
                  <a:lnTo>
                    <a:pt x="353" y="1103"/>
                  </a:lnTo>
                  <a:lnTo>
                    <a:pt x="401" y="1115"/>
                  </a:lnTo>
                  <a:lnTo>
                    <a:pt x="437" y="1120"/>
                  </a:lnTo>
                  <a:lnTo>
                    <a:pt x="455" y="1130"/>
                  </a:lnTo>
                  <a:lnTo>
                    <a:pt x="454" y="1140"/>
                  </a:lnTo>
                  <a:lnTo>
                    <a:pt x="444" y="1147"/>
                  </a:lnTo>
                  <a:lnTo>
                    <a:pt x="415" y="1156"/>
                  </a:lnTo>
                  <a:lnTo>
                    <a:pt x="384" y="1161"/>
                  </a:lnTo>
                  <a:lnTo>
                    <a:pt x="316" y="1158"/>
                  </a:lnTo>
                  <a:lnTo>
                    <a:pt x="243" y="1142"/>
                  </a:lnTo>
                  <a:lnTo>
                    <a:pt x="209" y="1129"/>
                  </a:lnTo>
                  <a:lnTo>
                    <a:pt x="175" y="1113"/>
                  </a:lnTo>
                  <a:lnTo>
                    <a:pt x="144" y="1094"/>
                  </a:lnTo>
                  <a:lnTo>
                    <a:pt x="116" y="1073"/>
                  </a:lnTo>
                  <a:lnTo>
                    <a:pt x="104" y="1062"/>
                  </a:lnTo>
                  <a:lnTo>
                    <a:pt x="93" y="1050"/>
                  </a:lnTo>
                  <a:lnTo>
                    <a:pt x="74" y="1025"/>
                  </a:lnTo>
                  <a:lnTo>
                    <a:pt x="53" y="969"/>
                  </a:lnTo>
                  <a:lnTo>
                    <a:pt x="53" y="955"/>
                  </a:lnTo>
                  <a:lnTo>
                    <a:pt x="54" y="939"/>
                  </a:lnTo>
                  <a:lnTo>
                    <a:pt x="62" y="909"/>
                  </a:lnTo>
                  <a:lnTo>
                    <a:pt x="62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378200">
              <a:off x="243720" y="2059560"/>
              <a:ext cx="483840" cy="268560"/>
            </a:xfrm>
            <a:custGeom>
              <a:avLst/>
              <a:gdLst/>
              <a:ahLst/>
              <a:rect l="l" t="t" r="r" b="b"/>
              <a:pathLst>
                <a:path w="1218" h="887">
                  <a:moveTo>
                    <a:pt x="754" y="47"/>
                  </a:moveTo>
                  <a:lnTo>
                    <a:pt x="752" y="96"/>
                  </a:lnTo>
                  <a:lnTo>
                    <a:pt x="754" y="144"/>
                  </a:lnTo>
                  <a:lnTo>
                    <a:pt x="693" y="132"/>
                  </a:lnTo>
                  <a:lnTo>
                    <a:pt x="616" y="129"/>
                  </a:lnTo>
                  <a:lnTo>
                    <a:pt x="452" y="151"/>
                  </a:lnTo>
                  <a:lnTo>
                    <a:pt x="389" y="176"/>
                  </a:lnTo>
                  <a:lnTo>
                    <a:pt x="350" y="211"/>
                  </a:lnTo>
                  <a:lnTo>
                    <a:pt x="344" y="232"/>
                  </a:lnTo>
                  <a:lnTo>
                    <a:pt x="348" y="255"/>
                  </a:lnTo>
                  <a:lnTo>
                    <a:pt x="355" y="268"/>
                  </a:lnTo>
                  <a:lnTo>
                    <a:pt x="365" y="280"/>
                  </a:lnTo>
                  <a:lnTo>
                    <a:pt x="378" y="294"/>
                  </a:lnTo>
                  <a:lnTo>
                    <a:pt x="395" y="309"/>
                  </a:lnTo>
                  <a:lnTo>
                    <a:pt x="260" y="327"/>
                  </a:lnTo>
                  <a:lnTo>
                    <a:pt x="191" y="346"/>
                  </a:lnTo>
                  <a:lnTo>
                    <a:pt x="132" y="369"/>
                  </a:lnTo>
                  <a:lnTo>
                    <a:pt x="106" y="381"/>
                  </a:lnTo>
                  <a:lnTo>
                    <a:pt x="84" y="395"/>
                  </a:lnTo>
                  <a:lnTo>
                    <a:pt x="58" y="425"/>
                  </a:lnTo>
                  <a:lnTo>
                    <a:pt x="58" y="457"/>
                  </a:lnTo>
                  <a:lnTo>
                    <a:pt x="68" y="473"/>
                  </a:lnTo>
                  <a:lnTo>
                    <a:pt x="77" y="481"/>
                  </a:lnTo>
                  <a:lnTo>
                    <a:pt x="89" y="490"/>
                  </a:lnTo>
                  <a:lnTo>
                    <a:pt x="75" y="501"/>
                  </a:lnTo>
                  <a:lnTo>
                    <a:pt x="63" y="513"/>
                  </a:lnTo>
                  <a:lnTo>
                    <a:pt x="42" y="537"/>
                  </a:lnTo>
                  <a:lnTo>
                    <a:pt x="12" y="586"/>
                  </a:lnTo>
                  <a:lnTo>
                    <a:pt x="0" y="633"/>
                  </a:lnTo>
                  <a:lnTo>
                    <a:pt x="3" y="675"/>
                  </a:lnTo>
                  <a:lnTo>
                    <a:pt x="12" y="695"/>
                  </a:lnTo>
                  <a:lnTo>
                    <a:pt x="24" y="711"/>
                  </a:lnTo>
                  <a:lnTo>
                    <a:pt x="43" y="725"/>
                  </a:lnTo>
                  <a:lnTo>
                    <a:pt x="63" y="735"/>
                  </a:lnTo>
                  <a:lnTo>
                    <a:pt x="90" y="743"/>
                  </a:lnTo>
                  <a:lnTo>
                    <a:pt x="121" y="747"/>
                  </a:lnTo>
                  <a:lnTo>
                    <a:pt x="195" y="741"/>
                  </a:lnTo>
                  <a:lnTo>
                    <a:pt x="193" y="788"/>
                  </a:lnTo>
                  <a:lnTo>
                    <a:pt x="195" y="826"/>
                  </a:lnTo>
                  <a:lnTo>
                    <a:pt x="202" y="853"/>
                  </a:lnTo>
                  <a:lnTo>
                    <a:pt x="213" y="872"/>
                  </a:lnTo>
                  <a:lnTo>
                    <a:pt x="228" y="883"/>
                  </a:lnTo>
                  <a:lnTo>
                    <a:pt x="247" y="887"/>
                  </a:lnTo>
                  <a:lnTo>
                    <a:pt x="291" y="877"/>
                  </a:lnTo>
                  <a:lnTo>
                    <a:pt x="314" y="864"/>
                  </a:lnTo>
                  <a:lnTo>
                    <a:pt x="338" y="847"/>
                  </a:lnTo>
                  <a:lnTo>
                    <a:pt x="362" y="827"/>
                  </a:lnTo>
                  <a:lnTo>
                    <a:pt x="375" y="816"/>
                  </a:lnTo>
                  <a:lnTo>
                    <a:pt x="386" y="806"/>
                  </a:lnTo>
                  <a:lnTo>
                    <a:pt x="398" y="794"/>
                  </a:lnTo>
                  <a:lnTo>
                    <a:pt x="408" y="783"/>
                  </a:lnTo>
                  <a:lnTo>
                    <a:pt x="429" y="760"/>
                  </a:lnTo>
                  <a:lnTo>
                    <a:pt x="448" y="736"/>
                  </a:lnTo>
                  <a:lnTo>
                    <a:pt x="463" y="714"/>
                  </a:lnTo>
                  <a:lnTo>
                    <a:pt x="473" y="749"/>
                  </a:lnTo>
                  <a:lnTo>
                    <a:pt x="486" y="775"/>
                  </a:lnTo>
                  <a:lnTo>
                    <a:pt x="501" y="796"/>
                  </a:lnTo>
                  <a:lnTo>
                    <a:pt x="518" y="811"/>
                  </a:lnTo>
                  <a:lnTo>
                    <a:pt x="539" y="821"/>
                  </a:lnTo>
                  <a:lnTo>
                    <a:pt x="559" y="824"/>
                  </a:lnTo>
                  <a:lnTo>
                    <a:pt x="606" y="820"/>
                  </a:lnTo>
                  <a:lnTo>
                    <a:pt x="654" y="801"/>
                  </a:lnTo>
                  <a:lnTo>
                    <a:pt x="678" y="787"/>
                  </a:lnTo>
                  <a:lnTo>
                    <a:pt x="701" y="771"/>
                  </a:lnTo>
                  <a:lnTo>
                    <a:pt x="724" y="753"/>
                  </a:lnTo>
                  <a:lnTo>
                    <a:pt x="745" y="735"/>
                  </a:lnTo>
                  <a:lnTo>
                    <a:pt x="764" y="715"/>
                  </a:lnTo>
                  <a:lnTo>
                    <a:pt x="781" y="696"/>
                  </a:lnTo>
                  <a:lnTo>
                    <a:pt x="788" y="725"/>
                  </a:lnTo>
                  <a:lnTo>
                    <a:pt x="797" y="749"/>
                  </a:lnTo>
                  <a:lnTo>
                    <a:pt x="806" y="769"/>
                  </a:lnTo>
                  <a:lnTo>
                    <a:pt x="818" y="786"/>
                  </a:lnTo>
                  <a:lnTo>
                    <a:pt x="829" y="799"/>
                  </a:lnTo>
                  <a:lnTo>
                    <a:pt x="842" y="807"/>
                  </a:lnTo>
                  <a:lnTo>
                    <a:pt x="871" y="815"/>
                  </a:lnTo>
                  <a:lnTo>
                    <a:pt x="902" y="811"/>
                  </a:lnTo>
                  <a:lnTo>
                    <a:pt x="936" y="798"/>
                  </a:lnTo>
                  <a:lnTo>
                    <a:pt x="970" y="775"/>
                  </a:lnTo>
                  <a:lnTo>
                    <a:pt x="987" y="762"/>
                  </a:lnTo>
                  <a:lnTo>
                    <a:pt x="1005" y="747"/>
                  </a:lnTo>
                  <a:lnTo>
                    <a:pt x="1022" y="730"/>
                  </a:lnTo>
                  <a:lnTo>
                    <a:pt x="1039" y="713"/>
                  </a:lnTo>
                  <a:lnTo>
                    <a:pt x="1057" y="695"/>
                  </a:lnTo>
                  <a:lnTo>
                    <a:pt x="1074" y="676"/>
                  </a:lnTo>
                  <a:lnTo>
                    <a:pt x="1090" y="657"/>
                  </a:lnTo>
                  <a:lnTo>
                    <a:pt x="1105" y="637"/>
                  </a:lnTo>
                  <a:lnTo>
                    <a:pt x="1121" y="618"/>
                  </a:lnTo>
                  <a:lnTo>
                    <a:pt x="1135" y="599"/>
                  </a:lnTo>
                  <a:lnTo>
                    <a:pt x="1149" y="581"/>
                  </a:lnTo>
                  <a:lnTo>
                    <a:pt x="1162" y="563"/>
                  </a:lnTo>
                  <a:lnTo>
                    <a:pt x="1173" y="545"/>
                  </a:lnTo>
                  <a:lnTo>
                    <a:pt x="1185" y="529"/>
                  </a:lnTo>
                  <a:lnTo>
                    <a:pt x="1194" y="514"/>
                  </a:lnTo>
                  <a:lnTo>
                    <a:pt x="1202" y="500"/>
                  </a:lnTo>
                  <a:lnTo>
                    <a:pt x="1216" y="478"/>
                  </a:lnTo>
                  <a:lnTo>
                    <a:pt x="1218" y="448"/>
                  </a:lnTo>
                  <a:lnTo>
                    <a:pt x="1211" y="437"/>
                  </a:lnTo>
                  <a:lnTo>
                    <a:pt x="1200" y="428"/>
                  </a:lnTo>
                  <a:lnTo>
                    <a:pt x="1172" y="425"/>
                  </a:lnTo>
                  <a:lnTo>
                    <a:pt x="1146" y="442"/>
                  </a:lnTo>
                  <a:lnTo>
                    <a:pt x="1122" y="480"/>
                  </a:lnTo>
                  <a:lnTo>
                    <a:pt x="1111" y="503"/>
                  </a:lnTo>
                  <a:lnTo>
                    <a:pt x="1098" y="526"/>
                  </a:lnTo>
                  <a:lnTo>
                    <a:pt x="1086" y="551"/>
                  </a:lnTo>
                  <a:lnTo>
                    <a:pt x="1072" y="576"/>
                  </a:lnTo>
                  <a:lnTo>
                    <a:pt x="1058" y="602"/>
                  </a:lnTo>
                  <a:lnTo>
                    <a:pt x="1043" y="627"/>
                  </a:lnTo>
                  <a:lnTo>
                    <a:pt x="1027" y="651"/>
                  </a:lnTo>
                  <a:lnTo>
                    <a:pt x="1009" y="673"/>
                  </a:lnTo>
                  <a:lnTo>
                    <a:pt x="991" y="694"/>
                  </a:lnTo>
                  <a:lnTo>
                    <a:pt x="982" y="704"/>
                  </a:lnTo>
                  <a:lnTo>
                    <a:pt x="971" y="712"/>
                  </a:lnTo>
                  <a:lnTo>
                    <a:pt x="951" y="727"/>
                  </a:lnTo>
                  <a:lnTo>
                    <a:pt x="927" y="740"/>
                  </a:lnTo>
                  <a:lnTo>
                    <a:pt x="903" y="747"/>
                  </a:lnTo>
                  <a:lnTo>
                    <a:pt x="878" y="750"/>
                  </a:lnTo>
                  <a:lnTo>
                    <a:pt x="862" y="745"/>
                  </a:lnTo>
                  <a:lnTo>
                    <a:pt x="853" y="728"/>
                  </a:lnTo>
                  <a:lnTo>
                    <a:pt x="848" y="675"/>
                  </a:lnTo>
                  <a:lnTo>
                    <a:pt x="856" y="581"/>
                  </a:lnTo>
                  <a:lnTo>
                    <a:pt x="851" y="560"/>
                  </a:lnTo>
                  <a:lnTo>
                    <a:pt x="843" y="549"/>
                  </a:lnTo>
                  <a:lnTo>
                    <a:pt x="820" y="548"/>
                  </a:lnTo>
                  <a:lnTo>
                    <a:pt x="790" y="568"/>
                  </a:lnTo>
                  <a:lnTo>
                    <a:pt x="772" y="585"/>
                  </a:lnTo>
                  <a:lnTo>
                    <a:pt x="753" y="604"/>
                  </a:lnTo>
                  <a:lnTo>
                    <a:pt x="735" y="625"/>
                  </a:lnTo>
                  <a:lnTo>
                    <a:pt x="716" y="647"/>
                  </a:lnTo>
                  <a:lnTo>
                    <a:pt x="697" y="669"/>
                  </a:lnTo>
                  <a:lnTo>
                    <a:pt x="679" y="690"/>
                  </a:lnTo>
                  <a:lnTo>
                    <a:pt x="662" y="710"/>
                  </a:lnTo>
                  <a:lnTo>
                    <a:pt x="646" y="727"/>
                  </a:lnTo>
                  <a:lnTo>
                    <a:pt x="632" y="740"/>
                  </a:lnTo>
                  <a:lnTo>
                    <a:pt x="621" y="748"/>
                  </a:lnTo>
                  <a:lnTo>
                    <a:pt x="592" y="761"/>
                  </a:lnTo>
                  <a:lnTo>
                    <a:pt x="571" y="764"/>
                  </a:lnTo>
                  <a:lnTo>
                    <a:pt x="544" y="751"/>
                  </a:lnTo>
                  <a:lnTo>
                    <a:pt x="534" y="717"/>
                  </a:lnTo>
                  <a:lnTo>
                    <a:pt x="533" y="673"/>
                  </a:lnTo>
                  <a:lnTo>
                    <a:pt x="528" y="595"/>
                  </a:lnTo>
                  <a:lnTo>
                    <a:pt x="523" y="585"/>
                  </a:lnTo>
                  <a:lnTo>
                    <a:pt x="512" y="581"/>
                  </a:lnTo>
                  <a:lnTo>
                    <a:pt x="475" y="595"/>
                  </a:lnTo>
                  <a:lnTo>
                    <a:pt x="446" y="619"/>
                  </a:lnTo>
                  <a:lnTo>
                    <a:pt x="422" y="648"/>
                  </a:lnTo>
                  <a:lnTo>
                    <a:pt x="411" y="664"/>
                  </a:lnTo>
                  <a:lnTo>
                    <a:pt x="399" y="681"/>
                  </a:lnTo>
                  <a:lnTo>
                    <a:pt x="389" y="696"/>
                  </a:lnTo>
                  <a:lnTo>
                    <a:pt x="377" y="713"/>
                  </a:lnTo>
                  <a:lnTo>
                    <a:pt x="366" y="729"/>
                  </a:lnTo>
                  <a:lnTo>
                    <a:pt x="355" y="745"/>
                  </a:lnTo>
                  <a:lnTo>
                    <a:pt x="343" y="760"/>
                  </a:lnTo>
                  <a:lnTo>
                    <a:pt x="331" y="773"/>
                  </a:lnTo>
                  <a:lnTo>
                    <a:pt x="317" y="786"/>
                  </a:lnTo>
                  <a:lnTo>
                    <a:pt x="302" y="798"/>
                  </a:lnTo>
                  <a:lnTo>
                    <a:pt x="287" y="807"/>
                  </a:lnTo>
                  <a:lnTo>
                    <a:pt x="270" y="814"/>
                  </a:lnTo>
                  <a:lnTo>
                    <a:pt x="266" y="775"/>
                  </a:lnTo>
                  <a:lnTo>
                    <a:pt x="271" y="744"/>
                  </a:lnTo>
                  <a:lnTo>
                    <a:pt x="283" y="714"/>
                  </a:lnTo>
                  <a:lnTo>
                    <a:pt x="299" y="678"/>
                  </a:lnTo>
                  <a:lnTo>
                    <a:pt x="309" y="643"/>
                  </a:lnTo>
                  <a:lnTo>
                    <a:pt x="305" y="634"/>
                  </a:lnTo>
                  <a:lnTo>
                    <a:pt x="295" y="632"/>
                  </a:lnTo>
                  <a:lnTo>
                    <a:pt x="265" y="640"/>
                  </a:lnTo>
                  <a:lnTo>
                    <a:pt x="224" y="656"/>
                  </a:lnTo>
                  <a:lnTo>
                    <a:pt x="200" y="666"/>
                  </a:lnTo>
                  <a:lnTo>
                    <a:pt x="175" y="674"/>
                  </a:lnTo>
                  <a:lnTo>
                    <a:pt x="127" y="685"/>
                  </a:lnTo>
                  <a:lnTo>
                    <a:pt x="85" y="678"/>
                  </a:lnTo>
                  <a:lnTo>
                    <a:pt x="68" y="667"/>
                  </a:lnTo>
                  <a:lnTo>
                    <a:pt x="54" y="649"/>
                  </a:lnTo>
                  <a:lnTo>
                    <a:pt x="52" y="617"/>
                  </a:lnTo>
                  <a:lnTo>
                    <a:pt x="60" y="602"/>
                  </a:lnTo>
                  <a:lnTo>
                    <a:pt x="73" y="587"/>
                  </a:lnTo>
                  <a:lnTo>
                    <a:pt x="89" y="573"/>
                  </a:lnTo>
                  <a:lnTo>
                    <a:pt x="106" y="559"/>
                  </a:lnTo>
                  <a:lnTo>
                    <a:pt x="126" y="546"/>
                  </a:lnTo>
                  <a:lnTo>
                    <a:pt x="144" y="533"/>
                  </a:lnTo>
                  <a:lnTo>
                    <a:pt x="190" y="486"/>
                  </a:lnTo>
                  <a:lnTo>
                    <a:pt x="188" y="474"/>
                  </a:lnTo>
                  <a:lnTo>
                    <a:pt x="179" y="465"/>
                  </a:lnTo>
                  <a:lnTo>
                    <a:pt x="162" y="454"/>
                  </a:lnTo>
                  <a:lnTo>
                    <a:pt x="134" y="446"/>
                  </a:lnTo>
                  <a:lnTo>
                    <a:pt x="148" y="428"/>
                  </a:lnTo>
                  <a:lnTo>
                    <a:pt x="168" y="414"/>
                  </a:lnTo>
                  <a:lnTo>
                    <a:pt x="196" y="401"/>
                  </a:lnTo>
                  <a:lnTo>
                    <a:pt x="227" y="391"/>
                  </a:lnTo>
                  <a:lnTo>
                    <a:pt x="263" y="381"/>
                  </a:lnTo>
                  <a:lnTo>
                    <a:pt x="300" y="373"/>
                  </a:lnTo>
                  <a:lnTo>
                    <a:pt x="374" y="359"/>
                  </a:lnTo>
                  <a:lnTo>
                    <a:pt x="489" y="331"/>
                  </a:lnTo>
                  <a:lnTo>
                    <a:pt x="509" y="310"/>
                  </a:lnTo>
                  <a:lnTo>
                    <a:pt x="505" y="297"/>
                  </a:lnTo>
                  <a:lnTo>
                    <a:pt x="490" y="282"/>
                  </a:lnTo>
                  <a:lnTo>
                    <a:pt x="472" y="272"/>
                  </a:lnTo>
                  <a:lnTo>
                    <a:pt x="453" y="261"/>
                  </a:lnTo>
                  <a:lnTo>
                    <a:pt x="420" y="237"/>
                  </a:lnTo>
                  <a:lnTo>
                    <a:pt x="428" y="225"/>
                  </a:lnTo>
                  <a:lnTo>
                    <a:pt x="438" y="215"/>
                  </a:lnTo>
                  <a:lnTo>
                    <a:pt x="449" y="205"/>
                  </a:lnTo>
                  <a:lnTo>
                    <a:pt x="460" y="199"/>
                  </a:lnTo>
                  <a:lnTo>
                    <a:pt x="487" y="189"/>
                  </a:lnTo>
                  <a:lnTo>
                    <a:pt x="517" y="183"/>
                  </a:lnTo>
                  <a:lnTo>
                    <a:pt x="583" y="185"/>
                  </a:lnTo>
                  <a:lnTo>
                    <a:pt x="651" y="198"/>
                  </a:lnTo>
                  <a:lnTo>
                    <a:pt x="716" y="213"/>
                  </a:lnTo>
                  <a:lnTo>
                    <a:pt x="773" y="223"/>
                  </a:lnTo>
                  <a:lnTo>
                    <a:pt x="813" y="222"/>
                  </a:lnTo>
                  <a:lnTo>
                    <a:pt x="832" y="203"/>
                  </a:lnTo>
                  <a:lnTo>
                    <a:pt x="832" y="170"/>
                  </a:lnTo>
                  <a:lnTo>
                    <a:pt x="824" y="138"/>
                  </a:lnTo>
                  <a:lnTo>
                    <a:pt x="814" y="73"/>
                  </a:lnTo>
                  <a:lnTo>
                    <a:pt x="827" y="63"/>
                  </a:lnTo>
                  <a:lnTo>
                    <a:pt x="843" y="59"/>
                  </a:lnTo>
                  <a:lnTo>
                    <a:pt x="884" y="64"/>
                  </a:lnTo>
                  <a:lnTo>
                    <a:pt x="933" y="83"/>
                  </a:lnTo>
                  <a:lnTo>
                    <a:pt x="960" y="97"/>
                  </a:lnTo>
                  <a:lnTo>
                    <a:pt x="986" y="112"/>
                  </a:lnTo>
                  <a:lnTo>
                    <a:pt x="1012" y="129"/>
                  </a:lnTo>
                  <a:lnTo>
                    <a:pt x="1037" y="145"/>
                  </a:lnTo>
                  <a:lnTo>
                    <a:pt x="1061" y="163"/>
                  </a:lnTo>
                  <a:lnTo>
                    <a:pt x="1083" y="181"/>
                  </a:lnTo>
                  <a:lnTo>
                    <a:pt x="1103" y="198"/>
                  </a:lnTo>
                  <a:lnTo>
                    <a:pt x="1119" y="214"/>
                  </a:lnTo>
                  <a:lnTo>
                    <a:pt x="1141" y="239"/>
                  </a:lnTo>
                  <a:lnTo>
                    <a:pt x="1150" y="248"/>
                  </a:lnTo>
                  <a:lnTo>
                    <a:pt x="1161" y="249"/>
                  </a:lnTo>
                  <a:lnTo>
                    <a:pt x="1171" y="232"/>
                  </a:lnTo>
                  <a:lnTo>
                    <a:pt x="1165" y="204"/>
                  </a:lnTo>
                  <a:lnTo>
                    <a:pt x="1154" y="177"/>
                  </a:lnTo>
                  <a:lnTo>
                    <a:pt x="1137" y="151"/>
                  </a:lnTo>
                  <a:lnTo>
                    <a:pt x="1128" y="137"/>
                  </a:lnTo>
                  <a:lnTo>
                    <a:pt x="1118" y="123"/>
                  </a:lnTo>
                  <a:lnTo>
                    <a:pt x="1094" y="99"/>
                  </a:lnTo>
                  <a:lnTo>
                    <a:pt x="1080" y="86"/>
                  </a:lnTo>
                  <a:lnTo>
                    <a:pt x="1066" y="75"/>
                  </a:lnTo>
                  <a:lnTo>
                    <a:pt x="1051" y="64"/>
                  </a:lnTo>
                  <a:lnTo>
                    <a:pt x="1036" y="54"/>
                  </a:lnTo>
                  <a:lnTo>
                    <a:pt x="1020" y="44"/>
                  </a:lnTo>
                  <a:lnTo>
                    <a:pt x="1004" y="36"/>
                  </a:lnTo>
                  <a:lnTo>
                    <a:pt x="971" y="21"/>
                  </a:lnTo>
                  <a:lnTo>
                    <a:pt x="937" y="10"/>
                  </a:lnTo>
                  <a:lnTo>
                    <a:pt x="870" y="0"/>
                  </a:lnTo>
                  <a:lnTo>
                    <a:pt x="808" y="11"/>
                  </a:lnTo>
                  <a:lnTo>
                    <a:pt x="754" y="47"/>
                  </a:lnTo>
                  <a:lnTo>
                    <a:pt x="75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378200">
              <a:off x="68040" y="1228680"/>
              <a:ext cx="614160" cy="596880"/>
            </a:xfrm>
            <a:custGeom>
              <a:avLst/>
              <a:gdLst/>
              <a:ahLst/>
              <a:rect l="l" t="t" r="r" b="b"/>
              <a:pathLst>
                <a:path w="1547" h="1979">
                  <a:moveTo>
                    <a:pt x="206" y="1599"/>
                  </a:moveTo>
                  <a:lnTo>
                    <a:pt x="227" y="1506"/>
                  </a:lnTo>
                  <a:lnTo>
                    <a:pt x="226" y="1468"/>
                  </a:lnTo>
                  <a:lnTo>
                    <a:pt x="218" y="1437"/>
                  </a:lnTo>
                  <a:lnTo>
                    <a:pt x="205" y="1408"/>
                  </a:lnTo>
                  <a:lnTo>
                    <a:pt x="197" y="1396"/>
                  </a:lnTo>
                  <a:lnTo>
                    <a:pt x="189" y="1383"/>
                  </a:lnTo>
                  <a:lnTo>
                    <a:pt x="168" y="1361"/>
                  </a:lnTo>
                  <a:lnTo>
                    <a:pt x="157" y="1350"/>
                  </a:lnTo>
                  <a:lnTo>
                    <a:pt x="145" y="1340"/>
                  </a:lnTo>
                  <a:lnTo>
                    <a:pt x="134" y="1330"/>
                  </a:lnTo>
                  <a:lnTo>
                    <a:pt x="122" y="1320"/>
                  </a:lnTo>
                  <a:lnTo>
                    <a:pt x="98" y="1301"/>
                  </a:lnTo>
                  <a:lnTo>
                    <a:pt x="75" y="1280"/>
                  </a:lnTo>
                  <a:lnTo>
                    <a:pt x="63" y="1269"/>
                  </a:lnTo>
                  <a:lnTo>
                    <a:pt x="53" y="1258"/>
                  </a:lnTo>
                  <a:lnTo>
                    <a:pt x="33" y="1234"/>
                  </a:lnTo>
                  <a:lnTo>
                    <a:pt x="17" y="1205"/>
                  </a:lnTo>
                  <a:lnTo>
                    <a:pt x="0" y="1137"/>
                  </a:lnTo>
                  <a:lnTo>
                    <a:pt x="3" y="1105"/>
                  </a:lnTo>
                  <a:lnTo>
                    <a:pt x="15" y="1069"/>
                  </a:lnTo>
                  <a:lnTo>
                    <a:pt x="24" y="1052"/>
                  </a:lnTo>
                  <a:lnTo>
                    <a:pt x="35" y="1034"/>
                  </a:lnTo>
                  <a:lnTo>
                    <a:pt x="46" y="1018"/>
                  </a:lnTo>
                  <a:lnTo>
                    <a:pt x="60" y="1002"/>
                  </a:lnTo>
                  <a:lnTo>
                    <a:pt x="75" y="987"/>
                  </a:lnTo>
                  <a:lnTo>
                    <a:pt x="91" y="974"/>
                  </a:lnTo>
                  <a:lnTo>
                    <a:pt x="107" y="964"/>
                  </a:lnTo>
                  <a:lnTo>
                    <a:pt x="125" y="955"/>
                  </a:lnTo>
                  <a:lnTo>
                    <a:pt x="161" y="946"/>
                  </a:lnTo>
                  <a:lnTo>
                    <a:pt x="200" y="949"/>
                  </a:lnTo>
                  <a:lnTo>
                    <a:pt x="235" y="972"/>
                  </a:lnTo>
                  <a:lnTo>
                    <a:pt x="258" y="990"/>
                  </a:lnTo>
                  <a:lnTo>
                    <a:pt x="284" y="1008"/>
                  </a:lnTo>
                  <a:lnTo>
                    <a:pt x="309" y="1023"/>
                  </a:lnTo>
                  <a:lnTo>
                    <a:pt x="332" y="1032"/>
                  </a:lnTo>
                  <a:lnTo>
                    <a:pt x="353" y="1032"/>
                  </a:lnTo>
                  <a:lnTo>
                    <a:pt x="369" y="1020"/>
                  </a:lnTo>
                  <a:lnTo>
                    <a:pt x="376" y="974"/>
                  </a:lnTo>
                  <a:lnTo>
                    <a:pt x="367" y="897"/>
                  </a:lnTo>
                  <a:lnTo>
                    <a:pt x="351" y="801"/>
                  </a:lnTo>
                  <a:lnTo>
                    <a:pt x="338" y="698"/>
                  </a:lnTo>
                  <a:lnTo>
                    <a:pt x="336" y="650"/>
                  </a:lnTo>
                  <a:lnTo>
                    <a:pt x="338" y="604"/>
                  </a:lnTo>
                  <a:lnTo>
                    <a:pt x="345" y="563"/>
                  </a:lnTo>
                  <a:lnTo>
                    <a:pt x="352" y="546"/>
                  </a:lnTo>
                  <a:lnTo>
                    <a:pt x="360" y="529"/>
                  </a:lnTo>
                  <a:lnTo>
                    <a:pt x="369" y="515"/>
                  </a:lnTo>
                  <a:lnTo>
                    <a:pt x="382" y="503"/>
                  </a:lnTo>
                  <a:lnTo>
                    <a:pt x="396" y="494"/>
                  </a:lnTo>
                  <a:lnTo>
                    <a:pt x="413" y="488"/>
                  </a:lnTo>
                  <a:lnTo>
                    <a:pt x="453" y="483"/>
                  </a:lnTo>
                  <a:lnTo>
                    <a:pt x="506" y="493"/>
                  </a:lnTo>
                  <a:lnTo>
                    <a:pt x="551" y="518"/>
                  </a:lnTo>
                  <a:lnTo>
                    <a:pt x="569" y="536"/>
                  </a:lnTo>
                  <a:lnTo>
                    <a:pt x="584" y="555"/>
                  </a:lnTo>
                  <a:lnTo>
                    <a:pt x="599" y="575"/>
                  </a:lnTo>
                  <a:lnTo>
                    <a:pt x="614" y="593"/>
                  </a:lnTo>
                  <a:lnTo>
                    <a:pt x="632" y="609"/>
                  </a:lnTo>
                  <a:lnTo>
                    <a:pt x="654" y="619"/>
                  </a:lnTo>
                  <a:lnTo>
                    <a:pt x="658" y="537"/>
                  </a:lnTo>
                  <a:lnTo>
                    <a:pt x="669" y="453"/>
                  </a:lnTo>
                  <a:lnTo>
                    <a:pt x="678" y="412"/>
                  </a:lnTo>
                  <a:lnTo>
                    <a:pt x="690" y="372"/>
                  </a:lnTo>
                  <a:lnTo>
                    <a:pt x="704" y="336"/>
                  </a:lnTo>
                  <a:lnTo>
                    <a:pt x="712" y="319"/>
                  </a:lnTo>
                  <a:lnTo>
                    <a:pt x="720" y="303"/>
                  </a:lnTo>
                  <a:lnTo>
                    <a:pt x="729" y="289"/>
                  </a:lnTo>
                  <a:lnTo>
                    <a:pt x="739" y="276"/>
                  </a:lnTo>
                  <a:lnTo>
                    <a:pt x="750" y="264"/>
                  </a:lnTo>
                  <a:lnTo>
                    <a:pt x="761" y="254"/>
                  </a:lnTo>
                  <a:lnTo>
                    <a:pt x="774" y="245"/>
                  </a:lnTo>
                  <a:lnTo>
                    <a:pt x="787" y="238"/>
                  </a:lnTo>
                  <a:lnTo>
                    <a:pt x="816" y="230"/>
                  </a:lnTo>
                  <a:lnTo>
                    <a:pt x="882" y="239"/>
                  </a:lnTo>
                  <a:lnTo>
                    <a:pt x="922" y="259"/>
                  </a:lnTo>
                  <a:lnTo>
                    <a:pt x="942" y="273"/>
                  </a:lnTo>
                  <a:lnTo>
                    <a:pt x="964" y="290"/>
                  </a:lnTo>
                  <a:lnTo>
                    <a:pt x="977" y="266"/>
                  </a:lnTo>
                  <a:lnTo>
                    <a:pt x="989" y="244"/>
                  </a:lnTo>
                  <a:lnTo>
                    <a:pt x="1001" y="223"/>
                  </a:lnTo>
                  <a:lnTo>
                    <a:pt x="1014" y="203"/>
                  </a:lnTo>
                  <a:lnTo>
                    <a:pt x="1026" y="184"/>
                  </a:lnTo>
                  <a:lnTo>
                    <a:pt x="1037" y="167"/>
                  </a:lnTo>
                  <a:lnTo>
                    <a:pt x="1050" y="149"/>
                  </a:lnTo>
                  <a:lnTo>
                    <a:pt x="1061" y="135"/>
                  </a:lnTo>
                  <a:lnTo>
                    <a:pt x="1073" y="120"/>
                  </a:lnTo>
                  <a:lnTo>
                    <a:pt x="1083" y="105"/>
                  </a:lnTo>
                  <a:lnTo>
                    <a:pt x="1106" y="81"/>
                  </a:lnTo>
                  <a:lnTo>
                    <a:pt x="1117" y="69"/>
                  </a:lnTo>
                  <a:lnTo>
                    <a:pt x="1127" y="60"/>
                  </a:lnTo>
                  <a:lnTo>
                    <a:pt x="1149" y="42"/>
                  </a:lnTo>
                  <a:lnTo>
                    <a:pt x="1169" y="27"/>
                  </a:lnTo>
                  <a:lnTo>
                    <a:pt x="1188" y="16"/>
                  </a:lnTo>
                  <a:lnTo>
                    <a:pt x="1224" y="2"/>
                  </a:lnTo>
                  <a:lnTo>
                    <a:pt x="1255" y="0"/>
                  </a:lnTo>
                  <a:lnTo>
                    <a:pt x="1283" y="7"/>
                  </a:lnTo>
                  <a:lnTo>
                    <a:pt x="1305" y="23"/>
                  </a:lnTo>
                  <a:lnTo>
                    <a:pt x="1321" y="46"/>
                  </a:lnTo>
                  <a:lnTo>
                    <a:pt x="1336" y="110"/>
                  </a:lnTo>
                  <a:lnTo>
                    <a:pt x="1334" y="149"/>
                  </a:lnTo>
                  <a:lnTo>
                    <a:pt x="1323" y="193"/>
                  </a:lnTo>
                  <a:lnTo>
                    <a:pt x="1316" y="214"/>
                  </a:lnTo>
                  <a:lnTo>
                    <a:pt x="1306" y="236"/>
                  </a:lnTo>
                  <a:lnTo>
                    <a:pt x="1294" y="258"/>
                  </a:lnTo>
                  <a:lnTo>
                    <a:pt x="1280" y="280"/>
                  </a:lnTo>
                  <a:lnTo>
                    <a:pt x="1384" y="277"/>
                  </a:lnTo>
                  <a:lnTo>
                    <a:pt x="1464" y="295"/>
                  </a:lnTo>
                  <a:lnTo>
                    <a:pt x="1519" y="327"/>
                  </a:lnTo>
                  <a:lnTo>
                    <a:pt x="1547" y="373"/>
                  </a:lnTo>
                  <a:lnTo>
                    <a:pt x="1545" y="427"/>
                  </a:lnTo>
                  <a:lnTo>
                    <a:pt x="1532" y="455"/>
                  </a:lnTo>
                  <a:lnTo>
                    <a:pt x="1523" y="470"/>
                  </a:lnTo>
                  <a:lnTo>
                    <a:pt x="1512" y="484"/>
                  </a:lnTo>
                  <a:lnTo>
                    <a:pt x="1498" y="499"/>
                  </a:lnTo>
                  <a:lnTo>
                    <a:pt x="1482" y="514"/>
                  </a:lnTo>
                  <a:lnTo>
                    <a:pt x="1465" y="529"/>
                  </a:lnTo>
                  <a:lnTo>
                    <a:pt x="1445" y="542"/>
                  </a:lnTo>
                  <a:lnTo>
                    <a:pt x="1423" y="557"/>
                  </a:lnTo>
                  <a:lnTo>
                    <a:pt x="1399" y="571"/>
                  </a:lnTo>
                  <a:lnTo>
                    <a:pt x="1373" y="584"/>
                  </a:lnTo>
                  <a:lnTo>
                    <a:pt x="1344" y="597"/>
                  </a:lnTo>
                  <a:lnTo>
                    <a:pt x="1438" y="628"/>
                  </a:lnTo>
                  <a:lnTo>
                    <a:pt x="1475" y="648"/>
                  </a:lnTo>
                  <a:lnTo>
                    <a:pt x="1504" y="671"/>
                  </a:lnTo>
                  <a:lnTo>
                    <a:pt x="1540" y="723"/>
                  </a:lnTo>
                  <a:lnTo>
                    <a:pt x="1547" y="779"/>
                  </a:lnTo>
                  <a:lnTo>
                    <a:pt x="1538" y="809"/>
                  </a:lnTo>
                  <a:lnTo>
                    <a:pt x="1531" y="824"/>
                  </a:lnTo>
                  <a:lnTo>
                    <a:pt x="1522" y="837"/>
                  </a:lnTo>
                  <a:lnTo>
                    <a:pt x="1510" y="852"/>
                  </a:lnTo>
                  <a:lnTo>
                    <a:pt x="1497" y="867"/>
                  </a:lnTo>
                  <a:lnTo>
                    <a:pt x="1482" y="881"/>
                  </a:lnTo>
                  <a:lnTo>
                    <a:pt x="1465" y="894"/>
                  </a:lnTo>
                  <a:lnTo>
                    <a:pt x="1447" y="908"/>
                  </a:lnTo>
                  <a:lnTo>
                    <a:pt x="1426" y="922"/>
                  </a:lnTo>
                  <a:lnTo>
                    <a:pt x="1403" y="934"/>
                  </a:lnTo>
                  <a:lnTo>
                    <a:pt x="1379" y="947"/>
                  </a:lnTo>
                  <a:lnTo>
                    <a:pt x="1352" y="959"/>
                  </a:lnTo>
                  <a:lnTo>
                    <a:pt x="1323" y="969"/>
                  </a:lnTo>
                  <a:lnTo>
                    <a:pt x="1292" y="980"/>
                  </a:lnTo>
                  <a:lnTo>
                    <a:pt x="1259" y="989"/>
                  </a:lnTo>
                  <a:lnTo>
                    <a:pt x="1328" y="1011"/>
                  </a:lnTo>
                  <a:lnTo>
                    <a:pt x="1354" y="1026"/>
                  </a:lnTo>
                  <a:lnTo>
                    <a:pt x="1376" y="1043"/>
                  </a:lnTo>
                  <a:lnTo>
                    <a:pt x="1406" y="1084"/>
                  </a:lnTo>
                  <a:lnTo>
                    <a:pt x="1419" y="1131"/>
                  </a:lnTo>
                  <a:lnTo>
                    <a:pt x="1418" y="1183"/>
                  </a:lnTo>
                  <a:lnTo>
                    <a:pt x="1411" y="1210"/>
                  </a:lnTo>
                  <a:lnTo>
                    <a:pt x="1402" y="1238"/>
                  </a:lnTo>
                  <a:lnTo>
                    <a:pt x="1390" y="1266"/>
                  </a:lnTo>
                  <a:lnTo>
                    <a:pt x="1375" y="1295"/>
                  </a:lnTo>
                  <a:lnTo>
                    <a:pt x="1357" y="1322"/>
                  </a:lnTo>
                  <a:lnTo>
                    <a:pt x="1347" y="1336"/>
                  </a:lnTo>
                  <a:lnTo>
                    <a:pt x="1337" y="1349"/>
                  </a:lnTo>
                  <a:lnTo>
                    <a:pt x="1327" y="1363"/>
                  </a:lnTo>
                  <a:lnTo>
                    <a:pt x="1315" y="1377"/>
                  </a:lnTo>
                  <a:lnTo>
                    <a:pt x="1291" y="1403"/>
                  </a:lnTo>
                  <a:lnTo>
                    <a:pt x="1278" y="1416"/>
                  </a:lnTo>
                  <a:lnTo>
                    <a:pt x="1265" y="1428"/>
                  </a:lnTo>
                  <a:lnTo>
                    <a:pt x="1252" y="1440"/>
                  </a:lnTo>
                  <a:lnTo>
                    <a:pt x="1238" y="1452"/>
                  </a:lnTo>
                  <a:lnTo>
                    <a:pt x="1224" y="1463"/>
                  </a:lnTo>
                  <a:lnTo>
                    <a:pt x="1209" y="1474"/>
                  </a:lnTo>
                  <a:lnTo>
                    <a:pt x="1194" y="1484"/>
                  </a:lnTo>
                  <a:lnTo>
                    <a:pt x="1179" y="1495"/>
                  </a:lnTo>
                  <a:lnTo>
                    <a:pt x="1164" y="1504"/>
                  </a:lnTo>
                  <a:lnTo>
                    <a:pt x="1149" y="1514"/>
                  </a:lnTo>
                  <a:lnTo>
                    <a:pt x="1118" y="1530"/>
                  </a:lnTo>
                  <a:lnTo>
                    <a:pt x="1085" y="1543"/>
                  </a:lnTo>
                  <a:lnTo>
                    <a:pt x="1053" y="1555"/>
                  </a:lnTo>
                  <a:lnTo>
                    <a:pt x="1021" y="1563"/>
                  </a:lnTo>
                  <a:lnTo>
                    <a:pt x="989" y="1569"/>
                  </a:lnTo>
                  <a:lnTo>
                    <a:pt x="925" y="1569"/>
                  </a:lnTo>
                  <a:lnTo>
                    <a:pt x="865" y="1553"/>
                  </a:lnTo>
                  <a:lnTo>
                    <a:pt x="839" y="1566"/>
                  </a:lnTo>
                  <a:lnTo>
                    <a:pt x="813" y="1582"/>
                  </a:lnTo>
                  <a:lnTo>
                    <a:pt x="789" y="1598"/>
                  </a:lnTo>
                  <a:lnTo>
                    <a:pt x="766" y="1616"/>
                  </a:lnTo>
                  <a:lnTo>
                    <a:pt x="743" y="1634"/>
                  </a:lnTo>
                  <a:lnTo>
                    <a:pt x="720" y="1652"/>
                  </a:lnTo>
                  <a:lnTo>
                    <a:pt x="696" y="1669"/>
                  </a:lnTo>
                  <a:lnTo>
                    <a:pt x="673" y="1687"/>
                  </a:lnTo>
                  <a:lnTo>
                    <a:pt x="645" y="1702"/>
                  </a:lnTo>
                  <a:lnTo>
                    <a:pt x="622" y="1712"/>
                  </a:lnTo>
                  <a:lnTo>
                    <a:pt x="581" y="1714"/>
                  </a:lnTo>
                  <a:lnTo>
                    <a:pt x="549" y="1701"/>
                  </a:lnTo>
                  <a:lnTo>
                    <a:pt x="519" y="1683"/>
                  </a:lnTo>
                  <a:lnTo>
                    <a:pt x="504" y="1675"/>
                  </a:lnTo>
                  <a:lnTo>
                    <a:pt x="489" y="1669"/>
                  </a:lnTo>
                  <a:lnTo>
                    <a:pt x="453" y="1667"/>
                  </a:lnTo>
                  <a:lnTo>
                    <a:pt x="409" y="1685"/>
                  </a:lnTo>
                  <a:lnTo>
                    <a:pt x="383" y="1707"/>
                  </a:lnTo>
                  <a:lnTo>
                    <a:pt x="368" y="1720"/>
                  </a:lnTo>
                  <a:lnTo>
                    <a:pt x="353" y="1736"/>
                  </a:lnTo>
                  <a:lnTo>
                    <a:pt x="278" y="1743"/>
                  </a:lnTo>
                  <a:lnTo>
                    <a:pt x="277" y="1731"/>
                  </a:lnTo>
                  <a:lnTo>
                    <a:pt x="278" y="1717"/>
                  </a:lnTo>
                  <a:lnTo>
                    <a:pt x="287" y="1690"/>
                  </a:lnTo>
                  <a:lnTo>
                    <a:pt x="298" y="1675"/>
                  </a:lnTo>
                  <a:lnTo>
                    <a:pt x="314" y="1658"/>
                  </a:lnTo>
                  <a:lnTo>
                    <a:pt x="323" y="1650"/>
                  </a:lnTo>
                  <a:lnTo>
                    <a:pt x="335" y="1640"/>
                  </a:lnTo>
                  <a:lnTo>
                    <a:pt x="348" y="1630"/>
                  </a:lnTo>
                  <a:lnTo>
                    <a:pt x="363" y="1619"/>
                  </a:lnTo>
                  <a:lnTo>
                    <a:pt x="390" y="1609"/>
                  </a:lnTo>
                  <a:lnTo>
                    <a:pt x="420" y="1606"/>
                  </a:lnTo>
                  <a:lnTo>
                    <a:pt x="487" y="1619"/>
                  </a:lnTo>
                  <a:lnTo>
                    <a:pt x="521" y="1628"/>
                  </a:lnTo>
                  <a:lnTo>
                    <a:pt x="555" y="1632"/>
                  </a:lnTo>
                  <a:lnTo>
                    <a:pt x="613" y="1618"/>
                  </a:lnTo>
                  <a:lnTo>
                    <a:pt x="636" y="1601"/>
                  </a:lnTo>
                  <a:lnTo>
                    <a:pt x="648" y="1592"/>
                  </a:lnTo>
                  <a:lnTo>
                    <a:pt x="662" y="1581"/>
                  </a:lnTo>
                  <a:lnTo>
                    <a:pt x="677" y="1570"/>
                  </a:lnTo>
                  <a:lnTo>
                    <a:pt x="692" y="1558"/>
                  </a:lnTo>
                  <a:lnTo>
                    <a:pt x="707" y="1546"/>
                  </a:lnTo>
                  <a:lnTo>
                    <a:pt x="723" y="1535"/>
                  </a:lnTo>
                  <a:lnTo>
                    <a:pt x="738" y="1523"/>
                  </a:lnTo>
                  <a:lnTo>
                    <a:pt x="754" y="1513"/>
                  </a:lnTo>
                  <a:lnTo>
                    <a:pt x="769" y="1502"/>
                  </a:lnTo>
                  <a:lnTo>
                    <a:pt x="784" y="1493"/>
                  </a:lnTo>
                  <a:lnTo>
                    <a:pt x="812" y="1478"/>
                  </a:lnTo>
                  <a:lnTo>
                    <a:pt x="836" y="1468"/>
                  </a:lnTo>
                  <a:lnTo>
                    <a:pt x="906" y="1454"/>
                  </a:lnTo>
                  <a:lnTo>
                    <a:pt x="970" y="1446"/>
                  </a:lnTo>
                  <a:lnTo>
                    <a:pt x="1090" y="1432"/>
                  </a:lnTo>
                  <a:lnTo>
                    <a:pt x="1144" y="1416"/>
                  </a:lnTo>
                  <a:lnTo>
                    <a:pt x="1195" y="1387"/>
                  </a:lnTo>
                  <a:lnTo>
                    <a:pt x="1219" y="1367"/>
                  </a:lnTo>
                  <a:lnTo>
                    <a:pt x="1242" y="1342"/>
                  </a:lnTo>
                  <a:lnTo>
                    <a:pt x="1264" y="1311"/>
                  </a:lnTo>
                  <a:lnTo>
                    <a:pt x="1285" y="1276"/>
                  </a:lnTo>
                  <a:lnTo>
                    <a:pt x="1298" y="1251"/>
                  </a:lnTo>
                  <a:lnTo>
                    <a:pt x="1308" y="1229"/>
                  </a:lnTo>
                  <a:lnTo>
                    <a:pt x="1323" y="1189"/>
                  </a:lnTo>
                  <a:lnTo>
                    <a:pt x="1334" y="1130"/>
                  </a:lnTo>
                  <a:lnTo>
                    <a:pt x="1329" y="1110"/>
                  </a:lnTo>
                  <a:lnTo>
                    <a:pt x="1320" y="1094"/>
                  </a:lnTo>
                  <a:lnTo>
                    <a:pt x="1306" y="1083"/>
                  </a:lnTo>
                  <a:lnTo>
                    <a:pt x="1287" y="1075"/>
                  </a:lnTo>
                  <a:lnTo>
                    <a:pt x="1238" y="1070"/>
                  </a:lnTo>
                  <a:lnTo>
                    <a:pt x="1178" y="1073"/>
                  </a:lnTo>
                  <a:lnTo>
                    <a:pt x="1110" y="1083"/>
                  </a:lnTo>
                  <a:lnTo>
                    <a:pt x="1038" y="1091"/>
                  </a:lnTo>
                  <a:lnTo>
                    <a:pt x="1004" y="1088"/>
                  </a:lnTo>
                  <a:lnTo>
                    <a:pt x="983" y="1070"/>
                  </a:lnTo>
                  <a:lnTo>
                    <a:pt x="982" y="1046"/>
                  </a:lnTo>
                  <a:lnTo>
                    <a:pt x="989" y="1032"/>
                  </a:lnTo>
                  <a:lnTo>
                    <a:pt x="1001" y="1019"/>
                  </a:lnTo>
                  <a:lnTo>
                    <a:pt x="1019" y="1006"/>
                  </a:lnTo>
                  <a:lnTo>
                    <a:pt x="1042" y="993"/>
                  </a:lnTo>
                  <a:lnTo>
                    <a:pt x="1069" y="979"/>
                  </a:lnTo>
                  <a:lnTo>
                    <a:pt x="1102" y="965"/>
                  </a:lnTo>
                  <a:lnTo>
                    <a:pt x="1136" y="951"/>
                  </a:lnTo>
                  <a:lnTo>
                    <a:pt x="1173" y="936"/>
                  </a:lnTo>
                  <a:lnTo>
                    <a:pt x="1210" y="922"/>
                  </a:lnTo>
                  <a:lnTo>
                    <a:pt x="1248" y="908"/>
                  </a:lnTo>
                  <a:lnTo>
                    <a:pt x="1285" y="894"/>
                  </a:lnTo>
                  <a:lnTo>
                    <a:pt x="1321" y="881"/>
                  </a:lnTo>
                  <a:lnTo>
                    <a:pt x="1354" y="868"/>
                  </a:lnTo>
                  <a:lnTo>
                    <a:pt x="1383" y="856"/>
                  </a:lnTo>
                  <a:lnTo>
                    <a:pt x="1427" y="836"/>
                  </a:lnTo>
                  <a:lnTo>
                    <a:pt x="1447" y="822"/>
                  </a:lnTo>
                  <a:lnTo>
                    <a:pt x="1452" y="786"/>
                  </a:lnTo>
                  <a:lnTo>
                    <a:pt x="1447" y="755"/>
                  </a:lnTo>
                  <a:lnTo>
                    <a:pt x="1430" y="731"/>
                  </a:lnTo>
                  <a:lnTo>
                    <a:pt x="1420" y="720"/>
                  </a:lnTo>
                  <a:lnTo>
                    <a:pt x="1408" y="712"/>
                  </a:lnTo>
                  <a:lnTo>
                    <a:pt x="1380" y="696"/>
                  </a:lnTo>
                  <a:lnTo>
                    <a:pt x="1346" y="684"/>
                  </a:lnTo>
                  <a:lnTo>
                    <a:pt x="1312" y="674"/>
                  </a:lnTo>
                  <a:lnTo>
                    <a:pt x="1276" y="667"/>
                  </a:lnTo>
                  <a:lnTo>
                    <a:pt x="1163" y="638"/>
                  </a:lnTo>
                  <a:lnTo>
                    <a:pt x="1149" y="617"/>
                  </a:lnTo>
                  <a:lnTo>
                    <a:pt x="1159" y="601"/>
                  </a:lnTo>
                  <a:lnTo>
                    <a:pt x="1170" y="593"/>
                  </a:lnTo>
                  <a:lnTo>
                    <a:pt x="1184" y="582"/>
                  </a:lnTo>
                  <a:lnTo>
                    <a:pt x="1201" y="571"/>
                  </a:lnTo>
                  <a:lnTo>
                    <a:pt x="1219" y="561"/>
                  </a:lnTo>
                  <a:lnTo>
                    <a:pt x="1256" y="543"/>
                  </a:lnTo>
                  <a:lnTo>
                    <a:pt x="1294" y="529"/>
                  </a:lnTo>
                  <a:lnTo>
                    <a:pt x="1332" y="513"/>
                  </a:lnTo>
                  <a:lnTo>
                    <a:pt x="1369" y="496"/>
                  </a:lnTo>
                  <a:lnTo>
                    <a:pt x="1404" y="476"/>
                  </a:lnTo>
                  <a:lnTo>
                    <a:pt x="1420" y="463"/>
                  </a:lnTo>
                  <a:lnTo>
                    <a:pt x="1435" y="450"/>
                  </a:lnTo>
                  <a:lnTo>
                    <a:pt x="1460" y="418"/>
                  </a:lnTo>
                  <a:lnTo>
                    <a:pt x="1425" y="370"/>
                  </a:lnTo>
                  <a:lnTo>
                    <a:pt x="1368" y="359"/>
                  </a:lnTo>
                  <a:lnTo>
                    <a:pt x="1314" y="361"/>
                  </a:lnTo>
                  <a:lnTo>
                    <a:pt x="1259" y="370"/>
                  </a:lnTo>
                  <a:lnTo>
                    <a:pt x="1202" y="378"/>
                  </a:lnTo>
                  <a:lnTo>
                    <a:pt x="1158" y="376"/>
                  </a:lnTo>
                  <a:lnTo>
                    <a:pt x="1145" y="360"/>
                  </a:lnTo>
                  <a:lnTo>
                    <a:pt x="1149" y="348"/>
                  </a:lnTo>
                  <a:lnTo>
                    <a:pt x="1157" y="332"/>
                  </a:lnTo>
                  <a:lnTo>
                    <a:pt x="1169" y="314"/>
                  </a:lnTo>
                  <a:lnTo>
                    <a:pt x="1182" y="294"/>
                  </a:lnTo>
                  <a:lnTo>
                    <a:pt x="1197" y="273"/>
                  </a:lnTo>
                  <a:lnTo>
                    <a:pt x="1214" y="251"/>
                  </a:lnTo>
                  <a:lnTo>
                    <a:pt x="1229" y="226"/>
                  </a:lnTo>
                  <a:lnTo>
                    <a:pt x="1242" y="202"/>
                  </a:lnTo>
                  <a:lnTo>
                    <a:pt x="1260" y="154"/>
                  </a:lnTo>
                  <a:lnTo>
                    <a:pt x="1257" y="106"/>
                  </a:lnTo>
                  <a:lnTo>
                    <a:pt x="1195" y="107"/>
                  </a:lnTo>
                  <a:lnTo>
                    <a:pt x="1160" y="125"/>
                  </a:lnTo>
                  <a:lnTo>
                    <a:pt x="1142" y="141"/>
                  </a:lnTo>
                  <a:lnTo>
                    <a:pt x="1124" y="161"/>
                  </a:lnTo>
                  <a:lnTo>
                    <a:pt x="1105" y="183"/>
                  </a:lnTo>
                  <a:lnTo>
                    <a:pt x="1087" y="207"/>
                  </a:lnTo>
                  <a:lnTo>
                    <a:pt x="1069" y="233"/>
                  </a:lnTo>
                  <a:lnTo>
                    <a:pt x="1052" y="259"/>
                  </a:lnTo>
                  <a:lnTo>
                    <a:pt x="1037" y="285"/>
                  </a:lnTo>
                  <a:lnTo>
                    <a:pt x="1022" y="310"/>
                  </a:lnTo>
                  <a:lnTo>
                    <a:pt x="1008" y="333"/>
                  </a:lnTo>
                  <a:lnTo>
                    <a:pt x="998" y="354"/>
                  </a:lnTo>
                  <a:lnTo>
                    <a:pt x="982" y="385"/>
                  </a:lnTo>
                  <a:lnTo>
                    <a:pt x="976" y="397"/>
                  </a:lnTo>
                  <a:lnTo>
                    <a:pt x="939" y="380"/>
                  </a:lnTo>
                  <a:lnTo>
                    <a:pt x="924" y="368"/>
                  </a:lnTo>
                  <a:lnTo>
                    <a:pt x="910" y="353"/>
                  </a:lnTo>
                  <a:lnTo>
                    <a:pt x="895" y="337"/>
                  </a:lnTo>
                  <a:lnTo>
                    <a:pt x="879" y="322"/>
                  </a:lnTo>
                  <a:lnTo>
                    <a:pt x="859" y="309"/>
                  </a:lnTo>
                  <a:lnTo>
                    <a:pt x="836" y="297"/>
                  </a:lnTo>
                  <a:lnTo>
                    <a:pt x="811" y="320"/>
                  </a:lnTo>
                  <a:lnTo>
                    <a:pt x="790" y="351"/>
                  </a:lnTo>
                  <a:lnTo>
                    <a:pt x="762" y="435"/>
                  </a:lnTo>
                  <a:lnTo>
                    <a:pt x="749" y="541"/>
                  </a:lnTo>
                  <a:lnTo>
                    <a:pt x="745" y="664"/>
                  </a:lnTo>
                  <a:lnTo>
                    <a:pt x="707" y="705"/>
                  </a:lnTo>
                  <a:lnTo>
                    <a:pt x="670" y="705"/>
                  </a:lnTo>
                  <a:lnTo>
                    <a:pt x="640" y="692"/>
                  </a:lnTo>
                  <a:lnTo>
                    <a:pt x="614" y="672"/>
                  </a:lnTo>
                  <a:lnTo>
                    <a:pt x="591" y="648"/>
                  </a:lnTo>
                  <a:lnTo>
                    <a:pt x="568" y="620"/>
                  </a:lnTo>
                  <a:lnTo>
                    <a:pt x="555" y="608"/>
                  </a:lnTo>
                  <a:lnTo>
                    <a:pt x="543" y="595"/>
                  </a:lnTo>
                  <a:lnTo>
                    <a:pt x="529" y="585"/>
                  </a:lnTo>
                  <a:lnTo>
                    <a:pt x="516" y="575"/>
                  </a:lnTo>
                  <a:lnTo>
                    <a:pt x="484" y="562"/>
                  </a:lnTo>
                  <a:lnTo>
                    <a:pt x="457" y="561"/>
                  </a:lnTo>
                  <a:lnTo>
                    <a:pt x="435" y="571"/>
                  </a:lnTo>
                  <a:lnTo>
                    <a:pt x="411" y="614"/>
                  </a:lnTo>
                  <a:lnTo>
                    <a:pt x="404" y="683"/>
                  </a:lnTo>
                  <a:lnTo>
                    <a:pt x="408" y="767"/>
                  </a:lnTo>
                  <a:lnTo>
                    <a:pt x="418" y="858"/>
                  </a:lnTo>
                  <a:lnTo>
                    <a:pt x="426" y="946"/>
                  </a:lnTo>
                  <a:lnTo>
                    <a:pt x="424" y="1021"/>
                  </a:lnTo>
                  <a:lnTo>
                    <a:pt x="419" y="1049"/>
                  </a:lnTo>
                  <a:lnTo>
                    <a:pt x="408" y="1072"/>
                  </a:lnTo>
                  <a:lnTo>
                    <a:pt x="401" y="1081"/>
                  </a:lnTo>
                  <a:lnTo>
                    <a:pt x="392" y="1086"/>
                  </a:lnTo>
                  <a:lnTo>
                    <a:pt x="373" y="1091"/>
                  </a:lnTo>
                  <a:lnTo>
                    <a:pt x="323" y="1082"/>
                  </a:lnTo>
                  <a:lnTo>
                    <a:pt x="295" y="1070"/>
                  </a:lnTo>
                  <a:lnTo>
                    <a:pt x="265" y="1057"/>
                  </a:lnTo>
                  <a:lnTo>
                    <a:pt x="235" y="1041"/>
                  </a:lnTo>
                  <a:lnTo>
                    <a:pt x="206" y="1027"/>
                  </a:lnTo>
                  <a:lnTo>
                    <a:pt x="178" y="1014"/>
                  </a:lnTo>
                  <a:lnTo>
                    <a:pt x="151" y="1007"/>
                  </a:lnTo>
                  <a:lnTo>
                    <a:pt x="106" y="1009"/>
                  </a:lnTo>
                  <a:lnTo>
                    <a:pt x="90" y="1023"/>
                  </a:lnTo>
                  <a:lnTo>
                    <a:pt x="78" y="1047"/>
                  </a:lnTo>
                  <a:lnTo>
                    <a:pt x="73" y="1132"/>
                  </a:lnTo>
                  <a:lnTo>
                    <a:pt x="77" y="1168"/>
                  </a:lnTo>
                  <a:lnTo>
                    <a:pt x="89" y="1199"/>
                  </a:lnTo>
                  <a:lnTo>
                    <a:pt x="104" y="1224"/>
                  </a:lnTo>
                  <a:lnTo>
                    <a:pt x="121" y="1245"/>
                  </a:lnTo>
                  <a:lnTo>
                    <a:pt x="131" y="1255"/>
                  </a:lnTo>
                  <a:lnTo>
                    <a:pt x="143" y="1263"/>
                  </a:lnTo>
                  <a:lnTo>
                    <a:pt x="165" y="1279"/>
                  </a:lnTo>
                  <a:lnTo>
                    <a:pt x="189" y="1294"/>
                  </a:lnTo>
                  <a:lnTo>
                    <a:pt x="212" y="1307"/>
                  </a:lnTo>
                  <a:lnTo>
                    <a:pt x="235" y="1321"/>
                  </a:lnTo>
                  <a:lnTo>
                    <a:pt x="256" y="1337"/>
                  </a:lnTo>
                  <a:lnTo>
                    <a:pt x="290" y="1375"/>
                  </a:lnTo>
                  <a:lnTo>
                    <a:pt x="307" y="1427"/>
                  </a:lnTo>
                  <a:lnTo>
                    <a:pt x="307" y="1444"/>
                  </a:lnTo>
                  <a:lnTo>
                    <a:pt x="307" y="1462"/>
                  </a:lnTo>
                  <a:lnTo>
                    <a:pt x="300" y="1503"/>
                  </a:lnTo>
                  <a:lnTo>
                    <a:pt x="318" y="1485"/>
                  </a:lnTo>
                  <a:lnTo>
                    <a:pt x="339" y="1467"/>
                  </a:lnTo>
                  <a:lnTo>
                    <a:pt x="359" y="1448"/>
                  </a:lnTo>
                  <a:lnTo>
                    <a:pt x="381" y="1428"/>
                  </a:lnTo>
                  <a:lnTo>
                    <a:pt x="391" y="1419"/>
                  </a:lnTo>
                  <a:lnTo>
                    <a:pt x="403" y="1408"/>
                  </a:lnTo>
                  <a:lnTo>
                    <a:pt x="413" y="1398"/>
                  </a:lnTo>
                  <a:lnTo>
                    <a:pt x="424" y="1387"/>
                  </a:lnTo>
                  <a:lnTo>
                    <a:pt x="436" y="1377"/>
                  </a:lnTo>
                  <a:lnTo>
                    <a:pt x="448" y="1365"/>
                  </a:lnTo>
                  <a:lnTo>
                    <a:pt x="459" y="1354"/>
                  </a:lnTo>
                  <a:lnTo>
                    <a:pt x="471" y="1342"/>
                  </a:lnTo>
                  <a:lnTo>
                    <a:pt x="482" y="1331"/>
                  </a:lnTo>
                  <a:lnTo>
                    <a:pt x="493" y="1321"/>
                  </a:lnTo>
                  <a:lnTo>
                    <a:pt x="511" y="1301"/>
                  </a:lnTo>
                  <a:lnTo>
                    <a:pt x="527" y="1282"/>
                  </a:lnTo>
                  <a:lnTo>
                    <a:pt x="541" y="1264"/>
                  </a:lnTo>
                  <a:lnTo>
                    <a:pt x="553" y="1247"/>
                  </a:lnTo>
                  <a:lnTo>
                    <a:pt x="563" y="1231"/>
                  </a:lnTo>
                  <a:lnTo>
                    <a:pt x="580" y="1198"/>
                  </a:lnTo>
                  <a:lnTo>
                    <a:pt x="604" y="1126"/>
                  </a:lnTo>
                  <a:lnTo>
                    <a:pt x="615" y="1082"/>
                  </a:lnTo>
                  <a:lnTo>
                    <a:pt x="626" y="1029"/>
                  </a:lnTo>
                  <a:lnTo>
                    <a:pt x="640" y="981"/>
                  </a:lnTo>
                  <a:lnTo>
                    <a:pt x="648" y="957"/>
                  </a:lnTo>
                  <a:lnTo>
                    <a:pt x="658" y="935"/>
                  </a:lnTo>
                  <a:lnTo>
                    <a:pt x="667" y="913"/>
                  </a:lnTo>
                  <a:lnTo>
                    <a:pt x="677" y="891"/>
                  </a:lnTo>
                  <a:lnTo>
                    <a:pt x="689" y="870"/>
                  </a:lnTo>
                  <a:lnTo>
                    <a:pt x="700" y="850"/>
                  </a:lnTo>
                  <a:lnTo>
                    <a:pt x="714" y="830"/>
                  </a:lnTo>
                  <a:lnTo>
                    <a:pt x="727" y="810"/>
                  </a:lnTo>
                  <a:lnTo>
                    <a:pt x="741" y="791"/>
                  </a:lnTo>
                  <a:lnTo>
                    <a:pt x="756" y="772"/>
                  </a:lnTo>
                  <a:lnTo>
                    <a:pt x="771" y="754"/>
                  </a:lnTo>
                  <a:lnTo>
                    <a:pt x="786" y="736"/>
                  </a:lnTo>
                  <a:lnTo>
                    <a:pt x="802" y="718"/>
                  </a:lnTo>
                  <a:lnTo>
                    <a:pt x="818" y="700"/>
                  </a:lnTo>
                  <a:lnTo>
                    <a:pt x="835" y="684"/>
                  </a:lnTo>
                  <a:lnTo>
                    <a:pt x="852" y="667"/>
                  </a:lnTo>
                  <a:lnTo>
                    <a:pt x="870" y="650"/>
                  </a:lnTo>
                  <a:lnTo>
                    <a:pt x="887" y="633"/>
                  </a:lnTo>
                  <a:lnTo>
                    <a:pt x="906" y="616"/>
                  </a:lnTo>
                  <a:lnTo>
                    <a:pt x="924" y="599"/>
                  </a:lnTo>
                  <a:lnTo>
                    <a:pt x="942" y="584"/>
                  </a:lnTo>
                  <a:lnTo>
                    <a:pt x="961" y="567"/>
                  </a:lnTo>
                  <a:lnTo>
                    <a:pt x="979" y="551"/>
                  </a:lnTo>
                  <a:lnTo>
                    <a:pt x="998" y="535"/>
                  </a:lnTo>
                  <a:lnTo>
                    <a:pt x="1016" y="518"/>
                  </a:lnTo>
                  <a:lnTo>
                    <a:pt x="1036" y="502"/>
                  </a:lnTo>
                  <a:lnTo>
                    <a:pt x="1054" y="486"/>
                  </a:lnTo>
                  <a:lnTo>
                    <a:pt x="1073" y="469"/>
                  </a:lnTo>
                  <a:lnTo>
                    <a:pt x="1092" y="453"/>
                  </a:lnTo>
                  <a:lnTo>
                    <a:pt x="1111" y="436"/>
                  </a:lnTo>
                  <a:lnTo>
                    <a:pt x="1133" y="456"/>
                  </a:lnTo>
                  <a:lnTo>
                    <a:pt x="1120" y="467"/>
                  </a:lnTo>
                  <a:lnTo>
                    <a:pt x="1109" y="477"/>
                  </a:lnTo>
                  <a:lnTo>
                    <a:pt x="1098" y="488"/>
                  </a:lnTo>
                  <a:lnTo>
                    <a:pt x="1087" y="498"/>
                  </a:lnTo>
                  <a:lnTo>
                    <a:pt x="1076" y="509"/>
                  </a:lnTo>
                  <a:lnTo>
                    <a:pt x="1065" y="519"/>
                  </a:lnTo>
                  <a:lnTo>
                    <a:pt x="1054" y="530"/>
                  </a:lnTo>
                  <a:lnTo>
                    <a:pt x="1045" y="540"/>
                  </a:lnTo>
                  <a:lnTo>
                    <a:pt x="1026" y="560"/>
                  </a:lnTo>
                  <a:lnTo>
                    <a:pt x="1007" y="580"/>
                  </a:lnTo>
                  <a:lnTo>
                    <a:pt x="989" y="600"/>
                  </a:lnTo>
                  <a:lnTo>
                    <a:pt x="972" y="619"/>
                  </a:lnTo>
                  <a:lnTo>
                    <a:pt x="956" y="638"/>
                  </a:lnTo>
                  <a:lnTo>
                    <a:pt x="941" y="657"/>
                  </a:lnTo>
                  <a:lnTo>
                    <a:pt x="926" y="675"/>
                  </a:lnTo>
                  <a:lnTo>
                    <a:pt x="912" y="693"/>
                  </a:lnTo>
                  <a:lnTo>
                    <a:pt x="900" y="711"/>
                  </a:lnTo>
                  <a:lnTo>
                    <a:pt x="887" y="729"/>
                  </a:lnTo>
                  <a:lnTo>
                    <a:pt x="876" y="746"/>
                  </a:lnTo>
                  <a:lnTo>
                    <a:pt x="864" y="763"/>
                  </a:lnTo>
                  <a:lnTo>
                    <a:pt x="844" y="796"/>
                  </a:lnTo>
                  <a:lnTo>
                    <a:pt x="826" y="829"/>
                  </a:lnTo>
                  <a:lnTo>
                    <a:pt x="810" y="861"/>
                  </a:lnTo>
                  <a:lnTo>
                    <a:pt x="795" y="891"/>
                  </a:lnTo>
                  <a:lnTo>
                    <a:pt x="782" y="921"/>
                  </a:lnTo>
                  <a:lnTo>
                    <a:pt x="771" y="949"/>
                  </a:lnTo>
                  <a:lnTo>
                    <a:pt x="760" y="978"/>
                  </a:lnTo>
                  <a:lnTo>
                    <a:pt x="751" y="1005"/>
                  </a:lnTo>
                  <a:lnTo>
                    <a:pt x="734" y="1059"/>
                  </a:lnTo>
                  <a:lnTo>
                    <a:pt x="719" y="1110"/>
                  </a:lnTo>
                  <a:lnTo>
                    <a:pt x="709" y="1136"/>
                  </a:lnTo>
                  <a:lnTo>
                    <a:pt x="701" y="1161"/>
                  </a:lnTo>
                  <a:lnTo>
                    <a:pt x="692" y="1186"/>
                  </a:lnTo>
                  <a:lnTo>
                    <a:pt x="682" y="1210"/>
                  </a:lnTo>
                  <a:lnTo>
                    <a:pt x="671" y="1235"/>
                  </a:lnTo>
                  <a:lnTo>
                    <a:pt x="659" y="1259"/>
                  </a:lnTo>
                  <a:lnTo>
                    <a:pt x="645" y="1283"/>
                  </a:lnTo>
                  <a:lnTo>
                    <a:pt x="630" y="1308"/>
                  </a:lnTo>
                  <a:lnTo>
                    <a:pt x="613" y="1333"/>
                  </a:lnTo>
                  <a:lnTo>
                    <a:pt x="593" y="1357"/>
                  </a:lnTo>
                  <a:lnTo>
                    <a:pt x="571" y="1381"/>
                  </a:lnTo>
                  <a:lnTo>
                    <a:pt x="558" y="1394"/>
                  </a:lnTo>
                  <a:lnTo>
                    <a:pt x="547" y="1406"/>
                  </a:lnTo>
                  <a:lnTo>
                    <a:pt x="528" y="1423"/>
                  </a:lnTo>
                  <a:lnTo>
                    <a:pt x="510" y="1440"/>
                  </a:lnTo>
                  <a:lnTo>
                    <a:pt x="491" y="1457"/>
                  </a:lnTo>
                  <a:lnTo>
                    <a:pt x="473" y="1473"/>
                  </a:lnTo>
                  <a:lnTo>
                    <a:pt x="454" y="1487"/>
                  </a:lnTo>
                  <a:lnTo>
                    <a:pt x="435" y="1502"/>
                  </a:lnTo>
                  <a:lnTo>
                    <a:pt x="416" y="1517"/>
                  </a:lnTo>
                  <a:lnTo>
                    <a:pt x="398" y="1532"/>
                  </a:lnTo>
                  <a:lnTo>
                    <a:pt x="379" y="1546"/>
                  </a:lnTo>
                  <a:lnTo>
                    <a:pt x="362" y="1561"/>
                  </a:lnTo>
                  <a:lnTo>
                    <a:pt x="344" y="1576"/>
                  </a:lnTo>
                  <a:lnTo>
                    <a:pt x="326" y="1591"/>
                  </a:lnTo>
                  <a:lnTo>
                    <a:pt x="309" y="1604"/>
                  </a:lnTo>
                  <a:lnTo>
                    <a:pt x="292" y="1619"/>
                  </a:lnTo>
                  <a:lnTo>
                    <a:pt x="276" y="1635"/>
                  </a:lnTo>
                  <a:lnTo>
                    <a:pt x="260" y="1650"/>
                  </a:lnTo>
                  <a:lnTo>
                    <a:pt x="245" y="1665"/>
                  </a:lnTo>
                  <a:lnTo>
                    <a:pt x="230" y="1681"/>
                  </a:lnTo>
                  <a:lnTo>
                    <a:pt x="216" y="1698"/>
                  </a:lnTo>
                  <a:lnTo>
                    <a:pt x="202" y="1715"/>
                  </a:lnTo>
                  <a:lnTo>
                    <a:pt x="189" y="1732"/>
                  </a:lnTo>
                  <a:lnTo>
                    <a:pt x="178" y="1751"/>
                  </a:lnTo>
                  <a:lnTo>
                    <a:pt x="157" y="1789"/>
                  </a:lnTo>
                  <a:lnTo>
                    <a:pt x="141" y="1831"/>
                  </a:lnTo>
                  <a:lnTo>
                    <a:pt x="128" y="1876"/>
                  </a:lnTo>
                  <a:lnTo>
                    <a:pt x="118" y="1979"/>
                  </a:lnTo>
                  <a:lnTo>
                    <a:pt x="86" y="1979"/>
                  </a:lnTo>
                  <a:lnTo>
                    <a:pt x="95" y="1855"/>
                  </a:lnTo>
                  <a:lnTo>
                    <a:pt x="104" y="1802"/>
                  </a:lnTo>
                  <a:lnTo>
                    <a:pt x="118" y="1754"/>
                  </a:lnTo>
                  <a:lnTo>
                    <a:pt x="126" y="1732"/>
                  </a:lnTo>
                  <a:lnTo>
                    <a:pt x="135" y="1711"/>
                  </a:lnTo>
                  <a:lnTo>
                    <a:pt x="144" y="1691"/>
                  </a:lnTo>
                  <a:lnTo>
                    <a:pt x="156" y="1672"/>
                  </a:lnTo>
                  <a:lnTo>
                    <a:pt x="167" y="1653"/>
                  </a:lnTo>
                  <a:lnTo>
                    <a:pt x="180" y="1634"/>
                  </a:lnTo>
                  <a:lnTo>
                    <a:pt x="193" y="1617"/>
                  </a:lnTo>
                  <a:lnTo>
                    <a:pt x="206" y="1599"/>
                  </a:lnTo>
                  <a:lnTo>
                    <a:pt x="206" y="1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378200">
              <a:off x="132840" y="1687320"/>
              <a:ext cx="537480" cy="622440"/>
            </a:xfrm>
            <a:custGeom>
              <a:avLst/>
              <a:gdLst/>
              <a:ahLst/>
              <a:rect l="l" t="t" r="r" b="b"/>
              <a:pathLst>
                <a:path w="1354" h="2058">
                  <a:moveTo>
                    <a:pt x="598" y="4"/>
                  </a:moveTo>
                  <a:lnTo>
                    <a:pt x="594" y="111"/>
                  </a:lnTo>
                  <a:lnTo>
                    <a:pt x="599" y="166"/>
                  </a:lnTo>
                  <a:lnTo>
                    <a:pt x="607" y="221"/>
                  </a:lnTo>
                  <a:lnTo>
                    <a:pt x="618" y="275"/>
                  </a:lnTo>
                  <a:lnTo>
                    <a:pt x="633" y="331"/>
                  </a:lnTo>
                  <a:lnTo>
                    <a:pt x="641" y="359"/>
                  </a:lnTo>
                  <a:lnTo>
                    <a:pt x="651" y="386"/>
                  </a:lnTo>
                  <a:lnTo>
                    <a:pt x="661" y="413"/>
                  </a:lnTo>
                  <a:lnTo>
                    <a:pt x="671" y="440"/>
                  </a:lnTo>
                  <a:lnTo>
                    <a:pt x="683" y="467"/>
                  </a:lnTo>
                  <a:lnTo>
                    <a:pt x="694" y="493"/>
                  </a:lnTo>
                  <a:lnTo>
                    <a:pt x="707" y="520"/>
                  </a:lnTo>
                  <a:lnTo>
                    <a:pt x="720" y="546"/>
                  </a:lnTo>
                  <a:lnTo>
                    <a:pt x="734" y="572"/>
                  </a:lnTo>
                  <a:lnTo>
                    <a:pt x="748" y="598"/>
                  </a:lnTo>
                  <a:lnTo>
                    <a:pt x="763" y="623"/>
                  </a:lnTo>
                  <a:lnTo>
                    <a:pt x="778" y="647"/>
                  </a:lnTo>
                  <a:lnTo>
                    <a:pt x="794" y="673"/>
                  </a:lnTo>
                  <a:lnTo>
                    <a:pt x="810" y="696"/>
                  </a:lnTo>
                  <a:lnTo>
                    <a:pt x="826" y="720"/>
                  </a:lnTo>
                  <a:lnTo>
                    <a:pt x="843" y="743"/>
                  </a:lnTo>
                  <a:lnTo>
                    <a:pt x="861" y="765"/>
                  </a:lnTo>
                  <a:lnTo>
                    <a:pt x="878" y="787"/>
                  </a:lnTo>
                  <a:lnTo>
                    <a:pt x="896" y="808"/>
                  </a:lnTo>
                  <a:lnTo>
                    <a:pt x="915" y="830"/>
                  </a:lnTo>
                  <a:lnTo>
                    <a:pt x="926" y="813"/>
                  </a:lnTo>
                  <a:lnTo>
                    <a:pt x="939" y="798"/>
                  </a:lnTo>
                  <a:lnTo>
                    <a:pt x="953" y="782"/>
                  </a:lnTo>
                  <a:lnTo>
                    <a:pt x="968" y="768"/>
                  </a:lnTo>
                  <a:lnTo>
                    <a:pt x="982" y="754"/>
                  </a:lnTo>
                  <a:lnTo>
                    <a:pt x="998" y="741"/>
                  </a:lnTo>
                  <a:lnTo>
                    <a:pt x="1014" y="727"/>
                  </a:lnTo>
                  <a:lnTo>
                    <a:pt x="1030" y="715"/>
                  </a:lnTo>
                  <a:lnTo>
                    <a:pt x="1046" y="703"/>
                  </a:lnTo>
                  <a:lnTo>
                    <a:pt x="1064" y="692"/>
                  </a:lnTo>
                  <a:lnTo>
                    <a:pt x="1081" y="680"/>
                  </a:lnTo>
                  <a:lnTo>
                    <a:pt x="1099" y="669"/>
                  </a:lnTo>
                  <a:lnTo>
                    <a:pt x="1118" y="659"/>
                  </a:lnTo>
                  <a:lnTo>
                    <a:pt x="1135" y="648"/>
                  </a:lnTo>
                  <a:lnTo>
                    <a:pt x="1154" y="639"/>
                  </a:lnTo>
                  <a:lnTo>
                    <a:pt x="1173" y="629"/>
                  </a:lnTo>
                  <a:lnTo>
                    <a:pt x="1234" y="658"/>
                  </a:lnTo>
                  <a:lnTo>
                    <a:pt x="1201" y="669"/>
                  </a:lnTo>
                  <a:lnTo>
                    <a:pt x="1169" y="684"/>
                  </a:lnTo>
                  <a:lnTo>
                    <a:pt x="1139" y="701"/>
                  </a:lnTo>
                  <a:lnTo>
                    <a:pt x="1110" y="721"/>
                  </a:lnTo>
                  <a:lnTo>
                    <a:pt x="1096" y="732"/>
                  </a:lnTo>
                  <a:lnTo>
                    <a:pt x="1082" y="742"/>
                  </a:lnTo>
                  <a:lnTo>
                    <a:pt x="1069" y="754"/>
                  </a:lnTo>
                  <a:lnTo>
                    <a:pt x="1057" y="766"/>
                  </a:lnTo>
                  <a:lnTo>
                    <a:pt x="1034" y="792"/>
                  </a:lnTo>
                  <a:lnTo>
                    <a:pt x="1012" y="818"/>
                  </a:lnTo>
                  <a:lnTo>
                    <a:pt x="993" y="846"/>
                  </a:lnTo>
                  <a:lnTo>
                    <a:pt x="976" y="877"/>
                  </a:lnTo>
                  <a:lnTo>
                    <a:pt x="961" y="908"/>
                  </a:lnTo>
                  <a:lnTo>
                    <a:pt x="949" y="938"/>
                  </a:lnTo>
                  <a:lnTo>
                    <a:pt x="932" y="1002"/>
                  </a:lnTo>
                  <a:lnTo>
                    <a:pt x="926" y="1068"/>
                  </a:lnTo>
                  <a:lnTo>
                    <a:pt x="932" y="1123"/>
                  </a:lnTo>
                  <a:lnTo>
                    <a:pt x="938" y="1150"/>
                  </a:lnTo>
                  <a:lnTo>
                    <a:pt x="947" y="1176"/>
                  </a:lnTo>
                  <a:lnTo>
                    <a:pt x="957" y="1202"/>
                  </a:lnTo>
                  <a:lnTo>
                    <a:pt x="970" y="1228"/>
                  </a:lnTo>
                  <a:lnTo>
                    <a:pt x="984" y="1253"/>
                  </a:lnTo>
                  <a:lnTo>
                    <a:pt x="1000" y="1278"/>
                  </a:lnTo>
                  <a:lnTo>
                    <a:pt x="1016" y="1304"/>
                  </a:lnTo>
                  <a:lnTo>
                    <a:pt x="1035" y="1329"/>
                  </a:lnTo>
                  <a:lnTo>
                    <a:pt x="1054" y="1353"/>
                  </a:lnTo>
                  <a:lnTo>
                    <a:pt x="1074" y="1378"/>
                  </a:lnTo>
                  <a:lnTo>
                    <a:pt x="1094" y="1404"/>
                  </a:lnTo>
                  <a:lnTo>
                    <a:pt x="1116" y="1430"/>
                  </a:lnTo>
                  <a:lnTo>
                    <a:pt x="1136" y="1455"/>
                  </a:lnTo>
                  <a:lnTo>
                    <a:pt x="1157" y="1482"/>
                  </a:lnTo>
                  <a:lnTo>
                    <a:pt x="1178" y="1509"/>
                  </a:lnTo>
                  <a:lnTo>
                    <a:pt x="1199" y="1535"/>
                  </a:lnTo>
                  <a:lnTo>
                    <a:pt x="1218" y="1564"/>
                  </a:lnTo>
                  <a:lnTo>
                    <a:pt x="1238" y="1592"/>
                  </a:lnTo>
                  <a:lnTo>
                    <a:pt x="1247" y="1607"/>
                  </a:lnTo>
                  <a:lnTo>
                    <a:pt x="1256" y="1622"/>
                  </a:lnTo>
                  <a:lnTo>
                    <a:pt x="1275" y="1651"/>
                  </a:lnTo>
                  <a:lnTo>
                    <a:pt x="1291" y="1683"/>
                  </a:lnTo>
                  <a:lnTo>
                    <a:pt x="1306" y="1714"/>
                  </a:lnTo>
                  <a:lnTo>
                    <a:pt x="1319" y="1748"/>
                  </a:lnTo>
                  <a:lnTo>
                    <a:pt x="1330" y="1782"/>
                  </a:lnTo>
                  <a:lnTo>
                    <a:pt x="1347" y="1855"/>
                  </a:lnTo>
                  <a:lnTo>
                    <a:pt x="1354" y="1932"/>
                  </a:lnTo>
                  <a:lnTo>
                    <a:pt x="1351" y="2015"/>
                  </a:lnTo>
                  <a:lnTo>
                    <a:pt x="1347" y="2036"/>
                  </a:lnTo>
                  <a:lnTo>
                    <a:pt x="1340" y="2050"/>
                  </a:lnTo>
                  <a:lnTo>
                    <a:pt x="1331" y="2057"/>
                  </a:lnTo>
                  <a:lnTo>
                    <a:pt x="1321" y="2058"/>
                  </a:lnTo>
                  <a:lnTo>
                    <a:pt x="1294" y="2044"/>
                  </a:lnTo>
                  <a:lnTo>
                    <a:pt x="1280" y="2032"/>
                  </a:lnTo>
                  <a:lnTo>
                    <a:pt x="1267" y="2016"/>
                  </a:lnTo>
                  <a:lnTo>
                    <a:pt x="1252" y="1998"/>
                  </a:lnTo>
                  <a:lnTo>
                    <a:pt x="1238" y="1979"/>
                  </a:lnTo>
                  <a:lnTo>
                    <a:pt x="1225" y="1959"/>
                  </a:lnTo>
                  <a:lnTo>
                    <a:pt x="1214" y="1940"/>
                  </a:lnTo>
                  <a:lnTo>
                    <a:pt x="1195" y="1904"/>
                  </a:lnTo>
                  <a:lnTo>
                    <a:pt x="1186" y="1879"/>
                  </a:lnTo>
                  <a:lnTo>
                    <a:pt x="1175" y="1838"/>
                  </a:lnTo>
                  <a:lnTo>
                    <a:pt x="1163" y="1799"/>
                  </a:lnTo>
                  <a:lnTo>
                    <a:pt x="1149" y="1759"/>
                  </a:lnTo>
                  <a:lnTo>
                    <a:pt x="1132" y="1721"/>
                  </a:lnTo>
                  <a:lnTo>
                    <a:pt x="1122" y="1701"/>
                  </a:lnTo>
                  <a:lnTo>
                    <a:pt x="1113" y="1682"/>
                  </a:lnTo>
                  <a:lnTo>
                    <a:pt x="1103" y="1663"/>
                  </a:lnTo>
                  <a:lnTo>
                    <a:pt x="1092" y="1644"/>
                  </a:lnTo>
                  <a:lnTo>
                    <a:pt x="1082" y="1625"/>
                  </a:lnTo>
                  <a:lnTo>
                    <a:pt x="1072" y="1606"/>
                  </a:lnTo>
                  <a:lnTo>
                    <a:pt x="1061" y="1587"/>
                  </a:lnTo>
                  <a:lnTo>
                    <a:pt x="1050" y="1568"/>
                  </a:lnTo>
                  <a:lnTo>
                    <a:pt x="1039" y="1549"/>
                  </a:lnTo>
                  <a:lnTo>
                    <a:pt x="1028" y="1531"/>
                  </a:lnTo>
                  <a:lnTo>
                    <a:pt x="1016" y="1512"/>
                  </a:lnTo>
                  <a:lnTo>
                    <a:pt x="1005" y="1493"/>
                  </a:lnTo>
                  <a:lnTo>
                    <a:pt x="994" y="1474"/>
                  </a:lnTo>
                  <a:lnTo>
                    <a:pt x="983" y="1455"/>
                  </a:lnTo>
                  <a:lnTo>
                    <a:pt x="972" y="1436"/>
                  </a:lnTo>
                  <a:lnTo>
                    <a:pt x="961" y="1417"/>
                  </a:lnTo>
                  <a:lnTo>
                    <a:pt x="951" y="1398"/>
                  </a:lnTo>
                  <a:lnTo>
                    <a:pt x="940" y="1379"/>
                  </a:lnTo>
                  <a:lnTo>
                    <a:pt x="931" y="1361"/>
                  </a:lnTo>
                  <a:lnTo>
                    <a:pt x="922" y="1342"/>
                  </a:lnTo>
                  <a:lnTo>
                    <a:pt x="903" y="1304"/>
                  </a:lnTo>
                  <a:lnTo>
                    <a:pt x="887" y="1265"/>
                  </a:lnTo>
                  <a:lnTo>
                    <a:pt x="841" y="1267"/>
                  </a:lnTo>
                  <a:lnTo>
                    <a:pt x="784" y="1261"/>
                  </a:lnTo>
                  <a:lnTo>
                    <a:pt x="726" y="1254"/>
                  </a:lnTo>
                  <a:lnTo>
                    <a:pt x="673" y="1253"/>
                  </a:lnTo>
                  <a:lnTo>
                    <a:pt x="329" y="1291"/>
                  </a:lnTo>
                  <a:lnTo>
                    <a:pt x="255" y="1311"/>
                  </a:lnTo>
                  <a:lnTo>
                    <a:pt x="218" y="1324"/>
                  </a:lnTo>
                  <a:lnTo>
                    <a:pt x="181" y="1338"/>
                  </a:lnTo>
                  <a:lnTo>
                    <a:pt x="142" y="1356"/>
                  </a:lnTo>
                  <a:lnTo>
                    <a:pt x="103" y="1377"/>
                  </a:lnTo>
                  <a:lnTo>
                    <a:pt x="82" y="1389"/>
                  </a:lnTo>
                  <a:lnTo>
                    <a:pt x="61" y="1401"/>
                  </a:lnTo>
                  <a:lnTo>
                    <a:pt x="39" y="1414"/>
                  </a:lnTo>
                  <a:lnTo>
                    <a:pt x="17" y="1428"/>
                  </a:lnTo>
                  <a:lnTo>
                    <a:pt x="0" y="1405"/>
                  </a:lnTo>
                  <a:lnTo>
                    <a:pt x="23" y="1390"/>
                  </a:lnTo>
                  <a:lnTo>
                    <a:pt x="46" y="1375"/>
                  </a:lnTo>
                  <a:lnTo>
                    <a:pt x="70" y="1362"/>
                  </a:lnTo>
                  <a:lnTo>
                    <a:pt x="95" y="1348"/>
                  </a:lnTo>
                  <a:lnTo>
                    <a:pt x="119" y="1334"/>
                  </a:lnTo>
                  <a:lnTo>
                    <a:pt x="144" y="1322"/>
                  </a:lnTo>
                  <a:lnTo>
                    <a:pt x="170" y="1309"/>
                  </a:lnTo>
                  <a:lnTo>
                    <a:pt x="195" y="1296"/>
                  </a:lnTo>
                  <a:lnTo>
                    <a:pt x="220" y="1285"/>
                  </a:lnTo>
                  <a:lnTo>
                    <a:pt x="247" y="1273"/>
                  </a:lnTo>
                  <a:lnTo>
                    <a:pt x="273" y="1263"/>
                  </a:lnTo>
                  <a:lnTo>
                    <a:pt x="299" y="1252"/>
                  </a:lnTo>
                  <a:lnTo>
                    <a:pt x="326" y="1241"/>
                  </a:lnTo>
                  <a:lnTo>
                    <a:pt x="353" y="1232"/>
                  </a:lnTo>
                  <a:lnTo>
                    <a:pt x="407" y="1215"/>
                  </a:lnTo>
                  <a:lnTo>
                    <a:pt x="463" y="1200"/>
                  </a:lnTo>
                  <a:lnTo>
                    <a:pt x="518" y="1189"/>
                  </a:lnTo>
                  <a:lnTo>
                    <a:pt x="574" y="1179"/>
                  </a:lnTo>
                  <a:lnTo>
                    <a:pt x="631" y="1173"/>
                  </a:lnTo>
                  <a:lnTo>
                    <a:pt x="745" y="1169"/>
                  </a:lnTo>
                  <a:lnTo>
                    <a:pt x="859" y="1178"/>
                  </a:lnTo>
                  <a:lnTo>
                    <a:pt x="847" y="1110"/>
                  </a:lnTo>
                  <a:lnTo>
                    <a:pt x="843" y="1041"/>
                  </a:lnTo>
                  <a:lnTo>
                    <a:pt x="850" y="972"/>
                  </a:lnTo>
                  <a:lnTo>
                    <a:pt x="859" y="938"/>
                  </a:lnTo>
                  <a:lnTo>
                    <a:pt x="871" y="905"/>
                  </a:lnTo>
                  <a:lnTo>
                    <a:pt x="832" y="882"/>
                  </a:lnTo>
                  <a:lnTo>
                    <a:pt x="813" y="866"/>
                  </a:lnTo>
                  <a:lnTo>
                    <a:pt x="796" y="849"/>
                  </a:lnTo>
                  <a:lnTo>
                    <a:pt x="778" y="827"/>
                  </a:lnTo>
                  <a:lnTo>
                    <a:pt x="761" y="804"/>
                  </a:lnTo>
                  <a:lnTo>
                    <a:pt x="745" y="780"/>
                  </a:lnTo>
                  <a:lnTo>
                    <a:pt x="730" y="753"/>
                  </a:lnTo>
                  <a:lnTo>
                    <a:pt x="715" y="724"/>
                  </a:lnTo>
                  <a:lnTo>
                    <a:pt x="701" y="695"/>
                  </a:lnTo>
                  <a:lnTo>
                    <a:pt x="688" y="663"/>
                  </a:lnTo>
                  <a:lnTo>
                    <a:pt x="675" y="630"/>
                  </a:lnTo>
                  <a:lnTo>
                    <a:pt x="662" y="597"/>
                  </a:lnTo>
                  <a:lnTo>
                    <a:pt x="652" y="563"/>
                  </a:lnTo>
                  <a:lnTo>
                    <a:pt x="640" y="528"/>
                  </a:lnTo>
                  <a:lnTo>
                    <a:pt x="631" y="492"/>
                  </a:lnTo>
                  <a:lnTo>
                    <a:pt x="613" y="421"/>
                  </a:lnTo>
                  <a:lnTo>
                    <a:pt x="598" y="349"/>
                  </a:lnTo>
                  <a:lnTo>
                    <a:pt x="585" y="279"/>
                  </a:lnTo>
                  <a:lnTo>
                    <a:pt x="576" y="212"/>
                  </a:lnTo>
                  <a:lnTo>
                    <a:pt x="565" y="92"/>
                  </a:lnTo>
                  <a:lnTo>
                    <a:pt x="566" y="0"/>
                  </a:lnTo>
                  <a:lnTo>
                    <a:pt x="598" y="4"/>
                  </a:lnTo>
                  <a:lnTo>
                    <a:pt x="59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-16920" y="2423160"/>
            <a:ext cx="743400" cy="1238400"/>
            <a:chOff x="-16920" y="2423160"/>
            <a:chExt cx="743400" cy="1238400"/>
          </a:xfrm>
        </p:grpSpPr>
        <p:sp>
          <p:nvSpPr>
            <p:cNvPr id="212" name=""/>
            <p:cNvSpPr/>
            <p:nvPr/>
          </p:nvSpPr>
          <p:spPr>
            <a:xfrm rot="16378200">
              <a:off x="251280" y="3284640"/>
              <a:ext cx="468360" cy="252000"/>
            </a:xfrm>
            <a:custGeom>
              <a:avLst/>
              <a:gdLst/>
              <a:ahLst/>
              <a:rect l="l" t="t" r="r" b="b"/>
              <a:pathLst>
                <a:path w="1179" h="836">
                  <a:moveTo>
                    <a:pt x="1164" y="440"/>
                  </a:moveTo>
                  <a:lnTo>
                    <a:pt x="981" y="701"/>
                  </a:lnTo>
                  <a:lnTo>
                    <a:pt x="857" y="771"/>
                  </a:lnTo>
                  <a:lnTo>
                    <a:pt x="802" y="705"/>
                  </a:lnTo>
                  <a:lnTo>
                    <a:pt x="790" y="585"/>
                  </a:lnTo>
                  <a:lnTo>
                    <a:pt x="623" y="767"/>
                  </a:lnTo>
                  <a:lnTo>
                    <a:pt x="526" y="776"/>
                  </a:lnTo>
                  <a:lnTo>
                    <a:pt x="464" y="641"/>
                  </a:lnTo>
                  <a:lnTo>
                    <a:pt x="240" y="836"/>
                  </a:lnTo>
                  <a:lnTo>
                    <a:pt x="195" y="780"/>
                  </a:lnTo>
                  <a:lnTo>
                    <a:pt x="236" y="682"/>
                  </a:lnTo>
                  <a:lnTo>
                    <a:pt x="63" y="701"/>
                  </a:lnTo>
                  <a:lnTo>
                    <a:pt x="0" y="618"/>
                  </a:lnTo>
                  <a:lnTo>
                    <a:pt x="36" y="539"/>
                  </a:lnTo>
                  <a:lnTo>
                    <a:pt x="113" y="472"/>
                  </a:lnTo>
                  <a:lnTo>
                    <a:pt x="81" y="398"/>
                  </a:lnTo>
                  <a:lnTo>
                    <a:pt x="148" y="347"/>
                  </a:lnTo>
                  <a:lnTo>
                    <a:pt x="409" y="286"/>
                  </a:lnTo>
                  <a:lnTo>
                    <a:pt x="373" y="201"/>
                  </a:lnTo>
                  <a:lnTo>
                    <a:pt x="464" y="132"/>
                  </a:lnTo>
                  <a:lnTo>
                    <a:pt x="766" y="150"/>
                  </a:lnTo>
                  <a:lnTo>
                    <a:pt x="765" y="30"/>
                  </a:lnTo>
                  <a:lnTo>
                    <a:pt x="869" y="0"/>
                  </a:lnTo>
                  <a:lnTo>
                    <a:pt x="1113" y="140"/>
                  </a:lnTo>
                  <a:lnTo>
                    <a:pt x="1179" y="290"/>
                  </a:lnTo>
                  <a:lnTo>
                    <a:pt x="1164" y="440"/>
                  </a:lnTo>
                  <a:lnTo>
                    <a:pt x="1164" y="440"/>
                  </a:lnTo>
                  <a:lnTo>
                    <a:pt x="1164" y="440"/>
                  </a:lnTo>
                  <a:close/>
                </a:path>
              </a:pathLst>
            </a:custGeom>
            <a:solidFill>
              <a:srgbClr val="3df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378200">
              <a:off x="430560" y="3457800"/>
              <a:ext cx="133560" cy="68040"/>
            </a:xfrm>
            <a:custGeom>
              <a:avLst/>
              <a:gdLst/>
              <a:ahLst/>
              <a:rect l="l" t="t" r="r" b="b"/>
              <a:pathLst>
                <a:path w="335" h="227">
                  <a:moveTo>
                    <a:pt x="234" y="59"/>
                  </a:moveTo>
                  <a:lnTo>
                    <a:pt x="167" y="72"/>
                  </a:lnTo>
                  <a:lnTo>
                    <a:pt x="99" y="86"/>
                  </a:lnTo>
                  <a:lnTo>
                    <a:pt x="60" y="97"/>
                  </a:lnTo>
                  <a:lnTo>
                    <a:pt x="20" y="108"/>
                  </a:lnTo>
                  <a:lnTo>
                    <a:pt x="0" y="101"/>
                  </a:lnTo>
                  <a:lnTo>
                    <a:pt x="0" y="91"/>
                  </a:lnTo>
                  <a:lnTo>
                    <a:pt x="9" y="83"/>
                  </a:lnTo>
                  <a:lnTo>
                    <a:pt x="28" y="74"/>
                  </a:lnTo>
                  <a:lnTo>
                    <a:pt x="63" y="64"/>
                  </a:lnTo>
                  <a:lnTo>
                    <a:pt x="106" y="51"/>
                  </a:lnTo>
                  <a:lnTo>
                    <a:pt x="154" y="38"/>
                  </a:lnTo>
                  <a:lnTo>
                    <a:pt x="203" y="26"/>
                  </a:lnTo>
                  <a:lnTo>
                    <a:pt x="246" y="14"/>
                  </a:lnTo>
                  <a:lnTo>
                    <a:pt x="304" y="0"/>
                  </a:lnTo>
                  <a:lnTo>
                    <a:pt x="334" y="4"/>
                  </a:lnTo>
                  <a:lnTo>
                    <a:pt x="335" y="25"/>
                  </a:lnTo>
                  <a:lnTo>
                    <a:pt x="327" y="39"/>
                  </a:lnTo>
                  <a:lnTo>
                    <a:pt x="316" y="57"/>
                  </a:lnTo>
                  <a:lnTo>
                    <a:pt x="299" y="76"/>
                  </a:lnTo>
                  <a:lnTo>
                    <a:pt x="281" y="97"/>
                  </a:lnTo>
                  <a:lnTo>
                    <a:pt x="260" y="118"/>
                  </a:lnTo>
                  <a:lnTo>
                    <a:pt x="250" y="129"/>
                  </a:lnTo>
                  <a:lnTo>
                    <a:pt x="240" y="140"/>
                  </a:lnTo>
                  <a:lnTo>
                    <a:pt x="228" y="149"/>
                  </a:lnTo>
                  <a:lnTo>
                    <a:pt x="219" y="158"/>
                  </a:lnTo>
                  <a:lnTo>
                    <a:pt x="198" y="177"/>
                  </a:lnTo>
                  <a:lnTo>
                    <a:pt x="181" y="192"/>
                  </a:lnTo>
                  <a:lnTo>
                    <a:pt x="166" y="206"/>
                  </a:lnTo>
                  <a:lnTo>
                    <a:pt x="148" y="220"/>
                  </a:lnTo>
                  <a:lnTo>
                    <a:pt x="118" y="227"/>
                  </a:lnTo>
                  <a:lnTo>
                    <a:pt x="96" y="215"/>
                  </a:lnTo>
                  <a:lnTo>
                    <a:pt x="93" y="188"/>
                  </a:lnTo>
                  <a:lnTo>
                    <a:pt x="105" y="168"/>
                  </a:lnTo>
                  <a:lnTo>
                    <a:pt x="124" y="146"/>
                  </a:lnTo>
                  <a:lnTo>
                    <a:pt x="138" y="134"/>
                  </a:lnTo>
                  <a:lnTo>
                    <a:pt x="151" y="124"/>
                  </a:lnTo>
                  <a:lnTo>
                    <a:pt x="165" y="113"/>
                  </a:lnTo>
                  <a:lnTo>
                    <a:pt x="180" y="103"/>
                  </a:lnTo>
                  <a:lnTo>
                    <a:pt x="193" y="92"/>
                  </a:lnTo>
                  <a:lnTo>
                    <a:pt x="207" y="82"/>
                  </a:lnTo>
                  <a:lnTo>
                    <a:pt x="221" y="71"/>
                  </a:lnTo>
                  <a:lnTo>
                    <a:pt x="234" y="59"/>
                  </a:lnTo>
                  <a:lnTo>
                    <a:pt x="234" y="59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378200">
              <a:off x="426960" y="3417120"/>
              <a:ext cx="14040" cy="104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28"/>
                  </a:moveTo>
                  <a:lnTo>
                    <a:pt x="4" y="17"/>
                  </a:lnTo>
                  <a:lnTo>
                    <a:pt x="17" y="5"/>
                  </a:lnTo>
                  <a:lnTo>
                    <a:pt x="30" y="0"/>
                  </a:lnTo>
                  <a:lnTo>
                    <a:pt x="35" y="7"/>
                  </a:lnTo>
                  <a:lnTo>
                    <a:pt x="28" y="3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378200">
              <a:off x="420840" y="3338280"/>
              <a:ext cx="104760" cy="88560"/>
            </a:xfrm>
            <a:custGeom>
              <a:avLst/>
              <a:gdLst/>
              <a:ahLst/>
              <a:rect l="l" t="t" r="r" b="b"/>
              <a:pathLst>
                <a:path w="264" h="299">
                  <a:moveTo>
                    <a:pt x="198" y="102"/>
                  </a:moveTo>
                  <a:lnTo>
                    <a:pt x="157" y="91"/>
                  </a:lnTo>
                  <a:lnTo>
                    <a:pt x="103" y="74"/>
                  </a:lnTo>
                  <a:lnTo>
                    <a:pt x="51" y="56"/>
                  </a:lnTo>
                  <a:lnTo>
                    <a:pt x="15" y="4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2" y="0"/>
                  </a:lnTo>
                  <a:lnTo>
                    <a:pt x="35" y="3"/>
                  </a:lnTo>
                  <a:lnTo>
                    <a:pt x="87" y="19"/>
                  </a:lnTo>
                  <a:lnTo>
                    <a:pt x="138" y="31"/>
                  </a:lnTo>
                  <a:lnTo>
                    <a:pt x="241" y="54"/>
                  </a:lnTo>
                  <a:lnTo>
                    <a:pt x="261" y="65"/>
                  </a:lnTo>
                  <a:lnTo>
                    <a:pt x="264" y="86"/>
                  </a:lnTo>
                  <a:lnTo>
                    <a:pt x="254" y="135"/>
                  </a:lnTo>
                  <a:lnTo>
                    <a:pt x="238" y="185"/>
                  </a:lnTo>
                  <a:lnTo>
                    <a:pt x="229" y="210"/>
                  </a:lnTo>
                  <a:lnTo>
                    <a:pt x="218" y="235"/>
                  </a:lnTo>
                  <a:lnTo>
                    <a:pt x="207" y="258"/>
                  </a:lnTo>
                  <a:lnTo>
                    <a:pt x="195" y="280"/>
                  </a:lnTo>
                  <a:lnTo>
                    <a:pt x="185" y="292"/>
                  </a:lnTo>
                  <a:lnTo>
                    <a:pt x="173" y="299"/>
                  </a:lnTo>
                  <a:lnTo>
                    <a:pt x="148" y="298"/>
                  </a:lnTo>
                  <a:lnTo>
                    <a:pt x="129" y="281"/>
                  </a:lnTo>
                  <a:lnTo>
                    <a:pt x="126" y="268"/>
                  </a:lnTo>
                  <a:lnTo>
                    <a:pt x="128" y="253"/>
                  </a:lnTo>
                  <a:lnTo>
                    <a:pt x="148" y="200"/>
                  </a:lnTo>
                  <a:lnTo>
                    <a:pt x="159" y="174"/>
                  </a:lnTo>
                  <a:lnTo>
                    <a:pt x="173" y="151"/>
                  </a:lnTo>
                  <a:lnTo>
                    <a:pt x="187" y="127"/>
                  </a:lnTo>
                  <a:lnTo>
                    <a:pt x="198" y="102"/>
                  </a:lnTo>
                  <a:lnTo>
                    <a:pt x="198" y="102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378200">
              <a:off x="422280" y="3211200"/>
              <a:ext cx="87120" cy="95400"/>
            </a:xfrm>
            <a:custGeom>
              <a:avLst/>
              <a:gdLst/>
              <a:ahLst/>
              <a:rect l="l" t="t" r="r" b="b"/>
              <a:pathLst>
                <a:path w="222" h="316">
                  <a:moveTo>
                    <a:pt x="19" y="0"/>
                  </a:moveTo>
                  <a:lnTo>
                    <a:pt x="104" y="14"/>
                  </a:lnTo>
                  <a:lnTo>
                    <a:pt x="184" y="44"/>
                  </a:lnTo>
                  <a:lnTo>
                    <a:pt x="208" y="66"/>
                  </a:lnTo>
                  <a:lnTo>
                    <a:pt x="220" y="91"/>
                  </a:lnTo>
                  <a:lnTo>
                    <a:pt x="222" y="120"/>
                  </a:lnTo>
                  <a:lnTo>
                    <a:pt x="215" y="148"/>
                  </a:lnTo>
                  <a:lnTo>
                    <a:pt x="204" y="178"/>
                  </a:lnTo>
                  <a:lnTo>
                    <a:pt x="189" y="207"/>
                  </a:lnTo>
                  <a:lnTo>
                    <a:pt x="174" y="234"/>
                  </a:lnTo>
                  <a:lnTo>
                    <a:pt x="160" y="258"/>
                  </a:lnTo>
                  <a:lnTo>
                    <a:pt x="145" y="291"/>
                  </a:lnTo>
                  <a:lnTo>
                    <a:pt x="135" y="305"/>
                  </a:lnTo>
                  <a:lnTo>
                    <a:pt x="123" y="314"/>
                  </a:lnTo>
                  <a:lnTo>
                    <a:pt x="94" y="316"/>
                  </a:lnTo>
                  <a:lnTo>
                    <a:pt x="72" y="300"/>
                  </a:lnTo>
                  <a:lnTo>
                    <a:pt x="67" y="271"/>
                  </a:lnTo>
                  <a:lnTo>
                    <a:pt x="79" y="242"/>
                  </a:lnTo>
                  <a:lnTo>
                    <a:pt x="88" y="228"/>
                  </a:lnTo>
                  <a:lnTo>
                    <a:pt x="97" y="215"/>
                  </a:lnTo>
                  <a:lnTo>
                    <a:pt x="108" y="201"/>
                  </a:lnTo>
                  <a:lnTo>
                    <a:pt x="118" y="188"/>
                  </a:lnTo>
                  <a:lnTo>
                    <a:pt x="138" y="163"/>
                  </a:lnTo>
                  <a:lnTo>
                    <a:pt x="164" y="120"/>
                  </a:lnTo>
                  <a:lnTo>
                    <a:pt x="167" y="110"/>
                  </a:lnTo>
                  <a:lnTo>
                    <a:pt x="164" y="102"/>
                  </a:lnTo>
                  <a:lnTo>
                    <a:pt x="152" y="87"/>
                  </a:lnTo>
                  <a:lnTo>
                    <a:pt x="134" y="77"/>
                  </a:lnTo>
                  <a:lnTo>
                    <a:pt x="117" y="67"/>
                  </a:lnTo>
                  <a:lnTo>
                    <a:pt x="84" y="52"/>
                  </a:lnTo>
                  <a:lnTo>
                    <a:pt x="49" y="40"/>
                  </a:lnTo>
                  <a:lnTo>
                    <a:pt x="12" y="27"/>
                  </a:lnTo>
                  <a:lnTo>
                    <a:pt x="2" y="20"/>
                  </a:lnTo>
                  <a:lnTo>
                    <a:pt x="0" y="10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6378200">
              <a:off x="6840" y="3026880"/>
              <a:ext cx="320760" cy="338760"/>
            </a:xfrm>
            <a:custGeom>
              <a:avLst/>
              <a:gdLst/>
              <a:ahLst/>
              <a:rect l="l" t="t" r="r" b="b"/>
              <a:pathLst>
                <a:path w="807" h="1119">
                  <a:moveTo>
                    <a:pt x="551" y="1087"/>
                  </a:moveTo>
                  <a:lnTo>
                    <a:pt x="664" y="985"/>
                  </a:lnTo>
                  <a:lnTo>
                    <a:pt x="807" y="727"/>
                  </a:lnTo>
                  <a:lnTo>
                    <a:pt x="776" y="620"/>
                  </a:lnTo>
                  <a:lnTo>
                    <a:pt x="680" y="610"/>
                  </a:lnTo>
                  <a:lnTo>
                    <a:pt x="628" y="624"/>
                  </a:lnTo>
                  <a:lnTo>
                    <a:pt x="668" y="438"/>
                  </a:lnTo>
                  <a:lnTo>
                    <a:pt x="638" y="339"/>
                  </a:lnTo>
                  <a:lnTo>
                    <a:pt x="464" y="392"/>
                  </a:lnTo>
                  <a:lnTo>
                    <a:pt x="552" y="199"/>
                  </a:lnTo>
                  <a:lnTo>
                    <a:pt x="551" y="75"/>
                  </a:lnTo>
                  <a:lnTo>
                    <a:pt x="404" y="148"/>
                  </a:lnTo>
                  <a:lnTo>
                    <a:pt x="327" y="4"/>
                  </a:lnTo>
                  <a:lnTo>
                    <a:pt x="240" y="0"/>
                  </a:lnTo>
                  <a:lnTo>
                    <a:pt x="169" y="102"/>
                  </a:lnTo>
                  <a:lnTo>
                    <a:pt x="169" y="158"/>
                  </a:lnTo>
                  <a:lnTo>
                    <a:pt x="91" y="173"/>
                  </a:lnTo>
                  <a:lnTo>
                    <a:pt x="61" y="223"/>
                  </a:lnTo>
                  <a:lnTo>
                    <a:pt x="113" y="404"/>
                  </a:lnTo>
                  <a:lnTo>
                    <a:pt x="128" y="517"/>
                  </a:lnTo>
                  <a:lnTo>
                    <a:pt x="30" y="509"/>
                  </a:lnTo>
                  <a:lnTo>
                    <a:pt x="0" y="574"/>
                  </a:lnTo>
                  <a:lnTo>
                    <a:pt x="51" y="686"/>
                  </a:lnTo>
                  <a:lnTo>
                    <a:pt x="169" y="848"/>
                  </a:lnTo>
                  <a:lnTo>
                    <a:pt x="57" y="913"/>
                  </a:lnTo>
                  <a:lnTo>
                    <a:pt x="93" y="993"/>
                  </a:lnTo>
                  <a:lnTo>
                    <a:pt x="352" y="1119"/>
                  </a:lnTo>
                  <a:lnTo>
                    <a:pt x="551" y="1087"/>
                  </a:lnTo>
                  <a:lnTo>
                    <a:pt x="551" y="1087"/>
                  </a:lnTo>
                  <a:lnTo>
                    <a:pt x="551" y="1087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378200">
              <a:off x="46440" y="3204360"/>
              <a:ext cx="114120" cy="76320"/>
            </a:xfrm>
            <a:custGeom>
              <a:avLst/>
              <a:gdLst/>
              <a:ahLst/>
              <a:rect l="l" t="t" r="r" b="b"/>
              <a:pathLst>
                <a:path w="292" h="254">
                  <a:moveTo>
                    <a:pt x="134" y="199"/>
                  </a:moveTo>
                  <a:lnTo>
                    <a:pt x="141" y="196"/>
                  </a:lnTo>
                  <a:lnTo>
                    <a:pt x="154" y="175"/>
                  </a:lnTo>
                  <a:lnTo>
                    <a:pt x="169" y="151"/>
                  </a:lnTo>
                  <a:lnTo>
                    <a:pt x="185" y="126"/>
                  </a:lnTo>
                  <a:lnTo>
                    <a:pt x="201" y="100"/>
                  </a:lnTo>
                  <a:lnTo>
                    <a:pt x="218" y="74"/>
                  </a:lnTo>
                  <a:lnTo>
                    <a:pt x="235" y="49"/>
                  </a:lnTo>
                  <a:lnTo>
                    <a:pt x="250" y="27"/>
                  </a:lnTo>
                  <a:lnTo>
                    <a:pt x="265" y="8"/>
                  </a:lnTo>
                  <a:lnTo>
                    <a:pt x="276" y="0"/>
                  </a:lnTo>
                  <a:lnTo>
                    <a:pt x="286" y="2"/>
                  </a:lnTo>
                  <a:lnTo>
                    <a:pt x="292" y="20"/>
                  </a:lnTo>
                  <a:lnTo>
                    <a:pt x="285" y="39"/>
                  </a:lnTo>
                  <a:lnTo>
                    <a:pt x="274" y="66"/>
                  </a:lnTo>
                  <a:lnTo>
                    <a:pt x="260" y="97"/>
                  </a:lnTo>
                  <a:lnTo>
                    <a:pt x="246" y="131"/>
                  </a:lnTo>
                  <a:lnTo>
                    <a:pt x="231" y="165"/>
                  </a:lnTo>
                  <a:lnTo>
                    <a:pt x="217" y="195"/>
                  </a:lnTo>
                  <a:lnTo>
                    <a:pt x="205" y="219"/>
                  </a:lnTo>
                  <a:lnTo>
                    <a:pt x="197" y="233"/>
                  </a:lnTo>
                  <a:lnTo>
                    <a:pt x="189" y="242"/>
                  </a:lnTo>
                  <a:lnTo>
                    <a:pt x="179" y="248"/>
                  </a:lnTo>
                  <a:lnTo>
                    <a:pt x="142" y="254"/>
                  </a:lnTo>
                  <a:lnTo>
                    <a:pt x="106" y="247"/>
                  </a:lnTo>
                  <a:lnTo>
                    <a:pt x="79" y="213"/>
                  </a:lnTo>
                  <a:lnTo>
                    <a:pt x="62" y="183"/>
                  </a:lnTo>
                  <a:lnTo>
                    <a:pt x="45" y="147"/>
                  </a:lnTo>
                  <a:lnTo>
                    <a:pt x="29" y="111"/>
                  </a:lnTo>
                  <a:lnTo>
                    <a:pt x="15" y="76"/>
                  </a:lnTo>
                  <a:lnTo>
                    <a:pt x="0" y="30"/>
                  </a:lnTo>
                  <a:lnTo>
                    <a:pt x="1" y="18"/>
                  </a:lnTo>
                  <a:lnTo>
                    <a:pt x="11" y="12"/>
                  </a:lnTo>
                  <a:lnTo>
                    <a:pt x="29" y="23"/>
                  </a:lnTo>
                  <a:lnTo>
                    <a:pt x="44" y="54"/>
                  </a:lnTo>
                  <a:lnTo>
                    <a:pt x="51" y="71"/>
                  </a:lnTo>
                  <a:lnTo>
                    <a:pt x="59" y="87"/>
                  </a:lnTo>
                  <a:lnTo>
                    <a:pt x="68" y="102"/>
                  </a:lnTo>
                  <a:lnTo>
                    <a:pt x="77" y="115"/>
                  </a:lnTo>
                  <a:lnTo>
                    <a:pt x="87" y="129"/>
                  </a:lnTo>
                  <a:lnTo>
                    <a:pt x="96" y="143"/>
                  </a:lnTo>
                  <a:lnTo>
                    <a:pt x="115" y="170"/>
                  </a:lnTo>
                  <a:lnTo>
                    <a:pt x="134" y="199"/>
                  </a:lnTo>
                  <a:lnTo>
                    <a:pt x="134" y="199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378200">
              <a:off x="110880" y="3187800"/>
              <a:ext cx="131760" cy="76320"/>
            </a:xfrm>
            <a:custGeom>
              <a:avLst/>
              <a:gdLst/>
              <a:ahLst/>
              <a:rect l="l" t="t" r="r" b="b"/>
              <a:pathLst>
                <a:path w="331" h="253">
                  <a:moveTo>
                    <a:pt x="189" y="195"/>
                  </a:moveTo>
                  <a:lnTo>
                    <a:pt x="196" y="169"/>
                  </a:lnTo>
                  <a:lnTo>
                    <a:pt x="204" y="144"/>
                  </a:lnTo>
                  <a:lnTo>
                    <a:pt x="216" y="119"/>
                  </a:lnTo>
                  <a:lnTo>
                    <a:pt x="227" y="94"/>
                  </a:lnTo>
                  <a:lnTo>
                    <a:pt x="242" y="71"/>
                  </a:lnTo>
                  <a:lnTo>
                    <a:pt x="258" y="48"/>
                  </a:lnTo>
                  <a:lnTo>
                    <a:pt x="276" y="27"/>
                  </a:lnTo>
                  <a:lnTo>
                    <a:pt x="294" y="7"/>
                  </a:lnTo>
                  <a:lnTo>
                    <a:pt x="309" y="0"/>
                  </a:lnTo>
                  <a:lnTo>
                    <a:pt x="323" y="4"/>
                  </a:lnTo>
                  <a:lnTo>
                    <a:pt x="331" y="14"/>
                  </a:lnTo>
                  <a:lnTo>
                    <a:pt x="326" y="30"/>
                  </a:lnTo>
                  <a:lnTo>
                    <a:pt x="307" y="60"/>
                  </a:lnTo>
                  <a:lnTo>
                    <a:pt x="292" y="84"/>
                  </a:lnTo>
                  <a:lnTo>
                    <a:pt x="275" y="126"/>
                  </a:lnTo>
                  <a:lnTo>
                    <a:pt x="253" y="227"/>
                  </a:lnTo>
                  <a:lnTo>
                    <a:pt x="243" y="246"/>
                  </a:lnTo>
                  <a:lnTo>
                    <a:pt x="223" y="253"/>
                  </a:lnTo>
                  <a:lnTo>
                    <a:pt x="204" y="251"/>
                  </a:lnTo>
                  <a:lnTo>
                    <a:pt x="187" y="241"/>
                  </a:lnTo>
                  <a:lnTo>
                    <a:pt x="172" y="228"/>
                  </a:lnTo>
                  <a:lnTo>
                    <a:pt x="156" y="217"/>
                  </a:lnTo>
                  <a:lnTo>
                    <a:pt x="119" y="203"/>
                  </a:lnTo>
                  <a:lnTo>
                    <a:pt x="81" y="192"/>
                  </a:lnTo>
                  <a:lnTo>
                    <a:pt x="9" y="165"/>
                  </a:lnTo>
                  <a:lnTo>
                    <a:pt x="0" y="156"/>
                  </a:lnTo>
                  <a:lnTo>
                    <a:pt x="1" y="146"/>
                  </a:lnTo>
                  <a:lnTo>
                    <a:pt x="9" y="140"/>
                  </a:lnTo>
                  <a:lnTo>
                    <a:pt x="22" y="140"/>
                  </a:lnTo>
                  <a:lnTo>
                    <a:pt x="56" y="151"/>
                  </a:lnTo>
                  <a:lnTo>
                    <a:pt x="82" y="161"/>
                  </a:lnTo>
                  <a:lnTo>
                    <a:pt x="110" y="170"/>
                  </a:lnTo>
                  <a:lnTo>
                    <a:pt x="160" y="188"/>
                  </a:lnTo>
                  <a:lnTo>
                    <a:pt x="189" y="195"/>
                  </a:lnTo>
                  <a:lnTo>
                    <a:pt x="189" y="195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378200">
              <a:off x="187920" y="3134520"/>
              <a:ext cx="142920" cy="76320"/>
            </a:xfrm>
            <a:custGeom>
              <a:avLst/>
              <a:gdLst/>
              <a:ahLst/>
              <a:rect l="l" t="t" r="r" b="b"/>
              <a:pathLst>
                <a:path w="361" h="253">
                  <a:moveTo>
                    <a:pt x="134" y="185"/>
                  </a:moveTo>
                  <a:lnTo>
                    <a:pt x="151" y="164"/>
                  </a:lnTo>
                  <a:lnTo>
                    <a:pt x="168" y="142"/>
                  </a:lnTo>
                  <a:lnTo>
                    <a:pt x="186" y="122"/>
                  </a:lnTo>
                  <a:lnTo>
                    <a:pt x="204" y="102"/>
                  </a:lnTo>
                  <a:lnTo>
                    <a:pt x="218" y="88"/>
                  </a:lnTo>
                  <a:lnTo>
                    <a:pt x="234" y="74"/>
                  </a:lnTo>
                  <a:lnTo>
                    <a:pt x="250" y="60"/>
                  </a:lnTo>
                  <a:lnTo>
                    <a:pt x="269" y="48"/>
                  </a:lnTo>
                  <a:lnTo>
                    <a:pt x="286" y="35"/>
                  </a:lnTo>
                  <a:lnTo>
                    <a:pt x="304" y="23"/>
                  </a:lnTo>
                  <a:lnTo>
                    <a:pt x="322" y="12"/>
                  </a:lnTo>
                  <a:lnTo>
                    <a:pt x="339" y="0"/>
                  </a:lnTo>
                  <a:lnTo>
                    <a:pt x="361" y="1"/>
                  </a:lnTo>
                  <a:lnTo>
                    <a:pt x="360" y="21"/>
                  </a:lnTo>
                  <a:lnTo>
                    <a:pt x="335" y="48"/>
                  </a:lnTo>
                  <a:lnTo>
                    <a:pt x="312" y="74"/>
                  </a:lnTo>
                  <a:lnTo>
                    <a:pt x="290" y="101"/>
                  </a:lnTo>
                  <a:lnTo>
                    <a:pt x="269" y="129"/>
                  </a:lnTo>
                  <a:lnTo>
                    <a:pt x="258" y="142"/>
                  </a:lnTo>
                  <a:lnTo>
                    <a:pt x="247" y="156"/>
                  </a:lnTo>
                  <a:lnTo>
                    <a:pt x="236" y="171"/>
                  </a:lnTo>
                  <a:lnTo>
                    <a:pt x="225" y="185"/>
                  </a:lnTo>
                  <a:lnTo>
                    <a:pt x="214" y="198"/>
                  </a:lnTo>
                  <a:lnTo>
                    <a:pt x="203" y="212"/>
                  </a:lnTo>
                  <a:lnTo>
                    <a:pt x="181" y="239"/>
                  </a:lnTo>
                  <a:lnTo>
                    <a:pt x="166" y="250"/>
                  </a:lnTo>
                  <a:lnTo>
                    <a:pt x="146" y="253"/>
                  </a:lnTo>
                  <a:lnTo>
                    <a:pt x="76" y="230"/>
                  </a:lnTo>
                  <a:lnTo>
                    <a:pt x="41" y="212"/>
                  </a:lnTo>
                  <a:lnTo>
                    <a:pt x="9" y="195"/>
                  </a:lnTo>
                  <a:lnTo>
                    <a:pt x="0" y="187"/>
                  </a:lnTo>
                  <a:lnTo>
                    <a:pt x="0" y="177"/>
                  </a:lnTo>
                  <a:lnTo>
                    <a:pt x="7" y="170"/>
                  </a:lnTo>
                  <a:lnTo>
                    <a:pt x="19" y="169"/>
                  </a:lnTo>
                  <a:lnTo>
                    <a:pt x="76" y="179"/>
                  </a:lnTo>
                  <a:lnTo>
                    <a:pt x="134" y="185"/>
                  </a:lnTo>
                  <a:lnTo>
                    <a:pt x="134" y="185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378200">
              <a:off x="82440" y="2462040"/>
              <a:ext cx="581040" cy="558720"/>
            </a:xfrm>
            <a:custGeom>
              <a:avLst/>
              <a:gdLst/>
              <a:ahLst/>
              <a:rect l="l" t="t" r="r" b="b"/>
              <a:pathLst>
                <a:path w="1464" h="1845">
                  <a:moveTo>
                    <a:pt x="235" y="1416"/>
                  </a:moveTo>
                  <a:lnTo>
                    <a:pt x="169" y="1288"/>
                  </a:lnTo>
                  <a:lnTo>
                    <a:pt x="15" y="1168"/>
                  </a:lnTo>
                  <a:lnTo>
                    <a:pt x="0" y="1000"/>
                  </a:lnTo>
                  <a:lnTo>
                    <a:pt x="45" y="930"/>
                  </a:lnTo>
                  <a:lnTo>
                    <a:pt x="123" y="911"/>
                  </a:lnTo>
                  <a:lnTo>
                    <a:pt x="317" y="999"/>
                  </a:lnTo>
                  <a:lnTo>
                    <a:pt x="352" y="939"/>
                  </a:lnTo>
                  <a:lnTo>
                    <a:pt x="333" y="518"/>
                  </a:lnTo>
                  <a:lnTo>
                    <a:pt x="418" y="445"/>
                  </a:lnTo>
                  <a:lnTo>
                    <a:pt x="501" y="499"/>
                  </a:lnTo>
                  <a:lnTo>
                    <a:pt x="598" y="616"/>
                  </a:lnTo>
                  <a:lnTo>
                    <a:pt x="644" y="574"/>
                  </a:lnTo>
                  <a:lnTo>
                    <a:pt x="679" y="323"/>
                  </a:lnTo>
                  <a:lnTo>
                    <a:pt x="776" y="202"/>
                  </a:lnTo>
                  <a:lnTo>
                    <a:pt x="919" y="258"/>
                  </a:lnTo>
                  <a:lnTo>
                    <a:pt x="1103" y="0"/>
                  </a:lnTo>
                  <a:lnTo>
                    <a:pt x="1206" y="1"/>
                  </a:lnTo>
                  <a:lnTo>
                    <a:pt x="1251" y="84"/>
                  </a:lnTo>
                  <a:lnTo>
                    <a:pt x="1153" y="258"/>
                  </a:lnTo>
                  <a:lnTo>
                    <a:pt x="1332" y="258"/>
                  </a:lnTo>
                  <a:lnTo>
                    <a:pt x="1464" y="291"/>
                  </a:lnTo>
                  <a:lnTo>
                    <a:pt x="1449" y="402"/>
                  </a:lnTo>
                  <a:lnTo>
                    <a:pt x="1189" y="533"/>
                  </a:lnTo>
                  <a:lnTo>
                    <a:pt x="1399" y="612"/>
                  </a:lnTo>
                  <a:lnTo>
                    <a:pt x="1439" y="744"/>
                  </a:lnTo>
                  <a:lnTo>
                    <a:pt x="1321" y="850"/>
                  </a:lnTo>
                  <a:lnTo>
                    <a:pt x="1153" y="930"/>
                  </a:lnTo>
                  <a:lnTo>
                    <a:pt x="1312" y="1022"/>
                  </a:lnTo>
                  <a:lnTo>
                    <a:pt x="1291" y="1172"/>
                  </a:lnTo>
                  <a:lnTo>
                    <a:pt x="1206" y="1341"/>
                  </a:lnTo>
                  <a:lnTo>
                    <a:pt x="1026" y="1419"/>
                  </a:lnTo>
                  <a:lnTo>
                    <a:pt x="781" y="1452"/>
                  </a:lnTo>
                  <a:lnTo>
                    <a:pt x="567" y="1620"/>
                  </a:lnTo>
                  <a:lnTo>
                    <a:pt x="379" y="1559"/>
                  </a:lnTo>
                  <a:lnTo>
                    <a:pt x="266" y="1661"/>
                  </a:lnTo>
                  <a:lnTo>
                    <a:pt x="138" y="1845"/>
                  </a:lnTo>
                  <a:lnTo>
                    <a:pt x="67" y="1732"/>
                  </a:lnTo>
                  <a:lnTo>
                    <a:pt x="235" y="1416"/>
                  </a:lnTo>
                  <a:lnTo>
                    <a:pt x="235" y="1416"/>
                  </a:lnTo>
                  <a:lnTo>
                    <a:pt x="235" y="1416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378200">
              <a:off x="137880" y="2569320"/>
              <a:ext cx="214200" cy="90720"/>
            </a:xfrm>
            <a:custGeom>
              <a:avLst/>
              <a:gdLst/>
              <a:ahLst/>
              <a:rect l="l" t="t" r="r" b="b"/>
              <a:pathLst>
                <a:path w="540" h="301">
                  <a:moveTo>
                    <a:pt x="127" y="191"/>
                  </a:moveTo>
                  <a:lnTo>
                    <a:pt x="143" y="181"/>
                  </a:lnTo>
                  <a:lnTo>
                    <a:pt x="163" y="170"/>
                  </a:lnTo>
                  <a:lnTo>
                    <a:pt x="185" y="160"/>
                  </a:lnTo>
                  <a:lnTo>
                    <a:pt x="209" y="150"/>
                  </a:lnTo>
                  <a:lnTo>
                    <a:pt x="234" y="140"/>
                  </a:lnTo>
                  <a:lnTo>
                    <a:pt x="261" y="130"/>
                  </a:lnTo>
                  <a:lnTo>
                    <a:pt x="289" y="120"/>
                  </a:lnTo>
                  <a:lnTo>
                    <a:pt x="316" y="111"/>
                  </a:lnTo>
                  <a:lnTo>
                    <a:pt x="373" y="95"/>
                  </a:lnTo>
                  <a:lnTo>
                    <a:pt x="428" y="81"/>
                  </a:lnTo>
                  <a:lnTo>
                    <a:pt x="478" y="71"/>
                  </a:lnTo>
                  <a:lnTo>
                    <a:pt x="521" y="66"/>
                  </a:lnTo>
                  <a:lnTo>
                    <a:pt x="540" y="77"/>
                  </a:lnTo>
                  <a:lnTo>
                    <a:pt x="539" y="86"/>
                  </a:lnTo>
                  <a:lnTo>
                    <a:pt x="529" y="93"/>
                  </a:lnTo>
                  <a:lnTo>
                    <a:pt x="481" y="109"/>
                  </a:lnTo>
                  <a:lnTo>
                    <a:pt x="433" y="125"/>
                  </a:lnTo>
                  <a:lnTo>
                    <a:pt x="406" y="137"/>
                  </a:lnTo>
                  <a:lnTo>
                    <a:pt x="380" y="148"/>
                  </a:lnTo>
                  <a:lnTo>
                    <a:pt x="353" y="161"/>
                  </a:lnTo>
                  <a:lnTo>
                    <a:pt x="328" y="174"/>
                  </a:lnTo>
                  <a:lnTo>
                    <a:pt x="301" y="187"/>
                  </a:lnTo>
                  <a:lnTo>
                    <a:pt x="276" y="201"/>
                  </a:lnTo>
                  <a:lnTo>
                    <a:pt x="251" y="214"/>
                  </a:lnTo>
                  <a:lnTo>
                    <a:pt x="225" y="227"/>
                  </a:lnTo>
                  <a:lnTo>
                    <a:pt x="200" y="241"/>
                  </a:lnTo>
                  <a:lnTo>
                    <a:pt x="176" y="257"/>
                  </a:lnTo>
                  <a:lnTo>
                    <a:pt x="151" y="274"/>
                  </a:lnTo>
                  <a:lnTo>
                    <a:pt x="128" y="289"/>
                  </a:lnTo>
                  <a:lnTo>
                    <a:pt x="101" y="301"/>
                  </a:lnTo>
                  <a:lnTo>
                    <a:pt x="79" y="299"/>
                  </a:lnTo>
                  <a:lnTo>
                    <a:pt x="64" y="284"/>
                  </a:lnTo>
                  <a:lnTo>
                    <a:pt x="58" y="257"/>
                  </a:lnTo>
                  <a:lnTo>
                    <a:pt x="54" y="227"/>
                  </a:lnTo>
                  <a:lnTo>
                    <a:pt x="46" y="196"/>
                  </a:lnTo>
                  <a:lnTo>
                    <a:pt x="35" y="163"/>
                  </a:lnTo>
                  <a:lnTo>
                    <a:pt x="22" y="129"/>
                  </a:lnTo>
                  <a:lnTo>
                    <a:pt x="3" y="66"/>
                  </a:lnTo>
                  <a:lnTo>
                    <a:pt x="0" y="12"/>
                  </a:lnTo>
                  <a:lnTo>
                    <a:pt x="7" y="3"/>
                  </a:lnTo>
                  <a:lnTo>
                    <a:pt x="16" y="0"/>
                  </a:lnTo>
                  <a:lnTo>
                    <a:pt x="31" y="16"/>
                  </a:lnTo>
                  <a:lnTo>
                    <a:pt x="38" y="49"/>
                  </a:lnTo>
                  <a:lnTo>
                    <a:pt x="46" y="75"/>
                  </a:lnTo>
                  <a:lnTo>
                    <a:pt x="56" y="95"/>
                  </a:lnTo>
                  <a:lnTo>
                    <a:pt x="67" y="111"/>
                  </a:lnTo>
                  <a:lnTo>
                    <a:pt x="80" y="127"/>
                  </a:lnTo>
                  <a:lnTo>
                    <a:pt x="94" y="144"/>
                  </a:lnTo>
                  <a:lnTo>
                    <a:pt x="110" y="165"/>
                  </a:lnTo>
                  <a:lnTo>
                    <a:pt x="127" y="191"/>
                  </a:lnTo>
                  <a:lnTo>
                    <a:pt x="127" y="191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378200">
              <a:off x="196200" y="2646720"/>
              <a:ext cx="304560" cy="120240"/>
            </a:xfrm>
            <a:custGeom>
              <a:avLst/>
              <a:gdLst/>
              <a:ahLst/>
              <a:rect l="l" t="t" r="r" b="b"/>
              <a:pathLst>
                <a:path w="769" h="399">
                  <a:moveTo>
                    <a:pt x="210" y="308"/>
                  </a:moveTo>
                  <a:lnTo>
                    <a:pt x="241" y="287"/>
                  </a:lnTo>
                  <a:lnTo>
                    <a:pt x="270" y="268"/>
                  </a:lnTo>
                  <a:lnTo>
                    <a:pt x="296" y="249"/>
                  </a:lnTo>
                  <a:lnTo>
                    <a:pt x="324" y="231"/>
                  </a:lnTo>
                  <a:lnTo>
                    <a:pt x="352" y="213"/>
                  </a:lnTo>
                  <a:lnTo>
                    <a:pt x="381" y="196"/>
                  </a:lnTo>
                  <a:lnTo>
                    <a:pt x="412" y="179"/>
                  </a:lnTo>
                  <a:lnTo>
                    <a:pt x="445" y="162"/>
                  </a:lnTo>
                  <a:lnTo>
                    <a:pt x="475" y="154"/>
                  </a:lnTo>
                  <a:lnTo>
                    <a:pt x="523" y="146"/>
                  </a:lnTo>
                  <a:lnTo>
                    <a:pt x="641" y="132"/>
                  </a:lnTo>
                  <a:lnTo>
                    <a:pt x="743" y="127"/>
                  </a:lnTo>
                  <a:lnTo>
                    <a:pt x="769" y="130"/>
                  </a:lnTo>
                  <a:lnTo>
                    <a:pt x="768" y="137"/>
                  </a:lnTo>
                  <a:lnTo>
                    <a:pt x="395" y="273"/>
                  </a:lnTo>
                  <a:lnTo>
                    <a:pt x="371" y="288"/>
                  </a:lnTo>
                  <a:lnTo>
                    <a:pt x="348" y="303"/>
                  </a:lnTo>
                  <a:lnTo>
                    <a:pt x="325" y="319"/>
                  </a:lnTo>
                  <a:lnTo>
                    <a:pt x="303" y="336"/>
                  </a:lnTo>
                  <a:lnTo>
                    <a:pt x="281" y="353"/>
                  </a:lnTo>
                  <a:lnTo>
                    <a:pt x="260" y="370"/>
                  </a:lnTo>
                  <a:lnTo>
                    <a:pt x="236" y="386"/>
                  </a:lnTo>
                  <a:lnTo>
                    <a:pt x="212" y="399"/>
                  </a:lnTo>
                  <a:lnTo>
                    <a:pt x="180" y="396"/>
                  </a:lnTo>
                  <a:lnTo>
                    <a:pt x="162" y="384"/>
                  </a:lnTo>
                  <a:lnTo>
                    <a:pt x="142" y="364"/>
                  </a:lnTo>
                  <a:lnTo>
                    <a:pt x="122" y="339"/>
                  </a:lnTo>
                  <a:lnTo>
                    <a:pt x="103" y="310"/>
                  </a:lnTo>
                  <a:lnTo>
                    <a:pt x="84" y="277"/>
                  </a:lnTo>
                  <a:lnTo>
                    <a:pt x="66" y="242"/>
                  </a:lnTo>
                  <a:lnTo>
                    <a:pt x="48" y="207"/>
                  </a:lnTo>
                  <a:lnTo>
                    <a:pt x="33" y="170"/>
                  </a:lnTo>
                  <a:lnTo>
                    <a:pt x="21" y="134"/>
                  </a:lnTo>
                  <a:lnTo>
                    <a:pt x="10" y="99"/>
                  </a:lnTo>
                  <a:lnTo>
                    <a:pt x="0" y="40"/>
                  </a:lnTo>
                  <a:lnTo>
                    <a:pt x="6" y="0"/>
                  </a:lnTo>
                  <a:lnTo>
                    <a:pt x="15" y="9"/>
                  </a:lnTo>
                  <a:lnTo>
                    <a:pt x="27" y="45"/>
                  </a:lnTo>
                  <a:lnTo>
                    <a:pt x="38" y="89"/>
                  </a:lnTo>
                  <a:lnTo>
                    <a:pt x="46" y="117"/>
                  </a:lnTo>
                  <a:lnTo>
                    <a:pt x="55" y="134"/>
                  </a:lnTo>
                  <a:lnTo>
                    <a:pt x="63" y="151"/>
                  </a:lnTo>
                  <a:lnTo>
                    <a:pt x="73" y="165"/>
                  </a:lnTo>
                  <a:lnTo>
                    <a:pt x="82" y="178"/>
                  </a:lnTo>
                  <a:lnTo>
                    <a:pt x="99" y="201"/>
                  </a:lnTo>
                  <a:lnTo>
                    <a:pt x="119" y="221"/>
                  </a:lnTo>
                  <a:lnTo>
                    <a:pt x="128" y="231"/>
                  </a:lnTo>
                  <a:lnTo>
                    <a:pt x="138" y="241"/>
                  </a:lnTo>
                  <a:lnTo>
                    <a:pt x="160" y="260"/>
                  </a:lnTo>
                  <a:lnTo>
                    <a:pt x="172" y="271"/>
                  </a:lnTo>
                  <a:lnTo>
                    <a:pt x="185" y="283"/>
                  </a:lnTo>
                  <a:lnTo>
                    <a:pt x="197" y="294"/>
                  </a:lnTo>
                  <a:lnTo>
                    <a:pt x="210" y="308"/>
                  </a:lnTo>
                  <a:lnTo>
                    <a:pt x="210" y="308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378200">
              <a:off x="254880" y="2736000"/>
              <a:ext cx="379440" cy="74160"/>
            </a:xfrm>
            <a:custGeom>
              <a:avLst/>
              <a:gdLst/>
              <a:ahLst/>
              <a:rect l="l" t="t" r="r" b="b"/>
              <a:pathLst>
                <a:path w="956" h="248">
                  <a:moveTo>
                    <a:pt x="57" y="0"/>
                  </a:moveTo>
                  <a:lnTo>
                    <a:pt x="96" y="17"/>
                  </a:lnTo>
                  <a:lnTo>
                    <a:pt x="134" y="39"/>
                  </a:lnTo>
                  <a:lnTo>
                    <a:pt x="152" y="51"/>
                  </a:lnTo>
                  <a:lnTo>
                    <a:pt x="171" y="63"/>
                  </a:lnTo>
                  <a:lnTo>
                    <a:pt x="188" y="76"/>
                  </a:lnTo>
                  <a:lnTo>
                    <a:pt x="207" y="89"/>
                  </a:lnTo>
                  <a:lnTo>
                    <a:pt x="225" y="102"/>
                  </a:lnTo>
                  <a:lnTo>
                    <a:pt x="244" y="113"/>
                  </a:lnTo>
                  <a:lnTo>
                    <a:pt x="262" y="125"/>
                  </a:lnTo>
                  <a:lnTo>
                    <a:pt x="280" y="137"/>
                  </a:lnTo>
                  <a:lnTo>
                    <a:pt x="300" y="146"/>
                  </a:lnTo>
                  <a:lnTo>
                    <a:pt x="321" y="155"/>
                  </a:lnTo>
                  <a:lnTo>
                    <a:pt x="364" y="166"/>
                  </a:lnTo>
                  <a:lnTo>
                    <a:pt x="387" y="164"/>
                  </a:lnTo>
                  <a:lnTo>
                    <a:pt x="407" y="151"/>
                  </a:lnTo>
                  <a:lnTo>
                    <a:pt x="426" y="136"/>
                  </a:lnTo>
                  <a:lnTo>
                    <a:pt x="445" y="123"/>
                  </a:lnTo>
                  <a:lnTo>
                    <a:pt x="492" y="109"/>
                  </a:lnTo>
                  <a:lnTo>
                    <a:pt x="553" y="98"/>
                  </a:lnTo>
                  <a:lnTo>
                    <a:pt x="621" y="88"/>
                  </a:lnTo>
                  <a:lnTo>
                    <a:pt x="695" y="82"/>
                  </a:lnTo>
                  <a:lnTo>
                    <a:pt x="838" y="81"/>
                  </a:lnTo>
                  <a:lnTo>
                    <a:pt x="944" y="100"/>
                  </a:lnTo>
                  <a:lnTo>
                    <a:pt x="956" y="116"/>
                  </a:lnTo>
                  <a:lnTo>
                    <a:pt x="952" y="123"/>
                  </a:lnTo>
                  <a:lnTo>
                    <a:pt x="939" y="127"/>
                  </a:lnTo>
                  <a:lnTo>
                    <a:pt x="831" y="120"/>
                  </a:lnTo>
                  <a:lnTo>
                    <a:pt x="742" y="129"/>
                  </a:lnTo>
                  <a:lnTo>
                    <a:pt x="651" y="149"/>
                  </a:lnTo>
                  <a:lnTo>
                    <a:pt x="606" y="163"/>
                  </a:lnTo>
                  <a:lnTo>
                    <a:pt x="562" y="177"/>
                  </a:lnTo>
                  <a:lnTo>
                    <a:pt x="518" y="191"/>
                  </a:lnTo>
                  <a:lnTo>
                    <a:pt x="477" y="205"/>
                  </a:lnTo>
                  <a:lnTo>
                    <a:pt x="442" y="221"/>
                  </a:lnTo>
                  <a:lnTo>
                    <a:pt x="410" y="238"/>
                  </a:lnTo>
                  <a:lnTo>
                    <a:pt x="375" y="248"/>
                  </a:lnTo>
                  <a:lnTo>
                    <a:pt x="336" y="246"/>
                  </a:lnTo>
                  <a:lnTo>
                    <a:pt x="294" y="234"/>
                  </a:lnTo>
                  <a:lnTo>
                    <a:pt x="254" y="215"/>
                  </a:lnTo>
                  <a:lnTo>
                    <a:pt x="234" y="204"/>
                  </a:lnTo>
                  <a:lnTo>
                    <a:pt x="214" y="191"/>
                  </a:lnTo>
                  <a:lnTo>
                    <a:pt x="194" y="180"/>
                  </a:lnTo>
                  <a:lnTo>
                    <a:pt x="174" y="166"/>
                  </a:lnTo>
                  <a:lnTo>
                    <a:pt x="155" y="153"/>
                  </a:lnTo>
                  <a:lnTo>
                    <a:pt x="135" y="140"/>
                  </a:lnTo>
                  <a:lnTo>
                    <a:pt x="117" y="127"/>
                  </a:lnTo>
                  <a:lnTo>
                    <a:pt x="97" y="113"/>
                  </a:lnTo>
                  <a:lnTo>
                    <a:pt x="79" y="101"/>
                  </a:lnTo>
                  <a:lnTo>
                    <a:pt x="59" y="88"/>
                  </a:lnTo>
                  <a:lnTo>
                    <a:pt x="41" y="77"/>
                  </a:lnTo>
                  <a:lnTo>
                    <a:pt x="22" y="66"/>
                  </a:lnTo>
                  <a:lnTo>
                    <a:pt x="0" y="42"/>
                  </a:lnTo>
                  <a:lnTo>
                    <a:pt x="2" y="17"/>
                  </a:lnTo>
                  <a:lnTo>
                    <a:pt x="12" y="6"/>
                  </a:lnTo>
                  <a:lnTo>
                    <a:pt x="23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6378200">
              <a:off x="-3600" y="3020760"/>
              <a:ext cx="342720" cy="351360"/>
            </a:xfrm>
            <a:custGeom>
              <a:avLst/>
              <a:gdLst/>
              <a:ahLst/>
              <a:rect l="l" t="t" r="r" b="b"/>
              <a:pathLst>
                <a:path w="863" h="1161">
                  <a:moveTo>
                    <a:pt x="62" y="909"/>
                  </a:moveTo>
                  <a:lnTo>
                    <a:pt x="83" y="895"/>
                  </a:lnTo>
                  <a:lnTo>
                    <a:pt x="106" y="884"/>
                  </a:lnTo>
                  <a:lnTo>
                    <a:pt x="129" y="872"/>
                  </a:lnTo>
                  <a:lnTo>
                    <a:pt x="153" y="861"/>
                  </a:lnTo>
                  <a:lnTo>
                    <a:pt x="132" y="843"/>
                  </a:lnTo>
                  <a:lnTo>
                    <a:pt x="111" y="819"/>
                  </a:lnTo>
                  <a:lnTo>
                    <a:pt x="90" y="791"/>
                  </a:lnTo>
                  <a:lnTo>
                    <a:pt x="79" y="775"/>
                  </a:lnTo>
                  <a:lnTo>
                    <a:pt x="69" y="759"/>
                  </a:lnTo>
                  <a:lnTo>
                    <a:pt x="49" y="724"/>
                  </a:lnTo>
                  <a:lnTo>
                    <a:pt x="33" y="690"/>
                  </a:lnTo>
                  <a:lnTo>
                    <a:pt x="19" y="654"/>
                  </a:lnTo>
                  <a:lnTo>
                    <a:pt x="8" y="619"/>
                  </a:lnTo>
                  <a:lnTo>
                    <a:pt x="0" y="555"/>
                  </a:lnTo>
                  <a:lnTo>
                    <a:pt x="4" y="528"/>
                  </a:lnTo>
                  <a:lnTo>
                    <a:pt x="14" y="507"/>
                  </a:lnTo>
                  <a:lnTo>
                    <a:pt x="22" y="499"/>
                  </a:lnTo>
                  <a:lnTo>
                    <a:pt x="31" y="493"/>
                  </a:lnTo>
                  <a:lnTo>
                    <a:pt x="55" y="484"/>
                  </a:lnTo>
                  <a:lnTo>
                    <a:pt x="129" y="494"/>
                  </a:lnTo>
                  <a:lnTo>
                    <a:pt x="115" y="468"/>
                  </a:lnTo>
                  <a:lnTo>
                    <a:pt x="102" y="440"/>
                  </a:lnTo>
                  <a:lnTo>
                    <a:pt x="90" y="409"/>
                  </a:lnTo>
                  <a:lnTo>
                    <a:pt x="79" y="378"/>
                  </a:lnTo>
                  <a:lnTo>
                    <a:pt x="54" y="256"/>
                  </a:lnTo>
                  <a:lnTo>
                    <a:pt x="56" y="205"/>
                  </a:lnTo>
                  <a:lnTo>
                    <a:pt x="62" y="185"/>
                  </a:lnTo>
                  <a:lnTo>
                    <a:pt x="71" y="169"/>
                  </a:lnTo>
                  <a:lnTo>
                    <a:pt x="84" y="158"/>
                  </a:lnTo>
                  <a:lnTo>
                    <a:pt x="101" y="152"/>
                  </a:lnTo>
                  <a:lnTo>
                    <a:pt x="147" y="161"/>
                  </a:lnTo>
                  <a:lnTo>
                    <a:pt x="157" y="129"/>
                  </a:lnTo>
                  <a:lnTo>
                    <a:pt x="169" y="101"/>
                  </a:lnTo>
                  <a:lnTo>
                    <a:pt x="183" y="74"/>
                  </a:lnTo>
                  <a:lnTo>
                    <a:pt x="200" y="52"/>
                  </a:lnTo>
                  <a:lnTo>
                    <a:pt x="209" y="43"/>
                  </a:lnTo>
                  <a:lnTo>
                    <a:pt x="219" y="33"/>
                  </a:lnTo>
                  <a:lnTo>
                    <a:pt x="239" y="19"/>
                  </a:lnTo>
                  <a:lnTo>
                    <a:pt x="259" y="7"/>
                  </a:lnTo>
                  <a:lnTo>
                    <a:pt x="281" y="1"/>
                  </a:lnTo>
                  <a:lnTo>
                    <a:pt x="325" y="0"/>
                  </a:lnTo>
                  <a:lnTo>
                    <a:pt x="369" y="19"/>
                  </a:lnTo>
                  <a:lnTo>
                    <a:pt x="407" y="58"/>
                  </a:lnTo>
                  <a:lnTo>
                    <a:pt x="424" y="86"/>
                  </a:lnTo>
                  <a:lnTo>
                    <a:pt x="438" y="121"/>
                  </a:lnTo>
                  <a:lnTo>
                    <a:pt x="461" y="106"/>
                  </a:lnTo>
                  <a:lnTo>
                    <a:pt x="482" y="94"/>
                  </a:lnTo>
                  <a:lnTo>
                    <a:pt x="519" y="78"/>
                  </a:lnTo>
                  <a:lnTo>
                    <a:pt x="549" y="69"/>
                  </a:lnTo>
                  <a:lnTo>
                    <a:pt x="572" y="69"/>
                  </a:lnTo>
                  <a:lnTo>
                    <a:pt x="603" y="88"/>
                  </a:lnTo>
                  <a:lnTo>
                    <a:pt x="615" y="127"/>
                  </a:lnTo>
                  <a:lnTo>
                    <a:pt x="611" y="180"/>
                  </a:lnTo>
                  <a:lnTo>
                    <a:pt x="604" y="209"/>
                  </a:lnTo>
                  <a:lnTo>
                    <a:pt x="596" y="239"/>
                  </a:lnTo>
                  <a:lnTo>
                    <a:pt x="585" y="268"/>
                  </a:lnTo>
                  <a:lnTo>
                    <a:pt x="573" y="296"/>
                  </a:lnTo>
                  <a:lnTo>
                    <a:pt x="560" y="322"/>
                  </a:lnTo>
                  <a:lnTo>
                    <a:pt x="548" y="345"/>
                  </a:lnTo>
                  <a:lnTo>
                    <a:pt x="585" y="336"/>
                  </a:lnTo>
                  <a:lnTo>
                    <a:pt x="617" y="333"/>
                  </a:lnTo>
                  <a:lnTo>
                    <a:pt x="667" y="341"/>
                  </a:lnTo>
                  <a:lnTo>
                    <a:pt x="700" y="367"/>
                  </a:lnTo>
                  <a:lnTo>
                    <a:pt x="718" y="406"/>
                  </a:lnTo>
                  <a:lnTo>
                    <a:pt x="724" y="454"/>
                  </a:lnTo>
                  <a:lnTo>
                    <a:pt x="721" y="505"/>
                  </a:lnTo>
                  <a:lnTo>
                    <a:pt x="708" y="558"/>
                  </a:lnTo>
                  <a:lnTo>
                    <a:pt x="699" y="582"/>
                  </a:lnTo>
                  <a:lnTo>
                    <a:pt x="690" y="605"/>
                  </a:lnTo>
                  <a:lnTo>
                    <a:pt x="747" y="592"/>
                  </a:lnTo>
                  <a:lnTo>
                    <a:pt x="792" y="591"/>
                  </a:lnTo>
                  <a:lnTo>
                    <a:pt x="825" y="600"/>
                  </a:lnTo>
                  <a:lnTo>
                    <a:pt x="847" y="618"/>
                  </a:lnTo>
                  <a:lnTo>
                    <a:pt x="859" y="644"/>
                  </a:lnTo>
                  <a:lnTo>
                    <a:pt x="863" y="678"/>
                  </a:lnTo>
                  <a:lnTo>
                    <a:pt x="859" y="716"/>
                  </a:lnTo>
                  <a:lnTo>
                    <a:pt x="849" y="758"/>
                  </a:lnTo>
                  <a:lnTo>
                    <a:pt x="835" y="802"/>
                  </a:lnTo>
                  <a:lnTo>
                    <a:pt x="826" y="825"/>
                  </a:lnTo>
                  <a:lnTo>
                    <a:pt x="817" y="848"/>
                  </a:lnTo>
                  <a:lnTo>
                    <a:pt x="807" y="870"/>
                  </a:lnTo>
                  <a:lnTo>
                    <a:pt x="797" y="892"/>
                  </a:lnTo>
                  <a:lnTo>
                    <a:pt x="785" y="914"/>
                  </a:lnTo>
                  <a:lnTo>
                    <a:pt x="775" y="935"/>
                  </a:lnTo>
                  <a:lnTo>
                    <a:pt x="763" y="955"/>
                  </a:lnTo>
                  <a:lnTo>
                    <a:pt x="753" y="974"/>
                  </a:lnTo>
                  <a:lnTo>
                    <a:pt x="743" y="993"/>
                  </a:lnTo>
                  <a:lnTo>
                    <a:pt x="732" y="1009"/>
                  </a:lnTo>
                  <a:lnTo>
                    <a:pt x="714" y="1038"/>
                  </a:lnTo>
                  <a:lnTo>
                    <a:pt x="700" y="1059"/>
                  </a:lnTo>
                  <a:lnTo>
                    <a:pt x="687" y="1071"/>
                  </a:lnTo>
                  <a:lnTo>
                    <a:pt x="673" y="1076"/>
                  </a:lnTo>
                  <a:lnTo>
                    <a:pt x="645" y="1072"/>
                  </a:lnTo>
                  <a:lnTo>
                    <a:pt x="627" y="1052"/>
                  </a:lnTo>
                  <a:lnTo>
                    <a:pt x="631" y="1022"/>
                  </a:lnTo>
                  <a:lnTo>
                    <a:pt x="642" y="1005"/>
                  </a:lnTo>
                  <a:lnTo>
                    <a:pt x="655" y="985"/>
                  </a:lnTo>
                  <a:lnTo>
                    <a:pt x="670" y="965"/>
                  </a:lnTo>
                  <a:lnTo>
                    <a:pt x="687" y="943"/>
                  </a:lnTo>
                  <a:lnTo>
                    <a:pt x="705" y="920"/>
                  </a:lnTo>
                  <a:lnTo>
                    <a:pt x="721" y="896"/>
                  </a:lnTo>
                  <a:lnTo>
                    <a:pt x="738" y="873"/>
                  </a:lnTo>
                  <a:lnTo>
                    <a:pt x="754" y="848"/>
                  </a:lnTo>
                  <a:lnTo>
                    <a:pt x="769" y="823"/>
                  </a:lnTo>
                  <a:lnTo>
                    <a:pt x="782" y="798"/>
                  </a:lnTo>
                  <a:lnTo>
                    <a:pt x="799" y="749"/>
                  </a:lnTo>
                  <a:lnTo>
                    <a:pt x="804" y="701"/>
                  </a:lnTo>
                  <a:lnTo>
                    <a:pt x="799" y="678"/>
                  </a:lnTo>
                  <a:lnTo>
                    <a:pt x="789" y="656"/>
                  </a:lnTo>
                  <a:lnTo>
                    <a:pt x="775" y="645"/>
                  </a:lnTo>
                  <a:lnTo>
                    <a:pt x="755" y="646"/>
                  </a:lnTo>
                  <a:lnTo>
                    <a:pt x="703" y="669"/>
                  </a:lnTo>
                  <a:lnTo>
                    <a:pt x="677" y="685"/>
                  </a:lnTo>
                  <a:lnTo>
                    <a:pt x="652" y="702"/>
                  </a:lnTo>
                  <a:lnTo>
                    <a:pt x="631" y="715"/>
                  </a:lnTo>
                  <a:lnTo>
                    <a:pt x="617" y="722"/>
                  </a:lnTo>
                  <a:lnTo>
                    <a:pt x="581" y="729"/>
                  </a:lnTo>
                  <a:lnTo>
                    <a:pt x="568" y="712"/>
                  </a:lnTo>
                  <a:lnTo>
                    <a:pt x="572" y="677"/>
                  </a:lnTo>
                  <a:lnTo>
                    <a:pt x="579" y="655"/>
                  </a:lnTo>
                  <a:lnTo>
                    <a:pt x="588" y="631"/>
                  </a:lnTo>
                  <a:lnTo>
                    <a:pt x="598" y="605"/>
                  </a:lnTo>
                  <a:lnTo>
                    <a:pt x="610" y="579"/>
                  </a:lnTo>
                  <a:lnTo>
                    <a:pt x="622" y="553"/>
                  </a:lnTo>
                  <a:lnTo>
                    <a:pt x="633" y="528"/>
                  </a:lnTo>
                  <a:lnTo>
                    <a:pt x="650" y="484"/>
                  </a:lnTo>
                  <a:lnTo>
                    <a:pt x="658" y="454"/>
                  </a:lnTo>
                  <a:lnTo>
                    <a:pt x="656" y="424"/>
                  </a:lnTo>
                  <a:lnTo>
                    <a:pt x="649" y="405"/>
                  </a:lnTo>
                  <a:lnTo>
                    <a:pt x="638" y="395"/>
                  </a:lnTo>
                  <a:lnTo>
                    <a:pt x="623" y="392"/>
                  </a:lnTo>
                  <a:lnTo>
                    <a:pt x="586" y="400"/>
                  </a:lnTo>
                  <a:lnTo>
                    <a:pt x="543" y="421"/>
                  </a:lnTo>
                  <a:lnTo>
                    <a:pt x="522" y="433"/>
                  </a:lnTo>
                  <a:lnTo>
                    <a:pt x="502" y="443"/>
                  </a:lnTo>
                  <a:lnTo>
                    <a:pt x="483" y="453"/>
                  </a:lnTo>
                  <a:lnTo>
                    <a:pt x="467" y="457"/>
                  </a:lnTo>
                  <a:lnTo>
                    <a:pt x="445" y="451"/>
                  </a:lnTo>
                  <a:lnTo>
                    <a:pt x="440" y="414"/>
                  </a:lnTo>
                  <a:lnTo>
                    <a:pt x="450" y="379"/>
                  </a:lnTo>
                  <a:lnTo>
                    <a:pt x="465" y="345"/>
                  </a:lnTo>
                  <a:lnTo>
                    <a:pt x="474" y="328"/>
                  </a:lnTo>
                  <a:lnTo>
                    <a:pt x="483" y="311"/>
                  </a:lnTo>
                  <a:lnTo>
                    <a:pt x="503" y="278"/>
                  </a:lnTo>
                  <a:lnTo>
                    <a:pt x="522" y="245"/>
                  </a:lnTo>
                  <a:lnTo>
                    <a:pt x="537" y="211"/>
                  </a:lnTo>
                  <a:lnTo>
                    <a:pt x="547" y="142"/>
                  </a:lnTo>
                  <a:lnTo>
                    <a:pt x="506" y="159"/>
                  </a:lnTo>
                  <a:lnTo>
                    <a:pt x="480" y="179"/>
                  </a:lnTo>
                  <a:lnTo>
                    <a:pt x="458" y="203"/>
                  </a:lnTo>
                  <a:lnTo>
                    <a:pt x="445" y="217"/>
                  </a:lnTo>
                  <a:lnTo>
                    <a:pt x="432" y="234"/>
                  </a:lnTo>
                  <a:lnTo>
                    <a:pt x="415" y="250"/>
                  </a:lnTo>
                  <a:lnTo>
                    <a:pt x="402" y="259"/>
                  </a:lnTo>
                  <a:lnTo>
                    <a:pt x="386" y="254"/>
                  </a:lnTo>
                  <a:lnTo>
                    <a:pt x="372" y="184"/>
                  </a:lnTo>
                  <a:lnTo>
                    <a:pt x="365" y="138"/>
                  </a:lnTo>
                  <a:lnTo>
                    <a:pt x="360" y="114"/>
                  </a:lnTo>
                  <a:lnTo>
                    <a:pt x="352" y="94"/>
                  </a:lnTo>
                  <a:lnTo>
                    <a:pt x="340" y="77"/>
                  </a:lnTo>
                  <a:lnTo>
                    <a:pt x="325" y="64"/>
                  </a:lnTo>
                  <a:lnTo>
                    <a:pt x="305" y="55"/>
                  </a:lnTo>
                  <a:lnTo>
                    <a:pt x="280" y="54"/>
                  </a:lnTo>
                  <a:lnTo>
                    <a:pt x="250" y="68"/>
                  </a:lnTo>
                  <a:lnTo>
                    <a:pt x="232" y="100"/>
                  </a:lnTo>
                  <a:lnTo>
                    <a:pt x="215" y="183"/>
                  </a:lnTo>
                  <a:lnTo>
                    <a:pt x="207" y="220"/>
                  </a:lnTo>
                  <a:lnTo>
                    <a:pt x="202" y="234"/>
                  </a:lnTo>
                  <a:lnTo>
                    <a:pt x="194" y="243"/>
                  </a:lnTo>
                  <a:lnTo>
                    <a:pt x="169" y="245"/>
                  </a:lnTo>
                  <a:lnTo>
                    <a:pt x="128" y="219"/>
                  </a:lnTo>
                  <a:lnTo>
                    <a:pt x="115" y="263"/>
                  </a:lnTo>
                  <a:lnTo>
                    <a:pt x="123" y="321"/>
                  </a:lnTo>
                  <a:lnTo>
                    <a:pt x="131" y="353"/>
                  </a:lnTo>
                  <a:lnTo>
                    <a:pt x="143" y="386"/>
                  </a:lnTo>
                  <a:lnTo>
                    <a:pt x="154" y="420"/>
                  </a:lnTo>
                  <a:lnTo>
                    <a:pt x="167" y="453"/>
                  </a:lnTo>
                  <a:lnTo>
                    <a:pt x="179" y="483"/>
                  </a:lnTo>
                  <a:lnTo>
                    <a:pt x="188" y="512"/>
                  </a:lnTo>
                  <a:lnTo>
                    <a:pt x="197" y="558"/>
                  </a:lnTo>
                  <a:lnTo>
                    <a:pt x="195" y="574"/>
                  </a:lnTo>
                  <a:lnTo>
                    <a:pt x="188" y="583"/>
                  </a:lnTo>
                  <a:lnTo>
                    <a:pt x="152" y="582"/>
                  </a:lnTo>
                  <a:lnTo>
                    <a:pt x="114" y="564"/>
                  </a:lnTo>
                  <a:lnTo>
                    <a:pt x="96" y="555"/>
                  </a:lnTo>
                  <a:lnTo>
                    <a:pt x="75" y="550"/>
                  </a:lnTo>
                  <a:lnTo>
                    <a:pt x="62" y="575"/>
                  </a:lnTo>
                  <a:lnTo>
                    <a:pt x="57" y="601"/>
                  </a:lnTo>
                  <a:lnTo>
                    <a:pt x="62" y="626"/>
                  </a:lnTo>
                  <a:lnTo>
                    <a:pt x="71" y="653"/>
                  </a:lnTo>
                  <a:lnTo>
                    <a:pt x="87" y="678"/>
                  </a:lnTo>
                  <a:lnTo>
                    <a:pt x="97" y="691"/>
                  </a:lnTo>
                  <a:lnTo>
                    <a:pt x="107" y="703"/>
                  </a:lnTo>
                  <a:lnTo>
                    <a:pt x="129" y="729"/>
                  </a:lnTo>
                  <a:lnTo>
                    <a:pt x="141" y="740"/>
                  </a:lnTo>
                  <a:lnTo>
                    <a:pt x="152" y="752"/>
                  </a:lnTo>
                  <a:lnTo>
                    <a:pt x="165" y="763"/>
                  </a:lnTo>
                  <a:lnTo>
                    <a:pt x="176" y="775"/>
                  </a:lnTo>
                  <a:lnTo>
                    <a:pt x="188" y="787"/>
                  </a:lnTo>
                  <a:lnTo>
                    <a:pt x="199" y="797"/>
                  </a:lnTo>
                  <a:lnTo>
                    <a:pt x="210" y="808"/>
                  </a:lnTo>
                  <a:lnTo>
                    <a:pt x="220" y="817"/>
                  </a:lnTo>
                  <a:lnTo>
                    <a:pt x="237" y="836"/>
                  </a:lnTo>
                  <a:lnTo>
                    <a:pt x="257" y="869"/>
                  </a:lnTo>
                  <a:lnTo>
                    <a:pt x="257" y="882"/>
                  </a:lnTo>
                  <a:lnTo>
                    <a:pt x="248" y="893"/>
                  </a:lnTo>
                  <a:lnTo>
                    <a:pt x="233" y="902"/>
                  </a:lnTo>
                  <a:lnTo>
                    <a:pt x="217" y="909"/>
                  </a:lnTo>
                  <a:lnTo>
                    <a:pt x="182" y="918"/>
                  </a:lnTo>
                  <a:lnTo>
                    <a:pt x="115" y="944"/>
                  </a:lnTo>
                  <a:lnTo>
                    <a:pt x="117" y="973"/>
                  </a:lnTo>
                  <a:lnTo>
                    <a:pt x="127" y="989"/>
                  </a:lnTo>
                  <a:lnTo>
                    <a:pt x="143" y="1004"/>
                  </a:lnTo>
                  <a:lnTo>
                    <a:pt x="162" y="1018"/>
                  </a:lnTo>
                  <a:lnTo>
                    <a:pt x="184" y="1033"/>
                  </a:lnTo>
                  <a:lnTo>
                    <a:pt x="211" y="1047"/>
                  </a:lnTo>
                  <a:lnTo>
                    <a:pt x="239" y="1061"/>
                  </a:lnTo>
                  <a:lnTo>
                    <a:pt x="267" y="1073"/>
                  </a:lnTo>
                  <a:lnTo>
                    <a:pt x="296" y="1085"/>
                  </a:lnTo>
                  <a:lnTo>
                    <a:pt x="325" y="1094"/>
                  </a:lnTo>
                  <a:lnTo>
                    <a:pt x="353" y="1103"/>
                  </a:lnTo>
                  <a:lnTo>
                    <a:pt x="401" y="1115"/>
                  </a:lnTo>
                  <a:lnTo>
                    <a:pt x="437" y="1120"/>
                  </a:lnTo>
                  <a:lnTo>
                    <a:pt x="455" y="1130"/>
                  </a:lnTo>
                  <a:lnTo>
                    <a:pt x="454" y="1140"/>
                  </a:lnTo>
                  <a:lnTo>
                    <a:pt x="444" y="1147"/>
                  </a:lnTo>
                  <a:lnTo>
                    <a:pt x="415" y="1156"/>
                  </a:lnTo>
                  <a:lnTo>
                    <a:pt x="384" y="1161"/>
                  </a:lnTo>
                  <a:lnTo>
                    <a:pt x="316" y="1158"/>
                  </a:lnTo>
                  <a:lnTo>
                    <a:pt x="243" y="1142"/>
                  </a:lnTo>
                  <a:lnTo>
                    <a:pt x="209" y="1129"/>
                  </a:lnTo>
                  <a:lnTo>
                    <a:pt x="175" y="1113"/>
                  </a:lnTo>
                  <a:lnTo>
                    <a:pt x="144" y="1094"/>
                  </a:lnTo>
                  <a:lnTo>
                    <a:pt x="116" y="1073"/>
                  </a:lnTo>
                  <a:lnTo>
                    <a:pt x="104" y="1062"/>
                  </a:lnTo>
                  <a:lnTo>
                    <a:pt x="93" y="1050"/>
                  </a:lnTo>
                  <a:lnTo>
                    <a:pt x="74" y="1025"/>
                  </a:lnTo>
                  <a:lnTo>
                    <a:pt x="53" y="969"/>
                  </a:lnTo>
                  <a:lnTo>
                    <a:pt x="53" y="955"/>
                  </a:lnTo>
                  <a:lnTo>
                    <a:pt x="54" y="939"/>
                  </a:lnTo>
                  <a:lnTo>
                    <a:pt x="62" y="909"/>
                  </a:lnTo>
                  <a:lnTo>
                    <a:pt x="62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378200">
              <a:off x="243360" y="3278160"/>
              <a:ext cx="484200" cy="268560"/>
            </a:xfrm>
            <a:custGeom>
              <a:avLst/>
              <a:gdLst/>
              <a:ahLst/>
              <a:rect l="l" t="t" r="r" b="b"/>
              <a:pathLst>
                <a:path w="1218" h="887">
                  <a:moveTo>
                    <a:pt x="754" y="47"/>
                  </a:moveTo>
                  <a:lnTo>
                    <a:pt x="752" y="96"/>
                  </a:lnTo>
                  <a:lnTo>
                    <a:pt x="754" y="144"/>
                  </a:lnTo>
                  <a:lnTo>
                    <a:pt x="693" y="132"/>
                  </a:lnTo>
                  <a:lnTo>
                    <a:pt x="616" y="129"/>
                  </a:lnTo>
                  <a:lnTo>
                    <a:pt x="452" y="151"/>
                  </a:lnTo>
                  <a:lnTo>
                    <a:pt x="389" y="176"/>
                  </a:lnTo>
                  <a:lnTo>
                    <a:pt x="350" y="211"/>
                  </a:lnTo>
                  <a:lnTo>
                    <a:pt x="344" y="232"/>
                  </a:lnTo>
                  <a:lnTo>
                    <a:pt x="348" y="255"/>
                  </a:lnTo>
                  <a:lnTo>
                    <a:pt x="355" y="268"/>
                  </a:lnTo>
                  <a:lnTo>
                    <a:pt x="365" y="280"/>
                  </a:lnTo>
                  <a:lnTo>
                    <a:pt x="378" y="294"/>
                  </a:lnTo>
                  <a:lnTo>
                    <a:pt x="395" y="309"/>
                  </a:lnTo>
                  <a:lnTo>
                    <a:pt x="260" y="327"/>
                  </a:lnTo>
                  <a:lnTo>
                    <a:pt x="191" y="346"/>
                  </a:lnTo>
                  <a:lnTo>
                    <a:pt x="132" y="369"/>
                  </a:lnTo>
                  <a:lnTo>
                    <a:pt x="106" y="381"/>
                  </a:lnTo>
                  <a:lnTo>
                    <a:pt x="84" y="395"/>
                  </a:lnTo>
                  <a:lnTo>
                    <a:pt x="58" y="425"/>
                  </a:lnTo>
                  <a:lnTo>
                    <a:pt x="58" y="457"/>
                  </a:lnTo>
                  <a:lnTo>
                    <a:pt x="68" y="473"/>
                  </a:lnTo>
                  <a:lnTo>
                    <a:pt x="77" y="481"/>
                  </a:lnTo>
                  <a:lnTo>
                    <a:pt x="89" y="490"/>
                  </a:lnTo>
                  <a:lnTo>
                    <a:pt x="75" y="501"/>
                  </a:lnTo>
                  <a:lnTo>
                    <a:pt x="63" y="513"/>
                  </a:lnTo>
                  <a:lnTo>
                    <a:pt x="42" y="537"/>
                  </a:lnTo>
                  <a:lnTo>
                    <a:pt x="12" y="586"/>
                  </a:lnTo>
                  <a:lnTo>
                    <a:pt x="0" y="633"/>
                  </a:lnTo>
                  <a:lnTo>
                    <a:pt x="3" y="675"/>
                  </a:lnTo>
                  <a:lnTo>
                    <a:pt x="12" y="695"/>
                  </a:lnTo>
                  <a:lnTo>
                    <a:pt x="24" y="711"/>
                  </a:lnTo>
                  <a:lnTo>
                    <a:pt x="43" y="725"/>
                  </a:lnTo>
                  <a:lnTo>
                    <a:pt x="63" y="735"/>
                  </a:lnTo>
                  <a:lnTo>
                    <a:pt x="90" y="743"/>
                  </a:lnTo>
                  <a:lnTo>
                    <a:pt x="121" y="747"/>
                  </a:lnTo>
                  <a:lnTo>
                    <a:pt x="195" y="741"/>
                  </a:lnTo>
                  <a:lnTo>
                    <a:pt x="193" y="788"/>
                  </a:lnTo>
                  <a:lnTo>
                    <a:pt x="195" y="826"/>
                  </a:lnTo>
                  <a:lnTo>
                    <a:pt x="202" y="853"/>
                  </a:lnTo>
                  <a:lnTo>
                    <a:pt x="213" y="872"/>
                  </a:lnTo>
                  <a:lnTo>
                    <a:pt x="228" y="883"/>
                  </a:lnTo>
                  <a:lnTo>
                    <a:pt x="247" y="887"/>
                  </a:lnTo>
                  <a:lnTo>
                    <a:pt x="291" y="877"/>
                  </a:lnTo>
                  <a:lnTo>
                    <a:pt x="314" y="864"/>
                  </a:lnTo>
                  <a:lnTo>
                    <a:pt x="338" y="847"/>
                  </a:lnTo>
                  <a:lnTo>
                    <a:pt x="362" y="827"/>
                  </a:lnTo>
                  <a:lnTo>
                    <a:pt x="375" y="816"/>
                  </a:lnTo>
                  <a:lnTo>
                    <a:pt x="386" y="806"/>
                  </a:lnTo>
                  <a:lnTo>
                    <a:pt x="398" y="794"/>
                  </a:lnTo>
                  <a:lnTo>
                    <a:pt x="408" y="783"/>
                  </a:lnTo>
                  <a:lnTo>
                    <a:pt x="429" y="760"/>
                  </a:lnTo>
                  <a:lnTo>
                    <a:pt x="448" y="736"/>
                  </a:lnTo>
                  <a:lnTo>
                    <a:pt x="463" y="714"/>
                  </a:lnTo>
                  <a:lnTo>
                    <a:pt x="473" y="749"/>
                  </a:lnTo>
                  <a:lnTo>
                    <a:pt x="486" y="775"/>
                  </a:lnTo>
                  <a:lnTo>
                    <a:pt x="501" y="796"/>
                  </a:lnTo>
                  <a:lnTo>
                    <a:pt x="518" y="811"/>
                  </a:lnTo>
                  <a:lnTo>
                    <a:pt x="539" y="821"/>
                  </a:lnTo>
                  <a:lnTo>
                    <a:pt x="559" y="824"/>
                  </a:lnTo>
                  <a:lnTo>
                    <a:pt x="606" y="820"/>
                  </a:lnTo>
                  <a:lnTo>
                    <a:pt x="654" y="801"/>
                  </a:lnTo>
                  <a:lnTo>
                    <a:pt x="678" y="787"/>
                  </a:lnTo>
                  <a:lnTo>
                    <a:pt x="701" y="771"/>
                  </a:lnTo>
                  <a:lnTo>
                    <a:pt x="724" y="753"/>
                  </a:lnTo>
                  <a:lnTo>
                    <a:pt x="745" y="735"/>
                  </a:lnTo>
                  <a:lnTo>
                    <a:pt x="764" y="715"/>
                  </a:lnTo>
                  <a:lnTo>
                    <a:pt x="781" y="696"/>
                  </a:lnTo>
                  <a:lnTo>
                    <a:pt x="788" y="725"/>
                  </a:lnTo>
                  <a:lnTo>
                    <a:pt x="797" y="749"/>
                  </a:lnTo>
                  <a:lnTo>
                    <a:pt x="806" y="769"/>
                  </a:lnTo>
                  <a:lnTo>
                    <a:pt x="818" y="786"/>
                  </a:lnTo>
                  <a:lnTo>
                    <a:pt x="829" y="799"/>
                  </a:lnTo>
                  <a:lnTo>
                    <a:pt x="842" y="807"/>
                  </a:lnTo>
                  <a:lnTo>
                    <a:pt x="871" y="815"/>
                  </a:lnTo>
                  <a:lnTo>
                    <a:pt x="902" y="811"/>
                  </a:lnTo>
                  <a:lnTo>
                    <a:pt x="936" y="798"/>
                  </a:lnTo>
                  <a:lnTo>
                    <a:pt x="970" y="775"/>
                  </a:lnTo>
                  <a:lnTo>
                    <a:pt x="987" y="762"/>
                  </a:lnTo>
                  <a:lnTo>
                    <a:pt x="1005" y="747"/>
                  </a:lnTo>
                  <a:lnTo>
                    <a:pt x="1022" y="730"/>
                  </a:lnTo>
                  <a:lnTo>
                    <a:pt x="1039" y="713"/>
                  </a:lnTo>
                  <a:lnTo>
                    <a:pt x="1057" y="695"/>
                  </a:lnTo>
                  <a:lnTo>
                    <a:pt x="1074" y="676"/>
                  </a:lnTo>
                  <a:lnTo>
                    <a:pt x="1090" y="657"/>
                  </a:lnTo>
                  <a:lnTo>
                    <a:pt x="1105" y="637"/>
                  </a:lnTo>
                  <a:lnTo>
                    <a:pt x="1121" y="618"/>
                  </a:lnTo>
                  <a:lnTo>
                    <a:pt x="1135" y="599"/>
                  </a:lnTo>
                  <a:lnTo>
                    <a:pt x="1149" y="581"/>
                  </a:lnTo>
                  <a:lnTo>
                    <a:pt x="1162" y="563"/>
                  </a:lnTo>
                  <a:lnTo>
                    <a:pt x="1173" y="545"/>
                  </a:lnTo>
                  <a:lnTo>
                    <a:pt x="1185" y="529"/>
                  </a:lnTo>
                  <a:lnTo>
                    <a:pt x="1194" y="514"/>
                  </a:lnTo>
                  <a:lnTo>
                    <a:pt x="1202" y="500"/>
                  </a:lnTo>
                  <a:lnTo>
                    <a:pt x="1216" y="478"/>
                  </a:lnTo>
                  <a:lnTo>
                    <a:pt x="1218" y="448"/>
                  </a:lnTo>
                  <a:lnTo>
                    <a:pt x="1211" y="437"/>
                  </a:lnTo>
                  <a:lnTo>
                    <a:pt x="1200" y="428"/>
                  </a:lnTo>
                  <a:lnTo>
                    <a:pt x="1172" y="425"/>
                  </a:lnTo>
                  <a:lnTo>
                    <a:pt x="1146" y="442"/>
                  </a:lnTo>
                  <a:lnTo>
                    <a:pt x="1122" y="480"/>
                  </a:lnTo>
                  <a:lnTo>
                    <a:pt x="1111" y="503"/>
                  </a:lnTo>
                  <a:lnTo>
                    <a:pt x="1098" y="526"/>
                  </a:lnTo>
                  <a:lnTo>
                    <a:pt x="1086" y="551"/>
                  </a:lnTo>
                  <a:lnTo>
                    <a:pt x="1072" y="576"/>
                  </a:lnTo>
                  <a:lnTo>
                    <a:pt x="1058" y="602"/>
                  </a:lnTo>
                  <a:lnTo>
                    <a:pt x="1043" y="627"/>
                  </a:lnTo>
                  <a:lnTo>
                    <a:pt x="1027" y="651"/>
                  </a:lnTo>
                  <a:lnTo>
                    <a:pt x="1009" y="673"/>
                  </a:lnTo>
                  <a:lnTo>
                    <a:pt x="991" y="694"/>
                  </a:lnTo>
                  <a:lnTo>
                    <a:pt x="982" y="704"/>
                  </a:lnTo>
                  <a:lnTo>
                    <a:pt x="971" y="712"/>
                  </a:lnTo>
                  <a:lnTo>
                    <a:pt x="951" y="727"/>
                  </a:lnTo>
                  <a:lnTo>
                    <a:pt x="927" y="740"/>
                  </a:lnTo>
                  <a:lnTo>
                    <a:pt x="903" y="747"/>
                  </a:lnTo>
                  <a:lnTo>
                    <a:pt x="878" y="750"/>
                  </a:lnTo>
                  <a:lnTo>
                    <a:pt x="862" y="745"/>
                  </a:lnTo>
                  <a:lnTo>
                    <a:pt x="853" y="728"/>
                  </a:lnTo>
                  <a:lnTo>
                    <a:pt x="848" y="675"/>
                  </a:lnTo>
                  <a:lnTo>
                    <a:pt x="856" y="581"/>
                  </a:lnTo>
                  <a:lnTo>
                    <a:pt x="851" y="560"/>
                  </a:lnTo>
                  <a:lnTo>
                    <a:pt x="843" y="549"/>
                  </a:lnTo>
                  <a:lnTo>
                    <a:pt x="820" y="548"/>
                  </a:lnTo>
                  <a:lnTo>
                    <a:pt x="790" y="568"/>
                  </a:lnTo>
                  <a:lnTo>
                    <a:pt x="772" y="585"/>
                  </a:lnTo>
                  <a:lnTo>
                    <a:pt x="753" y="604"/>
                  </a:lnTo>
                  <a:lnTo>
                    <a:pt x="735" y="625"/>
                  </a:lnTo>
                  <a:lnTo>
                    <a:pt x="716" y="647"/>
                  </a:lnTo>
                  <a:lnTo>
                    <a:pt x="697" y="669"/>
                  </a:lnTo>
                  <a:lnTo>
                    <a:pt x="679" y="690"/>
                  </a:lnTo>
                  <a:lnTo>
                    <a:pt x="662" y="710"/>
                  </a:lnTo>
                  <a:lnTo>
                    <a:pt x="646" y="727"/>
                  </a:lnTo>
                  <a:lnTo>
                    <a:pt x="632" y="740"/>
                  </a:lnTo>
                  <a:lnTo>
                    <a:pt x="621" y="748"/>
                  </a:lnTo>
                  <a:lnTo>
                    <a:pt x="592" y="761"/>
                  </a:lnTo>
                  <a:lnTo>
                    <a:pt x="571" y="764"/>
                  </a:lnTo>
                  <a:lnTo>
                    <a:pt x="544" y="751"/>
                  </a:lnTo>
                  <a:lnTo>
                    <a:pt x="534" y="717"/>
                  </a:lnTo>
                  <a:lnTo>
                    <a:pt x="533" y="673"/>
                  </a:lnTo>
                  <a:lnTo>
                    <a:pt x="528" y="595"/>
                  </a:lnTo>
                  <a:lnTo>
                    <a:pt x="523" y="585"/>
                  </a:lnTo>
                  <a:lnTo>
                    <a:pt x="512" y="581"/>
                  </a:lnTo>
                  <a:lnTo>
                    <a:pt x="475" y="595"/>
                  </a:lnTo>
                  <a:lnTo>
                    <a:pt x="446" y="619"/>
                  </a:lnTo>
                  <a:lnTo>
                    <a:pt x="422" y="648"/>
                  </a:lnTo>
                  <a:lnTo>
                    <a:pt x="411" y="664"/>
                  </a:lnTo>
                  <a:lnTo>
                    <a:pt x="399" y="681"/>
                  </a:lnTo>
                  <a:lnTo>
                    <a:pt x="389" y="696"/>
                  </a:lnTo>
                  <a:lnTo>
                    <a:pt x="377" y="713"/>
                  </a:lnTo>
                  <a:lnTo>
                    <a:pt x="366" y="729"/>
                  </a:lnTo>
                  <a:lnTo>
                    <a:pt x="355" y="745"/>
                  </a:lnTo>
                  <a:lnTo>
                    <a:pt x="343" y="760"/>
                  </a:lnTo>
                  <a:lnTo>
                    <a:pt x="331" y="773"/>
                  </a:lnTo>
                  <a:lnTo>
                    <a:pt x="317" y="786"/>
                  </a:lnTo>
                  <a:lnTo>
                    <a:pt x="302" y="798"/>
                  </a:lnTo>
                  <a:lnTo>
                    <a:pt x="287" y="807"/>
                  </a:lnTo>
                  <a:lnTo>
                    <a:pt x="270" y="814"/>
                  </a:lnTo>
                  <a:lnTo>
                    <a:pt x="266" y="775"/>
                  </a:lnTo>
                  <a:lnTo>
                    <a:pt x="271" y="744"/>
                  </a:lnTo>
                  <a:lnTo>
                    <a:pt x="283" y="714"/>
                  </a:lnTo>
                  <a:lnTo>
                    <a:pt x="299" y="678"/>
                  </a:lnTo>
                  <a:lnTo>
                    <a:pt x="309" y="643"/>
                  </a:lnTo>
                  <a:lnTo>
                    <a:pt x="305" y="634"/>
                  </a:lnTo>
                  <a:lnTo>
                    <a:pt x="295" y="632"/>
                  </a:lnTo>
                  <a:lnTo>
                    <a:pt x="265" y="640"/>
                  </a:lnTo>
                  <a:lnTo>
                    <a:pt x="224" y="656"/>
                  </a:lnTo>
                  <a:lnTo>
                    <a:pt x="200" y="666"/>
                  </a:lnTo>
                  <a:lnTo>
                    <a:pt x="175" y="674"/>
                  </a:lnTo>
                  <a:lnTo>
                    <a:pt x="127" y="685"/>
                  </a:lnTo>
                  <a:lnTo>
                    <a:pt x="85" y="678"/>
                  </a:lnTo>
                  <a:lnTo>
                    <a:pt x="68" y="667"/>
                  </a:lnTo>
                  <a:lnTo>
                    <a:pt x="54" y="649"/>
                  </a:lnTo>
                  <a:lnTo>
                    <a:pt x="52" y="617"/>
                  </a:lnTo>
                  <a:lnTo>
                    <a:pt x="60" y="602"/>
                  </a:lnTo>
                  <a:lnTo>
                    <a:pt x="73" y="587"/>
                  </a:lnTo>
                  <a:lnTo>
                    <a:pt x="89" y="573"/>
                  </a:lnTo>
                  <a:lnTo>
                    <a:pt x="106" y="559"/>
                  </a:lnTo>
                  <a:lnTo>
                    <a:pt x="126" y="546"/>
                  </a:lnTo>
                  <a:lnTo>
                    <a:pt x="144" y="533"/>
                  </a:lnTo>
                  <a:lnTo>
                    <a:pt x="190" y="486"/>
                  </a:lnTo>
                  <a:lnTo>
                    <a:pt x="188" y="474"/>
                  </a:lnTo>
                  <a:lnTo>
                    <a:pt x="179" y="465"/>
                  </a:lnTo>
                  <a:lnTo>
                    <a:pt x="162" y="454"/>
                  </a:lnTo>
                  <a:lnTo>
                    <a:pt x="134" y="446"/>
                  </a:lnTo>
                  <a:lnTo>
                    <a:pt x="148" y="428"/>
                  </a:lnTo>
                  <a:lnTo>
                    <a:pt x="168" y="414"/>
                  </a:lnTo>
                  <a:lnTo>
                    <a:pt x="196" y="401"/>
                  </a:lnTo>
                  <a:lnTo>
                    <a:pt x="227" y="391"/>
                  </a:lnTo>
                  <a:lnTo>
                    <a:pt x="263" y="381"/>
                  </a:lnTo>
                  <a:lnTo>
                    <a:pt x="300" y="373"/>
                  </a:lnTo>
                  <a:lnTo>
                    <a:pt x="374" y="359"/>
                  </a:lnTo>
                  <a:lnTo>
                    <a:pt x="489" y="331"/>
                  </a:lnTo>
                  <a:lnTo>
                    <a:pt x="509" y="310"/>
                  </a:lnTo>
                  <a:lnTo>
                    <a:pt x="505" y="297"/>
                  </a:lnTo>
                  <a:lnTo>
                    <a:pt x="490" y="282"/>
                  </a:lnTo>
                  <a:lnTo>
                    <a:pt x="472" y="272"/>
                  </a:lnTo>
                  <a:lnTo>
                    <a:pt x="453" y="261"/>
                  </a:lnTo>
                  <a:lnTo>
                    <a:pt x="420" y="237"/>
                  </a:lnTo>
                  <a:lnTo>
                    <a:pt x="428" y="225"/>
                  </a:lnTo>
                  <a:lnTo>
                    <a:pt x="438" y="215"/>
                  </a:lnTo>
                  <a:lnTo>
                    <a:pt x="449" y="205"/>
                  </a:lnTo>
                  <a:lnTo>
                    <a:pt x="460" y="199"/>
                  </a:lnTo>
                  <a:lnTo>
                    <a:pt x="487" y="189"/>
                  </a:lnTo>
                  <a:lnTo>
                    <a:pt x="517" y="183"/>
                  </a:lnTo>
                  <a:lnTo>
                    <a:pt x="583" y="185"/>
                  </a:lnTo>
                  <a:lnTo>
                    <a:pt x="651" y="198"/>
                  </a:lnTo>
                  <a:lnTo>
                    <a:pt x="716" y="213"/>
                  </a:lnTo>
                  <a:lnTo>
                    <a:pt x="773" y="223"/>
                  </a:lnTo>
                  <a:lnTo>
                    <a:pt x="813" y="222"/>
                  </a:lnTo>
                  <a:lnTo>
                    <a:pt x="832" y="203"/>
                  </a:lnTo>
                  <a:lnTo>
                    <a:pt x="832" y="170"/>
                  </a:lnTo>
                  <a:lnTo>
                    <a:pt x="824" y="138"/>
                  </a:lnTo>
                  <a:lnTo>
                    <a:pt x="814" y="73"/>
                  </a:lnTo>
                  <a:lnTo>
                    <a:pt x="827" y="63"/>
                  </a:lnTo>
                  <a:lnTo>
                    <a:pt x="843" y="59"/>
                  </a:lnTo>
                  <a:lnTo>
                    <a:pt x="884" y="64"/>
                  </a:lnTo>
                  <a:lnTo>
                    <a:pt x="933" y="83"/>
                  </a:lnTo>
                  <a:lnTo>
                    <a:pt x="960" y="97"/>
                  </a:lnTo>
                  <a:lnTo>
                    <a:pt x="986" y="112"/>
                  </a:lnTo>
                  <a:lnTo>
                    <a:pt x="1012" y="129"/>
                  </a:lnTo>
                  <a:lnTo>
                    <a:pt x="1037" y="145"/>
                  </a:lnTo>
                  <a:lnTo>
                    <a:pt x="1061" y="163"/>
                  </a:lnTo>
                  <a:lnTo>
                    <a:pt x="1083" y="181"/>
                  </a:lnTo>
                  <a:lnTo>
                    <a:pt x="1103" y="198"/>
                  </a:lnTo>
                  <a:lnTo>
                    <a:pt x="1119" y="214"/>
                  </a:lnTo>
                  <a:lnTo>
                    <a:pt x="1141" y="239"/>
                  </a:lnTo>
                  <a:lnTo>
                    <a:pt x="1150" y="248"/>
                  </a:lnTo>
                  <a:lnTo>
                    <a:pt x="1161" y="249"/>
                  </a:lnTo>
                  <a:lnTo>
                    <a:pt x="1171" y="232"/>
                  </a:lnTo>
                  <a:lnTo>
                    <a:pt x="1165" y="204"/>
                  </a:lnTo>
                  <a:lnTo>
                    <a:pt x="1154" y="177"/>
                  </a:lnTo>
                  <a:lnTo>
                    <a:pt x="1137" y="151"/>
                  </a:lnTo>
                  <a:lnTo>
                    <a:pt x="1128" y="137"/>
                  </a:lnTo>
                  <a:lnTo>
                    <a:pt x="1118" y="123"/>
                  </a:lnTo>
                  <a:lnTo>
                    <a:pt x="1094" y="99"/>
                  </a:lnTo>
                  <a:lnTo>
                    <a:pt x="1080" y="86"/>
                  </a:lnTo>
                  <a:lnTo>
                    <a:pt x="1066" y="75"/>
                  </a:lnTo>
                  <a:lnTo>
                    <a:pt x="1051" y="64"/>
                  </a:lnTo>
                  <a:lnTo>
                    <a:pt x="1036" y="54"/>
                  </a:lnTo>
                  <a:lnTo>
                    <a:pt x="1020" y="44"/>
                  </a:lnTo>
                  <a:lnTo>
                    <a:pt x="1004" y="36"/>
                  </a:lnTo>
                  <a:lnTo>
                    <a:pt x="971" y="21"/>
                  </a:lnTo>
                  <a:lnTo>
                    <a:pt x="937" y="10"/>
                  </a:lnTo>
                  <a:lnTo>
                    <a:pt x="870" y="0"/>
                  </a:lnTo>
                  <a:lnTo>
                    <a:pt x="808" y="11"/>
                  </a:lnTo>
                  <a:lnTo>
                    <a:pt x="754" y="47"/>
                  </a:lnTo>
                  <a:lnTo>
                    <a:pt x="75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378200">
              <a:off x="67680" y="2446920"/>
              <a:ext cx="614520" cy="596880"/>
            </a:xfrm>
            <a:custGeom>
              <a:avLst/>
              <a:gdLst/>
              <a:ahLst/>
              <a:rect l="l" t="t" r="r" b="b"/>
              <a:pathLst>
                <a:path w="1547" h="1979">
                  <a:moveTo>
                    <a:pt x="206" y="1599"/>
                  </a:moveTo>
                  <a:lnTo>
                    <a:pt x="227" y="1506"/>
                  </a:lnTo>
                  <a:lnTo>
                    <a:pt x="226" y="1468"/>
                  </a:lnTo>
                  <a:lnTo>
                    <a:pt x="218" y="1437"/>
                  </a:lnTo>
                  <a:lnTo>
                    <a:pt x="205" y="1408"/>
                  </a:lnTo>
                  <a:lnTo>
                    <a:pt x="197" y="1396"/>
                  </a:lnTo>
                  <a:lnTo>
                    <a:pt x="189" y="1383"/>
                  </a:lnTo>
                  <a:lnTo>
                    <a:pt x="168" y="1361"/>
                  </a:lnTo>
                  <a:lnTo>
                    <a:pt x="157" y="1350"/>
                  </a:lnTo>
                  <a:lnTo>
                    <a:pt x="145" y="1340"/>
                  </a:lnTo>
                  <a:lnTo>
                    <a:pt x="134" y="1330"/>
                  </a:lnTo>
                  <a:lnTo>
                    <a:pt x="122" y="1320"/>
                  </a:lnTo>
                  <a:lnTo>
                    <a:pt x="98" y="1301"/>
                  </a:lnTo>
                  <a:lnTo>
                    <a:pt x="75" y="1280"/>
                  </a:lnTo>
                  <a:lnTo>
                    <a:pt x="63" y="1269"/>
                  </a:lnTo>
                  <a:lnTo>
                    <a:pt x="53" y="1258"/>
                  </a:lnTo>
                  <a:lnTo>
                    <a:pt x="33" y="1234"/>
                  </a:lnTo>
                  <a:lnTo>
                    <a:pt x="17" y="1205"/>
                  </a:lnTo>
                  <a:lnTo>
                    <a:pt x="0" y="1137"/>
                  </a:lnTo>
                  <a:lnTo>
                    <a:pt x="3" y="1105"/>
                  </a:lnTo>
                  <a:lnTo>
                    <a:pt x="15" y="1069"/>
                  </a:lnTo>
                  <a:lnTo>
                    <a:pt x="24" y="1052"/>
                  </a:lnTo>
                  <a:lnTo>
                    <a:pt x="35" y="1034"/>
                  </a:lnTo>
                  <a:lnTo>
                    <a:pt x="46" y="1018"/>
                  </a:lnTo>
                  <a:lnTo>
                    <a:pt x="60" y="1002"/>
                  </a:lnTo>
                  <a:lnTo>
                    <a:pt x="75" y="987"/>
                  </a:lnTo>
                  <a:lnTo>
                    <a:pt x="91" y="974"/>
                  </a:lnTo>
                  <a:lnTo>
                    <a:pt x="107" y="964"/>
                  </a:lnTo>
                  <a:lnTo>
                    <a:pt x="125" y="955"/>
                  </a:lnTo>
                  <a:lnTo>
                    <a:pt x="161" y="946"/>
                  </a:lnTo>
                  <a:lnTo>
                    <a:pt x="200" y="949"/>
                  </a:lnTo>
                  <a:lnTo>
                    <a:pt x="235" y="972"/>
                  </a:lnTo>
                  <a:lnTo>
                    <a:pt x="258" y="990"/>
                  </a:lnTo>
                  <a:lnTo>
                    <a:pt x="284" y="1008"/>
                  </a:lnTo>
                  <a:lnTo>
                    <a:pt x="309" y="1023"/>
                  </a:lnTo>
                  <a:lnTo>
                    <a:pt x="332" y="1032"/>
                  </a:lnTo>
                  <a:lnTo>
                    <a:pt x="353" y="1032"/>
                  </a:lnTo>
                  <a:lnTo>
                    <a:pt x="369" y="1020"/>
                  </a:lnTo>
                  <a:lnTo>
                    <a:pt x="376" y="974"/>
                  </a:lnTo>
                  <a:lnTo>
                    <a:pt x="367" y="897"/>
                  </a:lnTo>
                  <a:lnTo>
                    <a:pt x="351" y="801"/>
                  </a:lnTo>
                  <a:lnTo>
                    <a:pt x="338" y="698"/>
                  </a:lnTo>
                  <a:lnTo>
                    <a:pt x="336" y="650"/>
                  </a:lnTo>
                  <a:lnTo>
                    <a:pt x="338" y="604"/>
                  </a:lnTo>
                  <a:lnTo>
                    <a:pt x="345" y="563"/>
                  </a:lnTo>
                  <a:lnTo>
                    <a:pt x="352" y="546"/>
                  </a:lnTo>
                  <a:lnTo>
                    <a:pt x="360" y="529"/>
                  </a:lnTo>
                  <a:lnTo>
                    <a:pt x="369" y="515"/>
                  </a:lnTo>
                  <a:lnTo>
                    <a:pt x="382" y="503"/>
                  </a:lnTo>
                  <a:lnTo>
                    <a:pt x="396" y="494"/>
                  </a:lnTo>
                  <a:lnTo>
                    <a:pt x="413" y="488"/>
                  </a:lnTo>
                  <a:lnTo>
                    <a:pt x="453" y="483"/>
                  </a:lnTo>
                  <a:lnTo>
                    <a:pt x="506" y="493"/>
                  </a:lnTo>
                  <a:lnTo>
                    <a:pt x="551" y="518"/>
                  </a:lnTo>
                  <a:lnTo>
                    <a:pt x="569" y="536"/>
                  </a:lnTo>
                  <a:lnTo>
                    <a:pt x="584" y="555"/>
                  </a:lnTo>
                  <a:lnTo>
                    <a:pt x="599" y="575"/>
                  </a:lnTo>
                  <a:lnTo>
                    <a:pt x="614" y="593"/>
                  </a:lnTo>
                  <a:lnTo>
                    <a:pt x="632" y="609"/>
                  </a:lnTo>
                  <a:lnTo>
                    <a:pt x="654" y="619"/>
                  </a:lnTo>
                  <a:lnTo>
                    <a:pt x="658" y="537"/>
                  </a:lnTo>
                  <a:lnTo>
                    <a:pt x="669" y="453"/>
                  </a:lnTo>
                  <a:lnTo>
                    <a:pt x="678" y="412"/>
                  </a:lnTo>
                  <a:lnTo>
                    <a:pt x="690" y="372"/>
                  </a:lnTo>
                  <a:lnTo>
                    <a:pt x="704" y="336"/>
                  </a:lnTo>
                  <a:lnTo>
                    <a:pt x="712" y="319"/>
                  </a:lnTo>
                  <a:lnTo>
                    <a:pt x="720" y="303"/>
                  </a:lnTo>
                  <a:lnTo>
                    <a:pt x="729" y="289"/>
                  </a:lnTo>
                  <a:lnTo>
                    <a:pt x="739" y="276"/>
                  </a:lnTo>
                  <a:lnTo>
                    <a:pt x="750" y="264"/>
                  </a:lnTo>
                  <a:lnTo>
                    <a:pt x="761" y="254"/>
                  </a:lnTo>
                  <a:lnTo>
                    <a:pt x="774" y="245"/>
                  </a:lnTo>
                  <a:lnTo>
                    <a:pt x="787" y="238"/>
                  </a:lnTo>
                  <a:lnTo>
                    <a:pt x="816" y="230"/>
                  </a:lnTo>
                  <a:lnTo>
                    <a:pt x="882" y="239"/>
                  </a:lnTo>
                  <a:lnTo>
                    <a:pt x="922" y="259"/>
                  </a:lnTo>
                  <a:lnTo>
                    <a:pt x="942" y="273"/>
                  </a:lnTo>
                  <a:lnTo>
                    <a:pt x="964" y="290"/>
                  </a:lnTo>
                  <a:lnTo>
                    <a:pt x="977" y="266"/>
                  </a:lnTo>
                  <a:lnTo>
                    <a:pt x="989" y="244"/>
                  </a:lnTo>
                  <a:lnTo>
                    <a:pt x="1001" y="223"/>
                  </a:lnTo>
                  <a:lnTo>
                    <a:pt x="1014" y="203"/>
                  </a:lnTo>
                  <a:lnTo>
                    <a:pt x="1026" y="184"/>
                  </a:lnTo>
                  <a:lnTo>
                    <a:pt x="1037" y="167"/>
                  </a:lnTo>
                  <a:lnTo>
                    <a:pt x="1050" y="149"/>
                  </a:lnTo>
                  <a:lnTo>
                    <a:pt x="1061" y="135"/>
                  </a:lnTo>
                  <a:lnTo>
                    <a:pt x="1073" y="120"/>
                  </a:lnTo>
                  <a:lnTo>
                    <a:pt x="1083" y="105"/>
                  </a:lnTo>
                  <a:lnTo>
                    <a:pt x="1106" y="81"/>
                  </a:lnTo>
                  <a:lnTo>
                    <a:pt x="1117" y="69"/>
                  </a:lnTo>
                  <a:lnTo>
                    <a:pt x="1127" y="60"/>
                  </a:lnTo>
                  <a:lnTo>
                    <a:pt x="1149" y="42"/>
                  </a:lnTo>
                  <a:lnTo>
                    <a:pt x="1169" y="27"/>
                  </a:lnTo>
                  <a:lnTo>
                    <a:pt x="1188" y="16"/>
                  </a:lnTo>
                  <a:lnTo>
                    <a:pt x="1224" y="2"/>
                  </a:lnTo>
                  <a:lnTo>
                    <a:pt x="1255" y="0"/>
                  </a:lnTo>
                  <a:lnTo>
                    <a:pt x="1283" y="7"/>
                  </a:lnTo>
                  <a:lnTo>
                    <a:pt x="1305" y="23"/>
                  </a:lnTo>
                  <a:lnTo>
                    <a:pt x="1321" y="46"/>
                  </a:lnTo>
                  <a:lnTo>
                    <a:pt x="1336" y="110"/>
                  </a:lnTo>
                  <a:lnTo>
                    <a:pt x="1334" y="149"/>
                  </a:lnTo>
                  <a:lnTo>
                    <a:pt x="1323" y="193"/>
                  </a:lnTo>
                  <a:lnTo>
                    <a:pt x="1316" y="214"/>
                  </a:lnTo>
                  <a:lnTo>
                    <a:pt x="1306" y="236"/>
                  </a:lnTo>
                  <a:lnTo>
                    <a:pt x="1294" y="258"/>
                  </a:lnTo>
                  <a:lnTo>
                    <a:pt x="1280" y="280"/>
                  </a:lnTo>
                  <a:lnTo>
                    <a:pt x="1384" y="277"/>
                  </a:lnTo>
                  <a:lnTo>
                    <a:pt x="1464" y="295"/>
                  </a:lnTo>
                  <a:lnTo>
                    <a:pt x="1519" y="327"/>
                  </a:lnTo>
                  <a:lnTo>
                    <a:pt x="1547" y="373"/>
                  </a:lnTo>
                  <a:lnTo>
                    <a:pt x="1545" y="427"/>
                  </a:lnTo>
                  <a:lnTo>
                    <a:pt x="1532" y="455"/>
                  </a:lnTo>
                  <a:lnTo>
                    <a:pt x="1523" y="470"/>
                  </a:lnTo>
                  <a:lnTo>
                    <a:pt x="1512" y="484"/>
                  </a:lnTo>
                  <a:lnTo>
                    <a:pt x="1498" y="499"/>
                  </a:lnTo>
                  <a:lnTo>
                    <a:pt x="1482" y="514"/>
                  </a:lnTo>
                  <a:lnTo>
                    <a:pt x="1465" y="529"/>
                  </a:lnTo>
                  <a:lnTo>
                    <a:pt x="1445" y="542"/>
                  </a:lnTo>
                  <a:lnTo>
                    <a:pt x="1423" y="557"/>
                  </a:lnTo>
                  <a:lnTo>
                    <a:pt x="1399" y="571"/>
                  </a:lnTo>
                  <a:lnTo>
                    <a:pt x="1373" y="584"/>
                  </a:lnTo>
                  <a:lnTo>
                    <a:pt x="1344" y="597"/>
                  </a:lnTo>
                  <a:lnTo>
                    <a:pt x="1438" y="628"/>
                  </a:lnTo>
                  <a:lnTo>
                    <a:pt x="1475" y="648"/>
                  </a:lnTo>
                  <a:lnTo>
                    <a:pt x="1504" y="671"/>
                  </a:lnTo>
                  <a:lnTo>
                    <a:pt x="1540" y="723"/>
                  </a:lnTo>
                  <a:lnTo>
                    <a:pt x="1547" y="779"/>
                  </a:lnTo>
                  <a:lnTo>
                    <a:pt x="1538" y="809"/>
                  </a:lnTo>
                  <a:lnTo>
                    <a:pt x="1531" y="824"/>
                  </a:lnTo>
                  <a:lnTo>
                    <a:pt x="1522" y="837"/>
                  </a:lnTo>
                  <a:lnTo>
                    <a:pt x="1510" y="852"/>
                  </a:lnTo>
                  <a:lnTo>
                    <a:pt x="1497" y="867"/>
                  </a:lnTo>
                  <a:lnTo>
                    <a:pt x="1482" y="881"/>
                  </a:lnTo>
                  <a:lnTo>
                    <a:pt x="1465" y="894"/>
                  </a:lnTo>
                  <a:lnTo>
                    <a:pt x="1447" y="908"/>
                  </a:lnTo>
                  <a:lnTo>
                    <a:pt x="1426" y="922"/>
                  </a:lnTo>
                  <a:lnTo>
                    <a:pt x="1403" y="934"/>
                  </a:lnTo>
                  <a:lnTo>
                    <a:pt x="1379" y="947"/>
                  </a:lnTo>
                  <a:lnTo>
                    <a:pt x="1352" y="959"/>
                  </a:lnTo>
                  <a:lnTo>
                    <a:pt x="1323" y="969"/>
                  </a:lnTo>
                  <a:lnTo>
                    <a:pt x="1292" y="980"/>
                  </a:lnTo>
                  <a:lnTo>
                    <a:pt x="1259" y="989"/>
                  </a:lnTo>
                  <a:lnTo>
                    <a:pt x="1328" y="1011"/>
                  </a:lnTo>
                  <a:lnTo>
                    <a:pt x="1354" y="1026"/>
                  </a:lnTo>
                  <a:lnTo>
                    <a:pt x="1376" y="1043"/>
                  </a:lnTo>
                  <a:lnTo>
                    <a:pt x="1406" y="1084"/>
                  </a:lnTo>
                  <a:lnTo>
                    <a:pt x="1419" y="1131"/>
                  </a:lnTo>
                  <a:lnTo>
                    <a:pt x="1418" y="1183"/>
                  </a:lnTo>
                  <a:lnTo>
                    <a:pt x="1411" y="1210"/>
                  </a:lnTo>
                  <a:lnTo>
                    <a:pt x="1402" y="1238"/>
                  </a:lnTo>
                  <a:lnTo>
                    <a:pt x="1390" y="1266"/>
                  </a:lnTo>
                  <a:lnTo>
                    <a:pt x="1375" y="1295"/>
                  </a:lnTo>
                  <a:lnTo>
                    <a:pt x="1357" y="1322"/>
                  </a:lnTo>
                  <a:lnTo>
                    <a:pt x="1347" y="1336"/>
                  </a:lnTo>
                  <a:lnTo>
                    <a:pt x="1337" y="1349"/>
                  </a:lnTo>
                  <a:lnTo>
                    <a:pt x="1327" y="1363"/>
                  </a:lnTo>
                  <a:lnTo>
                    <a:pt x="1315" y="1377"/>
                  </a:lnTo>
                  <a:lnTo>
                    <a:pt x="1291" y="1403"/>
                  </a:lnTo>
                  <a:lnTo>
                    <a:pt x="1278" y="1416"/>
                  </a:lnTo>
                  <a:lnTo>
                    <a:pt x="1265" y="1428"/>
                  </a:lnTo>
                  <a:lnTo>
                    <a:pt x="1252" y="1440"/>
                  </a:lnTo>
                  <a:lnTo>
                    <a:pt x="1238" y="1452"/>
                  </a:lnTo>
                  <a:lnTo>
                    <a:pt x="1224" y="1463"/>
                  </a:lnTo>
                  <a:lnTo>
                    <a:pt x="1209" y="1474"/>
                  </a:lnTo>
                  <a:lnTo>
                    <a:pt x="1194" y="1484"/>
                  </a:lnTo>
                  <a:lnTo>
                    <a:pt x="1179" y="1495"/>
                  </a:lnTo>
                  <a:lnTo>
                    <a:pt x="1164" y="1504"/>
                  </a:lnTo>
                  <a:lnTo>
                    <a:pt x="1149" y="1514"/>
                  </a:lnTo>
                  <a:lnTo>
                    <a:pt x="1118" y="1530"/>
                  </a:lnTo>
                  <a:lnTo>
                    <a:pt x="1085" y="1543"/>
                  </a:lnTo>
                  <a:lnTo>
                    <a:pt x="1053" y="1555"/>
                  </a:lnTo>
                  <a:lnTo>
                    <a:pt x="1021" y="1563"/>
                  </a:lnTo>
                  <a:lnTo>
                    <a:pt x="989" y="1569"/>
                  </a:lnTo>
                  <a:lnTo>
                    <a:pt x="925" y="1569"/>
                  </a:lnTo>
                  <a:lnTo>
                    <a:pt x="865" y="1553"/>
                  </a:lnTo>
                  <a:lnTo>
                    <a:pt x="839" y="1566"/>
                  </a:lnTo>
                  <a:lnTo>
                    <a:pt x="813" y="1582"/>
                  </a:lnTo>
                  <a:lnTo>
                    <a:pt x="789" y="1598"/>
                  </a:lnTo>
                  <a:lnTo>
                    <a:pt x="766" y="1616"/>
                  </a:lnTo>
                  <a:lnTo>
                    <a:pt x="743" y="1634"/>
                  </a:lnTo>
                  <a:lnTo>
                    <a:pt x="720" y="1652"/>
                  </a:lnTo>
                  <a:lnTo>
                    <a:pt x="696" y="1669"/>
                  </a:lnTo>
                  <a:lnTo>
                    <a:pt x="673" y="1687"/>
                  </a:lnTo>
                  <a:lnTo>
                    <a:pt x="645" y="1702"/>
                  </a:lnTo>
                  <a:lnTo>
                    <a:pt x="622" y="1712"/>
                  </a:lnTo>
                  <a:lnTo>
                    <a:pt x="581" y="1714"/>
                  </a:lnTo>
                  <a:lnTo>
                    <a:pt x="549" y="1701"/>
                  </a:lnTo>
                  <a:lnTo>
                    <a:pt x="519" y="1683"/>
                  </a:lnTo>
                  <a:lnTo>
                    <a:pt x="504" y="1675"/>
                  </a:lnTo>
                  <a:lnTo>
                    <a:pt x="489" y="1669"/>
                  </a:lnTo>
                  <a:lnTo>
                    <a:pt x="453" y="1667"/>
                  </a:lnTo>
                  <a:lnTo>
                    <a:pt x="409" y="1685"/>
                  </a:lnTo>
                  <a:lnTo>
                    <a:pt x="383" y="1707"/>
                  </a:lnTo>
                  <a:lnTo>
                    <a:pt x="368" y="1720"/>
                  </a:lnTo>
                  <a:lnTo>
                    <a:pt x="353" y="1736"/>
                  </a:lnTo>
                  <a:lnTo>
                    <a:pt x="278" y="1743"/>
                  </a:lnTo>
                  <a:lnTo>
                    <a:pt x="277" y="1731"/>
                  </a:lnTo>
                  <a:lnTo>
                    <a:pt x="278" y="1717"/>
                  </a:lnTo>
                  <a:lnTo>
                    <a:pt x="287" y="1690"/>
                  </a:lnTo>
                  <a:lnTo>
                    <a:pt x="298" y="1675"/>
                  </a:lnTo>
                  <a:lnTo>
                    <a:pt x="314" y="1658"/>
                  </a:lnTo>
                  <a:lnTo>
                    <a:pt x="323" y="1650"/>
                  </a:lnTo>
                  <a:lnTo>
                    <a:pt x="335" y="1640"/>
                  </a:lnTo>
                  <a:lnTo>
                    <a:pt x="348" y="1630"/>
                  </a:lnTo>
                  <a:lnTo>
                    <a:pt x="363" y="1619"/>
                  </a:lnTo>
                  <a:lnTo>
                    <a:pt x="390" y="1609"/>
                  </a:lnTo>
                  <a:lnTo>
                    <a:pt x="420" y="1606"/>
                  </a:lnTo>
                  <a:lnTo>
                    <a:pt x="487" y="1619"/>
                  </a:lnTo>
                  <a:lnTo>
                    <a:pt x="521" y="1628"/>
                  </a:lnTo>
                  <a:lnTo>
                    <a:pt x="555" y="1632"/>
                  </a:lnTo>
                  <a:lnTo>
                    <a:pt x="613" y="1618"/>
                  </a:lnTo>
                  <a:lnTo>
                    <a:pt x="636" y="1601"/>
                  </a:lnTo>
                  <a:lnTo>
                    <a:pt x="648" y="1592"/>
                  </a:lnTo>
                  <a:lnTo>
                    <a:pt x="662" y="1581"/>
                  </a:lnTo>
                  <a:lnTo>
                    <a:pt x="677" y="1570"/>
                  </a:lnTo>
                  <a:lnTo>
                    <a:pt x="692" y="1558"/>
                  </a:lnTo>
                  <a:lnTo>
                    <a:pt x="707" y="1546"/>
                  </a:lnTo>
                  <a:lnTo>
                    <a:pt x="723" y="1535"/>
                  </a:lnTo>
                  <a:lnTo>
                    <a:pt x="738" y="1523"/>
                  </a:lnTo>
                  <a:lnTo>
                    <a:pt x="754" y="1513"/>
                  </a:lnTo>
                  <a:lnTo>
                    <a:pt x="769" y="1502"/>
                  </a:lnTo>
                  <a:lnTo>
                    <a:pt x="784" y="1493"/>
                  </a:lnTo>
                  <a:lnTo>
                    <a:pt x="812" y="1478"/>
                  </a:lnTo>
                  <a:lnTo>
                    <a:pt x="836" y="1468"/>
                  </a:lnTo>
                  <a:lnTo>
                    <a:pt x="906" y="1454"/>
                  </a:lnTo>
                  <a:lnTo>
                    <a:pt x="970" y="1446"/>
                  </a:lnTo>
                  <a:lnTo>
                    <a:pt x="1090" y="1432"/>
                  </a:lnTo>
                  <a:lnTo>
                    <a:pt x="1144" y="1416"/>
                  </a:lnTo>
                  <a:lnTo>
                    <a:pt x="1195" y="1387"/>
                  </a:lnTo>
                  <a:lnTo>
                    <a:pt x="1219" y="1367"/>
                  </a:lnTo>
                  <a:lnTo>
                    <a:pt x="1242" y="1342"/>
                  </a:lnTo>
                  <a:lnTo>
                    <a:pt x="1264" y="1311"/>
                  </a:lnTo>
                  <a:lnTo>
                    <a:pt x="1285" y="1276"/>
                  </a:lnTo>
                  <a:lnTo>
                    <a:pt x="1298" y="1251"/>
                  </a:lnTo>
                  <a:lnTo>
                    <a:pt x="1308" y="1229"/>
                  </a:lnTo>
                  <a:lnTo>
                    <a:pt x="1323" y="1189"/>
                  </a:lnTo>
                  <a:lnTo>
                    <a:pt x="1334" y="1130"/>
                  </a:lnTo>
                  <a:lnTo>
                    <a:pt x="1329" y="1110"/>
                  </a:lnTo>
                  <a:lnTo>
                    <a:pt x="1320" y="1094"/>
                  </a:lnTo>
                  <a:lnTo>
                    <a:pt x="1306" y="1083"/>
                  </a:lnTo>
                  <a:lnTo>
                    <a:pt x="1287" y="1075"/>
                  </a:lnTo>
                  <a:lnTo>
                    <a:pt x="1238" y="1070"/>
                  </a:lnTo>
                  <a:lnTo>
                    <a:pt x="1178" y="1073"/>
                  </a:lnTo>
                  <a:lnTo>
                    <a:pt x="1110" y="1083"/>
                  </a:lnTo>
                  <a:lnTo>
                    <a:pt x="1038" y="1091"/>
                  </a:lnTo>
                  <a:lnTo>
                    <a:pt x="1004" y="1088"/>
                  </a:lnTo>
                  <a:lnTo>
                    <a:pt x="983" y="1070"/>
                  </a:lnTo>
                  <a:lnTo>
                    <a:pt x="982" y="1046"/>
                  </a:lnTo>
                  <a:lnTo>
                    <a:pt x="989" y="1032"/>
                  </a:lnTo>
                  <a:lnTo>
                    <a:pt x="1001" y="1019"/>
                  </a:lnTo>
                  <a:lnTo>
                    <a:pt x="1019" y="1006"/>
                  </a:lnTo>
                  <a:lnTo>
                    <a:pt x="1042" y="993"/>
                  </a:lnTo>
                  <a:lnTo>
                    <a:pt x="1069" y="979"/>
                  </a:lnTo>
                  <a:lnTo>
                    <a:pt x="1102" y="965"/>
                  </a:lnTo>
                  <a:lnTo>
                    <a:pt x="1136" y="951"/>
                  </a:lnTo>
                  <a:lnTo>
                    <a:pt x="1173" y="936"/>
                  </a:lnTo>
                  <a:lnTo>
                    <a:pt x="1210" y="922"/>
                  </a:lnTo>
                  <a:lnTo>
                    <a:pt x="1248" y="908"/>
                  </a:lnTo>
                  <a:lnTo>
                    <a:pt x="1285" y="894"/>
                  </a:lnTo>
                  <a:lnTo>
                    <a:pt x="1321" y="881"/>
                  </a:lnTo>
                  <a:lnTo>
                    <a:pt x="1354" y="868"/>
                  </a:lnTo>
                  <a:lnTo>
                    <a:pt x="1383" y="856"/>
                  </a:lnTo>
                  <a:lnTo>
                    <a:pt x="1427" y="836"/>
                  </a:lnTo>
                  <a:lnTo>
                    <a:pt x="1447" y="822"/>
                  </a:lnTo>
                  <a:lnTo>
                    <a:pt x="1452" y="786"/>
                  </a:lnTo>
                  <a:lnTo>
                    <a:pt x="1447" y="755"/>
                  </a:lnTo>
                  <a:lnTo>
                    <a:pt x="1430" y="731"/>
                  </a:lnTo>
                  <a:lnTo>
                    <a:pt x="1420" y="720"/>
                  </a:lnTo>
                  <a:lnTo>
                    <a:pt x="1408" y="712"/>
                  </a:lnTo>
                  <a:lnTo>
                    <a:pt x="1380" y="696"/>
                  </a:lnTo>
                  <a:lnTo>
                    <a:pt x="1346" y="684"/>
                  </a:lnTo>
                  <a:lnTo>
                    <a:pt x="1312" y="674"/>
                  </a:lnTo>
                  <a:lnTo>
                    <a:pt x="1276" y="667"/>
                  </a:lnTo>
                  <a:lnTo>
                    <a:pt x="1163" y="638"/>
                  </a:lnTo>
                  <a:lnTo>
                    <a:pt x="1149" y="617"/>
                  </a:lnTo>
                  <a:lnTo>
                    <a:pt x="1159" y="601"/>
                  </a:lnTo>
                  <a:lnTo>
                    <a:pt x="1170" y="593"/>
                  </a:lnTo>
                  <a:lnTo>
                    <a:pt x="1184" y="582"/>
                  </a:lnTo>
                  <a:lnTo>
                    <a:pt x="1201" y="571"/>
                  </a:lnTo>
                  <a:lnTo>
                    <a:pt x="1219" y="561"/>
                  </a:lnTo>
                  <a:lnTo>
                    <a:pt x="1256" y="543"/>
                  </a:lnTo>
                  <a:lnTo>
                    <a:pt x="1294" y="529"/>
                  </a:lnTo>
                  <a:lnTo>
                    <a:pt x="1332" y="513"/>
                  </a:lnTo>
                  <a:lnTo>
                    <a:pt x="1369" y="496"/>
                  </a:lnTo>
                  <a:lnTo>
                    <a:pt x="1404" y="476"/>
                  </a:lnTo>
                  <a:lnTo>
                    <a:pt x="1420" y="463"/>
                  </a:lnTo>
                  <a:lnTo>
                    <a:pt x="1435" y="450"/>
                  </a:lnTo>
                  <a:lnTo>
                    <a:pt x="1460" y="418"/>
                  </a:lnTo>
                  <a:lnTo>
                    <a:pt x="1425" y="370"/>
                  </a:lnTo>
                  <a:lnTo>
                    <a:pt x="1368" y="359"/>
                  </a:lnTo>
                  <a:lnTo>
                    <a:pt x="1314" y="361"/>
                  </a:lnTo>
                  <a:lnTo>
                    <a:pt x="1259" y="370"/>
                  </a:lnTo>
                  <a:lnTo>
                    <a:pt x="1202" y="378"/>
                  </a:lnTo>
                  <a:lnTo>
                    <a:pt x="1158" y="376"/>
                  </a:lnTo>
                  <a:lnTo>
                    <a:pt x="1145" y="360"/>
                  </a:lnTo>
                  <a:lnTo>
                    <a:pt x="1149" y="348"/>
                  </a:lnTo>
                  <a:lnTo>
                    <a:pt x="1157" y="332"/>
                  </a:lnTo>
                  <a:lnTo>
                    <a:pt x="1169" y="314"/>
                  </a:lnTo>
                  <a:lnTo>
                    <a:pt x="1182" y="294"/>
                  </a:lnTo>
                  <a:lnTo>
                    <a:pt x="1197" y="273"/>
                  </a:lnTo>
                  <a:lnTo>
                    <a:pt x="1214" y="251"/>
                  </a:lnTo>
                  <a:lnTo>
                    <a:pt x="1229" y="226"/>
                  </a:lnTo>
                  <a:lnTo>
                    <a:pt x="1242" y="202"/>
                  </a:lnTo>
                  <a:lnTo>
                    <a:pt x="1260" y="154"/>
                  </a:lnTo>
                  <a:lnTo>
                    <a:pt x="1257" y="106"/>
                  </a:lnTo>
                  <a:lnTo>
                    <a:pt x="1195" y="107"/>
                  </a:lnTo>
                  <a:lnTo>
                    <a:pt x="1160" y="125"/>
                  </a:lnTo>
                  <a:lnTo>
                    <a:pt x="1142" y="141"/>
                  </a:lnTo>
                  <a:lnTo>
                    <a:pt x="1124" y="161"/>
                  </a:lnTo>
                  <a:lnTo>
                    <a:pt x="1105" y="183"/>
                  </a:lnTo>
                  <a:lnTo>
                    <a:pt x="1087" y="207"/>
                  </a:lnTo>
                  <a:lnTo>
                    <a:pt x="1069" y="233"/>
                  </a:lnTo>
                  <a:lnTo>
                    <a:pt x="1052" y="259"/>
                  </a:lnTo>
                  <a:lnTo>
                    <a:pt x="1037" y="285"/>
                  </a:lnTo>
                  <a:lnTo>
                    <a:pt x="1022" y="310"/>
                  </a:lnTo>
                  <a:lnTo>
                    <a:pt x="1008" y="333"/>
                  </a:lnTo>
                  <a:lnTo>
                    <a:pt x="998" y="354"/>
                  </a:lnTo>
                  <a:lnTo>
                    <a:pt x="982" y="385"/>
                  </a:lnTo>
                  <a:lnTo>
                    <a:pt x="976" y="397"/>
                  </a:lnTo>
                  <a:lnTo>
                    <a:pt x="939" y="380"/>
                  </a:lnTo>
                  <a:lnTo>
                    <a:pt x="924" y="368"/>
                  </a:lnTo>
                  <a:lnTo>
                    <a:pt x="910" y="353"/>
                  </a:lnTo>
                  <a:lnTo>
                    <a:pt x="895" y="337"/>
                  </a:lnTo>
                  <a:lnTo>
                    <a:pt x="879" y="322"/>
                  </a:lnTo>
                  <a:lnTo>
                    <a:pt x="859" y="309"/>
                  </a:lnTo>
                  <a:lnTo>
                    <a:pt x="836" y="297"/>
                  </a:lnTo>
                  <a:lnTo>
                    <a:pt x="811" y="320"/>
                  </a:lnTo>
                  <a:lnTo>
                    <a:pt x="790" y="351"/>
                  </a:lnTo>
                  <a:lnTo>
                    <a:pt x="762" y="435"/>
                  </a:lnTo>
                  <a:lnTo>
                    <a:pt x="749" y="541"/>
                  </a:lnTo>
                  <a:lnTo>
                    <a:pt x="745" y="664"/>
                  </a:lnTo>
                  <a:lnTo>
                    <a:pt x="707" y="705"/>
                  </a:lnTo>
                  <a:lnTo>
                    <a:pt x="670" y="705"/>
                  </a:lnTo>
                  <a:lnTo>
                    <a:pt x="640" y="692"/>
                  </a:lnTo>
                  <a:lnTo>
                    <a:pt x="614" y="672"/>
                  </a:lnTo>
                  <a:lnTo>
                    <a:pt x="591" y="648"/>
                  </a:lnTo>
                  <a:lnTo>
                    <a:pt x="568" y="620"/>
                  </a:lnTo>
                  <a:lnTo>
                    <a:pt x="555" y="608"/>
                  </a:lnTo>
                  <a:lnTo>
                    <a:pt x="543" y="595"/>
                  </a:lnTo>
                  <a:lnTo>
                    <a:pt x="529" y="585"/>
                  </a:lnTo>
                  <a:lnTo>
                    <a:pt x="516" y="575"/>
                  </a:lnTo>
                  <a:lnTo>
                    <a:pt x="484" y="562"/>
                  </a:lnTo>
                  <a:lnTo>
                    <a:pt x="457" y="561"/>
                  </a:lnTo>
                  <a:lnTo>
                    <a:pt x="435" y="571"/>
                  </a:lnTo>
                  <a:lnTo>
                    <a:pt x="411" y="614"/>
                  </a:lnTo>
                  <a:lnTo>
                    <a:pt x="404" y="683"/>
                  </a:lnTo>
                  <a:lnTo>
                    <a:pt x="408" y="767"/>
                  </a:lnTo>
                  <a:lnTo>
                    <a:pt x="418" y="858"/>
                  </a:lnTo>
                  <a:lnTo>
                    <a:pt x="426" y="946"/>
                  </a:lnTo>
                  <a:lnTo>
                    <a:pt x="424" y="1021"/>
                  </a:lnTo>
                  <a:lnTo>
                    <a:pt x="419" y="1049"/>
                  </a:lnTo>
                  <a:lnTo>
                    <a:pt x="408" y="1072"/>
                  </a:lnTo>
                  <a:lnTo>
                    <a:pt x="401" y="1081"/>
                  </a:lnTo>
                  <a:lnTo>
                    <a:pt x="392" y="1086"/>
                  </a:lnTo>
                  <a:lnTo>
                    <a:pt x="373" y="1091"/>
                  </a:lnTo>
                  <a:lnTo>
                    <a:pt x="323" y="1082"/>
                  </a:lnTo>
                  <a:lnTo>
                    <a:pt x="295" y="1070"/>
                  </a:lnTo>
                  <a:lnTo>
                    <a:pt x="265" y="1057"/>
                  </a:lnTo>
                  <a:lnTo>
                    <a:pt x="235" y="1041"/>
                  </a:lnTo>
                  <a:lnTo>
                    <a:pt x="206" y="1027"/>
                  </a:lnTo>
                  <a:lnTo>
                    <a:pt x="178" y="1014"/>
                  </a:lnTo>
                  <a:lnTo>
                    <a:pt x="151" y="1007"/>
                  </a:lnTo>
                  <a:lnTo>
                    <a:pt x="106" y="1009"/>
                  </a:lnTo>
                  <a:lnTo>
                    <a:pt x="90" y="1023"/>
                  </a:lnTo>
                  <a:lnTo>
                    <a:pt x="78" y="1047"/>
                  </a:lnTo>
                  <a:lnTo>
                    <a:pt x="73" y="1132"/>
                  </a:lnTo>
                  <a:lnTo>
                    <a:pt x="77" y="1168"/>
                  </a:lnTo>
                  <a:lnTo>
                    <a:pt x="89" y="1199"/>
                  </a:lnTo>
                  <a:lnTo>
                    <a:pt x="104" y="1224"/>
                  </a:lnTo>
                  <a:lnTo>
                    <a:pt x="121" y="1245"/>
                  </a:lnTo>
                  <a:lnTo>
                    <a:pt x="131" y="1255"/>
                  </a:lnTo>
                  <a:lnTo>
                    <a:pt x="143" y="1263"/>
                  </a:lnTo>
                  <a:lnTo>
                    <a:pt x="165" y="1279"/>
                  </a:lnTo>
                  <a:lnTo>
                    <a:pt x="189" y="1294"/>
                  </a:lnTo>
                  <a:lnTo>
                    <a:pt x="212" y="1307"/>
                  </a:lnTo>
                  <a:lnTo>
                    <a:pt x="235" y="1321"/>
                  </a:lnTo>
                  <a:lnTo>
                    <a:pt x="256" y="1337"/>
                  </a:lnTo>
                  <a:lnTo>
                    <a:pt x="290" y="1375"/>
                  </a:lnTo>
                  <a:lnTo>
                    <a:pt x="307" y="1427"/>
                  </a:lnTo>
                  <a:lnTo>
                    <a:pt x="307" y="1444"/>
                  </a:lnTo>
                  <a:lnTo>
                    <a:pt x="307" y="1462"/>
                  </a:lnTo>
                  <a:lnTo>
                    <a:pt x="300" y="1503"/>
                  </a:lnTo>
                  <a:lnTo>
                    <a:pt x="318" y="1485"/>
                  </a:lnTo>
                  <a:lnTo>
                    <a:pt x="339" y="1467"/>
                  </a:lnTo>
                  <a:lnTo>
                    <a:pt x="359" y="1448"/>
                  </a:lnTo>
                  <a:lnTo>
                    <a:pt x="381" y="1428"/>
                  </a:lnTo>
                  <a:lnTo>
                    <a:pt x="391" y="1419"/>
                  </a:lnTo>
                  <a:lnTo>
                    <a:pt x="403" y="1408"/>
                  </a:lnTo>
                  <a:lnTo>
                    <a:pt x="413" y="1398"/>
                  </a:lnTo>
                  <a:lnTo>
                    <a:pt x="424" y="1387"/>
                  </a:lnTo>
                  <a:lnTo>
                    <a:pt x="436" y="1377"/>
                  </a:lnTo>
                  <a:lnTo>
                    <a:pt x="448" y="1365"/>
                  </a:lnTo>
                  <a:lnTo>
                    <a:pt x="459" y="1354"/>
                  </a:lnTo>
                  <a:lnTo>
                    <a:pt x="471" y="1342"/>
                  </a:lnTo>
                  <a:lnTo>
                    <a:pt x="482" y="1331"/>
                  </a:lnTo>
                  <a:lnTo>
                    <a:pt x="493" y="1321"/>
                  </a:lnTo>
                  <a:lnTo>
                    <a:pt x="511" y="1301"/>
                  </a:lnTo>
                  <a:lnTo>
                    <a:pt x="527" y="1282"/>
                  </a:lnTo>
                  <a:lnTo>
                    <a:pt x="541" y="1264"/>
                  </a:lnTo>
                  <a:lnTo>
                    <a:pt x="553" y="1247"/>
                  </a:lnTo>
                  <a:lnTo>
                    <a:pt x="563" y="1231"/>
                  </a:lnTo>
                  <a:lnTo>
                    <a:pt x="580" y="1198"/>
                  </a:lnTo>
                  <a:lnTo>
                    <a:pt x="604" y="1126"/>
                  </a:lnTo>
                  <a:lnTo>
                    <a:pt x="615" y="1082"/>
                  </a:lnTo>
                  <a:lnTo>
                    <a:pt x="626" y="1029"/>
                  </a:lnTo>
                  <a:lnTo>
                    <a:pt x="640" y="981"/>
                  </a:lnTo>
                  <a:lnTo>
                    <a:pt x="648" y="957"/>
                  </a:lnTo>
                  <a:lnTo>
                    <a:pt x="658" y="935"/>
                  </a:lnTo>
                  <a:lnTo>
                    <a:pt x="667" y="913"/>
                  </a:lnTo>
                  <a:lnTo>
                    <a:pt x="677" y="891"/>
                  </a:lnTo>
                  <a:lnTo>
                    <a:pt x="689" y="870"/>
                  </a:lnTo>
                  <a:lnTo>
                    <a:pt x="700" y="850"/>
                  </a:lnTo>
                  <a:lnTo>
                    <a:pt x="714" y="830"/>
                  </a:lnTo>
                  <a:lnTo>
                    <a:pt x="727" y="810"/>
                  </a:lnTo>
                  <a:lnTo>
                    <a:pt x="741" y="791"/>
                  </a:lnTo>
                  <a:lnTo>
                    <a:pt x="756" y="772"/>
                  </a:lnTo>
                  <a:lnTo>
                    <a:pt x="771" y="754"/>
                  </a:lnTo>
                  <a:lnTo>
                    <a:pt x="786" y="736"/>
                  </a:lnTo>
                  <a:lnTo>
                    <a:pt x="802" y="718"/>
                  </a:lnTo>
                  <a:lnTo>
                    <a:pt x="818" y="700"/>
                  </a:lnTo>
                  <a:lnTo>
                    <a:pt x="835" y="684"/>
                  </a:lnTo>
                  <a:lnTo>
                    <a:pt x="852" y="667"/>
                  </a:lnTo>
                  <a:lnTo>
                    <a:pt x="870" y="650"/>
                  </a:lnTo>
                  <a:lnTo>
                    <a:pt x="887" y="633"/>
                  </a:lnTo>
                  <a:lnTo>
                    <a:pt x="906" y="616"/>
                  </a:lnTo>
                  <a:lnTo>
                    <a:pt x="924" y="599"/>
                  </a:lnTo>
                  <a:lnTo>
                    <a:pt x="942" y="584"/>
                  </a:lnTo>
                  <a:lnTo>
                    <a:pt x="961" y="567"/>
                  </a:lnTo>
                  <a:lnTo>
                    <a:pt x="979" y="551"/>
                  </a:lnTo>
                  <a:lnTo>
                    <a:pt x="998" y="535"/>
                  </a:lnTo>
                  <a:lnTo>
                    <a:pt x="1016" y="518"/>
                  </a:lnTo>
                  <a:lnTo>
                    <a:pt x="1036" y="502"/>
                  </a:lnTo>
                  <a:lnTo>
                    <a:pt x="1054" y="486"/>
                  </a:lnTo>
                  <a:lnTo>
                    <a:pt x="1073" y="469"/>
                  </a:lnTo>
                  <a:lnTo>
                    <a:pt x="1092" y="453"/>
                  </a:lnTo>
                  <a:lnTo>
                    <a:pt x="1111" y="436"/>
                  </a:lnTo>
                  <a:lnTo>
                    <a:pt x="1133" y="456"/>
                  </a:lnTo>
                  <a:lnTo>
                    <a:pt x="1120" y="467"/>
                  </a:lnTo>
                  <a:lnTo>
                    <a:pt x="1109" y="477"/>
                  </a:lnTo>
                  <a:lnTo>
                    <a:pt x="1098" y="488"/>
                  </a:lnTo>
                  <a:lnTo>
                    <a:pt x="1087" y="498"/>
                  </a:lnTo>
                  <a:lnTo>
                    <a:pt x="1076" y="509"/>
                  </a:lnTo>
                  <a:lnTo>
                    <a:pt x="1065" y="519"/>
                  </a:lnTo>
                  <a:lnTo>
                    <a:pt x="1054" y="530"/>
                  </a:lnTo>
                  <a:lnTo>
                    <a:pt x="1045" y="540"/>
                  </a:lnTo>
                  <a:lnTo>
                    <a:pt x="1026" y="560"/>
                  </a:lnTo>
                  <a:lnTo>
                    <a:pt x="1007" y="580"/>
                  </a:lnTo>
                  <a:lnTo>
                    <a:pt x="989" y="600"/>
                  </a:lnTo>
                  <a:lnTo>
                    <a:pt x="972" y="619"/>
                  </a:lnTo>
                  <a:lnTo>
                    <a:pt x="956" y="638"/>
                  </a:lnTo>
                  <a:lnTo>
                    <a:pt x="941" y="657"/>
                  </a:lnTo>
                  <a:lnTo>
                    <a:pt x="926" y="675"/>
                  </a:lnTo>
                  <a:lnTo>
                    <a:pt x="912" y="693"/>
                  </a:lnTo>
                  <a:lnTo>
                    <a:pt x="900" y="711"/>
                  </a:lnTo>
                  <a:lnTo>
                    <a:pt x="887" y="729"/>
                  </a:lnTo>
                  <a:lnTo>
                    <a:pt x="876" y="746"/>
                  </a:lnTo>
                  <a:lnTo>
                    <a:pt x="864" y="763"/>
                  </a:lnTo>
                  <a:lnTo>
                    <a:pt x="844" y="796"/>
                  </a:lnTo>
                  <a:lnTo>
                    <a:pt x="826" y="829"/>
                  </a:lnTo>
                  <a:lnTo>
                    <a:pt x="810" y="861"/>
                  </a:lnTo>
                  <a:lnTo>
                    <a:pt x="795" y="891"/>
                  </a:lnTo>
                  <a:lnTo>
                    <a:pt x="782" y="921"/>
                  </a:lnTo>
                  <a:lnTo>
                    <a:pt x="771" y="949"/>
                  </a:lnTo>
                  <a:lnTo>
                    <a:pt x="760" y="978"/>
                  </a:lnTo>
                  <a:lnTo>
                    <a:pt x="751" y="1005"/>
                  </a:lnTo>
                  <a:lnTo>
                    <a:pt x="734" y="1059"/>
                  </a:lnTo>
                  <a:lnTo>
                    <a:pt x="719" y="1110"/>
                  </a:lnTo>
                  <a:lnTo>
                    <a:pt x="709" y="1136"/>
                  </a:lnTo>
                  <a:lnTo>
                    <a:pt x="701" y="1161"/>
                  </a:lnTo>
                  <a:lnTo>
                    <a:pt x="692" y="1186"/>
                  </a:lnTo>
                  <a:lnTo>
                    <a:pt x="682" y="1210"/>
                  </a:lnTo>
                  <a:lnTo>
                    <a:pt x="671" y="1235"/>
                  </a:lnTo>
                  <a:lnTo>
                    <a:pt x="659" y="1259"/>
                  </a:lnTo>
                  <a:lnTo>
                    <a:pt x="645" y="1283"/>
                  </a:lnTo>
                  <a:lnTo>
                    <a:pt x="630" y="1308"/>
                  </a:lnTo>
                  <a:lnTo>
                    <a:pt x="613" y="1333"/>
                  </a:lnTo>
                  <a:lnTo>
                    <a:pt x="593" y="1357"/>
                  </a:lnTo>
                  <a:lnTo>
                    <a:pt x="571" y="1381"/>
                  </a:lnTo>
                  <a:lnTo>
                    <a:pt x="558" y="1394"/>
                  </a:lnTo>
                  <a:lnTo>
                    <a:pt x="547" y="1406"/>
                  </a:lnTo>
                  <a:lnTo>
                    <a:pt x="528" y="1423"/>
                  </a:lnTo>
                  <a:lnTo>
                    <a:pt x="510" y="1440"/>
                  </a:lnTo>
                  <a:lnTo>
                    <a:pt x="491" y="1457"/>
                  </a:lnTo>
                  <a:lnTo>
                    <a:pt x="473" y="1473"/>
                  </a:lnTo>
                  <a:lnTo>
                    <a:pt x="454" y="1487"/>
                  </a:lnTo>
                  <a:lnTo>
                    <a:pt x="435" y="1502"/>
                  </a:lnTo>
                  <a:lnTo>
                    <a:pt x="416" y="1517"/>
                  </a:lnTo>
                  <a:lnTo>
                    <a:pt x="398" y="1532"/>
                  </a:lnTo>
                  <a:lnTo>
                    <a:pt x="379" y="1546"/>
                  </a:lnTo>
                  <a:lnTo>
                    <a:pt x="362" y="1561"/>
                  </a:lnTo>
                  <a:lnTo>
                    <a:pt x="344" y="1576"/>
                  </a:lnTo>
                  <a:lnTo>
                    <a:pt x="326" y="1591"/>
                  </a:lnTo>
                  <a:lnTo>
                    <a:pt x="309" y="1604"/>
                  </a:lnTo>
                  <a:lnTo>
                    <a:pt x="292" y="1619"/>
                  </a:lnTo>
                  <a:lnTo>
                    <a:pt x="276" y="1635"/>
                  </a:lnTo>
                  <a:lnTo>
                    <a:pt x="260" y="1650"/>
                  </a:lnTo>
                  <a:lnTo>
                    <a:pt x="245" y="1665"/>
                  </a:lnTo>
                  <a:lnTo>
                    <a:pt x="230" y="1681"/>
                  </a:lnTo>
                  <a:lnTo>
                    <a:pt x="216" y="1698"/>
                  </a:lnTo>
                  <a:lnTo>
                    <a:pt x="202" y="1715"/>
                  </a:lnTo>
                  <a:lnTo>
                    <a:pt x="189" y="1732"/>
                  </a:lnTo>
                  <a:lnTo>
                    <a:pt x="178" y="1751"/>
                  </a:lnTo>
                  <a:lnTo>
                    <a:pt x="157" y="1789"/>
                  </a:lnTo>
                  <a:lnTo>
                    <a:pt x="141" y="1831"/>
                  </a:lnTo>
                  <a:lnTo>
                    <a:pt x="128" y="1876"/>
                  </a:lnTo>
                  <a:lnTo>
                    <a:pt x="118" y="1979"/>
                  </a:lnTo>
                  <a:lnTo>
                    <a:pt x="86" y="1979"/>
                  </a:lnTo>
                  <a:lnTo>
                    <a:pt x="95" y="1855"/>
                  </a:lnTo>
                  <a:lnTo>
                    <a:pt x="104" y="1802"/>
                  </a:lnTo>
                  <a:lnTo>
                    <a:pt x="118" y="1754"/>
                  </a:lnTo>
                  <a:lnTo>
                    <a:pt x="126" y="1732"/>
                  </a:lnTo>
                  <a:lnTo>
                    <a:pt x="135" y="1711"/>
                  </a:lnTo>
                  <a:lnTo>
                    <a:pt x="144" y="1691"/>
                  </a:lnTo>
                  <a:lnTo>
                    <a:pt x="156" y="1672"/>
                  </a:lnTo>
                  <a:lnTo>
                    <a:pt x="167" y="1653"/>
                  </a:lnTo>
                  <a:lnTo>
                    <a:pt x="180" y="1634"/>
                  </a:lnTo>
                  <a:lnTo>
                    <a:pt x="193" y="1617"/>
                  </a:lnTo>
                  <a:lnTo>
                    <a:pt x="206" y="1599"/>
                  </a:lnTo>
                  <a:lnTo>
                    <a:pt x="206" y="1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6378200">
              <a:off x="132840" y="2906280"/>
              <a:ext cx="537840" cy="622440"/>
            </a:xfrm>
            <a:custGeom>
              <a:avLst/>
              <a:gdLst/>
              <a:ahLst/>
              <a:rect l="l" t="t" r="r" b="b"/>
              <a:pathLst>
                <a:path w="1354" h="2058">
                  <a:moveTo>
                    <a:pt x="598" y="4"/>
                  </a:moveTo>
                  <a:lnTo>
                    <a:pt x="594" y="111"/>
                  </a:lnTo>
                  <a:lnTo>
                    <a:pt x="599" y="166"/>
                  </a:lnTo>
                  <a:lnTo>
                    <a:pt x="607" y="221"/>
                  </a:lnTo>
                  <a:lnTo>
                    <a:pt x="618" y="275"/>
                  </a:lnTo>
                  <a:lnTo>
                    <a:pt x="633" y="331"/>
                  </a:lnTo>
                  <a:lnTo>
                    <a:pt x="641" y="359"/>
                  </a:lnTo>
                  <a:lnTo>
                    <a:pt x="651" y="386"/>
                  </a:lnTo>
                  <a:lnTo>
                    <a:pt x="661" y="413"/>
                  </a:lnTo>
                  <a:lnTo>
                    <a:pt x="671" y="440"/>
                  </a:lnTo>
                  <a:lnTo>
                    <a:pt x="683" y="467"/>
                  </a:lnTo>
                  <a:lnTo>
                    <a:pt x="694" y="493"/>
                  </a:lnTo>
                  <a:lnTo>
                    <a:pt x="707" y="520"/>
                  </a:lnTo>
                  <a:lnTo>
                    <a:pt x="720" y="546"/>
                  </a:lnTo>
                  <a:lnTo>
                    <a:pt x="734" y="572"/>
                  </a:lnTo>
                  <a:lnTo>
                    <a:pt x="748" y="598"/>
                  </a:lnTo>
                  <a:lnTo>
                    <a:pt x="763" y="623"/>
                  </a:lnTo>
                  <a:lnTo>
                    <a:pt x="778" y="647"/>
                  </a:lnTo>
                  <a:lnTo>
                    <a:pt x="794" y="673"/>
                  </a:lnTo>
                  <a:lnTo>
                    <a:pt x="810" y="696"/>
                  </a:lnTo>
                  <a:lnTo>
                    <a:pt x="826" y="720"/>
                  </a:lnTo>
                  <a:lnTo>
                    <a:pt x="843" y="743"/>
                  </a:lnTo>
                  <a:lnTo>
                    <a:pt x="861" y="765"/>
                  </a:lnTo>
                  <a:lnTo>
                    <a:pt x="878" y="787"/>
                  </a:lnTo>
                  <a:lnTo>
                    <a:pt x="896" y="808"/>
                  </a:lnTo>
                  <a:lnTo>
                    <a:pt x="915" y="830"/>
                  </a:lnTo>
                  <a:lnTo>
                    <a:pt x="926" y="813"/>
                  </a:lnTo>
                  <a:lnTo>
                    <a:pt x="939" y="798"/>
                  </a:lnTo>
                  <a:lnTo>
                    <a:pt x="953" y="782"/>
                  </a:lnTo>
                  <a:lnTo>
                    <a:pt x="968" y="768"/>
                  </a:lnTo>
                  <a:lnTo>
                    <a:pt x="982" y="754"/>
                  </a:lnTo>
                  <a:lnTo>
                    <a:pt x="998" y="741"/>
                  </a:lnTo>
                  <a:lnTo>
                    <a:pt x="1014" y="727"/>
                  </a:lnTo>
                  <a:lnTo>
                    <a:pt x="1030" y="715"/>
                  </a:lnTo>
                  <a:lnTo>
                    <a:pt x="1046" y="703"/>
                  </a:lnTo>
                  <a:lnTo>
                    <a:pt x="1064" y="692"/>
                  </a:lnTo>
                  <a:lnTo>
                    <a:pt x="1081" y="680"/>
                  </a:lnTo>
                  <a:lnTo>
                    <a:pt x="1099" y="669"/>
                  </a:lnTo>
                  <a:lnTo>
                    <a:pt x="1118" y="659"/>
                  </a:lnTo>
                  <a:lnTo>
                    <a:pt x="1135" y="648"/>
                  </a:lnTo>
                  <a:lnTo>
                    <a:pt x="1154" y="639"/>
                  </a:lnTo>
                  <a:lnTo>
                    <a:pt x="1173" y="629"/>
                  </a:lnTo>
                  <a:lnTo>
                    <a:pt x="1234" y="658"/>
                  </a:lnTo>
                  <a:lnTo>
                    <a:pt x="1201" y="669"/>
                  </a:lnTo>
                  <a:lnTo>
                    <a:pt x="1169" y="684"/>
                  </a:lnTo>
                  <a:lnTo>
                    <a:pt x="1139" y="701"/>
                  </a:lnTo>
                  <a:lnTo>
                    <a:pt x="1110" y="721"/>
                  </a:lnTo>
                  <a:lnTo>
                    <a:pt x="1096" y="732"/>
                  </a:lnTo>
                  <a:lnTo>
                    <a:pt x="1082" y="742"/>
                  </a:lnTo>
                  <a:lnTo>
                    <a:pt x="1069" y="754"/>
                  </a:lnTo>
                  <a:lnTo>
                    <a:pt x="1057" y="766"/>
                  </a:lnTo>
                  <a:lnTo>
                    <a:pt x="1034" y="792"/>
                  </a:lnTo>
                  <a:lnTo>
                    <a:pt x="1012" y="818"/>
                  </a:lnTo>
                  <a:lnTo>
                    <a:pt x="993" y="846"/>
                  </a:lnTo>
                  <a:lnTo>
                    <a:pt x="976" y="877"/>
                  </a:lnTo>
                  <a:lnTo>
                    <a:pt x="961" y="908"/>
                  </a:lnTo>
                  <a:lnTo>
                    <a:pt x="949" y="938"/>
                  </a:lnTo>
                  <a:lnTo>
                    <a:pt x="932" y="1002"/>
                  </a:lnTo>
                  <a:lnTo>
                    <a:pt x="926" y="1068"/>
                  </a:lnTo>
                  <a:lnTo>
                    <a:pt x="932" y="1123"/>
                  </a:lnTo>
                  <a:lnTo>
                    <a:pt x="938" y="1150"/>
                  </a:lnTo>
                  <a:lnTo>
                    <a:pt x="947" y="1176"/>
                  </a:lnTo>
                  <a:lnTo>
                    <a:pt x="957" y="1202"/>
                  </a:lnTo>
                  <a:lnTo>
                    <a:pt x="970" y="1228"/>
                  </a:lnTo>
                  <a:lnTo>
                    <a:pt x="984" y="1253"/>
                  </a:lnTo>
                  <a:lnTo>
                    <a:pt x="1000" y="1278"/>
                  </a:lnTo>
                  <a:lnTo>
                    <a:pt x="1016" y="1304"/>
                  </a:lnTo>
                  <a:lnTo>
                    <a:pt x="1035" y="1329"/>
                  </a:lnTo>
                  <a:lnTo>
                    <a:pt x="1054" y="1353"/>
                  </a:lnTo>
                  <a:lnTo>
                    <a:pt x="1074" y="1378"/>
                  </a:lnTo>
                  <a:lnTo>
                    <a:pt x="1094" y="1404"/>
                  </a:lnTo>
                  <a:lnTo>
                    <a:pt x="1116" y="1430"/>
                  </a:lnTo>
                  <a:lnTo>
                    <a:pt x="1136" y="1455"/>
                  </a:lnTo>
                  <a:lnTo>
                    <a:pt x="1157" y="1482"/>
                  </a:lnTo>
                  <a:lnTo>
                    <a:pt x="1178" y="1509"/>
                  </a:lnTo>
                  <a:lnTo>
                    <a:pt x="1199" y="1535"/>
                  </a:lnTo>
                  <a:lnTo>
                    <a:pt x="1218" y="1564"/>
                  </a:lnTo>
                  <a:lnTo>
                    <a:pt x="1238" y="1592"/>
                  </a:lnTo>
                  <a:lnTo>
                    <a:pt x="1247" y="1607"/>
                  </a:lnTo>
                  <a:lnTo>
                    <a:pt x="1256" y="1622"/>
                  </a:lnTo>
                  <a:lnTo>
                    <a:pt x="1275" y="1651"/>
                  </a:lnTo>
                  <a:lnTo>
                    <a:pt x="1291" y="1683"/>
                  </a:lnTo>
                  <a:lnTo>
                    <a:pt x="1306" y="1714"/>
                  </a:lnTo>
                  <a:lnTo>
                    <a:pt x="1319" y="1748"/>
                  </a:lnTo>
                  <a:lnTo>
                    <a:pt x="1330" y="1782"/>
                  </a:lnTo>
                  <a:lnTo>
                    <a:pt x="1347" y="1855"/>
                  </a:lnTo>
                  <a:lnTo>
                    <a:pt x="1354" y="1932"/>
                  </a:lnTo>
                  <a:lnTo>
                    <a:pt x="1351" y="2015"/>
                  </a:lnTo>
                  <a:lnTo>
                    <a:pt x="1347" y="2036"/>
                  </a:lnTo>
                  <a:lnTo>
                    <a:pt x="1340" y="2050"/>
                  </a:lnTo>
                  <a:lnTo>
                    <a:pt x="1331" y="2057"/>
                  </a:lnTo>
                  <a:lnTo>
                    <a:pt x="1321" y="2058"/>
                  </a:lnTo>
                  <a:lnTo>
                    <a:pt x="1294" y="2044"/>
                  </a:lnTo>
                  <a:lnTo>
                    <a:pt x="1280" y="2032"/>
                  </a:lnTo>
                  <a:lnTo>
                    <a:pt x="1267" y="2016"/>
                  </a:lnTo>
                  <a:lnTo>
                    <a:pt x="1252" y="1998"/>
                  </a:lnTo>
                  <a:lnTo>
                    <a:pt x="1238" y="1979"/>
                  </a:lnTo>
                  <a:lnTo>
                    <a:pt x="1225" y="1959"/>
                  </a:lnTo>
                  <a:lnTo>
                    <a:pt x="1214" y="1940"/>
                  </a:lnTo>
                  <a:lnTo>
                    <a:pt x="1195" y="1904"/>
                  </a:lnTo>
                  <a:lnTo>
                    <a:pt x="1186" y="1879"/>
                  </a:lnTo>
                  <a:lnTo>
                    <a:pt x="1175" y="1838"/>
                  </a:lnTo>
                  <a:lnTo>
                    <a:pt x="1163" y="1799"/>
                  </a:lnTo>
                  <a:lnTo>
                    <a:pt x="1149" y="1759"/>
                  </a:lnTo>
                  <a:lnTo>
                    <a:pt x="1132" y="1721"/>
                  </a:lnTo>
                  <a:lnTo>
                    <a:pt x="1122" y="1701"/>
                  </a:lnTo>
                  <a:lnTo>
                    <a:pt x="1113" y="1682"/>
                  </a:lnTo>
                  <a:lnTo>
                    <a:pt x="1103" y="1663"/>
                  </a:lnTo>
                  <a:lnTo>
                    <a:pt x="1092" y="1644"/>
                  </a:lnTo>
                  <a:lnTo>
                    <a:pt x="1082" y="1625"/>
                  </a:lnTo>
                  <a:lnTo>
                    <a:pt x="1072" y="1606"/>
                  </a:lnTo>
                  <a:lnTo>
                    <a:pt x="1061" y="1587"/>
                  </a:lnTo>
                  <a:lnTo>
                    <a:pt x="1050" y="1568"/>
                  </a:lnTo>
                  <a:lnTo>
                    <a:pt x="1039" y="1549"/>
                  </a:lnTo>
                  <a:lnTo>
                    <a:pt x="1028" y="1531"/>
                  </a:lnTo>
                  <a:lnTo>
                    <a:pt x="1016" y="1512"/>
                  </a:lnTo>
                  <a:lnTo>
                    <a:pt x="1005" y="1493"/>
                  </a:lnTo>
                  <a:lnTo>
                    <a:pt x="994" y="1474"/>
                  </a:lnTo>
                  <a:lnTo>
                    <a:pt x="983" y="1455"/>
                  </a:lnTo>
                  <a:lnTo>
                    <a:pt x="972" y="1436"/>
                  </a:lnTo>
                  <a:lnTo>
                    <a:pt x="961" y="1417"/>
                  </a:lnTo>
                  <a:lnTo>
                    <a:pt x="951" y="1398"/>
                  </a:lnTo>
                  <a:lnTo>
                    <a:pt x="940" y="1379"/>
                  </a:lnTo>
                  <a:lnTo>
                    <a:pt x="931" y="1361"/>
                  </a:lnTo>
                  <a:lnTo>
                    <a:pt x="922" y="1342"/>
                  </a:lnTo>
                  <a:lnTo>
                    <a:pt x="903" y="1304"/>
                  </a:lnTo>
                  <a:lnTo>
                    <a:pt x="887" y="1265"/>
                  </a:lnTo>
                  <a:lnTo>
                    <a:pt x="841" y="1267"/>
                  </a:lnTo>
                  <a:lnTo>
                    <a:pt x="784" y="1261"/>
                  </a:lnTo>
                  <a:lnTo>
                    <a:pt x="726" y="1254"/>
                  </a:lnTo>
                  <a:lnTo>
                    <a:pt x="673" y="1253"/>
                  </a:lnTo>
                  <a:lnTo>
                    <a:pt x="329" y="1291"/>
                  </a:lnTo>
                  <a:lnTo>
                    <a:pt x="255" y="1311"/>
                  </a:lnTo>
                  <a:lnTo>
                    <a:pt x="218" y="1324"/>
                  </a:lnTo>
                  <a:lnTo>
                    <a:pt x="181" y="1338"/>
                  </a:lnTo>
                  <a:lnTo>
                    <a:pt x="142" y="1356"/>
                  </a:lnTo>
                  <a:lnTo>
                    <a:pt x="103" y="1377"/>
                  </a:lnTo>
                  <a:lnTo>
                    <a:pt x="82" y="1389"/>
                  </a:lnTo>
                  <a:lnTo>
                    <a:pt x="61" y="1401"/>
                  </a:lnTo>
                  <a:lnTo>
                    <a:pt x="39" y="1414"/>
                  </a:lnTo>
                  <a:lnTo>
                    <a:pt x="17" y="1428"/>
                  </a:lnTo>
                  <a:lnTo>
                    <a:pt x="0" y="1405"/>
                  </a:lnTo>
                  <a:lnTo>
                    <a:pt x="23" y="1390"/>
                  </a:lnTo>
                  <a:lnTo>
                    <a:pt x="46" y="1375"/>
                  </a:lnTo>
                  <a:lnTo>
                    <a:pt x="70" y="1362"/>
                  </a:lnTo>
                  <a:lnTo>
                    <a:pt x="95" y="1348"/>
                  </a:lnTo>
                  <a:lnTo>
                    <a:pt x="119" y="1334"/>
                  </a:lnTo>
                  <a:lnTo>
                    <a:pt x="144" y="1322"/>
                  </a:lnTo>
                  <a:lnTo>
                    <a:pt x="170" y="1309"/>
                  </a:lnTo>
                  <a:lnTo>
                    <a:pt x="195" y="1296"/>
                  </a:lnTo>
                  <a:lnTo>
                    <a:pt x="220" y="1285"/>
                  </a:lnTo>
                  <a:lnTo>
                    <a:pt x="247" y="1273"/>
                  </a:lnTo>
                  <a:lnTo>
                    <a:pt x="273" y="1263"/>
                  </a:lnTo>
                  <a:lnTo>
                    <a:pt x="299" y="1252"/>
                  </a:lnTo>
                  <a:lnTo>
                    <a:pt x="326" y="1241"/>
                  </a:lnTo>
                  <a:lnTo>
                    <a:pt x="353" y="1232"/>
                  </a:lnTo>
                  <a:lnTo>
                    <a:pt x="407" y="1215"/>
                  </a:lnTo>
                  <a:lnTo>
                    <a:pt x="463" y="1200"/>
                  </a:lnTo>
                  <a:lnTo>
                    <a:pt x="518" y="1189"/>
                  </a:lnTo>
                  <a:lnTo>
                    <a:pt x="574" y="1179"/>
                  </a:lnTo>
                  <a:lnTo>
                    <a:pt x="631" y="1173"/>
                  </a:lnTo>
                  <a:lnTo>
                    <a:pt x="745" y="1169"/>
                  </a:lnTo>
                  <a:lnTo>
                    <a:pt x="859" y="1178"/>
                  </a:lnTo>
                  <a:lnTo>
                    <a:pt x="847" y="1110"/>
                  </a:lnTo>
                  <a:lnTo>
                    <a:pt x="843" y="1041"/>
                  </a:lnTo>
                  <a:lnTo>
                    <a:pt x="850" y="972"/>
                  </a:lnTo>
                  <a:lnTo>
                    <a:pt x="859" y="938"/>
                  </a:lnTo>
                  <a:lnTo>
                    <a:pt x="871" y="905"/>
                  </a:lnTo>
                  <a:lnTo>
                    <a:pt x="832" y="882"/>
                  </a:lnTo>
                  <a:lnTo>
                    <a:pt x="813" y="866"/>
                  </a:lnTo>
                  <a:lnTo>
                    <a:pt x="796" y="849"/>
                  </a:lnTo>
                  <a:lnTo>
                    <a:pt x="778" y="827"/>
                  </a:lnTo>
                  <a:lnTo>
                    <a:pt x="761" y="804"/>
                  </a:lnTo>
                  <a:lnTo>
                    <a:pt x="745" y="780"/>
                  </a:lnTo>
                  <a:lnTo>
                    <a:pt x="730" y="753"/>
                  </a:lnTo>
                  <a:lnTo>
                    <a:pt x="715" y="724"/>
                  </a:lnTo>
                  <a:lnTo>
                    <a:pt x="701" y="695"/>
                  </a:lnTo>
                  <a:lnTo>
                    <a:pt x="688" y="663"/>
                  </a:lnTo>
                  <a:lnTo>
                    <a:pt x="675" y="630"/>
                  </a:lnTo>
                  <a:lnTo>
                    <a:pt x="662" y="597"/>
                  </a:lnTo>
                  <a:lnTo>
                    <a:pt x="652" y="563"/>
                  </a:lnTo>
                  <a:lnTo>
                    <a:pt x="640" y="528"/>
                  </a:lnTo>
                  <a:lnTo>
                    <a:pt x="631" y="492"/>
                  </a:lnTo>
                  <a:lnTo>
                    <a:pt x="613" y="421"/>
                  </a:lnTo>
                  <a:lnTo>
                    <a:pt x="598" y="349"/>
                  </a:lnTo>
                  <a:lnTo>
                    <a:pt x="585" y="279"/>
                  </a:lnTo>
                  <a:lnTo>
                    <a:pt x="576" y="212"/>
                  </a:lnTo>
                  <a:lnTo>
                    <a:pt x="565" y="92"/>
                  </a:lnTo>
                  <a:lnTo>
                    <a:pt x="566" y="0"/>
                  </a:lnTo>
                  <a:lnTo>
                    <a:pt x="598" y="4"/>
                  </a:lnTo>
                  <a:lnTo>
                    <a:pt x="59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-16920" y="3719520"/>
            <a:ext cx="743400" cy="1237680"/>
            <a:chOff x="-16920" y="3719520"/>
            <a:chExt cx="743400" cy="1237680"/>
          </a:xfrm>
        </p:grpSpPr>
        <p:sp>
          <p:nvSpPr>
            <p:cNvPr id="230" name=""/>
            <p:cNvSpPr/>
            <p:nvPr/>
          </p:nvSpPr>
          <p:spPr>
            <a:xfrm rot="16378200">
              <a:off x="251640" y="4580640"/>
              <a:ext cx="468000" cy="252000"/>
            </a:xfrm>
            <a:custGeom>
              <a:avLst/>
              <a:gdLst/>
              <a:ahLst/>
              <a:rect l="l" t="t" r="r" b="b"/>
              <a:pathLst>
                <a:path w="1179" h="836">
                  <a:moveTo>
                    <a:pt x="1164" y="440"/>
                  </a:moveTo>
                  <a:lnTo>
                    <a:pt x="981" y="701"/>
                  </a:lnTo>
                  <a:lnTo>
                    <a:pt x="857" y="771"/>
                  </a:lnTo>
                  <a:lnTo>
                    <a:pt x="802" y="705"/>
                  </a:lnTo>
                  <a:lnTo>
                    <a:pt x="790" y="585"/>
                  </a:lnTo>
                  <a:lnTo>
                    <a:pt x="623" y="767"/>
                  </a:lnTo>
                  <a:lnTo>
                    <a:pt x="526" y="776"/>
                  </a:lnTo>
                  <a:lnTo>
                    <a:pt x="464" y="641"/>
                  </a:lnTo>
                  <a:lnTo>
                    <a:pt x="240" y="836"/>
                  </a:lnTo>
                  <a:lnTo>
                    <a:pt x="195" y="780"/>
                  </a:lnTo>
                  <a:lnTo>
                    <a:pt x="236" y="682"/>
                  </a:lnTo>
                  <a:lnTo>
                    <a:pt x="63" y="701"/>
                  </a:lnTo>
                  <a:lnTo>
                    <a:pt x="0" y="618"/>
                  </a:lnTo>
                  <a:lnTo>
                    <a:pt x="36" y="539"/>
                  </a:lnTo>
                  <a:lnTo>
                    <a:pt x="113" y="472"/>
                  </a:lnTo>
                  <a:lnTo>
                    <a:pt x="81" y="398"/>
                  </a:lnTo>
                  <a:lnTo>
                    <a:pt x="148" y="347"/>
                  </a:lnTo>
                  <a:lnTo>
                    <a:pt x="409" y="286"/>
                  </a:lnTo>
                  <a:lnTo>
                    <a:pt x="373" y="201"/>
                  </a:lnTo>
                  <a:lnTo>
                    <a:pt x="464" y="132"/>
                  </a:lnTo>
                  <a:lnTo>
                    <a:pt x="766" y="150"/>
                  </a:lnTo>
                  <a:lnTo>
                    <a:pt x="765" y="30"/>
                  </a:lnTo>
                  <a:lnTo>
                    <a:pt x="869" y="0"/>
                  </a:lnTo>
                  <a:lnTo>
                    <a:pt x="1113" y="140"/>
                  </a:lnTo>
                  <a:lnTo>
                    <a:pt x="1179" y="290"/>
                  </a:lnTo>
                  <a:lnTo>
                    <a:pt x="1164" y="440"/>
                  </a:lnTo>
                  <a:lnTo>
                    <a:pt x="1164" y="440"/>
                  </a:lnTo>
                  <a:lnTo>
                    <a:pt x="1164" y="440"/>
                  </a:lnTo>
                  <a:close/>
                </a:path>
              </a:pathLst>
            </a:custGeom>
            <a:solidFill>
              <a:srgbClr val="3df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6378200">
              <a:off x="430560" y="4753440"/>
              <a:ext cx="133200" cy="68040"/>
            </a:xfrm>
            <a:custGeom>
              <a:avLst/>
              <a:gdLst/>
              <a:ahLst/>
              <a:rect l="l" t="t" r="r" b="b"/>
              <a:pathLst>
                <a:path w="335" h="227">
                  <a:moveTo>
                    <a:pt x="234" y="59"/>
                  </a:moveTo>
                  <a:lnTo>
                    <a:pt x="167" y="72"/>
                  </a:lnTo>
                  <a:lnTo>
                    <a:pt x="99" y="86"/>
                  </a:lnTo>
                  <a:lnTo>
                    <a:pt x="60" y="97"/>
                  </a:lnTo>
                  <a:lnTo>
                    <a:pt x="20" y="108"/>
                  </a:lnTo>
                  <a:lnTo>
                    <a:pt x="0" y="101"/>
                  </a:lnTo>
                  <a:lnTo>
                    <a:pt x="0" y="91"/>
                  </a:lnTo>
                  <a:lnTo>
                    <a:pt x="9" y="83"/>
                  </a:lnTo>
                  <a:lnTo>
                    <a:pt x="28" y="74"/>
                  </a:lnTo>
                  <a:lnTo>
                    <a:pt x="63" y="64"/>
                  </a:lnTo>
                  <a:lnTo>
                    <a:pt x="106" y="51"/>
                  </a:lnTo>
                  <a:lnTo>
                    <a:pt x="154" y="38"/>
                  </a:lnTo>
                  <a:lnTo>
                    <a:pt x="203" y="26"/>
                  </a:lnTo>
                  <a:lnTo>
                    <a:pt x="246" y="14"/>
                  </a:lnTo>
                  <a:lnTo>
                    <a:pt x="304" y="0"/>
                  </a:lnTo>
                  <a:lnTo>
                    <a:pt x="334" y="4"/>
                  </a:lnTo>
                  <a:lnTo>
                    <a:pt x="335" y="25"/>
                  </a:lnTo>
                  <a:lnTo>
                    <a:pt x="327" y="39"/>
                  </a:lnTo>
                  <a:lnTo>
                    <a:pt x="316" y="57"/>
                  </a:lnTo>
                  <a:lnTo>
                    <a:pt x="299" y="76"/>
                  </a:lnTo>
                  <a:lnTo>
                    <a:pt x="281" y="97"/>
                  </a:lnTo>
                  <a:lnTo>
                    <a:pt x="260" y="118"/>
                  </a:lnTo>
                  <a:lnTo>
                    <a:pt x="250" y="129"/>
                  </a:lnTo>
                  <a:lnTo>
                    <a:pt x="240" y="140"/>
                  </a:lnTo>
                  <a:lnTo>
                    <a:pt x="228" y="149"/>
                  </a:lnTo>
                  <a:lnTo>
                    <a:pt x="219" y="158"/>
                  </a:lnTo>
                  <a:lnTo>
                    <a:pt x="198" y="177"/>
                  </a:lnTo>
                  <a:lnTo>
                    <a:pt x="181" y="192"/>
                  </a:lnTo>
                  <a:lnTo>
                    <a:pt x="166" y="206"/>
                  </a:lnTo>
                  <a:lnTo>
                    <a:pt x="148" y="220"/>
                  </a:lnTo>
                  <a:lnTo>
                    <a:pt x="118" y="227"/>
                  </a:lnTo>
                  <a:lnTo>
                    <a:pt x="96" y="215"/>
                  </a:lnTo>
                  <a:lnTo>
                    <a:pt x="93" y="188"/>
                  </a:lnTo>
                  <a:lnTo>
                    <a:pt x="105" y="168"/>
                  </a:lnTo>
                  <a:lnTo>
                    <a:pt x="124" y="146"/>
                  </a:lnTo>
                  <a:lnTo>
                    <a:pt x="138" y="134"/>
                  </a:lnTo>
                  <a:lnTo>
                    <a:pt x="151" y="124"/>
                  </a:lnTo>
                  <a:lnTo>
                    <a:pt x="165" y="113"/>
                  </a:lnTo>
                  <a:lnTo>
                    <a:pt x="180" y="103"/>
                  </a:lnTo>
                  <a:lnTo>
                    <a:pt x="193" y="92"/>
                  </a:lnTo>
                  <a:lnTo>
                    <a:pt x="207" y="82"/>
                  </a:lnTo>
                  <a:lnTo>
                    <a:pt x="221" y="71"/>
                  </a:lnTo>
                  <a:lnTo>
                    <a:pt x="234" y="59"/>
                  </a:lnTo>
                  <a:lnTo>
                    <a:pt x="234" y="59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378200">
              <a:off x="427320" y="4713120"/>
              <a:ext cx="13680" cy="104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28"/>
                  </a:moveTo>
                  <a:lnTo>
                    <a:pt x="4" y="17"/>
                  </a:lnTo>
                  <a:lnTo>
                    <a:pt x="17" y="5"/>
                  </a:lnTo>
                  <a:lnTo>
                    <a:pt x="30" y="0"/>
                  </a:lnTo>
                  <a:lnTo>
                    <a:pt x="35" y="7"/>
                  </a:lnTo>
                  <a:lnTo>
                    <a:pt x="28" y="3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378200">
              <a:off x="421200" y="4633920"/>
              <a:ext cx="104400" cy="88560"/>
            </a:xfrm>
            <a:custGeom>
              <a:avLst/>
              <a:gdLst/>
              <a:ahLst/>
              <a:rect l="l" t="t" r="r" b="b"/>
              <a:pathLst>
                <a:path w="264" h="299">
                  <a:moveTo>
                    <a:pt x="198" y="102"/>
                  </a:moveTo>
                  <a:lnTo>
                    <a:pt x="157" y="91"/>
                  </a:lnTo>
                  <a:lnTo>
                    <a:pt x="103" y="74"/>
                  </a:lnTo>
                  <a:lnTo>
                    <a:pt x="51" y="56"/>
                  </a:lnTo>
                  <a:lnTo>
                    <a:pt x="15" y="4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2" y="0"/>
                  </a:lnTo>
                  <a:lnTo>
                    <a:pt x="35" y="3"/>
                  </a:lnTo>
                  <a:lnTo>
                    <a:pt x="87" y="19"/>
                  </a:lnTo>
                  <a:lnTo>
                    <a:pt x="138" y="31"/>
                  </a:lnTo>
                  <a:lnTo>
                    <a:pt x="241" y="54"/>
                  </a:lnTo>
                  <a:lnTo>
                    <a:pt x="261" y="65"/>
                  </a:lnTo>
                  <a:lnTo>
                    <a:pt x="264" y="86"/>
                  </a:lnTo>
                  <a:lnTo>
                    <a:pt x="254" y="135"/>
                  </a:lnTo>
                  <a:lnTo>
                    <a:pt x="238" y="185"/>
                  </a:lnTo>
                  <a:lnTo>
                    <a:pt x="229" y="210"/>
                  </a:lnTo>
                  <a:lnTo>
                    <a:pt x="218" y="235"/>
                  </a:lnTo>
                  <a:lnTo>
                    <a:pt x="207" y="258"/>
                  </a:lnTo>
                  <a:lnTo>
                    <a:pt x="195" y="280"/>
                  </a:lnTo>
                  <a:lnTo>
                    <a:pt x="185" y="292"/>
                  </a:lnTo>
                  <a:lnTo>
                    <a:pt x="173" y="299"/>
                  </a:lnTo>
                  <a:lnTo>
                    <a:pt x="148" y="298"/>
                  </a:lnTo>
                  <a:lnTo>
                    <a:pt x="129" y="281"/>
                  </a:lnTo>
                  <a:lnTo>
                    <a:pt x="126" y="268"/>
                  </a:lnTo>
                  <a:lnTo>
                    <a:pt x="128" y="253"/>
                  </a:lnTo>
                  <a:lnTo>
                    <a:pt x="148" y="200"/>
                  </a:lnTo>
                  <a:lnTo>
                    <a:pt x="159" y="174"/>
                  </a:lnTo>
                  <a:lnTo>
                    <a:pt x="173" y="151"/>
                  </a:lnTo>
                  <a:lnTo>
                    <a:pt x="187" y="127"/>
                  </a:lnTo>
                  <a:lnTo>
                    <a:pt x="198" y="102"/>
                  </a:lnTo>
                  <a:lnTo>
                    <a:pt x="198" y="102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6378200">
              <a:off x="422640" y="4507560"/>
              <a:ext cx="86760" cy="95400"/>
            </a:xfrm>
            <a:custGeom>
              <a:avLst/>
              <a:gdLst/>
              <a:ahLst/>
              <a:rect l="l" t="t" r="r" b="b"/>
              <a:pathLst>
                <a:path w="222" h="316">
                  <a:moveTo>
                    <a:pt x="19" y="0"/>
                  </a:moveTo>
                  <a:lnTo>
                    <a:pt x="104" y="14"/>
                  </a:lnTo>
                  <a:lnTo>
                    <a:pt x="184" y="44"/>
                  </a:lnTo>
                  <a:lnTo>
                    <a:pt x="208" y="66"/>
                  </a:lnTo>
                  <a:lnTo>
                    <a:pt x="220" y="91"/>
                  </a:lnTo>
                  <a:lnTo>
                    <a:pt x="222" y="120"/>
                  </a:lnTo>
                  <a:lnTo>
                    <a:pt x="215" y="148"/>
                  </a:lnTo>
                  <a:lnTo>
                    <a:pt x="204" y="178"/>
                  </a:lnTo>
                  <a:lnTo>
                    <a:pt x="189" y="207"/>
                  </a:lnTo>
                  <a:lnTo>
                    <a:pt x="174" y="234"/>
                  </a:lnTo>
                  <a:lnTo>
                    <a:pt x="160" y="258"/>
                  </a:lnTo>
                  <a:lnTo>
                    <a:pt x="145" y="291"/>
                  </a:lnTo>
                  <a:lnTo>
                    <a:pt x="135" y="305"/>
                  </a:lnTo>
                  <a:lnTo>
                    <a:pt x="123" y="314"/>
                  </a:lnTo>
                  <a:lnTo>
                    <a:pt x="94" y="316"/>
                  </a:lnTo>
                  <a:lnTo>
                    <a:pt x="72" y="300"/>
                  </a:lnTo>
                  <a:lnTo>
                    <a:pt x="67" y="271"/>
                  </a:lnTo>
                  <a:lnTo>
                    <a:pt x="79" y="242"/>
                  </a:lnTo>
                  <a:lnTo>
                    <a:pt x="88" y="228"/>
                  </a:lnTo>
                  <a:lnTo>
                    <a:pt x="97" y="215"/>
                  </a:lnTo>
                  <a:lnTo>
                    <a:pt x="108" y="201"/>
                  </a:lnTo>
                  <a:lnTo>
                    <a:pt x="118" y="188"/>
                  </a:lnTo>
                  <a:lnTo>
                    <a:pt x="138" y="163"/>
                  </a:lnTo>
                  <a:lnTo>
                    <a:pt x="164" y="120"/>
                  </a:lnTo>
                  <a:lnTo>
                    <a:pt x="167" y="110"/>
                  </a:lnTo>
                  <a:lnTo>
                    <a:pt x="164" y="102"/>
                  </a:lnTo>
                  <a:lnTo>
                    <a:pt x="152" y="87"/>
                  </a:lnTo>
                  <a:lnTo>
                    <a:pt x="134" y="77"/>
                  </a:lnTo>
                  <a:lnTo>
                    <a:pt x="117" y="67"/>
                  </a:lnTo>
                  <a:lnTo>
                    <a:pt x="84" y="52"/>
                  </a:lnTo>
                  <a:lnTo>
                    <a:pt x="49" y="40"/>
                  </a:lnTo>
                  <a:lnTo>
                    <a:pt x="12" y="27"/>
                  </a:lnTo>
                  <a:lnTo>
                    <a:pt x="2" y="20"/>
                  </a:lnTo>
                  <a:lnTo>
                    <a:pt x="0" y="10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6378200">
              <a:off x="6840" y="4323240"/>
              <a:ext cx="320400" cy="338760"/>
            </a:xfrm>
            <a:custGeom>
              <a:avLst/>
              <a:gdLst/>
              <a:ahLst/>
              <a:rect l="l" t="t" r="r" b="b"/>
              <a:pathLst>
                <a:path w="807" h="1119">
                  <a:moveTo>
                    <a:pt x="551" y="1087"/>
                  </a:moveTo>
                  <a:lnTo>
                    <a:pt x="664" y="985"/>
                  </a:lnTo>
                  <a:lnTo>
                    <a:pt x="807" y="727"/>
                  </a:lnTo>
                  <a:lnTo>
                    <a:pt x="776" y="620"/>
                  </a:lnTo>
                  <a:lnTo>
                    <a:pt x="680" y="610"/>
                  </a:lnTo>
                  <a:lnTo>
                    <a:pt x="628" y="624"/>
                  </a:lnTo>
                  <a:lnTo>
                    <a:pt x="668" y="438"/>
                  </a:lnTo>
                  <a:lnTo>
                    <a:pt x="638" y="339"/>
                  </a:lnTo>
                  <a:lnTo>
                    <a:pt x="464" y="392"/>
                  </a:lnTo>
                  <a:lnTo>
                    <a:pt x="552" y="199"/>
                  </a:lnTo>
                  <a:lnTo>
                    <a:pt x="551" y="75"/>
                  </a:lnTo>
                  <a:lnTo>
                    <a:pt x="404" y="148"/>
                  </a:lnTo>
                  <a:lnTo>
                    <a:pt x="327" y="4"/>
                  </a:lnTo>
                  <a:lnTo>
                    <a:pt x="240" y="0"/>
                  </a:lnTo>
                  <a:lnTo>
                    <a:pt x="169" y="102"/>
                  </a:lnTo>
                  <a:lnTo>
                    <a:pt x="169" y="158"/>
                  </a:lnTo>
                  <a:lnTo>
                    <a:pt x="91" y="173"/>
                  </a:lnTo>
                  <a:lnTo>
                    <a:pt x="61" y="223"/>
                  </a:lnTo>
                  <a:lnTo>
                    <a:pt x="113" y="404"/>
                  </a:lnTo>
                  <a:lnTo>
                    <a:pt x="128" y="517"/>
                  </a:lnTo>
                  <a:lnTo>
                    <a:pt x="30" y="509"/>
                  </a:lnTo>
                  <a:lnTo>
                    <a:pt x="0" y="574"/>
                  </a:lnTo>
                  <a:lnTo>
                    <a:pt x="51" y="686"/>
                  </a:lnTo>
                  <a:lnTo>
                    <a:pt x="169" y="848"/>
                  </a:lnTo>
                  <a:lnTo>
                    <a:pt x="57" y="913"/>
                  </a:lnTo>
                  <a:lnTo>
                    <a:pt x="93" y="993"/>
                  </a:lnTo>
                  <a:lnTo>
                    <a:pt x="352" y="1119"/>
                  </a:lnTo>
                  <a:lnTo>
                    <a:pt x="551" y="1087"/>
                  </a:lnTo>
                  <a:lnTo>
                    <a:pt x="551" y="1087"/>
                  </a:lnTo>
                  <a:lnTo>
                    <a:pt x="551" y="1087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6378200">
              <a:off x="46800" y="4500360"/>
              <a:ext cx="113760" cy="76320"/>
            </a:xfrm>
            <a:custGeom>
              <a:avLst/>
              <a:gdLst/>
              <a:ahLst/>
              <a:rect l="l" t="t" r="r" b="b"/>
              <a:pathLst>
                <a:path w="292" h="254">
                  <a:moveTo>
                    <a:pt x="134" y="199"/>
                  </a:moveTo>
                  <a:lnTo>
                    <a:pt x="141" y="196"/>
                  </a:lnTo>
                  <a:lnTo>
                    <a:pt x="154" y="175"/>
                  </a:lnTo>
                  <a:lnTo>
                    <a:pt x="169" y="151"/>
                  </a:lnTo>
                  <a:lnTo>
                    <a:pt x="185" y="126"/>
                  </a:lnTo>
                  <a:lnTo>
                    <a:pt x="201" y="100"/>
                  </a:lnTo>
                  <a:lnTo>
                    <a:pt x="218" y="74"/>
                  </a:lnTo>
                  <a:lnTo>
                    <a:pt x="235" y="49"/>
                  </a:lnTo>
                  <a:lnTo>
                    <a:pt x="250" y="27"/>
                  </a:lnTo>
                  <a:lnTo>
                    <a:pt x="265" y="8"/>
                  </a:lnTo>
                  <a:lnTo>
                    <a:pt x="276" y="0"/>
                  </a:lnTo>
                  <a:lnTo>
                    <a:pt x="286" y="2"/>
                  </a:lnTo>
                  <a:lnTo>
                    <a:pt x="292" y="20"/>
                  </a:lnTo>
                  <a:lnTo>
                    <a:pt x="285" y="39"/>
                  </a:lnTo>
                  <a:lnTo>
                    <a:pt x="274" y="66"/>
                  </a:lnTo>
                  <a:lnTo>
                    <a:pt x="260" y="97"/>
                  </a:lnTo>
                  <a:lnTo>
                    <a:pt x="246" y="131"/>
                  </a:lnTo>
                  <a:lnTo>
                    <a:pt x="231" y="165"/>
                  </a:lnTo>
                  <a:lnTo>
                    <a:pt x="217" y="195"/>
                  </a:lnTo>
                  <a:lnTo>
                    <a:pt x="205" y="219"/>
                  </a:lnTo>
                  <a:lnTo>
                    <a:pt x="197" y="233"/>
                  </a:lnTo>
                  <a:lnTo>
                    <a:pt x="189" y="242"/>
                  </a:lnTo>
                  <a:lnTo>
                    <a:pt x="179" y="248"/>
                  </a:lnTo>
                  <a:lnTo>
                    <a:pt x="142" y="254"/>
                  </a:lnTo>
                  <a:lnTo>
                    <a:pt x="106" y="247"/>
                  </a:lnTo>
                  <a:lnTo>
                    <a:pt x="79" y="213"/>
                  </a:lnTo>
                  <a:lnTo>
                    <a:pt x="62" y="183"/>
                  </a:lnTo>
                  <a:lnTo>
                    <a:pt x="45" y="147"/>
                  </a:lnTo>
                  <a:lnTo>
                    <a:pt x="29" y="111"/>
                  </a:lnTo>
                  <a:lnTo>
                    <a:pt x="15" y="76"/>
                  </a:lnTo>
                  <a:lnTo>
                    <a:pt x="0" y="30"/>
                  </a:lnTo>
                  <a:lnTo>
                    <a:pt x="1" y="18"/>
                  </a:lnTo>
                  <a:lnTo>
                    <a:pt x="11" y="12"/>
                  </a:lnTo>
                  <a:lnTo>
                    <a:pt x="29" y="23"/>
                  </a:lnTo>
                  <a:lnTo>
                    <a:pt x="44" y="54"/>
                  </a:lnTo>
                  <a:lnTo>
                    <a:pt x="51" y="71"/>
                  </a:lnTo>
                  <a:lnTo>
                    <a:pt x="59" y="87"/>
                  </a:lnTo>
                  <a:lnTo>
                    <a:pt x="68" y="102"/>
                  </a:lnTo>
                  <a:lnTo>
                    <a:pt x="77" y="115"/>
                  </a:lnTo>
                  <a:lnTo>
                    <a:pt x="87" y="129"/>
                  </a:lnTo>
                  <a:lnTo>
                    <a:pt x="96" y="143"/>
                  </a:lnTo>
                  <a:lnTo>
                    <a:pt x="115" y="170"/>
                  </a:lnTo>
                  <a:lnTo>
                    <a:pt x="134" y="199"/>
                  </a:lnTo>
                  <a:lnTo>
                    <a:pt x="134" y="199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6378200">
              <a:off x="110880" y="4484160"/>
              <a:ext cx="131400" cy="76320"/>
            </a:xfrm>
            <a:custGeom>
              <a:avLst/>
              <a:gdLst/>
              <a:ahLst/>
              <a:rect l="l" t="t" r="r" b="b"/>
              <a:pathLst>
                <a:path w="331" h="253">
                  <a:moveTo>
                    <a:pt x="189" y="195"/>
                  </a:moveTo>
                  <a:lnTo>
                    <a:pt x="196" y="169"/>
                  </a:lnTo>
                  <a:lnTo>
                    <a:pt x="204" y="144"/>
                  </a:lnTo>
                  <a:lnTo>
                    <a:pt x="216" y="119"/>
                  </a:lnTo>
                  <a:lnTo>
                    <a:pt x="227" y="94"/>
                  </a:lnTo>
                  <a:lnTo>
                    <a:pt x="242" y="71"/>
                  </a:lnTo>
                  <a:lnTo>
                    <a:pt x="258" y="48"/>
                  </a:lnTo>
                  <a:lnTo>
                    <a:pt x="276" y="27"/>
                  </a:lnTo>
                  <a:lnTo>
                    <a:pt x="294" y="7"/>
                  </a:lnTo>
                  <a:lnTo>
                    <a:pt x="309" y="0"/>
                  </a:lnTo>
                  <a:lnTo>
                    <a:pt x="323" y="4"/>
                  </a:lnTo>
                  <a:lnTo>
                    <a:pt x="331" y="14"/>
                  </a:lnTo>
                  <a:lnTo>
                    <a:pt x="326" y="30"/>
                  </a:lnTo>
                  <a:lnTo>
                    <a:pt x="307" y="60"/>
                  </a:lnTo>
                  <a:lnTo>
                    <a:pt x="292" y="84"/>
                  </a:lnTo>
                  <a:lnTo>
                    <a:pt x="275" y="126"/>
                  </a:lnTo>
                  <a:lnTo>
                    <a:pt x="253" y="227"/>
                  </a:lnTo>
                  <a:lnTo>
                    <a:pt x="243" y="246"/>
                  </a:lnTo>
                  <a:lnTo>
                    <a:pt x="223" y="253"/>
                  </a:lnTo>
                  <a:lnTo>
                    <a:pt x="204" y="251"/>
                  </a:lnTo>
                  <a:lnTo>
                    <a:pt x="187" y="241"/>
                  </a:lnTo>
                  <a:lnTo>
                    <a:pt x="172" y="228"/>
                  </a:lnTo>
                  <a:lnTo>
                    <a:pt x="156" y="217"/>
                  </a:lnTo>
                  <a:lnTo>
                    <a:pt x="119" y="203"/>
                  </a:lnTo>
                  <a:lnTo>
                    <a:pt x="81" y="192"/>
                  </a:lnTo>
                  <a:lnTo>
                    <a:pt x="9" y="165"/>
                  </a:lnTo>
                  <a:lnTo>
                    <a:pt x="0" y="156"/>
                  </a:lnTo>
                  <a:lnTo>
                    <a:pt x="1" y="146"/>
                  </a:lnTo>
                  <a:lnTo>
                    <a:pt x="9" y="140"/>
                  </a:lnTo>
                  <a:lnTo>
                    <a:pt x="22" y="140"/>
                  </a:lnTo>
                  <a:lnTo>
                    <a:pt x="56" y="151"/>
                  </a:lnTo>
                  <a:lnTo>
                    <a:pt x="82" y="161"/>
                  </a:lnTo>
                  <a:lnTo>
                    <a:pt x="110" y="170"/>
                  </a:lnTo>
                  <a:lnTo>
                    <a:pt x="160" y="188"/>
                  </a:lnTo>
                  <a:lnTo>
                    <a:pt x="189" y="195"/>
                  </a:lnTo>
                  <a:lnTo>
                    <a:pt x="189" y="195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378200">
              <a:off x="188280" y="4430520"/>
              <a:ext cx="142560" cy="76320"/>
            </a:xfrm>
            <a:custGeom>
              <a:avLst/>
              <a:gdLst/>
              <a:ahLst/>
              <a:rect l="l" t="t" r="r" b="b"/>
              <a:pathLst>
                <a:path w="361" h="253">
                  <a:moveTo>
                    <a:pt x="134" y="185"/>
                  </a:moveTo>
                  <a:lnTo>
                    <a:pt x="151" y="164"/>
                  </a:lnTo>
                  <a:lnTo>
                    <a:pt x="168" y="142"/>
                  </a:lnTo>
                  <a:lnTo>
                    <a:pt x="186" y="122"/>
                  </a:lnTo>
                  <a:lnTo>
                    <a:pt x="204" y="102"/>
                  </a:lnTo>
                  <a:lnTo>
                    <a:pt x="218" y="88"/>
                  </a:lnTo>
                  <a:lnTo>
                    <a:pt x="234" y="74"/>
                  </a:lnTo>
                  <a:lnTo>
                    <a:pt x="250" y="60"/>
                  </a:lnTo>
                  <a:lnTo>
                    <a:pt x="269" y="48"/>
                  </a:lnTo>
                  <a:lnTo>
                    <a:pt x="286" y="35"/>
                  </a:lnTo>
                  <a:lnTo>
                    <a:pt x="304" y="23"/>
                  </a:lnTo>
                  <a:lnTo>
                    <a:pt x="322" y="12"/>
                  </a:lnTo>
                  <a:lnTo>
                    <a:pt x="339" y="0"/>
                  </a:lnTo>
                  <a:lnTo>
                    <a:pt x="361" y="1"/>
                  </a:lnTo>
                  <a:lnTo>
                    <a:pt x="360" y="21"/>
                  </a:lnTo>
                  <a:lnTo>
                    <a:pt x="335" y="48"/>
                  </a:lnTo>
                  <a:lnTo>
                    <a:pt x="312" y="74"/>
                  </a:lnTo>
                  <a:lnTo>
                    <a:pt x="290" y="101"/>
                  </a:lnTo>
                  <a:lnTo>
                    <a:pt x="269" y="129"/>
                  </a:lnTo>
                  <a:lnTo>
                    <a:pt x="258" y="142"/>
                  </a:lnTo>
                  <a:lnTo>
                    <a:pt x="247" y="156"/>
                  </a:lnTo>
                  <a:lnTo>
                    <a:pt x="236" y="171"/>
                  </a:lnTo>
                  <a:lnTo>
                    <a:pt x="225" y="185"/>
                  </a:lnTo>
                  <a:lnTo>
                    <a:pt x="214" y="198"/>
                  </a:lnTo>
                  <a:lnTo>
                    <a:pt x="203" y="212"/>
                  </a:lnTo>
                  <a:lnTo>
                    <a:pt x="181" y="239"/>
                  </a:lnTo>
                  <a:lnTo>
                    <a:pt x="166" y="250"/>
                  </a:lnTo>
                  <a:lnTo>
                    <a:pt x="146" y="253"/>
                  </a:lnTo>
                  <a:lnTo>
                    <a:pt x="76" y="230"/>
                  </a:lnTo>
                  <a:lnTo>
                    <a:pt x="41" y="212"/>
                  </a:lnTo>
                  <a:lnTo>
                    <a:pt x="9" y="195"/>
                  </a:lnTo>
                  <a:lnTo>
                    <a:pt x="0" y="187"/>
                  </a:lnTo>
                  <a:lnTo>
                    <a:pt x="0" y="177"/>
                  </a:lnTo>
                  <a:lnTo>
                    <a:pt x="7" y="170"/>
                  </a:lnTo>
                  <a:lnTo>
                    <a:pt x="19" y="169"/>
                  </a:lnTo>
                  <a:lnTo>
                    <a:pt x="76" y="179"/>
                  </a:lnTo>
                  <a:lnTo>
                    <a:pt x="134" y="185"/>
                  </a:lnTo>
                  <a:lnTo>
                    <a:pt x="134" y="185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378200">
              <a:off x="82800" y="3758040"/>
              <a:ext cx="580680" cy="558720"/>
            </a:xfrm>
            <a:custGeom>
              <a:avLst/>
              <a:gdLst/>
              <a:ahLst/>
              <a:rect l="l" t="t" r="r" b="b"/>
              <a:pathLst>
                <a:path w="1464" h="1845">
                  <a:moveTo>
                    <a:pt x="235" y="1416"/>
                  </a:moveTo>
                  <a:lnTo>
                    <a:pt x="169" y="1288"/>
                  </a:lnTo>
                  <a:lnTo>
                    <a:pt x="15" y="1168"/>
                  </a:lnTo>
                  <a:lnTo>
                    <a:pt x="0" y="1000"/>
                  </a:lnTo>
                  <a:lnTo>
                    <a:pt x="45" y="930"/>
                  </a:lnTo>
                  <a:lnTo>
                    <a:pt x="123" y="911"/>
                  </a:lnTo>
                  <a:lnTo>
                    <a:pt x="317" y="999"/>
                  </a:lnTo>
                  <a:lnTo>
                    <a:pt x="352" y="939"/>
                  </a:lnTo>
                  <a:lnTo>
                    <a:pt x="333" y="518"/>
                  </a:lnTo>
                  <a:lnTo>
                    <a:pt x="418" y="445"/>
                  </a:lnTo>
                  <a:lnTo>
                    <a:pt x="501" y="499"/>
                  </a:lnTo>
                  <a:lnTo>
                    <a:pt x="598" y="616"/>
                  </a:lnTo>
                  <a:lnTo>
                    <a:pt x="644" y="574"/>
                  </a:lnTo>
                  <a:lnTo>
                    <a:pt x="679" y="323"/>
                  </a:lnTo>
                  <a:lnTo>
                    <a:pt x="776" y="202"/>
                  </a:lnTo>
                  <a:lnTo>
                    <a:pt x="919" y="258"/>
                  </a:lnTo>
                  <a:lnTo>
                    <a:pt x="1103" y="0"/>
                  </a:lnTo>
                  <a:lnTo>
                    <a:pt x="1206" y="1"/>
                  </a:lnTo>
                  <a:lnTo>
                    <a:pt x="1251" y="84"/>
                  </a:lnTo>
                  <a:lnTo>
                    <a:pt x="1153" y="258"/>
                  </a:lnTo>
                  <a:lnTo>
                    <a:pt x="1332" y="258"/>
                  </a:lnTo>
                  <a:lnTo>
                    <a:pt x="1464" y="291"/>
                  </a:lnTo>
                  <a:lnTo>
                    <a:pt x="1449" y="402"/>
                  </a:lnTo>
                  <a:lnTo>
                    <a:pt x="1189" y="533"/>
                  </a:lnTo>
                  <a:lnTo>
                    <a:pt x="1399" y="612"/>
                  </a:lnTo>
                  <a:lnTo>
                    <a:pt x="1439" y="744"/>
                  </a:lnTo>
                  <a:lnTo>
                    <a:pt x="1321" y="850"/>
                  </a:lnTo>
                  <a:lnTo>
                    <a:pt x="1153" y="930"/>
                  </a:lnTo>
                  <a:lnTo>
                    <a:pt x="1312" y="1022"/>
                  </a:lnTo>
                  <a:lnTo>
                    <a:pt x="1291" y="1172"/>
                  </a:lnTo>
                  <a:lnTo>
                    <a:pt x="1206" y="1341"/>
                  </a:lnTo>
                  <a:lnTo>
                    <a:pt x="1026" y="1419"/>
                  </a:lnTo>
                  <a:lnTo>
                    <a:pt x="781" y="1452"/>
                  </a:lnTo>
                  <a:lnTo>
                    <a:pt x="567" y="1620"/>
                  </a:lnTo>
                  <a:lnTo>
                    <a:pt x="379" y="1559"/>
                  </a:lnTo>
                  <a:lnTo>
                    <a:pt x="266" y="1661"/>
                  </a:lnTo>
                  <a:lnTo>
                    <a:pt x="138" y="1845"/>
                  </a:lnTo>
                  <a:lnTo>
                    <a:pt x="67" y="1732"/>
                  </a:lnTo>
                  <a:lnTo>
                    <a:pt x="235" y="1416"/>
                  </a:lnTo>
                  <a:lnTo>
                    <a:pt x="235" y="1416"/>
                  </a:lnTo>
                  <a:lnTo>
                    <a:pt x="235" y="1416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378200">
              <a:off x="138240" y="3865320"/>
              <a:ext cx="213840" cy="90720"/>
            </a:xfrm>
            <a:custGeom>
              <a:avLst/>
              <a:gdLst/>
              <a:ahLst/>
              <a:rect l="l" t="t" r="r" b="b"/>
              <a:pathLst>
                <a:path w="540" h="301">
                  <a:moveTo>
                    <a:pt x="127" y="191"/>
                  </a:moveTo>
                  <a:lnTo>
                    <a:pt x="143" y="181"/>
                  </a:lnTo>
                  <a:lnTo>
                    <a:pt x="163" y="170"/>
                  </a:lnTo>
                  <a:lnTo>
                    <a:pt x="185" y="160"/>
                  </a:lnTo>
                  <a:lnTo>
                    <a:pt x="209" y="150"/>
                  </a:lnTo>
                  <a:lnTo>
                    <a:pt x="234" y="140"/>
                  </a:lnTo>
                  <a:lnTo>
                    <a:pt x="261" y="130"/>
                  </a:lnTo>
                  <a:lnTo>
                    <a:pt x="289" y="120"/>
                  </a:lnTo>
                  <a:lnTo>
                    <a:pt x="316" y="111"/>
                  </a:lnTo>
                  <a:lnTo>
                    <a:pt x="373" y="95"/>
                  </a:lnTo>
                  <a:lnTo>
                    <a:pt x="428" y="81"/>
                  </a:lnTo>
                  <a:lnTo>
                    <a:pt x="478" y="71"/>
                  </a:lnTo>
                  <a:lnTo>
                    <a:pt x="521" y="66"/>
                  </a:lnTo>
                  <a:lnTo>
                    <a:pt x="540" y="77"/>
                  </a:lnTo>
                  <a:lnTo>
                    <a:pt x="539" y="86"/>
                  </a:lnTo>
                  <a:lnTo>
                    <a:pt x="529" y="93"/>
                  </a:lnTo>
                  <a:lnTo>
                    <a:pt x="481" y="109"/>
                  </a:lnTo>
                  <a:lnTo>
                    <a:pt x="433" y="125"/>
                  </a:lnTo>
                  <a:lnTo>
                    <a:pt x="406" y="137"/>
                  </a:lnTo>
                  <a:lnTo>
                    <a:pt x="380" y="148"/>
                  </a:lnTo>
                  <a:lnTo>
                    <a:pt x="353" y="161"/>
                  </a:lnTo>
                  <a:lnTo>
                    <a:pt x="328" y="174"/>
                  </a:lnTo>
                  <a:lnTo>
                    <a:pt x="301" y="187"/>
                  </a:lnTo>
                  <a:lnTo>
                    <a:pt x="276" y="201"/>
                  </a:lnTo>
                  <a:lnTo>
                    <a:pt x="251" y="214"/>
                  </a:lnTo>
                  <a:lnTo>
                    <a:pt x="225" y="227"/>
                  </a:lnTo>
                  <a:lnTo>
                    <a:pt x="200" y="241"/>
                  </a:lnTo>
                  <a:lnTo>
                    <a:pt x="176" y="257"/>
                  </a:lnTo>
                  <a:lnTo>
                    <a:pt x="151" y="274"/>
                  </a:lnTo>
                  <a:lnTo>
                    <a:pt x="128" y="289"/>
                  </a:lnTo>
                  <a:lnTo>
                    <a:pt x="101" y="301"/>
                  </a:lnTo>
                  <a:lnTo>
                    <a:pt x="79" y="299"/>
                  </a:lnTo>
                  <a:lnTo>
                    <a:pt x="64" y="284"/>
                  </a:lnTo>
                  <a:lnTo>
                    <a:pt x="58" y="257"/>
                  </a:lnTo>
                  <a:lnTo>
                    <a:pt x="54" y="227"/>
                  </a:lnTo>
                  <a:lnTo>
                    <a:pt x="46" y="196"/>
                  </a:lnTo>
                  <a:lnTo>
                    <a:pt x="35" y="163"/>
                  </a:lnTo>
                  <a:lnTo>
                    <a:pt x="22" y="129"/>
                  </a:lnTo>
                  <a:lnTo>
                    <a:pt x="3" y="66"/>
                  </a:lnTo>
                  <a:lnTo>
                    <a:pt x="0" y="12"/>
                  </a:lnTo>
                  <a:lnTo>
                    <a:pt x="7" y="3"/>
                  </a:lnTo>
                  <a:lnTo>
                    <a:pt x="16" y="0"/>
                  </a:lnTo>
                  <a:lnTo>
                    <a:pt x="31" y="16"/>
                  </a:lnTo>
                  <a:lnTo>
                    <a:pt x="38" y="49"/>
                  </a:lnTo>
                  <a:lnTo>
                    <a:pt x="46" y="75"/>
                  </a:lnTo>
                  <a:lnTo>
                    <a:pt x="56" y="95"/>
                  </a:lnTo>
                  <a:lnTo>
                    <a:pt x="67" y="111"/>
                  </a:lnTo>
                  <a:lnTo>
                    <a:pt x="80" y="127"/>
                  </a:lnTo>
                  <a:lnTo>
                    <a:pt x="94" y="144"/>
                  </a:lnTo>
                  <a:lnTo>
                    <a:pt x="110" y="165"/>
                  </a:lnTo>
                  <a:lnTo>
                    <a:pt x="127" y="191"/>
                  </a:lnTo>
                  <a:lnTo>
                    <a:pt x="127" y="191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378200">
              <a:off x="196560" y="3942720"/>
              <a:ext cx="304200" cy="120240"/>
            </a:xfrm>
            <a:custGeom>
              <a:avLst/>
              <a:gdLst/>
              <a:ahLst/>
              <a:rect l="l" t="t" r="r" b="b"/>
              <a:pathLst>
                <a:path w="769" h="399">
                  <a:moveTo>
                    <a:pt x="210" y="308"/>
                  </a:moveTo>
                  <a:lnTo>
                    <a:pt x="241" y="287"/>
                  </a:lnTo>
                  <a:lnTo>
                    <a:pt x="270" y="268"/>
                  </a:lnTo>
                  <a:lnTo>
                    <a:pt x="296" y="249"/>
                  </a:lnTo>
                  <a:lnTo>
                    <a:pt x="324" y="231"/>
                  </a:lnTo>
                  <a:lnTo>
                    <a:pt x="352" y="213"/>
                  </a:lnTo>
                  <a:lnTo>
                    <a:pt x="381" y="196"/>
                  </a:lnTo>
                  <a:lnTo>
                    <a:pt x="412" y="179"/>
                  </a:lnTo>
                  <a:lnTo>
                    <a:pt x="445" y="162"/>
                  </a:lnTo>
                  <a:lnTo>
                    <a:pt x="475" y="154"/>
                  </a:lnTo>
                  <a:lnTo>
                    <a:pt x="523" y="146"/>
                  </a:lnTo>
                  <a:lnTo>
                    <a:pt x="641" y="132"/>
                  </a:lnTo>
                  <a:lnTo>
                    <a:pt x="743" y="127"/>
                  </a:lnTo>
                  <a:lnTo>
                    <a:pt x="769" y="130"/>
                  </a:lnTo>
                  <a:lnTo>
                    <a:pt x="768" y="137"/>
                  </a:lnTo>
                  <a:lnTo>
                    <a:pt x="395" y="273"/>
                  </a:lnTo>
                  <a:lnTo>
                    <a:pt x="371" y="288"/>
                  </a:lnTo>
                  <a:lnTo>
                    <a:pt x="348" y="303"/>
                  </a:lnTo>
                  <a:lnTo>
                    <a:pt x="325" y="319"/>
                  </a:lnTo>
                  <a:lnTo>
                    <a:pt x="303" y="336"/>
                  </a:lnTo>
                  <a:lnTo>
                    <a:pt x="281" y="353"/>
                  </a:lnTo>
                  <a:lnTo>
                    <a:pt x="260" y="370"/>
                  </a:lnTo>
                  <a:lnTo>
                    <a:pt x="236" y="386"/>
                  </a:lnTo>
                  <a:lnTo>
                    <a:pt x="212" y="399"/>
                  </a:lnTo>
                  <a:lnTo>
                    <a:pt x="180" y="396"/>
                  </a:lnTo>
                  <a:lnTo>
                    <a:pt x="162" y="384"/>
                  </a:lnTo>
                  <a:lnTo>
                    <a:pt x="142" y="364"/>
                  </a:lnTo>
                  <a:lnTo>
                    <a:pt x="122" y="339"/>
                  </a:lnTo>
                  <a:lnTo>
                    <a:pt x="103" y="310"/>
                  </a:lnTo>
                  <a:lnTo>
                    <a:pt x="84" y="277"/>
                  </a:lnTo>
                  <a:lnTo>
                    <a:pt x="66" y="242"/>
                  </a:lnTo>
                  <a:lnTo>
                    <a:pt x="48" y="207"/>
                  </a:lnTo>
                  <a:lnTo>
                    <a:pt x="33" y="170"/>
                  </a:lnTo>
                  <a:lnTo>
                    <a:pt x="21" y="134"/>
                  </a:lnTo>
                  <a:lnTo>
                    <a:pt x="10" y="99"/>
                  </a:lnTo>
                  <a:lnTo>
                    <a:pt x="0" y="40"/>
                  </a:lnTo>
                  <a:lnTo>
                    <a:pt x="6" y="0"/>
                  </a:lnTo>
                  <a:lnTo>
                    <a:pt x="15" y="9"/>
                  </a:lnTo>
                  <a:lnTo>
                    <a:pt x="27" y="45"/>
                  </a:lnTo>
                  <a:lnTo>
                    <a:pt x="38" y="89"/>
                  </a:lnTo>
                  <a:lnTo>
                    <a:pt x="46" y="117"/>
                  </a:lnTo>
                  <a:lnTo>
                    <a:pt x="55" y="134"/>
                  </a:lnTo>
                  <a:lnTo>
                    <a:pt x="63" y="151"/>
                  </a:lnTo>
                  <a:lnTo>
                    <a:pt x="73" y="165"/>
                  </a:lnTo>
                  <a:lnTo>
                    <a:pt x="82" y="178"/>
                  </a:lnTo>
                  <a:lnTo>
                    <a:pt x="99" y="201"/>
                  </a:lnTo>
                  <a:lnTo>
                    <a:pt x="119" y="221"/>
                  </a:lnTo>
                  <a:lnTo>
                    <a:pt x="128" y="231"/>
                  </a:lnTo>
                  <a:lnTo>
                    <a:pt x="138" y="241"/>
                  </a:lnTo>
                  <a:lnTo>
                    <a:pt x="160" y="260"/>
                  </a:lnTo>
                  <a:lnTo>
                    <a:pt x="172" y="271"/>
                  </a:lnTo>
                  <a:lnTo>
                    <a:pt x="185" y="283"/>
                  </a:lnTo>
                  <a:lnTo>
                    <a:pt x="197" y="294"/>
                  </a:lnTo>
                  <a:lnTo>
                    <a:pt x="210" y="308"/>
                  </a:lnTo>
                  <a:lnTo>
                    <a:pt x="210" y="308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378200">
              <a:off x="254880" y="4032000"/>
              <a:ext cx="379080" cy="74160"/>
            </a:xfrm>
            <a:custGeom>
              <a:avLst/>
              <a:gdLst/>
              <a:ahLst/>
              <a:rect l="l" t="t" r="r" b="b"/>
              <a:pathLst>
                <a:path w="956" h="248">
                  <a:moveTo>
                    <a:pt x="57" y="0"/>
                  </a:moveTo>
                  <a:lnTo>
                    <a:pt x="96" y="17"/>
                  </a:lnTo>
                  <a:lnTo>
                    <a:pt x="134" y="39"/>
                  </a:lnTo>
                  <a:lnTo>
                    <a:pt x="152" y="51"/>
                  </a:lnTo>
                  <a:lnTo>
                    <a:pt x="171" y="63"/>
                  </a:lnTo>
                  <a:lnTo>
                    <a:pt x="188" y="76"/>
                  </a:lnTo>
                  <a:lnTo>
                    <a:pt x="207" y="89"/>
                  </a:lnTo>
                  <a:lnTo>
                    <a:pt x="225" y="102"/>
                  </a:lnTo>
                  <a:lnTo>
                    <a:pt x="244" y="113"/>
                  </a:lnTo>
                  <a:lnTo>
                    <a:pt x="262" y="125"/>
                  </a:lnTo>
                  <a:lnTo>
                    <a:pt x="280" y="137"/>
                  </a:lnTo>
                  <a:lnTo>
                    <a:pt x="300" y="146"/>
                  </a:lnTo>
                  <a:lnTo>
                    <a:pt x="321" y="155"/>
                  </a:lnTo>
                  <a:lnTo>
                    <a:pt x="364" y="166"/>
                  </a:lnTo>
                  <a:lnTo>
                    <a:pt x="387" y="164"/>
                  </a:lnTo>
                  <a:lnTo>
                    <a:pt x="407" y="151"/>
                  </a:lnTo>
                  <a:lnTo>
                    <a:pt x="426" y="136"/>
                  </a:lnTo>
                  <a:lnTo>
                    <a:pt x="445" y="123"/>
                  </a:lnTo>
                  <a:lnTo>
                    <a:pt x="492" y="109"/>
                  </a:lnTo>
                  <a:lnTo>
                    <a:pt x="553" y="98"/>
                  </a:lnTo>
                  <a:lnTo>
                    <a:pt x="621" y="88"/>
                  </a:lnTo>
                  <a:lnTo>
                    <a:pt x="695" y="82"/>
                  </a:lnTo>
                  <a:lnTo>
                    <a:pt x="838" y="81"/>
                  </a:lnTo>
                  <a:lnTo>
                    <a:pt x="944" y="100"/>
                  </a:lnTo>
                  <a:lnTo>
                    <a:pt x="956" y="116"/>
                  </a:lnTo>
                  <a:lnTo>
                    <a:pt x="952" y="123"/>
                  </a:lnTo>
                  <a:lnTo>
                    <a:pt x="939" y="127"/>
                  </a:lnTo>
                  <a:lnTo>
                    <a:pt x="831" y="120"/>
                  </a:lnTo>
                  <a:lnTo>
                    <a:pt x="742" y="129"/>
                  </a:lnTo>
                  <a:lnTo>
                    <a:pt x="651" y="149"/>
                  </a:lnTo>
                  <a:lnTo>
                    <a:pt x="606" y="163"/>
                  </a:lnTo>
                  <a:lnTo>
                    <a:pt x="562" y="177"/>
                  </a:lnTo>
                  <a:lnTo>
                    <a:pt x="518" y="191"/>
                  </a:lnTo>
                  <a:lnTo>
                    <a:pt x="477" y="205"/>
                  </a:lnTo>
                  <a:lnTo>
                    <a:pt x="442" y="221"/>
                  </a:lnTo>
                  <a:lnTo>
                    <a:pt x="410" y="238"/>
                  </a:lnTo>
                  <a:lnTo>
                    <a:pt x="375" y="248"/>
                  </a:lnTo>
                  <a:lnTo>
                    <a:pt x="336" y="246"/>
                  </a:lnTo>
                  <a:lnTo>
                    <a:pt x="294" y="234"/>
                  </a:lnTo>
                  <a:lnTo>
                    <a:pt x="254" y="215"/>
                  </a:lnTo>
                  <a:lnTo>
                    <a:pt x="234" y="204"/>
                  </a:lnTo>
                  <a:lnTo>
                    <a:pt x="214" y="191"/>
                  </a:lnTo>
                  <a:lnTo>
                    <a:pt x="194" y="180"/>
                  </a:lnTo>
                  <a:lnTo>
                    <a:pt x="174" y="166"/>
                  </a:lnTo>
                  <a:lnTo>
                    <a:pt x="155" y="153"/>
                  </a:lnTo>
                  <a:lnTo>
                    <a:pt x="135" y="140"/>
                  </a:lnTo>
                  <a:lnTo>
                    <a:pt x="117" y="127"/>
                  </a:lnTo>
                  <a:lnTo>
                    <a:pt x="97" y="113"/>
                  </a:lnTo>
                  <a:lnTo>
                    <a:pt x="79" y="101"/>
                  </a:lnTo>
                  <a:lnTo>
                    <a:pt x="59" y="88"/>
                  </a:lnTo>
                  <a:lnTo>
                    <a:pt x="41" y="77"/>
                  </a:lnTo>
                  <a:lnTo>
                    <a:pt x="22" y="66"/>
                  </a:lnTo>
                  <a:lnTo>
                    <a:pt x="0" y="42"/>
                  </a:lnTo>
                  <a:lnTo>
                    <a:pt x="2" y="17"/>
                  </a:lnTo>
                  <a:lnTo>
                    <a:pt x="12" y="6"/>
                  </a:lnTo>
                  <a:lnTo>
                    <a:pt x="23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6378200">
              <a:off x="-3600" y="4317120"/>
              <a:ext cx="342360" cy="351360"/>
            </a:xfrm>
            <a:custGeom>
              <a:avLst/>
              <a:gdLst/>
              <a:ahLst/>
              <a:rect l="l" t="t" r="r" b="b"/>
              <a:pathLst>
                <a:path w="863" h="1161">
                  <a:moveTo>
                    <a:pt x="62" y="909"/>
                  </a:moveTo>
                  <a:lnTo>
                    <a:pt x="83" y="895"/>
                  </a:lnTo>
                  <a:lnTo>
                    <a:pt x="106" y="884"/>
                  </a:lnTo>
                  <a:lnTo>
                    <a:pt x="129" y="872"/>
                  </a:lnTo>
                  <a:lnTo>
                    <a:pt x="153" y="861"/>
                  </a:lnTo>
                  <a:lnTo>
                    <a:pt x="132" y="843"/>
                  </a:lnTo>
                  <a:lnTo>
                    <a:pt x="111" y="819"/>
                  </a:lnTo>
                  <a:lnTo>
                    <a:pt x="90" y="791"/>
                  </a:lnTo>
                  <a:lnTo>
                    <a:pt x="79" y="775"/>
                  </a:lnTo>
                  <a:lnTo>
                    <a:pt x="69" y="759"/>
                  </a:lnTo>
                  <a:lnTo>
                    <a:pt x="49" y="724"/>
                  </a:lnTo>
                  <a:lnTo>
                    <a:pt x="33" y="690"/>
                  </a:lnTo>
                  <a:lnTo>
                    <a:pt x="19" y="654"/>
                  </a:lnTo>
                  <a:lnTo>
                    <a:pt x="8" y="619"/>
                  </a:lnTo>
                  <a:lnTo>
                    <a:pt x="0" y="555"/>
                  </a:lnTo>
                  <a:lnTo>
                    <a:pt x="4" y="528"/>
                  </a:lnTo>
                  <a:lnTo>
                    <a:pt x="14" y="507"/>
                  </a:lnTo>
                  <a:lnTo>
                    <a:pt x="22" y="499"/>
                  </a:lnTo>
                  <a:lnTo>
                    <a:pt x="31" y="493"/>
                  </a:lnTo>
                  <a:lnTo>
                    <a:pt x="55" y="484"/>
                  </a:lnTo>
                  <a:lnTo>
                    <a:pt x="129" y="494"/>
                  </a:lnTo>
                  <a:lnTo>
                    <a:pt x="115" y="468"/>
                  </a:lnTo>
                  <a:lnTo>
                    <a:pt x="102" y="440"/>
                  </a:lnTo>
                  <a:lnTo>
                    <a:pt x="90" y="409"/>
                  </a:lnTo>
                  <a:lnTo>
                    <a:pt x="79" y="378"/>
                  </a:lnTo>
                  <a:lnTo>
                    <a:pt x="54" y="256"/>
                  </a:lnTo>
                  <a:lnTo>
                    <a:pt x="56" y="205"/>
                  </a:lnTo>
                  <a:lnTo>
                    <a:pt x="62" y="185"/>
                  </a:lnTo>
                  <a:lnTo>
                    <a:pt x="71" y="169"/>
                  </a:lnTo>
                  <a:lnTo>
                    <a:pt x="84" y="158"/>
                  </a:lnTo>
                  <a:lnTo>
                    <a:pt x="101" y="152"/>
                  </a:lnTo>
                  <a:lnTo>
                    <a:pt x="147" y="161"/>
                  </a:lnTo>
                  <a:lnTo>
                    <a:pt x="157" y="129"/>
                  </a:lnTo>
                  <a:lnTo>
                    <a:pt x="169" y="101"/>
                  </a:lnTo>
                  <a:lnTo>
                    <a:pt x="183" y="74"/>
                  </a:lnTo>
                  <a:lnTo>
                    <a:pt x="200" y="52"/>
                  </a:lnTo>
                  <a:lnTo>
                    <a:pt x="209" y="43"/>
                  </a:lnTo>
                  <a:lnTo>
                    <a:pt x="219" y="33"/>
                  </a:lnTo>
                  <a:lnTo>
                    <a:pt x="239" y="19"/>
                  </a:lnTo>
                  <a:lnTo>
                    <a:pt x="259" y="7"/>
                  </a:lnTo>
                  <a:lnTo>
                    <a:pt x="281" y="1"/>
                  </a:lnTo>
                  <a:lnTo>
                    <a:pt x="325" y="0"/>
                  </a:lnTo>
                  <a:lnTo>
                    <a:pt x="369" y="19"/>
                  </a:lnTo>
                  <a:lnTo>
                    <a:pt x="407" y="58"/>
                  </a:lnTo>
                  <a:lnTo>
                    <a:pt x="424" y="86"/>
                  </a:lnTo>
                  <a:lnTo>
                    <a:pt x="438" y="121"/>
                  </a:lnTo>
                  <a:lnTo>
                    <a:pt x="461" y="106"/>
                  </a:lnTo>
                  <a:lnTo>
                    <a:pt x="482" y="94"/>
                  </a:lnTo>
                  <a:lnTo>
                    <a:pt x="519" y="78"/>
                  </a:lnTo>
                  <a:lnTo>
                    <a:pt x="549" y="69"/>
                  </a:lnTo>
                  <a:lnTo>
                    <a:pt x="572" y="69"/>
                  </a:lnTo>
                  <a:lnTo>
                    <a:pt x="603" y="88"/>
                  </a:lnTo>
                  <a:lnTo>
                    <a:pt x="615" y="127"/>
                  </a:lnTo>
                  <a:lnTo>
                    <a:pt x="611" y="180"/>
                  </a:lnTo>
                  <a:lnTo>
                    <a:pt x="604" y="209"/>
                  </a:lnTo>
                  <a:lnTo>
                    <a:pt x="596" y="239"/>
                  </a:lnTo>
                  <a:lnTo>
                    <a:pt x="585" y="268"/>
                  </a:lnTo>
                  <a:lnTo>
                    <a:pt x="573" y="296"/>
                  </a:lnTo>
                  <a:lnTo>
                    <a:pt x="560" y="322"/>
                  </a:lnTo>
                  <a:lnTo>
                    <a:pt x="548" y="345"/>
                  </a:lnTo>
                  <a:lnTo>
                    <a:pt x="585" y="336"/>
                  </a:lnTo>
                  <a:lnTo>
                    <a:pt x="617" y="333"/>
                  </a:lnTo>
                  <a:lnTo>
                    <a:pt x="667" y="341"/>
                  </a:lnTo>
                  <a:lnTo>
                    <a:pt x="700" y="367"/>
                  </a:lnTo>
                  <a:lnTo>
                    <a:pt x="718" y="406"/>
                  </a:lnTo>
                  <a:lnTo>
                    <a:pt x="724" y="454"/>
                  </a:lnTo>
                  <a:lnTo>
                    <a:pt x="721" y="505"/>
                  </a:lnTo>
                  <a:lnTo>
                    <a:pt x="708" y="558"/>
                  </a:lnTo>
                  <a:lnTo>
                    <a:pt x="699" y="582"/>
                  </a:lnTo>
                  <a:lnTo>
                    <a:pt x="690" y="605"/>
                  </a:lnTo>
                  <a:lnTo>
                    <a:pt x="747" y="592"/>
                  </a:lnTo>
                  <a:lnTo>
                    <a:pt x="792" y="591"/>
                  </a:lnTo>
                  <a:lnTo>
                    <a:pt x="825" y="600"/>
                  </a:lnTo>
                  <a:lnTo>
                    <a:pt x="847" y="618"/>
                  </a:lnTo>
                  <a:lnTo>
                    <a:pt x="859" y="644"/>
                  </a:lnTo>
                  <a:lnTo>
                    <a:pt x="863" y="678"/>
                  </a:lnTo>
                  <a:lnTo>
                    <a:pt x="859" y="716"/>
                  </a:lnTo>
                  <a:lnTo>
                    <a:pt x="849" y="758"/>
                  </a:lnTo>
                  <a:lnTo>
                    <a:pt x="835" y="802"/>
                  </a:lnTo>
                  <a:lnTo>
                    <a:pt x="826" y="825"/>
                  </a:lnTo>
                  <a:lnTo>
                    <a:pt x="817" y="848"/>
                  </a:lnTo>
                  <a:lnTo>
                    <a:pt x="807" y="870"/>
                  </a:lnTo>
                  <a:lnTo>
                    <a:pt x="797" y="892"/>
                  </a:lnTo>
                  <a:lnTo>
                    <a:pt x="785" y="914"/>
                  </a:lnTo>
                  <a:lnTo>
                    <a:pt x="775" y="935"/>
                  </a:lnTo>
                  <a:lnTo>
                    <a:pt x="763" y="955"/>
                  </a:lnTo>
                  <a:lnTo>
                    <a:pt x="753" y="974"/>
                  </a:lnTo>
                  <a:lnTo>
                    <a:pt x="743" y="993"/>
                  </a:lnTo>
                  <a:lnTo>
                    <a:pt x="732" y="1009"/>
                  </a:lnTo>
                  <a:lnTo>
                    <a:pt x="714" y="1038"/>
                  </a:lnTo>
                  <a:lnTo>
                    <a:pt x="700" y="1059"/>
                  </a:lnTo>
                  <a:lnTo>
                    <a:pt x="687" y="1071"/>
                  </a:lnTo>
                  <a:lnTo>
                    <a:pt x="673" y="1076"/>
                  </a:lnTo>
                  <a:lnTo>
                    <a:pt x="645" y="1072"/>
                  </a:lnTo>
                  <a:lnTo>
                    <a:pt x="627" y="1052"/>
                  </a:lnTo>
                  <a:lnTo>
                    <a:pt x="631" y="1022"/>
                  </a:lnTo>
                  <a:lnTo>
                    <a:pt x="642" y="1005"/>
                  </a:lnTo>
                  <a:lnTo>
                    <a:pt x="655" y="985"/>
                  </a:lnTo>
                  <a:lnTo>
                    <a:pt x="670" y="965"/>
                  </a:lnTo>
                  <a:lnTo>
                    <a:pt x="687" y="943"/>
                  </a:lnTo>
                  <a:lnTo>
                    <a:pt x="705" y="920"/>
                  </a:lnTo>
                  <a:lnTo>
                    <a:pt x="721" y="896"/>
                  </a:lnTo>
                  <a:lnTo>
                    <a:pt x="738" y="873"/>
                  </a:lnTo>
                  <a:lnTo>
                    <a:pt x="754" y="848"/>
                  </a:lnTo>
                  <a:lnTo>
                    <a:pt x="769" y="823"/>
                  </a:lnTo>
                  <a:lnTo>
                    <a:pt x="782" y="798"/>
                  </a:lnTo>
                  <a:lnTo>
                    <a:pt x="799" y="749"/>
                  </a:lnTo>
                  <a:lnTo>
                    <a:pt x="804" y="701"/>
                  </a:lnTo>
                  <a:lnTo>
                    <a:pt x="799" y="678"/>
                  </a:lnTo>
                  <a:lnTo>
                    <a:pt x="789" y="656"/>
                  </a:lnTo>
                  <a:lnTo>
                    <a:pt x="775" y="645"/>
                  </a:lnTo>
                  <a:lnTo>
                    <a:pt x="755" y="646"/>
                  </a:lnTo>
                  <a:lnTo>
                    <a:pt x="703" y="669"/>
                  </a:lnTo>
                  <a:lnTo>
                    <a:pt x="677" y="685"/>
                  </a:lnTo>
                  <a:lnTo>
                    <a:pt x="652" y="702"/>
                  </a:lnTo>
                  <a:lnTo>
                    <a:pt x="631" y="715"/>
                  </a:lnTo>
                  <a:lnTo>
                    <a:pt x="617" y="722"/>
                  </a:lnTo>
                  <a:lnTo>
                    <a:pt x="581" y="729"/>
                  </a:lnTo>
                  <a:lnTo>
                    <a:pt x="568" y="712"/>
                  </a:lnTo>
                  <a:lnTo>
                    <a:pt x="572" y="677"/>
                  </a:lnTo>
                  <a:lnTo>
                    <a:pt x="579" y="655"/>
                  </a:lnTo>
                  <a:lnTo>
                    <a:pt x="588" y="631"/>
                  </a:lnTo>
                  <a:lnTo>
                    <a:pt x="598" y="605"/>
                  </a:lnTo>
                  <a:lnTo>
                    <a:pt x="610" y="579"/>
                  </a:lnTo>
                  <a:lnTo>
                    <a:pt x="622" y="553"/>
                  </a:lnTo>
                  <a:lnTo>
                    <a:pt x="633" y="528"/>
                  </a:lnTo>
                  <a:lnTo>
                    <a:pt x="650" y="484"/>
                  </a:lnTo>
                  <a:lnTo>
                    <a:pt x="658" y="454"/>
                  </a:lnTo>
                  <a:lnTo>
                    <a:pt x="656" y="424"/>
                  </a:lnTo>
                  <a:lnTo>
                    <a:pt x="649" y="405"/>
                  </a:lnTo>
                  <a:lnTo>
                    <a:pt x="638" y="395"/>
                  </a:lnTo>
                  <a:lnTo>
                    <a:pt x="623" y="392"/>
                  </a:lnTo>
                  <a:lnTo>
                    <a:pt x="586" y="400"/>
                  </a:lnTo>
                  <a:lnTo>
                    <a:pt x="543" y="421"/>
                  </a:lnTo>
                  <a:lnTo>
                    <a:pt x="522" y="433"/>
                  </a:lnTo>
                  <a:lnTo>
                    <a:pt x="502" y="443"/>
                  </a:lnTo>
                  <a:lnTo>
                    <a:pt x="483" y="453"/>
                  </a:lnTo>
                  <a:lnTo>
                    <a:pt x="467" y="457"/>
                  </a:lnTo>
                  <a:lnTo>
                    <a:pt x="445" y="451"/>
                  </a:lnTo>
                  <a:lnTo>
                    <a:pt x="440" y="414"/>
                  </a:lnTo>
                  <a:lnTo>
                    <a:pt x="450" y="379"/>
                  </a:lnTo>
                  <a:lnTo>
                    <a:pt x="465" y="345"/>
                  </a:lnTo>
                  <a:lnTo>
                    <a:pt x="474" y="328"/>
                  </a:lnTo>
                  <a:lnTo>
                    <a:pt x="483" y="311"/>
                  </a:lnTo>
                  <a:lnTo>
                    <a:pt x="503" y="278"/>
                  </a:lnTo>
                  <a:lnTo>
                    <a:pt x="522" y="245"/>
                  </a:lnTo>
                  <a:lnTo>
                    <a:pt x="537" y="211"/>
                  </a:lnTo>
                  <a:lnTo>
                    <a:pt x="547" y="142"/>
                  </a:lnTo>
                  <a:lnTo>
                    <a:pt x="506" y="159"/>
                  </a:lnTo>
                  <a:lnTo>
                    <a:pt x="480" y="179"/>
                  </a:lnTo>
                  <a:lnTo>
                    <a:pt x="458" y="203"/>
                  </a:lnTo>
                  <a:lnTo>
                    <a:pt x="445" y="217"/>
                  </a:lnTo>
                  <a:lnTo>
                    <a:pt x="432" y="234"/>
                  </a:lnTo>
                  <a:lnTo>
                    <a:pt x="415" y="250"/>
                  </a:lnTo>
                  <a:lnTo>
                    <a:pt x="402" y="259"/>
                  </a:lnTo>
                  <a:lnTo>
                    <a:pt x="386" y="254"/>
                  </a:lnTo>
                  <a:lnTo>
                    <a:pt x="372" y="184"/>
                  </a:lnTo>
                  <a:lnTo>
                    <a:pt x="365" y="138"/>
                  </a:lnTo>
                  <a:lnTo>
                    <a:pt x="360" y="114"/>
                  </a:lnTo>
                  <a:lnTo>
                    <a:pt x="352" y="94"/>
                  </a:lnTo>
                  <a:lnTo>
                    <a:pt x="340" y="77"/>
                  </a:lnTo>
                  <a:lnTo>
                    <a:pt x="325" y="64"/>
                  </a:lnTo>
                  <a:lnTo>
                    <a:pt x="305" y="55"/>
                  </a:lnTo>
                  <a:lnTo>
                    <a:pt x="280" y="54"/>
                  </a:lnTo>
                  <a:lnTo>
                    <a:pt x="250" y="68"/>
                  </a:lnTo>
                  <a:lnTo>
                    <a:pt x="232" y="100"/>
                  </a:lnTo>
                  <a:lnTo>
                    <a:pt x="215" y="183"/>
                  </a:lnTo>
                  <a:lnTo>
                    <a:pt x="207" y="220"/>
                  </a:lnTo>
                  <a:lnTo>
                    <a:pt x="202" y="234"/>
                  </a:lnTo>
                  <a:lnTo>
                    <a:pt x="194" y="243"/>
                  </a:lnTo>
                  <a:lnTo>
                    <a:pt x="169" y="245"/>
                  </a:lnTo>
                  <a:lnTo>
                    <a:pt x="128" y="219"/>
                  </a:lnTo>
                  <a:lnTo>
                    <a:pt x="115" y="263"/>
                  </a:lnTo>
                  <a:lnTo>
                    <a:pt x="123" y="321"/>
                  </a:lnTo>
                  <a:lnTo>
                    <a:pt x="131" y="353"/>
                  </a:lnTo>
                  <a:lnTo>
                    <a:pt x="143" y="386"/>
                  </a:lnTo>
                  <a:lnTo>
                    <a:pt x="154" y="420"/>
                  </a:lnTo>
                  <a:lnTo>
                    <a:pt x="167" y="453"/>
                  </a:lnTo>
                  <a:lnTo>
                    <a:pt x="179" y="483"/>
                  </a:lnTo>
                  <a:lnTo>
                    <a:pt x="188" y="512"/>
                  </a:lnTo>
                  <a:lnTo>
                    <a:pt x="197" y="558"/>
                  </a:lnTo>
                  <a:lnTo>
                    <a:pt x="195" y="574"/>
                  </a:lnTo>
                  <a:lnTo>
                    <a:pt x="188" y="583"/>
                  </a:lnTo>
                  <a:lnTo>
                    <a:pt x="152" y="582"/>
                  </a:lnTo>
                  <a:lnTo>
                    <a:pt x="114" y="564"/>
                  </a:lnTo>
                  <a:lnTo>
                    <a:pt x="96" y="555"/>
                  </a:lnTo>
                  <a:lnTo>
                    <a:pt x="75" y="550"/>
                  </a:lnTo>
                  <a:lnTo>
                    <a:pt x="62" y="575"/>
                  </a:lnTo>
                  <a:lnTo>
                    <a:pt x="57" y="601"/>
                  </a:lnTo>
                  <a:lnTo>
                    <a:pt x="62" y="626"/>
                  </a:lnTo>
                  <a:lnTo>
                    <a:pt x="71" y="653"/>
                  </a:lnTo>
                  <a:lnTo>
                    <a:pt x="87" y="678"/>
                  </a:lnTo>
                  <a:lnTo>
                    <a:pt x="97" y="691"/>
                  </a:lnTo>
                  <a:lnTo>
                    <a:pt x="107" y="703"/>
                  </a:lnTo>
                  <a:lnTo>
                    <a:pt x="129" y="729"/>
                  </a:lnTo>
                  <a:lnTo>
                    <a:pt x="141" y="740"/>
                  </a:lnTo>
                  <a:lnTo>
                    <a:pt x="152" y="752"/>
                  </a:lnTo>
                  <a:lnTo>
                    <a:pt x="165" y="763"/>
                  </a:lnTo>
                  <a:lnTo>
                    <a:pt x="176" y="775"/>
                  </a:lnTo>
                  <a:lnTo>
                    <a:pt x="188" y="787"/>
                  </a:lnTo>
                  <a:lnTo>
                    <a:pt x="199" y="797"/>
                  </a:lnTo>
                  <a:lnTo>
                    <a:pt x="210" y="808"/>
                  </a:lnTo>
                  <a:lnTo>
                    <a:pt x="220" y="817"/>
                  </a:lnTo>
                  <a:lnTo>
                    <a:pt x="237" y="836"/>
                  </a:lnTo>
                  <a:lnTo>
                    <a:pt x="257" y="869"/>
                  </a:lnTo>
                  <a:lnTo>
                    <a:pt x="257" y="882"/>
                  </a:lnTo>
                  <a:lnTo>
                    <a:pt x="248" y="893"/>
                  </a:lnTo>
                  <a:lnTo>
                    <a:pt x="233" y="902"/>
                  </a:lnTo>
                  <a:lnTo>
                    <a:pt x="217" y="909"/>
                  </a:lnTo>
                  <a:lnTo>
                    <a:pt x="182" y="918"/>
                  </a:lnTo>
                  <a:lnTo>
                    <a:pt x="115" y="944"/>
                  </a:lnTo>
                  <a:lnTo>
                    <a:pt x="117" y="973"/>
                  </a:lnTo>
                  <a:lnTo>
                    <a:pt x="127" y="989"/>
                  </a:lnTo>
                  <a:lnTo>
                    <a:pt x="143" y="1004"/>
                  </a:lnTo>
                  <a:lnTo>
                    <a:pt x="162" y="1018"/>
                  </a:lnTo>
                  <a:lnTo>
                    <a:pt x="184" y="1033"/>
                  </a:lnTo>
                  <a:lnTo>
                    <a:pt x="211" y="1047"/>
                  </a:lnTo>
                  <a:lnTo>
                    <a:pt x="239" y="1061"/>
                  </a:lnTo>
                  <a:lnTo>
                    <a:pt x="267" y="1073"/>
                  </a:lnTo>
                  <a:lnTo>
                    <a:pt x="296" y="1085"/>
                  </a:lnTo>
                  <a:lnTo>
                    <a:pt x="325" y="1094"/>
                  </a:lnTo>
                  <a:lnTo>
                    <a:pt x="353" y="1103"/>
                  </a:lnTo>
                  <a:lnTo>
                    <a:pt x="401" y="1115"/>
                  </a:lnTo>
                  <a:lnTo>
                    <a:pt x="437" y="1120"/>
                  </a:lnTo>
                  <a:lnTo>
                    <a:pt x="455" y="1130"/>
                  </a:lnTo>
                  <a:lnTo>
                    <a:pt x="454" y="1140"/>
                  </a:lnTo>
                  <a:lnTo>
                    <a:pt x="444" y="1147"/>
                  </a:lnTo>
                  <a:lnTo>
                    <a:pt x="415" y="1156"/>
                  </a:lnTo>
                  <a:lnTo>
                    <a:pt x="384" y="1161"/>
                  </a:lnTo>
                  <a:lnTo>
                    <a:pt x="316" y="1158"/>
                  </a:lnTo>
                  <a:lnTo>
                    <a:pt x="243" y="1142"/>
                  </a:lnTo>
                  <a:lnTo>
                    <a:pt x="209" y="1129"/>
                  </a:lnTo>
                  <a:lnTo>
                    <a:pt x="175" y="1113"/>
                  </a:lnTo>
                  <a:lnTo>
                    <a:pt x="144" y="1094"/>
                  </a:lnTo>
                  <a:lnTo>
                    <a:pt x="116" y="1073"/>
                  </a:lnTo>
                  <a:lnTo>
                    <a:pt x="104" y="1062"/>
                  </a:lnTo>
                  <a:lnTo>
                    <a:pt x="93" y="1050"/>
                  </a:lnTo>
                  <a:lnTo>
                    <a:pt x="74" y="1025"/>
                  </a:lnTo>
                  <a:lnTo>
                    <a:pt x="53" y="969"/>
                  </a:lnTo>
                  <a:lnTo>
                    <a:pt x="53" y="955"/>
                  </a:lnTo>
                  <a:lnTo>
                    <a:pt x="54" y="939"/>
                  </a:lnTo>
                  <a:lnTo>
                    <a:pt x="62" y="909"/>
                  </a:lnTo>
                  <a:lnTo>
                    <a:pt x="62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6378200">
              <a:off x="243720" y="4574160"/>
              <a:ext cx="483840" cy="268560"/>
            </a:xfrm>
            <a:custGeom>
              <a:avLst/>
              <a:gdLst/>
              <a:ahLst/>
              <a:rect l="l" t="t" r="r" b="b"/>
              <a:pathLst>
                <a:path w="1218" h="887">
                  <a:moveTo>
                    <a:pt x="754" y="47"/>
                  </a:moveTo>
                  <a:lnTo>
                    <a:pt x="752" y="96"/>
                  </a:lnTo>
                  <a:lnTo>
                    <a:pt x="754" y="144"/>
                  </a:lnTo>
                  <a:lnTo>
                    <a:pt x="693" y="132"/>
                  </a:lnTo>
                  <a:lnTo>
                    <a:pt x="616" y="129"/>
                  </a:lnTo>
                  <a:lnTo>
                    <a:pt x="452" y="151"/>
                  </a:lnTo>
                  <a:lnTo>
                    <a:pt x="389" y="176"/>
                  </a:lnTo>
                  <a:lnTo>
                    <a:pt x="350" y="211"/>
                  </a:lnTo>
                  <a:lnTo>
                    <a:pt x="344" y="232"/>
                  </a:lnTo>
                  <a:lnTo>
                    <a:pt x="348" y="255"/>
                  </a:lnTo>
                  <a:lnTo>
                    <a:pt x="355" y="268"/>
                  </a:lnTo>
                  <a:lnTo>
                    <a:pt x="365" y="280"/>
                  </a:lnTo>
                  <a:lnTo>
                    <a:pt x="378" y="294"/>
                  </a:lnTo>
                  <a:lnTo>
                    <a:pt x="395" y="309"/>
                  </a:lnTo>
                  <a:lnTo>
                    <a:pt x="260" y="327"/>
                  </a:lnTo>
                  <a:lnTo>
                    <a:pt x="191" y="346"/>
                  </a:lnTo>
                  <a:lnTo>
                    <a:pt x="132" y="369"/>
                  </a:lnTo>
                  <a:lnTo>
                    <a:pt x="106" y="381"/>
                  </a:lnTo>
                  <a:lnTo>
                    <a:pt x="84" y="395"/>
                  </a:lnTo>
                  <a:lnTo>
                    <a:pt x="58" y="425"/>
                  </a:lnTo>
                  <a:lnTo>
                    <a:pt x="58" y="457"/>
                  </a:lnTo>
                  <a:lnTo>
                    <a:pt x="68" y="473"/>
                  </a:lnTo>
                  <a:lnTo>
                    <a:pt x="77" y="481"/>
                  </a:lnTo>
                  <a:lnTo>
                    <a:pt x="89" y="490"/>
                  </a:lnTo>
                  <a:lnTo>
                    <a:pt x="75" y="501"/>
                  </a:lnTo>
                  <a:lnTo>
                    <a:pt x="63" y="513"/>
                  </a:lnTo>
                  <a:lnTo>
                    <a:pt x="42" y="537"/>
                  </a:lnTo>
                  <a:lnTo>
                    <a:pt x="12" y="586"/>
                  </a:lnTo>
                  <a:lnTo>
                    <a:pt x="0" y="633"/>
                  </a:lnTo>
                  <a:lnTo>
                    <a:pt x="3" y="675"/>
                  </a:lnTo>
                  <a:lnTo>
                    <a:pt x="12" y="695"/>
                  </a:lnTo>
                  <a:lnTo>
                    <a:pt x="24" y="711"/>
                  </a:lnTo>
                  <a:lnTo>
                    <a:pt x="43" y="725"/>
                  </a:lnTo>
                  <a:lnTo>
                    <a:pt x="63" y="735"/>
                  </a:lnTo>
                  <a:lnTo>
                    <a:pt x="90" y="743"/>
                  </a:lnTo>
                  <a:lnTo>
                    <a:pt x="121" y="747"/>
                  </a:lnTo>
                  <a:lnTo>
                    <a:pt x="195" y="741"/>
                  </a:lnTo>
                  <a:lnTo>
                    <a:pt x="193" y="788"/>
                  </a:lnTo>
                  <a:lnTo>
                    <a:pt x="195" y="826"/>
                  </a:lnTo>
                  <a:lnTo>
                    <a:pt x="202" y="853"/>
                  </a:lnTo>
                  <a:lnTo>
                    <a:pt x="213" y="872"/>
                  </a:lnTo>
                  <a:lnTo>
                    <a:pt x="228" y="883"/>
                  </a:lnTo>
                  <a:lnTo>
                    <a:pt x="247" y="887"/>
                  </a:lnTo>
                  <a:lnTo>
                    <a:pt x="291" y="877"/>
                  </a:lnTo>
                  <a:lnTo>
                    <a:pt x="314" y="864"/>
                  </a:lnTo>
                  <a:lnTo>
                    <a:pt x="338" y="847"/>
                  </a:lnTo>
                  <a:lnTo>
                    <a:pt x="362" y="827"/>
                  </a:lnTo>
                  <a:lnTo>
                    <a:pt x="375" y="816"/>
                  </a:lnTo>
                  <a:lnTo>
                    <a:pt x="386" y="806"/>
                  </a:lnTo>
                  <a:lnTo>
                    <a:pt x="398" y="794"/>
                  </a:lnTo>
                  <a:lnTo>
                    <a:pt x="408" y="783"/>
                  </a:lnTo>
                  <a:lnTo>
                    <a:pt x="429" y="760"/>
                  </a:lnTo>
                  <a:lnTo>
                    <a:pt x="448" y="736"/>
                  </a:lnTo>
                  <a:lnTo>
                    <a:pt x="463" y="714"/>
                  </a:lnTo>
                  <a:lnTo>
                    <a:pt x="473" y="749"/>
                  </a:lnTo>
                  <a:lnTo>
                    <a:pt x="486" y="775"/>
                  </a:lnTo>
                  <a:lnTo>
                    <a:pt x="501" y="796"/>
                  </a:lnTo>
                  <a:lnTo>
                    <a:pt x="518" y="811"/>
                  </a:lnTo>
                  <a:lnTo>
                    <a:pt x="539" y="821"/>
                  </a:lnTo>
                  <a:lnTo>
                    <a:pt x="559" y="824"/>
                  </a:lnTo>
                  <a:lnTo>
                    <a:pt x="606" y="820"/>
                  </a:lnTo>
                  <a:lnTo>
                    <a:pt x="654" y="801"/>
                  </a:lnTo>
                  <a:lnTo>
                    <a:pt x="678" y="787"/>
                  </a:lnTo>
                  <a:lnTo>
                    <a:pt x="701" y="771"/>
                  </a:lnTo>
                  <a:lnTo>
                    <a:pt x="724" y="753"/>
                  </a:lnTo>
                  <a:lnTo>
                    <a:pt x="745" y="735"/>
                  </a:lnTo>
                  <a:lnTo>
                    <a:pt x="764" y="715"/>
                  </a:lnTo>
                  <a:lnTo>
                    <a:pt x="781" y="696"/>
                  </a:lnTo>
                  <a:lnTo>
                    <a:pt x="788" y="725"/>
                  </a:lnTo>
                  <a:lnTo>
                    <a:pt x="797" y="749"/>
                  </a:lnTo>
                  <a:lnTo>
                    <a:pt x="806" y="769"/>
                  </a:lnTo>
                  <a:lnTo>
                    <a:pt x="818" y="786"/>
                  </a:lnTo>
                  <a:lnTo>
                    <a:pt x="829" y="799"/>
                  </a:lnTo>
                  <a:lnTo>
                    <a:pt x="842" y="807"/>
                  </a:lnTo>
                  <a:lnTo>
                    <a:pt x="871" y="815"/>
                  </a:lnTo>
                  <a:lnTo>
                    <a:pt x="902" y="811"/>
                  </a:lnTo>
                  <a:lnTo>
                    <a:pt x="936" y="798"/>
                  </a:lnTo>
                  <a:lnTo>
                    <a:pt x="970" y="775"/>
                  </a:lnTo>
                  <a:lnTo>
                    <a:pt x="987" y="762"/>
                  </a:lnTo>
                  <a:lnTo>
                    <a:pt x="1005" y="747"/>
                  </a:lnTo>
                  <a:lnTo>
                    <a:pt x="1022" y="730"/>
                  </a:lnTo>
                  <a:lnTo>
                    <a:pt x="1039" y="713"/>
                  </a:lnTo>
                  <a:lnTo>
                    <a:pt x="1057" y="695"/>
                  </a:lnTo>
                  <a:lnTo>
                    <a:pt x="1074" y="676"/>
                  </a:lnTo>
                  <a:lnTo>
                    <a:pt x="1090" y="657"/>
                  </a:lnTo>
                  <a:lnTo>
                    <a:pt x="1105" y="637"/>
                  </a:lnTo>
                  <a:lnTo>
                    <a:pt x="1121" y="618"/>
                  </a:lnTo>
                  <a:lnTo>
                    <a:pt x="1135" y="599"/>
                  </a:lnTo>
                  <a:lnTo>
                    <a:pt x="1149" y="581"/>
                  </a:lnTo>
                  <a:lnTo>
                    <a:pt x="1162" y="563"/>
                  </a:lnTo>
                  <a:lnTo>
                    <a:pt x="1173" y="545"/>
                  </a:lnTo>
                  <a:lnTo>
                    <a:pt x="1185" y="529"/>
                  </a:lnTo>
                  <a:lnTo>
                    <a:pt x="1194" y="514"/>
                  </a:lnTo>
                  <a:lnTo>
                    <a:pt x="1202" y="500"/>
                  </a:lnTo>
                  <a:lnTo>
                    <a:pt x="1216" y="478"/>
                  </a:lnTo>
                  <a:lnTo>
                    <a:pt x="1218" y="448"/>
                  </a:lnTo>
                  <a:lnTo>
                    <a:pt x="1211" y="437"/>
                  </a:lnTo>
                  <a:lnTo>
                    <a:pt x="1200" y="428"/>
                  </a:lnTo>
                  <a:lnTo>
                    <a:pt x="1172" y="425"/>
                  </a:lnTo>
                  <a:lnTo>
                    <a:pt x="1146" y="442"/>
                  </a:lnTo>
                  <a:lnTo>
                    <a:pt x="1122" y="480"/>
                  </a:lnTo>
                  <a:lnTo>
                    <a:pt x="1111" y="503"/>
                  </a:lnTo>
                  <a:lnTo>
                    <a:pt x="1098" y="526"/>
                  </a:lnTo>
                  <a:lnTo>
                    <a:pt x="1086" y="551"/>
                  </a:lnTo>
                  <a:lnTo>
                    <a:pt x="1072" y="576"/>
                  </a:lnTo>
                  <a:lnTo>
                    <a:pt x="1058" y="602"/>
                  </a:lnTo>
                  <a:lnTo>
                    <a:pt x="1043" y="627"/>
                  </a:lnTo>
                  <a:lnTo>
                    <a:pt x="1027" y="651"/>
                  </a:lnTo>
                  <a:lnTo>
                    <a:pt x="1009" y="673"/>
                  </a:lnTo>
                  <a:lnTo>
                    <a:pt x="991" y="694"/>
                  </a:lnTo>
                  <a:lnTo>
                    <a:pt x="982" y="704"/>
                  </a:lnTo>
                  <a:lnTo>
                    <a:pt x="971" y="712"/>
                  </a:lnTo>
                  <a:lnTo>
                    <a:pt x="951" y="727"/>
                  </a:lnTo>
                  <a:lnTo>
                    <a:pt x="927" y="740"/>
                  </a:lnTo>
                  <a:lnTo>
                    <a:pt x="903" y="747"/>
                  </a:lnTo>
                  <a:lnTo>
                    <a:pt x="878" y="750"/>
                  </a:lnTo>
                  <a:lnTo>
                    <a:pt x="862" y="745"/>
                  </a:lnTo>
                  <a:lnTo>
                    <a:pt x="853" y="728"/>
                  </a:lnTo>
                  <a:lnTo>
                    <a:pt x="848" y="675"/>
                  </a:lnTo>
                  <a:lnTo>
                    <a:pt x="856" y="581"/>
                  </a:lnTo>
                  <a:lnTo>
                    <a:pt x="851" y="560"/>
                  </a:lnTo>
                  <a:lnTo>
                    <a:pt x="843" y="549"/>
                  </a:lnTo>
                  <a:lnTo>
                    <a:pt x="820" y="548"/>
                  </a:lnTo>
                  <a:lnTo>
                    <a:pt x="790" y="568"/>
                  </a:lnTo>
                  <a:lnTo>
                    <a:pt x="772" y="585"/>
                  </a:lnTo>
                  <a:lnTo>
                    <a:pt x="753" y="604"/>
                  </a:lnTo>
                  <a:lnTo>
                    <a:pt x="735" y="625"/>
                  </a:lnTo>
                  <a:lnTo>
                    <a:pt x="716" y="647"/>
                  </a:lnTo>
                  <a:lnTo>
                    <a:pt x="697" y="669"/>
                  </a:lnTo>
                  <a:lnTo>
                    <a:pt x="679" y="690"/>
                  </a:lnTo>
                  <a:lnTo>
                    <a:pt x="662" y="710"/>
                  </a:lnTo>
                  <a:lnTo>
                    <a:pt x="646" y="727"/>
                  </a:lnTo>
                  <a:lnTo>
                    <a:pt x="632" y="740"/>
                  </a:lnTo>
                  <a:lnTo>
                    <a:pt x="621" y="748"/>
                  </a:lnTo>
                  <a:lnTo>
                    <a:pt x="592" y="761"/>
                  </a:lnTo>
                  <a:lnTo>
                    <a:pt x="571" y="764"/>
                  </a:lnTo>
                  <a:lnTo>
                    <a:pt x="544" y="751"/>
                  </a:lnTo>
                  <a:lnTo>
                    <a:pt x="534" y="717"/>
                  </a:lnTo>
                  <a:lnTo>
                    <a:pt x="533" y="673"/>
                  </a:lnTo>
                  <a:lnTo>
                    <a:pt x="528" y="595"/>
                  </a:lnTo>
                  <a:lnTo>
                    <a:pt x="523" y="585"/>
                  </a:lnTo>
                  <a:lnTo>
                    <a:pt x="512" y="581"/>
                  </a:lnTo>
                  <a:lnTo>
                    <a:pt x="475" y="595"/>
                  </a:lnTo>
                  <a:lnTo>
                    <a:pt x="446" y="619"/>
                  </a:lnTo>
                  <a:lnTo>
                    <a:pt x="422" y="648"/>
                  </a:lnTo>
                  <a:lnTo>
                    <a:pt x="411" y="664"/>
                  </a:lnTo>
                  <a:lnTo>
                    <a:pt x="399" y="681"/>
                  </a:lnTo>
                  <a:lnTo>
                    <a:pt x="389" y="696"/>
                  </a:lnTo>
                  <a:lnTo>
                    <a:pt x="377" y="713"/>
                  </a:lnTo>
                  <a:lnTo>
                    <a:pt x="366" y="729"/>
                  </a:lnTo>
                  <a:lnTo>
                    <a:pt x="355" y="745"/>
                  </a:lnTo>
                  <a:lnTo>
                    <a:pt x="343" y="760"/>
                  </a:lnTo>
                  <a:lnTo>
                    <a:pt x="331" y="773"/>
                  </a:lnTo>
                  <a:lnTo>
                    <a:pt x="317" y="786"/>
                  </a:lnTo>
                  <a:lnTo>
                    <a:pt x="302" y="798"/>
                  </a:lnTo>
                  <a:lnTo>
                    <a:pt x="287" y="807"/>
                  </a:lnTo>
                  <a:lnTo>
                    <a:pt x="270" y="814"/>
                  </a:lnTo>
                  <a:lnTo>
                    <a:pt x="266" y="775"/>
                  </a:lnTo>
                  <a:lnTo>
                    <a:pt x="271" y="744"/>
                  </a:lnTo>
                  <a:lnTo>
                    <a:pt x="283" y="714"/>
                  </a:lnTo>
                  <a:lnTo>
                    <a:pt x="299" y="678"/>
                  </a:lnTo>
                  <a:lnTo>
                    <a:pt x="309" y="643"/>
                  </a:lnTo>
                  <a:lnTo>
                    <a:pt x="305" y="634"/>
                  </a:lnTo>
                  <a:lnTo>
                    <a:pt x="295" y="632"/>
                  </a:lnTo>
                  <a:lnTo>
                    <a:pt x="265" y="640"/>
                  </a:lnTo>
                  <a:lnTo>
                    <a:pt x="224" y="656"/>
                  </a:lnTo>
                  <a:lnTo>
                    <a:pt x="200" y="666"/>
                  </a:lnTo>
                  <a:lnTo>
                    <a:pt x="175" y="674"/>
                  </a:lnTo>
                  <a:lnTo>
                    <a:pt x="127" y="685"/>
                  </a:lnTo>
                  <a:lnTo>
                    <a:pt x="85" y="678"/>
                  </a:lnTo>
                  <a:lnTo>
                    <a:pt x="68" y="667"/>
                  </a:lnTo>
                  <a:lnTo>
                    <a:pt x="54" y="649"/>
                  </a:lnTo>
                  <a:lnTo>
                    <a:pt x="52" y="617"/>
                  </a:lnTo>
                  <a:lnTo>
                    <a:pt x="60" y="602"/>
                  </a:lnTo>
                  <a:lnTo>
                    <a:pt x="73" y="587"/>
                  </a:lnTo>
                  <a:lnTo>
                    <a:pt x="89" y="573"/>
                  </a:lnTo>
                  <a:lnTo>
                    <a:pt x="106" y="559"/>
                  </a:lnTo>
                  <a:lnTo>
                    <a:pt x="126" y="546"/>
                  </a:lnTo>
                  <a:lnTo>
                    <a:pt x="144" y="533"/>
                  </a:lnTo>
                  <a:lnTo>
                    <a:pt x="190" y="486"/>
                  </a:lnTo>
                  <a:lnTo>
                    <a:pt x="188" y="474"/>
                  </a:lnTo>
                  <a:lnTo>
                    <a:pt x="179" y="465"/>
                  </a:lnTo>
                  <a:lnTo>
                    <a:pt x="162" y="454"/>
                  </a:lnTo>
                  <a:lnTo>
                    <a:pt x="134" y="446"/>
                  </a:lnTo>
                  <a:lnTo>
                    <a:pt x="148" y="428"/>
                  </a:lnTo>
                  <a:lnTo>
                    <a:pt x="168" y="414"/>
                  </a:lnTo>
                  <a:lnTo>
                    <a:pt x="196" y="401"/>
                  </a:lnTo>
                  <a:lnTo>
                    <a:pt x="227" y="391"/>
                  </a:lnTo>
                  <a:lnTo>
                    <a:pt x="263" y="381"/>
                  </a:lnTo>
                  <a:lnTo>
                    <a:pt x="300" y="373"/>
                  </a:lnTo>
                  <a:lnTo>
                    <a:pt x="374" y="359"/>
                  </a:lnTo>
                  <a:lnTo>
                    <a:pt x="489" y="331"/>
                  </a:lnTo>
                  <a:lnTo>
                    <a:pt x="509" y="310"/>
                  </a:lnTo>
                  <a:lnTo>
                    <a:pt x="505" y="297"/>
                  </a:lnTo>
                  <a:lnTo>
                    <a:pt x="490" y="282"/>
                  </a:lnTo>
                  <a:lnTo>
                    <a:pt x="472" y="272"/>
                  </a:lnTo>
                  <a:lnTo>
                    <a:pt x="453" y="261"/>
                  </a:lnTo>
                  <a:lnTo>
                    <a:pt x="420" y="237"/>
                  </a:lnTo>
                  <a:lnTo>
                    <a:pt x="428" y="225"/>
                  </a:lnTo>
                  <a:lnTo>
                    <a:pt x="438" y="215"/>
                  </a:lnTo>
                  <a:lnTo>
                    <a:pt x="449" y="205"/>
                  </a:lnTo>
                  <a:lnTo>
                    <a:pt x="460" y="199"/>
                  </a:lnTo>
                  <a:lnTo>
                    <a:pt x="487" y="189"/>
                  </a:lnTo>
                  <a:lnTo>
                    <a:pt x="517" y="183"/>
                  </a:lnTo>
                  <a:lnTo>
                    <a:pt x="583" y="185"/>
                  </a:lnTo>
                  <a:lnTo>
                    <a:pt x="651" y="198"/>
                  </a:lnTo>
                  <a:lnTo>
                    <a:pt x="716" y="213"/>
                  </a:lnTo>
                  <a:lnTo>
                    <a:pt x="773" y="223"/>
                  </a:lnTo>
                  <a:lnTo>
                    <a:pt x="813" y="222"/>
                  </a:lnTo>
                  <a:lnTo>
                    <a:pt x="832" y="203"/>
                  </a:lnTo>
                  <a:lnTo>
                    <a:pt x="832" y="170"/>
                  </a:lnTo>
                  <a:lnTo>
                    <a:pt x="824" y="138"/>
                  </a:lnTo>
                  <a:lnTo>
                    <a:pt x="814" y="73"/>
                  </a:lnTo>
                  <a:lnTo>
                    <a:pt x="827" y="63"/>
                  </a:lnTo>
                  <a:lnTo>
                    <a:pt x="843" y="59"/>
                  </a:lnTo>
                  <a:lnTo>
                    <a:pt x="884" y="64"/>
                  </a:lnTo>
                  <a:lnTo>
                    <a:pt x="933" y="83"/>
                  </a:lnTo>
                  <a:lnTo>
                    <a:pt x="960" y="97"/>
                  </a:lnTo>
                  <a:lnTo>
                    <a:pt x="986" y="112"/>
                  </a:lnTo>
                  <a:lnTo>
                    <a:pt x="1012" y="129"/>
                  </a:lnTo>
                  <a:lnTo>
                    <a:pt x="1037" y="145"/>
                  </a:lnTo>
                  <a:lnTo>
                    <a:pt x="1061" y="163"/>
                  </a:lnTo>
                  <a:lnTo>
                    <a:pt x="1083" y="181"/>
                  </a:lnTo>
                  <a:lnTo>
                    <a:pt x="1103" y="198"/>
                  </a:lnTo>
                  <a:lnTo>
                    <a:pt x="1119" y="214"/>
                  </a:lnTo>
                  <a:lnTo>
                    <a:pt x="1141" y="239"/>
                  </a:lnTo>
                  <a:lnTo>
                    <a:pt x="1150" y="248"/>
                  </a:lnTo>
                  <a:lnTo>
                    <a:pt x="1161" y="249"/>
                  </a:lnTo>
                  <a:lnTo>
                    <a:pt x="1171" y="232"/>
                  </a:lnTo>
                  <a:lnTo>
                    <a:pt x="1165" y="204"/>
                  </a:lnTo>
                  <a:lnTo>
                    <a:pt x="1154" y="177"/>
                  </a:lnTo>
                  <a:lnTo>
                    <a:pt x="1137" y="151"/>
                  </a:lnTo>
                  <a:lnTo>
                    <a:pt x="1128" y="137"/>
                  </a:lnTo>
                  <a:lnTo>
                    <a:pt x="1118" y="123"/>
                  </a:lnTo>
                  <a:lnTo>
                    <a:pt x="1094" y="99"/>
                  </a:lnTo>
                  <a:lnTo>
                    <a:pt x="1080" y="86"/>
                  </a:lnTo>
                  <a:lnTo>
                    <a:pt x="1066" y="75"/>
                  </a:lnTo>
                  <a:lnTo>
                    <a:pt x="1051" y="64"/>
                  </a:lnTo>
                  <a:lnTo>
                    <a:pt x="1036" y="54"/>
                  </a:lnTo>
                  <a:lnTo>
                    <a:pt x="1020" y="44"/>
                  </a:lnTo>
                  <a:lnTo>
                    <a:pt x="1004" y="36"/>
                  </a:lnTo>
                  <a:lnTo>
                    <a:pt x="971" y="21"/>
                  </a:lnTo>
                  <a:lnTo>
                    <a:pt x="937" y="10"/>
                  </a:lnTo>
                  <a:lnTo>
                    <a:pt x="870" y="0"/>
                  </a:lnTo>
                  <a:lnTo>
                    <a:pt x="808" y="11"/>
                  </a:lnTo>
                  <a:lnTo>
                    <a:pt x="754" y="47"/>
                  </a:lnTo>
                  <a:lnTo>
                    <a:pt x="75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6378200">
              <a:off x="68040" y="3743280"/>
              <a:ext cx="614160" cy="596880"/>
            </a:xfrm>
            <a:custGeom>
              <a:avLst/>
              <a:gdLst/>
              <a:ahLst/>
              <a:rect l="l" t="t" r="r" b="b"/>
              <a:pathLst>
                <a:path w="1547" h="1979">
                  <a:moveTo>
                    <a:pt x="206" y="1599"/>
                  </a:moveTo>
                  <a:lnTo>
                    <a:pt x="227" y="1506"/>
                  </a:lnTo>
                  <a:lnTo>
                    <a:pt x="226" y="1468"/>
                  </a:lnTo>
                  <a:lnTo>
                    <a:pt x="218" y="1437"/>
                  </a:lnTo>
                  <a:lnTo>
                    <a:pt x="205" y="1408"/>
                  </a:lnTo>
                  <a:lnTo>
                    <a:pt x="197" y="1396"/>
                  </a:lnTo>
                  <a:lnTo>
                    <a:pt x="189" y="1383"/>
                  </a:lnTo>
                  <a:lnTo>
                    <a:pt x="168" y="1361"/>
                  </a:lnTo>
                  <a:lnTo>
                    <a:pt x="157" y="1350"/>
                  </a:lnTo>
                  <a:lnTo>
                    <a:pt x="145" y="1340"/>
                  </a:lnTo>
                  <a:lnTo>
                    <a:pt x="134" y="1330"/>
                  </a:lnTo>
                  <a:lnTo>
                    <a:pt x="122" y="1320"/>
                  </a:lnTo>
                  <a:lnTo>
                    <a:pt x="98" y="1301"/>
                  </a:lnTo>
                  <a:lnTo>
                    <a:pt x="75" y="1280"/>
                  </a:lnTo>
                  <a:lnTo>
                    <a:pt x="63" y="1269"/>
                  </a:lnTo>
                  <a:lnTo>
                    <a:pt x="53" y="1258"/>
                  </a:lnTo>
                  <a:lnTo>
                    <a:pt x="33" y="1234"/>
                  </a:lnTo>
                  <a:lnTo>
                    <a:pt x="17" y="1205"/>
                  </a:lnTo>
                  <a:lnTo>
                    <a:pt x="0" y="1137"/>
                  </a:lnTo>
                  <a:lnTo>
                    <a:pt x="3" y="1105"/>
                  </a:lnTo>
                  <a:lnTo>
                    <a:pt x="15" y="1069"/>
                  </a:lnTo>
                  <a:lnTo>
                    <a:pt x="24" y="1052"/>
                  </a:lnTo>
                  <a:lnTo>
                    <a:pt x="35" y="1034"/>
                  </a:lnTo>
                  <a:lnTo>
                    <a:pt x="46" y="1018"/>
                  </a:lnTo>
                  <a:lnTo>
                    <a:pt x="60" y="1002"/>
                  </a:lnTo>
                  <a:lnTo>
                    <a:pt x="75" y="987"/>
                  </a:lnTo>
                  <a:lnTo>
                    <a:pt x="91" y="974"/>
                  </a:lnTo>
                  <a:lnTo>
                    <a:pt x="107" y="964"/>
                  </a:lnTo>
                  <a:lnTo>
                    <a:pt x="125" y="955"/>
                  </a:lnTo>
                  <a:lnTo>
                    <a:pt x="161" y="946"/>
                  </a:lnTo>
                  <a:lnTo>
                    <a:pt x="200" y="949"/>
                  </a:lnTo>
                  <a:lnTo>
                    <a:pt x="235" y="972"/>
                  </a:lnTo>
                  <a:lnTo>
                    <a:pt x="258" y="990"/>
                  </a:lnTo>
                  <a:lnTo>
                    <a:pt x="284" y="1008"/>
                  </a:lnTo>
                  <a:lnTo>
                    <a:pt x="309" y="1023"/>
                  </a:lnTo>
                  <a:lnTo>
                    <a:pt x="332" y="1032"/>
                  </a:lnTo>
                  <a:lnTo>
                    <a:pt x="353" y="1032"/>
                  </a:lnTo>
                  <a:lnTo>
                    <a:pt x="369" y="1020"/>
                  </a:lnTo>
                  <a:lnTo>
                    <a:pt x="376" y="974"/>
                  </a:lnTo>
                  <a:lnTo>
                    <a:pt x="367" y="897"/>
                  </a:lnTo>
                  <a:lnTo>
                    <a:pt x="351" y="801"/>
                  </a:lnTo>
                  <a:lnTo>
                    <a:pt x="338" y="698"/>
                  </a:lnTo>
                  <a:lnTo>
                    <a:pt x="336" y="650"/>
                  </a:lnTo>
                  <a:lnTo>
                    <a:pt x="338" y="604"/>
                  </a:lnTo>
                  <a:lnTo>
                    <a:pt x="345" y="563"/>
                  </a:lnTo>
                  <a:lnTo>
                    <a:pt x="352" y="546"/>
                  </a:lnTo>
                  <a:lnTo>
                    <a:pt x="360" y="529"/>
                  </a:lnTo>
                  <a:lnTo>
                    <a:pt x="369" y="515"/>
                  </a:lnTo>
                  <a:lnTo>
                    <a:pt x="382" y="503"/>
                  </a:lnTo>
                  <a:lnTo>
                    <a:pt x="396" y="494"/>
                  </a:lnTo>
                  <a:lnTo>
                    <a:pt x="413" y="488"/>
                  </a:lnTo>
                  <a:lnTo>
                    <a:pt x="453" y="483"/>
                  </a:lnTo>
                  <a:lnTo>
                    <a:pt x="506" y="493"/>
                  </a:lnTo>
                  <a:lnTo>
                    <a:pt x="551" y="518"/>
                  </a:lnTo>
                  <a:lnTo>
                    <a:pt x="569" y="536"/>
                  </a:lnTo>
                  <a:lnTo>
                    <a:pt x="584" y="555"/>
                  </a:lnTo>
                  <a:lnTo>
                    <a:pt x="599" y="575"/>
                  </a:lnTo>
                  <a:lnTo>
                    <a:pt x="614" y="593"/>
                  </a:lnTo>
                  <a:lnTo>
                    <a:pt x="632" y="609"/>
                  </a:lnTo>
                  <a:lnTo>
                    <a:pt x="654" y="619"/>
                  </a:lnTo>
                  <a:lnTo>
                    <a:pt x="658" y="537"/>
                  </a:lnTo>
                  <a:lnTo>
                    <a:pt x="669" y="453"/>
                  </a:lnTo>
                  <a:lnTo>
                    <a:pt x="678" y="412"/>
                  </a:lnTo>
                  <a:lnTo>
                    <a:pt x="690" y="372"/>
                  </a:lnTo>
                  <a:lnTo>
                    <a:pt x="704" y="336"/>
                  </a:lnTo>
                  <a:lnTo>
                    <a:pt x="712" y="319"/>
                  </a:lnTo>
                  <a:lnTo>
                    <a:pt x="720" y="303"/>
                  </a:lnTo>
                  <a:lnTo>
                    <a:pt x="729" y="289"/>
                  </a:lnTo>
                  <a:lnTo>
                    <a:pt x="739" y="276"/>
                  </a:lnTo>
                  <a:lnTo>
                    <a:pt x="750" y="264"/>
                  </a:lnTo>
                  <a:lnTo>
                    <a:pt x="761" y="254"/>
                  </a:lnTo>
                  <a:lnTo>
                    <a:pt x="774" y="245"/>
                  </a:lnTo>
                  <a:lnTo>
                    <a:pt x="787" y="238"/>
                  </a:lnTo>
                  <a:lnTo>
                    <a:pt x="816" y="230"/>
                  </a:lnTo>
                  <a:lnTo>
                    <a:pt x="882" y="239"/>
                  </a:lnTo>
                  <a:lnTo>
                    <a:pt x="922" y="259"/>
                  </a:lnTo>
                  <a:lnTo>
                    <a:pt x="942" y="273"/>
                  </a:lnTo>
                  <a:lnTo>
                    <a:pt x="964" y="290"/>
                  </a:lnTo>
                  <a:lnTo>
                    <a:pt x="977" y="266"/>
                  </a:lnTo>
                  <a:lnTo>
                    <a:pt x="989" y="244"/>
                  </a:lnTo>
                  <a:lnTo>
                    <a:pt x="1001" y="223"/>
                  </a:lnTo>
                  <a:lnTo>
                    <a:pt x="1014" y="203"/>
                  </a:lnTo>
                  <a:lnTo>
                    <a:pt x="1026" y="184"/>
                  </a:lnTo>
                  <a:lnTo>
                    <a:pt x="1037" y="167"/>
                  </a:lnTo>
                  <a:lnTo>
                    <a:pt x="1050" y="149"/>
                  </a:lnTo>
                  <a:lnTo>
                    <a:pt x="1061" y="135"/>
                  </a:lnTo>
                  <a:lnTo>
                    <a:pt x="1073" y="120"/>
                  </a:lnTo>
                  <a:lnTo>
                    <a:pt x="1083" y="105"/>
                  </a:lnTo>
                  <a:lnTo>
                    <a:pt x="1106" y="81"/>
                  </a:lnTo>
                  <a:lnTo>
                    <a:pt x="1117" y="69"/>
                  </a:lnTo>
                  <a:lnTo>
                    <a:pt x="1127" y="60"/>
                  </a:lnTo>
                  <a:lnTo>
                    <a:pt x="1149" y="42"/>
                  </a:lnTo>
                  <a:lnTo>
                    <a:pt x="1169" y="27"/>
                  </a:lnTo>
                  <a:lnTo>
                    <a:pt x="1188" y="16"/>
                  </a:lnTo>
                  <a:lnTo>
                    <a:pt x="1224" y="2"/>
                  </a:lnTo>
                  <a:lnTo>
                    <a:pt x="1255" y="0"/>
                  </a:lnTo>
                  <a:lnTo>
                    <a:pt x="1283" y="7"/>
                  </a:lnTo>
                  <a:lnTo>
                    <a:pt x="1305" y="23"/>
                  </a:lnTo>
                  <a:lnTo>
                    <a:pt x="1321" y="46"/>
                  </a:lnTo>
                  <a:lnTo>
                    <a:pt x="1336" y="110"/>
                  </a:lnTo>
                  <a:lnTo>
                    <a:pt x="1334" y="149"/>
                  </a:lnTo>
                  <a:lnTo>
                    <a:pt x="1323" y="193"/>
                  </a:lnTo>
                  <a:lnTo>
                    <a:pt x="1316" y="214"/>
                  </a:lnTo>
                  <a:lnTo>
                    <a:pt x="1306" y="236"/>
                  </a:lnTo>
                  <a:lnTo>
                    <a:pt x="1294" y="258"/>
                  </a:lnTo>
                  <a:lnTo>
                    <a:pt x="1280" y="280"/>
                  </a:lnTo>
                  <a:lnTo>
                    <a:pt x="1384" y="277"/>
                  </a:lnTo>
                  <a:lnTo>
                    <a:pt x="1464" y="295"/>
                  </a:lnTo>
                  <a:lnTo>
                    <a:pt x="1519" y="327"/>
                  </a:lnTo>
                  <a:lnTo>
                    <a:pt x="1547" y="373"/>
                  </a:lnTo>
                  <a:lnTo>
                    <a:pt x="1545" y="427"/>
                  </a:lnTo>
                  <a:lnTo>
                    <a:pt x="1532" y="455"/>
                  </a:lnTo>
                  <a:lnTo>
                    <a:pt x="1523" y="470"/>
                  </a:lnTo>
                  <a:lnTo>
                    <a:pt x="1512" y="484"/>
                  </a:lnTo>
                  <a:lnTo>
                    <a:pt x="1498" y="499"/>
                  </a:lnTo>
                  <a:lnTo>
                    <a:pt x="1482" y="514"/>
                  </a:lnTo>
                  <a:lnTo>
                    <a:pt x="1465" y="529"/>
                  </a:lnTo>
                  <a:lnTo>
                    <a:pt x="1445" y="542"/>
                  </a:lnTo>
                  <a:lnTo>
                    <a:pt x="1423" y="557"/>
                  </a:lnTo>
                  <a:lnTo>
                    <a:pt x="1399" y="571"/>
                  </a:lnTo>
                  <a:lnTo>
                    <a:pt x="1373" y="584"/>
                  </a:lnTo>
                  <a:lnTo>
                    <a:pt x="1344" y="597"/>
                  </a:lnTo>
                  <a:lnTo>
                    <a:pt x="1438" y="628"/>
                  </a:lnTo>
                  <a:lnTo>
                    <a:pt x="1475" y="648"/>
                  </a:lnTo>
                  <a:lnTo>
                    <a:pt x="1504" y="671"/>
                  </a:lnTo>
                  <a:lnTo>
                    <a:pt x="1540" y="723"/>
                  </a:lnTo>
                  <a:lnTo>
                    <a:pt x="1547" y="779"/>
                  </a:lnTo>
                  <a:lnTo>
                    <a:pt x="1538" y="809"/>
                  </a:lnTo>
                  <a:lnTo>
                    <a:pt x="1531" y="824"/>
                  </a:lnTo>
                  <a:lnTo>
                    <a:pt x="1522" y="837"/>
                  </a:lnTo>
                  <a:lnTo>
                    <a:pt x="1510" y="852"/>
                  </a:lnTo>
                  <a:lnTo>
                    <a:pt x="1497" y="867"/>
                  </a:lnTo>
                  <a:lnTo>
                    <a:pt x="1482" y="881"/>
                  </a:lnTo>
                  <a:lnTo>
                    <a:pt x="1465" y="894"/>
                  </a:lnTo>
                  <a:lnTo>
                    <a:pt x="1447" y="908"/>
                  </a:lnTo>
                  <a:lnTo>
                    <a:pt x="1426" y="922"/>
                  </a:lnTo>
                  <a:lnTo>
                    <a:pt x="1403" y="934"/>
                  </a:lnTo>
                  <a:lnTo>
                    <a:pt x="1379" y="947"/>
                  </a:lnTo>
                  <a:lnTo>
                    <a:pt x="1352" y="959"/>
                  </a:lnTo>
                  <a:lnTo>
                    <a:pt x="1323" y="969"/>
                  </a:lnTo>
                  <a:lnTo>
                    <a:pt x="1292" y="980"/>
                  </a:lnTo>
                  <a:lnTo>
                    <a:pt x="1259" y="989"/>
                  </a:lnTo>
                  <a:lnTo>
                    <a:pt x="1328" y="1011"/>
                  </a:lnTo>
                  <a:lnTo>
                    <a:pt x="1354" y="1026"/>
                  </a:lnTo>
                  <a:lnTo>
                    <a:pt x="1376" y="1043"/>
                  </a:lnTo>
                  <a:lnTo>
                    <a:pt x="1406" y="1084"/>
                  </a:lnTo>
                  <a:lnTo>
                    <a:pt x="1419" y="1131"/>
                  </a:lnTo>
                  <a:lnTo>
                    <a:pt x="1418" y="1183"/>
                  </a:lnTo>
                  <a:lnTo>
                    <a:pt x="1411" y="1210"/>
                  </a:lnTo>
                  <a:lnTo>
                    <a:pt x="1402" y="1238"/>
                  </a:lnTo>
                  <a:lnTo>
                    <a:pt x="1390" y="1266"/>
                  </a:lnTo>
                  <a:lnTo>
                    <a:pt x="1375" y="1295"/>
                  </a:lnTo>
                  <a:lnTo>
                    <a:pt x="1357" y="1322"/>
                  </a:lnTo>
                  <a:lnTo>
                    <a:pt x="1347" y="1336"/>
                  </a:lnTo>
                  <a:lnTo>
                    <a:pt x="1337" y="1349"/>
                  </a:lnTo>
                  <a:lnTo>
                    <a:pt x="1327" y="1363"/>
                  </a:lnTo>
                  <a:lnTo>
                    <a:pt x="1315" y="1377"/>
                  </a:lnTo>
                  <a:lnTo>
                    <a:pt x="1291" y="1403"/>
                  </a:lnTo>
                  <a:lnTo>
                    <a:pt x="1278" y="1416"/>
                  </a:lnTo>
                  <a:lnTo>
                    <a:pt x="1265" y="1428"/>
                  </a:lnTo>
                  <a:lnTo>
                    <a:pt x="1252" y="1440"/>
                  </a:lnTo>
                  <a:lnTo>
                    <a:pt x="1238" y="1452"/>
                  </a:lnTo>
                  <a:lnTo>
                    <a:pt x="1224" y="1463"/>
                  </a:lnTo>
                  <a:lnTo>
                    <a:pt x="1209" y="1474"/>
                  </a:lnTo>
                  <a:lnTo>
                    <a:pt x="1194" y="1484"/>
                  </a:lnTo>
                  <a:lnTo>
                    <a:pt x="1179" y="1495"/>
                  </a:lnTo>
                  <a:lnTo>
                    <a:pt x="1164" y="1504"/>
                  </a:lnTo>
                  <a:lnTo>
                    <a:pt x="1149" y="1514"/>
                  </a:lnTo>
                  <a:lnTo>
                    <a:pt x="1118" y="1530"/>
                  </a:lnTo>
                  <a:lnTo>
                    <a:pt x="1085" y="1543"/>
                  </a:lnTo>
                  <a:lnTo>
                    <a:pt x="1053" y="1555"/>
                  </a:lnTo>
                  <a:lnTo>
                    <a:pt x="1021" y="1563"/>
                  </a:lnTo>
                  <a:lnTo>
                    <a:pt x="989" y="1569"/>
                  </a:lnTo>
                  <a:lnTo>
                    <a:pt x="925" y="1569"/>
                  </a:lnTo>
                  <a:lnTo>
                    <a:pt x="865" y="1553"/>
                  </a:lnTo>
                  <a:lnTo>
                    <a:pt x="839" y="1566"/>
                  </a:lnTo>
                  <a:lnTo>
                    <a:pt x="813" y="1582"/>
                  </a:lnTo>
                  <a:lnTo>
                    <a:pt x="789" y="1598"/>
                  </a:lnTo>
                  <a:lnTo>
                    <a:pt x="766" y="1616"/>
                  </a:lnTo>
                  <a:lnTo>
                    <a:pt x="743" y="1634"/>
                  </a:lnTo>
                  <a:lnTo>
                    <a:pt x="720" y="1652"/>
                  </a:lnTo>
                  <a:lnTo>
                    <a:pt x="696" y="1669"/>
                  </a:lnTo>
                  <a:lnTo>
                    <a:pt x="673" y="1687"/>
                  </a:lnTo>
                  <a:lnTo>
                    <a:pt x="645" y="1702"/>
                  </a:lnTo>
                  <a:lnTo>
                    <a:pt x="622" y="1712"/>
                  </a:lnTo>
                  <a:lnTo>
                    <a:pt x="581" y="1714"/>
                  </a:lnTo>
                  <a:lnTo>
                    <a:pt x="549" y="1701"/>
                  </a:lnTo>
                  <a:lnTo>
                    <a:pt x="519" y="1683"/>
                  </a:lnTo>
                  <a:lnTo>
                    <a:pt x="504" y="1675"/>
                  </a:lnTo>
                  <a:lnTo>
                    <a:pt x="489" y="1669"/>
                  </a:lnTo>
                  <a:lnTo>
                    <a:pt x="453" y="1667"/>
                  </a:lnTo>
                  <a:lnTo>
                    <a:pt x="409" y="1685"/>
                  </a:lnTo>
                  <a:lnTo>
                    <a:pt x="383" y="1707"/>
                  </a:lnTo>
                  <a:lnTo>
                    <a:pt x="368" y="1720"/>
                  </a:lnTo>
                  <a:lnTo>
                    <a:pt x="353" y="1736"/>
                  </a:lnTo>
                  <a:lnTo>
                    <a:pt x="278" y="1743"/>
                  </a:lnTo>
                  <a:lnTo>
                    <a:pt x="277" y="1731"/>
                  </a:lnTo>
                  <a:lnTo>
                    <a:pt x="278" y="1717"/>
                  </a:lnTo>
                  <a:lnTo>
                    <a:pt x="287" y="1690"/>
                  </a:lnTo>
                  <a:lnTo>
                    <a:pt x="298" y="1675"/>
                  </a:lnTo>
                  <a:lnTo>
                    <a:pt x="314" y="1658"/>
                  </a:lnTo>
                  <a:lnTo>
                    <a:pt x="323" y="1650"/>
                  </a:lnTo>
                  <a:lnTo>
                    <a:pt x="335" y="1640"/>
                  </a:lnTo>
                  <a:lnTo>
                    <a:pt x="348" y="1630"/>
                  </a:lnTo>
                  <a:lnTo>
                    <a:pt x="363" y="1619"/>
                  </a:lnTo>
                  <a:lnTo>
                    <a:pt x="390" y="1609"/>
                  </a:lnTo>
                  <a:lnTo>
                    <a:pt x="420" y="1606"/>
                  </a:lnTo>
                  <a:lnTo>
                    <a:pt x="487" y="1619"/>
                  </a:lnTo>
                  <a:lnTo>
                    <a:pt x="521" y="1628"/>
                  </a:lnTo>
                  <a:lnTo>
                    <a:pt x="555" y="1632"/>
                  </a:lnTo>
                  <a:lnTo>
                    <a:pt x="613" y="1618"/>
                  </a:lnTo>
                  <a:lnTo>
                    <a:pt x="636" y="1601"/>
                  </a:lnTo>
                  <a:lnTo>
                    <a:pt x="648" y="1592"/>
                  </a:lnTo>
                  <a:lnTo>
                    <a:pt x="662" y="1581"/>
                  </a:lnTo>
                  <a:lnTo>
                    <a:pt x="677" y="1570"/>
                  </a:lnTo>
                  <a:lnTo>
                    <a:pt x="692" y="1558"/>
                  </a:lnTo>
                  <a:lnTo>
                    <a:pt x="707" y="1546"/>
                  </a:lnTo>
                  <a:lnTo>
                    <a:pt x="723" y="1535"/>
                  </a:lnTo>
                  <a:lnTo>
                    <a:pt x="738" y="1523"/>
                  </a:lnTo>
                  <a:lnTo>
                    <a:pt x="754" y="1513"/>
                  </a:lnTo>
                  <a:lnTo>
                    <a:pt x="769" y="1502"/>
                  </a:lnTo>
                  <a:lnTo>
                    <a:pt x="784" y="1493"/>
                  </a:lnTo>
                  <a:lnTo>
                    <a:pt x="812" y="1478"/>
                  </a:lnTo>
                  <a:lnTo>
                    <a:pt x="836" y="1468"/>
                  </a:lnTo>
                  <a:lnTo>
                    <a:pt x="906" y="1454"/>
                  </a:lnTo>
                  <a:lnTo>
                    <a:pt x="970" y="1446"/>
                  </a:lnTo>
                  <a:lnTo>
                    <a:pt x="1090" y="1432"/>
                  </a:lnTo>
                  <a:lnTo>
                    <a:pt x="1144" y="1416"/>
                  </a:lnTo>
                  <a:lnTo>
                    <a:pt x="1195" y="1387"/>
                  </a:lnTo>
                  <a:lnTo>
                    <a:pt x="1219" y="1367"/>
                  </a:lnTo>
                  <a:lnTo>
                    <a:pt x="1242" y="1342"/>
                  </a:lnTo>
                  <a:lnTo>
                    <a:pt x="1264" y="1311"/>
                  </a:lnTo>
                  <a:lnTo>
                    <a:pt x="1285" y="1276"/>
                  </a:lnTo>
                  <a:lnTo>
                    <a:pt x="1298" y="1251"/>
                  </a:lnTo>
                  <a:lnTo>
                    <a:pt x="1308" y="1229"/>
                  </a:lnTo>
                  <a:lnTo>
                    <a:pt x="1323" y="1189"/>
                  </a:lnTo>
                  <a:lnTo>
                    <a:pt x="1334" y="1130"/>
                  </a:lnTo>
                  <a:lnTo>
                    <a:pt x="1329" y="1110"/>
                  </a:lnTo>
                  <a:lnTo>
                    <a:pt x="1320" y="1094"/>
                  </a:lnTo>
                  <a:lnTo>
                    <a:pt x="1306" y="1083"/>
                  </a:lnTo>
                  <a:lnTo>
                    <a:pt x="1287" y="1075"/>
                  </a:lnTo>
                  <a:lnTo>
                    <a:pt x="1238" y="1070"/>
                  </a:lnTo>
                  <a:lnTo>
                    <a:pt x="1178" y="1073"/>
                  </a:lnTo>
                  <a:lnTo>
                    <a:pt x="1110" y="1083"/>
                  </a:lnTo>
                  <a:lnTo>
                    <a:pt x="1038" y="1091"/>
                  </a:lnTo>
                  <a:lnTo>
                    <a:pt x="1004" y="1088"/>
                  </a:lnTo>
                  <a:lnTo>
                    <a:pt x="983" y="1070"/>
                  </a:lnTo>
                  <a:lnTo>
                    <a:pt x="982" y="1046"/>
                  </a:lnTo>
                  <a:lnTo>
                    <a:pt x="989" y="1032"/>
                  </a:lnTo>
                  <a:lnTo>
                    <a:pt x="1001" y="1019"/>
                  </a:lnTo>
                  <a:lnTo>
                    <a:pt x="1019" y="1006"/>
                  </a:lnTo>
                  <a:lnTo>
                    <a:pt x="1042" y="993"/>
                  </a:lnTo>
                  <a:lnTo>
                    <a:pt x="1069" y="979"/>
                  </a:lnTo>
                  <a:lnTo>
                    <a:pt x="1102" y="965"/>
                  </a:lnTo>
                  <a:lnTo>
                    <a:pt x="1136" y="951"/>
                  </a:lnTo>
                  <a:lnTo>
                    <a:pt x="1173" y="936"/>
                  </a:lnTo>
                  <a:lnTo>
                    <a:pt x="1210" y="922"/>
                  </a:lnTo>
                  <a:lnTo>
                    <a:pt x="1248" y="908"/>
                  </a:lnTo>
                  <a:lnTo>
                    <a:pt x="1285" y="894"/>
                  </a:lnTo>
                  <a:lnTo>
                    <a:pt x="1321" y="881"/>
                  </a:lnTo>
                  <a:lnTo>
                    <a:pt x="1354" y="868"/>
                  </a:lnTo>
                  <a:lnTo>
                    <a:pt x="1383" y="856"/>
                  </a:lnTo>
                  <a:lnTo>
                    <a:pt x="1427" y="836"/>
                  </a:lnTo>
                  <a:lnTo>
                    <a:pt x="1447" y="822"/>
                  </a:lnTo>
                  <a:lnTo>
                    <a:pt x="1452" y="786"/>
                  </a:lnTo>
                  <a:lnTo>
                    <a:pt x="1447" y="755"/>
                  </a:lnTo>
                  <a:lnTo>
                    <a:pt x="1430" y="731"/>
                  </a:lnTo>
                  <a:lnTo>
                    <a:pt x="1420" y="720"/>
                  </a:lnTo>
                  <a:lnTo>
                    <a:pt x="1408" y="712"/>
                  </a:lnTo>
                  <a:lnTo>
                    <a:pt x="1380" y="696"/>
                  </a:lnTo>
                  <a:lnTo>
                    <a:pt x="1346" y="684"/>
                  </a:lnTo>
                  <a:lnTo>
                    <a:pt x="1312" y="674"/>
                  </a:lnTo>
                  <a:lnTo>
                    <a:pt x="1276" y="667"/>
                  </a:lnTo>
                  <a:lnTo>
                    <a:pt x="1163" y="638"/>
                  </a:lnTo>
                  <a:lnTo>
                    <a:pt x="1149" y="617"/>
                  </a:lnTo>
                  <a:lnTo>
                    <a:pt x="1159" y="601"/>
                  </a:lnTo>
                  <a:lnTo>
                    <a:pt x="1170" y="593"/>
                  </a:lnTo>
                  <a:lnTo>
                    <a:pt x="1184" y="582"/>
                  </a:lnTo>
                  <a:lnTo>
                    <a:pt x="1201" y="571"/>
                  </a:lnTo>
                  <a:lnTo>
                    <a:pt x="1219" y="561"/>
                  </a:lnTo>
                  <a:lnTo>
                    <a:pt x="1256" y="543"/>
                  </a:lnTo>
                  <a:lnTo>
                    <a:pt x="1294" y="529"/>
                  </a:lnTo>
                  <a:lnTo>
                    <a:pt x="1332" y="513"/>
                  </a:lnTo>
                  <a:lnTo>
                    <a:pt x="1369" y="496"/>
                  </a:lnTo>
                  <a:lnTo>
                    <a:pt x="1404" y="476"/>
                  </a:lnTo>
                  <a:lnTo>
                    <a:pt x="1420" y="463"/>
                  </a:lnTo>
                  <a:lnTo>
                    <a:pt x="1435" y="450"/>
                  </a:lnTo>
                  <a:lnTo>
                    <a:pt x="1460" y="418"/>
                  </a:lnTo>
                  <a:lnTo>
                    <a:pt x="1425" y="370"/>
                  </a:lnTo>
                  <a:lnTo>
                    <a:pt x="1368" y="359"/>
                  </a:lnTo>
                  <a:lnTo>
                    <a:pt x="1314" y="361"/>
                  </a:lnTo>
                  <a:lnTo>
                    <a:pt x="1259" y="370"/>
                  </a:lnTo>
                  <a:lnTo>
                    <a:pt x="1202" y="378"/>
                  </a:lnTo>
                  <a:lnTo>
                    <a:pt x="1158" y="376"/>
                  </a:lnTo>
                  <a:lnTo>
                    <a:pt x="1145" y="360"/>
                  </a:lnTo>
                  <a:lnTo>
                    <a:pt x="1149" y="348"/>
                  </a:lnTo>
                  <a:lnTo>
                    <a:pt x="1157" y="332"/>
                  </a:lnTo>
                  <a:lnTo>
                    <a:pt x="1169" y="314"/>
                  </a:lnTo>
                  <a:lnTo>
                    <a:pt x="1182" y="294"/>
                  </a:lnTo>
                  <a:lnTo>
                    <a:pt x="1197" y="273"/>
                  </a:lnTo>
                  <a:lnTo>
                    <a:pt x="1214" y="251"/>
                  </a:lnTo>
                  <a:lnTo>
                    <a:pt x="1229" y="226"/>
                  </a:lnTo>
                  <a:lnTo>
                    <a:pt x="1242" y="202"/>
                  </a:lnTo>
                  <a:lnTo>
                    <a:pt x="1260" y="154"/>
                  </a:lnTo>
                  <a:lnTo>
                    <a:pt x="1257" y="106"/>
                  </a:lnTo>
                  <a:lnTo>
                    <a:pt x="1195" y="107"/>
                  </a:lnTo>
                  <a:lnTo>
                    <a:pt x="1160" y="125"/>
                  </a:lnTo>
                  <a:lnTo>
                    <a:pt x="1142" y="141"/>
                  </a:lnTo>
                  <a:lnTo>
                    <a:pt x="1124" y="161"/>
                  </a:lnTo>
                  <a:lnTo>
                    <a:pt x="1105" y="183"/>
                  </a:lnTo>
                  <a:lnTo>
                    <a:pt x="1087" y="207"/>
                  </a:lnTo>
                  <a:lnTo>
                    <a:pt x="1069" y="233"/>
                  </a:lnTo>
                  <a:lnTo>
                    <a:pt x="1052" y="259"/>
                  </a:lnTo>
                  <a:lnTo>
                    <a:pt x="1037" y="285"/>
                  </a:lnTo>
                  <a:lnTo>
                    <a:pt x="1022" y="310"/>
                  </a:lnTo>
                  <a:lnTo>
                    <a:pt x="1008" y="333"/>
                  </a:lnTo>
                  <a:lnTo>
                    <a:pt x="998" y="354"/>
                  </a:lnTo>
                  <a:lnTo>
                    <a:pt x="982" y="385"/>
                  </a:lnTo>
                  <a:lnTo>
                    <a:pt x="976" y="397"/>
                  </a:lnTo>
                  <a:lnTo>
                    <a:pt x="939" y="380"/>
                  </a:lnTo>
                  <a:lnTo>
                    <a:pt x="924" y="368"/>
                  </a:lnTo>
                  <a:lnTo>
                    <a:pt x="910" y="353"/>
                  </a:lnTo>
                  <a:lnTo>
                    <a:pt x="895" y="337"/>
                  </a:lnTo>
                  <a:lnTo>
                    <a:pt x="879" y="322"/>
                  </a:lnTo>
                  <a:lnTo>
                    <a:pt x="859" y="309"/>
                  </a:lnTo>
                  <a:lnTo>
                    <a:pt x="836" y="297"/>
                  </a:lnTo>
                  <a:lnTo>
                    <a:pt x="811" y="320"/>
                  </a:lnTo>
                  <a:lnTo>
                    <a:pt x="790" y="351"/>
                  </a:lnTo>
                  <a:lnTo>
                    <a:pt x="762" y="435"/>
                  </a:lnTo>
                  <a:lnTo>
                    <a:pt x="749" y="541"/>
                  </a:lnTo>
                  <a:lnTo>
                    <a:pt x="745" y="664"/>
                  </a:lnTo>
                  <a:lnTo>
                    <a:pt x="707" y="705"/>
                  </a:lnTo>
                  <a:lnTo>
                    <a:pt x="670" y="705"/>
                  </a:lnTo>
                  <a:lnTo>
                    <a:pt x="640" y="692"/>
                  </a:lnTo>
                  <a:lnTo>
                    <a:pt x="614" y="672"/>
                  </a:lnTo>
                  <a:lnTo>
                    <a:pt x="591" y="648"/>
                  </a:lnTo>
                  <a:lnTo>
                    <a:pt x="568" y="620"/>
                  </a:lnTo>
                  <a:lnTo>
                    <a:pt x="555" y="608"/>
                  </a:lnTo>
                  <a:lnTo>
                    <a:pt x="543" y="595"/>
                  </a:lnTo>
                  <a:lnTo>
                    <a:pt x="529" y="585"/>
                  </a:lnTo>
                  <a:lnTo>
                    <a:pt x="516" y="575"/>
                  </a:lnTo>
                  <a:lnTo>
                    <a:pt x="484" y="562"/>
                  </a:lnTo>
                  <a:lnTo>
                    <a:pt x="457" y="561"/>
                  </a:lnTo>
                  <a:lnTo>
                    <a:pt x="435" y="571"/>
                  </a:lnTo>
                  <a:lnTo>
                    <a:pt x="411" y="614"/>
                  </a:lnTo>
                  <a:lnTo>
                    <a:pt x="404" y="683"/>
                  </a:lnTo>
                  <a:lnTo>
                    <a:pt x="408" y="767"/>
                  </a:lnTo>
                  <a:lnTo>
                    <a:pt x="418" y="858"/>
                  </a:lnTo>
                  <a:lnTo>
                    <a:pt x="426" y="946"/>
                  </a:lnTo>
                  <a:lnTo>
                    <a:pt x="424" y="1021"/>
                  </a:lnTo>
                  <a:lnTo>
                    <a:pt x="419" y="1049"/>
                  </a:lnTo>
                  <a:lnTo>
                    <a:pt x="408" y="1072"/>
                  </a:lnTo>
                  <a:lnTo>
                    <a:pt x="401" y="1081"/>
                  </a:lnTo>
                  <a:lnTo>
                    <a:pt x="392" y="1086"/>
                  </a:lnTo>
                  <a:lnTo>
                    <a:pt x="373" y="1091"/>
                  </a:lnTo>
                  <a:lnTo>
                    <a:pt x="323" y="1082"/>
                  </a:lnTo>
                  <a:lnTo>
                    <a:pt x="295" y="1070"/>
                  </a:lnTo>
                  <a:lnTo>
                    <a:pt x="265" y="1057"/>
                  </a:lnTo>
                  <a:lnTo>
                    <a:pt x="235" y="1041"/>
                  </a:lnTo>
                  <a:lnTo>
                    <a:pt x="206" y="1027"/>
                  </a:lnTo>
                  <a:lnTo>
                    <a:pt x="178" y="1014"/>
                  </a:lnTo>
                  <a:lnTo>
                    <a:pt x="151" y="1007"/>
                  </a:lnTo>
                  <a:lnTo>
                    <a:pt x="106" y="1009"/>
                  </a:lnTo>
                  <a:lnTo>
                    <a:pt x="90" y="1023"/>
                  </a:lnTo>
                  <a:lnTo>
                    <a:pt x="78" y="1047"/>
                  </a:lnTo>
                  <a:lnTo>
                    <a:pt x="73" y="1132"/>
                  </a:lnTo>
                  <a:lnTo>
                    <a:pt x="77" y="1168"/>
                  </a:lnTo>
                  <a:lnTo>
                    <a:pt x="89" y="1199"/>
                  </a:lnTo>
                  <a:lnTo>
                    <a:pt x="104" y="1224"/>
                  </a:lnTo>
                  <a:lnTo>
                    <a:pt x="121" y="1245"/>
                  </a:lnTo>
                  <a:lnTo>
                    <a:pt x="131" y="1255"/>
                  </a:lnTo>
                  <a:lnTo>
                    <a:pt x="143" y="1263"/>
                  </a:lnTo>
                  <a:lnTo>
                    <a:pt x="165" y="1279"/>
                  </a:lnTo>
                  <a:lnTo>
                    <a:pt x="189" y="1294"/>
                  </a:lnTo>
                  <a:lnTo>
                    <a:pt x="212" y="1307"/>
                  </a:lnTo>
                  <a:lnTo>
                    <a:pt x="235" y="1321"/>
                  </a:lnTo>
                  <a:lnTo>
                    <a:pt x="256" y="1337"/>
                  </a:lnTo>
                  <a:lnTo>
                    <a:pt x="290" y="1375"/>
                  </a:lnTo>
                  <a:lnTo>
                    <a:pt x="307" y="1427"/>
                  </a:lnTo>
                  <a:lnTo>
                    <a:pt x="307" y="1444"/>
                  </a:lnTo>
                  <a:lnTo>
                    <a:pt x="307" y="1462"/>
                  </a:lnTo>
                  <a:lnTo>
                    <a:pt x="300" y="1503"/>
                  </a:lnTo>
                  <a:lnTo>
                    <a:pt x="318" y="1485"/>
                  </a:lnTo>
                  <a:lnTo>
                    <a:pt x="339" y="1467"/>
                  </a:lnTo>
                  <a:lnTo>
                    <a:pt x="359" y="1448"/>
                  </a:lnTo>
                  <a:lnTo>
                    <a:pt x="381" y="1428"/>
                  </a:lnTo>
                  <a:lnTo>
                    <a:pt x="391" y="1419"/>
                  </a:lnTo>
                  <a:lnTo>
                    <a:pt x="403" y="1408"/>
                  </a:lnTo>
                  <a:lnTo>
                    <a:pt x="413" y="1398"/>
                  </a:lnTo>
                  <a:lnTo>
                    <a:pt x="424" y="1387"/>
                  </a:lnTo>
                  <a:lnTo>
                    <a:pt x="436" y="1377"/>
                  </a:lnTo>
                  <a:lnTo>
                    <a:pt x="448" y="1365"/>
                  </a:lnTo>
                  <a:lnTo>
                    <a:pt x="459" y="1354"/>
                  </a:lnTo>
                  <a:lnTo>
                    <a:pt x="471" y="1342"/>
                  </a:lnTo>
                  <a:lnTo>
                    <a:pt x="482" y="1331"/>
                  </a:lnTo>
                  <a:lnTo>
                    <a:pt x="493" y="1321"/>
                  </a:lnTo>
                  <a:lnTo>
                    <a:pt x="511" y="1301"/>
                  </a:lnTo>
                  <a:lnTo>
                    <a:pt x="527" y="1282"/>
                  </a:lnTo>
                  <a:lnTo>
                    <a:pt x="541" y="1264"/>
                  </a:lnTo>
                  <a:lnTo>
                    <a:pt x="553" y="1247"/>
                  </a:lnTo>
                  <a:lnTo>
                    <a:pt x="563" y="1231"/>
                  </a:lnTo>
                  <a:lnTo>
                    <a:pt x="580" y="1198"/>
                  </a:lnTo>
                  <a:lnTo>
                    <a:pt x="604" y="1126"/>
                  </a:lnTo>
                  <a:lnTo>
                    <a:pt x="615" y="1082"/>
                  </a:lnTo>
                  <a:lnTo>
                    <a:pt x="626" y="1029"/>
                  </a:lnTo>
                  <a:lnTo>
                    <a:pt x="640" y="981"/>
                  </a:lnTo>
                  <a:lnTo>
                    <a:pt x="648" y="957"/>
                  </a:lnTo>
                  <a:lnTo>
                    <a:pt x="658" y="935"/>
                  </a:lnTo>
                  <a:lnTo>
                    <a:pt x="667" y="913"/>
                  </a:lnTo>
                  <a:lnTo>
                    <a:pt x="677" y="891"/>
                  </a:lnTo>
                  <a:lnTo>
                    <a:pt x="689" y="870"/>
                  </a:lnTo>
                  <a:lnTo>
                    <a:pt x="700" y="850"/>
                  </a:lnTo>
                  <a:lnTo>
                    <a:pt x="714" y="830"/>
                  </a:lnTo>
                  <a:lnTo>
                    <a:pt x="727" y="810"/>
                  </a:lnTo>
                  <a:lnTo>
                    <a:pt x="741" y="791"/>
                  </a:lnTo>
                  <a:lnTo>
                    <a:pt x="756" y="772"/>
                  </a:lnTo>
                  <a:lnTo>
                    <a:pt x="771" y="754"/>
                  </a:lnTo>
                  <a:lnTo>
                    <a:pt x="786" y="736"/>
                  </a:lnTo>
                  <a:lnTo>
                    <a:pt x="802" y="718"/>
                  </a:lnTo>
                  <a:lnTo>
                    <a:pt x="818" y="700"/>
                  </a:lnTo>
                  <a:lnTo>
                    <a:pt x="835" y="684"/>
                  </a:lnTo>
                  <a:lnTo>
                    <a:pt x="852" y="667"/>
                  </a:lnTo>
                  <a:lnTo>
                    <a:pt x="870" y="650"/>
                  </a:lnTo>
                  <a:lnTo>
                    <a:pt x="887" y="633"/>
                  </a:lnTo>
                  <a:lnTo>
                    <a:pt x="906" y="616"/>
                  </a:lnTo>
                  <a:lnTo>
                    <a:pt x="924" y="599"/>
                  </a:lnTo>
                  <a:lnTo>
                    <a:pt x="942" y="584"/>
                  </a:lnTo>
                  <a:lnTo>
                    <a:pt x="961" y="567"/>
                  </a:lnTo>
                  <a:lnTo>
                    <a:pt x="979" y="551"/>
                  </a:lnTo>
                  <a:lnTo>
                    <a:pt x="998" y="535"/>
                  </a:lnTo>
                  <a:lnTo>
                    <a:pt x="1016" y="518"/>
                  </a:lnTo>
                  <a:lnTo>
                    <a:pt x="1036" y="502"/>
                  </a:lnTo>
                  <a:lnTo>
                    <a:pt x="1054" y="486"/>
                  </a:lnTo>
                  <a:lnTo>
                    <a:pt x="1073" y="469"/>
                  </a:lnTo>
                  <a:lnTo>
                    <a:pt x="1092" y="453"/>
                  </a:lnTo>
                  <a:lnTo>
                    <a:pt x="1111" y="436"/>
                  </a:lnTo>
                  <a:lnTo>
                    <a:pt x="1133" y="456"/>
                  </a:lnTo>
                  <a:lnTo>
                    <a:pt x="1120" y="467"/>
                  </a:lnTo>
                  <a:lnTo>
                    <a:pt x="1109" y="477"/>
                  </a:lnTo>
                  <a:lnTo>
                    <a:pt x="1098" y="488"/>
                  </a:lnTo>
                  <a:lnTo>
                    <a:pt x="1087" y="498"/>
                  </a:lnTo>
                  <a:lnTo>
                    <a:pt x="1076" y="509"/>
                  </a:lnTo>
                  <a:lnTo>
                    <a:pt x="1065" y="519"/>
                  </a:lnTo>
                  <a:lnTo>
                    <a:pt x="1054" y="530"/>
                  </a:lnTo>
                  <a:lnTo>
                    <a:pt x="1045" y="540"/>
                  </a:lnTo>
                  <a:lnTo>
                    <a:pt x="1026" y="560"/>
                  </a:lnTo>
                  <a:lnTo>
                    <a:pt x="1007" y="580"/>
                  </a:lnTo>
                  <a:lnTo>
                    <a:pt x="989" y="600"/>
                  </a:lnTo>
                  <a:lnTo>
                    <a:pt x="972" y="619"/>
                  </a:lnTo>
                  <a:lnTo>
                    <a:pt x="956" y="638"/>
                  </a:lnTo>
                  <a:lnTo>
                    <a:pt x="941" y="657"/>
                  </a:lnTo>
                  <a:lnTo>
                    <a:pt x="926" y="675"/>
                  </a:lnTo>
                  <a:lnTo>
                    <a:pt x="912" y="693"/>
                  </a:lnTo>
                  <a:lnTo>
                    <a:pt x="900" y="711"/>
                  </a:lnTo>
                  <a:lnTo>
                    <a:pt x="887" y="729"/>
                  </a:lnTo>
                  <a:lnTo>
                    <a:pt x="876" y="746"/>
                  </a:lnTo>
                  <a:lnTo>
                    <a:pt x="864" y="763"/>
                  </a:lnTo>
                  <a:lnTo>
                    <a:pt x="844" y="796"/>
                  </a:lnTo>
                  <a:lnTo>
                    <a:pt x="826" y="829"/>
                  </a:lnTo>
                  <a:lnTo>
                    <a:pt x="810" y="861"/>
                  </a:lnTo>
                  <a:lnTo>
                    <a:pt x="795" y="891"/>
                  </a:lnTo>
                  <a:lnTo>
                    <a:pt x="782" y="921"/>
                  </a:lnTo>
                  <a:lnTo>
                    <a:pt x="771" y="949"/>
                  </a:lnTo>
                  <a:lnTo>
                    <a:pt x="760" y="978"/>
                  </a:lnTo>
                  <a:lnTo>
                    <a:pt x="751" y="1005"/>
                  </a:lnTo>
                  <a:lnTo>
                    <a:pt x="734" y="1059"/>
                  </a:lnTo>
                  <a:lnTo>
                    <a:pt x="719" y="1110"/>
                  </a:lnTo>
                  <a:lnTo>
                    <a:pt x="709" y="1136"/>
                  </a:lnTo>
                  <a:lnTo>
                    <a:pt x="701" y="1161"/>
                  </a:lnTo>
                  <a:lnTo>
                    <a:pt x="692" y="1186"/>
                  </a:lnTo>
                  <a:lnTo>
                    <a:pt x="682" y="1210"/>
                  </a:lnTo>
                  <a:lnTo>
                    <a:pt x="671" y="1235"/>
                  </a:lnTo>
                  <a:lnTo>
                    <a:pt x="659" y="1259"/>
                  </a:lnTo>
                  <a:lnTo>
                    <a:pt x="645" y="1283"/>
                  </a:lnTo>
                  <a:lnTo>
                    <a:pt x="630" y="1308"/>
                  </a:lnTo>
                  <a:lnTo>
                    <a:pt x="613" y="1333"/>
                  </a:lnTo>
                  <a:lnTo>
                    <a:pt x="593" y="1357"/>
                  </a:lnTo>
                  <a:lnTo>
                    <a:pt x="571" y="1381"/>
                  </a:lnTo>
                  <a:lnTo>
                    <a:pt x="558" y="1394"/>
                  </a:lnTo>
                  <a:lnTo>
                    <a:pt x="547" y="1406"/>
                  </a:lnTo>
                  <a:lnTo>
                    <a:pt x="528" y="1423"/>
                  </a:lnTo>
                  <a:lnTo>
                    <a:pt x="510" y="1440"/>
                  </a:lnTo>
                  <a:lnTo>
                    <a:pt x="491" y="1457"/>
                  </a:lnTo>
                  <a:lnTo>
                    <a:pt x="473" y="1473"/>
                  </a:lnTo>
                  <a:lnTo>
                    <a:pt x="454" y="1487"/>
                  </a:lnTo>
                  <a:lnTo>
                    <a:pt x="435" y="1502"/>
                  </a:lnTo>
                  <a:lnTo>
                    <a:pt x="416" y="1517"/>
                  </a:lnTo>
                  <a:lnTo>
                    <a:pt x="398" y="1532"/>
                  </a:lnTo>
                  <a:lnTo>
                    <a:pt x="379" y="1546"/>
                  </a:lnTo>
                  <a:lnTo>
                    <a:pt x="362" y="1561"/>
                  </a:lnTo>
                  <a:lnTo>
                    <a:pt x="344" y="1576"/>
                  </a:lnTo>
                  <a:lnTo>
                    <a:pt x="326" y="1591"/>
                  </a:lnTo>
                  <a:lnTo>
                    <a:pt x="309" y="1604"/>
                  </a:lnTo>
                  <a:lnTo>
                    <a:pt x="292" y="1619"/>
                  </a:lnTo>
                  <a:lnTo>
                    <a:pt x="276" y="1635"/>
                  </a:lnTo>
                  <a:lnTo>
                    <a:pt x="260" y="1650"/>
                  </a:lnTo>
                  <a:lnTo>
                    <a:pt x="245" y="1665"/>
                  </a:lnTo>
                  <a:lnTo>
                    <a:pt x="230" y="1681"/>
                  </a:lnTo>
                  <a:lnTo>
                    <a:pt x="216" y="1698"/>
                  </a:lnTo>
                  <a:lnTo>
                    <a:pt x="202" y="1715"/>
                  </a:lnTo>
                  <a:lnTo>
                    <a:pt x="189" y="1732"/>
                  </a:lnTo>
                  <a:lnTo>
                    <a:pt x="178" y="1751"/>
                  </a:lnTo>
                  <a:lnTo>
                    <a:pt x="157" y="1789"/>
                  </a:lnTo>
                  <a:lnTo>
                    <a:pt x="141" y="1831"/>
                  </a:lnTo>
                  <a:lnTo>
                    <a:pt x="128" y="1876"/>
                  </a:lnTo>
                  <a:lnTo>
                    <a:pt x="118" y="1979"/>
                  </a:lnTo>
                  <a:lnTo>
                    <a:pt x="86" y="1979"/>
                  </a:lnTo>
                  <a:lnTo>
                    <a:pt x="95" y="1855"/>
                  </a:lnTo>
                  <a:lnTo>
                    <a:pt x="104" y="1802"/>
                  </a:lnTo>
                  <a:lnTo>
                    <a:pt x="118" y="1754"/>
                  </a:lnTo>
                  <a:lnTo>
                    <a:pt x="126" y="1732"/>
                  </a:lnTo>
                  <a:lnTo>
                    <a:pt x="135" y="1711"/>
                  </a:lnTo>
                  <a:lnTo>
                    <a:pt x="144" y="1691"/>
                  </a:lnTo>
                  <a:lnTo>
                    <a:pt x="156" y="1672"/>
                  </a:lnTo>
                  <a:lnTo>
                    <a:pt x="167" y="1653"/>
                  </a:lnTo>
                  <a:lnTo>
                    <a:pt x="180" y="1634"/>
                  </a:lnTo>
                  <a:lnTo>
                    <a:pt x="193" y="1617"/>
                  </a:lnTo>
                  <a:lnTo>
                    <a:pt x="206" y="1599"/>
                  </a:lnTo>
                  <a:lnTo>
                    <a:pt x="206" y="1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6378200">
              <a:off x="132840" y="4201920"/>
              <a:ext cx="537480" cy="622440"/>
            </a:xfrm>
            <a:custGeom>
              <a:avLst/>
              <a:gdLst/>
              <a:ahLst/>
              <a:rect l="l" t="t" r="r" b="b"/>
              <a:pathLst>
                <a:path w="1354" h="2058">
                  <a:moveTo>
                    <a:pt x="598" y="4"/>
                  </a:moveTo>
                  <a:lnTo>
                    <a:pt x="594" y="111"/>
                  </a:lnTo>
                  <a:lnTo>
                    <a:pt x="599" y="166"/>
                  </a:lnTo>
                  <a:lnTo>
                    <a:pt x="607" y="221"/>
                  </a:lnTo>
                  <a:lnTo>
                    <a:pt x="618" y="275"/>
                  </a:lnTo>
                  <a:lnTo>
                    <a:pt x="633" y="331"/>
                  </a:lnTo>
                  <a:lnTo>
                    <a:pt x="641" y="359"/>
                  </a:lnTo>
                  <a:lnTo>
                    <a:pt x="651" y="386"/>
                  </a:lnTo>
                  <a:lnTo>
                    <a:pt x="661" y="413"/>
                  </a:lnTo>
                  <a:lnTo>
                    <a:pt x="671" y="440"/>
                  </a:lnTo>
                  <a:lnTo>
                    <a:pt x="683" y="467"/>
                  </a:lnTo>
                  <a:lnTo>
                    <a:pt x="694" y="493"/>
                  </a:lnTo>
                  <a:lnTo>
                    <a:pt x="707" y="520"/>
                  </a:lnTo>
                  <a:lnTo>
                    <a:pt x="720" y="546"/>
                  </a:lnTo>
                  <a:lnTo>
                    <a:pt x="734" y="572"/>
                  </a:lnTo>
                  <a:lnTo>
                    <a:pt x="748" y="598"/>
                  </a:lnTo>
                  <a:lnTo>
                    <a:pt x="763" y="623"/>
                  </a:lnTo>
                  <a:lnTo>
                    <a:pt x="778" y="647"/>
                  </a:lnTo>
                  <a:lnTo>
                    <a:pt x="794" y="673"/>
                  </a:lnTo>
                  <a:lnTo>
                    <a:pt x="810" y="696"/>
                  </a:lnTo>
                  <a:lnTo>
                    <a:pt x="826" y="720"/>
                  </a:lnTo>
                  <a:lnTo>
                    <a:pt x="843" y="743"/>
                  </a:lnTo>
                  <a:lnTo>
                    <a:pt x="861" y="765"/>
                  </a:lnTo>
                  <a:lnTo>
                    <a:pt x="878" y="787"/>
                  </a:lnTo>
                  <a:lnTo>
                    <a:pt x="896" y="808"/>
                  </a:lnTo>
                  <a:lnTo>
                    <a:pt x="915" y="830"/>
                  </a:lnTo>
                  <a:lnTo>
                    <a:pt x="926" y="813"/>
                  </a:lnTo>
                  <a:lnTo>
                    <a:pt x="939" y="798"/>
                  </a:lnTo>
                  <a:lnTo>
                    <a:pt x="953" y="782"/>
                  </a:lnTo>
                  <a:lnTo>
                    <a:pt x="968" y="768"/>
                  </a:lnTo>
                  <a:lnTo>
                    <a:pt x="982" y="754"/>
                  </a:lnTo>
                  <a:lnTo>
                    <a:pt x="998" y="741"/>
                  </a:lnTo>
                  <a:lnTo>
                    <a:pt x="1014" y="727"/>
                  </a:lnTo>
                  <a:lnTo>
                    <a:pt x="1030" y="715"/>
                  </a:lnTo>
                  <a:lnTo>
                    <a:pt x="1046" y="703"/>
                  </a:lnTo>
                  <a:lnTo>
                    <a:pt x="1064" y="692"/>
                  </a:lnTo>
                  <a:lnTo>
                    <a:pt x="1081" y="680"/>
                  </a:lnTo>
                  <a:lnTo>
                    <a:pt x="1099" y="669"/>
                  </a:lnTo>
                  <a:lnTo>
                    <a:pt x="1118" y="659"/>
                  </a:lnTo>
                  <a:lnTo>
                    <a:pt x="1135" y="648"/>
                  </a:lnTo>
                  <a:lnTo>
                    <a:pt x="1154" y="639"/>
                  </a:lnTo>
                  <a:lnTo>
                    <a:pt x="1173" y="629"/>
                  </a:lnTo>
                  <a:lnTo>
                    <a:pt x="1234" y="658"/>
                  </a:lnTo>
                  <a:lnTo>
                    <a:pt x="1201" y="669"/>
                  </a:lnTo>
                  <a:lnTo>
                    <a:pt x="1169" y="684"/>
                  </a:lnTo>
                  <a:lnTo>
                    <a:pt x="1139" y="701"/>
                  </a:lnTo>
                  <a:lnTo>
                    <a:pt x="1110" y="721"/>
                  </a:lnTo>
                  <a:lnTo>
                    <a:pt x="1096" y="732"/>
                  </a:lnTo>
                  <a:lnTo>
                    <a:pt x="1082" y="742"/>
                  </a:lnTo>
                  <a:lnTo>
                    <a:pt x="1069" y="754"/>
                  </a:lnTo>
                  <a:lnTo>
                    <a:pt x="1057" y="766"/>
                  </a:lnTo>
                  <a:lnTo>
                    <a:pt x="1034" y="792"/>
                  </a:lnTo>
                  <a:lnTo>
                    <a:pt x="1012" y="818"/>
                  </a:lnTo>
                  <a:lnTo>
                    <a:pt x="993" y="846"/>
                  </a:lnTo>
                  <a:lnTo>
                    <a:pt x="976" y="877"/>
                  </a:lnTo>
                  <a:lnTo>
                    <a:pt x="961" y="908"/>
                  </a:lnTo>
                  <a:lnTo>
                    <a:pt x="949" y="938"/>
                  </a:lnTo>
                  <a:lnTo>
                    <a:pt x="932" y="1002"/>
                  </a:lnTo>
                  <a:lnTo>
                    <a:pt x="926" y="1068"/>
                  </a:lnTo>
                  <a:lnTo>
                    <a:pt x="932" y="1123"/>
                  </a:lnTo>
                  <a:lnTo>
                    <a:pt x="938" y="1150"/>
                  </a:lnTo>
                  <a:lnTo>
                    <a:pt x="947" y="1176"/>
                  </a:lnTo>
                  <a:lnTo>
                    <a:pt x="957" y="1202"/>
                  </a:lnTo>
                  <a:lnTo>
                    <a:pt x="970" y="1228"/>
                  </a:lnTo>
                  <a:lnTo>
                    <a:pt x="984" y="1253"/>
                  </a:lnTo>
                  <a:lnTo>
                    <a:pt x="1000" y="1278"/>
                  </a:lnTo>
                  <a:lnTo>
                    <a:pt x="1016" y="1304"/>
                  </a:lnTo>
                  <a:lnTo>
                    <a:pt x="1035" y="1329"/>
                  </a:lnTo>
                  <a:lnTo>
                    <a:pt x="1054" y="1353"/>
                  </a:lnTo>
                  <a:lnTo>
                    <a:pt x="1074" y="1378"/>
                  </a:lnTo>
                  <a:lnTo>
                    <a:pt x="1094" y="1404"/>
                  </a:lnTo>
                  <a:lnTo>
                    <a:pt x="1116" y="1430"/>
                  </a:lnTo>
                  <a:lnTo>
                    <a:pt x="1136" y="1455"/>
                  </a:lnTo>
                  <a:lnTo>
                    <a:pt x="1157" y="1482"/>
                  </a:lnTo>
                  <a:lnTo>
                    <a:pt x="1178" y="1509"/>
                  </a:lnTo>
                  <a:lnTo>
                    <a:pt x="1199" y="1535"/>
                  </a:lnTo>
                  <a:lnTo>
                    <a:pt x="1218" y="1564"/>
                  </a:lnTo>
                  <a:lnTo>
                    <a:pt x="1238" y="1592"/>
                  </a:lnTo>
                  <a:lnTo>
                    <a:pt x="1247" y="1607"/>
                  </a:lnTo>
                  <a:lnTo>
                    <a:pt x="1256" y="1622"/>
                  </a:lnTo>
                  <a:lnTo>
                    <a:pt x="1275" y="1651"/>
                  </a:lnTo>
                  <a:lnTo>
                    <a:pt x="1291" y="1683"/>
                  </a:lnTo>
                  <a:lnTo>
                    <a:pt x="1306" y="1714"/>
                  </a:lnTo>
                  <a:lnTo>
                    <a:pt x="1319" y="1748"/>
                  </a:lnTo>
                  <a:lnTo>
                    <a:pt x="1330" y="1782"/>
                  </a:lnTo>
                  <a:lnTo>
                    <a:pt x="1347" y="1855"/>
                  </a:lnTo>
                  <a:lnTo>
                    <a:pt x="1354" y="1932"/>
                  </a:lnTo>
                  <a:lnTo>
                    <a:pt x="1351" y="2015"/>
                  </a:lnTo>
                  <a:lnTo>
                    <a:pt x="1347" y="2036"/>
                  </a:lnTo>
                  <a:lnTo>
                    <a:pt x="1340" y="2050"/>
                  </a:lnTo>
                  <a:lnTo>
                    <a:pt x="1331" y="2057"/>
                  </a:lnTo>
                  <a:lnTo>
                    <a:pt x="1321" y="2058"/>
                  </a:lnTo>
                  <a:lnTo>
                    <a:pt x="1294" y="2044"/>
                  </a:lnTo>
                  <a:lnTo>
                    <a:pt x="1280" y="2032"/>
                  </a:lnTo>
                  <a:lnTo>
                    <a:pt x="1267" y="2016"/>
                  </a:lnTo>
                  <a:lnTo>
                    <a:pt x="1252" y="1998"/>
                  </a:lnTo>
                  <a:lnTo>
                    <a:pt x="1238" y="1979"/>
                  </a:lnTo>
                  <a:lnTo>
                    <a:pt x="1225" y="1959"/>
                  </a:lnTo>
                  <a:lnTo>
                    <a:pt x="1214" y="1940"/>
                  </a:lnTo>
                  <a:lnTo>
                    <a:pt x="1195" y="1904"/>
                  </a:lnTo>
                  <a:lnTo>
                    <a:pt x="1186" y="1879"/>
                  </a:lnTo>
                  <a:lnTo>
                    <a:pt x="1175" y="1838"/>
                  </a:lnTo>
                  <a:lnTo>
                    <a:pt x="1163" y="1799"/>
                  </a:lnTo>
                  <a:lnTo>
                    <a:pt x="1149" y="1759"/>
                  </a:lnTo>
                  <a:lnTo>
                    <a:pt x="1132" y="1721"/>
                  </a:lnTo>
                  <a:lnTo>
                    <a:pt x="1122" y="1701"/>
                  </a:lnTo>
                  <a:lnTo>
                    <a:pt x="1113" y="1682"/>
                  </a:lnTo>
                  <a:lnTo>
                    <a:pt x="1103" y="1663"/>
                  </a:lnTo>
                  <a:lnTo>
                    <a:pt x="1092" y="1644"/>
                  </a:lnTo>
                  <a:lnTo>
                    <a:pt x="1082" y="1625"/>
                  </a:lnTo>
                  <a:lnTo>
                    <a:pt x="1072" y="1606"/>
                  </a:lnTo>
                  <a:lnTo>
                    <a:pt x="1061" y="1587"/>
                  </a:lnTo>
                  <a:lnTo>
                    <a:pt x="1050" y="1568"/>
                  </a:lnTo>
                  <a:lnTo>
                    <a:pt x="1039" y="1549"/>
                  </a:lnTo>
                  <a:lnTo>
                    <a:pt x="1028" y="1531"/>
                  </a:lnTo>
                  <a:lnTo>
                    <a:pt x="1016" y="1512"/>
                  </a:lnTo>
                  <a:lnTo>
                    <a:pt x="1005" y="1493"/>
                  </a:lnTo>
                  <a:lnTo>
                    <a:pt x="994" y="1474"/>
                  </a:lnTo>
                  <a:lnTo>
                    <a:pt x="983" y="1455"/>
                  </a:lnTo>
                  <a:lnTo>
                    <a:pt x="972" y="1436"/>
                  </a:lnTo>
                  <a:lnTo>
                    <a:pt x="961" y="1417"/>
                  </a:lnTo>
                  <a:lnTo>
                    <a:pt x="951" y="1398"/>
                  </a:lnTo>
                  <a:lnTo>
                    <a:pt x="940" y="1379"/>
                  </a:lnTo>
                  <a:lnTo>
                    <a:pt x="931" y="1361"/>
                  </a:lnTo>
                  <a:lnTo>
                    <a:pt x="922" y="1342"/>
                  </a:lnTo>
                  <a:lnTo>
                    <a:pt x="903" y="1304"/>
                  </a:lnTo>
                  <a:lnTo>
                    <a:pt x="887" y="1265"/>
                  </a:lnTo>
                  <a:lnTo>
                    <a:pt x="841" y="1267"/>
                  </a:lnTo>
                  <a:lnTo>
                    <a:pt x="784" y="1261"/>
                  </a:lnTo>
                  <a:lnTo>
                    <a:pt x="726" y="1254"/>
                  </a:lnTo>
                  <a:lnTo>
                    <a:pt x="673" y="1253"/>
                  </a:lnTo>
                  <a:lnTo>
                    <a:pt x="329" y="1291"/>
                  </a:lnTo>
                  <a:lnTo>
                    <a:pt x="255" y="1311"/>
                  </a:lnTo>
                  <a:lnTo>
                    <a:pt x="218" y="1324"/>
                  </a:lnTo>
                  <a:lnTo>
                    <a:pt x="181" y="1338"/>
                  </a:lnTo>
                  <a:lnTo>
                    <a:pt x="142" y="1356"/>
                  </a:lnTo>
                  <a:lnTo>
                    <a:pt x="103" y="1377"/>
                  </a:lnTo>
                  <a:lnTo>
                    <a:pt x="82" y="1389"/>
                  </a:lnTo>
                  <a:lnTo>
                    <a:pt x="61" y="1401"/>
                  </a:lnTo>
                  <a:lnTo>
                    <a:pt x="39" y="1414"/>
                  </a:lnTo>
                  <a:lnTo>
                    <a:pt x="17" y="1428"/>
                  </a:lnTo>
                  <a:lnTo>
                    <a:pt x="0" y="1405"/>
                  </a:lnTo>
                  <a:lnTo>
                    <a:pt x="23" y="1390"/>
                  </a:lnTo>
                  <a:lnTo>
                    <a:pt x="46" y="1375"/>
                  </a:lnTo>
                  <a:lnTo>
                    <a:pt x="70" y="1362"/>
                  </a:lnTo>
                  <a:lnTo>
                    <a:pt x="95" y="1348"/>
                  </a:lnTo>
                  <a:lnTo>
                    <a:pt x="119" y="1334"/>
                  </a:lnTo>
                  <a:lnTo>
                    <a:pt x="144" y="1322"/>
                  </a:lnTo>
                  <a:lnTo>
                    <a:pt x="170" y="1309"/>
                  </a:lnTo>
                  <a:lnTo>
                    <a:pt x="195" y="1296"/>
                  </a:lnTo>
                  <a:lnTo>
                    <a:pt x="220" y="1285"/>
                  </a:lnTo>
                  <a:lnTo>
                    <a:pt x="247" y="1273"/>
                  </a:lnTo>
                  <a:lnTo>
                    <a:pt x="273" y="1263"/>
                  </a:lnTo>
                  <a:lnTo>
                    <a:pt x="299" y="1252"/>
                  </a:lnTo>
                  <a:lnTo>
                    <a:pt x="326" y="1241"/>
                  </a:lnTo>
                  <a:lnTo>
                    <a:pt x="353" y="1232"/>
                  </a:lnTo>
                  <a:lnTo>
                    <a:pt x="407" y="1215"/>
                  </a:lnTo>
                  <a:lnTo>
                    <a:pt x="463" y="1200"/>
                  </a:lnTo>
                  <a:lnTo>
                    <a:pt x="518" y="1189"/>
                  </a:lnTo>
                  <a:lnTo>
                    <a:pt x="574" y="1179"/>
                  </a:lnTo>
                  <a:lnTo>
                    <a:pt x="631" y="1173"/>
                  </a:lnTo>
                  <a:lnTo>
                    <a:pt x="745" y="1169"/>
                  </a:lnTo>
                  <a:lnTo>
                    <a:pt x="859" y="1178"/>
                  </a:lnTo>
                  <a:lnTo>
                    <a:pt x="847" y="1110"/>
                  </a:lnTo>
                  <a:lnTo>
                    <a:pt x="843" y="1041"/>
                  </a:lnTo>
                  <a:lnTo>
                    <a:pt x="850" y="972"/>
                  </a:lnTo>
                  <a:lnTo>
                    <a:pt x="859" y="938"/>
                  </a:lnTo>
                  <a:lnTo>
                    <a:pt x="871" y="905"/>
                  </a:lnTo>
                  <a:lnTo>
                    <a:pt x="832" y="882"/>
                  </a:lnTo>
                  <a:lnTo>
                    <a:pt x="813" y="866"/>
                  </a:lnTo>
                  <a:lnTo>
                    <a:pt x="796" y="849"/>
                  </a:lnTo>
                  <a:lnTo>
                    <a:pt x="778" y="827"/>
                  </a:lnTo>
                  <a:lnTo>
                    <a:pt x="761" y="804"/>
                  </a:lnTo>
                  <a:lnTo>
                    <a:pt x="745" y="780"/>
                  </a:lnTo>
                  <a:lnTo>
                    <a:pt x="730" y="753"/>
                  </a:lnTo>
                  <a:lnTo>
                    <a:pt x="715" y="724"/>
                  </a:lnTo>
                  <a:lnTo>
                    <a:pt x="701" y="695"/>
                  </a:lnTo>
                  <a:lnTo>
                    <a:pt x="688" y="663"/>
                  </a:lnTo>
                  <a:lnTo>
                    <a:pt x="675" y="630"/>
                  </a:lnTo>
                  <a:lnTo>
                    <a:pt x="662" y="597"/>
                  </a:lnTo>
                  <a:lnTo>
                    <a:pt x="652" y="563"/>
                  </a:lnTo>
                  <a:lnTo>
                    <a:pt x="640" y="528"/>
                  </a:lnTo>
                  <a:lnTo>
                    <a:pt x="631" y="492"/>
                  </a:lnTo>
                  <a:lnTo>
                    <a:pt x="613" y="421"/>
                  </a:lnTo>
                  <a:lnTo>
                    <a:pt x="598" y="349"/>
                  </a:lnTo>
                  <a:lnTo>
                    <a:pt x="585" y="279"/>
                  </a:lnTo>
                  <a:lnTo>
                    <a:pt x="576" y="212"/>
                  </a:lnTo>
                  <a:lnTo>
                    <a:pt x="565" y="92"/>
                  </a:lnTo>
                  <a:lnTo>
                    <a:pt x="566" y="0"/>
                  </a:lnTo>
                  <a:lnTo>
                    <a:pt x="598" y="4"/>
                  </a:lnTo>
                  <a:lnTo>
                    <a:pt x="59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-16920" y="4937760"/>
            <a:ext cx="743400" cy="1238400"/>
            <a:chOff x="-16920" y="4937760"/>
            <a:chExt cx="743400" cy="1238400"/>
          </a:xfrm>
        </p:grpSpPr>
        <p:sp>
          <p:nvSpPr>
            <p:cNvPr id="248" name=""/>
            <p:cNvSpPr/>
            <p:nvPr/>
          </p:nvSpPr>
          <p:spPr>
            <a:xfrm rot="16378200">
              <a:off x="251280" y="5799240"/>
              <a:ext cx="468360" cy="252000"/>
            </a:xfrm>
            <a:custGeom>
              <a:avLst/>
              <a:gdLst/>
              <a:ahLst/>
              <a:rect l="l" t="t" r="r" b="b"/>
              <a:pathLst>
                <a:path w="1179" h="836">
                  <a:moveTo>
                    <a:pt x="1164" y="440"/>
                  </a:moveTo>
                  <a:lnTo>
                    <a:pt x="981" y="701"/>
                  </a:lnTo>
                  <a:lnTo>
                    <a:pt x="857" y="771"/>
                  </a:lnTo>
                  <a:lnTo>
                    <a:pt x="802" y="705"/>
                  </a:lnTo>
                  <a:lnTo>
                    <a:pt x="790" y="585"/>
                  </a:lnTo>
                  <a:lnTo>
                    <a:pt x="623" y="767"/>
                  </a:lnTo>
                  <a:lnTo>
                    <a:pt x="526" y="776"/>
                  </a:lnTo>
                  <a:lnTo>
                    <a:pt x="464" y="641"/>
                  </a:lnTo>
                  <a:lnTo>
                    <a:pt x="240" y="836"/>
                  </a:lnTo>
                  <a:lnTo>
                    <a:pt x="195" y="780"/>
                  </a:lnTo>
                  <a:lnTo>
                    <a:pt x="236" y="682"/>
                  </a:lnTo>
                  <a:lnTo>
                    <a:pt x="63" y="701"/>
                  </a:lnTo>
                  <a:lnTo>
                    <a:pt x="0" y="618"/>
                  </a:lnTo>
                  <a:lnTo>
                    <a:pt x="36" y="539"/>
                  </a:lnTo>
                  <a:lnTo>
                    <a:pt x="113" y="472"/>
                  </a:lnTo>
                  <a:lnTo>
                    <a:pt x="81" y="398"/>
                  </a:lnTo>
                  <a:lnTo>
                    <a:pt x="148" y="347"/>
                  </a:lnTo>
                  <a:lnTo>
                    <a:pt x="409" y="286"/>
                  </a:lnTo>
                  <a:lnTo>
                    <a:pt x="373" y="201"/>
                  </a:lnTo>
                  <a:lnTo>
                    <a:pt x="464" y="132"/>
                  </a:lnTo>
                  <a:lnTo>
                    <a:pt x="766" y="150"/>
                  </a:lnTo>
                  <a:lnTo>
                    <a:pt x="765" y="30"/>
                  </a:lnTo>
                  <a:lnTo>
                    <a:pt x="869" y="0"/>
                  </a:lnTo>
                  <a:lnTo>
                    <a:pt x="1113" y="140"/>
                  </a:lnTo>
                  <a:lnTo>
                    <a:pt x="1179" y="290"/>
                  </a:lnTo>
                  <a:lnTo>
                    <a:pt x="1164" y="440"/>
                  </a:lnTo>
                  <a:lnTo>
                    <a:pt x="1164" y="440"/>
                  </a:lnTo>
                  <a:lnTo>
                    <a:pt x="1164" y="440"/>
                  </a:lnTo>
                  <a:close/>
                </a:path>
              </a:pathLst>
            </a:custGeom>
            <a:solidFill>
              <a:srgbClr val="3dff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378200">
              <a:off x="430560" y="5972400"/>
              <a:ext cx="133560" cy="68040"/>
            </a:xfrm>
            <a:custGeom>
              <a:avLst/>
              <a:gdLst/>
              <a:ahLst/>
              <a:rect l="l" t="t" r="r" b="b"/>
              <a:pathLst>
                <a:path w="335" h="227">
                  <a:moveTo>
                    <a:pt x="234" y="59"/>
                  </a:moveTo>
                  <a:lnTo>
                    <a:pt x="167" y="72"/>
                  </a:lnTo>
                  <a:lnTo>
                    <a:pt x="99" y="86"/>
                  </a:lnTo>
                  <a:lnTo>
                    <a:pt x="60" y="97"/>
                  </a:lnTo>
                  <a:lnTo>
                    <a:pt x="20" y="108"/>
                  </a:lnTo>
                  <a:lnTo>
                    <a:pt x="0" y="101"/>
                  </a:lnTo>
                  <a:lnTo>
                    <a:pt x="0" y="91"/>
                  </a:lnTo>
                  <a:lnTo>
                    <a:pt x="9" y="83"/>
                  </a:lnTo>
                  <a:lnTo>
                    <a:pt x="28" y="74"/>
                  </a:lnTo>
                  <a:lnTo>
                    <a:pt x="63" y="64"/>
                  </a:lnTo>
                  <a:lnTo>
                    <a:pt x="106" y="51"/>
                  </a:lnTo>
                  <a:lnTo>
                    <a:pt x="154" y="38"/>
                  </a:lnTo>
                  <a:lnTo>
                    <a:pt x="203" y="26"/>
                  </a:lnTo>
                  <a:lnTo>
                    <a:pt x="246" y="14"/>
                  </a:lnTo>
                  <a:lnTo>
                    <a:pt x="304" y="0"/>
                  </a:lnTo>
                  <a:lnTo>
                    <a:pt x="334" y="4"/>
                  </a:lnTo>
                  <a:lnTo>
                    <a:pt x="335" y="25"/>
                  </a:lnTo>
                  <a:lnTo>
                    <a:pt x="327" y="39"/>
                  </a:lnTo>
                  <a:lnTo>
                    <a:pt x="316" y="57"/>
                  </a:lnTo>
                  <a:lnTo>
                    <a:pt x="299" y="76"/>
                  </a:lnTo>
                  <a:lnTo>
                    <a:pt x="281" y="97"/>
                  </a:lnTo>
                  <a:lnTo>
                    <a:pt x="260" y="118"/>
                  </a:lnTo>
                  <a:lnTo>
                    <a:pt x="250" y="129"/>
                  </a:lnTo>
                  <a:lnTo>
                    <a:pt x="240" y="140"/>
                  </a:lnTo>
                  <a:lnTo>
                    <a:pt x="228" y="149"/>
                  </a:lnTo>
                  <a:lnTo>
                    <a:pt x="219" y="158"/>
                  </a:lnTo>
                  <a:lnTo>
                    <a:pt x="198" y="177"/>
                  </a:lnTo>
                  <a:lnTo>
                    <a:pt x="181" y="192"/>
                  </a:lnTo>
                  <a:lnTo>
                    <a:pt x="166" y="206"/>
                  </a:lnTo>
                  <a:lnTo>
                    <a:pt x="148" y="220"/>
                  </a:lnTo>
                  <a:lnTo>
                    <a:pt x="118" y="227"/>
                  </a:lnTo>
                  <a:lnTo>
                    <a:pt x="96" y="215"/>
                  </a:lnTo>
                  <a:lnTo>
                    <a:pt x="93" y="188"/>
                  </a:lnTo>
                  <a:lnTo>
                    <a:pt x="105" y="168"/>
                  </a:lnTo>
                  <a:lnTo>
                    <a:pt x="124" y="146"/>
                  </a:lnTo>
                  <a:lnTo>
                    <a:pt x="138" y="134"/>
                  </a:lnTo>
                  <a:lnTo>
                    <a:pt x="151" y="124"/>
                  </a:lnTo>
                  <a:lnTo>
                    <a:pt x="165" y="113"/>
                  </a:lnTo>
                  <a:lnTo>
                    <a:pt x="180" y="103"/>
                  </a:lnTo>
                  <a:lnTo>
                    <a:pt x="193" y="92"/>
                  </a:lnTo>
                  <a:lnTo>
                    <a:pt x="207" y="82"/>
                  </a:lnTo>
                  <a:lnTo>
                    <a:pt x="221" y="71"/>
                  </a:lnTo>
                  <a:lnTo>
                    <a:pt x="234" y="59"/>
                  </a:lnTo>
                  <a:lnTo>
                    <a:pt x="234" y="59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378200">
              <a:off x="426960" y="5931720"/>
              <a:ext cx="14040" cy="1044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0" y="28"/>
                  </a:moveTo>
                  <a:lnTo>
                    <a:pt x="4" y="17"/>
                  </a:lnTo>
                  <a:lnTo>
                    <a:pt x="17" y="5"/>
                  </a:lnTo>
                  <a:lnTo>
                    <a:pt x="30" y="0"/>
                  </a:lnTo>
                  <a:lnTo>
                    <a:pt x="35" y="7"/>
                  </a:lnTo>
                  <a:lnTo>
                    <a:pt x="28" y="3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378200">
              <a:off x="420840" y="5852880"/>
              <a:ext cx="104760" cy="88560"/>
            </a:xfrm>
            <a:custGeom>
              <a:avLst/>
              <a:gdLst/>
              <a:ahLst/>
              <a:rect l="l" t="t" r="r" b="b"/>
              <a:pathLst>
                <a:path w="264" h="299">
                  <a:moveTo>
                    <a:pt x="198" y="102"/>
                  </a:moveTo>
                  <a:lnTo>
                    <a:pt x="157" y="91"/>
                  </a:lnTo>
                  <a:lnTo>
                    <a:pt x="103" y="74"/>
                  </a:lnTo>
                  <a:lnTo>
                    <a:pt x="51" y="56"/>
                  </a:lnTo>
                  <a:lnTo>
                    <a:pt x="15" y="4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2" y="0"/>
                  </a:lnTo>
                  <a:lnTo>
                    <a:pt x="35" y="3"/>
                  </a:lnTo>
                  <a:lnTo>
                    <a:pt x="87" y="19"/>
                  </a:lnTo>
                  <a:lnTo>
                    <a:pt x="138" y="31"/>
                  </a:lnTo>
                  <a:lnTo>
                    <a:pt x="241" y="54"/>
                  </a:lnTo>
                  <a:lnTo>
                    <a:pt x="261" y="65"/>
                  </a:lnTo>
                  <a:lnTo>
                    <a:pt x="264" y="86"/>
                  </a:lnTo>
                  <a:lnTo>
                    <a:pt x="254" y="135"/>
                  </a:lnTo>
                  <a:lnTo>
                    <a:pt x="238" y="185"/>
                  </a:lnTo>
                  <a:lnTo>
                    <a:pt x="229" y="210"/>
                  </a:lnTo>
                  <a:lnTo>
                    <a:pt x="218" y="235"/>
                  </a:lnTo>
                  <a:lnTo>
                    <a:pt x="207" y="258"/>
                  </a:lnTo>
                  <a:lnTo>
                    <a:pt x="195" y="280"/>
                  </a:lnTo>
                  <a:lnTo>
                    <a:pt x="185" y="292"/>
                  </a:lnTo>
                  <a:lnTo>
                    <a:pt x="173" y="299"/>
                  </a:lnTo>
                  <a:lnTo>
                    <a:pt x="148" y="298"/>
                  </a:lnTo>
                  <a:lnTo>
                    <a:pt x="129" y="281"/>
                  </a:lnTo>
                  <a:lnTo>
                    <a:pt x="126" y="268"/>
                  </a:lnTo>
                  <a:lnTo>
                    <a:pt x="128" y="253"/>
                  </a:lnTo>
                  <a:lnTo>
                    <a:pt x="148" y="200"/>
                  </a:lnTo>
                  <a:lnTo>
                    <a:pt x="159" y="174"/>
                  </a:lnTo>
                  <a:lnTo>
                    <a:pt x="173" y="151"/>
                  </a:lnTo>
                  <a:lnTo>
                    <a:pt x="187" y="127"/>
                  </a:lnTo>
                  <a:lnTo>
                    <a:pt x="198" y="102"/>
                  </a:lnTo>
                  <a:lnTo>
                    <a:pt x="198" y="102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378200">
              <a:off x="422280" y="5725800"/>
              <a:ext cx="87120" cy="95400"/>
            </a:xfrm>
            <a:custGeom>
              <a:avLst/>
              <a:gdLst/>
              <a:ahLst/>
              <a:rect l="l" t="t" r="r" b="b"/>
              <a:pathLst>
                <a:path w="222" h="316">
                  <a:moveTo>
                    <a:pt x="19" y="0"/>
                  </a:moveTo>
                  <a:lnTo>
                    <a:pt x="104" y="14"/>
                  </a:lnTo>
                  <a:lnTo>
                    <a:pt x="184" y="44"/>
                  </a:lnTo>
                  <a:lnTo>
                    <a:pt x="208" y="66"/>
                  </a:lnTo>
                  <a:lnTo>
                    <a:pt x="220" y="91"/>
                  </a:lnTo>
                  <a:lnTo>
                    <a:pt x="222" y="120"/>
                  </a:lnTo>
                  <a:lnTo>
                    <a:pt x="215" y="148"/>
                  </a:lnTo>
                  <a:lnTo>
                    <a:pt x="204" y="178"/>
                  </a:lnTo>
                  <a:lnTo>
                    <a:pt x="189" y="207"/>
                  </a:lnTo>
                  <a:lnTo>
                    <a:pt x="174" y="234"/>
                  </a:lnTo>
                  <a:lnTo>
                    <a:pt x="160" y="258"/>
                  </a:lnTo>
                  <a:lnTo>
                    <a:pt x="145" y="291"/>
                  </a:lnTo>
                  <a:lnTo>
                    <a:pt x="135" y="305"/>
                  </a:lnTo>
                  <a:lnTo>
                    <a:pt x="123" y="314"/>
                  </a:lnTo>
                  <a:lnTo>
                    <a:pt x="94" y="316"/>
                  </a:lnTo>
                  <a:lnTo>
                    <a:pt x="72" y="300"/>
                  </a:lnTo>
                  <a:lnTo>
                    <a:pt x="67" y="271"/>
                  </a:lnTo>
                  <a:lnTo>
                    <a:pt x="79" y="242"/>
                  </a:lnTo>
                  <a:lnTo>
                    <a:pt x="88" y="228"/>
                  </a:lnTo>
                  <a:lnTo>
                    <a:pt x="97" y="215"/>
                  </a:lnTo>
                  <a:lnTo>
                    <a:pt x="108" y="201"/>
                  </a:lnTo>
                  <a:lnTo>
                    <a:pt x="118" y="188"/>
                  </a:lnTo>
                  <a:lnTo>
                    <a:pt x="138" y="163"/>
                  </a:lnTo>
                  <a:lnTo>
                    <a:pt x="164" y="120"/>
                  </a:lnTo>
                  <a:lnTo>
                    <a:pt x="167" y="110"/>
                  </a:lnTo>
                  <a:lnTo>
                    <a:pt x="164" y="102"/>
                  </a:lnTo>
                  <a:lnTo>
                    <a:pt x="152" y="87"/>
                  </a:lnTo>
                  <a:lnTo>
                    <a:pt x="134" y="77"/>
                  </a:lnTo>
                  <a:lnTo>
                    <a:pt x="117" y="67"/>
                  </a:lnTo>
                  <a:lnTo>
                    <a:pt x="84" y="52"/>
                  </a:lnTo>
                  <a:lnTo>
                    <a:pt x="49" y="40"/>
                  </a:lnTo>
                  <a:lnTo>
                    <a:pt x="12" y="27"/>
                  </a:lnTo>
                  <a:lnTo>
                    <a:pt x="2" y="20"/>
                  </a:lnTo>
                  <a:lnTo>
                    <a:pt x="0" y="10"/>
                  </a:lnTo>
                  <a:lnTo>
                    <a:pt x="6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378200">
              <a:off x="6840" y="5541480"/>
              <a:ext cx="320760" cy="338760"/>
            </a:xfrm>
            <a:custGeom>
              <a:avLst/>
              <a:gdLst/>
              <a:ahLst/>
              <a:rect l="l" t="t" r="r" b="b"/>
              <a:pathLst>
                <a:path w="807" h="1119">
                  <a:moveTo>
                    <a:pt x="551" y="1087"/>
                  </a:moveTo>
                  <a:lnTo>
                    <a:pt x="664" y="985"/>
                  </a:lnTo>
                  <a:lnTo>
                    <a:pt x="807" y="727"/>
                  </a:lnTo>
                  <a:lnTo>
                    <a:pt x="776" y="620"/>
                  </a:lnTo>
                  <a:lnTo>
                    <a:pt x="680" y="610"/>
                  </a:lnTo>
                  <a:lnTo>
                    <a:pt x="628" y="624"/>
                  </a:lnTo>
                  <a:lnTo>
                    <a:pt x="668" y="438"/>
                  </a:lnTo>
                  <a:lnTo>
                    <a:pt x="638" y="339"/>
                  </a:lnTo>
                  <a:lnTo>
                    <a:pt x="464" y="392"/>
                  </a:lnTo>
                  <a:lnTo>
                    <a:pt x="552" y="199"/>
                  </a:lnTo>
                  <a:lnTo>
                    <a:pt x="551" y="75"/>
                  </a:lnTo>
                  <a:lnTo>
                    <a:pt x="404" y="148"/>
                  </a:lnTo>
                  <a:lnTo>
                    <a:pt x="327" y="4"/>
                  </a:lnTo>
                  <a:lnTo>
                    <a:pt x="240" y="0"/>
                  </a:lnTo>
                  <a:lnTo>
                    <a:pt x="169" y="102"/>
                  </a:lnTo>
                  <a:lnTo>
                    <a:pt x="169" y="158"/>
                  </a:lnTo>
                  <a:lnTo>
                    <a:pt x="91" y="173"/>
                  </a:lnTo>
                  <a:lnTo>
                    <a:pt x="61" y="223"/>
                  </a:lnTo>
                  <a:lnTo>
                    <a:pt x="113" y="404"/>
                  </a:lnTo>
                  <a:lnTo>
                    <a:pt x="128" y="517"/>
                  </a:lnTo>
                  <a:lnTo>
                    <a:pt x="30" y="509"/>
                  </a:lnTo>
                  <a:lnTo>
                    <a:pt x="0" y="574"/>
                  </a:lnTo>
                  <a:lnTo>
                    <a:pt x="51" y="686"/>
                  </a:lnTo>
                  <a:lnTo>
                    <a:pt x="169" y="848"/>
                  </a:lnTo>
                  <a:lnTo>
                    <a:pt x="57" y="913"/>
                  </a:lnTo>
                  <a:lnTo>
                    <a:pt x="93" y="993"/>
                  </a:lnTo>
                  <a:lnTo>
                    <a:pt x="352" y="1119"/>
                  </a:lnTo>
                  <a:lnTo>
                    <a:pt x="551" y="1087"/>
                  </a:lnTo>
                  <a:lnTo>
                    <a:pt x="551" y="1087"/>
                  </a:lnTo>
                  <a:lnTo>
                    <a:pt x="551" y="1087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378200">
              <a:off x="46440" y="5718960"/>
              <a:ext cx="114120" cy="76320"/>
            </a:xfrm>
            <a:custGeom>
              <a:avLst/>
              <a:gdLst/>
              <a:ahLst/>
              <a:rect l="l" t="t" r="r" b="b"/>
              <a:pathLst>
                <a:path w="292" h="254">
                  <a:moveTo>
                    <a:pt x="134" y="199"/>
                  </a:moveTo>
                  <a:lnTo>
                    <a:pt x="141" y="196"/>
                  </a:lnTo>
                  <a:lnTo>
                    <a:pt x="154" y="175"/>
                  </a:lnTo>
                  <a:lnTo>
                    <a:pt x="169" y="151"/>
                  </a:lnTo>
                  <a:lnTo>
                    <a:pt x="185" y="126"/>
                  </a:lnTo>
                  <a:lnTo>
                    <a:pt x="201" y="100"/>
                  </a:lnTo>
                  <a:lnTo>
                    <a:pt x="218" y="74"/>
                  </a:lnTo>
                  <a:lnTo>
                    <a:pt x="235" y="49"/>
                  </a:lnTo>
                  <a:lnTo>
                    <a:pt x="250" y="27"/>
                  </a:lnTo>
                  <a:lnTo>
                    <a:pt x="265" y="8"/>
                  </a:lnTo>
                  <a:lnTo>
                    <a:pt x="276" y="0"/>
                  </a:lnTo>
                  <a:lnTo>
                    <a:pt x="286" y="2"/>
                  </a:lnTo>
                  <a:lnTo>
                    <a:pt x="292" y="20"/>
                  </a:lnTo>
                  <a:lnTo>
                    <a:pt x="285" y="39"/>
                  </a:lnTo>
                  <a:lnTo>
                    <a:pt x="274" y="66"/>
                  </a:lnTo>
                  <a:lnTo>
                    <a:pt x="260" y="97"/>
                  </a:lnTo>
                  <a:lnTo>
                    <a:pt x="246" y="131"/>
                  </a:lnTo>
                  <a:lnTo>
                    <a:pt x="231" y="165"/>
                  </a:lnTo>
                  <a:lnTo>
                    <a:pt x="217" y="195"/>
                  </a:lnTo>
                  <a:lnTo>
                    <a:pt x="205" y="219"/>
                  </a:lnTo>
                  <a:lnTo>
                    <a:pt x="197" y="233"/>
                  </a:lnTo>
                  <a:lnTo>
                    <a:pt x="189" y="242"/>
                  </a:lnTo>
                  <a:lnTo>
                    <a:pt x="179" y="248"/>
                  </a:lnTo>
                  <a:lnTo>
                    <a:pt x="142" y="254"/>
                  </a:lnTo>
                  <a:lnTo>
                    <a:pt x="106" y="247"/>
                  </a:lnTo>
                  <a:lnTo>
                    <a:pt x="79" y="213"/>
                  </a:lnTo>
                  <a:lnTo>
                    <a:pt x="62" y="183"/>
                  </a:lnTo>
                  <a:lnTo>
                    <a:pt x="45" y="147"/>
                  </a:lnTo>
                  <a:lnTo>
                    <a:pt x="29" y="111"/>
                  </a:lnTo>
                  <a:lnTo>
                    <a:pt x="15" y="76"/>
                  </a:lnTo>
                  <a:lnTo>
                    <a:pt x="0" y="30"/>
                  </a:lnTo>
                  <a:lnTo>
                    <a:pt x="1" y="18"/>
                  </a:lnTo>
                  <a:lnTo>
                    <a:pt x="11" y="12"/>
                  </a:lnTo>
                  <a:lnTo>
                    <a:pt x="29" y="23"/>
                  </a:lnTo>
                  <a:lnTo>
                    <a:pt x="44" y="54"/>
                  </a:lnTo>
                  <a:lnTo>
                    <a:pt x="51" y="71"/>
                  </a:lnTo>
                  <a:lnTo>
                    <a:pt x="59" y="87"/>
                  </a:lnTo>
                  <a:lnTo>
                    <a:pt x="68" y="102"/>
                  </a:lnTo>
                  <a:lnTo>
                    <a:pt x="77" y="115"/>
                  </a:lnTo>
                  <a:lnTo>
                    <a:pt x="87" y="129"/>
                  </a:lnTo>
                  <a:lnTo>
                    <a:pt x="96" y="143"/>
                  </a:lnTo>
                  <a:lnTo>
                    <a:pt x="115" y="170"/>
                  </a:lnTo>
                  <a:lnTo>
                    <a:pt x="134" y="199"/>
                  </a:lnTo>
                  <a:lnTo>
                    <a:pt x="134" y="199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378200">
              <a:off x="110880" y="5702400"/>
              <a:ext cx="131760" cy="76320"/>
            </a:xfrm>
            <a:custGeom>
              <a:avLst/>
              <a:gdLst/>
              <a:ahLst/>
              <a:rect l="l" t="t" r="r" b="b"/>
              <a:pathLst>
                <a:path w="331" h="253">
                  <a:moveTo>
                    <a:pt x="189" y="195"/>
                  </a:moveTo>
                  <a:lnTo>
                    <a:pt x="196" y="169"/>
                  </a:lnTo>
                  <a:lnTo>
                    <a:pt x="204" y="144"/>
                  </a:lnTo>
                  <a:lnTo>
                    <a:pt x="216" y="119"/>
                  </a:lnTo>
                  <a:lnTo>
                    <a:pt x="227" y="94"/>
                  </a:lnTo>
                  <a:lnTo>
                    <a:pt x="242" y="71"/>
                  </a:lnTo>
                  <a:lnTo>
                    <a:pt x="258" y="48"/>
                  </a:lnTo>
                  <a:lnTo>
                    <a:pt x="276" y="27"/>
                  </a:lnTo>
                  <a:lnTo>
                    <a:pt x="294" y="7"/>
                  </a:lnTo>
                  <a:lnTo>
                    <a:pt x="309" y="0"/>
                  </a:lnTo>
                  <a:lnTo>
                    <a:pt x="323" y="4"/>
                  </a:lnTo>
                  <a:lnTo>
                    <a:pt x="331" y="14"/>
                  </a:lnTo>
                  <a:lnTo>
                    <a:pt x="326" y="30"/>
                  </a:lnTo>
                  <a:lnTo>
                    <a:pt x="307" y="60"/>
                  </a:lnTo>
                  <a:lnTo>
                    <a:pt x="292" y="84"/>
                  </a:lnTo>
                  <a:lnTo>
                    <a:pt x="275" y="126"/>
                  </a:lnTo>
                  <a:lnTo>
                    <a:pt x="253" y="227"/>
                  </a:lnTo>
                  <a:lnTo>
                    <a:pt x="243" y="246"/>
                  </a:lnTo>
                  <a:lnTo>
                    <a:pt x="223" y="253"/>
                  </a:lnTo>
                  <a:lnTo>
                    <a:pt x="204" y="251"/>
                  </a:lnTo>
                  <a:lnTo>
                    <a:pt x="187" y="241"/>
                  </a:lnTo>
                  <a:lnTo>
                    <a:pt x="172" y="228"/>
                  </a:lnTo>
                  <a:lnTo>
                    <a:pt x="156" y="217"/>
                  </a:lnTo>
                  <a:lnTo>
                    <a:pt x="119" y="203"/>
                  </a:lnTo>
                  <a:lnTo>
                    <a:pt x="81" y="192"/>
                  </a:lnTo>
                  <a:lnTo>
                    <a:pt x="9" y="165"/>
                  </a:lnTo>
                  <a:lnTo>
                    <a:pt x="0" y="156"/>
                  </a:lnTo>
                  <a:lnTo>
                    <a:pt x="1" y="146"/>
                  </a:lnTo>
                  <a:lnTo>
                    <a:pt x="9" y="140"/>
                  </a:lnTo>
                  <a:lnTo>
                    <a:pt x="22" y="140"/>
                  </a:lnTo>
                  <a:lnTo>
                    <a:pt x="56" y="151"/>
                  </a:lnTo>
                  <a:lnTo>
                    <a:pt x="82" y="161"/>
                  </a:lnTo>
                  <a:lnTo>
                    <a:pt x="110" y="170"/>
                  </a:lnTo>
                  <a:lnTo>
                    <a:pt x="160" y="188"/>
                  </a:lnTo>
                  <a:lnTo>
                    <a:pt x="189" y="195"/>
                  </a:lnTo>
                  <a:lnTo>
                    <a:pt x="189" y="195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378200">
              <a:off x="187920" y="5649120"/>
              <a:ext cx="142920" cy="76320"/>
            </a:xfrm>
            <a:custGeom>
              <a:avLst/>
              <a:gdLst/>
              <a:ahLst/>
              <a:rect l="l" t="t" r="r" b="b"/>
              <a:pathLst>
                <a:path w="361" h="253">
                  <a:moveTo>
                    <a:pt x="134" y="185"/>
                  </a:moveTo>
                  <a:lnTo>
                    <a:pt x="151" y="164"/>
                  </a:lnTo>
                  <a:lnTo>
                    <a:pt x="168" y="142"/>
                  </a:lnTo>
                  <a:lnTo>
                    <a:pt x="186" y="122"/>
                  </a:lnTo>
                  <a:lnTo>
                    <a:pt x="204" y="102"/>
                  </a:lnTo>
                  <a:lnTo>
                    <a:pt x="218" y="88"/>
                  </a:lnTo>
                  <a:lnTo>
                    <a:pt x="234" y="74"/>
                  </a:lnTo>
                  <a:lnTo>
                    <a:pt x="250" y="60"/>
                  </a:lnTo>
                  <a:lnTo>
                    <a:pt x="269" y="48"/>
                  </a:lnTo>
                  <a:lnTo>
                    <a:pt x="286" y="35"/>
                  </a:lnTo>
                  <a:lnTo>
                    <a:pt x="304" y="23"/>
                  </a:lnTo>
                  <a:lnTo>
                    <a:pt x="322" y="12"/>
                  </a:lnTo>
                  <a:lnTo>
                    <a:pt x="339" y="0"/>
                  </a:lnTo>
                  <a:lnTo>
                    <a:pt x="361" y="1"/>
                  </a:lnTo>
                  <a:lnTo>
                    <a:pt x="360" y="21"/>
                  </a:lnTo>
                  <a:lnTo>
                    <a:pt x="335" y="48"/>
                  </a:lnTo>
                  <a:lnTo>
                    <a:pt x="312" y="74"/>
                  </a:lnTo>
                  <a:lnTo>
                    <a:pt x="290" y="101"/>
                  </a:lnTo>
                  <a:lnTo>
                    <a:pt x="269" y="129"/>
                  </a:lnTo>
                  <a:lnTo>
                    <a:pt x="258" y="142"/>
                  </a:lnTo>
                  <a:lnTo>
                    <a:pt x="247" y="156"/>
                  </a:lnTo>
                  <a:lnTo>
                    <a:pt x="236" y="171"/>
                  </a:lnTo>
                  <a:lnTo>
                    <a:pt x="225" y="185"/>
                  </a:lnTo>
                  <a:lnTo>
                    <a:pt x="214" y="198"/>
                  </a:lnTo>
                  <a:lnTo>
                    <a:pt x="203" y="212"/>
                  </a:lnTo>
                  <a:lnTo>
                    <a:pt x="181" y="239"/>
                  </a:lnTo>
                  <a:lnTo>
                    <a:pt x="166" y="250"/>
                  </a:lnTo>
                  <a:lnTo>
                    <a:pt x="146" y="253"/>
                  </a:lnTo>
                  <a:lnTo>
                    <a:pt x="76" y="230"/>
                  </a:lnTo>
                  <a:lnTo>
                    <a:pt x="41" y="212"/>
                  </a:lnTo>
                  <a:lnTo>
                    <a:pt x="9" y="195"/>
                  </a:lnTo>
                  <a:lnTo>
                    <a:pt x="0" y="187"/>
                  </a:lnTo>
                  <a:lnTo>
                    <a:pt x="0" y="177"/>
                  </a:lnTo>
                  <a:lnTo>
                    <a:pt x="7" y="170"/>
                  </a:lnTo>
                  <a:lnTo>
                    <a:pt x="19" y="169"/>
                  </a:lnTo>
                  <a:lnTo>
                    <a:pt x="76" y="179"/>
                  </a:lnTo>
                  <a:lnTo>
                    <a:pt x="134" y="185"/>
                  </a:lnTo>
                  <a:lnTo>
                    <a:pt x="134" y="185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6378200">
              <a:off x="82440" y="4976640"/>
              <a:ext cx="581040" cy="558720"/>
            </a:xfrm>
            <a:custGeom>
              <a:avLst/>
              <a:gdLst/>
              <a:ahLst/>
              <a:rect l="l" t="t" r="r" b="b"/>
              <a:pathLst>
                <a:path w="1464" h="1845">
                  <a:moveTo>
                    <a:pt x="235" y="1416"/>
                  </a:moveTo>
                  <a:lnTo>
                    <a:pt x="169" y="1288"/>
                  </a:lnTo>
                  <a:lnTo>
                    <a:pt x="15" y="1168"/>
                  </a:lnTo>
                  <a:lnTo>
                    <a:pt x="0" y="1000"/>
                  </a:lnTo>
                  <a:lnTo>
                    <a:pt x="45" y="930"/>
                  </a:lnTo>
                  <a:lnTo>
                    <a:pt x="123" y="911"/>
                  </a:lnTo>
                  <a:lnTo>
                    <a:pt x="317" y="999"/>
                  </a:lnTo>
                  <a:lnTo>
                    <a:pt x="352" y="939"/>
                  </a:lnTo>
                  <a:lnTo>
                    <a:pt x="333" y="518"/>
                  </a:lnTo>
                  <a:lnTo>
                    <a:pt x="418" y="445"/>
                  </a:lnTo>
                  <a:lnTo>
                    <a:pt x="501" y="499"/>
                  </a:lnTo>
                  <a:lnTo>
                    <a:pt x="598" y="616"/>
                  </a:lnTo>
                  <a:lnTo>
                    <a:pt x="644" y="574"/>
                  </a:lnTo>
                  <a:lnTo>
                    <a:pt x="679" y="323"/>
                  </a:lnTo>
                  <a:lnTo>
                    <a:pt x="776" y="202"/>
                  </a:lnTo>
                  <a:lnTo>
                    <a:pt x="919" y="258"/>
                  </a:lnTo>
                  <a:lnTo>
                    <a:pt x="1103" y="0"/>
                  </a:lnTo>
                  <a:lnTo>
                    <a:pt x="1206" y="1"/>
                  </a:lnTo>
                  <a:lnTo>
                    <a:pt x="1251" y="84"/>
                  </a:lnTo>
                  <a:lnTo>
                    <a:pt x="1153" y="258"/>
                  </a:lnTo>
                  <a:lnTo>
                    <a:pt x="1332" y="258"/>
                  </a:lnTo>
                  <a:lnTo>
                    <a:pt x="1464" y="291"/>
                  </a:lnTo>
                  <a:lnTo>
                    <a:pt x="1449" y="402"/>
                  </a:lnTo>
                  <a:lnTo>
                    <a:pt x="1189" y="533"/>
                  </a:lnTo>
                  <a:lnTo>
                    <a:pt x="1399" y="612"/>
                  </a:lnTo>
                  <a:lnTo>
                    <a:pt x="1439" y="744"/>
                  </a:lnTo>
                  <a:lnTo>
                    <a:pt x="1321" y="850"/>
                  </a:lnTo>
                  <a:lnTo>
                    <a:pt x="1153" y="930"/>
                  </a:lnTo>
                  <a:lnTo>
                    <a:pt x="1312" y="1022"/>
                  </a:lnTo>
                  <a:lnTo>
                    <a:pt x="1291" y="1172"/>
                  </a:lnTo>
                  <a:lnTo>
                    <a:pt x="1206" y="1341"/>
                  </a:lnTo>
                  <a:lnTo>
                    <a:pt x="1026" y="1419"/>
                  </a:lnTo>
                  <a:lnTo>
                    <a:pt x="781" y="1452"/>
                  </a:lnTo>
                  <a:lnTo>
                    <a:pt x="567" y="1620"/>
                  </a:lnTo>
                  <a:lnTo>
                    <a:pt x="379" y="1559"/>
                  </a:lnTo>
                  <a:lnTo>
                    <a:pt x="266" y="1661"/>
                  </a:lnTo>
                  <a:lnTo>
                    <a:pt x="138" y="1845"/>
                  </a:lnTo>
                  <a:lnTo>
                    <a:pt x="67" y="1732"/>
                  </a:lnTo>
                  <a:lnTo>
                    <a:pt x="235" y="1416"/>
                  </a:lnTo>
                  <a:lnTo>
                    <a:pt x="235" y="1416"/>
                  </a:lnTo>
                  <a:lnTo>
                    <a:pt x="235" y="1416"/>
                  </a:lnTo>
                  <a:close/>
                </a:path>
              </a:pathLst>
            </a:custGeom>
            <a:solidFill>
              <a:srgbClr val="ff96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6378200">
              <a:off x="137880" y="5083920"/>
              <a:ext cx="214200" cy="90720"/>
            </a:xfrm>
            <a:custGeom>
              <a:avLst/>
              <a:gdLst/>
              <a:ahLst/>
              <a:rect l="l" t="t" r="r" b="b"/>
              <a:pathLst>
                <a:path w="540" h="301">
                  <a:moveTo>
                    <a:pt x="127" y="191"/>
                  </a:moveTo>
                  <a:lnTo>
                    <a:pt x="143" y="181"/>
                  </a:lnTo>
                  <a:lnTo>
                    <a:pt x="163" y="170"/>
                  </a:lnTo>
                  <a:lnTo>
                    <a:pt x="185" y="160"/>
                  </a:lnTo>
                  <a:lnTo>
                    <a:pt x="209" y="150"/>
                  </a:lnTo>
                  <a:lnTo>
                    <a:pt x="234" y="140"/>
                  </a:lnTo>
                  <a:lnTo>
                    <a:pt x="261" y="130"/>
                  </a:lnTo>
                  <a:lnTo>
                    <a:pt x="289" y="120"/>
                  </a:lnTo>
                  <a:lnTo>
                    <a:pt x="316" y="111"/>
                  </a:lnTo>
                  <a:lnTo>
                    <a:pt x="373" y="95"/>
                  </a:lnTo>
                  <a:lnTo>
                    <a:pt x="428" y="81"/>
                  </a:lnTo>
                  <a:lnTo>
                    <a:pt x="478" y="71"/>
                  </a:lnTo>
                  <a:lnTo>
                    <a:pt x="521" y="66"/>
                  </a:lnTo>
                  <a:lnTo>
                    <a:pt x="540" y="77"/>
                  </a:lnTo>
                  <a:lnTo>
                    <a:pt x="539" y="86"/>
                  </a:lnTo>
                  <a:lnTo>
                    <a:pt x="529" y="93"/>
                  </a:lnTo>
                  <a:lnTo>
                    <a:pt x="481" y="109"/>
                  </a:lnTo>
                  <a:lnTo>
                    <a:pt x="433" y="125"/>
                  </a:lnTo>
                  <a:lnTo>
                    <a:pt x="406" y="137"/>
                  </a:lnTo>
                  <a:lnTo>
                    <a:pt x="380" y="148"/>
                  </a:lnTo>
                  <a:lnTo>
                    <a:pt x="353" y="161"/>
                  </a:lnTo>
                  <a:lnTo>
                    <a:pt x="328" y="174"/>
                  </a:lnTo>
                  <a:lnTo>
                    <a:pt x="301" y="187"/>
                  </a:lnTo>
                  <a:lnTo>
                    <a:pt x="276" y="201"/>
                  </a:lnTo>
                  <a:lnTo>
                    <a:pt x="251" y="214"/>
                  </a:lnTo>
                  <a:lnTo>
                    <a:pt x="225" y="227"/>
                  </a:lnTo>
                  <a:lnTo>
                    <a:pt x="200" y="241"/>
                  </a:lnTo>
                  <a:lnTo>
                    <a:pt x="176" y="257"/>
                  </a:lnTo>
                  <a:lnTo>
                    <a:pt x="151" y="274"/>
                  </a:lnTo>
                  <a:lnTo>
                    <a:pt x="128" y="289"/>
                  </a:lnTo>
                  <a:lnTo>
                    <a:pt x="101" y="301"/>
                  </a:lnTo>
                  <a:lnTo>
                    <a:pt x="79" y="299"/>
                  </a:lnTo>
                  <a:lnTo>
                    <a:pt x="64" y="284"/>
                  </a:lnTo>
                  <a:lnTo>
                    <a:pt x="58" y="257"/>
                  </a:lnTo>
                  <a:lnTo>
                    <a:pt x="54" y="227"/>
                  </a:lnTo>
                  <a:lnTo>
                    <a:pt x="46" y="196"/>
                  </a:lnTo>
                  <a:lnTo>
                    <a:pt x="35" y="163"/>
                  </a:lnTo>
                  <a:lnTo>
                    <a:pt x="22" y="129"/>
                  </a:lnTo>
                  <a:lnTo>
                    <a:pt x="3" y="66"/>
                  </a:lnTo>
                  <a:lnTo>
                    <a:pt x="0" y="12"/>
                  </a:lnTo>
                  <a:lnTo>
                    <a:pt x="7" y="3"/>
                  </a:lnTo>
                  <a:lnTo>
                    <a:pt x="16" y="0"/>
                  </a:lnTo>
                  <a:lnTo>
                    <a:pt x="31" y="16"/>
                  </a:lnTo>
                  <a:lnTo>
                    <a:pt x="38" y="49"/>
                  </a:lnTo>
                  <a:lnTo>
                    <a:pt x="46" y="75"/>
                  </a:lnTo>
                  <a:lnTo>
                    <a:pt x="56" y="95"/>
                  </a:lnTo>
                  <a:lnTo>
                    <a:pt x="67" y="111"/>
                  </a:lnTo>
                  <a:lnTo>
                    <a:pt x="80" y="127"/>
                  </a:lnTo>
                  <a:lnTo>
                    <a:pt x="94" y="144"/>
                  </a:lnTo>
                  <a:lnTo>
                    <a:pt x="110" y="165"/>
                  </a:lnTo>
                  <a:lnTo>
                    <a:pt x="127" y="191"/>
                  </a:lnTo>
                  <a:lnTo>
                    <a:pt x="127" y="191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6378200">
              <a:off x="196200" y="5161320"/>
              <a:ext cx="304560" cy="120240"/>
            </a:xfrm>
            <a:custGeom>
              <a:avLst/>
              <a:gdLst/>
              <a:ahLst/>
              <a:rect l="l" t="t" r="r" b="b"/>
              <a:pathLst>
                <a:path w="769" h="399">
                  <a:moveTo>
                    <a:pt x="210" y="308"/>
                  </a:moveTo>
                  <a:lnTo>
                    <a:pt x="241" y="287"/>
                  </a:lnTo>
                  <a:lnTo>
                    <a:pt x="270" y="268"/>
                  </a:lnTo>
                  <a:lnTo>
                    <a:pt x="296" y="249"/>
                  </a:lnTo>
                  <a:lnTo>
                    <a:pt x="324" y="231"/>
                  </a:lnTo>
                  <a:lnTo>
                    <a:pt x="352" y="213"/>
                  </a:lnTo>
                  <a:lnTo>
                    <a:pt x="381" y="196"/>
                  </a:lnTo>
                  <a:lnTo>
                    <a:pt x="412" y="179"/>
                  </a:lnTo>
                  <a:lnTo>
                    <a:pt x="445" y="162"/>
                  </a:lnTo>
                  <a:lnTo>
                    <a:pt x="475" y="154"/>
                  </a:lnTo>
                  <a:lnTo>
                    <a:pt x="523" y="146"/>
                  </a:lnTo>
                  <a:lnTo>
                    <a:pt x="641" y="132"/>
                  </a:lnTo>
                  <a:lnTo>
                    <a:pt x="743" y="127"/>
                  </a:lnTo>
                  <a:lnTo>
                    <a:pt x="769" y="130"/>
                  </a:lnTo>
                  <a:lnTo>
                    <a:pt x="768" y="137"/>
                  </a:lnTo>
                  <a:lnTo>
                    <a:pt x="395" y="273"/>
                  </a:lnTo>
                  <a:lnTo>
                    <a:pt x="371" y="288"/>
                  </a:lnTo>
                  <a:lnTo>
                    <a:pt x="348" y="303"/>
                  </a:lnTo>
                  <a:lnTo>
                    <a:pt x="325" y="319"/>
                  </a:lnTo>
                  <a:lnTo>
                    <a:pt x="303" y="336"/>
                  </a:lnTo>
                  <a:lnTo>
                    <a:pt x="281" y="353"/>
                  </a:lnTo>
                  <a:lnTo>
                    <a:pt x="260" y="370"/>
                  </a:lnTo>
                  <a:lnTo>
                    <a:pt x="236" y="386"/>
                  </a:lnTo>
                  <a:lnTo>
                    <a:pt x="212" y="399"/>
                  </a:lnTo>
                  <a:lnTo>
                    <a:pt x="180" y="396"/>
                  </a:lnTo>
                  <a:lnTo>
                    <a:pt x="162" y="384"/>
                  </a:lnTo>
                  <a:lnTo>
                    <a:pt x="142" y="364"/>
                  </a:lnTo>
                  <a:lnTo>
                    <a:pt x="122" y="339"/>
                  </a:lnTo>
                  <a:lnTo>
                    <a:pt x="103" y="310"/>
                  </a:lnTo>
                  <a:lnTo>
                    <a:pt x="84" y="277"/>
                  </a:lnTo>
                  <a:lnTo>
                    <a:pt x="66" y="242"/>
                  </a:lnTo>
                  <a:lnTo>
                    <a:pt x="48" y="207"/>
                  </a:lnTo>
                  <a:lnTo>
                    <a:pt x="33" y="170"/>
                  </a:lnTo>
                  <a:lnTo>
                    <a:pt x="21" y="134"/>
                  </a:lnTo>
                  <a:lnTo>
                    <a:pt x="10" y="99"/>
                  </a:lnTo>
                  <a:lnTo>
                    <a:pt x="0" y="40"/>
                  </a:lnTo>
                  <a:lnTo>
                    <a:pt x="6" y="0"/>
                  </a:lnTo>
                  <a:lnTo>
                    <a:pt x="15" y="9"/>
                  </a:lnTo>
                  <a:lnTo>
                    <a:pt x="27" y="45"/>
                  </a:lnTo>
                  <a:lnTo>
                    <a:pt x="38" y="89"/>
                  </a:lnTo>
                  <a:lnTo>
                    <a:pt x="46" y="117"/>
                  </a:lnTo>
                  <a:lnTo>
                    <a:pt x="55" y="134"/>
                  </a:lnTo>
                  <a:lnTo>
                    <a:pt x="63" y="151"/>
                  </a:lnTo>
                  <a:lnTo>
                    <a:pt x="73" y="165"/>
                  </a:lnTo>
                  <a:lnTo>
                    <a:pt x="82" y="178"/>
                  </a:lnTo>
                  <a:lnTo>
                    <a:pt x="99" y="201"/>
                  </a:lnTo>
                  <a:lnTo>
                    <a:pt x="119" y="221"/>
                  </a:lnTo>
                  <a:lnTo>
                    <a:pt x="128" y="231"/>
                  </a:lnTo>
                  <a:lnTo>
                    <a:pt x="138" y="241"/>
                  </a:lnTo>
                  <a:lnTo>
                    <a:pt x="160" y="260"/>
                  </a:lnTo>
                  <a:lnTo>
                    <a:pt x="172" y="271"/>
                  </a:lnTo>
                  <a:lnTo>
                    <a:pt x="185" y="283"/>
                  </a:lnTo>
                  <a:lnTo>
                    <a:pt x="197" y="294"/>
                  </a:lnTo>
                  <a:lnTo>
                    <a:pt x="210" y="308"/>
                  </a:lnTo>
                  <a:lnTo>
                    <a:pt x="210" y="308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6378200">
              <a:off x="254880" y="5250600"/>
              <a:ext cx="379440" cy="74160"/>
            </a:xfrm>
            <a:custGeom>
              <a:avLst/>
              <a:gdLst/>
              <a:ahLst/>
              <a:rect l="l" t="t" r="r" b="b"/>
              <a:pathLst>
                <a:path w="956" h="248">
                  <a:moveTo>
                    <a:pt x="57" y="0"/>
                  </a:moveTo>
                  <a:lnTo>
                    <a:pt x="96" y="17"/>
                  </a:lnTo>
                  <a:lnTo>
                    <a:pt x="134" y="39"/>
                  </a:lnTo>
                  <a:lnTo>
                    <a:pt x="152" y="51"/>
                  </a:lnTo>
                  <a:lnTo>
                    <a:pt x="171" y="63"/>
                  </a:lnTo>
                  <a:lnTo>
                    <a:pt x="188" y="76"/>
                  </a:lnTo>
                  <a:lnTo>
                    <a:pt x="207" y="89"/>
                  </a:lnTo>
                  <a:lnTo>
                    <a:pt x="225" y="102"/>
                  </a:lnTo>
                  <a:lnTo>
                    <a:pt x="244" y="113"/>
                  </a:lnTo>
                  <a:lnTo>
                    <a:pt x="262" y="125"/>
                  </a:lnTo>
                  <a:lnTo>
                    <a:pt x="280" y="137"/>
                  </a:lnTo>
                  <a:lnTo>
                    <a:pt x="300" y="146"/>
                  </a:lnTo>
                  <a:lnTo>
                    <a:pt x="321" y="155"/>
                  </a:lnTo>
                  <a:lnTo>
                    <a:pt x="364" y="166"/>
                  </a:lnTo>
                  <a:lnTo>
                    <a:pt x="387" y="164"/>
                  </a:lnTo>
                  <a:lnTo>
                    <a:pt x="407" y="151"/>
                  </a:lnTo>
                  <a:lnTo>
                    <a:pt x="426" y="136"/>
                  </a:lnTo>
                  <a:lnTo>
                    <a:pt x="445" y="123"/>
                  </a:lnTo>
                  <a:lnTo>
                    <a:pt x="492" y="109"/>
                  </a:lnTo>
                  <a:lnTo>
                    <a:pt x="553" y="98"/>
                  </a:lnTo>
                  <a:lnTo>
                    <a:pt x="621" y="88"/>
                  </a:lnTo>
                  <a:lnTo>
                    <a:pt x="695" y="82"/>
                  </a:lnTo>
                  <a:lnTo>
                    <a:pt x="838" y="81"/>
                  </a:lnTo>
                  <a:lnTo>
                    <a:pt x="944" y="100"/>
                  </a:lnTo>
                  <a:lnTo>
                    <a:pt x="956" y="116"/>
                  </a:lnTo>
                  <a:lnTo>
                    <a:pt x="952" y="123"/>
                  </a:lnTo>
                  <a:lnTo>
                    <a:pt x="939" y="127"/>
                  </a:lnTo>
                  <a:lnTo>
                    <a:pt x="831" y="120"/>
                  </a:lnTo>
                  <a:lnTo>
                    <a:pt x="742" y="129"/>
                  </a:lnTo>
                  <a:lnTo>
                    <a:pt x="651" y="149"/>
                  </a:lnTo>
                  <a:lnTo>
                    <a:pt x="606" y="163"/>
                  </a:lnTo>
                  <a:lnTo>
                    <a:pt x="562" y="177"/>
                  </a:lnTo>
                  <a:lnTo>
                    <a:pt x="518" y="191"/>
                  </a:lnTo>
                  <a:lnTo>
                    <a:pt x="477" y="205"/>
                  </a:lnTo>
                  <a:lnTo>
                    <a:pt x="442" y="221"/>
                  </a:lnTo>
                  <a:lnTo>
                    <a:pt x="410" y="238"/>
                  </a:lnTo>
                  <a:lnTo>
                    <a:pt x="375" y="248"/>
                  </a:lnTo>
                  <a:lnTo>
                    <a:pt x="336" y="246"/>
                  </a:lnTo>
                  <a:lnTo>
                    <a:pt x="294" y="234"/>
                  </a:lnTo>
                  <a:lnTo>
                    <a:pt x="254" y="215"/>
                  </a:lnTo>
                  <a:lnTo>
                    <a:pt x="234" y="204"/>
                  </a:lnTo>
                  <a:lnTo>
                    <a:pt x="214" y="191"/>
                  </a:lnTo>
                  <a:lnTo>
                    <a:pt x="194" y="180"/>
                  </a:lnTo>
                  <a:lnTo>
                    <a:pt x="174" y="166"/>
                  </a:lnTo>
                  <a:lnTo>
                    <a:pt x="155" y="153"/>
                  </a:lnTo>
                  <a:lnTo>
                    <a:pt x="135" y="140"/>
                  </a:lnTo>
                  <a:lnTo>
                    <a:pt x="117" y="127"/>
                  </a:lnTo>
                  <a:lnTo>
                    <a:pt x="97" y="113"/>
                  </a:lnTo>
                  <a:lnTo>
                    <a:pt x="79" y="101"/>
                  </a:lnTo>
                  <a:lnTo>
                    <a:pt x="59" y="88"/>
                  </a:lnTo>
                  <a:lnTo>
                    <a:pt x="41" y="77"/>
                  </a:lnTo>
                  <a:lnTo>
                    <a:pt x="22" y="66"/>
                  </a:lnTo>
                  <a:lnTo>
                    <a:pt x="0" y="42"/>
                  </a:lnTo>
                  <a:lnTo>
                    <a:pt x="2" y="17"/>
                  </a:lnTo>
                  <a:lnTo>
                    <a:pt x="12" y="6"/>
                  </a:lnTo>
                  <a:lnTo>
                    <a:pt x="23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ba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378200">
              <a:off x="-3600" y="5535360"/>
              <a:ext cx="342720" cy="351360"/>
            </a:xfrm>
            <a:custGeom>
              <a:avLst/>
              <a:gdLst/>
              <a:ahLst/>
              <a:rect l="l" t="t" r="r" b="b"/>
              <a:pathLst>
                <a:path w="863" h="1161">
                  <a:moveTo>
                    <a:pt x="62" y="909"/>
                  </a:moveTo>
                  <a:lnTo>
                    <a:pt x="83" y="895"/>
                  </a:lnTo>
                  <a:lnTo>
                    <a:pt x="106" y="884"/>
                  </a:lnTo>
                  <a:lnTo>
                    <a:pt x="129" y="872"/>
                  </a:lnTo>
                  <a:lnTo>
                    <a:pt x="153" y="861"/>
                  </a:lnTo>
                  <a:lnTo>
                    <a:pt x="132" y="843"/>
                  </a:lnTo>
                  <a:lnTo>
                    <a:pt x="111" y="819"/>
                  </a:lnTo>
                  <a:lnTo>
                    <a:pt x="90" y="791"/>
                  </a:lnTo>
                  <a:lnTo>
                    <a:pt x="79" y="775"/>
                  </a:lnTo>
                  <a:lnTo>
                    <a:pt x="69" y="759"/>
                  </a:lnTo>
                  <a:lnTo>
                    <a:pt x="49" y="724"/>
                  </a:lnTo>
                  <a:lnTo>
                    <a:pt x="33" y="690"/>
                  </a:lnTo>
                  <a:lnTo>
                    <a:pt x="19" y="654"/>
                  </a:lnTo>
                  <a:lnTo>
                    <a:pt x="8" y="619"/>
                  </a:lnTo>
                  <a:lnTo>
                    <a:pt x="0" y="555"/>
                  </a:lnTo>
                  <a:lnTo>
                    <a:pt x="4" y="528"/>
                  </a:lnTo>
                  <a:lnTo>
                    <a:pt x="14" y="507"/>
                  </a:lnTo>
                  <a:lnTo>
                    <a:pt x="22" y="499"/>
                  </a:lnTo>
                  <a:lnTo>
                    <a:pt x="31" y="493"/>
                  </a:lnTo>
                  <a:lnTo>
                    <a:pt x="55" y="484"/>
                  </a:lnTo>
                  <a:lnTo>
                    <a:pt x="129" y="494"/>
                  </a:lnTo>
                  <a:lnTo>
                    <a:pt x="115" y="468"/>
                  </a:lnTo>
                  <a:lnTo>
                    <a:pt x="102" y="440"/>
                  </a:lnTo>
                  <a:lnTo>
                    <a:pt x="90" y="409"/>
                  </a:lnTo>
                  <a:lnTo>
                    <a:pt x="79" y="378"/>
                  </a:lnTo>
                  <a:lnTo>
                    <a:pt x="54" y="256"/>
                  </a:lnTo>
                  <a:lnTo>
                    <a:pt x="56" y="205"/>
                  </a:lnTo>
                  <a:lnTo>
                    <a:pt x="62" y="185"/>
                  </a:lnTo>
                  <a:lnTo>
                    <a:pt x="71" y="169"/>
                  </a:lnTo>
                  <a:lnTo>
                    <a:pt x="84" y="158"/>
                  </a:lnTo>
                  <a:lnTo>
                    <a:pt x="101" y="152"/>
                  </a:lnTo>
                  <a:lnTo>
                    <a:pt x="147" y="161"/>
                  </a:lnTo>
                  <a:lnTo>
                    <a:pt x="157" y="129"/>
                  </a:lnTo>
                  <a:lnTo>
                    <a:pt x="169" y="101"/>
                  </a:lnTo>
                  <a:lnTo>
                    <a:pt x="183" y="74"/>
                  </a:lnTo>
                  <a:lnTo>
                    <a:pt x="200" y="52"/>
                  </a:lnTo>
                  <a:lnTo>
                    <a:pt x="209" y="43"/>
                  </a:lnTo>
                  <a:lnTo>
                    <a:pt x="219" y="33"/>
                  </a:lnTo>
                  <a:lnTo>
                    <a:pt x="239" y="19"/>
                  </a:lnTo>
                  <a:lnTo>
                    <a:pt x="259" y="7"/>
                  </a:lnTo>
                  <a:lnTo>
                    <a:pt x="281" y="1"/>
                  </a:lnTo>
                  <a:lnTo>
                    <a:pt x="325" y="0"/>
                  </a:lnTo>
                  <a:lnTo>
                    <a:pt x="369" y="19"/>
                  </a:lnTo>
                  <a:lnTo>
                    <a:pt x="407" y="58"/>
                  </a:lnTo>
                  <a:lnTo>
                    <a:pt x="424" y="86"/>
                  </a:lnTo>
                  <a:lnTo>
                    <a:pt x="438" y="121"/>
                  </a:lnTo>
                  <a:lnTo>
                    <a:pt x="461" y="106"/>
                  </a:lnTo>
                  <a:lnTo>
                    <a:pt x="482" y="94"/>
                  </a:lnTo>
                  <a:lnTo>
                    <a:pt x="519" y="78"/>
                  </a:lnTo>
                  <a:lnTo>
                    <a:pt x="549" y="69"/>
                  </a:lnTo>
                  <a:lnTo>
                    <a:pt x="572" y="69"/>
                  </a:lnTo>
                  <a:lnTo>
                    <a:pt x="603" y="88"/>
                  </a:lnTo>
                  <a:lnTo>
                    <a:pt x="615" y="127"/>
                  </a:lnTo>
                  <a:lnTo>
                    <a:pt x="611" y="180"/>
                  </a:lnTo>
                  <a:lnTo>
                    <a:pt x="604" y="209"/>
                  </a:lnTo>
                  <a:lnTo>
                    <a:pt x="596" y="239"/>
                  </a:lnTo>
                  <a:lnTo>
                    <a:pt x="585" y="268"/>
                  </a:lnTo>
                  <a:lnTo>
                    <a:pt x="573" y="296"/>
                  </a:lnTo>
                  <a:lnTo>
                    <a:pt x="560" y="322"/>
                  </a:lnTo>
                  <a:lnTo>
                    <a:pt x="548" y="345"/>
                  </a:lnTo>
                  <a:lnTo>
                    <a:pt x="585" y="336"/>
                  </a:lnTo>
                  <a:lnTo>
                    <a:pt x="617" y="333"/>
                  </a:lnTo>
                  <a:lnTo>
                    <a:pt x="667" y="341"/>
                  </a:lnTo>
                  <a:lnTo>
                    <a:pt x="700" y="367"/>
                  </a:lnTo>
                  <a:lnTo>
                    <a:pt x="718" y="406"/>
                  </a:lnTo>
                  <a:lnTo>
                    <a:pt x="724" y="454"/>
                  </a:lnTo>
                  <a:lnTo>
                    <a:pt x="721" y="505"/>
                  </a:lnTo>
                  <a:lnTo>
                    <a:pt x="708" y="558"/>
                  </a:lnTo>
                  <a:lnTo>
                    <a:pt x="699" y="582"/>
                  </a:lnTo>
                  <a:lnTo>
                    <a:pt x="690" y="605"/>
                  </a:lnTo>
                  <a:lnTo>
                    <a:pt x="747" y="592"/>
                  </a:lnTo>
                  <a:lnTo>
                    <a:pt x="792" y="591"/>
                  </a:lnTo>
                  <a:lnTo>
                    <a:pt x="825" y="600"/>
                  </a:lnTo>
                  <a:lnTo>
                    <a:pt x="847" y="618"/>
                  </a:lnTo>
                  <a:lnTo>
                    <a:pt x="859" y="644"/>
                  </a:lnTo>
                  <a:lnTo>
                    <a:pt x="863" y="678"/>
                  </a:lnTo>
                  <a:lnTo>
                    <a:pt x="859" y="716"/>
                  </a:lnTo>
                  <a:lnTo>
                    <a:pt x="849" y="758"/>
                  </a:lnTo>
                  <a:lnTo>
                    <a:pt x="835" y="802"/>
                  </a:lnTo>
                  <a:lnTo>
                    <a:pt x="826" y="825"/>
                  </a:lnTo>
                  <a:lnTo>
                    <a:pt x="817" y="848"/>
                  </a:lnTo>
                  <a:lnTo>
                    <a:pt x="807" y="870"/>
                  </a:lnTo>
                  <a:lnTo>
                    <a:pt x="797" y="892"/>
                  </a:lnTo>
                  <a:lnTo>
                    <a:pt x="785" y="914"/>
                  </a:lnTo>
                  <a:lnTo>
                    <a:pt x="775" y="935"/>
                  </a:lnTo>
                  <a:lnTo>
                    <a:pt x="763" y="955"/>
                  </a:lnTo>
                  <a:lnTo>
                    <a:pt x="753" y="974"/>
                  </a:lnTo>
                  <a:lnTo>
                    <a:pt x="743" y="993"/>
                  </a:lnTo>
                  <a:lnTo>
                    <a:pt x="732" y="1009"/>
                  </a:lnTo>
                  <a:lnTo>
                    <a:pt x="714" y="1038"/>
                  </a:lnTo>
                  <a:lnTo>
                    <a:pt x="700" y="1059"/>
                  </a:lnTo>
                  <a:lnTo>
                    <a:pt x="687" y="1071"/>
                  </a:lnTo>
                  <a:lnTo>
                    <a:pt x="673" y="1076"/>
                  </a:lnTo>
                  <a:lnTo>
                    <a:pt x="645" y="1072"/>
                  </a:lnTo>
                  <a:lnTo>
                    <a:pt x="627" y="1052"/>
                  </a:lnTo>
                  <a:lnTo>
                    <a:pt x="631" y="1022"/>
                  </a:lnTo>
                  <a:lnTo>
                    <a:pt x="642" y="1005"/>
                  </a:lnTo>
                  <a:lnTo>
                    <a:pt x="655" y="985"/>
                  </a:lnTo>
                  <a:lnTo>
                    <a:pt x="670" y="965"/>
                  </a:lnTo>
                  <a:lnTo>
                    <a:pt x="687" y="943"/>
                  </a:lnTo>
                  <a:lnTo>
                    <a:pt x="705" y="920"/>
                  </a:lnTo>
                  <a:lnTo>
                    <a:pt x="721" y="896"/>
                  </a:lnTo>
                  <a:lnTo>
                    <a:pt x="738" y="873"/>
                  </a:lnTo>
                  <a:lnTo>
                    <a:pt x="754" y="848"/>
                  </a:lnTo>
                  <a:lnTo>
                    <a:pt x="769" y="823"/>
                  </a:lnTo>
                  <a:lnTo>
                    <a:pt x="782" y="798"/>
                  </a:lnTo>
                  <a:lnTo>
                    <a:pt x="799" y="749"/>
                  </a:lnTo>
                  <a:lnTo>
                    <a:pt x="804" y="701"/>
                  </a:lnTo>
                  <a:lnTo>
                    <a:pt x="799" y="678"/>
                  </a:lnTo>
                  <a:lnTo>
                    <a:pt x="789" y="656"/>
                  </a:lnTo>
                  <a:lnTo>
                    <a:pt x="775" y="645"/>
                  </a:lnTo>
                  <a:lnTo>
                    <a:pt x="755" y="646"/>
                  </a:lnTo>
                  <a:lnTo>
                    <a:pt x="703" y="669"/>
                  </a:lnTo>
                  <a:lnTo>
                    <a:pt x="677" y="685"/>
                  </a:lnTo>
                  <a:lnTo>
                    <a:pt x="652" y="702"/>
                  </a:lnTo>
                  <a:lnTo>
                    <a:pt x="631" y="715"/>
                  </a:lnTo>
                  <a:lnTo>
                    <a:pt x="617" y="722"/>
                  </a:lnTo>
                  <a:lnTo>
                    <a:pt x="581" y="729"/>
                  </a:lnTo>
                  <a:lnTo>
                    <a:pt x="568" y="712"/>
                  </a:lnTo>
                  <a:lnTo>
                    <a:pt x="572" y="677"/>
                  </a:lnTo>
                  <a:lnTo>
                    <a:pt x="579" y="655"/>
                  </a:lnTo>
                  <a:lnTo>
                    <a:pt x="588" y="631"/>
                  </a:lnTo>
                  <a:lnTo>
                    <a:pt x="598" y="605"/>
                  </a:lnTo>
                  <a:lnTo>
                    <a:pt x="610" y="579"/>
                  </a:lnTo>
                  <a:lnTo>
                    <a:pt x="622" y="553"/>
                  </a:lnTo>
                  <a:lnTo>
                    <a:pt x="633" y="528"/>
                  </a:lnTo>
                  <a:lnTo>
                    <a:pt x="650" y="484"/>
                  </a:lnTo>
                  <a:lnTo>
                    <a:pt x="658" y="454"/>
                  </a:lnTo>
                  <a:lnTo>
                    <a:pt x="656" y="424"/>
                  </a:lnTo>
                  <a:lnTo>
                    <a:pt x="649" y="405"/>
                  </a:lnTo>
                  <a:lnTo>
                    <a:pt x="638" y="395"/>
                  </a:lnTo>
                  <a:lnTo>
                    <a:pt x="623" y="392"/>
                  </a:lnTo>
                  <a:lnTo>
                    <a:pt x="586" y="400"/>
                  </a:lnTo>
                  <a:lnTo>
                    <a:pt x="543" y="421"/>
                  </a:lnTo>
                  <a:lnTo>
                    <a:pt x="522" y="433"/>
                  </a:lnTo>
                  <a:lnTo>
                    <a:pt x="502" y="443"/>
                  </a:lnTo>
                  <a:lnTo>
                    <a:pt x="483" y="453"/>
                  </a:lnTo>
                  <a:lnTo>
                    <a:pt x="467" y="457"/>
                  </a:lnTo>
                  <a:lnTo>
                    <a:pt x="445" y="451"/>
                  </a:lnTo>
                  <a:lnTo>
                    <a:pt x="440" y="414"/>
                  </a:lnTo>
                  <a:lnTo>
                    <a:pt x="450" y="379"/>
                  </a:lnTo>
                  <a:lnTo>
                    <a:pt x="465" y="345"/>
                  </a:lnTo>
                  <a:lnTo>
                    <a:pt x="474" y="328"/>
                  </a:lnTo>
                  <a:lnTo>
                    <a:pt x="483" y="311"/>
                  </a:lnTo>
                  <a:lnTo>
                    <a:pt x="503" y="278"/>
                  </a:lnTo>
                  <a:lnTo>
                    <a:pt x="522" y="245"/>
                  </a:lnTo>
                  <a:lnTo>
                    <a:pt x="537" y="211"/>
                  </a:lnTo>
                  <a:lnTo>
                    <a:pt x="547" y="142"/>
                  </a:lnTo>
                  <a:lnTo>
                    <a:pt x="506" y="159"/>
                  </a:lnTo>
                  <a:lnTo>
                    <a:pt x="480" y="179"/>
                  </a:lnTo>
                  <a:lnTo>
                    <a:pt x="458" y="203"/>
                  </a:lnTo>
                  <a:lnTo>
                    <a:pt x="445" y="217"/>
                  </a:lnTo>
                  <a:lnTo>
                    <a:pt x="432" y="234"/>
                  </a:lnTo>
                  <a:lnTo>
                    <a:pt x="415" y="250"/>
                  </a:lnTo>
                  <a:lnTo>
                    <a:pt x="402" y="259"/>
                  </a:lnTo>
                  <a:lnTo>
                    <a:pt x="386" y="254"/>
                  </a:lnTo>
                  <a:lnTo>
                    <a:pt x="372" y="184"/>
                  </a:lnTo>
                  <a:lnTo>
                    <a:pt x="365" y="138"/>
                  </a:lnTo>
                  <a:lnTo>
                    <a:pt x="360" y="114"/>
                  </a:lnTo>
                  <a:lnTo>
                    <a:pt x="352" y="94"/>
                  </a:lnTo>
                  <a:lnTo>
                    <a:pt x="340" y="77"/>
                  </a:lnTo>
                  <a:lnTo>
                    <a:pt x="325" y="64"/>
                  </a:lnTo>
                  <a:lnTo>
                    <a:pt x="305" y="55"/>
                  </a:lnTo>
                  <a:lnTo>
                    <a:pt x="280" y="54"/>
                  </a:lnTo>
                  <a:lnTo>
                    <a:pt x="250" y="68"/>
                  </a:lnTo>
                  <a:lnTo>
                    <a:pt x="232" y="100"/>
                  </a:lnTo>
                  <a:lnTo>
                    <a:pt x="215" y="183"/>
                  </a:lnTo>
                  <a:lnTo>
                    <a:pt x="207" y="220"/>
                  </a:lnTo>
                  <a:lnTo>
                    <a:pt x="202" y="234"/>
                  </a:lnTo>
                  <a:lnTo>
                    <a:pt x="194" y="243"/>
                  </a:lnTo>
                  <a:lnTo>
                    <a:pt x="169" y="245"/>
                  </a:lnTo>
                  <a:lnTo>
                    <a:pt x="128" y="219"/>
                  </a:lnTo>
                  <a:lnTo>
                    <a:pt x="115" y="263"/>
                  </a:lnTo>
                  <a:lnTo>
                    <a:pt x="123" y="321"/>
                  </a:lnTo>
                  <a:lnTo>
                    <a:pt x="131" y="353"/>
                  </a:lnTo>
                  <a:lnTo>
                    <a:pt x="143" y="386"/>
                  </a:lnTo>
                  <a:lnTo>
                    <a:pt x="154" y="420"/>
                  </a:lnTo>
                  <a:lnTo>
                    <a:pt x="167" y="453"/>
                  </a:lnTo>
                  <a:lnTo>
                    <a:pt x="179" y="483"/>
                  </a:lnTo>
                  <a:lnTo>
                    <a:pt x="188" y="512"/>
                  </a:lnTo>
                  <a:lnTo>
                    <a:pt x="197" y="558"/>
                  </a:lnTo>
                  <a:lnTo>
                    <a:pt x="195" y="574"/>
                  </a:lnTo>
                  <a:lnTo>
                    <a:pt x="188" y="583"/>
                  </a:lnTo>
                  <a:lnTo>
                    <a:pt x="152" y="582"/>
                  </a:lnTo>
                  <a:lnTo>
                    <a:pt x="114" y="564"/>
                  </a:lnTo>
                  <a:lnTo>
                    <a:pt x="96" y="555"/>
                  </a:lnTo>
                  <a:lnTo>
                    <a:pt x="75" y="550"/>
                  </a:lnTo>
                  <a:lnTo>
                    <a:pt x="62" y="575"/>
                  </a:lnTo>
                  <a:lnTo>
                    <a:pt x="57" y="601"/>
                  </a:lnTo>
                  <a:lnTo>
                    <a:pt x="62" y="626"/>
                  </a:lnTo>
                  <a:lnTo>
                    <a:pt x="71" y="653"/>
                  </a:lnTo>
                  <a:lnTo>
                    <a:pt x="87" y="678"/>
                  </a:lnTo>
                  <a:lnTo>
                    <a:pt x="97" y="691"/>
                  </a:lnTo>
                  <a:lnTo>
                    <a:pt x="107" y="703"/>
                  </a:lnTo>
                  <a:lnTo>
                    <a:pt x="129" y="729"/>
                  </a:lnTo>
                  <a:lnTo>
                    <a:pt x="141" y="740"/>
                  </a:lnTo>
                  <a:lnTo>
                    <a:pt x="152" y="752"/>
                  </a:lnTo>
                  <a:lnTo>
                    <a:pt x="165" y="763"/>
                  </a:lnTo>
                  <a:lnTo>
                    <a:pt x="176" y="775"/>
                  </a:lnTo>
                  <a:lnTo>
                    <a:pt x="188" y="787"/>
                  </a:lnTo>
                  <a:lnTo>
                    <a:pt x="199" y="797"/>
                  </a:lnTo>
                  <a:lnTo>
                    <a:pt x="210" y="808"/>
                  </a:lnTo>
                  <a:lnTo>
                    <a:pt x="220" y="817"/>
                  </a:lnTo>
                  <a:lnTo>
                    <a:pt x="237" y="836"/>
                  </a:lnTo>
                  <a:lnTo>
                    <a:pt x="257" y="869"/>
                  </a:lnTo>
                  <a:lnTo>
                    <a:pt x="257" y="882"/>
                  </a:lnTo>
                  <a:lnTo>
                    <a:pt x="248" y="893"/>
                  </a:lnTo>
                  <a:lnTo>
                    <a:pt x="233" y="902"/>
                  </a:lnTo>
                  <a:lnTo>
                    <a:pt x="217" y="909"/>
                  </a:lnTo>
                  <a:lnTo>
                    <a:pt x="182" y="918"/>
                  </a:lnTo>
                  <a:lnTo>
                    <a:pt x="115" y="944"/>
                  </a:lnTo>
                  <a:lnTo>
                    <a:pt x="117" y="973"/>
                  </a:lnTo>
                  <a:lnTo>
                    <a:pt x="127" y="989"/>
                  </a:lnTo>
                  <a:lnTo>
                    <a:pt x="143" y="1004"/>
                  </a:lnTo>
                  <a:lnTo>
                    <a:pt x="162" y="1018"/>
                  </a:lnTo>
                  <a:lnTo>
                    <a:pt x="184" y="1033"/>
                  </a:lnTo>
                  <a:lnTo>
                    <a:pt x="211" y="1047"/>
                  </a:lnTo>
                  <a:lnTo>
                    <a:pt x="239" y="1061"/>
                  </a:lnTo>
                  <a:lnTo>
                    <a:pt x="267" y="1073"/>
                  </a:lnTo>
                  <a:lnTo>
                    <a:pt x="296" y="1085"/>
                  </a:lnTo>
                  <a:lnTo>
                    <a:pt x="325" y="1094"/>
                  </a:lnTo>
                  <a:lnTo>
                    <a:pt x="353" y="1103"/>
                  </a:lnTo>
                  <a:lnTo>
                    <a:pt x="401" y="1115"/>
                  </a:lnTo>
                  <a:lnTo>
                    <a:pt x="437" y="1120"/>
                  </a:lnTo>
                  <a:lnTo>
                    <a:pt x="455" y="1130"/>
                  </a:lnTo>
                  <a:lnTo>
                    <a:pt x="454" y="1140"/>
                  </a:lnTo>
                  <a:lnTo>
                    <a:pt x="444" y="1147"/>
                  </a:lnTo>
                  <a:lnTo>
                    <a:pt x="415" y="1156"/>
                  </a:lnTo>
                  <a:lnTo>
                    <a:pt x="384" y="1161"/>
                  </a:lnTo>
                  <a:lnTo>
                    <a:pt x="316" y="1158"/>
                  </a:lnTo>
                  <a:lnTo>
                    <a:pt x="243" y="1142"/>
                  </a:lnTo>
                  <a:lnTo>
                    <a:pt x="209" y="1129"/>
                  </a:lnTo>
                  <a:lnTo>
                    <a:pt x="175" y="1113"/>
                  </a:lnTo>
                  <a:lnTo>
                    <a:pt x="144" y="1094"/>
                  </a:lnTo>
                  <a:lnTo>
                    <a:pt x="116" y="1073"/>
                  </a:lnTo>
                  <a:lnTo>
                    <a:pt x="104" y="1062"/>
                  </a:lnTo>
                  <a:lnTo>
                    <a:pt x="93" y="1050"/>
                  </a:lnTo>
                  <a:lnTo>
                    <a:pt x="74" y="1025"/>
                  </a:lnTo>
                  <a:lnTo>
                    <a:pt x="53" y="969"/>
                  </a:lnTo>
                  <a:lnTo>
                    <a:pt x="53" y="955"/>
                  </a:lnTo>
                  <a:lnTo>
                    <a:pt x="54" y="939"/>
                  </a:lnTo>
                  <a:lnTo>
                    <a:pt x="62" y="909"/>
                  </a:lnTo>
                  <a:lnTo>
                    <a:pt x="62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6378200">
              <a:off x="243360" y="5792760"/>
              <a:ext cx="484200" cy="268560"/>
            </a:xfrm>
            <a:custGeom>
              <a:avLst/>
              <a:gdLst/>
              <a:ahLst/>
              <a:rect l="l" t="t" r="r" b="b"/>
              <a:pathLst>
                <a:path w="1218" h="887">
                  <a:moveTo>
                    <a:pt x="754" y="47"/>
                  </a:moveTo>
                  <a:lnTo>
                    <a:pt x="752" y="96"/>
                  </a:lnTo>
                  <a:lnTo>
                    <a:pt x="754" y="144"/>
                  </a:lnTo>
                  <a:lnTo>
                    <a:pt x="693" y="132"/>
                  </a:lnTo>
                  <a:lnTo>
                    <a:pt x="616" y="129"/>
                  </a:lnTo>
                  <a:lnTo>
                    <a:pt x="452" y="151"/>
                  </a:lnTo>
                  <a:lnTo>
                    <a:pt x="389" y="176"/>
                  </a:lnTo>
                  <a:lnTo>
                    <a:pt x="350" y="211"/>
                  </a:lnTo>
                  <a:lnTo>
                    <a:pt x="344" y="232"/>
                  </a:lnTo>
                  <a:lnTo>
                    <a:pt x="348" y="255"/>
                  </a:lnTo>
                  <a:lnTo>
                    <a:pt x="355" y="268"/>
                  </a:lnTo>
                  <a:lnTo>
                    <a:pt x="365" y="280"/>
                  </a:lnTo>
                  <a:lnTo>
                    <a:pt x="378" y="294"/>
                  </a:lnTo>
                  <a:lnTo>
                    <a:pt x="395" y="309"/>
                  </a:lnTo>
                  <a:lnTo>
                    <a:pt x="260" y="327"/>
                  </a:lnTo>
                  <a:lnTo>
                    <a:pt x="191" y="346"/>
                  </a:lnTo>
                  <a:lnTo>
                    <a:pt x="132" y="369"/>
                  </a:lnTo>
                  <a:lnTo>
                    <a:pt x="106" y="381"/>
                  </a:lnTo>
                  <a:lnTo>
                    <a:pt x="84" y="395"/>
                  </a:lnTo>
                  <a:lnTo>
                    <a:pt x="58" y="425"/>
                  </a:lnTo>
                  <a:lnTo>
                    <a:pt x="58" y="457"/>
                  </a:lnTo>
                  <a:lnTo>
                    <a:pt x="68" y="473"/>
                  </a:lnTo>
                  <a:lnTo>
                    <a:pt x="77" y="481"/>
                  </a:lnTo>
                  <a:lnTo>
                    <a:pt x="89" y="490"/>
                  </a:lnTo>
                  <a:lnTo>
                    <a:pt x="75" y="501"/>
                  </a:lnTo>
                  <a:lnTo>
                    <a:pt x="63" y="513"/>
                  </a:lnTo>
                  <a:lnTo>
                    <a:pt x="42" y="537"/>
                  </a:lnTo>
                  <a:lnTo>
                    <a:pt x="12" y="586"/>
                  </a:lnTo>
                  <a:lnTo>
                    <a:pt x="0" y="633"/>
                  </a:lnTo>
                  <a:lnTo>
                    <a:pt x="3" y="675"/>
                  </a:lnTo>
                  <a:lnTo>
                    <a:pt x="12" y="695"/>
                  </a:lnTo>
                  <a:lnTo>
                    <a:pt x="24" y="711"/>
                  </a:lnTo>
                  <a:lnTo>
                    <a:pt x="43" y="725"/>
                  </a:lnTo>
                  <a:lnTo>
                    <a:pt x="63" y="735"/>
                  </a:lnTo>
                  <a:lnTo>
                    <a:pt x="90" y="743"/>
                  </a:lnTo>
                  <a:lnTo>
                    <a:pt x="121" y="747"/>
                  </a:lnTo>
                  <a:lnTo>
                    <a:pt x="195" y="741"/>
                  </a:lnTo>
                  <a:lnTo>
                    <a:pt x="193" y="788"/>
                  </a:lnTo>
                  <a:lnTo>
                    <a:pt x="195" y="826"/>
                  </a:lnTo>
                  <a:lnTo>
                    <a:pt x="202" y="853"/>
                  </a:lnTo>
                  <a:lnTo>
                    <a:pt x="213" y="872"/>
                  </a:lnTo>
                  <a:lnTo>
                    <a:pt x="228" y="883"/>
                  </a:lnTo>
                  <a:lnTo>
                    <a:pt x="247" y="887"/>
                  </a:lnTo>
                  <a:lnTo>
                    <a:pt x="291" y="877"/>
                  </a:lnTo>
                  <a:lnTo>
                    <a:pt x="314" y="864"/>
                  </a:lnTo>
                  <a:lnTo>
                    <a:pt x="338" y="847"/>
                  </a:lnTo>
                  <a:lnTo>
                    <a:pt x="362" y="827"/>
                  </a:lnTo>
                  <a:lnTo>
                    <a:pt x="375" y="816"/>
                  </a:lnTo>
                  <a:lnTo>
                    <a:pt x="386" y="806"/>
                  </a:lnTo>
                  <a:lnTo>
                    <a:pt x="398" y="794"/>
                  </a:lnTo>
                  <a:lnTo>
                    <a:pt x="408" y="783"/>
                  </a:lnTo>
                  <a:lnTo>
                    <a:pt x="429" y="760"/>
                  </a:lnTo>
                  <a:lnTo>
                    <a:pt x="448" y="736"/>
                  </a:lnTo>
                  <a:lnTo>
                    <a:pt x="463" y="714"/>
                  </a:lnTo>
                  <a:lnTo>
                    <a:pt x="473" y="749"/>
                  </a:lnTo>
                  <a:lnTo>
                    <a:pt x="486" y="775"/>
                  </a:lnTo>
                  <a:lnTo>
                    <a:pt x="501" y="796"/>
                  </a:lnTo>
                  <a:lnTo>
                    <a:pt x="518" y="811"/>
                  </a:lnTo>
                  <a:lnTo>
                    <a:pt x="539" y="821"/>
                  </a:lnTo>
                  <a:lnTo>
                    <a:pt x="559" y="824"/>
                  </a:lnTo>
                  <a:lnTo>
                    <a:pt x="606" y="820"/>
                  </a:lnTo>
                  <a:lnTo>
                    <a:pt x="654" y="801"/>
                  </a:lnTo>
                  <a:lnTo>
                    <a:pt x="678" y="787"/>
                  </a:lnTo>
                  <a:lnTo>
                    <a:pt x="701" y="771"/>
                  </a:lnTo>
                  <a:lnTo>
                    <a:pt x="724" y="753"/>
                  </a:lnTo>
                  <a:lnTo>
                    <a:pt x="745" y="735"/>
                  </a:lnTo>
                  <a:lnTo>
                    <a:pt x="764" y="715"/>
                  </a:lnTo>
                  <a:lnTo>
                    <a:pt x="781" y="696"/>
                  </a:lnTo>
                  <a:lnTo>
                    <a:pt x="788" y="725"/>
                  </a:lnTo>
                  <a:lnTo>
                    <a:pt x="797" y="749"/>
                  </a:lnTo>
                  <a:lnTo>
                    <a:pt x="806" y="769"/>
                  </a:lnTo>
                  <a:lnTo>
                    <a:pt x="818" y="786"/>
                  </a:lnTo>
                  <a:lnTo>
                    <a:pt x="829" y="799"/>
                  </a:lnTo>
                  <a:lnTo>
                    <a:pt x="842" y="807"/>
                  </a:lnTo>
                  <a:lnTo>
                    <a:pt x="871" y="815"/>
                  </a:lnTo>
                  <a:lnTo>
                    <a:pt x="902" y="811"/>
                  </a:lnTo>
                  <a:lnTo>
                    <a:pt x="936" y="798"/>
                  </a:lnTo>
                  <a:lnTo>
                    <a:pt x="970" y="775"/>
                  </a:lnTo>
                  <a:lnTo>
                    <a:pt x="987" y="762"/>
                  </a:lnTo>
                  <a:lnTo>
                    <a:pt x="1005" y="747"/>
                  </a:lnTo>
                  <a:lnTo>
                    <a:pt x="1022" y="730"/>
                  </a:lnTo>
                  <a:lnTo>
                    <a:pt x="1039" y="713"/>
                  </a:lnTo>
                  <a:lnTo>
                    <a:pt x="1057" y="695"/>
                  </a:lnTo>
                  <a:lnTo>
                    <a:pt x="1074" y="676"/>
                  </a:lnTo>
                  <a:lnTo>
                    <a:pt x="1090" y="657"/>
                  </a:lnTo>
                  <a:lnTo>
                    <a:pt x="1105" y="637"/>
                  </a:lnTo>
                  <a:lnTo>
                    <a:pt x="1121" y="618"/>
                  </a:lnTo>
                  <a:lnTo>
                    <a:pt x="1135" y="599"/>
                  </a:lnTo>
                  <a:lnTo>
                    <a:pt x="1149" y="581"/>
                  </a:lnTo>
                  <a:lnTo>
                    <a:pt x="1162" y="563"/>
                  </a:lnTo>
                  <a:lnTo>
                    <a:pt x="1173" y="545"/>
                  </a:lnTo>
                  <a:lnTo>
                    <a:pt x="1185" y="529"/>
                  </a:lnTo>
                  <a:lnTo>
                    <a:pt x="1194" y="514"/>
                  </a:lnTo>
                  <a:lnTo>
                    <a:pt x="1202" y="500"/>
                  </a:lnTo>
                  <a:lnTo>
                    <a:pt x="1216" y="478"/>
                  </a:lnTo>
                  <a:lnTo>
                    <a:pt x="1218" y="448"/>
                  </a:lnTo>
                  <a:lnTo>
                    <a:pt x="1211" y="437"/>
                  </a:lnTo>
                  <a:lnTo>
                    <a:pt x="1200" y="428"/>
                  </a:lnTo>
                  <a:lnTo>
                    <a:pt x="1172" y="425"/>
                  </a:lnTo>
                  <a:lnTo>
                    <a:pt x="1146" y="442"/>
                  </a:lnTo>
                  <a:lnTo>
                    <a:pt x="1122" y="480"/>
                  </a:lnTo>
                  <a:lnTo>
                    <a:pt x="1111" y="503"/>
                  </a:lnTo>
                  <a:lnTo>
                    <a:pt x="1098" y="526"/>
                  </a:lnTo>
                  <a:lnTo>
                    <a:pt x="1086" y="551"/>
                  </a:lnTo>
                  <a:lnTo>
                    <a:pt x="1072" y="576"/>
                  </a:lnTo>
                  <a:lnTo>
                    <a:pt x="1058" y="602"/>
                  </a:lnTo>
                  <a:lnTo>
                    <a:pt x="1043" y="627"/>
                  </a:lnTo>
                  <a:lnTo>
                    <a:pt x="1027" y="651"/>
                  </a:lnTo>
                  <a:lnTo>
                    <a:pt x="1009" y="673"/>
                  </a:lnTo>
                  <a:lnTo>
                    <a:pt x="991" y="694"/>
                  </a:lnTo>
                  <a:lnTo>
                    <a:pt x="982" y="704"/>
                  </a:lnTo>
                  <a:lnTo>
                    <a:pt x="971" y="712"/>
                  </a:lnTo>
                  <a:lnTo>
                    <a:pt x="951" y="727"/>
                  </a:lnTo>
                  <a:lnTo>
                    <a:pt x="927" y="740"/>
                  </a:lnTo>
                  <a:lnTo>
                    <a:pt x="903" y="747"/>
                  </a:lnTo>
                  <a:lnTo>
                    <a:pt x="878" y="750"/>
                  </a:lnTo>
                  <a:lnTo>
                    <a:pt x="862" y="745"/>
                  </a:lnTo>
                  <a:lnTo>
                    <a:pt x="853" y="728"/>
                  </a:lnTo>
                  <a:lnTo>
                    <a:pt x="848" y="675"/>
                  </a:lnTo>
                  <a:lnTo>
                    <a:pt x="856" y="581"/>
                  </a:lnTo>
                  <a:lnTo>
                    <a:pt x="851" y="560"/>
                  </a:lnTo>
                  <a:lnTo>
                    <a:pt x="843" y="549"/>
                  </a:lnTo>
                  <a:lnTo>
                    <a:pt x="820" y="548"/>
                  </a:lnTo>
                  <a:lnTo>
                    <a:pt x="790" y="568"/>
                  </a:lnTo>
                  <a:lnTo>
                    <a:pt x="772" y="585"/>
                  </a:lnTo>
                  <a:lnTo>
                    <a:pt x="753" y="604"/>
                  </a:lnTo>
                  <a:lnTo>
                    <a:pt x="735" y="625"/>
                  </a:lnTo>
                  <a:lnTo>
                    <a:pt x="716" y="647"/>
                  </a:lnTo>
                  <a:lnTo>
                    <a:pt x="697" y="669"/>
                  </a:lnTo>
                  <a:lnTo>
                    <a:pt x="679" y="690"/>
                  </a:lnTo>
                  <a:lnTo>
                    <a:pt x="662" y="710"/>
                  </a:lnTo>
                  <a:lnTo>
                    <a:pt x="646" y="727"/>
                  </a:lnTo>
                  <a:lnTo>
                    <a:pt x="632" y="740"/>
                  </a:lnTo>
                  <a:lnTo>
                    <a:pt x="621" y="748"/>
                  </a:lnTo>
                  <a:lnTo>
                    <a:pt x="592" y="761"/>
                  </a:lnTo>
                  <a:lnTo>
                    <a:pt x="571" y="764"/>
                  </a:lnTo>
                  <a:lnTo>
                    <a:pt x="544" y="751"/>
                  </a:lnTo>
                  <a:lnTo>
                    <a:pt x="534" y="717"/>
                  </a:lnTo>
                  <a:lnTo>
                    <a:pt x="533" y="673"/>
                  </a:lnTo>
                  <a:lnTo>
                    <a:pt x="528" y="595"/>
                  </a:lnTo>
                  <a:lnTo>
                    <a:pt x="523" y="585"/>
                  </a:lnTo>
                  <a:lnTo>
                    <a:pt x="512" y="581"/>
                  </a:lnTo>
                  <a:lnTo>
                    <a:pt x="475" y="595"/>
                  </a:lnTo>
                  <a:lnTo>
                    <a:pt x="446" y="619"/>
                  </a:lnTo>
                  <a:lnTo>
                    <a:pt x="422" y="648"/>
                  </a:lnTo>
                  <a:lnTo>
                    <a:pt x="411" y="664"/>
                  </a:lnTo>
                  <a:lnTo>
                    <a:pt x="399" y="681"/>
                  </a:lnTo>
                  <a:lnTo>
                    <a:pt x="389" y="696"/>
                  </a:lnTo>
                  <a:lnTo>
                    <a:pt x="377" y="713"/>
                  </a:lnTo>
                  <a:lnTo>
                    <a:pt x="366" y="729"/>
                  </a:lnTo>
                  <a:lnTo>
                    <a:pt x="355" y="745"/>
                  </a:lnTo>
                  <a:lnTo>
                    <a:pt x="343" y="760"/>
                  </a:lnTo>
                  <a:lnTo>
                    <a:pt x="331" y="773"/>
                  </a:lnTo>
                  <a:lnTo>
                    <a:pt x="317" y="786"/>
                  </a:lnTo>
                  <a:lnTo>
                    <a:pt x="302" y="798"/>
                  </a:lnTo>
                  <a:lnTo>
                    <a:pt x="287" y="807"/>
                  </a:lnTo>
                  <a:lnTo>
                    <a:pt x="270" y="814"/>
                  </a:lnTo>
                  <a:lnTo>
                    <a:pt x="266" y="775"/>
                  </a:lnTo>
                  <a:lnTo>
                    <a:pt x="271" y="744"/>
                  </a:lnTo>
                  <a:lnTo>
                    <a:pt x="283" y="714"/>
                  </a:lnTo>
                  <a:lnTo>
                    <a:pt x="299" y="678"/>
                  </a:lnTo>
                  <a:lnTo>
                    <a:pt x="309" y="643"/>
                  </a:lnTo>
                  <a:lnTo>
                    <a:pt x="305" y="634"/>
                  </a:lnTo>
                  <a:lnTo>
                    <a:pt x="295" y="632"/>
                  </a:lnTo>
                  <a:lnTo>
                    <a:pt x="265" y="640"/>
                  </a:lnTo>
                  <a:lnTo>
                    <a:pt x="224" y="656"/>
                  </a:lnTo>
                  <a:lnTo>
                    <a:pt x="200" y="666"/>
                  </a:lnTo>
                  <a:lnTo>
                    <a:pt x="175" y="674"/>
                  </a:lnTo>
                  <a:lnTo>
                    <a:pt x="127" y="685"/>
                  </a:lnTo>
                  <a:lnTo>
                    <a:pt x="85" y="678"/>
                  </a:lnTo>
                  <a:lnTo>
                    <a:pt x="68" y="667"/>
                  </a:lnTo>
                  <a:lnTo>
                    <a:pt x="54" y="649"/>
                  </a:lnTo>
                  <a:lnTo>
                    <a:pt x="52" y="617"/>
                  </a:lnTo>
                  <a:lnTo>
                    <a:pt x="60" y="602"/>
                  </a:lnTo>
                  <a:lnTo>
                    <a:pt x="73" y="587"/>
                  </a:lnTo>
                  <a:lnTo>
                    <a:pt x="89" y="573"/>
                  </a:lnTo>
                  <a:lnTo>
                    <a:pt x="106" y="559"/>
                  </a:lnTo>
                  <a:lnTo>
                    <a:pt x="126" y="546"/>
                  </a:lnTo>
                  <a:lnTo>
                    <a:pt x="144" y="533"/>
                  </a:lnTo>
                  <a:lnTo>
                    <a:pt x="190" y="486"/>
                  </a:lnTo>
                  <a:lnTo>
                    <a:pt x="188" y="474"/>
                  </a:lnTo>
                  <a:lnTo>
                    <a:pt x="179" y="465"/>
                  </a:lnTo>
                  <a:lnTo>
                    <a:pt x="162" y="454"/>
                  </a:lnTo>
                  <a:lnTo>
                    <a:pt x="134" y="446"/>
                  </a:lnTo>
                  <a:lnTo>
                    <a:pt x="148" y="428"/>
                  </a:lnTo>
                  <a:lnTo>
                    <a:pt x="168" y="414"/>
                  </a:lnTo>
                  <a:lnTo>
                    <a:pt x="196" y="401"/>
                  </a:lnTo>
                  <a:lnTo>
                    <a:pt x="227" y="391"/>
                  </a:lnTo>
                  <a:lnTo>
                    <a:pt x="263" y="381"/>
                  </a:lnTo>
                  <a:lnTo>
                    <a:pt x="300" y="373"/>
                  </a:lnTo>
                  <a:lnTo>
                    <a:pt x="374" y="359"/>
                  </a:lnTo>
                  <a:lnTo>
                    <a:pt x="489" y="331"/>
                  </a:lnTo>
                  <a:lnTo>
                    <a:pt x="509" y="310"/>
                  </a:lnTo>
                  <a:lnTo>
                    <a:pt x="505" y="297"/>
                  </a:lnTo>
                  <a:lnTo>
                    <a:pt x="490" y="282"/>
                  </a:lnTo>
                  <a:lnTo>
                    <a:pt x="472" y="272"/>
                  </a:lnTo>
                  <a:lnTo>
                    <a:pt x="453" y="261"/>
                  </a:lnTo>
                  <a:lnTo>
                    <a:pt x="420" y="237"/>
                  </a:lnTo>
                  <a:lnTo>
                    <a:pt x="428" y="225"/>
                  </a:lnTo>
                  <a:lnTo>
                    <a:pt x="438" y="215"/>
                  </a:lnTo>
                  <a:lnTo>
                    <a:pt x="449" y="205"/>
                  </a:lnTo>
                  <a:lnTo>
                    <a:pt x="460" y="199"/>
                  </a:lnTo>
                  <a:lnTo>
                    <a:pt x="487" y="189"/>
                  </a:lnTo>
                  <a:lnTo>
                    <a:pt x="517" y="183"/>
                  </a:lnTo>
                  <a:lnTo>
                    <a:pt x="583" y="185"/>
                  </a:lnTo>
                  <a:lnTo>
                    <a:pt x="651" y="198"/>
                  </a:lnTo>
                  <a:lnTo>
                    <a:pt x="716" y="213"/>
                  </a:lnTo>
                  <a:lnTo>
                    <a:pt x="773" y="223"/>
                  </a:lnTo>
                  <a:lnTo>
                    <a:pt x="813" y="222"/>
                  </a:lnTo>
                  <a:lnTo>
                    <a:pt x="832" y="203"/>
                  </a:lnTo>
                  <a:lnTo>
                    <a:pt x="832" y="170"/>
                  </a:lnTo>
                  <a:lnTo>
                    <a:pt x="824" y="138"/>
                  </a:lnTo>
                  <a:lnTo>
                    <a:pt x="814" y="73"/>
                  </a:lnTo>
                  <a:lnTo>
                    <a:pt x="827" y="63"/>
                  </a:lnTo>
                  <a:lnTo>
                    <a:pt x="843" y="59"/>
                  </a:lnTo>
                  <a:lnTo>
                    <a:pt x="884" y="64"/>
                  </a:lnTo>
                  <a:lnTo>
                    <a:pt x="933" y="83"/>
                  </a:lnTo>
                  <a:lnTo>
                    <a:pt x="960" y="97"/>
                  </a:lnTo>
                  <a:lnTo>
                    <a:pt x="986" y="112"/>
                  </a:lnTo>
                  <a:lnTo>
                    <a:pt x="1012" y="129"/>
                  </a:lnTo>
                  <a:lnTo>
                    <a:pt x="1037" y="145"/>
                  </a:lnTo>
                  <a:lnTo>
                    <a:pt x="1061" y="163"/>
                  </a:lnTo>
                  <a:lnTo>
                    <a:pt x="1083" y="181"/>
                  </a:lnTo>
                  <a:lnTo>
                    <a:pt x="1103" y="198"/>
                  </a:lnTo>
                  <a:lnTo>
                    <a:pt x="1119" y="214"/>
                  </a:lnTo>
                  <a:lnTo>
                    <a:pt x="1141" y="239"/>
                  </a:lnTo>
                  <a:lnTo>
                    <a:pt x="1150" y="248"/>
                  </a:lnTo>
                  <a:lnTo>
                    <a:pt x="1161" y="249"/>
                  </a:lnTo>
                  <a:lnTo>
                    <a:pt x="1171" y="232"/>
                  </a:lnTo>
                  <a:lnTo>
                    <a:pt x="1165" y="204"/>
                  </a:lnTo>
                  <a:lnTo>
                    <a:pt x="1154" y="177"/>
                  </a:lnTo>
                  <a:lnTo>
                    <a:pt x="1137" y="151"/>
                  </a:lnTo>
                  <a:lnTo>
                    <a:pt x="1128" y="137"/>
                  </a:lnTo>
                  <a:lnTo>
                    <a:pt x="1118" y="123"/>
                  </a:lnTo>
                  <a:lnTo>
                    <a:pt x="1094" y="99"/>
                  </a:lnTo>
                  <a:lnTo>
                    <a:pt x="1080" y="86"/>
                  </a:lnTo>
                  <a:lnTo>
                    <a:pt x="1066" y="75"/>
                  </a:lnTo>
                  <a:lnTo>
                    <a:pt x="1051" y="64"/>
                  </a:lnTo>
                  <a:lnTo>
                    <a:pt x="1036" y="54"/>
                  </a:lnTo>
                  <a:lnTo>
                    <a:pt x="1020" y="44"/>
                  </a:lnTo>
                  <a:lnTo>
                    <a:pt x="1004" y="36"/>
                  </a:lnTo>
                  <a:lnTo>
                    <a:pt x="971" y="21"/>
                  </a:lnTo>
                  <a:lnTo>
                    <a:pt x="937" y="10"/>
                  </a:lnTo>
                  <a:lnTo>
                    <a:pt x="870" y="0"/>
                  </a:lnTo>
                  <a:lnTo>
                    <a:pt x="808" y="11"/>
                  </a:lnTo>
                  <a:lnTo>
                    <a:pt x="754" y="47"/>
                  </a:lnTo>
                  <a:lnTo>
                    <a:pt x="75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6378200">
              <a:off x="67680" y="4961520"/>
              <a:ext cx="614520" cy="596880"/>
            </a:xfrm>
            <a:custGeom>
              <a:avLst/>
              <a:gdLst/>
              <a:ahLst/>
              <a:rect l="l" t="t" r="r" b="b"/>
              <a:pathLst>
                <a:path w="1547" h="1979">
                  <a:moveTo>
                    <a:pt x="206" y="1599"/>
                  </a:moveTo>
                  <a:lnTo>
                    <a:pt x="227" y="1506"/>
                  </a:lnTo>
                  <a:lnTo>
                    <a:pt x="226" y="1468"/>
                  </a:lnTo>
                  <a:lnTo>
                    <a:pt x="218" y="1437"/>
                  </a:lnTo>
                  <a:lnTo>
                    <a:pt x="205" y="1408"/>
                  </a:lnTo>
                  <a:lnTo>
                    <a:pt x="197" y="1396"/>
                  </a:lnTo>
                  <a:lnTo>
                    <a:pt x="189" y="1383"/>
                  </a:lnTo>
                  <a:lnTo>
                    <a:pt x="168" y="1361"/>
                  </a:lnTo>
                  <a:lnTo>
                    <a:pt x="157" y="1350"/>
                  </a:lnTo>
                  <a:lnTo>
                    <a:pt x="145" y="1340"/>
                  </a:lnTo>
                  <a:lnTo>
                    <a:pt x="134" y="1330"/>
                  </a:lnTo>
                  <a:lnTo>
                    <a:pt x="122" y="1320"/>
                  </a:lnTo>
                  <a:lnTo>
                    <a:pt x="98" y="1301"/>
                  </a:lnTo>
                  <a:lnTo>
                    <a:pt x="75" y="1280"/>
                  </a:lnTo>
                  <a:lnTo>
                    <a:pt x="63" y="1269"/>
                  </a:lnTo>
                  <a:lnTo>
                    <a:pt x="53" y="1258"/>
                  </a:lnTo>
                  <a:lnTo>
                    <a:pt x="33" y="1234"/>
                  </a:lnTo>
                  <a:lnTo>
                    <a:pt x="17" y="1205"/>
                  </a:lnTo>
                  <a:lnTo>
                    <a:pt x="0" y="1137"/>
                  </a:lnTo>
                  <a:lnTo>
                    <a:pt x="3" y="1105"/>
                  </a:lnTo>
                  <a:lnTo>
                    <a:pt x="15" y="1069"/>
                  </a:lnTo>
                  <a:lnTo>
                    <a:pt x="24" y="1052"/>
                  </a:lnTo>
                  <a:lnTo>
                    <a:pt x="35" y="1034"/>
                  </a:lnTo>
                  <a:lnTo>
                    <a:pt x="46" y="1018"/>
                  </a:lnTo>
                  <a:lnTo>
                    <a:pt x="60" y="1002"/>
                  </a:lnTo>
                  <a:lnTo>
                    <a:pt x="75" y="987"/>
                  </a:lnTo>
                  <a:lnTo>
                    <a:pt x="91" y="974"/>
                  </a:lnTo>
                  <a:lnTo>
                    <a:pt x="107" y="964"/>
                  </a:lnTo>
                  <a:lnTo>
                    <a:pt x="125" y="955"/>
                  </a:lnTo>
                  <a:lnTo>
                    <a:pt x="161" y="946"/>
                  </a:lnTo>
                  <a:lnTo>
                    <a:pt x="200" y="949"/>
                  </a:lnTo>
                  <a:lnTo>
                    <a:pt x="235" y="972"/>
                  </a:lnTo>
                  <a:lnTo>
                    <a:pt x="258" y="990"/>
                  </a:lnTo>
                  <a:lnTo>
                    <a:pt x="284" y="1008"/>
                  </a:lnTo>
                  <a:lnTo>
                    <a:pt x="309" y="1023"/>
                  </a:lnTo>
                  <a:lnTo>
                    <a:pt x="332" y="1032"/>
                  </a:lnTo>
                  <a:lnTo>
                    <a:pt x="353" y="1032"/>
                  </a:lnTo>
                  <a:lnTo>
                    <a:pt x="369" y="1020"/>
                  </a:lnTo>
                  <a:lnTo>
                    <a:pt x="376" y="974"/>
                  </a:lnTo>
                  <a:lnTo>
                    <a:pt x="367" y="897"/>
                  </a:lnTo>
                  <a:lnTo>
                    <a:pt x="351" y="801"/>
                  </a:lnTo>
                  <a:lnTo>
                    <a:pt x="338" y="698"/>
                  </a:lnTo>
                  <a:lnTo>
                    <a:pt x="336" y="650"/>
                  </a:lnTo>
                  <a:lnTo>
                    <a:pt x="338" y="604"/>
                  </a:lnTo>
                  <a:lnTo>
                    <a:pt x="345" y="563"/>
                  </a:lnTo>
                  <a:lnTo>
                    <a:pt x="352" y="546"/>
                  </a:lnTo>
                  <a:lnTo>
                    <a:pt x="360" y="529"/>
                  </a:lnTo>
                  <a:lnTo>
                    <a:pt x="369" y="515"/>
                  </a:lnTo>
                  <a:lnTo>
                    <a:pt x="382" y="503"/>
                  </a:lnTo>
                  <a:lnTo>
                    <a:pt x="396" y="494"/>
                  </a:lnTo>
                  <a:lnTo>
                    <a:pt x="413" y="488"/>
                  </a:lnTo>
                  <a:lnTo>
                    <a:pt x="453" y="483"/>
                  </a:lnTo>
                  <a:lnTo>
                    <a:pt x="506" y="493"/>
                  </a:lnTo>
                  <a:lnTo>
                    <a:pt x="551" y="518"/>
                  </a:lnTo>
                  <a:lnTo>
                    <a:pt x="569" y="536"/>
                  </a:lnTo>
                  <a:lnTo>
                    <a:pt x="584" y="555"/>
                  </a:lnTo>
                  <a:lnTo>
                    <a:pt x="599" y="575"/>
                  </a:lnTo>
                  <a:lnTo>
                    <a:pt x="614" y="593"/>
                  </a:lnTo>
                  <a:lnTo>
                    <a:pt x="632" y="609"/>
                  </a:lnTo>
                  <a:lnTo>
                    <a:pt x="654" y="619"/>
                  </a:lnTo>
                  <a:lnTo>
                    <a:pt x="658" y="537"/>
                  </a:lnTo>
                  <a:lnTo>
                    <a:pt x="669" y="453"/>
                  </a:lnTo>
                  <a:lnTo>
                    <a:pt x="678" y="412"/>
                  </a:lnTo>
                  <a:lnTo>
                    <a:pt x="690" y="372"/>
                  </a:lnTo>
                  <a:lnTo>
                    <a:pt x="704" y="336"/>
                  </a:lnTo>
                  <a:lnTo>
                    <a:pt x="712" y="319"/>
                  </a:lnTo>
                  <a:lnTo>
                    <a:pt x="720" y="303"/>
                  </a:lnTo>
                  <a:lnTo>
                    <a:pt x="729" y="289"/>
                  </a:lnTo>
                  <a:lnTo>
                    <a:pt x="739" y="276"/>
                  </a:lnTo>
                  <a:lnTo>
                    <a:pt x="750" y="264"/>
                  </a:lnTo>
                  <a:lnTo>
                    <a:pt x="761" y="254"/>
                  </a:lnTo>
                  <a:lnTo>
                    <a:pt x="774" y="245"/>
                  </a:lnTo>
                  <a:lnTo>
                    <a:pt x="787" y="238"/>
                  </a:lnTo>
                  <a:lnTo>
                    <a:pt x="816" y="230"/>
                  </a:lnTo>
                  <a:lnTo>
                    <a:pt x="882" y="239"/>
                  </a:lnTo>
                  <a:lnTo>
                    <a:pt x="922" y="259"/>
                  </a:lnTo>
                  <a:lnTo>
                    <a:pt x="942" y="273"/>
                  </a:lnTo>
                  <a:lnTo>
                    <a:pt x="964" y="290"/>
                  </a:lnTo>
                  <a:lnTo>
                    <a:pt x="977" y="266"/>
                  </a:lnTo>
                  <a:lnTo>
                    <a:pt x="989" y="244"/>
                  </a:lnTo>
                  <a:lnTo>
                    <a:pt x="1001" y="223"/>
                  </a:lnTo>
                  <a:lnTo>
                    <a:pt x="1014" y="203"/>
                  </a:lnTo>
                  <a:lnTo>
                    <a:pt x="1026" y="184"/>
                  </a:lnTo>
                  <a:lnTo>
                    <a:pt x="1037" y="167"/>
                  </a:lnTo>
                  <a:lnTo>
                    <a:pt x="1050" y="149"/>
                  </a:lnTo>
                  <a:lnTo>
                    <a:pt x="1061" y="135"/>
                  </a:lnTo>
                  <a:lnTo>
                    <a:pt x="1073" y="120"/>
                  </a:lnTo>
                  <a:lnTo>
                    <a:pt x="1083" y="105"/>
                  </a:lnTo>
                  <a:lnTo>
                    <a:pt x="1106" y="81"/>
                  </a:lnTo>
                  <a:lnTo>
                    <a:pt x="1117" y="69"/>
                  </a:lnTo>
                  <a:lnTo>
                    <a:pt x="1127" y="60"/>
                  </a:lnTo>
                  <a:lnTo>
                    <a:pt x="1149" y="42"/>
                  </a:lnTo>
                  <a:lnTo>
                    <a:pt x="1169" y="27"/>
                  </a:lnTo>
                  <a:lnTo>
                    <a:pt x="1188" y="16"/>
                  </a:lnTo>
                  <a:lnTo>
                    <a:pt x="1224" y="2"/>
                  </a:lnTo>
                  <a:lnTo>
                    <a:pt x="1255" y="0"/>
                  </a:lnTo>
                  <a:lnTo>
                    <a:pt x="1283" y="7"/>
                  </a:lnTo>
                  <a:lnTo>
                    <a:pt x="1305" y="23"/>
                  </a:lnTo>
                  <a:lnTo>
                    <a:pt x="1321" y="46"/>
                  </a:lnTo>
                  <a:lnTo>
                    <a:pt x="1336" y="110"/>
                  </a:lnTo>
                  <a:lnTo>
                    <a:pt x="1334" y="149"/>
                  </a:lnTo>
                  <a:lnTo>
                    <a:pt x="1323" y="193"/>
                  </a:lnTo>
                  <a:lnTo>
                    <a:pt x="1316" y="214"/>
                  </a:lnTo>
                  <a:lnTo>
                    <a:pt x="1306" y="236"/>
                  </a:lnTo>
                  <a:lnTo>
                    <a:pt x="1294" y="258"/>
                  </a:lnTo>
                  <a:lnTo>
                    <a:pt x="1280" y="280"/>
                  </a:lnTo>
                  <a:lnTo>
                    <a:pt x="1384" y="277"/>
                  </a:lnTo>
                  <a:lnTo>
                    <a:pt x="1464" y="295"/>
                  </a:lnTo>
                  <a:lnTo>
                    <a:pt x="1519" y="327"/>
                  </a:lnTo>
                  <a:lnTo>
                    <a:pt x="1547" y="373"/>
                  </a:lnTo>
                  <a:lnTo>
                    <a:pt x="1545" y="427"/>
                  </a:lnTo>
                  <a:lnTo>
                    <a:pt x="1532" y="455"/>
                  </a:lnTo>
                  <a:lnTo>
                    <a:pt x="1523" y="470"/>
                  </a:lnTo>
                  <a:lnTo>
                    <a:pt x="1512" y="484"/>
                  </a:lnTo>
                  <a:lnTo>
                    <a:pt x="1498" y="499"/>
                  </a:lnTo>
                  <a:lnTo>
                    <a:pt x="1482" y="514"/>
                  </a:lnTo>
                  <a:lnTo>
                    <a:pt x="1465" y="529"/>
                  </a:lnTo>
                  <a:lnTo>
                    <a:pt x="1445" y="542"/>
                  </a:lnTo>
                  <a:lnTo>
                    <a:pt x="1423" y="557"/>
                  </a:lnTo>
                  <a:lnTo>
                    <a:pt x="1399" y="571"/>
                  </a:lnTo>
                  <a:lnTo>
                    <a:pt x="1373" y="584"/>
                  </a:lnTo>
                  <a:lnTo>
                    <a:pt x="1344" y="597"/>
                  </a:lnTo>
                  <a:lnTo>
                    <a:pt x="1438" y="628"/>
                  </a:lnTo>
                  <a:lnTo>
                    <a:pt x="1475" y="648"/>
                  </a:lnTo>
                  <a:lnTo>
                    <a:pt x="1504" y="671"/>
                  </a:lnTo>
                  <a:lnTo>
                    <a:pt x="1540" y="723"/>
                  </a:lnTo>
                  <a:lnTo>
                    <a:pt x="1547" y="779"/>
                  </a:lnTo>
                  <a:lnTo>
                    <a:pt x="1538" y="809"/>
                  </a:lnTo>
                  <a:lnTo>
                    <a:pt x="1531" y="824"/>
                  </a:lnTo>
                  <a:lnTo>
                    <a:pt x="1522" y="837"/>
                  </a:lnTo>
                  <a:lnTo>
                    <a:pt x="1510" y="852"/>
                  </a:lnTo>
                  <a:lnTo>
                    <a:pt x="1497" y="867"/>
                  </a:lnTo>
                  <a:lnTo>
                    <a:pt x="1482" y="881"/>
                  </a:lnTo>
                  <a:lnTo>
                    <a:pt x="1465" y="894"/>
                  </a:lnTo>
                  <a:lnTo>
                    <a:pt x="1447" y="908"/>
                  </a:lnTo>
                  <a:lnTo>
                    <a:pt x="1426" y="922"/>
                  </a:lnTo>
                  <a:lnTo>
                    <a:pt x="1403" y="934"/>
                  </a:lnTo>
                  <a:lnTo>
                    <a:pt x="1379" y="947"/>
                  </a:lnTo>
                  <a:lnTo>
                    <a:pt x="1352" y="959"/>
                  </a:lnTo>
                  <a:lnTo>
                    <a:pt x="1323" y="969"/>
                  </a:lnTo>
                  <a:lnTo>
                    <a:pt x="1292" y="980"/>
                  </a:lnTo>
                  <a:lnTo>
                    <a:pt x="1259" y="989"/>
                  </a:lnTo>
                  <a:lnTo>
                    <a:pt x="1328" y="1011"/>
                  </a:lnTo>
                  <a:lnTo>
                    <a:pt x="1354" y="1026"/>
                  </a:lnTo>
                  <a:lnTo>
                    <a:pt x="1376" y="1043"/>
                  </a:lnTo>
                  <a:lnTo>
                    <a:pt x="1406" y="1084"/>
                  </a:lnTo>
                  <a:lnTo>
                    <a:pt x="1419" y="1131"/>
                  </a:lnTo>
                  <a:lnTo>
                    <a:pt x="1418" y="1183"/>
                  </a:lnTo>
                  <a:lnTo>
                    <a:pt x="1411" y="1210"/>
                  </a:lnTo>
                  <a:lnTo>
                    <a:pt x="1402" y="1238"/>
                  </a:lnTo>
                  <a:lnTo>
                    <a:pt x="1390" y="1266"/>
                  </a:lnTo>
                  <a:lnTo>
                    <a:pt x="1375" y="1295"/>
                  </a:lnTo>
                  <a:lnTo>
                    <a:pt x="1357" y="1322"/>
                  </a:lnTo>
                  <a:lnTo>
                    <a:pt x="1347" y="1336"/>
                  </a:lnTo>
                  <a:lnTo>
                    <a:pt x="1337" y="1349"/>
                  </a:lnTo>
                  <a:lnTo>
                    <a:pt x="1327" y="1363"/>
                  </a:lnTo>
                  <a:lnTo>
                    <a:pt x="1315" y="1377"/>
                  </a:lnTo>
                  <a:lnTo>
                    <a:pt x="1291" y="1403"/>
                  </a:lnTo>
                  <a:lnTo>
                    <a:pt x="1278" y="1416"/>
                  </a:lnTo>
                  <a:lnTo>
                    <a:pt x="1265" y="1428"/>
                  </a:lnTo>
                  <a:lnTo>
                    <a:pt x="1252" y="1440"/>
                  </a:lnTo>
                  <a:lnTo>
                    <a:pt x="1238" y="1452"/>
                  </a:lnTo>
                  <a:lnTo>
                    <a:pt x="1224" y="1463"/>
                  </a:lnTo>
                  <a:lnTo>
                    <a:pt x="1209" y="1474"/>
                  </a:lnTo>
                  <a:lnTo>
                    <a:pt x="1194" y="1484"/>
                  </a:lnTo>
                  <a:lnTo>
                    <a:pt x="1179" y="1495"/>
                  </a:lnTo>
                  <a:lnTo>
                    <a:pt x="1164" y="1504"/>
                  </a:lnTo>
                  <a:lnTo>
                    <a:pt x="1149" y="1514"/>
                  </a:lnTo>
                  <a:lnTo>
                    <a:pt x="1118" y="1530"/>
                  </a:lnTo>
                  <a:lnTo>
                    <a:pt x="1085" y="1543"/>
                  </a:lnTo>
                  <a:lnTo>
                    <a:pt x="1053" y="1555"/>
                  </a:lnTo>
                  <a:lnTo>
                    <a:pt x="1021" y="1563"/>
                  </a:lnTo>
                  <a:lnTo>
                    <a:pt x="989" y="1569"/>
                  </a:lnTo>
                  <a:lnTo>
                    <a:pt x="925" y="1569"/>
                  </a:lnTo>
                  <a:lnTo>
                    <a:pt x="865" y="1553"/>
                  </a:lnTo>
                  <a:lnTo>
                    <a:pt x="839" y="1566"/>
                  </a:lnTo>
                  <a:lnTo>
                    <a:pt x="813" y="1582"/>
                  </a:lnTo>
                  <a:lnTo>
                    <a:pt x="789" y="1598"/>
                  </a:lnTo>
                  <a:lnTo>
                    <a:pt x="766" y="1616"/>
                  </a:lnTo>
                  <a:lnTo>
                    <a:pt x="743" y="1634"/>
                  </a:lnTo>
                  <a:lnTo>
                    <a:pt x="720" y="1652"/>
                  </a:lnTo>
                  <a:lnTo>
                    <a:pt x="696" y="1669"/>
                  </a:lnTo>
                  <a:lnTo>
                    <a:pt x="673" y="1687"/>
                  </a:lnTo>
                  <a:lnTo>
                    <a:pt x="645" y="1702"/>
                  </a:lnTo>
                  <a:lnTo>
                    <a:pt x="622" y="1712"/>
                  </a:lnTo>
                  <a:lnTo>
                    <a:pt x="581" y="1714"/>
                  </a:lnTo>
                  <a:lnTo>
                    <a:pt x="549" y="1701"/>
                  </a:lnTo>
                  <a:lnTo>
                    <a:pt x="519" y="1683"/>
                  </a:lnTo>
                  <a:lnTo>
                    <a:pt x="504" y="1675"/>
                  </a:lnTo>
                  <a:lnTo>
                    <a:pt x="489" y="1669"/>
                  </a:lnTo>
                  <a:lnTo>
                    <a:pt x="453" y="1667"/>
                  </a:lnTo>
                  <a:lnTo>
                    <a:pt x="409" y="1685"/>
                  </a:lnTo>
                  <a:lnTo>
                    <a:pt x="383" y="1707"/>
                  </a:lnTo>
                  <a:lnTo>
                    <a:pt x="368" y="1720"/>
                  </a:lnTo>
                  <a:lnTo>
                    <a:pt x="353" y="1736"/>
                  </a:lnTo>
                  <a:lnTo>
                    <a:pt x="278" y="1743"/>
                  </a:lnTo>
                  <a:lnTo>
                    <a:pt x="277" y="1731"/>
                  </a:lnTo>
                  <a:lnTo>
                    <a:pt x="278" y="1717"/>
                  </a:lnTo>
                  <a:lnTo>
                    <a:pt x="287" y="1690"/>
                  </a:lnTo>
                  <a:lnTo>
                    <a:pt x="298" y="1675"/>
                  </a:lnTo>
                  <a:lnTo>
                    <a:pt x="314" y="1658"/>
                  </a:lnTo>
                  <a:lnTo>
                    <a:pt x="323" y="1650"/>
                  </a:lnTo>
                  <a:lnTo>
                    <a:pt x="335" y="1640"/>
                  </a:lnTo>
                  <a:lnTo>
                    <a:pt x="348" y="1630"/>
                  </a:lnTo>
                  <a:lnTo>
                    <a:pt x="363" y="1619"/>
                  </a:lnTo>
                  <a:lnTo>
                    <a:pt x="390" y="1609"/>
                  </a:lnTo>
                  <a:lnTo>
                    <a:pt x="420" y="1606"/>
                  </a:lnTo>
                  <a:lnTo>
                    <a:pt x="487" y="1619"/>
                  </a:lnTo>
                  <a:lnTo>
                    <a:pt x="521" y="1628"/>
                  </a:lnTo>
                  <a:lnTo>
                    <a:pt x="555" y="1632"/>
                  </a:lnTo>
                  <a:lnTo>
                    <a:pt x="613" y="1618"/>
                  </a:lnTo>
                  <a:lnTo>
                    <a:pt x="636" y="1601"/>
                  </a:lnTo>
                  <a:lnTo>
                    <a:pt x="648" y="1592"/>
                  </a:lnTo>
                  <a:lnTo>
                    <a:pt x="662" y="1581"/>
                  </a:lnTo>
                  <a:lnTo>
                    <a:pt x="677" y="1570"/>
                  </a:lnTo>
                  <a:lnTo>
                    <a:pt x="692" y="1558"/>
                  </a:lnTo>
                  <a:lnTo>
                    <a:pt x="707" y="1546"/>
                  </a:lnTo>
                  <a:lnTo>
                    <a:pt x="723" y="1535"/>
                  </a:lnTo>
                  <a:lnTo>
                    <a:pt x="738" y="1523"/>
                  </a:lnTo>
                  <a:lnTo>
                    <a:pt x="754" y="1513"/>
                  </a:lnTo>
                  <a:lnTo>
                    <a:pt x="769" y="1502"/>
                  </a:lnTo>
                  <a:lnTo>
                    <a:pt x="784" y="1493"/>
                  </a:lnTo>
                  <a:lnTo>
                    <a:pt x="812" y="1478"/>
                  </a:lnTo>
                  <a:lnTo>
                    <a:pt x="836" y="1468"/>
                  </a:lnTo>
                  <a:lnTo>
                    <a:pt x="906" y="1454"/>
                  </a:lnTo>
                  <a:lnTo>
                    <a:pt x="970" y="1446"/>
                  </a:lnTo>
                  <a:lnTo>
                    <a:pt x="1090" y="1432"/>
                  </a:lnTo>
                  <a:lnTo>
                    <a:pt x="1144" y="1416"/>
                  </a:lnTo>
                  <a:lnTo>
                    <a:pt x="1195" y="1387"/>
                  </a:lnTo>
                  <a:lnTo>
                    <a:pt x="1219" y="1367"/>
                  </a:lnTo>
                  <a:lnTo>
                    <a:pt x="1242" y="1342"/>
                  </a:lnTo>
                  <a:lnTo>
                    <a:pt x="1264" y="1311"/>
                  </a:lnTo>
                  <a:lnTo>
                    <a:pt x="1285" y="1276"/>
                  </a:lnTo>
                  <a:lnTo>
                    <a:pt x="1298" y="1251"/>
                  </a:lnTo>
                  <a:lnTo>
                    <a:pt x="1308" y="1229"/>
                  </a:lnTo>
                  <a:lnTo>
                    <a:pt x="1323" y="1189"/>
                  </a:lnTo>
                  <a:lnTo>
                    <a:pt x="1334" y="1130"/>
                  </a:lnTo>
                  <a:lnTo>
                    <a:pt x="1329" y="1110"/>
                  </a:lnTo>
                  <a:lnTo>
                    <a:pt x="1320" y="1094"/>
                  </a:lnTo>
                  <a:lnTo>
                    <a:pt x="1306" y="1083"/>
                  </a:lnTo>
                  <a:lnTo>
                    <a:pt x="1287" y="1075"/>
                  </a:lnTo>
                  <a:lnTo>
                    <a:pt x="1238" y="1070"/>
                  </a:lnTo>
                  <a:lnTo>
                    <a:pt x="1178" y="1073"/>
                  </a:lnTo>
                  <a:lnTo>
                    <a:pt x="1110" y="1083"/>
                  </a:lnTo>
                  <a:lnTo>
                    <a:pt x="1038" y="1091"/>
                  </a:lnTo>
                  <a:lnTo>
                    <a:pt x="1004" y="1088"/>
                  </a:lnTo>
                  <a:lnTo>
                    <a:pt x="983" y="1070"/>
                  </a:lnTo>
                  <a:lnTo>
                    <a:pt x="982" y="1046"/>
                  </a:lnTo>
                  <a:lnTo>
                    <a:pt x="989" y="1032"/>
                  </a:lnTo>
                  <a:lnTo>
                    <a:pt x="1001" y="1019"/>
                  </a:lnTo>
                  <a:lnTo>
                    <a:pt x="1019" y="1006"/>
                  </a:lnTo>
                  <a:lnTo>
                    <a:pt x="1042" y="993"/>
                  </a:lnTo>
                  <a:lnTo>
                    <a:pt x="1069" y="979"/>
                  </a:lnTo>
                  <a:lnTo>
                    <a:pt x="1102" y="965"/>
                  </a:lnTo>
                  <a:lnTo>
                    <a:pt x="1136" y="951"/>
                  </a:lnTo>
                  <a:lnTo>
                    <a:pt x="1173" y="936"/>
                  </a:lnTo>
                  <a:lnTo>
                    <a:pt x="1210" y="922"/>
                  </a:lnTo>
                  <a:lnTo>
                    <a:pt x="1248" y="908"/>
                  </a:lnTo>
                  <a:lnTo>
                    <a:pt x="1285" y="894"/>
                  </a:lnTo>
                  <a:lnTo>
                    <a:pt x="1321" y="881"/>
                  </a:lnTo>
                  <a:lnTo>
                    <a:pt x="1354" y="868"/>
                  </a:lnTo>
                  <a:lnTo>
                    <a:pt x="1383" y="856"/>
                  </a:lnTo>
                  <a:lnTo>
                    <a:pt x="1427" y="836"/>
                  </a:lnTo>
                  <a:lnTo>
                    <a:pt x="1447" y="822"/>
                  </a:lnTo>
                  <a:lnTo>
                    <a:pt x="1452" y="786"/>
                  </a:lnTo>
                  <a:lnTo>
                    <a:pt x="1447" y="755"/>
                  </a:lnTo>
                  <a:lnTo>
                    <a:pt x="1430" y="731"/>
                  </a:lnTo>
                  <a:lnTo>
                    <a:pt x="1420" y="720"/>
                  </a:lnTo>
                  <a:lnTo>
                    <a:pt x="1408" y="712"/>
                  </a:lnTo>
                  <a:lnTo>
                    <a:pt x="1380" y="696"/>
                  </a:lnTo>
                  <a:lnTo>
                    <a:pt x="1346" y="684"/>
                  </a:lnTo>
                  <a:lnTo>
                    <a:pt x="1312" y="674"/>
                  </a:lnTo>
                  <a:lnTo>
                    <a:pt x="1276" y="667"/>
                  </a:lnTo>
                  <a:lnTo>
                    <a:pt x="1163" y="638"/>
                  </a:lnTo>
                  <a:lnTo>
                    <a:pt x="1149" y="617"/>
                  </a:lnTo>
                  <a:lnTo>
                    <a:pt x="1159" y="601"/>
                  </a:lnTo>
                  <a:lnTo>
                    <a:pt x="1170" y="593"/>
                  </a:lnTo>
                  <a:lnTo>
                    <a:pt x="1184" y="582"/>
                  </a:lnTo>
                  <a:lnTo>
                    <a:pt x="1201" y="571"/>
                  </a:lnTo>
                  <a:lnTo>
                    <a:pt x="1219" y="561"/>
                  </a:lnTo>
                  <a:lnTo>
                    <a:pt x="1256" y="543"/>
                  </a:lnTo>
                  <a:lnTo>
                    <a:pt x="1294" y="529"/>
                  </a:lnTo>
                  <a:lnTo>
                    <a:pt x="1332" y="513"/>
                  </a:lnTo>
                  <a:lnTo>
                    <a:pt x="1369" y="496"/>
                  </a:lnTo>
                  <a:lnTo>
                    <a:pt x="1404" y="476"/>
                  </a:lnTo>
                  <a:lnTo>
                    <a:pt x="1420" y="463"/>
                  </a:lnTo>
                  <a:lnTo>
                    <a:pt x="1435" y="450"/>
                  </a:lnTo>
                  <a:lnTo>
                    <a:pt x="1460" y="418"/>
                  </a:lnTo>
                  <a:lnTo>
                    <a:pt x="1425" y="370"/>
                  </a:lnTo>
                  <a:lnTo>
                    <a:pt x="1368" y="359"/>
                  </a:lnTo>
                  <a:lnTo>
                    <a:pt x="1314" y="361"/>
                  </a:lnTo>
                  <a:lnTo>
                    <a:pt x="1259" y="370"/>
                  </a:lnTo>
                  <a:lnTo>
                    <a:pt x="1202" y="378"/>
                  </a:lnTo>
                  <a:lnTo>
                    <a:pt x="1158" y="376"/>
                  </a:lnTo>
                  <a:lnTo>
                    <a:pt x="1145" y="360"/>
                  </a:lnTo>
                  <a:lnTo>
                    <a:pt x="1149" y="348"/>
                  </a:lnTo>
                  <a:lnTo>
                    <a:pt x="1157" y="332"/>
                  </a:lnTo>
                  <a:lnTo>
                    <a:pt x="1169" y="314"/>
                  </a:lnTo>
                  <a:lnTo>
                    <a:pt x="1182" y="294"/>
                  </a:lnTo>
                  <a:lnTo>
                    <a:pt x="1197" y="273"/>
                  </a:lnTo>
                  <a:lnTo>
                    <a:pt x="1214" y="251"/>
                  </a:lnTo>
                  <a:lnTo>
                    <a:pt x="1229" y="226"/>
                  </a:lnTo>
                  <a:lnTo>
                    <a:pt x="1242" y="202"/>
                  </a:lnTo>
                  <a:lnTo>
                    <a:pt x="1260" y="154"/>
                  </a:lnTo>
                  <a:lnTo>
                    <a:pt x="1257" y="106"/>
                  </a:lnTo>
                  <a:lnTo>
                    <a:pt x="1195" y="107"/>
                  </a:lnTo>
                  <a:lnTo>
                    <a:pt x="1160" y="125"/>
                  </a:lnTo>
                  <a:lnTo>
                    <a:pt x="1142" y="141"/>
                  </a:lnTo>
                  <a:lnTo>
                    <a:pt x="1124" y="161"/>
                  </a:lnTo>
                  <a:lnTo>
                    <a:pt x="1105" y="183"/>
                  </a:lnTo>
                  <a:lnTo>
                    <a:pt x="1087" y="207"/>
                  </a:lnTo>
                  <a:lnTo>
                    <a:pt x="1069" y="233"/>
                  </a:lnTo>
                  <a:lnTo>
                    <a:pt x="1052" y="259"/>
                  </a:lnTo>
                  <a:lnTo>
                    <a:pt x="1037" y="285"/>
                  </a:lnTo>
                  <a:lnTo>
                    <a:pt x="1022" y="310"/>
                  </a:lnTo>
                  <a:lnTo>
                    <a:pt x="1008" y="333"/>
                  </a:lnTo>
                  <a:lnTo>
                    <a:pt x="998" y="354"/>
                  </a:lnTo>
                  <a:lnTo>
                    <a:pt x="982" y="385"/>
                  </a:lnTo>
                  <a:lnTo>
                    <a:pt x="976" y="397"/>
                  </a:lnTo>
                  <a:lnTo>
                    <a:pt x="939" y="380"/>
                  </a:lnTo>
                  <a:lnTo>
                    <a:pt x="924" y="368"/>
                  </a:lnTo>
                  <a:lnTo>
                    <a:pt x="910" y="353"/>
                  </a:lnTo>
                  <a:lnTo>
                    <a:pt x="895" y="337"/>
                  </a:lnTo>
                  <a:lnTo>
                    <a:pt x="879" y="322"/>
                  </a:lnTo>
                  <a:lnTo>
                    <a:pt x="859" y="309"/>
                  </a:lnTo>
                  <a:lnTo>
                    <a:pt x="836" y="297"/>
                  </a:lnTo>
                  <a:lnTo>
                    <a:pt x="811" y="320"/>
                  </a:lnTo>
                  <a:lnTo>
                    <a:pt x="790" y="351"/>
                  </a:lnTo>
                  <a:lnTo>
                    <a:pt x="762" y="435"/>
                  </a:lnTo>
                  <a:lnTo>
                    <a:pt x="749" y="541"/>
                  </a:lnTo>
                  <a:lnTo>
                    <a:pt x="745" y="664"/>
                  </a:lnTo>
                  <a:lnTo>
                    <a:pt x="707" y="705"/>
                  </a:lnTo>
                  <a:lnTo>
                    <a:pt x="670" y="705"/>
                  </a:lnTo>
                  <a:lnTo>
                    <a:pt x="640" y="692"/>
                  </a:lnTo>
                  <a:lnTo>
                    <a:pt x="614" y="672"/>
                  </a:lnTo>
                  <a:lnTo>
                    <a:pt x="591" y="648"/>
                  </a:lnTo>
                  <a:lnTo>
                    <a:pt x="568" y="620"/>
                  </a:lnTo>
                  <a:lnTo>
                    <a:pt x="555" y="608"/>
                  </a:lnTo>
                  <a:lnTo>
                    <a:pt x="543" y="595"/>
                  </a:lnTo>
                  <a:lnTo>
                    <a:pt x="529" y="585"/>
                  </a:lnTo>
                  <a:lnTo>
                    <a:pt x="516" y="575"/>
                  </a:lnTo>
                  <a:lnTo>
                    <a:pt x="484" y="562"/>
                  </a:lnTo>
                  <a:lnTo>
                    <a:pt x="457" y="561"/>
                  </a:lnTo>
                  <a:lnTo>
                    <a:pt x="435" y="571"/>
                  </a:lnTo>
                  <a:lnTo>
                    <a:pt x="411" y="614"/>
                  </a:lnTo>
                  <a:lnTo>
                    <a:pt x="404" y="683"/>
                  </a:lnTo>
                  <a:lnTo>
                    <a:pt x="408" y="767"/>
                  </a:lnTo>
                  <a:lnTo>
                    <a:pt x="418" y="858"/>
                  </a:lnTo>
                  <a:lnTo>
                    <a:pt x="426" y="946"/>
                  </a:lnTo>
                  <a:lnTo>
                    <a:pt x="424" y="1021"/>
                  </a:lnTo>
                  <a:lnTo>
                    <a:pt x="419" y="1049"/>
                  </a:lnTo>
                  <a:lnTo>
                    <a:pt x="408" y="1072"/>
                  </a:lnTo>
                  <a:lnTo>
                    <a:pt x="401" y="1081"/>
                  </a:lnTo>
                  <a:lnTo>
                    <a:pt x="392" y="1086"/>
                  </a:lnTo>
                  <a:lnTo>
                    <a:pt x="373" y="1091"/>
                  </a:lnTo>
                  <a:lnTo>
                    <a:pt x="323" y="1082"/>
                  </a:lnTo>
                  <a:lnTo>
                    <a:pt x="295" y="1070"/>
                  </a:lnTo>
                  <a:lnTo>
                    <a:pt x="265" y="1057"/>
                  </a:lnTo>
                  <a:lnTo>
                    <a:pt x="235" y="1041"/>
                  </a:lnTo>
                  <a:lnTo>
                    <a:pt x="206" y="1027"/>
                  </a:lnTo>
                  <a:lnTo>
                    <a:pt x="178" y="1014"/>
                  </a:lnTo>
                  <a:lnTo>
                    <a:pt x="151" y="1007"/>
                  </a:lnTo>
                  <a:lnTo>
                    <a:pt x="106" y="1009"/>
                  </a:lnTo>
                  <a:lnTo>
                    <a:pt x="90" y="1023"/>
                  </a:lnTo>
                  <a:lnTo>
                    <a:pt x="78" y="1047"/>
                  </a:lnTo>
                  <a:lnTo>
                    <a:pt x="73" y="1132"/>
                  </a:lnTo>
                  <a:lnTo>
                    <a:pt x="77" y="1168"/>
                  </a:lnTo>
                  <a:lnTo>
                    <a:pt x="89" y="1199"/>
                  </a:lnTo>
                  <a:lnTo>
                    <a:pt x="104" y="1224"/>
                  </a:lnTo>
                  <a:lnTo>
                    <a:pt x="121" y="1245"/>
                  </a:lnTo>
                  <a:lnTo>
                    <a:pt x="131" y="1255"/>
                  </a:lnTo>
                  <a:lnTo>
                    <a:pt x="143" y="1263"/>
                  </a:lnTo>
                  <a:lnTo>
                    <a:pt x="165" y="1279"/>
                  </a:lnTo>
                  <a:lnTo>
                    <a:pt x="189" y="1294"/>
                  </a:lnTo>
                  <a:lnTo>
                    <a:pt x="212" y="1307"/>
                  </a:lnTo>
                  <a:lnTo>
                    <a:pt x="235" y="1321"/>
                  </a:lnTo>
                  <a:lnTo>
                    <a:pt x="256" y="1337"/>
                  </a:lnTo>
                  <a:lnTo>
                    <a:pt x="290" y="1375"/>
                  </a:lnTo>
                  <a:lnTo>
                    <a:pt x="307" y="1427"/>
                  </a:lnTo>
                  <a:lnTo>
                    <a:pt x="307" y="1444"/>
                  </a:lnTo>
                  <a:lnTo>
                    <a:pt x="307" y="1462"/>
                  </a:lnTo>
                  <a:lnTo>
                    <a:pt x="300" y="1503"/>
                  </a:lnTo>
                  <a:lnTo>
                    <a:pt x="318" y="1485"/>
                  </a:lnTo>
                  <a:lnTo>
                    <a:pt x="339" y="1467"/>
                  </a:lnTo>
                  <a:lnTo>
                    <a:pt x="359" y="1448"/>
                  </a:lnTo>
                  <a:lnTo>
                    <a:pt x="381" y="1428"/>
                  </a:lnTo>
                  <a:lnTo>
                    <a:pt x="391" y="1419"/>
                  </a:lnTo>
                  <a:lnTo>
                    <a:pt x="403" y="1408"/>
                  </a:lnTo>
                  <a:lnTo>
                    <a:pt x="413" y="1398"/>
                  </a:lnTo>
                  <a:lnTo>
                    <a:pt x="424" y="1387"/>
                  </a:lnTo>
                  <a:lnTo>
                    <a:pt x="436" y="1377"/>
                  </a:lnTo>
                  <a:lnTo>
                    <a:pt x="448" y="1365"/>
                  </a:lnTo>
                  <a:lnTo>
                    <a:pt x="459" y="1354"/>
                  </a:lnTo>
                  <a:lnTo>
                    <a:pt x="471" y="1342"/>
                  </a:lnTo>
                  <a:lnTo>
                    <a:pt x="482" y="1331"/>
                  </a:lnTo>
                  <a:lnTo>
                    <a:pt x="493" y="1321"/>
                  </a:lnTo>
                  <a:lnTo>
                    <a:pt x="511" y="1301"/>
                  </a:lnTo>
                  <a:lnTo>
                    <a:pt x="527" y="1282"/>
                  </a:lnTo>
                  <a:lnTo>
                    <a:pt x="541" y="1264"/>
                  </a:lnTo>
                  <a:lnTo>
                    <a:pt x="553" y="1247"/>
                  </a:lnTo>
                  <a:lnTo>
                    <a:pt x="563" y="1231"/>
                  </a:lnTo>
                  <a:lnTo>
                    <a:pt x="580" y="1198"/>
                  </a:lnTo>
                  <a:lnTo>
                    <a:pt x="604" y="1126"/>
                  </a:lnTo>
                  <a:lnTo>
                    <a:pt x="615" y="1082"/>
                  </a:lnTo>
                  <a:lnTo>
                    <a:pt x="626" y="1029"/>
                  </a:lnTo>
                  <a:lnTo>
                    <a:pt x="640" y="981"/>
                  </a:lnTo>
                  <a:lnTo>
                    <a:pt x="648" y="957"/>
                  </a:lnTo>
                  <a:lnTo>
                    <a:pt x="658" y="935"/>
                  </a:lnTo>
                  <a:lnTo>
                    <a:pt x="667" y="913"/>
                  </a:lnTo>
                  <a:lnTo>
                    <a:pt x="677" y="891"/>
                  </a:lnTo>
                  <a:lnTo>
                    <a:pt x="689" y="870"/>
                  </a:lnTo>
                  <a:lnTo>
                    <a:pt x="700" y="850"/>
                  </a:lnTo>
                  <a:lnTo>
                    <a:pt x="714" y="830"/>
                  </a:lnTo>
                  <a:lnTo>
                    <a:pt x="727" y="810"/>
                  </a:lnTo>
                  <a:lnTo>
                    <a:pt x="741" y="791"/>
                  </a:lnTo>
                  <a:lnTo>
                    <a:pt x="756" y="772"/>
                  </a:lnTo>
                  <a:lnTo>
                    <a:pt x="771" y="754"/>
                  </a:lnTo>
                  <a:lnTo>
                    <a:pt x="786" y="736"/>
                  </a:lnTo>
                  <a:lnTo>
                    <a:pt x="802" y="718"/>
                  </a:lnTo>
                  <a:lnTo>
                    <a:pt x="818" y="700"/>
                  </a:lnTo>
                  <a:lnTo>
                    <a:pt x="835" y="684"/>
                  </a:lnTo>
                  <a:lnTo>
                    <a:pt x="852" y="667"/>
                  </a:lnTo>
                  <a:lnTo>
                    <a:pt x="870" y="650"/>
                  </a:lnTo>
                  <a:lnTo>
                    <a:pt x="887" y="633"/>
                  </a:lnTo>
                  <a:lnTo>
                    <a:pt x="906" y="616"/>
                  </a:lnTo>
                  <a:lnTo>
                    <a:pt x="924" y="599"/>
                  </a:lnTo>
                  <a:lnTo>
                    <a:pt x="942" y="584"/>
                  </a:lnTo>
                  <a:lnTo>
                    <a:pt x="961" y="567"/>
                  </a:lnTo>
                  <a:lnTo>
                    <a:pt x="979" y="551"/>
                  </a:lnTo>
                  <a:lnTo>
                    <a:pt x="998" y="535"/>
                  </a:lnTo>
                  <a:lnTo>
                    <a:pt x="1016" y="518"/>
                  </a:lnTo>
                  <a:lnTo>
                    <a:pt x="1036" y="502"/>
                  </a:lnTo>
                  <a:lnTo>
                    <a:pt x="1054" y="486"/>
                  </a:lnTo>
                  <a:lnTo>
                    <a:pt x="1073" y="469"/>
                  </a:lnTo>
                  <a:lnTo>
                    <a:pt x="1092" y="453"/>
                  </a:lnTo>
                  <a:lnTo>
                    <a:pt x="1111" y="436"/>
                  </a:lnTo>
                  <a:lnTo>
                    <a:pt x="1133" y="456"/>
                  </a:lnTo>
                  <a:lnTo>
                    <a:pt x="1120" y="467"/>
                  </a:lnTo>
                  <a:lnTo>
                    <a:pt x="1109" y="477"/>
                  </a:lnTo>
                  <a:lnTo>
                    <a:pt x="1098" y="488"/>
                  </a:lnTo>
                  <a:lnTo>
                    <a:pt x="1087" y="498"/>
                  </a:lnTo>
                  <a:lnTo>
                    <a:pt x="1076" y="509"/>
                  </a:lnTo>
                  <a:lnTo>
                    <a:pt x="1065" y="519"/>
                  </a:lnTo>
                  <a:lnTo>
                    <a:pt x="1054" y="530"/>
                  </a:lnTo>
                  <a:lnTo>
                    <a:pt x="1045" y="540"/>
                  </a:lnTo>
                  <a:lnTo>
                    <a:pt x="1026" y="560"/>
                  </a:lnTo>
                  <a:lnTo>
                    <a:pt x="1007" y="580"/>
                  </a:lnTo>
                  <a:lnTo>
                    <a:pt x="989" y="600"/>
                  </a:lnTo>
                  <a:lnTo>
                    <a:pt x="972" y="619"/>
                  </a:lnTo>
                  <a:lnTo>
                    <a:pt x="956" y="638"/>
                  </a:lnTo>
                  <a:lnTo>
                    <a:pt x="941" y="657"/>
                  </a:lnTo>
                  <a:lnTo>
                    <a:pt x="926" y="675"/>
                  </a:lnTo>
                  <a:lnTo>
                    <a:pt x="912" y="693"/>
                  </a:lnTo>
                  <a:lnTo>
                    <a:pt x="900" y="711"/>
                  </a:lnTo>
                  <a:lnTo>
                    <a:pt x="887" y="729"/>
                  </a:lnTo>
                  <a:lnTo>
                    <a:pt x="876" y="746"/>
                  </a:lnTo>
                  <a:lnTo>
                    <a:pt x="864" y="763"/>
                  </a:lnTo>
                  <a:lnTo>
                    <a:pt x="844" y="796"/>
                  </a:lnTo>
                  <a:lnTo>
                    <a:pt x="826" y="829"/>
                  </a:lnTo>
                  <a:lnTo>
                    <a:pt x="810" y="861"/>
                  </a:lnTo>
                  <a:lnTo>
                    <a:pt x="795" y="891"/>
                  </a:lnTo>
                  <a:lnTo>
                    <a:pt x="782" y="921"/>
                  </a:lnTo>
                  <a:lnTo>
                    <a:pt x="771" y="949"/>
                  </a:lnTo>
                  <a:lnTo>
                    <a:pt x="760" y="978"/>
                  </a:lnTo>
                  <a:lnTo>
                    <a:pt x="751" y="1005"/>
                  </a:lnTo>
                  <a:lnTo>
                    <a:pt x="734" y="1059"/>
                  </a:lnTo>
                  <a:lnTo>
                    <a:pt x="719" y="1110"/>
                  </a:lnTo>
                  <a:lnTo>
                    <a:pt x="709" y="1136"/>
                  </a:lnTo>
                  <a:lnTo>
                    <a:pt x="701" y="1161"/>
                  </a:lnTo>
                  <a:lnTo>
                    <a:pt x="692" y="1186"/>
                  </a:lnTo>
                  <a:lnTo>
                    <a:pt x="682" y="1210"/>
                  </a:lnTo>
                  <a:lnTo>
                    <a:pt x="671" y="1235"/>
                  </a:lnTo>
                  <a:lnTo>
                    <a:pt x="659" y="1259"/>
                  </a:lnTo>
                  <a:lnTo>
                    <a:pt x="645" y="1283"/>
                  </a:lnTo>
                  <a:lnTo>
                    <a:pt x="630" y="1308"/>
                  </a:lnTo>
                  <a:lnTo>
                    <a:pt x="613" y="1333"/>
                  </a:lnTo>
                  <a:lnTo>
                    <a:pt x="593" y="1357"/>
                  </a:lnTo>
                  <a:lnTo>
                    <a:pt x="571" y="1381"/>
                  </a:lnTo>
                  <a:lnTo>
                    <a:pt x="558" y="1394"/>
                  </a:lnTo>
                  <a:lnTo>
                    <a:pt x="547" y="1406"/>
                  </a:lnTo>
                  <a:lnTo>
                    <a:pt x="528" y="1423"/>
                  </a:lnTo>
                  <a:lnTo>
                    <a:pt x="510" y="1440"/>
                  </a:lnTo>
                  <a:lnTo>
                    <a:pt x="491" y="1457"/>
                  </a:lnTo>
                  <a:lnTo>
                    <a:pt x="473" y="1473"/>
                  </a:lnTo>
                  <a:lnTo>
                    <a:pt x="454" y="1487"/>
                  </a:lnTo>
                  <a:lnTo>
                    <a:pt x="435" y="1502"/>
                  </a:lnTo>
                  <a:lnTo>
                    <a:pt x="416" y="1517"/>
                  </a:lnTo>
                  <a:lnTo>
                    <a:pt x="398" y="1532"/>
                  </a:lnTo>
                  <a:lnTo>
                    <a:pt x="379" y="1546"/>
                  </a:lnTo>
                  <a:lnTo>
                    <a:pt x="362" y="1561"/>
                  </a:lnTo>
                  <a:lnTo>
                    <a:pt x="344" y="1576"/>
                  </a:lnTo>
                  <a:lnTo>
                    <a:pt x="326" y="1591"/>
                  </a:lnTo>
                  <a:lnTo>
                    <a:pt x="309" y="1604"/>
                  </a:lnTo>
                  <a:lnTo>
                    <a:pt x="292" y="1619"/>
                  </a:lnTo>
                  <a:lnTo>
                    <a:pt x="276" y="1635"/>
                  </a:lnTo>
                  <a:lnTo>
                    <a:pt x="260" y="1650"/>
                  </a:lnTo>
                  <a:lnTo>
                    <a:pt x="245" y="1665"/>
                  </a:lnTo>
                  <a:lnTo>
                    <a:pt x="230" y="1681"/>
                  </a:lnTo>
                  <a:lnTo>
                    <a:pt x="216" y="1698"/>
                  </a:lnTo>
                  <a:lnTo>
                    <a:pt x="202" y="1715"/>
                  </a:lnTo>
                  <a:lnTo>
                    <a:pt x="189" y="1732"/>
                  </a:lnTo>
                  <a:lnTo>
                    <a:pt x="178" y="1751"/>
                  </a:lnTo>
                  <a:lnTo>
                    <a:pt x="157" y="1789"/>
                  </a:lnTo>
                  <a:lnTo>
                    <a:pt x="141" y="1831"/>
                  </a:lnTo>
                  <a:lnTo>
                    <a:pt x="128" y="1876"/>
                  </a:lnTo>
                  <a:lnTo>
                    <a:pt x="118" y="1979"/>
                  </a:lnTo>
                  <a:lnTo>
                    <a:pt x="86" y="1979"/>
                  </a:lnTo>
                  <a:lnTo>
                    <a:pt x="95" y="1855"/>
                  </a:lnTo>
                  <a:lnTo>
                    <a:pt x="104" y="1802"/>
                  </a:lnTo>
                  <a:lnTo>
                    <a:pt x="118" y="1754"/>
                  </a:lnTo>
                  <a:lnTo>
                    <a:pt x="126" y="1732"/>
                  </a:lnTo>
                  <a:lnTo>
                    <a:pt x="135" y="1711"/>
                  </a:lnTo>
                  <a:lnTo>
                    <a:pt x="144" y="1691"/>
                  </a:lnTo>
                  <a:lnTo>
                    <a:pt x="156" y="1672"/>
                  </a:lnTo>
                  <a:lnTo>
                    <a:pt x="167" y="1653"/>
                  </a:lnTo>
                  <a:lnTo>
                    <a:pt x="180" y="1634"/>
                  </a:lnTo>
                  <a:lnTo>
                    <a:pt x="193" y="1617"/>
                  </a:lnTo>
                  <a:lnTo>
                    <a:pt x="206" y="1599"/>
                  </a:lnTo>
                  <a:lnTo>
                    <a:pt x="206" y="15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6378200">
              <a:off x="132840" y="5420880"/>
              <a:ext cx="537840" cy="622440"/>
            </a:xfrm>
            <a:custGeom>
              <a:avLst/>
              <a:gdLst/>
              <a:ahLst/>
              <a:rect l="l" t="t" r="r" b="b"/>
              <a:pathLst>
                <a:path w="1354" h="2058">
                  <a:moveTo>
                    <a:pt x="598" y="4"/>
                  </a:moveTo>
                  <a:lnTo>
                    <a:pt x="594" y="111"/>
                  </a:lnTo>
                  <a:lnTo>
                    <a:pt x="599" y="166"/>
                  </a:lnTo>
                  <a:lnTo>
                    <a:pt x="607" y="221"/>
                  </a:lnTo>
                  <a:lnTo>
                    <a:pt x="618" y="275"/>
                  </a:lnTo>
                  <a:lnTo>
                    <a:pt x="633" y="331"/>
                  </a:lnTo>
                  <a:lnTo>
                    <a:pt x="641" y="359"/>
                  </a:lnTo>
                  <a:lnTo>
                    <a:pt x="651" y="386"/>
                  </a:lnTo>
                  <a:lnTo>
                    <a:pt x="661" y="413"/>
                  </a:lnTo>
                  <a:lnTo>
                    <a:pt x="671" y="440"/>
                  </a:lnTo>
                  <a:lnTo>
                    <a:pt x="683" y="467"/>
                  </a:lnTo>
                  <a:lnTo>
                    <a:pt x="694" y="493"/>
                  </a:lnTo>
                  <a:lnTo>
                    <a:pt x="707" y="520"/>
                  </a:lnTo>
                  <a:lnTo>
                    <a:pt x="720" y="546"/>
                  </a:lnTo>
                  <a:lnTo>
                    <a:pt x="734" y="572"/>
                  </a:lnTo>
                  <a:lnTo>
                    <a:pt x="748" y="598"/>
                  </a:lnTo>
                  <a:lnTo>
                    <a:pt x="763" y="623"/>
                  </a:lnTo>
                  <a:lnTo>
                    <a:pt x="778" y="647"/>
                  </a:lnTo>
                  <a:lnTo>
                    <a:pt x="794" y="673"/>
                  </a:lnTo>
                  <a:lnTo>
                    <a:pt x="810" y="696"/>
                  </a:lnTo>
                  <a:lnTo>
                    <a:pt x="826" y="720"/>
                  </a:lnTo>
                  <a:lnTo>
                    <a:pt x="843" y="743"/>
                  </a:lnTo>
                  <a:lnTo>
                    <a:pt x="861" y="765"/>
                  </a:lnTo>
                  <a:lnTo>
                    <a:pt x="878" y="787"/>
                  </a:lnTo>
                  <a:lnTo>
                    <a:pt x="896" y="808"/>
                  </a:lnTo>
                  <a:lnTo>
                    <a:pt x="915" y="830"/>
                  </a:lnTo>
                  <a:lnTo>
                    <a:pt x="926" y="813"/>
                  </a:lnTo>
                  <a:lnTo>
                    <a:pt x="939" y="798"/>
                  </a:lnTo>
                  <a:lnTo>
                    <a:pt x="953" y="782"/>
                  </a:lnTo>
                  <a:lnTo>
                    <a:pt x="968" y="768"/>
                  </a:lnTo>
                  <a:lnTo>
                    <a:pt x="982" y="754"/>
                  </a:lnTo>
                  <a:lnTo>
                    <a:pt x="998" y="741"/>
                  </a:lnTo>
                  <a:lnTo>
                    <a:pt x="1014" y="727"/>
                  </a:lnTo>
                  <a:lnTo>
                    <a:pt x="1030" y="715"/>
                  </a:lnTo>
                  <a:lnTo>
                    <a:pt x="1046" y="703"/>
                  </a:lnTo>
                  <a:lnTo>
                    <a:pt x="1064" y="692"/>
                  </a:lnTo>
                  <a:lnTo>
                    <a:pt x="1081" y="680"/>
                  </a:lnTo>
                  <a:lnTo>
                    <a:pt x="1099" y="669"/>
                  </a:lnTo>
                  <a:lnTo>
                    <a:pt x="1118" y="659"/>
                  </a:lnTo>
                  <a:lnTo>
                    <a:pt x="1135" y="648"/>
                  </a:lnTo>
                  <a:lnTo>
                    <a:pt x="1154" y="639"/>
                  </a:lnTo>
                  <a:lnTo>
                    <a:pt x="1173" y="629"/>
                  </a:lnTo>
                  <a:lnTo>
                    <a:pt x="1234" y="658"/>
                  </a:lnTo>
                  <a:lnTo>
                    <a:pt x="1201" y="669"/>
                  </a:lnTo>
                  <a:lnTo>
                    <a:pt x="1169" y="684"/>
                  </a:lnTo>
                  <a:lnTo>
                    <a:pt x="1139" y="701"/>
                  </a:lnTo>
                  <a:lnTo>
                    <a:pt x="1110" y="721"/>
                  </a:lnTo>
                  <a:lnTo>
                    <a:pt x="1096" y="732"/>
                  </a:lnTo>
                  <a:lnTo>
                    <a:pt x="1082" y="742"/>
                  </a:lnTo>
                  <a:lnTo>
                    <a:pt x="1069" y="754"/>
                  </a:lnTo>
                  <a:lnTo>
                    <a:pt x="1057" y="766"/>
                  </a:lnTo>
                  <a:lnTo>
                    <a:pt x="1034" y="792"/>
                  </a:lnTo>
                  <a:lnTo>
                    <a:pt x="1012" y="818"/>
                  </a:lnTo>
                  <a:lnTo>
                    <a:pt x="993" y="846"/>
                  </a:lnTo>
                  <a:lnTo>
                    <a:pt x="976" y="877"/>
                  </a:lnTo>
                  <a:lnTo>
                    <a:pt x="961" y="908"/>
                  </a:lnTo>
                  <a:lnTo>
                    <a:pt x="949" y="938"/>
                  </a:lnTo>
                  <a:lnTo>
                    <a:pt x="932" y="1002"/>
                  </a:lnTo>
                  <a:lnTo>
                    <a:pt x="926" y="1068"/>
                  </a:lnTo>
                  <a:lnTo>
                    <a:pt x="932" y="1123"/>
                  </a:lnTo>
                  <a:lnTo>
                    <a:pt x="938" y="1150"/>
                  </a:lnTo>
                  <a:lnTo>
                    <a:pt x="947" y="1176"/>
                  </a:lnTo>
                  <a:lnTo>
                    <a:pt x="957" y="1202"/>
                  </a:lnTo>
                  <a:lnTo>
                    <a:pt x="970" y="1228"/>
                  </a:lnTo>
                  <a:lnTo>
                    <a:pt x="984" y="1253"/>
                  </a:lnTo>
                  <a:lnTo>
                    <a:pt x="1000" y="1278"/>
                  </a:lnTo>
                  <a:lnTo>
                    <a:pt x="1016" y="1304"/>
                  </a:lnTo>
                  <a:lnTo>
                    <a:pt x="1035" y="1329"/>
                  </a:lnTo>
                  <a:lnTo>
                    <a:pt x="1054" y="1353"/>
                  </a:lnTo>
                  <a:lnTo>
                    <a:pt x="1074" y="1378"/>
                  </a:lnTo>
                  <a:lnTo>
                    <a:pt x="1094" y="1404"/>
                  </a:lnTo>
                  <a:lnTo>
                    <a:pt x="1116" y="1430"/>
                  </a:lnTo>
                  <a:lnTo>
                    <a:pt x="1136" y="1455"/>
                  </a:lnTo>
                  <a:lnTo>
                    <a:pt x="1157" y="1482"/>
                  </a:lnTo>
                  <a:lnTo>
                    <a:pt x="1178" y="1509"/>
                  </a:lnTo>
                  <a:lnTo>
                    <a:pt x="1199" y="1535"/>
                  </a:lnTo>
                  <a:lnTo>
                    <a:pt x="1218" y="1564"/>
                  </a:lnTo>
                  <a:lnTo>
                    <a:pt x="1238" y="1592"/>
                  </a:lnTo>
                  <a:lnTo>
                    <a:pt x="1247" y="1607"/>
                  </a:lnTo>
                  <a:lnTo>
                    <a:pt x="1256" y="1622"/>
                  </a:lnTo>
                  <a:lnTo>
                    <a:pt x="1275" y="1651"/>
                  </a:lnTo>
                  <a:lnTo>
                    <a:pt x="1291" y="1683"/>
                  </a:lnTo>
                  <a:lnTo>
                    <a:pt x="1306" y="1714"/>
                  </a:lnTo>
                  <a:lnTo>
                    <a:pt x="1319" y="1748"/>
                  </a:lnTo>
                  <a:lnTo>
                    <a:pt x="1330" y="1782"/>
                  </a:lnTo>
                  <a:lnTo>
                    <a:pt x="1347" y="1855"/>
                  </a:lnTo>
                  <a:lnTo>
                    <a:pt x="1354" y="1932"/>
                  </a:lnTo>
                  <a:lnTo>
                    <a:pt x="1351" y="2015"/>
                  </a:lnTo>
                  <a:lnTo>
                    <a:pt x="1347" y="2036"/>
                  </a:lnTo>
                  <a:lnTo>
                    <a:pt x="1340" y="2050"/>
                  </a:lnTo>
                  <a:lnTo>
                    <a:pt x="1331" y="2057"/>
                  </a:lnTo>
                  <a:lnTo>
                    <a:pt x="1321" y="2058"/>
                  </a:lnTo>
                  <a:lnTo>
                    <a:pt x="1294" y="2044"/>
                  </a:lnTo>
                  <a:lnTo>
                    <a:pt x="1280" y="2032"/>
                  </a:lnTo>
                  <a:lnTo>
                    <a:pt x="1267" y="2016"/>
                  </a:lnTo>
                  <a:lnTo>
                    <a:pt x="1252" y="1998"/>
                  </a:lnTo>
                  <a:lnTo>
                    <a:pt x="1238" y="1979"/>
                  </a:lnTo>
                  <a:lnTo>
                    <a:pt x="1225" y="1959"/>
                  </a:lnTo>
                  <a:lnTo>
                    <a:pt x="1214" y="1940"/>
                  </a:lnTo>
                  <a:lnTo>
                    <a:pt x="1195" y="1904"/>
                  </a:lnTo>
                  <a:lnTo>
                    <a:pt x="1186" y="1879"/>
                  </a:lnTo>
                  <a:lnTo>
                    <a:pt x="1175" y="1838"/>
                  </a:lnTo>
                  <a:lnTo>
                    <a:pt x="1163" y="1799"/>
                  </a:lnTo>
                  <a:lnTo>
                    <a:pt x="1149" y="1759"/>
                  </a:lnTo>
                  <a:lnTo>
                    <a:pt x="1132" y="1721"/>
                  </a:lnTo>
                  <a:lnTo>
                    <a:pt x="1122" y="1701"/>
                  </a:lnTo>
                  <a:lnTo>
                    <a:pt x="1113" y="1682"/>
                  </a:lnTo>
                  <a:lnTo>
                    <a:pt x="1103" y="1663"/>
                  </a:lnTo>
                  <a:lnTo>
                    <a:pt x="1092" y="1644"/>
                  </a:lnTo>
                  <a:lnTo>
                    <a:pt x="1082" y="1625"/>
                  </a:lnTo>
                  <a:lnTo>
                    <a:pt x="1072" y="1606"/>
                  </a:lnTo>
                  <a:lnTo>
                    <a:pt x="1061" y="1587"/>
                  </a:lnTo>
                  <a:lnTo>
                    <a:pt x="1050" y="1568"/>
                  </a:lnTo>
                  <a:lnTo>
                    <a:pt x="1039" y="1549"/>
                  </a:lnTo>
                  <a:lnTo>
                    <a:pt x="1028" y="1531"/>
                  </a:lnTo>
                  <a:lnTo>
                    <a:pt x="1016" y="1512"/>
                  </a:lnTo>
                  <a:lnTo>
                    <a:pt x="1005" y="1493"/>
                  </a:lnTo>
                  <a:lnTo>
                    <a:pt x="994" y="1474"/>
                  </a:lnTo>
                  <a:lnTo>
                    <a:pt x="983" y="1455"/>
                  </a:lnTo>
                  <a:lnTo>
                    <a:pt x="972" y="1436"/>
                  </a:lnTo>
                  <a:lnTo>
                    <a:pt x="961" y="1417"/>
                  </a:lnTo>
                  <a:lnTo>
                    <a:pt x="951" y="1398"/>
                  </a:lnTo>
                  <a:lnTo>
                    <a:pt x="940" y="1379"/>
                  </a:lnTo>
                  <a:lnTo>
                    <a:pt x="931" y="1361"/>
                  </a:lnTo>
                  <a:lnTo>
                    <a:pt x="922" y="1342"/>
                  </a:lnTo>
                  <a:lnTo>
                    <a:pt x="903" y="1304"/>
                  </a:lnTo>
                  <a:lnTo>
                    <a:pt x="887" y="1265"/>
                  </a:lnTo>
                  <a:lnTo>
                    <a:pt x="841" y="1267"/>
                  </a:lnTo>
                  <a:lnTo>
                    <a:pt x="784" y="1261"/>
                  </a:lnTo>
                  <a:lnTo>
                    <a:pt x="726" y="1254"/>
                  </a:lnTo>
                  <a:lnTo>
                    <a:pt x="673" y="1253"/>
                  </a:lnTo>
                  <a:lnTo>
                    <a:pt x="329" y="1291"/>
                  </a:lnTo>
                  <a:lnTo>
                    <a:pt x="255" y="1311"/>
                  </a:lnTo>
                  <a:lnTo>
                    <a:pt x="218" y="1324"/>
                  </a:lnTo>
                  <a:lnTo>
                    <a:pt x="181" y="1338"/>
                  </a:lnTo>
                  <a:lnTo>
                    <a:pt x="142" y="1356"/>
                  </a:lnTo>
                  <a:lnTo>
                    <a:pt x="103" y="1377"/>
                  </a:lnTo>
                  <a:lnTo>
                    <a:pt x="82" y="1389"/>
                  </a:lnTo>
                  <a:lnTo>
                    <a:pt x="61" y="1401"/>
                  </a:lnTo>
                  <a:lnTo>
                    <a:pt x="39" y="1414"/>
                  </a:lnTo>
                  <a:lnTo>
                    <a:pt x="17" y="1428"/>
                  </a:lnTo>
                  <a:lnTo>
                    <a:pt x="0" y="1405"/>
                  </a:lnTo>
                  <a:lnTo>
                    <a:pt x="23" y="1390"/>
                  </a:lnTo>
                  <a:lnTo>
                    <a:pt x="46" y="1375"/>
                  </a:lnTo>
                  <a:lnTo>
                    <a:pt x="70" y="1362"/>
                  </a:lnTo>
                  <a:lnTo>
                    <a:pt x="95" y="1348"/>
                  </a:lnTo>
                  <a:lnTo>
                    <a:pt x="119" y="1334"/>
                  </a:lnTo>
                  <a:lnTo>
                    <a:pt x="144" y="1322"/>
                  </a:lnTo>
                  <a:lnTo>
                    <a:pt x="170" y="1309"/>
                  </a:lnTo>
                  <a:lnTo>
                    <a:pt x="195" y="1296"/>
                  </a:lnTo>
                  <a:lnTo>
                    <a:pt x="220" y="1285"/>
                  </a:lnTo>
                  <a:lnTo>
                    <a:pt x="247" y="1273"/>
                  </a:lnTo>
                  <a:lnTo>
                    <a:pt x="273" y="1263"/>
                  </a:lnTo>
                  <a:lnTo>
                    <a:pt x="299" y="1252"/>
                  </a:lnTo>
                  <a:lnTo>
                    <a:pt x="326" y="1241"/>
                  </a:lnTo>
                  <a:lnTo>
                    <a:pt x="353" y="1232"/>
                  </a:lnTo>
                  <a:lnTo>
                    <a:pt x="407" y="1215"/>
                  </a:lnTo>
                  <a:lnTo>
                    <a:pt x="463" y="1200"/>
                  </a:lnTo>
                  <a:lnTo>
                    <a:pt x="518" y="1189"/>
                  </a:lnTo>
                  <a:lnTo>
                    <a:pt x="574" y="1179"/>
                  </a:lnTo>
                  <a:lnTo>
                    <a:pt x="631" y="1173"/>
                  </a:lnTo>
                  <a:lnTo>
                    <a:pt x="745" y="1169"/>
                  </a:lnTo>
                  <a:lnTo>
                    <a:pt x="859" y="1178"/>
                  </a:lnTo>
                  <a:lnTo>
                    <a:pt x="847" y="1110"/>
                  </a:lnTo>
                  <a:lnTo>
                    <a:pt x="843" y="1041"/>
                  </a:lnTo>
                  <a:lnTo>
                    <a:pt x="850" y="972"/>
                  </a:lnTo>
                  <a:lnTo>
                    <a:pt x="859" y="938"/>
                  </a:lnTo>
                  <a:lnTo>
                    <a:pt x="871" y="905"/>
                  </a:lnTo>
                  <a:lnTo>
                    <a:pt x="832" y="882"/>
                  </a:lnTo>
                  <a:lnTo>
                    <a:pt x="813" y="866"/>
                  </a:lnTo>
                  <a:lnTo>
                    <a:pt x="796" y="849"/>
                  </a:lnTo>
                  <a:lnTo>
                    <a:pt x="778" y="827"/>
                  </a:lnTo>
                  <a:lnTo>
                    <a:pt x="761" y="804"/>
                  </a:lnTo>
                  <a:lnTo>
                    <a:pt x="745" y="780"/>
                  </a:lnTo>
                  <a:lnTo>
                    <a:pt x="730" y="753"/>
                  </a:lnTo>
                  <a:lnTo>
                    <a:pt x="715" y="724"/>
                  </a:lnTo>
                  <a:lnTo>
                    <a:pt x="701" y="695"/>
                  </a:lnTo>
                  <a:lnTo>
                    <a:pt x="688" y="663"/>
                  </a:lnTo>
                  <a:lnTo>
                    <a:pt x="675" y="630"/>
                  </a:lnTo>
                  <a:lnTo>
                    <a:pt x="662" y="597"/>
                  </a:lnTo>
                  <a:lnTo>
                    <a:pt x="652" y="563"/>
                  </a:lnTo>
                  <a:lnTo>
                    <a:pt x="640" y="528"/>
                  </a:lnTo>
                  <a:lnTo>
                    <a:pt x="631" y="492"/>
                  </a:lnTo>
                  <a:lnTo>
                    <a:pt x="613" y="421"/>
                  </a:lnTo>
                  <a:lnTo>
                    <a:pt x="598" y="349"/>
                  </a:lnTo>
                  <a:lnTo>
                    <a:pt x="585" y="279"/>
                  </a:lnTo>
                  <a:lnTo>
                    <a:pt x="576" y="212"/>
                  </a:lnTo>
                  <a:lnTo>
                    <a:pt x="565" y="92"/>
                  </a:lnTo>
                  <a:lnTo>
                    <a:pt x="566" y="0"/>
                  </a:lnTo>
                  <a:lnTo>
                    <a:pt x="598" y="4"/>
                  </a:lnTo>
                  <a:lnTo>
                    <a:pt x="59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 txBox="1"/>
          <p:nvPr/>
        </p:nvSpPr>
        <p:spPr>
          <a:xfrm>
            <a:off x="1066680" y="1790640"/>
            <a:ext cx="701064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Times New Roman"/>
              </a:rPr>
              <a:t>Muammer   ÇETİNKAYA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90720" y="1447920"/>
            <a:ext cx="31604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ZIRLAYAN :</a:t>
            </a:r>
            <a:endParaRPr b="0" lang="en-US" sz="2800" spc="1" strike="noStrike">
              <a:ln w="0">
                <a:noFill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743200" y="4572000"/>
            <a:ext cx="33526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ilköğretim Müfettişi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MANİS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5791320"/>
            <a:ext cx="579132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dddddd"/>
                </a:solidFill>
                <a:latin typeface="Arial"/>
              </a:rPr>
              <a:t>m</a:t>
            </a:r>
            <a:r>
              <a:rPr b="1" lang="tr-TR" sz="2800" spc="-1" strike="noStrike">
                <a:solidFill>
                  <a:srgbClr val="dddddd"/>
                </a:solidFill>
                <a:latin typeface="Arial"/>
                <a:ea typeface="Times New Roman"/>
              </a:rPr>
              <a:t>uammerck</a:t>
            </a:r>
            <a:r>
              <a:rPr b="1" lang="tr-TR" sz="2800" spc="-1" strike="noStrike">
                <a:solidFill>
                  <a:srgbClr val="dddddd"/>
                </a:solidFill>
                <a:latin typeface="Arial"/>
              </a:rPr>
              <a:t>@</a:t>
            </a:r>
            <a:r>
              <a:rPr b="1" lang="tr-TR" sz="2800" spc="-1" strike="noStrike">
                <a:solidFill>
                  <a:srgbClr val="dddddd"/>
                </a:solidFill>
                <a:latin typeface="Arial"/>
                <a:ea typeface="Times New Roman"/>
              </a:rPr>
              <a:t>mynet.com.</a:t>
            </a:r>
            <a:r>
              <a:rPr b="1" lang="tr-TR" sz="2400" spc="-1" strike="noStrike">
                <a:solidFill>
                  <a:srgbClr val="dddddd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dddddd"/>
                </a:solidFill>
                <a:latin typeface="Arial"/>
              </a:rPr>
              <a:t>  </a:t>
            </a:r>
            <a:r>
              <a:rPr b="1" lang="tr-TR" sz="2400" spc="-1" strike="noStrike">
                <a:solidFill>
                  <a:srgbClr val="dddddd"/>
                </a:solidFill>
                <a:latin typeface="Arial"/>
              </a:rPr>
              <a:t>Tlf: 05323048459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Bir profesör, sosyoloji s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ı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n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ı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f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ı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ndaki ö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ğ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rencilerini Baltimore 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ehrinin kenar mahallelerine göndermi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 ve o bölgede ya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ayan 200 erkek çocu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ğ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unun durumlar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ı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n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ı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 ara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t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ı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rmalar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ı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n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ı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 ve her bir çocu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ğ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un gelece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ğ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i hakk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ı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nda bir de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ğ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erlendirme yapmalar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ı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n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ı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 istemi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  <a:ea typeface="Times New Roman"/>
              </a:rPr>
              <a:t>ti.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6157800"/>
            <a:ext cx="2133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6645240"/>
            <a:ext cx="2133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uammer ÇETİNKAYA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7720" y="5331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Öğrenciler hemen hepsi bu çocukla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n gelecekte hiçbir şansla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 Unicode MS"/>
              </a:rPr>
              <a:t>n olmadığını dile getirmişlerdi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48720" cy="16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ndan tam yirmi b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 sonra bir b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a sosyoloji profesörü tesadüfen bu ç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buldu ve 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ncilerinden bu projeyi sürdürmelerini ve ay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çocuklara ne old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u ar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mala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istedi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380988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ccff"/>
                </a:solidFill>
                <a:latin typeface="Arial"/>
                <a:ea typeface="Arial Unicode MS"/>
              </a:rPr>
              <a:t>Öğrenciler, o bölgeden taşınan ya da ölen 20 çocuk dışındaki 180 çocuktan 176's</a:t>
            </a: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00ccff"/>
                </a:solidFill>
                <a:latin typeface="Arial"/>
                <a:ea typeface="Arial Unicode MS"/>
              </a:rPr>
              <a:t>n</a:t>
            </a: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00ccff"/>
                </a:solidFill>
                <a:latin typeface="Arial"/>
                <a:ea typeface="Arial Unicode MS"/>
              </a:rPr>
              <a:t>n olağanüstü bir başar</a:t>
            </a: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00ccff"/>
                </a:solidFill>
                <a:latin typeface="Arial"/>
                <a:ea typeface="Arial Unicode MS"/>
              </a:rPr>
              <a:t> gösterip, avukat, doktor ya da işadamı olduklarını ortaya çıkardılar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6645240"/>
            <a:ext cx="2133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uammer ÇETİNKAYA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447560" y="9903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ofesör çok etkilenm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i ve bu konuyu izlemeye karar verdi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243828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Birer yetişki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lan o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çocukların hepsi o bölgede y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dıkları için, her biriyle buluşm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sı oldu.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43434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Arial"/>
              </a:rPr>
              <a:t>"O koşullarda nasıl bu kadar başarılı oldunuz?" sorusuna verdikleri cevap hep ayn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ı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Arial"/>
              </a:rPr>
              <a:t>y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ı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Arial"/>
              </a:rPr>
              <a:t>: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6645240"/>
            <a:ext cx="2133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uammer ÇETİNKAYA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8380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"Mahalle okulunda bi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öğretmenimiz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vardı. Onu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yesinde”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742840"/>
            <a:ext cx="7823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8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rofesör, bu 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tmeni çok merak etm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i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4038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Arial"/>
              </a:rPr>
              <a:t>Hala hayatta olduğunu öğrendiği ya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Arial"/>
              </a:rPr>
              <a:t>lı öğretmenin izini bulması zor olmadı.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6645240"/>
            <a:ext cx="2133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uammer ÇETİNKAYA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8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Kendisini ziyaret etmek için evine kadar gitti. </a:t>
            </a: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88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Kar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şı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ı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nda y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ı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llar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ı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n yüzüne ekledi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ğ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i k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ı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r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ışı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kl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ı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klara ra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ğ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men hala dinç duran ya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ı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 bir kad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ı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n buldu.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12408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Arial"/>
              </a:rPr>
              <a:t>Merakla ya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ş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Arial"/>
              </a:rPr>
              <a:t>lı kadına bu çocukları kenar mahallelerden kurtarıp, başarılı birer yetişkin olmalarını sağlamak için kullandığı sihirli formülün ne olduğunu sordu.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6645240"/>
            <a:ext cx="2133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uammer ÇETİNKAYA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5360" y="6091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8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Y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ö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etmenin gözleri parla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ve dudakla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n kena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nda bir gülümsem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belirdi: 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514600"/>
            <a:ext cx="7696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ccff"/>
                </a:solidFill>
                <a:latin typeface="Arial"/>
                <a:ea typeface="Times New Roman"/>
              </a:rPr>
              <a:t>"Çok basit" </a:t>
            </a: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dedi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6645240"/>
            <a:ext cx="2133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uammer ÇETİNKAYA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3352680"/>
            <a:ext cx="792468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"Ben o çocukları sevdim."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4724280"/>
            <a:ext cx="7391160" cy="140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cc66ff"/>
                </a:solidFill>
                <a:latin typeface="Arial Unicode MS"/>
                <a:ea typeface="Arial Unicode MS"/>
              </a:rPr>
              <a:t>"Ben o çocukları </a:t>
            </a:r>
            <a:r>
              <a:rPr b="1" lang="en-US" sz="4400" spc="-1" strike="noStrike">
                <a:solidFill>
                  <a:srgbClr val="cc66ff"/>
                </a:solidFill>
                <a:latin typeface="Arial Unicode MS"/>
              </a:rPr>
              <a:t> çok</a:t>
            </a:r>
            <a:r>
              <a:rPr b="1" lang="en-US" sz="4400" spc="-1" strike="noStrike">
                <a:solidFill>
                  <a:srgbClr val="cc66ff"/>
                </a:solidFill>
                <a:latin typeface="Arial Unicode MS"/>
                <a:ea typeface="Arial Unicode MS"/>
              </a:rPr>
              <a:t> sevdim.</a:t>
            </a:r>
            <a:r>
              <a:rPr b="1" lang="en-US" sz="4400" spc="-1" strike="noStrike">
                <a:solidFill>
                  <a:srgbClr val="cc66ff"/>
                </a:solidFill>
                <a:latin typeface="Arial Unicode MS"/>
              </a:rPr>
              <a:t>”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2819520"/>
            <a:ext cx="8153280" cy="2067120"/>
          </a:xfrm>
          <a:prstGeom prst="rect">
            <a:avLst/>
          </a:prstGeom>
          <a:solidFill>
            <a:srgbClr val="000000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Eğer daha fazla nezaket istersen, daha fazla nezaket ver!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1066680"/>
            <a:ext cx="8153280" cy="1409400"/>
          </a:xfrm>
          <a:prstGeom prst="rect">
            <a:avLst/>
          </a:prstGeom>
          <a:solidFill>
            <a:srgbClr val="080808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i="1" lang="en-US" sz="4800" spc="-1" strike="noStrike">
                <a:solidFill>
                  <a:srgbClr val="ffff66"/>
                </a:solidFill>
                <a:latin typeface="Times New Roman"/>
              </a:rPr>
              <a:t>Eğer sen daha fazla sevgi istersen, daha fazla sevgi ver!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6645240"/>
            <a:ext cx="2133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uammer ÇETİNKAYA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609480"/>
            <a:ext cx="7391160" cy="2067120"/>
          </a:xfrm>
          <a:prstGeom prst="rect">
            <a:avLst/>
          </a:prstGeom>
          <a:solidFill>
            <a:srgbClr val="080808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i="1" lang="en-US" sz="4800" spc="-1" strike="noStrike">
                <a:solidFill>
                  <a:srgbClr val="ffff66"/>
                </a:solidFill>
                <a:latin typeface="Times New Roman"/>
              </a:rPr>
              <a:t>Eğer, daha fazla anlayış ve saygı istiyorsan, daha fazla anlayış ve saygı ver!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895480"/>
            <a:ext cx="7467480" cy="2724840"/>
          </a:xfrm>
          <a:prstGeom prst="rect">
            <a:avLst/>
          </a:prstGeom>
          <a:solidFill>
            <a:srgbClr val="000000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Eğer, sen insanların sana karşı daha saygılı ve sabırlı olmasını istiyorsan, daha fazla sabır ve saygı göster!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6645240"/>
            <a:ext cx="2133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uammer ÇETİNKAYA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8T09:52:24Z</dcterms:created>
  <dc:creator>M. CETINKAYA</dc:creator>
  <dc:description>Eğitimciler Sitesi'nin "Eğitim Öğretim" bölümünden alınmıştır.
Yönetici Kenan ÇETİN
EĞİTİMCİLER SİTESİ
http://egitimcilersitesi.8k.com</dc:description>
  <dc:language>en-US</dc:language>
  <cp:lastModifiedBy>Kenan ÇETİN</cp:lastModifiedBy>
  <dcterms:modified xsi:type="dcterms:W3CDTF">2003-02-06T16:30:46Z</dcterms:modified>
  <cp:revision>20</cp:revision>
  <dc:subject>Egitimde Sevginin Önemi</dc:subject>
  <dc:title>KENAR MAHALLE</dc:title>
</cp:coreProperties>
</file>