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08D-466A-4AD9-815D-CF0EAFB3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A9B-4D3A-457F-AF6C-1CBBF0A8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74D-BEF2-46EA-9947-1A464237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1AC-FFD1-4369-AFD9-8BFF9606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2C2-628D-4007-BB2D-FD508F4F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E457-1043-4BAC-9E3C-5138F280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61F7-0197-4177-B63F-30A14509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B1F9-773D-40A3-94F4-B00145A1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1EF-97C8-4B09-A525-F624C95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A770-8926-4749-BF9C-C7B56E4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11DC-55BA-4940-93ED-A7E9554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8BC-6387-4203-9598-09A3A4D2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EB6-9D2F-41FE-BB66-77676028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6634-FD9E-4C66-B568-0C6168A1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E2BB-92B5-42BC-99DC-BA7C95D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7F4D-A2FA-4E64-AE87-8AB53C32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11C-E27D-48AE-8232-AA4BD23C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E1F-9D05-4A42-B790-64B04DFD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952-0E9A-4498-BA2E-79DA2D42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D86-689A-4B93-8A9C-299C470C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B72-2D6A-401A-8820-CE1F115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BB8-0096-46D7-9D00-EDDE01A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AEF-635C-4C40-80BF-1BC8AE92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ADD-AF39-4623-A22E-9E61AE44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0C6C-FEAA-4E0F-A076-36352129DD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26FE-032C-41F0-89D2-465B7A5B6A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d07206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90920" y="914400"/>
            <a:ext cx="6019560" cy="5087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 rot="19050600">
            <a:off x="106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800000"/>
                </a:solidFill>
                <a:latin typeface="Berlin Sans FB"/>
              </a:rPr>
              <a:t>Sunuş Yoluyla Öğretim ve Aktif Öğrenm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324480" y="5181480"/>
            <a:ext cx="2667240" cy="160020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Ön Organize Edici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Kavramların Tekr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İlişkilendirilmesi</a:t>
            </a: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4114800"/>
            <a:ext cx="2666880" cy="14479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Örnek ve Örne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Olmayan Kavramları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Sunul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124080"/>
            <a:ext cx="2514600" cy="1371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İçeriğin 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Kavramları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Sunul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Sunuş Yoluyla Öğretimin Temel Unsur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009880"/>
            <a:ext cx="2438640" cy="144756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Ön Organi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Ediciler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Sunul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9880" y="3581280"/>
            <a:ext cx="1674360" cy="870840"/>
            <a:chOff x="839880" y="3581280"/>
            <a:chExt cx="1674360" cy="870840"/>
          </a:xfrm>
        </p:grpSpPr>
        <p:sp>
          <p:nvSpPr>
            <p:cNvPr id="107" name=""/>
            <p:cNvSpPr/>
            <p:nvPr/>
          </p:nvSpPr>
          <p:spPr>
            <a:xfrm flipH="1">
              <a:off x="1828080" y="3581280"/>
              <a:ext cx="685800" cy="457200"/>
            </a:xfrm>
            <a:custGeom>
              <a:avLst/>
              <a:gdLst>
                <a:gd name="textAreaLeft" fmla="*/ 196920 w 685800"/>
                <a:gd name="textAreaRight" fmla="*/ 587520 w 68580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  <a:effectLst>
              <a:outerShdw dist="17819" dir="2700000" blurRad="0" rotWithShape="0">
                <a:srgbClr val="5b00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9880" y="411480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 Narrow"/>
                </a:rPr>
                <a:t>İLİŞKİLENDİR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81480" y="3352320"/>
            <a:ext cx="2178360" cy="685800"/>
            <a:chOff x="5181480" y="3352320"/>
            <a:chExt cx="2178360" cy="685800"/>
          </a:xfrm>
        </p:grpSpPr>
        <p:sp>
          <p:nvSpPr>
            <p:cNvPr id="110" name=""/>
            <p:cNvSpPr/>
            <p:nvPr/>
          </p:nvSpPr>
          <p:spPr>
            <a:xfrm>
              <a:off x="5716080" y="350532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 Narrow"/>
                </a:rPr>
                <a:t>ANLAMLAŞTIR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 rot="5400000">
              <a:off x="5067000" y="3466080"/>
              <a:ext cx="685800" cy="457200"/>
            </a:xfrm>
            <a:custGeom>
              <a:avLst/>
              <a:gdLst>
                <a:gd name="textAreaLeft" fmla="*/ 196920 w 685800"/>
                <a:gd name="textAreaRight" fmla="*/ 587520 w 68580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  <a:effectLst>
              <a:outerShdw dist="17819" dir="2700000" blurRad="0" rotWithShape="0">
                <a:srgbClr val="5b00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657960" y="5638680"/>
            <a:ext cx="2437560" cy="870840"/>
            <a:chOff x="3657960" y="5638680"/>
            <a:chExt cx="2437560" cy="870840"/>
          </a:xfrm>
        </p:grpSpPr>
        <p:sp>
          <p:nvSpPr>
            <p:cNvPr id="113" name=""/>
            <p:cNvSpPr/>
            <p:nvPr/>
          </p:nvSpPr>
          <p:spPr>
            <a:xfrm>
              <a:off x="3657960" y="6172200"/>
              <a:ext cx="240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0000"/>
                  </a:solidFill>
                  <a:latin typeface="Arial Narrow"/>
                </a:rPr>
                <a:t>GENELLEME v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409360" y="5638680"/>
              <a:ext cx="685800" cy="457200"/>
            </a:xfrm>
            <a:custGeom>
              <a:avLst/>
              <a:gdLst>
                <a:gd name="textAreaLeft" fmla="*/ 196920 w 685800"/>
                <a:gd name="textAreaRight" fmla="*/ 587520 w 68580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  <a:effectLst>
              <a:outerShdw dist="17819" dir="2700000" blurRad="0" rotWithShape="0">
                <a:srgbClr val="5b00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Comic Sans MS"/>
              </a:rPr>
              <a:t>Sunuş Yoluyla Öğretimi Etkin Kılma İlkele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e02106_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92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358128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Öğrenci ve Öğretmen arası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90033"/>
                </a:solidFill>
                <a:latin typeface="Berlin Sans FB"/>
              </a:rPr>
              <a:t>aktif ve sürekli etkileş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" descr=""/>
          <p:cNvPicPr/>
          <p:nvPr/>
        </p:nvPicPr>
        <p:blipFill>
          <a:blip r:embed="rId2"/>
          <a:stretch/>
        </p:blipFill>
        <p:spPr>
          <a:xfrm>
            <a:off x="0" y="6251400"/>
            <a:ext cx="582480" cy="6066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561960" y="6251400"/>
            <a:ext cx="1758960" cy="606600"/>
            <a:chOff x="561960" y="6251400"/>
            <a:chExt cx="1758960" cy="606600"/>
          </a:xfrm>
        </p:grpSpPr>
        <p:pic>
          <p:nvPicPr>
            <p:cNvPr id="120" name="2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561960" y="6251400"/>
              <a:ext cx="582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3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152360" y="6251400"/>
              <a:ext cx="58284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4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1738440" y="6251400"/>
              <a:ext cx="58248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Comic Sans MS"/>
              </a:rPr>
              <a:t>Sunuş Yoluyla Öğretimi Etkin Kılma İlkele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352680"/>
            <a:ext cx="426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Görsel unsurlarla destekl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90033"/>
                </a:solidFill>
                <a:latin typeface="Berlin Sans FB"/>
              </a:rPr>
              <a:t>birçok Örneğin  </a:t>
            </a: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sunulmas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7173_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267440" cy="3624120"/>
          </a:xfrm>
          <a:prstGeom prst="rect">
            <a:avLst/>
          </a:prstGeom>
          <a:ln w="0">
            <a:noFill/>
          </a:ln>
        </p:spPr>
      </p:pic>
      <p:pic>
        <p:nvPicPr>
          <p:cNvPr id="126" name="2" descr=""/>
          <p:cNvPicPr/>
          <p:nvPr/>
        </p:nvPicPr>
        <p:blipFill>
          <a:blip r:embed="rId2"/>
          <a:stretch/>
        </p:blipFill>
        <p:spPr>
          <a:xfrm>
            <a:off x="604800" y="6251400"/>
            <a:ext cx="58248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0" y="6251400"/>
            <a:ext cx="2363760" cy="606600"/>
            <a:chOff x="0" y="6251400"/>
            <a:chExt cx="2363760" cy="606600"/>
          </a:xfrm>
        </p:grpSpPr>
        <p:pic>
          <p:nvPicPr>
            <p:cNvPr id="128" name="1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0" y="6251400"/>
              <a:ext cx="582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3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185840" y="6251400"/>
              <a:ext cx="582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4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1781280" y="6251400"/>
              <a:ext cx="58248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Comic Sans MS"/>
              </a:rPr>
              <a:t>Sunuş Yoluyla Öğretimi Etkin Kılma İlkele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352680"/>
            <a:ext cx="426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İçeriğin genelden özele doğru </a:t>
            </a:r>
            <a:r>
              <a:rPr b="0" lang="tr-TR" sz="2800" spc="-1" strike="noStrike">
                <a:solidFill>
                  <a:srgbClr val="800000"/>
                </a:solidFill>
                <a:latin typeface="Berlin Sans FB"/>
              </a:rPr>
              <a:t>hiyerarşik bir sıra</a:t>
            </a: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 izleme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3" descr=""/>
          <p:cNvPicPr/>
          <p:nvPr/>
        </p:nvPicPr>
        <p:blipFill>
          <a:blip r:embed="rId1"/>
          <a:stretch/>
        </p:blipFill>
        <p:spPr>
          <a:xfrm>
            <a:off x="1190520" y="6251400"/>
            <a:ext cx="582840" cy="6066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0" y="6251400"/>
            <a:ext cx="2373480" cy="606600"/>
            <a:chOff x="0" y="6251400"/>
            <a:chExt cx="2373480" cy="606600"/>
          </a:xfrm>
        </p:grpSpPr>
        <p:pic>
          <p:nvPicPr>
            <p:cNvPr id="135" name="2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90400" y="6251400"/>
              <a:ext cx="58284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1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0" y="6251400"/>
              <a:ext cx="582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4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790640" y="6251400"/>
              <a:ext cx="582840" cy="6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bs02006_" descr=""/>
          <p:cNvPicPr/>
          <p:nvPr/>
        </p:nvPicPr>
        <p:blipFill>
          <a:blip r:embed="rId5"/>
          <a:stretch/>
        </p:blipFill>
        <p:spPr>
          <a:xfrm>
            <a:off x="5486400" y="2209680"/>
            <a:ext cx="2982960" cy="40388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Comic Sans MS"/>
              </a:rPr>
              <a:t>Sunuş Yoluyla Öğretimi Etkin Kılma İlkele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352680"/>
            <a:ext cx="426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Önce ve yeni öğrenilenler arasında </a:t>
            </a:r>
            <a:r>
              <a:rPr b="0" lang="tr-TR" sz="2800" spc="-1" strike="noStrike">
                <a:solidFill>
                  <a:srgbClr val="800000"/>
                </a:solidFill>
                <a:latin typeface="Berlin Sans FB"/>
              </a:rPr>
              <a:t>yatay</a:t>
            </a: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 ve </a:t>
            </a:r>
            <a:r>
              <a:rPr b="0" lang="tr-TR" sz="2800" spc="-1" strike="noStrike">
                <a:solidFill>
                  <a:srgbClr val="800000"/>
                </a:solidFill>
                <a:latin typeface="Berlin Sans FB"/>
              </a:rPr>
              <a:t>dikey</a:t>
            </a: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800" spc="-1" strike="noStrike">
                <a:solidFill>
                  <a:srgbClr val="800000"/>
                </a:solidFill>
                <a:latin typeface="Berlin Sans FB"/>
              </a:rPr>
              <a:t>ilşkilerin</a:t>
            </a:r>
            <a:r>
              <a:rPr b="0" lang="tr-TR" sz="2800" spc="-1" strike="noStrike">
                <a:solidFill>
                  <a:srgbClr val="000000"/>
                </a:solidFill>
                <a:latin typeface="Berlin Sans FB"/>
              </a:rPr>
              <a:t> kurulmas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6251400"/>
            <a:ext cx="1773360" cy="606600"/>
            <a:chOff x="0" y="6251400"/>
            <a:chExt cx="1773360" cy="606600"/>
          </a:xfrm>
        </p:grpSpPr>
        <p:pic>
          <p:nvPicPr>
            <p:cNvPr id="142" name="2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590400" y="6251400"/>
              <a:ext cx="58284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1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0" y="6251400"/>
              <a:ext cx="582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3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1190520" y="6251400"/>
              <a:ext cx="582840" cy="6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4" descr=""/>
          <p:cNvPicPr/>
          <p:nvPr/>
        </p:nvPicPr>
        <p:blipFill>
          <a:blip r:embed="rId4"/>
          <a:stretch/>
        </p:blipFill>
        <p:spPr>
          <a:xfrm>
            <a:off x="1790640" y="6251400"/>
            <a:ext cx="582840" cy="606600"/>
          </a:xfrm>
          <a:prstGeom prst="rect">
            <a:avLst/>
          </a:prstGeom>
          <a:ln w="0">
            <a:noFill/>
          </a:ln>
        </p:spPr>
      </p:pic>
      <p:pic>
        <p:nvPicPr>
          <p:cNvPr id="146" name="bd07204_" descr=""/>
          <p:cNvPicPr/>
          <p:nvPr/>
        </p:nvPicPr>
        <p:blipFill>
          <a:blip r:embed="rId5"/>
          <a:stretch/>
        </p:blipFill>
        <p:spPr>
          <a:xfrm>
            <a:off x="4495680" y="28195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09:56:59Z</dcterms:created>
  <dc:creator>Soner YILDIRIM</dc:creator>
  <dc:description/>
  <dc:language>en-US</dc:language>
  <cp:lastModifiedBy>Kenan ÇETİN</cp:lastModifiedBy>
  <dcterms:modified xsi:type="dcterms:W3CDTF">2002-02-10T20:33:41Z</dcterms:modified>
  <cp:revision>12</cp:revision>
  <dc:subject/>
  <dc:title>Şunuş Yoluyla Öğretim ve Aktif Öğrenme</dc:title>
</cp:coreProperties>
</file>