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17AA7-790A-4E3F-AB21-1B639221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3B3B9-FDF7-4887-A253-920758B4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65FC9-D5FA-4DA9-B69E-3081CE2F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521CE-C840-4A6F-A547-192B097F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28385-5734-4F90-BA99-26AE4C86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105FD-3678-4B61-B800-4515F7A6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E5436-43A8-447C-9691-A3571383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01918-0308-4B5B-955B-F870652B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7D2E5-8159-4014-BB23-3B0FFD3A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B2677-9936-43DE-BD65-A89FD8C4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04706-9B47-41AE-9BF1-547F644B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2E67F-2D88-4E66-81C2-B7411E7B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471600" y="179280"/>
            <a:ext cx="8596080" cy="254160"/>
          </a:xfrm>
          <a:custGeom>
            <a:avLst/>
            <a:gdLst>
              <a:gd name="textAreaLeft" fmla="*/ 360 w 8596080"/>
              <a:gd name="textAreaRight" fmla="*/ 8596800 w 859608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5228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839080" y="182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52280" y="21600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ftr" idx="1"/>
          </p:nvPr>
        </p:nvSpPr>
        <p:spPr>
          <a:xfrm>
            <a:off x="-76680" y="65527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ffcc"/>
                </a:solidFill>
                <a:latin typeface="Times New Roman"/>
              </a:rPr>
              <a:t>Yasemin OLGUN – Biyoloji Öğretmeni / Ocak 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4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6840" y="3049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286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839080" y="30492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2040" y="30492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78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dt" idx="2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3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C203-73DA-42DF-9C9D-61D8C03963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981080" y="685800"/>
            <a:ext cx="60962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E R G E N L İ K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3505320"/>
            <a:ext cx="6781680" cy="0"/>
          </a:xfrm>
          <a:prstGeom prst="line">
            <a:avLst/>
          </a:prstGeom>
          <a:ln w="9360">
            <a:solidFill>
              <a:srgbClr val="01b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55080" y="3940200"/>
            <a:ext cx="651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(BÜYÜME VE GELİŞME DÖNEMLERİ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4724280"/>
            <a:ext cx="6781680" cy="0"/>
          </a:xfrm>
          <a:prstGeom prst="line">
            <a:avLst/>
          </a:prstGeom>
          <a:ln w="9360">
            <a:solidFill>
              <a:srgbClr val="01b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47880" y="5257800"/>
            <a:ext cx="195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Yasemin OLGU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Biyoloji Öğretmen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Gul-09" descr=""/>
          <p:cNvPicPr/>
          <p:nvPr/>
        </p:nvPicPr>
        <p:blipFill>
          <a:blip r:embed="rId1"/>
          <a:stretch/>
        </p:blipFill>
        <p:spPr>
          <a:xfrm>
            <a:off x="2149560" y="733320"/>
            <a:ext cx="5410080" cy="38293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086640" y="76320"/>
            <a:ext cx="31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DET GÖR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4024440"/>
            <a:ext cx="6492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Times New Roman"/>
              </a:rPr>
              <a:t>Ergenlik çağında, bir genç kızın bünyesinde meydana gelen en büyük değişikli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tr-TR" sz="3200" spc="-1" strike="noStrike">
                <a:solidFill>
                  <a:srgbClr val="ffff00"/>
                </a:solidFill>
                <a:latin typeface="Times New Roman"/>
              </a:rPr>
              <a:t>ADET KANAMASI”nın başlamasıdı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kızlar" descr=""/>
          <p:cNvPicPr/>
          <p:nvPr/>
        </p:nvPicPr>
        <p:blipFill>
          <a:blip r:embed="rId1"/>
          <a:stretch/>
        </p:blipFill>
        <p:spPr>
          <a:xfrm>
            <a:off x="2514600" y="685800"/>
            <a:ext cx="4280040" cy="3133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86360" y="4232160"/>
            <a:ext cx="637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ir kere adet olduktan sonra  sivilcelerim 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çıkmaya başladı. 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Sonra birazcık göğüslerim çıktı.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Daha olgun davranmaya başladım. 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Çevremle ilişkilerim daha rahatladı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e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173680" y="76320"/>
            <a:ext cx="54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DET DÖNEMİ, ADET NEDİ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560" y="2133720"/>
            <a:ext cx="25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ramp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61160" y="2743200"/>
            <a:ext cx="7331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Bazı kızlar, adet kanamaları sırasıdna rahatsızlık duyar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Buna, “menstrual kramp-adet sancısı” den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En yaygın olan şekli, karnın alt kısmındaki  kramplardı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Ağrı bazen sürekli bir sancı bazen de bir ağırlık duygus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şeklinde olabil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Adet döneminde, </a:t>
            </a:r>
            <a:r>
              <a:rPr b="1" lang="tr-TR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staglandin</a:t>
            </a: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 salgılanı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Bu kimyasal maddeler, uterusun kasılmasına ve krampl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neden olur. Ayrıca döl yatağının iç tabakasının adet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dışarı atılmasını kolaylaştırı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üreme%20sistemi_kadın" descr=""/>
          <p:cNvPicPr/>
          <p:nvPr/>
        </p:nvPicPr>
        <p:blipFill>
          <a:blip r:embed="rId1"/>
          <a:stretch/>
        </p:blipFill>
        <p:spPr>
          <a:xfrm>
            <a:off x="5867280" y="609480"/>
            <a:ext cx="292896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79800" y="1752480"/>
            <a:ext cx="49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Krampla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adet sancıları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karşı neler yapabilirsiniz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73680" y="76320"/>
            <a:ext cx="54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DET DÖNEMİ, ADET NEDİ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84120" y="3200400"/>
            <a:ext cx="17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gzersiz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egzersiz" descr=""/>
          <p:cNvPicPr/>
          <p:nvPr/>
        </p:nvPicPr>
        <p:blipFill>
          <a:blip r:embed="rId1"/>
          <a:stretch/>
        </p:blipFill>
        <p:spPr>
          <a:xfrm>
            <a:off x="4724280" y="560520"/>
            <a:ext cx="4114800" cy="4087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266120" y="3886200"/>
            <a:ext cx="158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Ilık duş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98400" y="4648320"/>
            <a:ext cx="469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Ayaklara sıcak su torbası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54560" y="5464080"/>
            <a:ext cx="66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rmal gündelik etkinliklere deva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61760" y="1600200"/>
            <a:ext cx="56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uhsal durumdaki değişiklik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73680" y="76320"/>
            <a:ext cx="54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DET DÖNEMİ, ADET NEDİ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70720" y="2355840"/>
            <a:ext cx="79790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rgenlik  çağını yaşayan gençlerin çoğu bu dönemd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karmakarışık duygular içine düştüklerini, bir an mutluyke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iraz sonra hüzünlendiklerini fark etmişlerdir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u durum, fiziksel değişimleri yapan hormonların aynı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Zamanda duygularınızı da etkilenmesinden ileri gelir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uhsal durumunuzda bu tür değişmeler olursa sakı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Kaygılanmayın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elli bir süre sonra vücudunuz doğal olarak sakinleşir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 rahatlarsınız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fare" descr=""/>
          <p:cNvPicPr/>
          <p:nvPr/>
        </p:nvPicPr>
        <p:blipFill>
          <a:blip r:embed="rId1"/>
          <a:stretch/>
        </p:blipFill>
        <p:spPr>
          <a:xfrm>
            <a:off x="7013520" y="838080"/>
            <a:ext cx="13035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126960" y="7632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DET DÖNEM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08040" y="158256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75800" y="1066680"/>
            <a:ext cx="653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Adet Dönemi Süresin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Gereksinimlerinize Uygu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Koruyucuların Seçimi ve Kullanılmas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2514600"/>
            <a:ext cx="6553080" cy="251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8360" y="297180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</a:rPr>
              <a:t>EV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97560" y="29718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</a:rPr>
              <a:t>HAY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52200" y="3778200"/>
            <a:ext cx="219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3300"/>
                </a:solidFill>
                <a:latin typeface="Arial Black"/>
              </a:rPr>
              <a:t>Hijyenik P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33720" y="3733920"/>
            <a:ext cx="1362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 Black"/>
              </a:rPr>
              <a:t>Bez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 Black"/>
              </a:rPr>
              <a:t>Pamu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127680" y="76320"/>
            <a:ext cx="27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SLEN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87840" y="3828960"/>
            <a:ext cx="7854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Doğru beslenme , dört temel besin grubund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karbonhidrat, protein, yağ ve vitamin)</a:t>
            </a: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çeşitli yiyeceklerin seçilmesi; özellik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üt, yoğurt ve peyn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gibi kalsiyum açısından zeng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yiyeceklerin alınmas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demekt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beslenme" descr=""/>
          <p:cNvPicPr/>
          <p:nvPr/>
        </p:nvPicPr>
        <p:blipFill>
          <a:blip r:embed="rId1"/>
          <a:stretch/>
        </p:blipFill>
        <p:spPr>
          <a:xfrm>
            <a:off x="5334120" y="789120"/>
            <a:ext cx="289548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441880" y="76320"/>
            <a:ext cx="48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RKEKTE ÜREME SİTEM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1057320"/>
            <a:ext cx="7010280" cy="1708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Kızların bedenindeki değişimler,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ÖSTROJ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hormonunun etkisiyle gerçekleş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02080" y="3352680"/>
            <a:ext cx="4797000" cy="2044440"/>
          </a:xfrm>
          <a:prstGeom prst="rect">
            <a:avLst/>
          </a:prstGeom>
          <a:solidFill>
            <a:srgbClr val="06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kek çocukları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edenindeki değişimler 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TESTOSTERON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ormonun etkisiyle ortaya çık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92840" y="76320"/>
            <a:ext cx="48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RKEKTE ÜREME SİTEM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üreme%20sistemi_erkek" descr=""/>
          <p:cNvPicPr/>
          <p:nvPr/>
        </p:nvPicPr>
        <p:blipFill>
          <a:blip r:embed="rId1"/>
          <a:stretch/>
        </p:blipFill>
        <p:spPr>
          <a:xfrm>
            <a:off x="5068800" y="533520"/>
            <a:ext cx="3846600" cy="2530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249200" y="6858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es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37960" y="1295280"/>
            <a:ext cx="42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rmaları meydana getiren bezdi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26000" y="190512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 Black"/>
              </a:rPr>
              <a:t>2) Scrotum </a:t>
            </a:r>
            <a:r>
              <a:rPr b="0" lang="tr-TR" sz="1200" spc="-1" strike="noStrike">
                <a:solidFill>
                  <a:srgbClr val="ffffff"/>
                </a:solidFill>
                <a:latin typeface="Arial Black"/>
              </a:rPr>
              <a:t>(Testis torbası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07680" y="3124080"/>
            <a:ext cx="772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İdrar kesesinden penise uzanır. Eşeysel sıvının penise taşınmasın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ğl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72280" y="266688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 Black"/>
              </a:rPr>
              <a:t>3) Uret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75160" y="396252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4) Pen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81760" y="4495680"/>
            <a:ext cx="744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keklerde, silindir şeklinde 13-17 cm. uzunluğunda bir organdı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66960" y="502920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5) Prostat Bez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16400" y="5486400"/>
            <a:ext cx="754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hum sıvısının büyük bir kısmını salgıla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Çiftleşme sırasında prostatın kaslı yapısı, idrar kesesinden gel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nalı  kapatarak spermaların idrarla karışmasını önl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Gul-18" descr=""/>
          <p:cNvPicPr/>
          <p:nvPr/>
        </p:nvPicPr>
        <p:blipFill>
          <a:blip r:embed="rId1"/>
          <a:stretch/>
        </p:blipFill>
        <p:spPr>
          <a:xfrm>
            <a:off x="2448000" y="1009800"/>
            <a:ext cx="479088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Gul-09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541044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821960" y="1355760"/>
            <a:ext cx="628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BÜYÜME VE GELİŞME DÖNEMLERİ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5440" y="2665440"/>
            <a:ext cx="5164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ebeklik Dönemi     ( 0 -12 A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Çocukluk dönemi    ( 1 -   6 Yaş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Okul Çağı Dönemi   (6 - 11 Yaş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Ergenlik Dönemi     (12- 21 Yaş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Yetişkinlik Dönemi   ( 2- 65 Yaş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Yaşlılık Dönemi       (65- ....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895480" y="990720"/>
            <a:ext cx="36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Ergenlik Dönemi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(12- 21 Yaş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37600" y="213372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Bir kız için ergenlik, çocukluktan çıkıp genç kızlığa adı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atma dönemidi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39040" y="3276720"/>
            <a:ext cx="69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genliği, zamanı biraz farklı olsa da herkes yaş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3962520"/>
            <a:ext cx="60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Ergenlik büyümenin doğal bir parçasıdı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46483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rgenlik, fiziksel değişimlerin yanı sıra, düşünsel ve 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duygusal değişimleri de beraberinde getir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kız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5562720" cy="6095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00040" y="76320"/>
            <a:ext cx="44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ĞİŞEN VÜCUDUNU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4120" y="898560"/>
            <a:ext cx="3789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rgenlik, beyninizin heme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tındaki HİPOFİZ bezini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umurtalıklarınızdaki ÖSTROJE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rmonunu salgılatmasıyla başl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2960" y="3200400"/>
            <a:ext cx="4184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ÖSTROJEN hormonu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ek çok değişimin nedenid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758600" y="76320"/>
            <a:ext cx="62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ÜCUDUMUZDAKİ ÜREME SİSTEM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üreme%20sistemi_kadın" descr=""/>
          <p:cNvPicPr/>
          <p:nvPr/>
        </p:nvPicPr>
        <p:blipFill>
          <a:blip r:embed="rId1"/>
          <a:stretch/>
        </p:blipFill>
        <p:spPr>
          <a:xfrm>
            <a:off x="1719360" y="1219320"/>
            <a:ext cx="66625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528280" y="763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İŞİ ÜREME SİSTEM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86720" y="690480"/>
            <a:ext cx="52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 Black"/>
              </a:rPr>
              <a:t>1) Ovarium = Ovaryum (Yumurtalı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yumurtalık" descr=""/>
          <p:cNvPicPr/>
          <p:nvPr/>
        </p:nvPicPr>
        <p:blipFill>
          <a:blip r:embed="rId1"/>
          <a:stretch/>
        </p:blipFill>
        <p:spPr>
          <a:xfrm>
            <a:off x="7086600" y="919080"/>
            <a:ext cx="1523880" cy="1067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362960" y="1071720"/>
            <a:ext cx="56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Pelvik boşluğunun her iki tarafında 2.5 cm. </a:t>
            </a:r>
            <a:br>
              <a:rPr sz="2000"/>
            </a:b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kadar boyunda, fasulye şeklinde bir bezdir.</a:t>
            </a:r>
            <a:br>
              <a:rPr sz="2000"/>
            </a:b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Ovaryumlar, yumurtanın meydana geldiği yerdi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60800" y="2062080"/>
            <a:ext cx="44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 Black"/>
              </a:rPr>
              <a:t>2) Fallopian Borusu = Oviduct </a:t>
            </a:r>
            <a:br>
              <a:rPr sz="2400"/>
            </a:br>
            <a:r>
              <a:rPr b="0" lang="tr-TR" sz="2400" spc="-1" strike="noStrike">
                <a:solidFill>
                  <a:srgbClr val="ffffff"/>
                </a:solidFill>
                <a:latin typeface="Arial Black"/>
              </a:rPr>
              <a:t>    (Döllenme Borus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fallop" descr=""/>
          <p:cNvPicPr/>
          <p:nvPr/>
        </p:nvPicPr>
        <p:blipFill>
          <a:blip r:embed="rId2"/>
          <a:stretch/>
        </p:blipFill>
        <p:spPr>
          <a:xfrm>
            <a:off x="6477120" y="2138400"/>
            <a:ext cx="2133360" cy="847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441440" y="2900520"/>
            <a:ext cx="538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umurtalıktan döl yatağına kadar uzanır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umurtanın geçmesi için oluşmuş bir kanaldı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61600" y="3662280"/>
            <a:ext cx="44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 Black"/>
              </a:rPr>
              <a:t>3) Uterus (Rahim = Döl Yatağı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92920" y="4043520"/>
            <a:ext cx="5218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İnsanda rektum ve idrar kesesinin arası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ut şeklinde 9 cm. kadar uzunluğu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r organdır. Normal olarak rahim içi boşluğ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palıdır. Fakat gebelik sırasında genişl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utaerus" descr=""/>
          <p:cNvPicPr/>
          <p:nvPr/>
        </p:nvPicPr>
        <p:blipFill>
          <a:blip r:embed="rId3"/>
          <a:stretch/>
        </p:blipFill>
        <p:spPr>
          <a:xfrm>
            <a:off x="7010280" y="3510000"/>
            <a:ext cx="1524240" cy="16635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68880" y="5262480"/>
            <a:ext cx="54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 Black"/>
              </a:rPr>
              <a:t>4) Cervix = Serviks </a:t>
            </a:r>
            <a:br>
              <a:rPr sz="2400"/>
            </a:br>
            <a:r>
              <a:rPr b="0" lang="tr-TR" sz="2400" spc="-1" strike="noStrike">
                <a:solidFill>
                  <a:srgbClr val="ffffff"/>
                </a:solidFill>
                <a:latin typeface="Arial Black"/>
              </a:rPr>
              <a:t>    (Dölyatağı ağzı veya rahim açıklığı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77160" y="6008760"/>
            <a:ext cx="45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öl yatağının vajinaya açıldığı delikti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serviks" descr=""/>
          <p:cNvPicPr/>
          <p:nvPr/>
        </p:nvPicPr>
        <p:blipFill>
          <a:blip r:embed="rId4"/>
          <a:stretch/>
        </p:blipFill>
        <p:spPr>
          <a:xfrm>
            <a:off x="7391520" y="5643720"/>
            <a:ext cx="113004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680560" y="763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İŞİ ÜREME SİSTEM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31640" y="762120"/>
            <a:ext cx="54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 Black"/>
              </a:rPr>
              <a:t>5) Vagina = Vajina (Çiftleşme Borus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vagina" descr=""/>
          <p:cNvPicPr/>
          <p:nvPr/>
        </p:nvPicPr>
        <p:blipFill>
          <a:blip r:embed="rId1"/>
          <a:stretch/>
        </p:blipFill>
        <p:spPr>
          <a:xfrm>
            <a:off x="7238880" y="533520"/>
            <a:ext cx="1438560" cy="1145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288440" y="1295280"/>
            <a:ext cx="589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mal uzunluğu 8-10 cm. kadardır. Bazı ırklar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Özellikle Araplarda 16 cm.’e kadar çıkabilmektedi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25880" y="2133720"/>
            <a:ext cx="38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 Black"/>
              </a:rPr>
              <a:t>6) Cilitoris = Kilitoris (Bızı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62240" y="2590920"/>
            <a:ext cx="608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is başına homolog olan bir organdır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örevi; üzerinde taşıdığı sinir uçlarını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yarılması ile çiftleşmede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de edilen zevkin alıcısı ve taşıyıcısı durumundadı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dısgenitalbolge" descr=""/>
          <p:cNvPicPr/>
          <p:nvPr/>
        </p:nvPicPr>
        <p:blipFill>
          <a:blip r:embed="rId2"/>
          <a:stretch/>
        </p:blipFill>
        <p:spPr>
          <a:xfrm>
            <a:off x="6019920" y="2095560"/>
            <a:ext cx="2666880" cy="1509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249920" y="3962520"/>
            <a:ext cx="38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7) Eşey Deliği ve Dudak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61880" y="4419720"/>
            <a:ext cx="784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İki dudaktan meydana gelmiştir. Dıştaki dudağa, Labia Majore deni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üyük dudak, testislerin derisine homologdur. </a:t>
            </a:r>
            <a:br>
              <a:rPr sz="2000"/>
            </a:b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üyük dudağın altında Labia Minora denilen küçük dudak yer alı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Eşey deliği, sidik ve yavrunun çıktığı deliktir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zar" descr=""/>
          <p:cNvPicPr/>
          <p:nvPr/>
        </p:nvPicPr>
        <p:blipFill>
          <a:blip r:embed="rId1"/>
          <a:stretch/>
        </p:blipFill>
        <p:spPr>
          <a:xfrm>
            <a:off x="2341440" y="838080"/>
            <a:ext cx="4834080" cy="3513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539360" y="469260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 Black"/>
              </a:rPr>
              <a:t>8) Hymen = Hiymen (Kızlık Zarı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80560" y="763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İŞİ ÜREME SİSTEM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65280" y="5165640"/>
            <a:ext cx="728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jinanın alt kısmından meydana gelmiştir. İçin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n damarcıkları vardır. Zedelenince 3-4 gram kadar kan sız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01:19:08Z</dcterms:created>
  <dc:creator>mao</dc:creator>
  <dc:description/>
  <dc:language>en-US</dc:language>
  <cp:lastModifiedBy>mao</cp:lastModifiedBy>
  <dcterms:modified xsi:type="dcterms:W3CDTF">2002-01-23T23:25:30Z</dcterms:modified>
  <cp:revision>29</cp:revision>
  <dc:subject/>
  <dc:title>PowerPoint Sunusu</dc:title>
</cp:coreProperties>
</file>