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C44-BCE8-4492-8F8F-35E0A1B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CDB-0A9E-4FED-84BB-F6637DE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BF74E-AA93-4B55-AE4C-36582E3D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41FA1-562D-4A60-B42E-6BBE242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98DAA-C000-4357-8A16-3BDBF8E9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AF68-BE1E-4FF4-9B4C-715BD42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BEB9-ADAA-4007-BBE7-B7DC187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AB2FE-D544-4DBE-8E41-FB947184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C558-12CA-4050-89ED-0812D96C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B684-4024-4241-86B8-E1481072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CD3FA-1E73-458E-9BC4-6A590C4B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CF0-0571-437E-858A-0D3BDBF7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C20-803A-4CF3-A9EF-20AA8A0B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A59C-847F-434D-A287-CF83F2C9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5AB9-2024-446A-9CEC-10F0FDDB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B8DE-42AE-4180-81DB-13441DA3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2968-A72A-4170-BB6E-99803A78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A288-569E-48AF-B5D7-F379A74E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38CB-E302-4ADD-A084-ECE3C6F2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0AE-048A-454B-A8F0-43072CA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642-8F73-4FBC-87A8-4EF8A840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9FA-C4BE-4215-83E6-5BCD46B1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D435-4985-411B-8C5A-C966DC87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0D1-C8A7-41F7-B0AA-A8109AC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E01C-CC1D-424A-8D60-7C57655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4205-C35F-4E56-9E7F-3EBD60CE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5A38-50C9-49CE-9D50-6AF8AA88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1F5D-8013-4C16-AA78-6DE4D95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36D9-CDD8-44DB-B182-5F67574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431D-3780-41E7-96EE-C866D91B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CDAF-1A0B-4777-8A2B-5EC295B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55F-52FB-4575-B214-76F4A107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1864-D7E7-4201-A72A-293EF6C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1375-1178-4033-A82C-F260DC2B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B476E-122B-4F75-A3E6-EFD7BD7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5E37-A84A-4144-BE37-3943938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7875-5C09-40E2-B371-223ED514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0074-DF50-41C6-947C-8C12D6C3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186F-7520-4AA0-8E2B-5F172040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2F22-33D2-44E9-A27C-9AF64C72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9928-6293-4816-9B37-AF559001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004C-72DC-4697-9945-66F27F6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7D9-E518-44E5-951A-1DB255B3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5484-EBAE-483F-8AF1-A9E58984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6473-9D12-4C89-A47F-D7004CE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3C2E-590D-40B7-9590-00B7B5FE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355B-269C-4750-947C-370C761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4890-5532-403F-9672-5E1F8AD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02DB-B957-46B9-AFBE-0676AE8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08DA-FD05-4CDB-B2E3-562D466C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1260-9BC1-4E93-AAED-1C0EFF99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962A-4C6C-49AA-BE0F-06E5ACE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857F-2A02-4A3A-91C7-2F7A1735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039-57FD-44FF-83E1-9081950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B76CF-59F0-420E-A143-31DC56E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23D8-A069-476D-8445-25A4F163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FF4BC-8C7D-44B1-A6AD-76C8CA3B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94D8-2790-4067-9324-446DF5E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055BD-87B2-45BE-9927-159E2E55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7A9D-86EA-4D95-AC80-2EFFAF1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DB35-FB36-4651-8E02-C42F82A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1AE7-D08B-4B98-BC89-6B6C569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02B8-F2FE-4B88-B953-A1EA180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B50E-9CFE-434B-B40C-2798E217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59E-3440-46A8-B3CC-C68FCF1A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9EC16-85D6-4D91-8706-DA3F2494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0DF6-C09D-43F5-BCF5-E3E3FC72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0CEB-8D04-4E29-B464-CD99B7BC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CF6B-C362-4466-988C-96EA52B8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C6D6-3DB6-453B-A2F0-F307D4A6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17D58-F341-451C-8223-9012F532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5D9E9-45B9-4883-A8EB-0D1F7B03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5BB6-9F61-426F-845A-1198BE1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017A7-2B91-4029-AF72-1E681A3E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DFF91-033B-4CCE-9610-96458E2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941-5BD9-443E-AE03-B0C1C72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43941-13AA-4623-9D99-DF08C0C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55D8-E239-4678-9B9B-CA162988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E5E6-150E-4679-AA56-2BD7EC6E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500AA-946B-4AF8-ABEE-A8430755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5F5B-0F85-480A-8978-FC450980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AA9D-25A6-42D0-A22A-B596131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DB76-A341-4436-9B3E-B42A4A25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D9B70-F7DB-4F9E-9374-B9735DC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B744-82F6-4F42-9C95-1D9F4504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C4D9-F2DC-4AC7-8CE2-218834A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730-09E7-46EE-8323-68DCE923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2DCE-9DE1-4F93-A6DE-6AD33F9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C1367-25F6-4F22-A9BA-3FD306D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505C-EE85-4925-BA60-101DBA5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2859-9AB3-4869-9D71-388EEC1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12F94-8485-4617-9D82-374EE042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9AFD5-9390-4DA9-B924-1F9F60E7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AE66-B8F8-44AC-8ACD-4D07709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9D3A-BE0E-498E-8768-4B975C0F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80B2-FD97-4E85-90EE-C0463434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932CE-0C1C-499A-B6E7-C23ACA90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5AF-93C2-4A6F-8149-444D27DB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4B156-5B79-4FA1-A078-4E99BC1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1B15-419D-4A2F-9188-95E0550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267A3-9645-4715-889E-E037DD9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CAB2-A9E3-469A-860C-2140B13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B6494-F8D0-4C7A-A118-84647420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3F1CF-D762-42AA-B3D0-B16CBD9F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8322-169E-4B61-AF1F-580F5EB5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38F4D-9503-4DD4-B9A5-82BB5CE2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5278-B4FB-4613-B98C-872598B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33978-A1A2-480E-90FF-1FB5B85D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BAD9-873D-4F58-8965-78CEAEC8D32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5BCC-E99A-4888-BB6E-F45369902A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C56-7C77-4283-B522-C68C783E8DF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7C7-840F-471C-BA0C-682A7CCED0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F33-E8C5-44DD-8827-E8FD374A19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DF3-F522-4AFF-85FF-69D219305B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308-6021-4B87-968D-BC741CC48F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184-D74D-4AEF-8FEB-76D6B513801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D3B-76F7-4337-BEE9-ACE9FA4CA6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7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-365040" y="1395360"/>
            <a:ext cx="9137520" cy="376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Rectangle 4" descr=""/>
          <p:cNvPicPr/>
          <p:nvPr/>
        </p:nvPicPr>
        <p:blipFill>
          <a:blip r:embed="rId2"/>
          <a:stretch/>
        </p:blipFill>
        <p:spPr>
          <a:xfrm>
            <a:off x="2792520" y="476280"/>
            <a:ext cx="3485880" cy="12920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5181480" y="1981080"/>
            <a:ext cx="340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2414520" y="401760"/>
            <a:ext cx="4473720" cy="1330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666880" cy="2965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835360" cy="23619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4"/>
          <a:stretch/>
        </p:blipFill>
        <p:spPr>
          <a:xfrm>
            <a:off x="6019920" y="4724280"/>
            <a:ext cx="2571480" cy="1552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5"/>
          <a:stretch/>
        </p:blipFill>
        <p:spPr>
          <a:xfrm>
            <a:off x="2971800" y="1752480"/>
            <a:ext cx="2878200" cy="2467080"/>
          </a:xfrm>
          <a:prstGeom prst="rect">
            <a:avLst/>
          </a:prstGeom>
          <a:ln w="0">
            <a:noFill/>
          </a:ln>
        </p:spPr>
      </p:pic>
      <p:sp>
        <p:nvSpPr>
          <p:cNvPr id="437" name="Left-Right Arrow 8"/>
          <p:cNvSpPr/>
          <p:nvPr/>
        </p:nvSpPr>
        <p:spPr>
          <a:xfrm>
            <a:off x="228600" y="990720"/>
            <a:ext cx="8534520" cy="533160"/>
          </a:xfrm>
          <a:prstGeom prst="leftRightArrow">
            <a:avLst>
              <a:gd name="adj1" fmla="val 50000"/>
              <a:gd name="adj2" fmla="val 5002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2362320"/>
          <a:ext cx="8686800" cy="25192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e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meplug 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peed of the transmission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ansmission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lectric w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ort of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FDM (Orthogonal Frequency Division Multiplex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3 – 20.9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ultimedia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DMA /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pic>
        <p:nvPicPr>
          <p:cNvPr id="440" name="Rectangle 4" descr=""/>
          <p:cNvPicPr/>
          <p:nvPr/>
        </p:nvPicPr>
        <p:blipFill>
          <a:blip r:embed="rId1"/>
          <a:stretch/>
        </p:blipFill>
        <p:spPr>
          <a:xfrm>
            <a:off x="560520" y="12600"/>
            <a:ext cx="8650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752480" cy="148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876840" cy="2324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6553080" y="480060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4"/>
          <a:stretch/>
        </p:blipFill>
        <p:spPr>
          <a:xfrm>
            <a:off x="533520" y="4114800"/>
            <a:ext cx="3357360" cy="2514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"/>
          <p:cNvPicPr/>
          <p:nvPr/>
        </p:nvPicPr>
        <p:blipFill>
          <a:blip r:embed="rId5"/>
          <a:stretch/>
        </p:blipFill>
        <p:spPr>
          <a:xfrm>
            <a:off x="4343400" y="2819520"/>
            <a:ext cx="2666880" cy="177948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8" descr=""/>
          <p:cNvPicPr/>
          <p:nvPr/>
        </p:nvPicPr>
        <p:blipFill>
          <a:blip r:embed="rId6"/>
          <a:stretch/>
        </p:blipFill>
        <p:spPr>
          <a:xfrm>
            <a:off x="2378160" y="353880"/>
            <a:ext cx="44244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1" name="Rectangle 3" descr=""/>
          <p:cNvPicPr/>
          <p:nvPr/>
        </p:nvPicPr>
        <p:blipFill>
          <a:blip r:embed="rId2"/>
          <a:stretch/>
        </p:blipFill>
        <p:spPr>
          <a:xfrm>
            <a:off x="530280" y="1805040"/>
            <a:ext cx="7626240" cy="1949400"/>
          </a:xfrm>
          <a:prstGeom prst="rect">
            <a:avLst/>
          </a:prstGeom>
          <a:ln w="0">
            <a:noFill/>
          </a:ln>
        </p:spPr>
      </p:pic>
      <p:pic>
        <p:nvPicPr>
          <p:cNvPr id="412" name="Content Placeholder 4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413" name="Content Placeholder 4" descr=""/>
          <p:cNvPicPr/>
          <p:nvPr/>
        </p:nvPicPr>
        <p:blipFill>
          <a:blip r:embed="rId4"/>
          <a:stretch/>
        </p:blipFill>
        <p:spPr>
          <a:xfrm>
            <a:off x="5791320" y="472428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414" name="Content Placeholder 4" descr=""/>
          <p:cNvPicPr/>
          <p:nvPr/>
        </p:nvPicPr>
        <p:blipFill>
          <a:blip r:embed="rId5"/>
          <a:stretch/>
        </p:blipFill>
        <p:spPr>
          <a:xfrm>
            <a:off x="3657600" y="4724280"/>
            <a:ext cx="1638360" cy="1181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1" name="Rectangle 4" descr=""/>
          <p:cNvPicPr/>
          <p:nvPr/>
        </p:nvPicPr>
        <p:blipFill>
          <a:blip r:embed="rId2"/>
          <a:stretch/>
        </p:blipFill>
        <p:spPr>
          <a:xfrm>
            <a:off x="1371600" y="176040"/>
            <a:ext cx="693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Content Placeholder 6" descr="erkerkz.JPG"/>
          <p:cNvPicPr/>
          <p:nvPr/>
        </p:nvPicPr>
        <p:blipFill>
          <a:blip r:embed="rId1"/>
          <a:stretch/>
        </p:blipFill>
        <p:spPr>
          <a:xfrm>
            <a:off x="0" y="1295280"/>
            <a:ext cx="9082080" cy="556272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7" descr=""/>
          <p:cNvPicPr/>
          <p:nvPr/>
        </p:nvPicPr>
        <p:blipFill>
          <a:blip r:embed="rId2"/>
          <a:stretch/>
        </p:blipFill>
        <p:spPr>
          <a:xfrm>
            <a:off x="-6480" y="-225360"/>
            <a:ext cx="8778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6" name="Content Placeholder 5" descr="plc2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427" name="Rectangle 6" descr=""/>
          <p:cNvPicPr/>
          <p:nvPr/>
        </p:nvPicPr>
        <p:blipFill>
          <a:blip r:embed="rId2"/>
          <a:stretch/>
        </p:blipFill>
        <p:spPr>
          <a:xfrm>
            <a:off x="-6480" y="-371520"/>
            <a:ext cx="91569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9" name="Content Placeholder 3" descr="erkz.jpg"/>
          <p:cNvPicPr/>
          <p:nvPr/>
        </p:nvPicPr>
        <p:blipFill>
          <a:blip r:embed="rId2"/>
          <a:stretch/>
        </p:blipFill>
        <p:spPr>
          <a:xfrm>
            <a:off x="228600" y="1447920"/>
            <a:ext cx="3765600" cy="5105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erz.jpg"/>
          <p:cNvPicPr/>
          <p:nvPr/>
        </p:nvPicPr>
        <p:blipFill>
          <a:blip r:embed="rId3"/>
          <a:stretch/>
        </p:blipFill>
        <p:spPr>
          <a:xfrm>
            <a:off x="4648320" y="1447920"/>
            <a:ext cx="3962160" cy="5157720"/>
          </a:xfrm>
          <a:prstGeom prst="rect">
            <a:avLst/>
          </a:prstGeom>
          <a:ln w="0">
            <a:noFill/>
          </a:ln>
        </p:spPr>
      </p:pic>
      <p:pic>
        <p:nvPicPr>
          <p:cNvPr id="431" name="Rectangle 5" descr=""/>
          <p:cNvPicPr/>
          <p:nvPr/>
        </p:nvPicPr>
        <p:blipFill>
          <a:blip r:embed="rId4"/>
          <a:stretch/>
        </p:blipFill>
        <p:spPr>
          <a:xfrm>
            <a:off x="-341280" y="49320"/>
            <a:ext cx="97902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6:21:33Z</dcterms:created>
  <dc:creator>jobzz</dc:creator>
  <dc:description/>
  <dc:language>en-US</dc:language>
  <cp:lastModifiedBy>jobzz</cp:lastModifiedBy>
  <dcterms:modified xsi:type="dcterms:W3CDTF">2008-10-01T22:05:38Z</dcterms:modified>
  <cp:revision>25</cp:revision>
  <dc:subject/>
  <dc:title>Slide 1</dc:title>
</cp:coreProperties>
</file>