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14EE3-066B-462F-A74B-0BF60D0B6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3914-6A79-4677-85F0-26247B14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770DB-96DA-48ED-A1D9-607930D97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FAE18-6A32-4FF8-8895-96BB0055A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CDFC6-FE3C-4380-AEDE-5730DC00D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924B9-EDD2-4B69-8E13-A08B91E5D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CB242-1B80-4D23-AE62-1D1D72D3F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DD388-B06E-461B-B1D3-6AAC55B49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6487F-F891-408B-9DC7-8CC25C7BF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BC51-5EB5-4908-A0C7-8ED66FF11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DA0BD-732B-4954-8B56-F1B370E84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AB8F-2B8B-4AE8-B6FF-7F55FCED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99815-7BBE-4760-9F72-16536C1B2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E7E8D-3499-4AC3-B826-E72CEC20B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7F04C-19B2-485D-A3CC-0CD9F312D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1C38F-D551-48B8-8534-21CDC63AB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93C63-1E67-4047-ACD5-521CAA27C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3495-5FFD-40A3-A5A9-C25F8C3AE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2AD16-6F89-439B-B10F-C8CB2FAF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8C122-7F1B-4A56-9C04-8B4D11B0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3147C-2FE6-47DD-8CEF-126B39BEA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B52F-3A34-4DA0-AD57-237CF7A06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B078E-F6B9-4423-8F89-C569A697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5CB9-D891-464E-A84D-EA0B0A02F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35FD-1C10-4C5D-9E89-0369226ED62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7B8D-4857-45CE-BB48-8B5B6EA4D9E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SELAMAT  DATANG</a:t>
            </a:r>
            <a:endParaRPr b="0" i="1" lang="en-US" sz="4400" spc="-1" strike="noStrike">
              <a:solidFill>
                <a:srgbClr val="ffcc00"/>
              </a:solidFill>
              <a:latin typeface="Times New Roman"/>
            </a:endParaRPr>
          </a:p>
        </p:txBody>
      </p:sp>
      <p:sp>
        <p:nvSpPr>
          <p:cNvPr id="143" name=""/>
          <p:cNvSpPr/>
          <p:nvPr/>
        </p:nvSpPr>
        <p:spPr>
          <a:xfrm>
            <a:off x="1219320" y="2362320"/>
            <a:ext cx="6858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Rehatkan diri anda dengan lawak2  yang dapat membuatkan tali pusat dan segala jenis tali dan urat yg ader didalm perut anda termsuklah urat kentut akan terputus kerana anda gelak terlalu kuat dan boleh menyebabkan tayar beskal tercabut sambil melayang ke udara tanpa arah tuju dan sanggup membuang biji sagu yang ader di kepala lambing. Jikalau terputus  boleh menyebabkan anda tiada selera makan. Oleh itu anda haruslah mengikat tali kasut anda sebelum anda membaca ruangan ini.kerjasama anda amat saya hargai.sekian selamat terkentut……….</a:t>
            </a:r>
            <a:endParaRPr b="0" lang="en-US" sz="2400" spc="-1" strike="noStrike">
              <a:solidFill>
                <a:srgbClr val="ffffcc"/>
              </a:solidFill>
              <a:latin typeface="Times New Roman"/>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5244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Berita Terbaru Seberang Prai. </a:t>
            </a:r>
            <a:endParaRPr b="0" i="1" lang="en-US" sz="4400" spc="-1" strike="noStrike">
              <a:solidFill>
                <a:srgbClr val="ffcc00"/>
              </a:solidFill>
              <a:latin typeface="Times New Roman"/>
            </a:endParaRPr>
          </a:p>
        </p:txBody>
      </p:sp>
      <p:sp>
        <p:nvSpPr>
          <p:cNvPr id="145" name=""/>
          <p:cNvSpPr/>
          <p:nvPr/>
        </p:nvSpPr>
        <p:spPr>
          <a:xfrm>
            <a:off x="1600200" y="1523880"/>
            <a:ext cx="716292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Times New Roman"/>
              </a:rPr>
              <a:t>Sg Ujong, seberang prai. Seorang penjual sate bertauliah dikatakan cuba mengadukan hal2 kepada kerajaan pusat tentang ketidakpuashatian beliau dengan harga tiub tayar yg meningkat. Dia berkata tiub tayar yg dijual di kedai “yusrip enterprise” terlalu mahal sehingga harganya beribu bagi satu tiub tayar. Ini menyukarkan beliau untuk menjula sate kerana tiub tayar tersebut digunakan untuk mengelap peluh dan lap rim beskal beliau. Apabila ditanya berapa harga bagi satu tiub tayar di kedai tersebut dia berkata “oooiii mahal, satu jer dah beribu.” dan ditanya lagi” harganya braper??” dan dijawab “oooiii mahal, adelah dekat beribu.” dan ditanya untuk kali terakhir( tangan memegang kayu besbol) “ braper harganya..” dan dijawab “oiiii mahal, satu lebih kurang 20 ribu rupiah.maner nak cari duit camtu.”katanya. Kemudian dtg seorang lelaki dan berkata “timas cik sebab layan orang gile jap untuk saya, saye gi tandas jap tadi” apbl dipikirkan balik, wartawan kami telah tertipu……(hahaahahahahaha aku kene tipu hahahahaha)</a:t>
            </a:r>
            <a:endParaRPr b="0" lang="en-US" sz="2000" spc="-1" strike="noStrike">
              <a:solidFill>
                <a:srgbClr val="ffffcc"/>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Mari Mengenal Menate</a:t>
            </a:r>
            <a:r>
              <a:rPr b="0" i="1" lang="en-US" sz="2000" spc="-1" strike="noStrike">
                <a:solidFill>
                  <a:srgbClr val="ffcc00"/>
                </a:solidFill>
                <a:latin typeface="Times New Roman"/>
              </a:rPr>
              <a:t>(national geographic)</a:t>
            </a:r>
            <a:endParaRPr b="0" i="1" lang="en-US" sz="2000" spc="-1" strike="noStrike">
              <a:solidFill>
                <a:srgbClr val="ffcc00"/>
              </a:solidFill>
              <a:latin typeface="Times New Roman"/>
            </a:endParaRPr>
          </a:p>
        </p:txBody>
      </p:sp>
      <p:sp>
        <p:nvSpPr>
          <p:cNvPr id="147" name=""/>
          <p:cNvSpPr/>
          <p:nvPr/>
        </p:nvSpPr>
        <p:spPr>
          <a:xfrm>
            <a:off x="1066680" y="1143000"/>
            <a:ext cx="72392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Stylus"/>
              </a:rPr>
              <a:t>Kali ini kami akan mempekenalkan haiwan yg hidup di utara jawo dan suker tinggal seorang dari. Nama binatang tersebut ialah mohamad pazli hanapiah. Sehingga hari ini hanya beberapa ekor diketahui hidup di dunia ini. Hawai ini di lindungi sepenuhnya oleh orang utan. Kini pemburu haram memburu haiwan ini adalah untuk mengambil bulu ketiak haiwan tersebut untuk dibuat ubat. Sesiapa yg didapati bersalah menagkap haiwan ini akan dihukum gantung telinga sampai merah dan bulu ketiaknya akan dicanut bagi mmengantikan bulu haiwan tersebut. Haiwan ini juga tergolong dalam kumpulan mamaliar kerana haiwan ini berdarah panas dan suke cuci pinggan. Haiwan ini suke memburu pada waktu malam (nak ngintai) kerana binatang ini tdk dapat melihat pada waktu siang. Contoh haiwan buruannya ialah lipas, cencorot, nyamuk, dan yg samer waktu dengannya. Oleh itu haiwan ini sesuai dipelihara dirumah kerana sifatnya itu. Pihak kerajaan cuber untuk menternak binatang ini untuk membuat karipap.              Sekian  </a:t>
            </a:r>
            <a:endParaRPr b="0" lang="en-US" sz="2000" spc="-1" strike="noStrike">
              <a:solidFill>
                <a:srgbClr val="ffffcc"/>
              </a:solidFill>
              <a:latin typeface="Times New Roman"/>
            </a:endParaRPr>
          </a:p>
        </p:txBody>
      </p:sp>
      <p:pic>
        <p:nvPicPr>
          <p:cNvPr id="148" name="" descr=""/>
          <p:cNvPicPr/>
          <p:nvPr/>
        </p:nvPicPr>
        <p:blipFill>
          <a:blip r:embed="rId1"/>
          <a:stretch/>
        </p:blipFill>
        <p:spPr>
          <a:xfrm>
            <a:off x="6781680" y="5402160"/>
            <a:ext cx="1635120" cy="1455840"/>
          </a:xfrm>
          <a:prstGeom prst="rect">
            <a:avLst/>
          </a:prstGeom>
          <a:ln w="0">
            <a:noFill/>
          </a:ln>
        </p:spPr>
      </p:pic>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Buletin Berletin Balatin Terketin</a:t>
            </a:r>
            <a:endParaRPr b="0" i="1" lang="en-US" sz="4400" spc="-1" strike="noStrike">
              <a:solidFill>
                <a:srgbClr val="ffcc00"/>
              </a:solidFill>
              <a:latin typeface="Times New Roman"/>
            </a:endParaRPr>
          </a:p>
        </p:txBody>
      </p:sp>
      <p:sp>
        <p:nvSpPr>
          <p:cNvPr id="150" name=""/>
          <p:cNvSpPr/>
          <p:nvPr/>
        </p:nvSpPr>
        <p:spPr>
          <a:xfrm>
            <a:off x="1219320" y="914400"/>
            <a:ext cx="7924680" cy="558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Semenanjung Gaza, Johor. Bush mengakui bahawa dia terjumpa Saddam Hussein di Sebelah barat semenanjung Gaza bersama dengan rkan sekampungnya iaitu Kopi Anan. Mereka dikatakan sedang  menguli tepung dipercayai untuk membuat kuih baulu untuk dijual pada hari raya yg semakin tiba. Kuih yg dijual harganya satu lebih kurang RM  (bukan rupiah) 0.35 dan jikalau beli 5 dapat pecuma satu. Baru2 ini Bush juga mendakwa ternampak Nik Aziz dan Tiger Woods sedang bermain congkak di depan  halaman rumah Pak lah. Mereka bermain congkak sambil mendendangkan lagu Bukan Congkak Biasa yg pernah dipopularkan oleh artis tempatan iaitu Siti Nurhalisut.Walaubagaimanapun kesemua keterangan Bush itu di tepis oleh Khalid Jamlus yg mengatakan dia ternampak Bush bermain Batu Seremban bersama Ramli Sarip dan Kak Pah di belakng rumah Pazli. Ini telah memeranjatkan Busg  lalu menuduh Khalid Jamlus tak terrer main bola tapi terer main Teng-teng. Bush berkata dia ternampak Khalid Jamlus bermain Teng2 bersama dengan Alan Rafsel dan Sukarno di depan pintu KFC di selayang. Dan akhirnya semuanya saling tuduh menuduh hinggakan M. Nasir mengatakan bahawa Bush tidak pernah bangun pagi untuk sembahyang subuh. Akhir baru2 ini PBB mengadakan pehimpunan untuk membaik pulih hubungan yg telah retak antara mereka. Namun cadangan tersebut tidak berjaya malah lebih teruk kerana Bush mengatakan dier ternampak M. Nasir bermain tutup botol dengan Khai(AF) di dalam jamban sebuah rumah di perkampungan orang-orang INDON di Kalimantan.</a:t>
            </a:r>
            <a:endParaRPr b="0" lang="en-US" sz="1800" spc="-1" strike="noStrike">
              <a:solidFill>
                <a:srgbClr val="ffffcc"/>
              </a:solidFill>
              <a:latin typeface="Times New Roman"/>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Borito Orang Nogoie..</a:t>
            </a:r>
            <a:endParaRPr b="0" i="1" lang="en-US" sz="4400" spc="-1" strike="noStrike">
              <a:solidFill>
                <a:srgbClr val="ffcc00"/>
              </a:solidFill>
              <a:latin typeface="Times New Roman"/>
            </a:endParaRPr>
          </a:p>
        </p:txBody>
      </p:sp>
      <p:sp>
        <p:nvSpPr>
          <p:cNvPr id="152" name=""/>
          <p:cNvSpPr/>
          <p:nvPr/>
        </p:nvSpPr>
        <p:spPr>
          <a:xfrm>
            <a:off x="1295280" y="990720"/>
            <a:ext cx="78487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Times New Roman"/>
              </a:rPr>
              <a:t>Seekor gajah dijumpai sedang berborak dengan seorang ketua kampung “aku gilo” yang bernama Mokataky bin Patowyo di depan sebuah kedai menjual songkok berjenama yusrip. Gajah tersebut memberitahu bahawa dia mengidap penyakit resdung. Hal ini menyebabkan ketua kampung risau akan keadaan gajah tersebut. Ketua kampung segera bertanya kepada Encik Gajah tersebut bagaimana dia boleh mengidap penyakit tersebut. Lalu Encik Gajah menjawab “ satu hari saya tengah hidangkan air kat Encik Monyet, tiba2 Mak saya Mak Cik Gajah ternampak seketul taik lalat di mukanya dan dalam keadaan ketakutan Mak Cik Gajah menjerit resdung. Sebab tu la sayer dapat redung wahai ketua kampung”. Barulah ketua kampung paham akan punca penyakit Encik Gajah tersebut. Ketua kampung memutuskan untuk memberi rawatan kepada Encik Gajah dengan meniup seruling dan menjentik semut yg makan roti ketua kampung. Dengan cara itu sahaja penyakit Encik Gajah dapat disembuhkan. Lalu Encik Gajah pun berlari-lari pulang sambil mengorek idung dan mencukur biji rambutan yg ader dihadapanya. Ketua kampung pula terpaksa mencabut rumput dan memotong kuku kambing untuk memanggil Encik Gajah itu kembali namun tidak berjaya.  Sekian……... (Tah pa per tah citer nie!!!!! Den pun tak paham…)</a:t>
            </a:r>
            <a:endParaRPr b="0" lang="en-US" sz="2000" spc="-1" strike="noStrike">
              <a:solidFill>
                <a:srgbClr val="ffffcc"/>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Borito Tongah Malam nie ha...</a:t>
            </a:r>
            <a:endParaRPr b="0" i="1" lang="en-US" sz="4400" spc="-1" strike="noStrike">
              <a:solidFill>
                <a:srgbClr val="ffcc00"/>
              </a:solidFill>
              <a:latin typeface="Times New Roman"/>
            </a:endParaRPr>
          </a:p>
        </p:txBody>
      </p:sp>
      <p:sp>
        <p:nvSpPr>
          <p:cNvPr id="154" name=""/>
          <p:cNvSpPr/>
          <p:nvPr/>
        </p:nvSpPr>
        <p:spPr>
          <a:xfrm>
            <a:off x="1295280" y="838080"/>
            <a:ext cx="784872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Gempak, Batu caves, Ampang. Seekor cipan tidak mengaku bersalah apabila diberi tuduhan merogol lobak merah tanpa belas kasihan. Cipan tersebut yg bernama Tajul Asyikhin dikatakan merogol lobak tersebut di jalan 16 kg Parid Lelabu tg. Malim.menurut seorang saksi yg mahu dikenali sebagai Jay berkata, dia ternampak seekor binatang yg huduh sedang membeli lobak merah di salah sebuah kedai di kg itu. Walaubagaimanapun, cipan teerrsebut kemudiannya membawa lari lobak itu di sebuah jalan yg gelap-gelita tanpa lampu. Cipan tersebut kemudian dikatakan menaggalkan baju lobak merah tersebut (kulit lobak). Lalu merakus lobak tersebut. Namun Cipan tersebut tidak mahu mengaku bersalah di atas alasan dia belum mengalami akil baligh. Alasannya kemudian diperiksa oleh para hakim dan ternyata dia menipu. Oleh itu Cipan tersebut dijatuhkan dua hukuman sekali gus iaitu mengikut seksyen kanun anti jenayah 090 jika didapati bersalah boleh dihukum mengopek kentang selama dua bulan dan denda sebanyak harga tiga biji karipap diatas kesalahan menipu di dalam mahkamah dan cuba meniduri lobak merah. Hukuman akan dijalankan jumaat depan. Lobak merah tersebut dibawa ker hospital Orang Utan Malaysia utuk diberi rawatan yg selajutnya. Apabila ditanya kepada doktor apakah rawatan yg akan diberikan doktor menjawab bahawa lobak akan direbus dan kemudiannya dipotong kecil2 seperti dadu untuk dibuat masak Maggi.Sekian sahaja berita hari ini. Saya jawo anak Klate untuk Buletin Jawo.  </a:t>
            </a:r>
            <a:endParaRPr b="0" lang="en-US" sz="1800" spc="-1" strike="noStrike">
              <a:solidFill>
                <a:srgbClr val="ffffcc"/>
              </a:solidFill>
              <a:latin typeface="Times New Roman"/>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99"/>
                </a:solidFill>
                <a:latin typeface="Times New Roman"/>
              </a:rPr>
              <a:t>BULATIN Jawo lagi</a:t>
            </a:r>
            <a:endParaRPr b="0" i="1" lang="en-US" sz="4400" spc="-1" strike="noStrike">
              <a:solidFill>
                <a:srgbClr val="ffcc00"/>
              </a:solidFill>
              <a:latin typeface="Times New Roman"/>
            </a:endParaRPr>
          </a:p>
        </p:txBody>
      </p:sp>
      <p:sp>
        <p:nvSpPr>
          <p:cNvPr id="156" name=""/>
          <p:cNvSpPr/>
          <p:nvPr/>
        </p:nvSpPr>
        <p:spPr>
          <a:xfrm>
            <a:off x="1371600" y="1143000"/>
            <a:ext cx="754380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rPr>
              <a:t>Ampang,25 hari selepas hari Gawai. Seorang pemuda ditangkap oleh seorang pegawai polis Cheras iaitu inspektor moktar ludis anak petit kambing dekat sini pagi tadi. Pemuda itu ditangkap semasa cuba meragut seorang pondan iaitu Muhamad zulhairy Jambang (bukan nama sebenar) yg ketika itu sedang bersendirian mejual ubat kuat di tepi jalan. Menurut seorang saksi yang mahu dikenali sebagai Che Embun, pondan tersebut ketika itu sedang mendendangkan lagu Siti Nurhaliza iaitu Bukan Cinta Biasa. Kemudian didatangi seorang lelaki yg dikatakan hendak membeli ubat kuat kemudian lelaki tersebut meragut beg duit wanita tersebut. Walabagaimanapun Inspektor berkata dia berkata di tempat kejadian ketika kejadian berlaku. Ketika ditanya wartawan mengapa inspektor berada di tempat kejadian secara kebetulan atau….Inspektor berkata dia berada di situ kerana dia pun nak beli ubat kuat tersebut. (muker inspektor menjadi merah)Namun begitu peragut itu kemudiannya dapat di berkas ketika sedang mencukur bulu ketiak di depan rumahnya di batu 16 jalan telur Lembu jantan, ampang  tg, malim.</a:t>
            </a:r>
            <a:endParaRPr b="0" lang="en-US" sz="2000" spc="-1" strike="noStrike">
              <a:solidFill>
                <a:srgbClr val="ffffcc"/>
              </a:solidFill>
              <a:latin typeface="Times New Roman"/>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Dah Abih Doh…..</a:t>
            </a:r>
            <a:endParaRPr b="0" i="1" lang="en-US" sz="4400" spc="-1" strike="noStrike">
              <a:solidFill>
                <a:srgbClr val="ffcc00"/>
              </a:solidFill>
              <a:latin typeface="Times New Roman"/>
            </a:endParaRPr>
          </a:p>
        </p:txBody>
      </p:sp>
      <p:sp>
        <p:nvSpPr>
          <p:cNvPr id="158" name=""/>
          <p:cNvSpPr/>
          <p:nvPr/>
        </p:nvSpPr>
        <p:spPr>
          <a:xfrm>
            <a:off x="1371600" y="1752480"/>
            <a:ext cx="73915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kian semoga anda terhibur dengan lawak2 yg tiada kene-mengena ini. saya harap anda tidak terlupa mengikat tali kasut anda. Sekian selamat maju jaya kepada semua dan teruskan usaha anda menyokong saya supaya boleh saya mengutuk kawan2 saya di dalam presentation saya. Tan Q guys………..-Hubungi den (</a:t>
            </a:r>
            <a:r>
              <a:rPr b="0" lang="en-US" sz="1800" spc="-1" strike="noStrike">
                <a:solidFill>
                  <a:srgbClr val="ffffcc"/>
                </a:solidFill>
                <a:latin typeface="Times New Roman"/>
              </a:rPr>
              <a:t>biskutmary_04@yahoo.com)</a:t>
            </a:r>
            <a:endParaRPr b="0" lang="en-US" sz="1800" spc="-1" strike="noStrike">
              <a:solidFill>
                <a:srgbClr val="ffffcc"/>
              </a:solidFill>
              <a:latin typeface="Times New Roman"/>
            </a:endParaRPr>
          </a:p>
        </p:txBody>
      </p:sp>
    </p:spTree>
  </p:cSld>
  <p:transition spd="slow">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05:54:16Z</dcterms:created>
  <dc:creator>Yan</dc:creator>
  <dc:description/>
  <dc:language>en-US</dc:language>
  <cp:lastModifiedBy>Yan</cp:lastModifiedBy>
  <dcterms:modified xsi:type="dcterms:W3CDTF">2004-06-27T17:54:28Z</dcterms:modified>
  <cp:revision>15</cp:revision>
  <dc:subject/>
  <dc:title>SELAMAT  DATANG</dc:title>
</cp:coreProperties>
</file>