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3832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29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3240" y="4702320"/>
            <a:ext cx="4965840" cy="4457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-360" y="940608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38320" y="940608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7477744-356E-4475-897A-917CCD6F96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38320" y="940608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5F4E1D5-2232-4932-AA30-9A3AAA48E2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940608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3832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3480" y="69372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38320" y="940608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4E13FCE-F897-46F4-A626-B949F2766F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940608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3832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858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3240" y="4707000"/>
            <a:ext cx="49658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620120" y="6248520"/>
          <a:ext cx="1211040" cy="47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6248520"/>
                    <a:ext cx="12110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762120"/>
            <a:ext cx="990720" cy="609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33480" cy="81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334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0" y="5867280"/>
          <a:ext cx="67320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867280"/>
                    <a:ext cx="673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0120" y="6248520"/>
          <a:ext cx="1211040" cy="47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6248520"/>
                    <a:ext cx="12110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762120"/>
            <a:ext cx="99072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933480" cy="81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334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17880" y="8762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5864400"/>
          <a:ext cx="673200" cy="99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864400"/>
                    <a:ext cx="673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6319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0" y="0"/>
          <a:ext cx="9334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34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33520" y="29718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57080"/>
            <a:ext cx="990720" cy="609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0120" y="6248520"/>
          <a:ext cx="1211040" cy="4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248520"/>
                    <a:ext cx="12110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14400" y="5562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Primera Conferencia Española de P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Universidad de Alicante</a:t>
            </a:r>
            <a:br>
              <a:rPr sz="2400"/>
            </a:b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18 - 19 de diciembre d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60" y="90720"/>
            <a:ext cx="939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ff"/>
                </a:solidFill>
                <a:latin typeface="Times New Roman MT Extra Bold"/>
              </a:rPr>
              <a:t>La Prospectiva en el Marco de la UE:</a:t>
            </a:r>
            <a:r>
              <a:rPr b="1" lang="es-ES" sz="4400" spc="-1" strike="noStrike">
                <a:solidFill>
                  <a:srgbClr val="6666ff"/>
                </a:solidFill>
                <a:latin typeface="Times New Roman MT Extra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6666ff"/>
                </a:solidFill>
                <a:latin typeface="Times New Roman MT Extra Bold"/>
              </a:rPr>
              <a:t>potencialidades, proyectos y rea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66ff"/>
                </a:solidFill>
                <a:latin typeface="Times New Roman"/>
              </a:rPr>
              <a:t>James P. Gavi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66ff"/>
                </a:solidFill>
                <a:latin typeface="Times New Roman"/>
              </a:rPr>
              <a:t>Instituto de Prospectiva Tecnologica, Sev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643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66ff"/>
                </a:solidFill>
                <a:latin typeface="Times New Roman"/>
              </a:rPr>
              <a:t>IPTS - Centro europeo de referencia</a:t>
            </a:r>
            <a:br>
              <a:rPr sz="3200"/>
            </a:br>
            <a:r>
              <a:rPr b="1" lang="es-ES" sz="3200" spc="-1" strike="noStrike">
                <a:solidFill>
                  <a:srgbClr val="6666ff"/>
                </a:solidFill>
                <a:latin typeface="Times New Roman"/>
              </a:rPr>
              <a:t>en estudios de prospectiva </a:t>
            </a:r>
            <a:endParaRPr b="1" lang="en-US" sz="32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49160"/>
            <a:ext cx="7238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parar análisis de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pectiva técnico-económic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para los responsables de las políticas  europ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entro de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es temátic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n más de 200 colaboradores incluyendo los mayores institutos europeos de ciencia y tecnología de la UE y los países de Europa or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unic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os resultados de sus estudios a través de publicaciones, seminarios y conferencias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más de 100 eventos por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38840" y="2041200"/>
            <a:ext cx="4798440" cy="3445200"/>
            <a:chOff x="2238840" y="2041200"/>
            <a:chExt cx="4798440" cy="3445200"/>
          </a:xfrm>
        </p:grpSpPr>
        <p:sp>
          <p:nvSpPr>
            <p:cNvPr id="148" name=""/>
            <p:cNvSpPr/>
            <p:nvPr/>
          </p:nvSpPr>
          <p:spPr>
            <a:xfrm>
              <a:off x="2514600" y="4907160"/>
              <a:ext cx="4191120" cy="579240"/>
            </a:xfrm>
            <a:prstGeom prst="leftRightArrow">
              <a:avLst>
                <a:gd name="adj1" fmla="val 50000"/>
                <a:gd name="adj2" fmla="val 1440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3342000">
              <a:off x="3980160" y="3384360"/>
              <a:ext cx="3581280" cy="622800"/>
            </a:xfrm>
            <a:prstGeom prst="leftRightArrow">
              <a:avLst>
                <a:gd name="adj1" fmla="val 47352"/>
                <a:gd name="adj2" fmla="val 1162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18258000">
              <a:off x="1714320" y="3384360"/>
              <a:ext cx="3581280" cy="623160"/>
            </a:xfrm>
            <a:prstGeom prst="leftRightArrow">
              <a:avLst>
                <a:gd name="adj1" fmla="val 47352"/>
                <a:gd name="adj2" fmla="val 11621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0" y="3960360"/>
            <a:ext cx="2514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act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Desarollar capa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omentar la 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18320" y="3731400"/>
            <a:ext cx="2438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tegración (</a:t>
            </a:r>
            <a:r>
              <a:rPr b="0" i="1" lang="es-ES" sz="2400" spc="-1" strike="noStrike">
                <a:solidFill>
                  <a:srgbClr val="3333cc"/>
                </a:solidFill>
                <a:latin typeface="Times New Roman"/>
              </a:rPr>
              <a:t>mainstreaming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quilibrar distintas fuentes e inter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333000"/>
            <a:ext cx="624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c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formación relevante, comprensible y 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teligencia rigurosa y optim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ciones claras y raz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80040" y="3351600"/>
            <a:ext cx="261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Times New Roman"/>
              </a:rPr>
              <a:t>El av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Times New Roman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Times New Roman"/>
              </a:rPr>
              <a:t>la pro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6480" y="6156720"/>
            <a:ext cx="49096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lgunas tensiones posi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Estructura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PTS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prospectiva tip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foresight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rtografía de la pro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acto de la pro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prospectiva al nivel de la 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ndencias y pregu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I. </a:t>
            </a: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IPTS en España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310280" cy="480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4114800"/>
            <a:ext cx="1600200" cy="137160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766800"/>
            <a:ext cx="2743200" cy="49399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cc"/>
                </a:solidFill>
                <a:latin typeface="Times New Roman"/>
              </a:rPr>
              <a:t>Siete institu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RMM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Reference Materials and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TU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Transuranium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PSC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the Protection and the Security of the Citi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E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Environment and Sustain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HC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Health and Consumer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imes New Roman"/>
              </a:rPr>
              <a:t>IPT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Institute for Prospective Technological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Colaboraciones con organizaciones españolas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CYT: síntesis de estudios de prospectiva nacionales (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PTI: Concepción, FOREN - prospectiva regional, estudio transnacional (F, P, I, E), y varios semi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CYT: Conferencia de la presidencia de la UE 13-14 mayo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O: CSIC, O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II. </a:t>
            </a: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La prospectiva tipo </a:t>
            </a:r>
            <a:r>
              <a:rPr b="1" i="1" lang="es-ES" sz="4400" spc="-1" strike="noStrike">
                <a:solidFill>
                  <a:srgbClr val="6666ff"/>
                </a:solidFill>
                <a:latin typeface="Times New Roman"/>
              </a:rPr>
              <a:t>foresight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ff"/>
                </a:solidFill>
                <a:latin typeface="Times New Roman"/>
              </a:rPr>
              <a:t>¿Qué es la prospectiva?</a:t>
            </a:r>
            <a:endParaRPr b="1" lang="en-US" sz="44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emergenci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foresight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sde finales de los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racterísticas es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ament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bi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tratégica 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lig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n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ropiación de los result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los agentes participantes con capacidad para actuar/ tomar decisiones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ear nuev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3440" y="456840"/>
            <a:ext cx="7737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Prospectiva: La intersección de tres campos</a:t>
            </a:r>
            <a:endParaRPr b="1" lang="en-US" sz="3200" spc="-1" strike="noStrike">
              <a:solidFill>
                <a:srgbClr val="6666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9200" y="2763720"/>
            <a:ext cx="2819160" cy="2752920"/>
          </a:xfrm>
          <a:custGeom>
            <a:avLst/>
            <a:gdLst/>
            <a:ahLst/>
            <a:rect l="l" t="t" r="r" b="b"/>
            <a:pathLst>
              <a:path w="1925" h="1734">
                <a:moveTo>
                  <a:pt x="4" y="65"/>
                </a:moveTo>
                <a:lnTo>
                  <a:pt x="8" y="43"/>
                </a:lnTo>
                <a:lnTo>
                  <a:pt x="26" y="35"/>
                </a:lnTo>
                <a:lnTo>
                  <a:pt x="42" y="26"/>
                </a:lnTo>
                <a:lnTo>
                  <a:pt x="59" y="26"/>
                </a:lnTo>
                <a:lnTo>
                  <a:pt x="77" y="26"/>
                </a:lnTo>
                <a:lnTo>
                  <a:pt x="103" y="17"/>
                </a:lnTo>
                <a:lnTo>
                  <a:pt x="119" y="17"/>
                </a:lnTo>
                <a:lnTo>
                  <a:pt x="136" y="17"/>
                </a:lnTo>
                <a:lnTo>
                  <a:pt x="154" y="17"/>
                </a:lnTo>
                <a:lnTo>
                  <a:pt x="171" y="17"/>
                </a:lnTo>
                <a:lnTo>
                  <a:pt x="188" y="9"/>
                </a:lnTo>
                <a:lnTo>
                  <a:pt x="205" y="9"/>
                </a:lnTo>
                <a:lnTo>
                  <a:pt x="222" y="0"/>
                </a:lnTo>
                <a:lnTo>
                  <a:pt x="239" y="0"/>
                </a:lnTo>
                <a:lnTo>
                  <a:pt x="257" y="0"/>
                </a:lnTo>
                <a:lnTo>
                  <a:pt x="273" y="0"/>
                </a:lnTo>
                <a:lnTo>
                  <a:pt x="290" y="9"/>
                </a:lnTo>
                <a:lnTo>
                  <a:pt x="308" y="9"/>
                </a:lnTo>
                <a:lnTo>
                  <a:pt x="325" y="9"/>
                </a:lnTo>
                <a:lnTo>
                  <a:pt x="342" y="9"/>
                </a:lnTo>
                <a:lnTo>
                  <a:pt x="359" y="9"/>
                </a:lnTo>
                <a:lnTo>
                  <a:pt x="376" y="9"/>
                </a:lnTo>
                <a:lnTo>
                  <a:pt x="393" y="9"/>
                </a:lnTo>
                <a:lnTo>
                  <a:pt x="410" y="9"/>
                </a:lnTo>
                <a:lnTo>
                  <a:pt x="427" y="9"/>
                </a:lnTo>
                <a:lnTo>
                  <a:pt x="444" y="9"/>
                </a:lnTo>
                <a:lnTo>
                  <a:pt x="462" y="9"/>
                </a:lnTo>
                <a:lnTo>
                  <a:pt x="479" y="9"/>
                </a:lnTo>
                <a:lnTo>
                  <a:pt x="495" y="17"/>
                </a:lnTo>
                <a:lnTo>
                  <a:pt x="513" y="17"/>
                </a:lnTo>
                <a:lnTo>
                  <a:pt x="530" y="26"/>
                </a:lnTo>
                <a:lnTo>
                  <a:pt x="556" y="26"/>
                </a:lnTo>
                <a:lnTo>
                  <a:pt x="572" y="26"/>
                </a:lnTo>
                <a:lnTo>
                  <a:pt x="598" y="35"/>
                </a:lnTo>
                <a:lnTo>
                  <a:pt x="616" y="35"/>
                </a:lnTo>
                <a:lnTo>
                  <a:pt x="633" y="43"/>
                </a:lnTo>
                <a:lnTo>
                  <a:pt x="649" y="52"/>
                </a:lnTo>
                <a:lnTo>
                  <a:pt x="667" y="61"/>
                </a:lnTo>
                <a:lnTo>
                  <a:pt x="684" y="69"/>
                </a:lnTo>
                <a:lnTo>
                  <a:pt x="701" y="86"/>
                </a:lnTo>
                <a:lnTo>
                  <a:pt x="718" y="95"/>
                </a:lnTo>
                <a:lnTo>
                  <a:pt x="744" y="103"/>
                </a:lnTo>
                <a:lnTo>
                  <a:pt x="761" y="112"/>
                </a:lnTo>
                <a:lnTo>
                  <a:pt x="778" y="112"/>
                </a:lnTo>
                <a:lnTo>
                  <a:pt x="795" y="120"/>
                </a:lnTo>
                <a:lnTo>
                  <a:pt x="812" y="129"/>
                </a:lnTo>
                <a:lnTo>
                  <a:pt x="829" y="138"/>
                </a:lnTo>
                <a:lnTo>
                  <a:pt x="847" y="146"/>
                </a:lnTo>
                <a:lnTo>
                  <a:pt x="855" y="164"/>
                </a:lnTo>
                <a:lnTo>
                  <a:pt x="872" y="172"/>
                </a:lnTo>
                <a:lnTo>
                  <a:pt x="889" y="181"/>
                </a:lnTo>
                <a:lnTo>
                  <a:pt x="906" y="172"/>
                </a:lnTo>
                <a:lnTo>
                  <a:pt x="915" y="155"/>
                </a:lnTo>
                <a:lnTo>
                  <a:pt x="932" y="155"/>
                </a:lnTo>
                <a:lnTo>
                  <a:pt x="949" y="146"/>
                </a:lnTo>
                <a:lnTo>
                  <a:pt x="966" y="138"/>
                </a:lnTo>
                <a:lnTo>
                  <a:pt x="983" y="129"/>
                </a:lnTo>
                <a:lnTo>
                  <a:pt x="1000" y="120"/>
                </a:lnTo>
                <a:lnTo>
                  <a:pt x="1017" y="112"/>
                </a:lnTo>
                <a:lnTo>
                  <a:pt x="1034" y="103"/>
                </a:lnTo>
                <a:lnTo>
                  <a:pt x="1052" y="95"/>
                </a:lnTo>
                <a:lnTo>
                  <a:pt x="1077" y="86"/>
                </a:lnTo>
                <a:lnTo>
                  <a:pt x="1094" y="78"/>
                </a:lnTo>
                <a:lnTo>
                  <a:pt x="1111" y="69"/>
                </a:lnTo>
                <a:lnTo>
                  <a:pt x="1129" y="61"/>
                </a:lnTo>
                <a:lnTo>
                  <a:pt x="1146" y="52"/>
                </a:lnTo>
                <a:lnTo>
                  <a:pt x="1162" y="43"/>
                </a:lnTo>
                <a:lnTo>
                  <a:pt x="1180" y="35"/>
                </a:lnTo>
                <a:lnTo>
                  <a:pt x="1197" y="35"/>
                </a:lnTo>
                <a:lnTo>
                  <a:pt x="1214" y="35"/>
                </a:lnTo>
                <a:lnTo>
                  <a:pt x="1231" y="35"/>
                </a:lnTo>
                <a:lnTo>
                  <a:pt x="1248" y="35"/>
                </a:lnTo>
                <a:lnTo>
                  <a:pt x="1274" y="26"/>
                </a:lnTo>
                <a:lnTo>
                  <a:pt x="1291" y="26"/>
                </a:lnTo>
                <a:lnTo>
                  <a:pt x="1308" y="26"/>
                </a:lnTo>
                <a:lnTo>
                  <a:pt x="1325" y="17"/>
                </a:lnTo>
                <a:lnTo>
                  <a:pt x="1342" y="17"/>
                </a:lnTo>
                <a:lnTo>
                  <a:pt x="1360" y="9"/>
                </a:lnTo>
                <a:lnTo>
                  <a:pt x="1376" y="9"/>
                </a:lnTo>
                <a:lnTo>
                  <a:pt x="1393" y="9"/>
                </a:lnTo>
                <a:lnTo>
                  <a:pt x="1411" y="9"/>
                </a:lnTo>
                <a:lnTo>
                  <a:pt x="1428" y="9"/>
                </a:lnTo>
                <a:lnTo>
                  <a:pt x="1445" y="9"/>
                </a:lnTo>
                <a:lnTo>
                  <a:pt x="1462" y="9"/>
                </a:lnTo>
                <a:lnTo>
                  <a:pt x="1479" y="9"/>
                </a:lnTo>
                <a:lnTo>
                  <a:pt x="1496" y="9"/>
                </a:lnTo>
                <a:lnTo>
                  <a:pt x="1514" y="9"/>
                </a:lnTo>
                <a:lnTo>
                  <a:pt x="1539" y="9"/>
                </a:lnTo>
                <a:lnTo>
                  <a:pt x="1556" y="9"/>
                </a:lnTo>
                <a:lnTo>
                  <a:pt x="1573" y="9"/>
                </a:lnTo>
                <a:lnTo>
                  <a:pt x="1591" y="9"/>
                </a:lnTo>
                <a:lnTo>
                  <a:pt x="1607" y="9"/>
                </a:lnTo>
                <a:lnTo>
                  <a:pt x="1624" y="9"/>
                </a:lnTo>
                <a:lnTo>
                  <a:pt x="1642" y="9"/>
                </a:lnTo>
                <a:lnTo>
                  <a:pt x="1659" y="9"/>
                </a:lnTo>
                <a:lnTo>
                  <a:pt x="1684" y="9"/>
                </a:lnTo>
                <a:lnTo>
                  <a:pt x="1701" y="9"/>
                </a:lnTo>
                <a:lnTo>
                  <a:pt x="1719" y="9"/>
                </a:lnTo>
                <a:lnTo>
                  <a:pt x="1736" y="9"/>
                </a:lnTo>
                <a:lnTo>
                  <a:pt x="1752" y="9"/>
                </a:lnTo>
                <a:lnTo>
                  <a:pt x="1770" y="9"/>
                </a:lnTo>
                <a:lnTo>
                  <a:pt x="1787" y="17"/>
                </a:lnTo>
                <a:lnTo>
                  <a:pt x="1804" y="26"/>
                </a:lnTo>
                <a:lnTo>
                  <a:pt x="1813" y="43"/>
                </a:lnTo>
                <a:lnTo>
                  <a:pt x="1838" y="52"/>
                </a:lnTo>
                <a:lnTo>
                  <a:pt x="1855" y="69"/>
                </a:lnTo>
                <a:lnTo>
                  <a:pt x="1873" y="78"/>
                </a:lnTo>
                <a:lnTo>
                  <a:pt x="1890" y="78"/>
                </a:lnTo>
                <a:lnTo>
                  <a:pt x="1906" y="86"/>
                </a:lnTo>
                <a:lnTo>
                  <a:pt x="1924" y="103"/>
                </a:lnTo>
                <a:lnTo>
                  <a:pt x="1924" y="120"/>
                </a:lnTo>
                <a:lnTo>
                  <a:pt x="1915" y="138"/>
                </a:lnTo>
                <a:lnTo>
                  <a:pt x="1915" y="155"/>
                </a:lnTo>
                <a:lnTo>
                  <a:pt x="1906" y="172"/>
                </a:lnTo>
                <a:lnTo>
                  <a:pt x="1898" y="190"/>
                </a:lnTo>
                <a:lnTo>
                  <a:pt x="1898" y="207"/>
                </a:lnTo>
                <a:lnTo>
                  <a:pt x="1898" y="224"/>
                </a:lnTo>
                <a:lnTo>
                  <a:pt x="1898" y="242"/>
                </a:lnTo>
                <a:lnTo>
                  <a:pt x="1898" y="259"/>
                </a:lnTo>
                <a:lnTo>
                  <a:pt x="1890" y="276"/>
                </a:lnTo>
                <a:lnTo>
                  <a:pt x="1881" y="293"/>
                </a:lnTo>
                <a:lnTo>
                  <a:pt x="1873" y="310"/>
                </a:lnTo>
                <a:lnTo>
                  <a:pt x="1864" y="327"/>
                </a:lnTo>
                <a:lnTo>
                  <a:pt x="1864" y="345"/>
                </a:lnTo>
                <a:lnTo>
                  <a:pt x="1855" y="362"/>
                </a:lnTo>
                <a:lnTo>
                  <a:pt x="1847" y="379"/>
                </a:lnTo>
                <a:lnTo>
                  <a:pt x="1838" y="397"/>
                </a:lnTo>
                <a:lnTo>
                  <a:pt x="1838" y="414"/>
                </a:lnTo>
                <a:lnTo>
                  <a:pt x="1821" y="431"/>
                </a:lnTo>
                <a:lnTo>
                  <a:pt x="1813" y="449"/>
                </a:lnTo>
                <a:lnTo>
                  <a:pt x="1796" y="466"/>
                </a:lnTo>
                <a:lnTo>
                  <a:pt x="1787" y="483"/>
                </a:lnTo>
                <a:lnTo>
                  <a:pt x="1778" y="500"/>
                </a:lnTo>
                <a:lnTo>
                  <a:pt x="1770" y="517"/>
                </a:lnTo>
                <a:lnTo>
                  <a:pt x="1752" y="534"/>
                </a:lnTo>
                <a:lnTo>
                  <a:pt x="1744" y="552"/>
                </a:lnTo>
                <a:lnTo>
                  <a:pt x="1727" y="560"/>
                </a:lnTo>
                <a:lnTo>
                  <a:pt x="1719" y="578"/>
                </a:lnTo>
                <a:lnTo>
                  <a:pt x="1701" y="595"/>
                </a:lnTo>
                <a:lnTo>
                  <a:pt x="1701" y="612"/>
                </a:lnTo>
                <a:lnTo>
                  <a:pt x="1684" y="621"/>
                </a:lnTo>
                <a:lnTo>
                  <a:pt x="1675" y="638"/>
                </a:lnTo>
                <a:lnTo>
                  <a:pt x="1667" y="656"/>
                </a:lnTo>
                <a:lnTo>
                  <a:pt x="1650" y="664"/>
                </a:lnTo>
                <a:lnTo>
                  <a:pt x="1633" y="681"/>
                </a:lnTo>
                <a:lnTo>
                  <a:pt x="1607" y="698"/>
                </a:lnTo>
                <a:lnTo>
                  <a:pt x="1599" y="715"/>
                </a:lnTo>
                <a:lnTo>
                  <a:pt x="1582" y="724"/>
                </a:lnTo>
                <a:lnTo>
                  <a:pt x="1565" y="724"/>
                </a:lnTo>
                <a:lnTo>
                  <a:pt x="1556" y="741"/>
                </a:lnTo>
                <a:lnTo>
                  <a:pt x="1539" y="750"/>
                </a:lnTo>
                <a:lnTo>
                  <a:pt x="1530" y="767"/>
                </a:lnTo>
                <a:lnTo>
                  <a:pt x="1514" y="776"/>
                </a:lnTo>
                <a:lnTo>
                  <a:pt x="1496" y="793"/>
                </a:lnTo>
                <a:lnTo>
                  <a:pt x="1479" y="802"/>
                </a:lnTo>
                <a:lnTo>
                  <a:pt x="1462" y="811"/>
                </a:lnTo>
                <a:lnTo>
                  <a:pt x="1445" y="819"/>
                </a:lnTo>
                <a:lnTo>
                  <a:pt x="1428" y="819"/>
                </a:lnTo>
                <a:lnTo>
                  <a:pt x="1411" y="828"/>
                </a:lnTo>
                <a:lnTo>
                  <a:pt x="1393" y="837"/>
                </a:lnTo>
                <a:lnTo>
                  <a:pt x="1376" y="837"/>
                </a:lnTo>
                <a:lnTo>
                  <a:pt x="1368" y="854"/>
                </a:lnTo>
                <a:lnTo>
                  <a:pt x="1351" y="854"/>
                </a:lnTo>
                <a:lnTo>
                  <a:pt x="1334" y="862"/>
                </a:lnTo>
                <a:lnTo>
                  <a:pt x="1316" y="871"/>
                </a:lnTo>
                <a:lnTo>
                  <a:pt x="1300" y="879"/>
                </a:lnTo>
                <a:lnTo>
                  <a:pt x="1283" y="879"/>
                </a:lnTo>
                <a:lnTo>
                  <a:pt x="1274" y="862"/>
                </a:lnTo>
                <a:lnTo>
                  <a:pt x="1274" y="879"/>
                </a:lnTo>
                <a:lnTo>
                  <a:pt x="1265" y="905"/>
                </a:lnTo>
                <a:lnTo>
                  <a:pt x="1257" y="922"/>
                </a:lnTo>
                <a:lnTo>
                  <a:pt x="1257" y="948"/>
                </a:lnTo>
                <a:lnTo>
                  <a:pt x="1257" y="966"/>
                </a:lnTo>
                <a:lnTo>
                  <a:pt x="1248" y="992"/>
                </a:lnTo>
                <a:lnTo>
                  <a:pt x="1239" y="1009"/>
                </a:lnTo>
                <a:lnTo>
                  <a:pt x="1231" y="1026"/>
                </a:lnTo>
                <a:lnTo>
                  <a:pt x="1231" y="1052"/>
                </a:lnTo>
                <a:lnTo>
                  <a:pt x="1231" y="1069"/>
                </a:lnTo>
                <a:lnTo>
                  <a:pt x="1231" y="1086"/>
                </a:lnTo>
                <a:lnTo>
                  <a:pt x="1231" y="1103"/>
                </a:lnTo>
                <a:lnTo>
                  <a:pt x="1223" y="1121"/>
                </a:lnTo>
                <a:lnTo>
                  <a:pt x="1223" y="1138"/>
                </a:lnTo>
                <a:lnTo>
                  <a:pt x="1223" y="1155"/>
                </a:lnTo>
                <a:lnTo>
                  <a:pt x="1223" y="1173"/>
                </a:lnTo>
                <a:lnTo>
                  <a:pt x="1223" y="1190"/>
                </a:lnTo>
                <a:lnTo>
                  <a:pt x="1223" y="1207"/>
                </a:lnTo>
                <a:lnTo>
                  <a:pt x="1223" y="1225"/>
                </a:lnTo>
                <a:lnTo>
                  <a:pt x="1214" y="1242"/>
                </a:lnTo>
                <a:lnTo>
                  <a:pt x="1214" y="1259"/>
                </a:lnTo>
                <a:lnTo>
                  <a:pt x="1206" y="1276"/>
                </a:lnTo>
                <a:lnTo>
                  <a:pt x="1197" y="1293"/>
                </a:lnTo>
                <a:lnTo>
                  <a:pt x="1197" y="1310"/>
                </a:lnTo>
                <a:lnTo>
                  <a:pt x="1188" y="1328"/>
                </a:lnTo>
                <a:lnTo>
                  <a:pt x="1180" y="1345"/>
                </a:lnTo>
                <a:lnTo>
                  <a:pt x="1180" y="1362"/>
                </a:lnTo>
                <a:lnTo>
                  <a:pt x="1171" y="1380"/>
                </a:lnTo>
                <a:lnTo>
                  <a:pt x="1162" y="1397"/>
                </a:lnTo>
                <a:lnTo>
                  <a:pt x="1154" y="1414"/>
                </a:lnTo>
                <a:lnTo>
                  <a:pt x="1146" y="1432"/>
                </a:lnTo>
                <a:lnTo>
                  <a:pt x="1137" y="1448"/>
                </a:lnTo>
                <a:lnTo>
                  <a:pt x="1129" y="1465"/>
                </a:lnTo>
                <a:lnTo>
                  <a:pt x="1120" y="1483"/>
                </a:lnTo>
                <a:lnTo>
                  <a:pt x="1120" y="1500"/>
                </a:lnTo>
                <a:lnTo>
                  <a:pt x="1111" y="1517"/>
                </a:lnTo>
                <a:lnTo>
                  <a:pt x="1094" y="1535"/>
                </a:lnTo>
                <a:lnTo>
                  <a:pt x="1085" y="1561"/>
                </a:lnTo>
                <a:lnTo>
                  <a:pt x="1077" y="1578"/>
                </a:lnTo>
                <a:lnTo>
                  <a:pt x="1069" y="1595"/>
                </a:lnTo>
                <a:lnTo>
                  <a:pt x="1060" y="1613"/>
                </a:lnTo>
                <a:lnTo>
                  <a:pt x="1052" y="1630"/>
                </a:lnTo>
                <a:lnTo>
                  <a:pt x="1043" y="1647"/>
                </a:lnTo>
                <a:lnTo>
                  <a:pt x="1034" y="1672"/>
                </a:lnTo>
                <a:lnTo>
                  <a:pt x="1026" y="1690"/>
                </a:lnTo>
                <a:lnTo>
                  <a:pt x="1008" y="1698"/>
                </a:lnTo>
                <a:lnTo>
                  <a:pt x="992" y="1707"/>
                </a:lnTo>
                <a:lnTo>
                  <a:pt x="983" y="1724"/>
                </a:lnTo>
                <a:lnTo>
                  <a:pt x="966" y="1724"/>
                </a:lnTo>
                <a:lnTo>
                  <a:pt x="949" y="1733"/>
                </a:lnTo>
                <a:lnTo>
                  <a:pt x="932" y="1733"/>
                </a:lnTo>
                <a:lnTo>
                  <a:pt x="915" y="1724"/>
                </a:lnTo>
                <a:lnTo>
                  <a:pt x="906" y="1707"/>
                </a:lnTo>
                <a:lnTo>
                  <a:pt x="889" y="1707"/>
                </a:lnTo>
                <a:lnTo>
                  <a:pt x="872" y="1690"/>
                </a:lnTo>
                <a:lnTo>
                  <a:pt x="863" y="1672"/>
                </a:lnTo>
                <a:lnTo>
                  <a:pt x="847" y="1664"/>
                </a:lnTo>
                <a:lnTo>
                  <a:pt x="838" y="1647"/>
                </a:lnTo>
                <a:lnTo>
                  <a:pt x="821" y="1638"/>
                </a:lnTo>
                <a:lnTo>
                  <a:pt x="812" y="1621"/>
                </a:lnTo>
                <a:lnTo>
                  <a:pt x="795" y="1604"/>
                </a:lnTo>
                <a:lnTo>
                  <a:pt x="786" y="1587"/>
                </a:lnTo>
                <a:lnTo>
                  <a:pt x="770" y="1578"/>
                </a:lnTo>
                <a:lnTo>
                  <a:pt x="761" y="1561"/>
                </a:lnTo>
                <a:lnTo>
                  <a:pt x="752" y="1543"/>
                </a:lnTo>
                <a:lnTo>
                  <a:pt x="744" y="1526"/>
                </a:lnTo>
                <a:lnTo>
                  <a:pt x="726" y="1526"/>
                </a:lnTo>
                <a:lnTo>
                  <a:pt x="718" y="1509"/>
                </a:lnTo>
                <a:lnTo>
                  <a:pt x="701" y="1500"/>
                </a:lnTo>
                <a:lnTo>
                  <a:pt x="693" y="1483"/>
                </a:lnTo>
                <a:lnTo>
                  <a:pt x="684" y="1465"/>
                </a:lnTo>
                <a:lnTo>
                  <a:pt x="667" y="1448"/>
                </a:lnTo>
                <a:lnTo>
                  <a:pt x="649" y="1423"/>
                </a:lnTo>
                <a:lnTo>
                  <a:pt x="641" y="1406"/>
                </a:lnTo>
                <a:lnTo>
                  <a:pt x="633" y="1388"/>
                </a:lnTo>
                <a:lnTo>
                  <a:pt x="624" y="1371"/>
                </a:lnTo>
                <a:lnTo>
                  <a:pt x="616" y="1354"/>
                </a:lnTo>
                <a:lnTo>
                  <a:pt x="607" y="1336"/>
                </a:lnTo>
                <a:lnTo>
                  <a:pt x="598" y="1319"/>
                </a:lnTo>
                <a:lnTo>
                  <a:pt x="598" y="1302"/>
                </a:lnTo>
                <a:lnTo>
                  <a:pt x="590" y="1284"/>
                </a:lnTo>
                <a:lnTo>
                  <a:pt x="581" y="1267"/>
                </a:lnTo>
                <a:lnTo>
                  <a:pt x="564" y="1259"/>
                </a:lnTo>
                <a:lnTo>
                  <a:pt x="564" y="1242"/>
                </a:lnTo>
                <a:lnTo>
                  <a:pt x="556" y="1225"/>
                </a:lnTo>
                <a:lnTo>
                  <a:pt x="556" y="1207"/>
                </a:lnTo>
                <a:lnTo>
                  <a:pt x="556" y="1190"/>
                </a:lnTo>
                <a:lnTo>
                  <a:pt x="547" y="1173"/>
                </a:lnTo>
                <a:lnTo>
                  <a:pt x="539" y="1155"/>
                </a:lnTo>
                <a:lnTo>
                  <a:pt x="539" y="1138"/>
                </a:lnTo>
                <a:lnTo>
                  <a:pt x="539" y="1121"/>
                </a:lnTo>
                <a:lnTo>
                  <a:pt x="530" y="1103"/>
                </a:lnTo>
                <a:lnTo>
                  <a:pt x="521" y="1086"/>
                </a:lnTo>
                <a:lnTo>
                  <a:pt x="513" y="1069"/>
                </a:lnTo>
                <a:lnTo>
                  <a:pt x="513" y="1052"/>
                </a:lnTo>
                <a:lnTo>
                  <a:pt x="513" y="1035"/>
                </a:lnTo>
                <a:lnTo>
                  <a:pt x="513" y="1018"/>
                </a:lnTo>
                <a:lnTo>
                  <a:pt x="513" y="1000"/>
                </a:lnTo>
                <a:lnTo>
                  <a:pt x="513" y="983"/>
                </a:lnTo>
                <a:lnTo>
                  <a:pt x="513" y="966"/>
                </a:lnTo>
                <a:lnTo>
                  <a:pt x="513" y="948"/>
                </a:lnTo>
                <a:lnTo>
                  <a:pt x="513" y="931"/>
                </a:lnTo>
                <a:lnTo>
                  <a:pt x="513" y="914"/>
                </a:lnTo>
                <a:lnTo>
                  <a:pt x="513" y="896"/>
                </a:lnTo>
                <a:lnTo>
                  <a:pt x="513" y="879"/>
                </a:lnTo>
                <a:lnTo>
                  <a:pt x="513" y="862"/>
                </a:lnTo>
                <a:lnTo>
                  <a:pt x="504" y="845"/>
                </a:lnTo>
                <a:lnTo>
                  <a:pt x="487" y="837"/>
                </a:lnTo>
                <a:lnTo>
                  <a:pt x="487" y="819"/>
                </a:lnTo>
                <a:lnTo>
                  <a:pt x="470" y="802"/>
                </a:lnTo>
                <a:lnTo>
                  <a:pt x="453" y="793"/>
                </a:lnTo>
                <a:lnTo>
                  <a:pt x="444" y="776"/>
                </a:lnTo>
                <a:lnTo>
                  <a:pt x="427" y="767"/>
                </a:lnTo>
                <a:lnTo>
                  <a:pt x="418" y="750"/>
                </a:lnTo>
                <a:lnTo>
                  <a:pt x="402" y="750"/>
                </a:lnTo>
                <a:lnTo>
                  <a:pt x="393" y="733"/>
                </a:lnTo>
                <a:lnTo>
                  <a:pt x="376" y="724"/>
                </a:lnTo>
                <a:lnTo>
                  <a:pt x="359" y="715"/>
                </a:lnTo>
                <a:lnTo>
                  <a:pt x="342" y="707"/>
                </a:lnTo>
                <a:lnTo>
                  <a:pt x="325" y="698"/>
                </a:lnTo>
                <a:lnTo>
                  <a:pt x="308" y="689"/>
                </a:lnTo>
                <a:lnTo>
                  <a:pt x="290" y="673"/>
                </a:lnTo>
                <a:lnTo>
                  <a:pt x="282" y="656"/>
                </a:lnTo>
                <a:lnTo>
                  <a:pt x="273" y="638"/>
                </a:lnTo>
                <a:lnTo>
                  <a:pt x="265" y="621"/>
                </a:lnTo>
                <a:lnTo>
                  <a:pt x="265" y="604"/>
                </a:lnTo>
                <a:lnTo>
                  <a:pt x="265" y="586"/>
                </a:lnTo>
                <a:lnTo>
                  <a:pt x="248" y="578"/>
                </a:lnTo>
                <a:lnTo>
                  <a:pt x="231" y="569"/>
                </a:lnTo>
                <a:lnTo>
                  <a:pt x="213" y="560"/>
                </a:lnTo>
                <a:lnTo>
                  <a:pt x="205" y="543"/>
                </a:lnTo>
                <a:lnTo>
                  <a:pt x="196" y="526"/>
                </a:lnTo>
                <a:lnTo>
                  <a:pt x="188" y="508"/>
                </a:lnTo>
                <a:lnTo>
                  <a:pt x="171" y="500"/>
                </a:lnTo>
                <a:lnTo>
                  <a:pt x="162" y="483"/>
                </a:lnTo>
                <a:lnTo>
                  <a:pt x="154" y="466"/>
                </a:lnTo>
                <a:lnTo>
                  <a:pt x="136" y="449"/>
                </a:lnTo>
                <a:lnTo>
                  <a:pt x="128" y="431"/>
                </a:lnTo>
                <a:lnTo>
                  <a:pt x="119" y="414"/>
                </a:lnTo>
                <a:lnTo>
                  <a:pt x="119" y="397"/>
                </a:lnTo>
                <a:lnTo>
                  <a:pt x="111" y="379"/>
                </a:lnTo>
                <a:lnTo>
                  <a:pt x="103" y="362"/>
                </a:lnTo>
                <a:lnTo>
                  <a:pt x="94" y="345"/>
                </a:lnTo>
                <a:lnTo>
                  <a:pt x="85" y="327"/>
                </a:lnTo>
                <a:lnTo>
                  <a:pt x="77" y="310"/>
                </a:lnTo>
                <a:lnTo>
                  <a:pt x="59" y="293"/>
                </a:lnTo>
                <a:lnTo>
                  <a:pt x="51" y="276"/>
                </a:lnTo>
                <a:lnTo>
                  <a:pt x="42" y="250"/>
                </a:lnTo>
                <a:lnTo>
                  <a:pt x="34" y="233"/>
                </a:lnTo>
                <a:lnTo>
                  <a:pt x="26" y="216"/>
                </a:lnTo>
                <a:lnTo>
                  <a:pt x="8" y="198"/>
                </a:lnTo>
                <a:lnTo>
                  <a:pt x="8" y="181"/>
                </a:lnTo>
                <a:lnTo>
                  <a:pt x="8" y="164"/>
                </a:lnTo>
                <a:lnTo>
                  <a:pt x="0" y="146"/>
                </a:lnTo>
                <a:lnTo>
                  <a:pt x="0" y="129"/>
                </a:lnTo>
                <a:lnTo>
                  <a:pt x="0" y="112"/>
                </a:lnTo>
                <a:lnTo>
                  <a:pt x="0" y="95"/>
                </a:lnTo>
                <a:lnTo>
                  <a:pt x="0" y="78"/>
                </a:lnTo>
                <a:lnTo>
                  <a:pt x="4" y="65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02240" y="4127400"/>
            <a:ext cx="282600" cy="847800"/>
          </a:xfrm>
          <a:custGeom>
            <a:avLst/>
            <a:gdLst/>
            <a:ahLst/>
            <a:rect l="l" t="t" r="r" b="b"/>
            <a:pathLst>
              <a:path w="193" h="534">
                <a:moveTo>
                  <a:pt x="164" y="0"/>
                </a:moveTo>
                <a:lnTo>
                  <a:pt x="164" y="21"/>
                </a:lnTo>
                <a:lnTo>
                  <a:pt x="164" y="43"/>
                </a:lnTo>
                <a:lnTo>
                  <a:pt x="164" y="64"/>
                </a:lnTo>
                <a:lnTo>
                  <a:pt x="164" y="85"/>
                </a:lnTo>
                <a:lnTo>
                  <a:pt x="164" y="107"/>
                </a:lnTo>
                <a:lnTo>
                  <a:pt x="164" y="128"/>
                </a:lnTo>
                <a:lnTo>
                  <a:pt x="164" y="149"/>
                </a:lnTo>
                <a:lnTo>
                  <a:pt x="192" y="160"/>
                </a:lnTo>
                <a:lnTo>
                  <a:pt x="164" y="149"/>
                </a:lnTo>
                <a:lnTo>
                  <a:pt x="164" y="171"/>
                </a:lnTo>
                <a:lnTo>
                  <a:pt x="164" y="192"/>
                </a:lnTo>
                <a:lnTo>
                  <a:pt x="164" y="213"/>
                </a:lnTo>
                <a:lnTo>
                  <a:pt x="164" y="235"/>
                </a:lnTo>
                <a:lnTo>
                  <a:pt x="164" y="256"/>
                </a:lnTo>
                <a:lnTo>
                  <a:pt x="164" y="277"/>
                </a:lnTo>
                <a:lnTo>
                  <a:pt x="151" y="299"/>
                </a:lnTo>
                <a:lnTo>
                  <a:pt x="137" y="320"/>
                </a:lnTo>
                <a:lnTo>
                  <a:pt x="137" y="341"/>
                </a:lnTo>
                <a:lnTo>
                  <a:pt x="137" y="363"/>
                </a:lnTo>
                <a:lnTo>
                  <a:pt x="110" y="373"/>
                </a:lnTo>
                <a:lnTo>
                  <a:pt x="110" y="395"/>
                </a:lnTo>
                <a:lnTo>
                  <a:pt x="82" y="405"/>
                </a:lnTo>
                <a:lnTo>
                  <a:pt x="82" y="427"/>
                </a:lnTo>
                <a:lnTo>
                  <a:pt x="69" y="448"/>
                </a:lnTo>
                <a:lnTo>
                  <a:pt x="69" y="469"/>
                </a:lnTo>
                <a:lnTo>
                  <a:pt x="55" y="491"/>
                </a:lnTo>
                <a:lnTo>
                  <a:pt x="28" y="501"/>
                </a:lnTo>
                <a:lnTo>
                  <a:pt x="28" y="523"/>
                </a:lnTo>
                <a:lnTo>
                  <a:pt x="0" y="533"/>
                </a:lnTo>
                <a:lnTo>
                  <a:pt x="0" y="512"/>
                </a:lnTo>
                <a:lnTo>
                  <a:pt x="0" y="491"/>
                </a:lnTo>
                <a:lnTo>
                  <a:pt x="0" y="469"/>
                </a:lnTo>
                <a:lnTo>
                  <a:pt x="0" y="448"/>
                </a:lnTo>
                <a:lnTo>
                  <a:pt x="0" y="427"/>
                </a:lnTo>
                <a:lnTo>
                  <a:pt x="0" y="405"/>
                </a:lnTo>
                <a:lnTo>
                  <a:pt x="0" y="384"/>
                </a:lnTo>
                <a:lnTo>
                  <a:pt x="0" y="363"/>
                </a:lnTo>
                <a:lnTo>
                  <a:pt x="0" y="341"/>
                </a:lnTo>
                <a:lnTo>
                  <a:pt x="0" y="320"/>
                </a:lnTo>
                <a:lnTo>
                  <a:pt x="14" y="299"/>
                </a:lnTo>
                <a:lnTo>
                  <a:pt x="14" y="277"/>
                </a:lnTo>
                <a:lnTo>
                  <a:pt x="14" y="256"/>
                </a:lnTo>
                <a:lnTo>
                  <a:pt x="14" y="235"/>
                </a:lnTo>
                <a:lnTo>
                  <a:pt x="14" y="213"/>
                </a:lnTo>
                <a:lnTo>
                  <a:pt x="28" y="192"/>
                </a:lnTo>
                <a:lnTo>
                  <a:pt x="28" y="171"/>
                </a:lnTo>
                <a:lnTo>
                  <a:pt x="41" y="149"/>
                </a:lnTo>
                <a:lnTo>
                  <a:pt x="41" y="128"/>
                </a:lnTo>
                <a:lnTo>
                  <a:pt x="41" y="107"/>
                </a:lnTo>
                <a:lnTo>
                  <a:pt x="55" y="85"/>
                </a:lnTo>
                <a:lnTo>
                  <a:pt x="82" y="75"/>
                </a:lnTo>
                <a:lnTo>
                  <a:pt x="82" y="53"/>
                </a:lnTo>
                <a:lnTo>
                  <a:pt x="96" y="32"/>
                </a:lnTo>
                <a:lnTo>
                  <a:pt x="123" y="21"/>
                </a:lnTo>
                <a:lnTo>
                  <a:pt x="151" y="11"/>
                </a:lnTo>
                <a:lnTo>
                  <a:pt x="164" y="0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19240" y="2789280"/>
            <a:ext cx="2799000" cy="30733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1143000"/>
            <a:ext cx="2800440" cy="30733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5080" y="2760840"/>
            <a:ext cx="2798640" cy="30733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93160" y="2106720"/>
            <a:ext cx="3308760" cy="464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Estudios de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58920" y="3048120"/>
            <a:ext cx="2400480" cy="517680"/>
          </a:xfrm>
          <a:prstGeom prst="rect">
            <a:avLst/>
          </a:prstGeom>
          <a:noFill/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Arial Rounded MT Bold"/>
              </a:rPr>
              <a:t>Pro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66120" y="4127400"/>
            <a:ext cx="2371320" cy="8391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Planif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48640" y="1565280"/>
            <a:ext cx="384120" cy="46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9440" y="3749760"/>
            <a:ext cx="384120" cy="46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4600" y="3762360"/>
            <a:ext cx="384120" cy="46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952880"/>
            <a:ext cx="236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de poco participativo hacia  altamente particip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952880"/>
            <a:ext cx="233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de racional hacia evolutivo/ ‘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contingent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65880" y="13827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de: predictivo/ pasivo/ extrapolativo, hacia: exploratorio/ activo/ constr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1480" y="4419720"/>
            <a:ext cx="3420000" cy="464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Análisis de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V="1" rot="4480800">
            <a:off x="1531800" y="643320"/>
            <a:ext cx="5751720" cy="6224760"/>
          </a:xfrm>
          <a:custGeom>
            <a:avLst/>
            <a:gdLst>
              <a:gd name="textAreaLeft" fmla="*/ 0 w 5751720"/>
              <a:gd name="textAreaRight" fmla="*/ 5751720 w 5751720"/>
              <a:gd name="textAreaTop" fmla="*/ -360 h 6224760"/>
              <a:gd name="textAreaBottom" fmla="*/ 6224760 h 6224760"/>
            </a:gdLst>
            <a:ahLst/>
            <a:rect l="textAreaLeft" t="textAreaTop" r="textAreaRight" b="textAreaBottom"/>
            <a:pathLst>
              <a:path w="21600" h="21600">
                <a:moveTo>
                  <a:pt x="19710" y="6140"/>
                </a:moveTo>
                <a:arcTo wR="-10055" hR="-10055" stAng="-1656437" swAng="-19272621"/>
                <a:lnTo>
                  <a:pt x="205" y="8706"/>
                </a:lnTo>
                <a:arcTo wR="10800" hR="10800" stAng="-10129059" swAng="19272621"/>
                <a:lnTo>
                  <a:pt x="-1163" y="17056"/>
                </a:lnTo>
                <a:lnTo>
                  <a:pt x="136" y="12910"/>
                </a:lnTo>
                <a:lnTo>
                  <a:pt x="4282" y="14208"/>
                </a:ln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4480800">
            <a:off x="2250000" y="1297800"/>
            <a:ext cx="4330800" cy="5275440"/>
          </a:xfrm>
          <a:custGeom>
            <a:avLst/>
            <a:gdLst>
              <a:gd name="textAreaLeft" fmla="*/ 0 w 4330800"/>
              <a:gd name="textAreaRight" fmla="*/ 4331160 w 4330800"/>
              <a:gd name="textAreaTop" fmla="*/ 360 h 5275440"/>
              <a:gd name="textAreaBottom" fmla="*/ 5276160 h 5275440"/>
            </a:gdLst>
            <a:ahLst/>
            <a:rect l="textAreaLeft" t="textAreaTop" r="textAreaRight" b="textAreaBottom"/>
            <a:pathLst>
              <a:path w="21600" h="21600">
                <a:moveTo>
                  <a:pt x="17111" y="7482"/>
                </a:moveTo>
                <a:arcTo wR="-7130" hR="-7130" stAng="-1663761" swAng="-19265297"/>
                <a:lnTo>
                  <a:pt x="205" y="8706"/>
                </a:lnTo>
                <a:arcTo wR="10800" hR="10800" stAng="-10129059" swAng="19265297"/>
                <a:lnTo>
                  <a:pt x="-1150" y="17081"/>
                </a:lnTo>
                <a:lnTo>
                  <a:pt x="754" y="10957"/>
                </a:lnTo>
                <a:lnTo>
                  <a:pt x="6879" y="128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52280"/>
            <a:ext cx="83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ff"/>
                </a:solidFill>
                <a:latin typeface="Times New Roman MT Extra Bold"/>
              </a:rPr>
              <a:t>La prospectiva en el proceso de toma 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6200" y="4098960"/>
            <a:ext cx="46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Proceso de elaboración: necesita un análisis de impacto ex-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05596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Nuevas necesidades y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334120"/>
            <a:ext cx="39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Facilitar el proceso de ado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65760" y="3429000"/>
            <a:ext cx="337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ceso de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5503680" y="1515960"/>
            <a:ext cx="25642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Vigilar y revis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valuación ex-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915600">
            <a:off x="304560" y="1980720"/>
            <a:ext cx="3809880" cy="1676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000" y="109764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P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78040" y="1523880"/>
            <a:ext cx="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2:17:34Z</dcterms:created>
  <dc:creator>fleissner</dc:creator>
  <dc:description/>
  <dc:language>en-US</dc:language>
  <cp:lastModifiedBy>PDVSA</cp:lastModifiedBy>
  <cp:lastPrinted>2002-12-16T10:17:50Z</cp:lastPrinted>
  <dcterms:modified xsi:type="dcterms:W3CDTF">2005-03-23T05:14:01Z</dcterms:modified>
  <cp:revision>382</cp:revision>
  <dc:subject/>
  <dc:title>No Slide Title</dc:title>
</cp:coreProperties>
</file>