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379DDB-3BB2-471A-B35E-8108F86BEA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ED65C7-8969-4AB2-8352-468D89E70C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8ABD0F-38BB-46CA-91CD-159FE6EDDB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E0AF5A-CD12-4D1C-81BC-DA8012E9FB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AB18A1-375B-4F67-A64D-73EE5B1945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E42D96-B698-46DB-803D-6E994AFF9D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D62F4D-844C-414A-99A7-8E497D32D7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91ACF7-2484-4A57-8C12-95633978C8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DCF6DA-5854-4E55-AC62-1EC2D62D74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F3B598-E170-450B-A4AA-B77345AEA5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6C4AF1-82D8-40D1-A5FE-5D4222B70F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F81863-786E-429A-AB0B-5C165F06EE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2A84C2-75F2-49BB-8DD2-46ACE4260F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D673F0-D944-47E7-BB2E-223F01A906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22C3DB-7774-46EA-AFEB-C8558D60CF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CF034B-11D1-4E71-B92B-0D2748B3A4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6CC646-B826-4E1C-9544-9D0BB40FF0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16EB95-42D1-4F9F-BCAD-E3E98A359F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ABAFF7-A36B-44DE-A630-01121A8595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15BD58-DAD8-43E3-A4C1-41622D5224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D2BCAE-9B80-47C1-AF81-CFD48F5831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B78E5-BEF4-40E0-ADD0-40DF2C2B59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701E1-9DD2-4BAC-90BA-24E99A5DEA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721EF-089E-498F-ABA0-05394BE41A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8460A-1E80-465E-8379-FCB79C12C08C}"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16AC5-5DB4-483A-B379-237774B452B1}"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742840" y="685440"/>
            <a:ext cx="380196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ahoma"/>
              </a:rPr>
              <a:t>BIOSEÑALES</a:t>
            </a:r>
            <a:endParaRPr b="0" lang="en-US" sz="4400" spc="-1" strike="noStrike">
              <a:solidFill>
                <a:srgbClr val="333399"/>
              </a:solidFill>
              <a:latin typeface="Tahoma"/>
            </a:endParaRPr>
          </a:p>
        </p:txBody>
      </p:sp>
      <p:sp>
        <p:nvSpPr>
          <p:cNvPr id="99" name=""/>
          <p:cNvSpPr/>
          <p:nvPr/>
        </p:nvSpPr>
        <p:spPr>
          <a:xfrm>
            <a:off x="990720" y="1828800"/>
            <a:ext cx="7635600" cy="411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as señales biológicas son registros en el espacio, tiempo o espacio-tiempo de eventos biológicos tales como el latido cardiaco, o la contracción de un músculo. La actividad eléctrica, química o mecánica que ocurre en este evento biológico produce señales que pueden ser medidas y analizadas. Así, las bioseñales pueden explicar los mecanismos fisiológicos subyacentes de un sistema o evento fisiológic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as bioseñales pueden obtenerse de muchas formas, p.e., el médico que eschucha los ruidos cardiacos del paciente con un estetoscopio o utilizando un equipo altamente sofisticado.</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R.R.Horta O., Biónica, UPIITA.</a:t>
            </a:r>
          </a:p>
        </p:txBody>
      </p:sp>
      <p:sp>
        <p:nvSpPr>
          <p:cNvPr id="4" name="PlaceHolder 3"/>
          <p:cNvSpPr>
            <a:spLocks noGrp="1"/>
          </p:cNvSpPr>
          <p:nvPr>
            <p:ph type="sldNum" idx="3"/>
          </p:nvPr>
        </p:nvSpPr>
        <p:spPr/>
        <p:txBody>
          <a:bodyPr/>
          <a:p>
            <a:fld id="{B0A1DA84-D1B1-42ED-8D60-BFD6FA089241}" type="slidenum">
              <a:t>1</a:t>
            </a:fld>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320" y="304560"/>
            <a:ext cx="723924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ORIGEN FISIOLÓGICO DE LAS BIOSEÑALES</a:t>
            </a:r>
            <a:endParaRPr b="0" lang="en-US" sz="2800" spc="-1" strike="noStrike">
              <a:solidFill>
                <a:srgbClr val="333399"/>
              </a:solidFill>
              <a:latin typeface="Tahoma"/>
            </a:endParaRPr>
          </a:p>
        </p:txBody>
      </p:sp>
      <p:sp>
        <p:nvSpPr>
          <p:cNvPr id="101" name=""/>
          <p:cNvSpPr/>
          <p:nvPr/>
        </p:nvSpPr>
        <p:spPr>
          <a:xfrm>
            <a:off x="990720" y="990720"/>
            <a:ext cx="7711920" cy="558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a:t>
            </a:r>
            <a:r>
              <a:rPr b="0" i="1" lang="es-MX" sz="2400" spc="-1" strike="noStrike">
                <a:solidFill>
                  <a:srgbClr val="000000"/>
                </a:solidFill>
                <a:latin typeface="Times New Roman"/>
              </a:rPr>
              <a:t>SEÑALES BIOELÉCTRICAS</a:t>
            </a:r>
            <a:r>
              <a:rPr b="0" lang="es-MX" sz="2400" spc="-1" strike="noStrike">
                <a:solidFill>
                  <a:srgbClr val="000000"/>
                </a:solidFill>
                <a:latin typeface="Times New Roman"/>
              </a:rPr>
              <a:t>. El sistema nerviosos y las células musculares generan señales bioeléctricas que son resultado de cambios electroquímicos dentro y entre células. Si una célula nerviosa o muscular es estimulada lo suficiente, se generará un potencial de acción (PA). Este representa el flujo de iones a través de la membrana celular y puede ser medido utilizando electrodos intracelulares. El PA generado por una célula excitada es transmitido a las contíguas. Cuando se tienen muchas células en este estado, se forma un campo eléctrico que se propaga a traves del medio biológico. Los cambios en el potencial extracelular se pueden medir en la superficie del organo u organismo con electródos de superficie. Ejemplos de este fenómeno son el electrocardiograma (ECG), electromiograma (EMG) y el electroencefalograma (EEG).</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R.R.Horta O., Biónica, UPIITA.</a:t>
            </a:r>
          </a:p>
        </p:txBody>
      </p:sp>
      <p:sp>
        <p:nvSpPr>
          <p:cNvPr id="4" name="PlaceHolder 3"/>
          <p:cNvSpPr>
            <a:spLocks noGrp="1"/>
          </p:cNvSpPr>
          <p:nvPr>
            <p:ph type="sldNum" idx="3"/>
          </p:nvPr>
        </p:nvSpPr>
        <p:spPr/>
        <p:txBody>
          <a:bodyPr/>
          <a:p>
            <a:fld id="{4A2A01AE-7468-480E-8F79-5A0AA92E4ECD}" type="slidenum">
              <a:t>2</a:t>
            </a:fld>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609480"/>
            <a:ext cx="72392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ORIGEN FISIOLÓGICO DE LAS BIOSEÑALES</a:t>
            </a:r>
            <a:endParaRPr b="0" lang="en-US" sz="2800" spc="-1" strike="noStrike">
              <a:solidFill>
                <a:srgbClr val="333399"/>
              </a:solidFill>
              <a:latin typeface="Tahoma"/>
            </a:endParaRPr>
          </a:p>
        </p:txBody>
      </p:sp>
      <p:sp>
        <p:nvSpPr>
          <p:cNvPr id="103" name=""/>
          <p:cNvSpPr/>
          <p:nvPr/>
        </p:nvSpPr>
        <p:spPr>
          <a:xfrm>
            <a:off x="990720" y="1981080"/>
            <a:ext cx="771192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a:t>
            </a:r>
            <a:r>
              <a:rPr b="0" i="1" lang="es-MX" sz="2400" spc="-1" strike="noStrike">
                <a:solidFill>
                  <a:srgbClr val="000000"/>
                </a:solidFill>
                <a:latin typeface="Times New Roman"/>
              </a:rPr>
              <a:t>SEÑALES BIOMAGNÉTICAS</a:t>
            </a:r>
            <a:r>
              <a:rPr b="0" lang="es-MX" sz="2400" spc="-1" strike="noStrike">
                <a:solidFill>
                  <a:srgbClr val="000000"/>
                </a:solidFill>
                <a:latin typeface="Times New Roman"/>
              </a:rPr>
              <a:t>. Diferentes organos, como el corazón, el cerebro, los pulmones, etc., generan campos magnéticos que son débiles en comparación con otros cambios eléctricos en ellos. El Biomagnetismo es la medición de señales magnéticas que estan asociadas a una actividad fisiológica específica. Así, las señales Biomagnéticas proporcionan valiosa información adicional que no se obtiene de las señales Bioeléctricas, como p.e. en la actividad intracelular.</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R.R.Horta O., Biónica, UPIITA.</a:t>
            </a:r>
          </a:p>
        </p:txBody>
      </p:sp>
      <p:sp>
        <p:nvSpPr>
          <p:cNvPr id="4" name="PlaceHolder 3"/>
          <p:cNvSpPr>
            <a:spLocks noGrp="1"/>
          </p:cNvSpPr>
          <p:nvPr>
            <p:ph type="sldNum" idx="3"/>
          </p:nvPr>
        </p:nvSpPr>
        <p:spPr/>
        <p:txBody>
          <a:bodyPr/>
          <a:p>
            <a:fld id="{79A74769-1998-4708-830A-E41437E11AA4}" type="slidenum">
              <a:t>3</a:t>
            </a:fld>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43000" y="609480"/>
            <a:ext cx="723888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ORIGEN FISIOLÓGICO DE LAS BIOSEÑALES</a:t>
            </a:r>
            <a:endParaRPr b="0" lang="en-US" sz="2800" spc="-1" strike="noStrike">
              <a:solidFill>
                <a:srgbClr val="333399"/>
              </a:solidFill>
              <a:latin typeface="Tahoma"/>
            </a:endParaRPr>
          </a:p>
        </p:txBody>
      </p:sp>
      <p:sp>
        <p:nvSpPr>
          <p:cNvPr id="105" name=""/>
          <p:cNvSpPr/>
          <p:nvPr/>
        </p:nvSpPr>
        <p:spPr>
          <a:xfrm>
            <a:off x="990720" y="1905120"/>
            <a:ext cx="7711920" cy="3801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a:t>
            </a:r>
            <a:r>
              <a:rPr b="0" i="1" lang="es-MX" sz="2400" spc="-1" strike="noStrike">
                <a:solidFill>
                  <a:srgbClr val="000000"/>
                </a:solidFill>
                <a:latin typeface="Times New Roman"/>
              </a:rPr>
              <a:t>SEÑALES BIOQUÍMICAS</a:t>
            </a:r>
            <a:r>
              <a:rPr b="0" lang="es-MX" sz="2400" spc="-1" strike="noStrike">
                <a:solidFill>
                  <a:srgbClr val="000000"/>
                </a:solidFill>
                <a:latin typeface="Times New Roman"/>
              </a:rPr>
              <a:t>. Las señales Bioquímicas contienen información acerca de los niveles y cambios de los agentes químicos del cuerpo. Por ejemplo, se puede registrar y medir la concentración de varios iones como del calcio y potacio así como los cambios en la presión parcial del oxígeno (</a:t>
            </a:r>
            <a:r>
              <a:rPr b="0" i="1" lang="es-MX" sz="2400" spc="-1" strike="noStrike">
                <a:solidFill>
                  <a:srgbClr val="000000"/>
                </a:solidFill>
                <a:latin typeface="Times New Roman"/>
              </a:rPr>
              <a:t>p</a:t>
            </a:r>
            <a:r>
              <a:rPr b="0" lang="es-MX" sz="2400" spc="-1" strike="noStrike">
                <a:solidFill>
                  <a:srgbClr val="000000"/>
                </a:solidFill>
                <a:latin typeface="Times New Roman"/>
              </a:rPr>
              <a:t>O</a:t>
            </a:r>
            <a:r>
              <a:rPr b="0" lang="es-MX" sz="2400" spc="-1" strike="noStrike" baseline="-25000">
                <a:solidFill>
                  <a:srgbClr val="000000"/>
                </a:solidFill>
                <a:latin typeface="Times New Roman"/>
              </a:rPr>
              <a:t>2</a:t>
            </a:r>
            <a:r>
              <a:rPr b="0" lang="es-MX" sz="2400" spc="-1" strike="noStrike">
                <a:solidFill>
                  <a:srgbClr val="000000"/>
                </a:solidFill>
                <a:latin typeface="Times New Roman"/>
              </a:rPr>
              <a:t>) y del dióxido de carbono (</a:t>
            </a:r>
            <a:r>
              <a:rPr b="0" i="1" lang="es-MX" sz="2400" spc="-1" strike="noStrike">
                <a:solidFill>
                  <a:srgbClr val="000000"/>
                </a:solidFill>
                <a:latin typeface="Times New Roman"/>
              </a:rPr>
              <a:t>p</a:t>
            </a:r>
            <a:r>
              <a:rPr b="0" lang="es-MX" sz="2400" spc="-1" strike="noStrike">
                <a:solidFill>
                  <a:srgbClr val="000000"/>
                </a:solidFill>
                <a:latin typeface="Times New Roman"/>
              </a:rPr>
              <a:t>CO</a:t>
            </a:r>
            <a:r>
              <a:rPr b="0" lang="es-MX" sz="2400" spc="-1" strike="noStrike" baseline="-25000">
                <a:solidFill>
                  <a:srgbClr val="000000"/>
                </a:solidFill>
                <a:latin typeface="Times New Roman"/>
              </a:rPr>
              <a:t>2</a:t>
            </a:r>
            <a:r>
              <a:rPr b="0" lang="es-MX" sz="2400" spc="-1" strike="noStrike">
                <a:solidFill>
                  <a:srgbClr val="000000"/>
                </a:solidFill>
                <a:latin typeface="Times New Roman"/>
              </a:rPr>
              <a:t>) en la sangre o sistema respiratorio. Estas señales Bioquímicas se utilizan para la determinación de otros estados, como niveles de glucosa, lactosa, metabolitos, etc., y nos proporcionan información acerca de la función de los sistemas fisiológicos.</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R.R.Horta O., Biónica, UPIITA.</a:t>
            </a:r>
          </a:p>
        </p:txBody>
      </p:sp>
      <p:sp>
        <p:nvSpPr>
          <p:cNvPr id="4" name="PlaceHolder 3"/>
          <p:cNvSpPr>
            <a:spLocks noGrp="1"/>
          </p:cNvSpPr>
          <p:nvPr>
            <p:ph type="sldNum" idx="3"/>
          </p:nvPr>
        </p:nvSpPr>
        <p:spPr/>
        <p:txBody>
          <a:bodyPr/>
          <a:p>
            <a:fld id="{4A586395-9EE1-4A21-AD65-5C4CE26751D2}" type="slidenum">
              <a:t>4</a:t>
            </a:fld>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040" y="609480"/>
            <a:ext cx="76201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ORIGEN FISIOLÓGICO DE LAS BIOSEÑALES</a:t>
            </a:r>
            <a:endParaRPr b="0" lang="en-US" sz="2800" spc="-1" strike="noStrike">
              <a:solidFill>
                <a:srgbClr val="333399"/>
              </a:solidFill>
              <a:latin typeface="Tahoma"/>
            </a:endParaRPr>
          </a:p>
        </p:txBody>
      </p:sp>
      <p:sp>
        <p:nvSpPr>
          <p:cNvPr id="107" name=""/>
          <p:cNvSpPr/>
          <p:nvPr/>
        </p:nvSpPr>
        <p:spPr>
          <a:xfrm>
            <a:off x="990720" y="1828800"/>
            <a:ext cx="771192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a:t>
            </a:r>
            <a:r>
              <a:rPr b="0" i="1" lang="es-MX" sz="2400" spc="-1" strike="noStrike">
                <a:solidFill>
                  <a:srgbClr val="000000"/>
                </a:solidFill>
                <a:latin typeface="Times New Roman"/>
              </a:rPr>
              <a:t>SEÑALES BIOMECÁNICAS</a:t>
            </a:r>
            <a:r>
              <a:rPr b="0" lang="es-MX" sz="2400" spc="-1" strike="noStrike">
                <a:solidFill>
                  <a:srgbClr val="000000"/>
                </a:solidFill>
                <a:latin typeface="Times New Roman"/>
              </a:rPr>
              <a:t>. Las señales Biomecánicas son resultado de las funciones mecánicas de un sistema biológico, como el movimiento, desplazamiento, tensión, fuerza, presión y flujo. La presión sanguínea, p.e., es la medición de la fuerza que la sangre ejerce en las paredes de las arterias. Los cambios en la presión sanguínea se registran como una forma de onda en la cual las crestas representan la contracción de los ventrículos, expulsando la sangre del corazón hacia el cuerpo, siendo ésta la máxima presión sanguínea, la presión sistólica. Los valles de la forma de onda representa la relajación de los ventrículos y la presión sanguínea cáe al valor mínimo, la presión diastólica.</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R.R.Horta O., Biónica, UPIITA.</a:t>
            </a:r>
          </a:p>
        </p:txBody>
      </p:sp>
      <p:sp>
        <p:nvSpPr>
          <p:cNvPr id="4" name="PlaceHolder 3"/>
          <p:cNvSpPr>
            <a:spLocks noGrp="1"/>
          </p:cNvSpPr>
          <p:nvPr>
            <p:ph type="sldNum" idx="3"/>
          </p:nvPr>
        </p:nvSpPr>
        <p:spPr/>
        <p:txBody>
          <a:bodyPr/>
          <a:p>
            <a:fld id="{C60E36F4-5FC6-47FC-8F41-979E9A13C38B}" type="slidenum">
              <a:t>5</a:t>
            </a:fld>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040" y="609480"/>
            <a:ext cx="76201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ORIGEN FISIOLÓGICO DE LAS BIOSEÑALES</a:t>
            </a:r>
            <a:endParaRPr b="0" lang="en-US" sz="2800" spc="-1" strike="noStrike">
              <a:solidFill>
                <a:srgbClr val="333399"/>
              </a:solidFill>
              <a:latin typeface="Tahoma"/>
            </a:endParaRPr>
          </a:p>
        </p:txBody>
      </p:sp>
      <p:sp>
        <p:nvSpPr>
          <p:cNvPr id="109" name=""/>
          <p:cNvSpPr/>
          <p:nvPr/>
        </p:nvSpPr>
        <p:spPr>
          <a:xfrm>
            <a:off x="990720" y="1905120"/>
            <a:ext cx="771192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a:t>
            </a:r>
            <a:r>
              <a:rPr b="0" i="1" lang="es-MX" sz="2400" spc="-1" strike="noStrike">
                <a:solidFill>
                  <a:srgbClr val="000000"/>
                </a:solidFill>
                <a:latin typeface="Times New Roman"/>
              </a:rPr>
              <a:t>SEÑALES BIOACÚSTICAS</a:t>
            </a:r>
            <a:r>
              <a:rPr b="0" lang="es-MX" sz="2400" spc="-1" strike="noStrike">
                <a:solidFill>
                  <a:srgbClr val="000000"/>
                </a:solidFill>
                <a:latin typeface="Times New Roman"/>
              </a:rPr>
              <a:t>. Las señales Bioacústicas son parte importante de las señales Biomecánicas, en el sentido de vibración (ó movimiento). Muchos eventos biológicos producen ruido acústico. El flujo de sangre, p.e., en las válvulas cardiacas produce un sonido distintivo. La medición de las señales Bioacústicas de las válvulas cardiacas ayudan a determinar el funcionamiento apropiado de éstas. Algunos músculos y el sistema respiratorio generan también señales Bioacústicas que se propagan a través del medio biológico y pueden ser registradas y medidas en la superficie de la piel utilizando transductores acústicos, como microfonos y acelerómetros.</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R.R.Horta O., Biónica, UPIITA.</a:t>
            </a:r>
          </a:p>
        </p:txBody>
      </p:sp>
      <p:sp>
        <p:nvSpPr>
          <p:cNvPr id="4" name="PlaceHolder 3"/>
          <p:cNvSpPr>
            <a:spLocks noGrp="1"/>
          </p:cNvSpPr>
          <p:nvPr>
            <p:ph type="sldNum" idx="3"/>
          </p:nvPr>
        </p:nvSpPr>
        <p:spPr/>
        <p:txBody>
          <a:bodyPr/>
          <a:p>
            <a:fld id="{CEA3280C-373C-4C7D-B5AC-F457D3B34BCE}" type="slidenum">
              <a:t>6</a:t>
            </a:fld>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040" y="609480"/>
            <a:ext cx="76201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ORIGEN FISIOLÓGICO DE LAS BIOSEÑALES</a:t>
            </a:r>
            <a:endParaRPr b="0" lang="en-US" sz="2800" spc="-1" strike="noStrike">
              <a:solidFill>
                <a:srgbClr val="333399"/>
              </a:solidFill>
              <a:latin typeface="Tahoma"/>
            </a:endParaRPr>
          </a:p>
        </p:txBody>
      </p:sp>
      <p:sp>
        <p:nvSpPr>
          <p:cNvPr id="111" name=""/>
          <p:cNvSpPr/>
          <p:nvPr/>
        </p:nvSpPr>
        <p:spPr>
          <a:xfrm>
            <a:off x="990720" y="1981080"/>
            <a:ext cx="7711920" cy="375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a:t>
            </a:r>
            <a:r>
              <a:rPr b="0" i="1" lang="es-MX" sz="2400" spc="-1" strike="noStrike">
                <a:solidFill>
                  <a:srgbClr val="000000"/>
                </a:solidFill>
                <a:latin typeface="Times New Roman"/>
              </a:rPr>
              <a:t>SEÑALES BIOÓPTICAS</a:t>
            </a:r>
            <a:r>
              <a:rPr b="0" lang="es-MX" sz="2400" spc="-1" strike="noStrike">
                <a:solidFill>
                  <a:srgbClr val="000000"/>
                </a:solidFill>
                <a:latin typeface="Times New Roman"/>
              </a:rPr>
              <a:t>. Las señales Bioópticas se generan de los atributos ópticos de los sistemas biológicos. Algunas señales Bioópticas se obtienen naturalmente o, en otros casos, son inducidas utilizando técnicas biomédicas. El estado de salud de un feto, p.e., puede determinarse midiendo las propiedades fluorescentes del líquido amniótico. Se puede hacer una estimación del gasto cardiaco utilizando el método de dilución de un colorante y que implica el monitoreo contínuo de la concentración de éste y de cómo recircula en el sistema.</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R.R.Horta O., Biónica, UPIITA.</a:t>
            </a:r>
          </a:p>
        </p:txBody>
      </p:sp>
      <p:sp>
        <p:nvSpPr>
          <p:cNvPr id="4" name="PlaceHolder 3"/>
          <p:cNvSpPr>
            <a:spLocks noGrp="1"/>
          </p:cNvSpPr>
          <p:nvPr>
            <p:ph type="sldNum" idx="3"/>
          </p:nvPr>
        </p:nvSpPr>
        <p:spPr/>
        <p:txBody>
          <a:bodyPr/>
          <a:p>
            <a:fld id="{D58714D8-180C-4144-AA3E-CA2D00127F32}" type="slidenum">
              <a:t>7</a:t>
            </a:fld>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837720"/>
            <a:ext cx="3878280" cy="69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ahoma"/>
              </a:rPr>
              <a:t>BIBLIOGRAFÍA</a:t>
            </a:r>
            <a:endParaRPr b="0" lang="en-US" sz="3600" spc="-1" strike="noStrike">
              <a:solidFill>
                <a:srgbClr val="333399"/>
              </a:solidFill>
              <a:latin typeface="Tahoma"/>
            </a:endParaRPr>
          </a:p>
        </p:txBody>
      </p:sp>
      <p:sp>
        <p:nvSpPr>
          <p:cNvPr id="113" name=""/>
          <p:cNvSpPr/>
          <p:nvPr/>
        </p:nvSpPr>
        <p:spPr>
          <a:xfrm>
            <a:off x="990720" y="1981080"/>
            <a:ext cx="771192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nderle J., Blanchard S., Bronzino J.</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NTRODUCTION TO BIOMEDICAL ENGINEERING</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d. Academic Press, 2000, p. 1076.</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DuBovy, J.</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NTRODUCTION TO BIOMEDICAL ELECTRONIC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d. McGraw Hill, 1978, p. 391</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R.R.Horta O., Biónica, UPIITA.</a:t>
            </a:r>
          </a:p>
        </p:txBody>
      </p:sp>
      <p:sp>
        <p:nvSpPr>
          <p:cNvPr id="4" name="PlaceHolder 3"/>
          <p:cNvSpPr>
            <a:spLocks noGrp="1"/>
          </p:cNvSpPr>
          <p:nvPr>
            <p:ph type="sldNum" idx="3"/>
          </p:nvPr>
        </p:nvSpPr>
        <p:spPr/>
        <p:txBody>
          <a:bodyPr/>
          <a:p>
            <a:fld id="{9CD8ECC3-31CC-4752-8904-B1849A0DA32F}" type="slidenum">
              <a:t>8</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4T15:41:44Z</dcterms:created>
  <dc:creator>Ricardo Roberto Horta Olivares</dc:creator>
  <dc:description/>
  <dc:language>en-US</dc:language>
  <cp:lastModifiedBy>HORTA</cp:lastModifiedBy>
  <dcterms:modified xsi:type="dcterms:W3CDTF">2003-02-12T23:06:47Z</dcterms:modified>
  <cp:revision>18</cp:revision>
  <dc:subject/>
  <dc:title>BIOSEÑALES</dc:title>
</cp:coreProperties>
</file>