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C1097-317E-4C2B-9047-ABCF773F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11476-AD5C-48F5-8CBB-5EE861387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22BF7-0158-4C58-A99A-D27DD82D8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C20EC-8B56-423B-92C8-E215B0B95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51F8E-9B5A-45BA-944C-48CCCFBFB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A62298-0DC2-44A7-BC1B-CE32C610FB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AC8E1-E535-44D9-92F8-DFD0A0ED7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CD105-851F-4019-B2F2-23C4C5DA1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5125E-C816-4DB0-9ACE-211D65BF5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F3631-B722-406A-AC31-CB2997431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96BEF-A623-4C54-8088-C7CF7C086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4527E-C4F5-4D7B-B388-D1EBE214C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B2EC64-16F4-4FBE-85CA-4C79EDD8D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13E94B-38CE-477B-A9E2-5C3E1B9D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AF35A-FEA4-4945-B343-4806AF3A5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EE7BAF-B2D6-430A-A27F-F8A891A57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2719CD-9029-4D2B-A3A8-C67C27485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8302-CBE1-4398-9F81-AC8BC2B00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0C9C2-F661-4DF1-88C9-2300355A3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631C1-EF4B-4EC8-8641-C1131F147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A9840-00E1-46CA-9F61-E235F4B46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CB455-053D-451A-8475-74DA7830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7B45-44E3-4ED2-B451-D223332BA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0235-6799-403D-B8BD-BDD86DA54F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6F8AC-3726-4A18-88DC-6DBFFA5867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C6AE7-FAE5-4172-8DBC-C0D6EF7D168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2640" y="609480"/>
            <a:ext cx="7010280" cy="54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SISTEMA HOMBRE INSTRUMENTO</a:t>
            </a:r>
            <a:endParaRPr b="0" lang="en-US" sz="3200" spc="-1" strike="noStrike">
              <a:solidFill>
                <a:srgbClr val="333399"/>
              </a:solidFill>
              <a:latin typeface="Tahoma"/>
            </a:endParaRPr>
          </a:p>
        </p:txBody>
      </p:sp>
      <p:sp>
        <p:nvSpPr>
          <p:cNvPr id="99" name=""/>
          <p:cNvSpPr/>
          <p:nvPr/>
        </p:nvSpPr>
        <p:spPr>
          <a:xfrm>
            <a:off x="1050840" y="1565280"/>
            <a:ext cx="771228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90720" y="1371600"/>
            <a:ext cx="77119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señales biológicas o bioseñales, son primeramente detectadas en un medio biológico, como desde el interior de una celula hasta en la superficie de la piel a través de un sensor. El sensor convierte la medida física en salida eléctrica y constituye la interfase  entre el sistema biológico y el instrumento de medición y registro. Se tiene entonces un sistema único constituido por el medio biológico y el instrumento de registro y medición. Cuando este sistema biológico esta constituido por un ser humano se dice que se tiene un Sistema Hombre Instrumento, el cual deberá cumplir con un mínimo de requerimientos de seguridad, como de corrientes de fuga de los electrodos, chasis, etc., a tierra física, entre otro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3461BE6F-8E81-4A1A-ACE6-4458279DDC2E}"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438280" y="914400"/>
            <a:ext cx="4572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LECTRODOS PARA EMG</a:t>
            </a:r>
            <a:endParaRPr b="0" lang="en-US" sz="2800" spc="-1" strike="noStrike">
              <a:solidFill>
                <a:srgbClr val="333399"/>
              </a:solidFill>
              <a:latin typeface="Tahoma"/>
            </a:endParaRPr>
          </a:p>
        </p:txBody>
      </p:sp>
      <p:sp>
        <p:nvSpPr>
          <p:cNvPr id="122" name=""/>
          <p:cNvSpPr/>
          <p:nvPr/>
        </p:nvSpPr>
        <p:spPr>
          <a:xfrm>
            <a:off x="1066680" y="1828800"/>
            <a:ext cx="7597800" cy="39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electrodo de aguja más común es el bipolar concéntrico (a), hecho de 2 alambres encapsulados en una aguja hipodérmica o cánula. Los alambres sirven tanto para registro como de referenci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tro tipo de electrodo percutáneo de EMG es el de aguja unipolar (b). Este consta de un fino alambre aislado con Teflón y con cerca de 0.3 mm en la punta sin aislar. A diferencia del bipolar, éste requiere un segundo electrodo de referencia en forma adyacente ó en la superficie de la piel, para cerrar el circui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9E418A91-7EDC-4C3A-9986-F0A8B21DCE10}"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133360" y="837720"/>
            <a:ext cx="50972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TRODOS PARA EEG</a:t>
            </a:r>
            <a:endParaRPr b="0" lang="en-US" sz="3200" spc="-1" strike="noStrike">
              <a:solidFill>
                <a:srgbClr val="333399"/>
              </a:solidFill>
              <a:latin typeface="Tahoma"/>
            </a:endParaRPr>
          </a:p>
        </p:txBody>
      </p:sp>
      <p:sp>
        <p:nvSpPr>
          <p:cNvPr id="124" name=""/>
          <p:cNvSpPr/>
          <p:nvPr/>
        </p:nvSpPr>
        <p:spPr>
          <a:xfrm>
            <a:off x="1089000" y="2049480"/>
            <a:ext cx="74455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electrodos más comunes para el registro de biopotenciales cerebrales (electroencefalografía) son los electrodos de copa y los electrodos subcutáneos. Los de copa están hechos de platino ó estaño con aproximadamente 5-10 mm de diámetro. Se rellenan de gel electrolítico y se sujetan al cuero cabelludo con cinta adhesiva. Los electrodos subcutáneos son básicamente electrodos de aguja hechos de platino o acero inoxidable con 10 mm de longitud y 0.5 mm de diámetro. Se insertan debajo de la piel para proveer un mejor contacto.</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4ECF6C00-8731-4C79-9569-BCA538ECBCC9}"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533160"/>
            <a:ext cx="6019920" cy="61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CROELECTRODOS</a:t>
            </a:r>
            <a:endParaRPr b="0" lang="en-US" sz="3200" spc="-1" strike="noStrike">
              <a:solidFill>
                <a:srgbClr val="333399"/>
              </a:solidFill>
              <a:latin typeface="Tahoma"/>
            </a:endParaRPr>
          </a:p>
        </p:txBody>
      </p:sp>
      <p:sp>
        <p:nvSpPr>
          <p:cNvPr id="126" name=""/>
          <p:cNvSpPr/>
          <p:nvPr/>
        </p:nvSpPr>
        <p:spPr>
          <a:xfrm>
            <a:off x="990720" y="1371600"/>
            <a:ext cx="792468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n electrodos con punta enconada tan fina que pueden insertarse en células biológicas individuales. Se utilizan para el registro de potenciales de acción en estudios neurofisiológicos. La punta debe ser más pequeña que la célula para evitar daño a ésta y lo suficientemente fuerte para poder penetrar la pared celular. Se tienen 3 microelectrodos típicos: a) Micropipetas de vidrio, con diámetro de 0.1-10 µm, rellenas de KCl al 3M de solución electrolítica y un filamento de platino Ag/AgCl; b) Microelectrodos de metal duro, tungsteno o acero inoxidable, con punta afilada electroquímicamente y aislado hasta casi la punta con diámetro de unas pocas µm; c) Microelectrodos de estado sólido, para registros multicanal en neuronas cerebrales o en medula espina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63B6F0A1-8125-4985-95DA-8775BC70819A}"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09680" y="609480"/>
            <a:ext cx="47167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MICROELECTRODOS</a:t>
            </a:r>
            <a:endParaRPr b="0" lang="en-US" sz="3200" spc="-1" strike="noStrike">
              <a:solidFill>
                <a:srgbClr val="333399"/>
              </a:solidFill>
              <a:latin typeface="Tahoma"/>
            </a:endParaRPr>
          </a:p>
        </p:txBody>
      </p:sp>
      <p:pic>
        <p:nvPicPr>
          <p:cNvPr id="128" name="Fig4-4" descr=""/>
          <p:cNvPicPr/>
          <p:nvPr/>
        </p:nvPicPr>
        <p:blipFill>
          <a:blip r:embed="rId1"/>
          <a:stretch/>
        </p:blipFill>
        <p:spPr>
          <a:xfrm>
            <a:off x="1752480" y="1143000"/>
            <a:ext cx="6172200" cy="5394240"/>
          </a:xfrm>
          <a:prstGeom prst="rect">
            <a:avLst/>
          </a:prstGeom>
          <a:ln w="0">
            <a:noFill/>
          </a:ln>
        </p:spPr>
      </p:pic>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B440265E-5AB6-4498-8C58-E823B3C43E31}"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742840" y="837720"/>
            <a:ext cx="349740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ahoma"/>
              </a:rPr>
              <a:t>BIBLIOGRAFÍA</a:t>
            </a:r>
            <a:endParaRPr b="0" lang="en-US" sz="3600" spc="-1" strike="noStrike">
              <a:solidFill>
                <a:srgbClr val="333399"/>
              </a:solidFill>
              <a:latin typeface="Tahoma"/>
            </a:endParaRPr>
          </a:p>
        </p:txBody>
      </p:sp>
      <p:sp>
        <p:nvSpPr>
          <p:cNvPr id="130" name=""/>
          <p:cNvSpPr/>
          <p:nvPr/>
        </p:nvSpPr>
        <p:spPr>
          <a:xfrm>
            <a:off x="990720" y="2057400"/>
            <a:ext cx="77119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derle J., Blanchard S., Bronzino 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RODUCTION TO BIOMEDICAL ENGINEER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d. Academic Press, 2000, p. 1076.</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DuBovy, J.</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RODUCTION TO BIOMEDICAL ELECTRONIC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d. McGraw Hill, 1978, p. 39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EEB3180D-C0CE-40E6-9A52-73484E6ABA79}" type="slidenum">
              <a:t>14</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520" y="838080"/>
            <a:ext cx="578304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SENSORES BIOMÉDICOS</a:t>
            </a:r>
            <a:endParaRPr b="0" lang="en-US" sz="3200" spc="-1" strike="noStrike">
              <a:solidFill>
                <a:srgbClr val="333399"/>
              </a:solidFill>
              <a:latin typeface="Tahoma"/>
            </a:endParaRPr>
          </a:p>
        </p:txBody>
      </p:sp>
      <p:sp>
        <p:nvSpPr>
          <p:cNvPr id="102" name=""/>
          <p:cNvSpPr/>
          <p:nvPr/>
        </p:nvSpPr>
        <p:spPr>
          <a:xfrm>
            <a:off x="990720" y="1752480"/>
            <a:ext cx="7711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sensores biomédicos son usados en la medicina clínica y en la investigación biológica y biotecnológica para medir un amplio rango de variables fisiológicas y biológicas. Un sensor es un elemento capaz de transformar un tipo de energía a otro que, junto con un acondicionador de señal, es llamado Transductor. Por ejemplo, la corriente iónica de la actividad eléctrica del corazón, músculos, etc., propoagandose a través de los fluidos corporales, considerados como conductores de volumen, son transformados a corriente eléctrica gracias a los electrodos de superficie de Plata-Cloruro de Plata (sensores) y el gel correspondien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5695C44A-4257-4F0B-BC5B-41AA42826191}" type="slidenum">
              <a:t>2</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47560" y="838080"/>
            <a:ext cx="6545160" cy="61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TRANSDUCTORES BIOMÉDICOS</a:t>
            </a:r>
            <a:endParaRPr b="0" lang="en-US" sz="3200" spc="-1" strike="noStrike">
              <a:solidFill>
                <a:srgbClr val="333399"/>
              </a:solidFill>
              <a:latin typeface="Tahoma"/>
            </a:endParaRPr>
          </a:p>
        </p:txBody>
      </p:sp>
      <p:sp>
        <p:nvSpPr>
          <p:cNvPr id="104" name=""/>
          <p:cNvSpPr/>
          <p:nvPr/>
        </p:nvSpPr>
        <p:spPr>
          <a:xfrm>
            <a:off x="990720" y="1828800"/>
            <a:ext cx="771192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ra la medición de la presión arterial invasiva, p.e., se utilizan sensores de deformación como gálgas extensiométricas o cristales de cuarzo, que junto a un arreglo resisitivo tipo puente, nos proporciona una señal eléctrica correspondiente a la presión arterial. </a:t>
            </a:r>
            <a:r>
              <a:rPr b="0" i="1" lang="es-MX" sz="2400" spc="-1" strike="noStrike">
                <a:solidFill>
                  <a:srgbClr val="000000"/>
                </a:solidFill>
                <a:latin typeface="Times New Roman"/>
              </a:rPr>
              <a:t>Esto es un transductor</a:t>
            </a:r>
            <a:r>
              <a:rPr b="0" lang="es-MX"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tos sensores y transductores son rutinariamente utilizados </a:t>
            </a:r>
            <a:r>
              <a:rPr b="0" i="1" lang="es-MX" sz="2400" spc="-1" strike="noStrike">
                <a:solidFill>
                  <a:srgbClr val="000000"/>
                </a:solidFill>
                <a:latin typeface="Times New Roman"/>
              </a:rPr>
              <a:t>in vivo</a:t>
            </a:r>
            <a:r>
              <a:rPr b="0" lang="es-MX" sz="2400" spc="-1" strike="noStrike">
                <a:solidFill>
                  <a:srgbClr val="000000"/>
                </a:solidFill>
                <a:latin typeface="Times New Roman"/>
              </a:rPr>
              <a:t> para efectuar el monitoreo contínuo de variables fisiológicas críticas de forma invasiva (dentro del cuerpo) o no invasiva (fuera del cuerpo), así como también </a:t>
            </a:r>
            <a:r>
              <a:rPr b="0" i="1" lang="es-MX" sz="2400" spc="-1" strike="noStrike">
                <a:solidFill>
                  <a:srgbClr val="000000"/>
                </a:solidFill>
                <a:latin typeface="Times New Roman"/>
              </a:rPr>
              <a:t>in vitro</a:t>
            </a:r>
            <a:r>
              <a:rPr b="0" lang="es-MX" sz="2400" spc="-1" strike="noStrike">
                <a:solidFill>
                  <a:srgbClr val="000000"/>
                </a:solidFill>
                <a:latin typeface="Times New Roman"/>
              </a:rPr>
              <a:t> para procedimiento de diagnóstico (análisis de sangre, p.e.) o bien en </a:t>
            </a:r>
            <a:r>
              <a:rPr b="0" i="1" lang="es-MX" sz="2400" spc="-1" strike="noStrike">
                <a:solidFill>
                  <a:srgbClr val="000000"/>
                </a:solidFill>
                <a:latin typeface="Times New Roman"/>
              </a:rPr>
              <a:t>ex vivo</a:t>
            </a:r>
            <a:r>
              <a:rPr b="0" lang="es-MX" sz="2400" spc="-1" strike="noStrike">
                <a:solidFill>
                  <a:srgbClr val="000000"/>
                </a:solidFill>
                <a:latin typeface="Times New Roman"/>
              </a:rPr>
              <a:t> para otro tipo de procedimiento de diagnóstico (análisis microbianos, p.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90D07728-175C-40DA-A48E-BA21D94788B2}"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685800"/>
            <a:ext cx="830556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LASIFICACIÓN DE LOS SENSORES BIOMÉDICOS</a:t>
            </a:r>
            <a:endParaRPr b="0" lang="en-US" sz="2800" spc="-1" strike="noStrike">
              <a:solidFill>
                <a:srgbClr val="333399"/>
              </a:solidFill>
              <a:latin typeface="Tahoma"/>
            </a:endParaRPr>
          </a:p>
        </p:txBody>
      </p:sp>
      <p:sp>
        <p:nvSpPr>
          <p:cNvPr id="106" name=""/>
          <p:cNvSpPr/>
          <p:nvPr/>
        </p:nvSpPr>
        <p:spPr>
          <a:xfrm>
            <a:off x="1143000" y="1371600"/>
            <a:ext cx="739152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e suelen clasificar como físicos, eléctricos o químicos dependiendo de la aplicación específica. Los Biosensores, considerados una subclasificación de los sensores biomédicos, son un grupo de sensores con dos componentes: </a:t>
            </a:r>
            <a:r>
              <a:rPr b="0" i="1" lang="es-MX" sz="2400" spc="-1" strike="noStrike">
                <a:solidFill>
                  <a:srgbClr val="000000"/>
                </a:solidFill>
                <a:latin typeface="Times New Roman"/>
              </a:rPr>
              <a:t>a</a:t>
            </a:r>
            <a:r>
              <a:rPr b="0" lang="es-MX" sz="2400" spc="-1" strike="noStrike">
                <a:solidFill>
                  <a:srgbClr val="000000"/>
                </a:solidFill>
                <a:latin typeface="Times New Roman"/>
              </a:rPr>
              <a:t>) un elemento de reconocimiento biológico, como una enzima purificada, un tipo de anticuerpo o receptor, el cual funcione como mediador y provea la selectividad deseada para detectar el componente de interes y </a:t>
            </a:r>
            <a:r>
              <a:rPr b="0" i="1" lang="es-MX" sz="2400" spc="-1" strike="noStrike">
                <a:solidFill>
                  <a:srgbClr val="000000"/>
                </a:solidFill>
                <a:latin typeface="Times New Roman"/>
              </a:rPr>
              <a:t>b</a:t>
            </a:r>
            <a:r>
              <a:rPr b="0" lang="es-MX" sz="2400" spc="-1" strike="noStrike">
                <a:solidFill>
                  <a:srgbClr val="000000"/>
                </a:solidFill>
                <a:latin typeface="Times New Roman"/>
              </a:rPr>
              <a:t>) una estructura de soporte que actúe también como transductor y esté en contacto íntimo con el componente biológico. El propósito del transductor es convertir la reacción química en otra forma cuantificable: óptica, eléctrica u otra señal fís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F1C26B59-CA32-4C22-ACF5-E6AB49A06D45}"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5280" y="838080"/>
            <a:ext cx="7259760" cy="61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MEDICIÓN DE BIOPOTENCIALES</a:t>
            </a:r>
            <a:endParaRPr b="0" lang="en-US" sz="3200" spc="-1" strike="noStrike">
              <a:solidFill>
                <a:srgbClr val="333399"/>
              </a:solidFill>
              <a:latin typeface="Tahoma"/>
            </a:endParaRPr>
          </a:p>
        </p:txBody>
      </p:sp>
      <p:sp>
        <p:nvSpPr>
          <p:cNvPr id="108" name=""/>
          <p:cNvSpPr/>
          <p:nvPr/>
        </p:nvSpPr>
        <p:spPr>
          <a:xfrm>
            <a:off x="1143000" y="2133720"/>
            <a:ext cx="7483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la medición de Biopotenciales, se utilizan diferentes clases de electrodos especializados. La función de estos electrodos es acoplar los potenciales iónicos generados dentro del cuerpo a un instrumento electrónico. Los electrodos para la medición de Biopotenciales se clasifican como </a:t>
            </a:r>
            <a:r>
              <a:rPr b="0" i="1" lang="es-MX" sz="2400" spc="-1" strike="noStrike">
                <a:solidFill>
                  <a:srgbClr val="000000"/>
                </a:solidFill>
                <a:latin typeface="Times New Roman"/>
              </a:rPr>
              <a:t>no invasivos</a:t>
            </a:r>
            <a:r>
              <a:rPr b="0" lang="es-MX" sz="2400" spc="-1" strike="noStrike">
                <a:solidFill>
                  <a:srgbClr val="000000"/>
                </a:solidFill>
                <a:latin typeface="Times New Roman"/>
              </a:rPr>
              <a:t> (en la superficie de la piel) e </a:t>
            </a:r>
            <a:r>
              <a:rPr b="0" i="1" lang="es-MX" sz="2400" spc="-1" strike="noStrike">
                <a:solidFill>
                  <a:srgbClr val="000000"/>
                </a:solidFill>
                <a:latin typeface="Times New Roman"/>
              </a:rPr>
              <a:t>invasivos</a:t>
            </a:r>
            <a:r>
              <a:rPr b="0" lang="es-MX" sz="2400" spc="-1" strike="noStrike">
                <a:solidFill>
                  <a:srgbClr val="000000"/>
                </a:solidFill>
                <a:latin typeface="Times New Roman"/>
              </a:rPr>
              <a:t> (dentro del cuerpo), por ejemplo, microelectrodos o electrodos de aguj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69703437-9FD3-4A44-90D8-3F2BB7C18DD3}"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837720"/>
            <a:ext cx="7793280" cy="69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INTERFASE METAL/ELECTROLITO</a:t>
            </a:r>
            <a:endParaRPr b="0" lang="en-US" sz="3200" spc="-1" strike="noStrike">
              <a:solidFill>
                <a:srgbClr val="333399"/>
              </a:solidFill>
              <a:latin typeface="Tahoma"/>
            </a:endParaRPr>
          </a:p>
        </p:txBody>
      </p:sp>
      <p:sp>
        <p:nvSpPr>
          <p:cNvPr id="110" name="PlaceHolder 2"/>
          <p:cNvSpPr>
            <a:spLocks noGrp="1"/>
          </p:cNvSpPr>
          <p:nvPr>
            <p:ph/>
          </p:nvPr>
        </p:nvSpPr>
        <p:spPr>
          <a:xfrm>
            <a:off x="4647960" y="5029200"/>
            <a:ext cx="75960" cy="76320"/>
          </a:xfrm>
          <a:prstGeom prst="rect">
            <a:avLst/>
          </a:prstGeom>
          <a:noFill/>
          <a:ln w="0">
            <a:noFill/>
          </a:ln>
        </p:spPr>
        <p:txBody>
          <a:bodyPr lIns="90000" rIns="90000" tIns="29520" bIns="2952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2000" spc="-1" strike="noStrike">
              <a:solidFill>
                <a:srgbClr val="000000"/>
              </a:solidFill>
              <a:latin typeface="Times New Roman"/>
            </a:endParaRPr>
          </a:p>
        </p:txBody>
      </p:sp>
      <p:sp>
        <p:nvSpPr>
          <p:cNvPr id="111" name=""/>
          <p:cNvSpPr/>
          <p:nvPr/>
        </p:nvSpPr>
        <p:spPr>
          <a:xfrm>
            <a:off x="457200" y="4648320"/>
            <a:ext cx="8093160" cy="19234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Cuando un metal es colocado en una solución electrolítica (ionizable), se crea una distribución de carga en la interfase metal/electrolito. Así se genera un potencial llamado </a:t>
            </a:r>
            <a:r>
              <a:rPr b="0" i="1" lang="es-MX" sz="2000" spc="-1" strike="noStrike">
                <a:solidFill>
                  <a:srgbClr val="000000"/>
                </a:solidFill>
                <a:latin typeface="Times New Roman"/>
              </a:rPr>
              <a:t>potencial de media celda</a:t>
            </a:r>
            <a:r>
              <a:rPr b="0" lang="es-MX" sz="2000" spc="-1" strike="noStrike">
                <a:solidFill>
                  <a:srgbClr val="000000"/>
                </a:solidFill>
                <a:latin typeface="Times New Roman"/>
              </a:rPr>
              <a:t> (HCP). En la tabla se muestran los HCP de algunos metales. Notese que el electrodo de hidrogeno se utiliza como referencia para la medición de los HCP de los demá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Fig4-1" descr=""/>
          <p:cNvPicPr/>
          <p:nvPr/>
        </p:nvPicPr>
        <p:blipFill>
          <a:blip r:embed="rId1"/>
          <a:stretch/>
        </p:blipFill>
        <p:spPr>
          <a:xfrm>
            <a:off x="380880" y="1981080"/>
            <a:ext cx="2514600" cy="2328840"/>
          </a:xfrm>
          <a:prstGeom prst="rect">
            <a:avLst/>
          </a:prstGeom>
          <a:ln w="0">
            <a:noFill/>
          </a:ln>
        </p:spPr>
      </p:pic>
      <p:pic>
        <p:nvPicPr>
          <p:cNvPr id="113" name="Tabla4-1" descr=""/>
          <p:cNvPicPr/>
          <p:nvPr/>
        </p:nvPicPr>
        <p:blipFill>
          <a:blip r:embed="rId2"/>
          <a:stretch/>
        </p:blipFill>
        <p:spPr>
          <a:xfrm>
            <a:off x="2895480" y="1828800"/>
            <a:ext cx="5257800" cy="2884320"/>
          </a:xfrm>
          <a:prstGeom prst="rect">
            <a:avLst/>
          </a:prstGeom>
          <a:ln w="0">
            <a:noFill/>
          </a:ln>
        </p:spPr>
      </p:pic>
      <p:sp>
        <p:nvSpPr>
          <p:cNvPr id="4" name="PlaceHolder 3"/>
          <p:cNvSpPr>
            <a:spLocks noGrp="1"/>
          </p:cNvSpPr>
          <p:nvPr>
            <p:ph type="ftr" idx="2"/>
          </p:nvPr>
        </p:nvSpPr>
        <p:spPr/>
        <p:txBody>
          <a:bodyPr/>
          <a:p>
            <a:r>
              <a:t>R.R.Horta O.,Biónica, UPIITA.</a:t>
            </a:r>
          </a:p>
        </p:txBody>
      </p:sp>
      <p:sp>
        <p:nvSpPr>
          <p:cNvPr id="5" name="PlaceHolder 4"/>
          <p:cNvSpPr>
            <a:spLocks noGrp="1"/>
          </p:cNvSpPr>
          <p:nvPr>
            <p:ph type="sldNum" idx="3"/>
          </p:nvPr>
        </p:nvSpPr>
        <p:spPr/>
        <p:txBody>
          <a:bodyPr/>
          <a:p>
            <a:fld id="{0E6B19A1-EC2B-4D08-9A17-BBFEAFE78A8C}"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440" y="533520"/>
            <a:ext cx="5630760" cy="465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ECTRODOS DE ECG</a:t>
            </a:r>
            <a:endParaRPr b="0" lang="en-US" sz="2800" spc="-1" strike="noStrike">
              <a:solidFill>
                <a:srgbClr val="333399"/>
              </a:solidFill>
              <a:latin typeface="Tahoma"/>
            </a:endParaRPr>
          </a:p>
        </p:txBody>
      </p:sp>
      <p:sp>
        <p:nvSpPr>
          <p:cNvPr id="115" name=""/>
          <p:cNvSpPr/>
          <p:nvPr/>
        </p:nvSpPr>
        <p:spPr>
          <a:xfrm>
            <a:off x="1066680" y="990720"/>
            <a:ext cx="74678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os electrodos superficiales para el registro de biopotenciales suelen ser placas rigidas de una aleación de zinc, niquel y plata. Algunos de estos se sujetan a la piel por medio de una cinta elástica o con cinta engomada y con un gel electrolítico que debe ser aplicado entre el metal y la piel para establecer un buen cotacto eléctrico. Los principales ingredientes del gel electrolítico, son agua y sales iónicas como NaCl y KCl. También hay electrodos de succión, para ECG, los cuales se pueden mover facilmente de un lugar a otro para diferentes mediciones. Un 3er. tipo, es el electrodo flexible, hecho de polímeros conductores debido al carbón y metales disueltos y con un gel de AgCl. El electrodo más común es el “flotante” Ag/AgCl, con un fino depósito electroquímico de AgCl en la pláca de Ag y una “almoadilla” saturada en pasta electrolític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28A82FD6-D3A7-4515-A4B3-5937F16355F9}"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361960" y="457200"/>
            <a:ext cx="4792680" cy="54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ELECTRODOS DE ECG</a:t>
            </a:r>
            <a:endParaRPr b="0" lang="en-US" sz="2800" spc="-1" strike="noStrike">
              <a:solidFill>
                <a:srgbClr val="333399"/>
              </a:solidFill>
              <a:latin typeface="Tahoma"/>
            </a:endParaRPr>
          </a:p>
        </p:txBody>
      </p:sp>
      <p:pic>
        <p:nvPicPr>
          <p:cNvPr id="117" name="Fig4-2" descr=""/>
          <p:cNvPicPr/>
          <p:nvPr/>
        </p:nvPicPr>
        <p:blipFill>
          <a:blip r:embed="rId1"/>
          <a:stretch/>
        </p:blipFill>
        <p:spPr>
          <a:xfrm>
            <a:off x="1371600" y="914400"/>
            <a:ext cx="6553080" cy="5630760"/>
          </a:xfrm>
          <a:prstGeom prst="rect">
            <a:avLst/>
          </a:prstGeom>
          <a:ln w="0">
            <a:noFill/>
          </a:ln>
        </p:spPr>
      </p:pic>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2167464A-331B-4F61-9999-E321EB1B204A}"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609480"/>
            <a:ext cx="6240600" cy="541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LECTRODOS PARA EMG</a:t>
            </a:r>
            <a:endParaRPr b="0" lang="en-US" sz="3200" spc="-1" strike="noStrike">
              <a:solidFill>
                <a:srgbClr val="333399"/>
              </a:solidFill>
              <a:latin typeface="Tahoma"/>
            </a:endParaRPr>
          </a:p>
        </p:txBody>
      </p:sp>
      <p:sp>
        <p:nvSpPr>
          <p:cNvPr id="119" name=""/>
          <p:cNvSpPr/>
          <p:nvPr/>
        </p:nvSpPr>
        <p:spPr>
          <a:xfrm>
            <a:off x="1143000" y="1371600"/>
            <a:ext cx="762012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xisten varios tipos de electrodos para el registro de estos biopotenciales. De las propiedades eléctricas de estos electrodos, así como de la zona de interés, es la forma y tamaño de la señal registrada. Para registros superficiales de EMG y estudios de conducción nerviosa, suelen ser circulares de 1 cm de diámetro y hechos de plata o platino. Para mediciones directas de fibras musculares o nerviosas se utilizan electrodos percutaneos de aguja:</a:t>
            </a:r>
            <a:endParaRPr b="0" lang="en-US" sz="2400" spc="-1" strike="noStrike">
              <a:solidFill>
                <a:srgbClr val="000000"/>
              </a:solidFill>
              <a:latin typeface="Times New Roman"/>
            </a:endParaRPr>
          </a:p>
        </p:txBody>
      </p:sp>
      <p:pic>
        <p:nvPicPr>
          <p:cNvPr id="120" name="Fig4-3" descr=""/>
          <p:cNvPicPr/>
          <p:nvPr/>
        </p:nvPicPr>
        <p:blipFill>
          <a:blip r:embed="rId1"/>
          <a:stretch/>
        </p:blipFill>
        <p:spPr>
          <a:xfrm>
            <a:off x="2133720" y="4419720"/>
            <a:ext cx="5562360" cy="2116080"/>
          </a:xfrm>
          <a:prstGeom prst="rect">
            <a:avLst/>
          </a:prstGeom>
          <a:ln w="0">
            <a:noFill/>
          </a:ln>
        </p:spPr>
      </p:pic>
      <p:sp>
        <p:nvSpPr>
          <p:cNvPr id="3" name="PlaceHolder 2"/>
          <p:cNvSpPr>
            <a:spLocks noGrp="1"/>
          </p:cNvSpPr>
          <p:nvPr>
            <p:ph type="ftr" idx="2"/>
          </p:nvPr>
        </p:nvSpPr>
        <p:spPr/>
        <p:txBody>
          <a:bodyPr/>
          <a:p>
            <a:r>
              <a:t>R.R.Horta O.,Biónica, UPIITA.</a:t>
            </a:r>
          </a:p>
        </p:txBody>
      </p:sp>
      <p:sp>
        <p:nvSpPr>
          <p:cNvPr id="4" name="PlaceHolder 3"/>
          <p:cNvSpPr>
            <a:spLocks noGrp="1"/>
          </p:cNvSpPr>
          <p:nvPr>
            <p:ph type="sldNum" idx="3"/>
          </p:nvPr>
        </p:nvSpPr>
        <p:spPr/>
        <p:txBody>
          <a:bodyPr/>
          <a:p>
            <a:fld id="{667F6FCC-EFB5-47CB-BB9E-ECEB9005CE85}"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4T19:01:20Z</dcterms:created>
  <dc:creator>Ricardo Roberto Horta Olivares</dc:creator>
  <dc:description/>
  <dc:language>en-US</dc:language>
  <cp:lastModifiedBy>HORTA</cp:lastModifiedBy>
  <cp:lastPrinted>2001-02-07T05:31:21Z</cp:lastPrinted>
  <dcterms:modified xsi:type="dcterms:W3CDTF">2002-02-11T17:01:05Z</dcterms:modified>
  <cp:revision>24</cp:revision>
  <dc:subject/>
  <dc:title>Presentación de PowerPoint</dc:title>
</cp:coreProperties>
</file>