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9DB2-CD4C-48CA-B5C9-428F04BE4BE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múnmente se siente un flujo sanguíneo turbulento sobre la fístula AV llamado frémi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C7DB-56A1-49A0-A7F6-91920F50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EA42-C9D2-4A83-A2EB-F95E15C6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F5B7-AC36-4BA1-8D83-42BF3B84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3143-5DCF-4777-815F-07C590B4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F57D-3B0D-4C18-8F1C-95CCE195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35B3-23E9-462A-B01C-833186F4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EC22-9A6F-4EC0-B4C9-997F6FA8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D3A0-640E-4682-A4E6-829AB19A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1CE5-FDC2-442A-B78F-BB3F1F35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21F9-ED88-4569-9FCD-03BD8283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018A-7A65-4838-B715-C4F85179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F55E-9252-4F66-AE09-F890AAF2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7098-3080-4321-864F-91CA033F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E058-9590-48BB-87FE-CB180A38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DBED-5FED-4D4A-B669-CD230502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623E-9B3B-4084-AA4E-90AB1D2E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3819-F518-4BAC-9F82-02543747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59E2-24BB-44C3-8105-5745FC48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FA47-3E25-412D-B5C9-E4498CDD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52B0-11CF-4A85-AF9F-52C8EC6D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0054-4E38-4138-9DA0-368DD0DB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0728-D853-4F93-A17D-AC4BA5BE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D7FB-883B-4277-92BC-04B6F16C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51BB-E7AA-481D-B7F8-C21E0733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4C98-A0B8-4945-AC67-BF0EAFD473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7AE3-ED47-455F-8C8F-DD353C27BBF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iálisi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cedi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r medio de cirugía menor, se coloca un pequeño catéter en la cavidad peritone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149640" y="2924280"/>
            <a:ext cx="284328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tercamb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 Diálisis Peritoneal se denomina "intercambio" al proceso mediante el cual el líquido que estaba una serie de horas en el espacio peritoneal se drena por gravedad y es reemplazado por nuevo líquid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uncion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 el siguiente dibujo, se aprecian las dos bolsas, la que contiene el líquido nuevo (en alto) y la que contiene el líquido de desecho (por debajo del nivel del abdome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 juego completo de tubos y bolsas de plástico se conectan al catéter que el enfermo lleva en el abdomen tan solo cuando debe hacerse los intercambios eliminándose posteriorm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 resto del tiempo el enfermo puede vivir normalmente con su catéter adosado al abdome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uncion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capd-5.gif (50967 bytes)"/>
          <p:cNvPicPr/>
          <p:nvPr/>
        </p:nvPicPr>
        <p:blipFill>
          <a:blip r:embed="rId2"/>
          <a:stretch/>
        </p:blipFill>
        <p:spPr>
          <a:xfrm>
            <a:off x="2760840" y="1628640"/>
            <a:ext cx="40352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0000"/>
                </a:solidFill>
                <a:latin typeface="Verdana"/>
              </a:rPr>
              <a:t>Hemodiálisi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Hemodiáli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Los riñones funcionan como filtros para la sangre, removiendo productos de la degradación de aminoácidos. Además de ello, sirven para retomar y regular el agua del cuerpo, mantener el equilibrio de electrolitos y asegurar que el pH sanguíneo permanezca entre 7,35 y 7,45. La vida no es posible sin la función del riñón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Cuando esta función ya no es realizada al cien por ciento por los riñones se puede aplicar esta técnica.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Hemodiáli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 hemodiálisis es un proceso que elimina los desechos, la sal y el agua excesiva para prevenir su acumulación en la sangr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ntiene un nivel adecuado de ciertas sustancias químicas en la sangr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ibuye a controlar la presión sanguíne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¿Cómo se realiza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Para llevar a cabo la hemodiálisis se utiliza una máquina de diálisis y un filtro especial, denominado riñón artificial o dializado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Para poder llevar la sangre al dializador, el médico tiene que establecer un acceso o entrada a los vasos sanguíneos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Ello requiere una intervención de cirugía menor, que generalmente se lleva a cabo en el brazo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El acceso necesita soportar un flujo sanguíneo de 250 mililitros por minuto y una vía endovenosa periférica normal no soporta ese volumen de flujo sanguíneo.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l acceso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uede ser externo o interno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l acceso externo implica el uso de dos catéteres, uno se coloca en una arteria y el otro en una vena adyacente, o ambos, ubicados en puntos diferentes dentro de una vena grande del cuello o del tórax. El acceso externo por lo general se utiliza sólo en situaciones de emergenc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l acceso interno puede ser arteriovenoso (AV) a través de una 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Verdana"/>
              </a:rPr>
              <a:t>fístula o injerto arteriovenoso (AV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Fístul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 fístula AV implica la unión quirúrgica de una arteria y una vena bajo la piel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 volumen de sangre aumentado dilata la vena por su capacidad elástica y permite un volumen mayor de flujo sanguíne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 posible colocar las agujas de manera que la sangre arterial pueda ser extraída para realizar la diálisis y la sangre limpia regrese a través de la vena dilatada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áli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ceso en el que se separan componentes en solución, a través de una membrana semipermeable. Sólo los componentes con cierto tamaño molecular pueden pasar de un lado al otro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60400" y="1700280"/>
            <a:ext cx="7423200" cy="4403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ístul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Injerto Arterioveno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puede utilizar un injerto AV para aquellas personas cuyas venas no son adecuadas para una fístula AV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te procedimiento implica injertar quirúrgicamente una vena donante de la propia vena safena del paciente (en la pierna), una arteria carótida de vaca o un injerto sintético de una arteria a una ven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oceso de la Hemodiáli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pués de tener el acceso adecuado con dos puertos, se conecta la máquina de hemodiálisi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 puerto de la arteria se conecta con la máquina y el puerto de retorno de la máquina se conecta con la vena. Dentro de la máquina, la sangre del paciente corre a través de tubos con membranas semipermeables que se bañan con soluciones que ayudan en la remoción de las sustancias solubles específicas de la sang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ceso de la Hemodiáli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14280" y="2421000"/>
            <a:ext cx="851544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ceso de la Hemodiáli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95280" y="2344680"/>
            <a:ext cx="84186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ceso de la Hemodiáli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24000" y="2284560"/>
            <a:ext cx="8523000" cy="42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04960" y="549360"/>
            <a:ext cx="55674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¿Cuánto tiempo dura cada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atamiento de hemodiálisis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os tratamientos de hemodiálisis duran unas cuatro horas, y se llevan a cabo tres veces por seman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Máquina de Hemodiáli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l sistema de hemodiálisis, comprende diferentes módulos como son: la bomba de sangre para pasar la sangre hacia el dializador, monitor de presión, detector de fuga de sangre, detector de aire, bomba de dializado y sistema de mezcla proporcional. El sistema, también controla remoción de líquido del paciente. El dispositivo de ultrafiltración controla precisamente el transporte de líquido a través de la membrana del dializad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258920" y="907920"/>
            <a:ext cx="3220920" cy="4969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724360" y="765000"/>
            <a:ext cx="2108520" cy="2448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754600" y="3573360"/>
            <a:ext cx="20462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áli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79400" y="2421000"/>
            <a:ext cx="758340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ializadores y Filtr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l principio funcional de la hemodiálisis, tiene lugar en el dializador, con mayor precisión, en la membrana semipermeable del dializado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quí, las substancias tóxicas son transportadas (por difusión y convección) desde la sangre hasta una solución electrolítica especial llamado dializado.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651640" y="2205000"/>
            <a:ext cx="29574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mbranas para hemodiálisi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 los equipos de hemodiálisis las membranas se encuentran dentro del "dializador", un componente que posee dos compartimientos: el sanguíneo y el de dializado. La membrana se ubica como separador entre estos compartimient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mbranas para hemodiáli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Actualmente se utilizan membranas de cuatro tipos de material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Celulos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Celulosa sustitui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Sintétic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Celulosintética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Verdana"/>
              </a:rPr>
              <a:t>Líneas Sanguíneas Arterial y Venos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Transportan la sangre del paciente desde las agujas de fístula, hasta el dializador y para devolverla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rcRect l="10888" t="0" r="0" b="0"/>
          <a:stretch/>
        </p:blipFill>
        <p:spPr>
          <a:xfrm>
            <a:off x="5861160" y="2205000"/>
            <a:ext cx="25794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ujas de fístula y los catétere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4751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ermiten el acceso a la sangre de los pacientes. Son esenciales para realizar cualquier tipo de terapia sanguínea extracorpóre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os dispositivos de acceso más comunes s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)  Agujas de fístula   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(arterial y venosa) para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accesar la fístula A/V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b)  Catéter venoso central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rcRect l="8143" t="12230" r="0" b="0"/>
          <a:stretch/>
        </p:blipFill>
        <p:spPr>
          <a:xfrm>
            <a:off x="6084720" y="2421000"/>
            <a:ext cx="2484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oncentrado y Solu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e de agua purificada y varias substancias disueltas en él. Con excepción de la Glucosa las sustancias disueltas en el líquido de la diálisis son todos electrolito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gula el electrolito y el balance base de ácido de la diálisis del paciente y elimina los componentes tóxicos de la sang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 preparado en la máquina de diálisis automáticamente por mezclas continuas de concentrados de hemodiálisis y agua purificada en una proporción fijad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tamiento de Agu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ltro de are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blandad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ltro de carbón activ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icrofiltr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ltro de ósmosis invers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348000" y="4149720"/>
            <a:ext cx="287964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Verdana"/>
              </a:rPr>
              <a:t>Sistemas de Monitoreo y Segurid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Presión en el circuito sanguíneo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Presión a la salida de la solución de diálisi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nductividad de la solución de diálisi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Detector de fuga sanguíne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Temperatura de la solución de diálisi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Válvula bypass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quipos Opciona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omba de hepar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gulador de la concentración de bicarbonato y sod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nsor de urea del dializad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¿Cuándo se requiere una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Muchas enfermedades o eventos pueden dañar los riñones y hacerlos fallar. Puede ocurrir de repente o puede tener lugar gradualmente durante meses o años. Las condiciones comunes incluy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La diabet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La presión sanguínea alt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Una inflamación de los riñones llamada glomerulonefritis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uando los riñones no pueden funcionar a más del 10 por ciento de la capacidad normal, la persona necesita diálisis renal o un trasplante de riñón para sobrevivi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áli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isten dos tipos de diáli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iálisis Peritone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Hemodiáli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Verdana"/>
              </a:rPr>
              <a:t>Diálisis Peritonea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álisis Peritone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sangre se "limpia" dentro del cuerpo utilizando la membrana peritoneal como filtr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149640" y="2924280"/>
            <a:ext cx="284328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itone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 peritoneo es una membrana delgada que forma un saco alrededor de órganos como el hígado, estómago e intestinos. El interior de esta membrana se llama "cavidad peritoneal"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álisis Peritone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ando se coloca un líquido de diálisis dentro de la cavidad peritoneal, la membrana actúa como un filtr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s productos de desecho y el líquido extra pasan a través de las pequeñas aberturas del peritoneo al líquido dializa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s desechos y el líquido extra se retiran del cuerpo y se elimin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8T00:57:06Z</dcterms:created>
  <dc:creator>Ricardo Roberto Horta Olivares</dc:creator>
  <dc:description/>
  <dc:language>en-US</dc:language>
  <cp:lastModifiedBy>David Valdivia</cp:lastModifiedBy>
  <dcterms:modified xsi:type="dcterms:W3CDTF">2004-05-11T15:53:02Z</dcterms:modified>
  <cp:revision>17</cp:revision>
  <dc:subject/>
  <dc:title>Diálisis</dc:title>
</cp:coreProperties>
</file>