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63F-506A-4F0C-B91B-7512E91A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BC3-6E9B-4453-A7B4-22F7004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F9E-2C36-4315-BE3E-2C522C45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8A8-8E1F-4D4B-B29F-4B36F28A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BE43-0A9F-4C63-8BFA-69B56294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3FB-3299-4145-A45A-B85FA17D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3C7-53E1-4037-B996-F4427A1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0DA9-87CA-4327-95CE-B707AE3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5B7-EA21-4F0D-BAF6-1925CD0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492-6C1E-4559-9157-F5C8D6A5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5B39-1F31-45EC-B545-35B218B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9F0-DF5E-4D24-B694-FFCA1FD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457-161A-4F6B-B0AD-C566AE5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1A3B-C5D6-47AE-A042-3E67C0D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E6F-BBD9-4B36-AC61-333D7367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0F06-3EE2-4639-90AB-4C295379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FE62-541E-4D4C-9F90-11255E64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2B6-4243-45B3-980F-272C93A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A86-47D9-412D-9F76-FEF18C9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F9D-7C89-4B2E-A7C4-30107F2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88E-9B25-4022-9419-0EC7B281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202-BE69-4A88-AB3A-A09D7AE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12E-1E6B-4267-A8DE-768DE9E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CA8-7E9E-47DD-8499-B02910C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D02C-A114-472F-93E6-821C7CD900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B09-892A-4119-BDAD-B288F2E02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9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mulador Analógico para Farmacocinét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6094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7840" y="1905120"/>
                <a:ext cx="8381880" cy="28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7200" y="5105520"/>
                <a:ext cx="842652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808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iderando qu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05120" y="990720"/>
                <a:ext cx="34542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715000" y="10666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1817640"/>
                <a:ext cx="6705720" cy="44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33560" y="380880"/>
            <a:ext cx="1523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Solución.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04560" y="825480"/>
            <a:ext cx="492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soluciones para este sistema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1219320"/>
                <a:ext cx="7569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y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29320" y="173988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2057400"/>
                <a:ext cx="8305560" cy="391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03480" y="566640"/>
            <a:ext cx="73310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 los valores: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3.3M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F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3.3M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.25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 y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4.7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olucion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943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tres compartimento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03480" y="1049400"/>
            <a:ext cx="7483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trabajo con los compartimentos 1, 2 y 3 es de la misma forma, sin embargo el nivel de complejidad aum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tra forma de obtener los resultados gráficos del sistema consiste en la construcción de un sistema electrónico capaz de resolver el sistema de ecuaciones diferenci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2895480"/>
                <a:ext cx="612288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TO1" descr=""/>
          <p:cNvPicPr/>
          <p:nvPr/>
        </p:nvPicPr>
        <p:blipFill>
          <a:blip r:embed="rId1"/>
          <a:stretch/>
        </p:blipFill>
        <p:spPr>
          <a:xfrm>
            <a:off x="1932120" y="380880"/>
            <a:ext cx="527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spuest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Modelo Matemático del sistema biológico:</a:t>
            </a:r>
            <a:br>
              <a:rPr sz="2600"/>
            </a:b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66680" y="2293920"/>
                <a:ext cx="716292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Modelo Matemático del sistema electrónico: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25440" y="2293920"/>
                <a:ext cx="684540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ecuaciones integrales que describen el fenómeno de difusión entre compartimentos, en términos eléctricos,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7560" y="2209680"/>
                <a:ext cx="81234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685800"/>
            <a:ext cx="7315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consideramos una salida de corriente única por un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MX" sz="22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33640" y="2436840"/>
                <a:ext cx="522756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ecuaciones integrales se reducen a: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47640" y="2209680"/>
                <a:ext cx="612324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705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un compartimento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914400"/>
            <a:ext cx="7102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a cuand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, es decir, trabajando con el compartimento 1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78080" y="1828800"/>
                <a:ext cx="65577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limUpp>
                          <m:e>
                            <m:r>
                              <m:t xml:space="preserve">v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65000" y="3048120"/>
            <a:ext cx="504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plicando la Transformada de Lapla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04920" y="3886200"/>
                <a:ext cx="6734160" cy="24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∴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175284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Solución.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59000" y="1054080"/>
            <a:ext cx="619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ransportando la solución al dominio del tiemp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30680" y="1905120"/>
                <a:ext cx="2414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65200" y="2852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cual corresponde a una respuesta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lucion1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429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79132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dos compartimento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066680"/>
            <a:ext cx="7238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a cuand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, es decir, trabajando con los compartimentos 1 y 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19320" y="1895400"/>
                <a:ext cx="71564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v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limUpp>
                              <m:e>
                                <m:r>
                                  <m:t xml:space="preserve">v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39520" y="3962520"/>
            <a:ext cx="126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 dec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62320" y="4191120"/>
                <a:ext cx="434340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8:30:05Z</dcterms:created>
  <dc:creator>HORTA</dc:creator>
  <dc:description/>
  <dc:language>en-US</dc:language>
  <cp:lastModifiedBy>HORTA</cp:lastModifiedBy>
  <dcterms:modified xsi:type="dcterms:W3CDTF">2003-09-02T17:16:42Z</dcterms:modified>
  <cp:revision>13</cp:revision>
  <dc:subject/>
  <dc:title>Presentación de PowerPoint</dc:title>
</cp:coreProperties>
</file>