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A80-967C-4DBA-A822-4A6425EE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7E9A-C9F8-48B7-9591-8BE0C304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A75-E789-431D-90CE-60D3CF2F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5D3-6C98-4036-BC5D-A9654F48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4E5F-EF23-4387-BF15-3AE08971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44953-B37C-4B3A-A26A-3DAF3F3E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4975-A203-4230-81BC-ACB3DB38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9256-D852-4F07-9F99-90EDC09F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E703-AF0F-4C84-B97A-470BD130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835-7638-4CE7-A04D-27724085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F25-EE1A-4BED-95E4-F0A3F497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3C4-E89A-442B-8F67-E80BE7D6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4EF1-0FF7-4436-BE23-2FC19E4D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5C30-ED69-4CDE-8142-173A40AB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67B7-420C-4417-BB6E-3BE62BAC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236-154E-498B-A92B-292F2FCD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F94D-F393-40F5-A161-48330A1F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02AE-314A-40AD-B0F6-EDA47A7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A540-A542-40FE-8920-C66D18DE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D9D-8672-49DB-8CCE-EF201384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CB2-9439-467B-BBA7-48E2F4B8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B74-E3BE-4C03-BB1B-0198087F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143-6321-4818-A60B-AC8BD2F5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5B3-25A3-4ADC-8422-EF71989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1B7-7A23-44C9-95D6-1D0BCFFA95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EC40-BB8F-4F3A-804E-40B4856CDB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9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imulador Analógico para Farmacocinétic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19320" y="609480"/>
            <a:ext cx="464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47840" y="1905120"/>
                <a:ext cx="8381880" cy="28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k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;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k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2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Δ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57200" y="5105520"/>
                <a:ext cx="842652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2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s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R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380880"/>
            <a:ext cx="335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siderando qu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05120" y="990720"/>
                <a:ext cx="34542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715000" y="10666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1817640"/>
                <a:ext cx="6705720" cy="44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33560" y="380880"/>
            <a:ext cx="1523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Solución.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1204560" y="825480"/>
            <a:ext cx="492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soluciones para este sistema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143000" y="1219320"/>
                <a:ext cx="75693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   y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29320" y="1739880"/>
            <a:ext cx="10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3520" y="2057400"/>
                <a:ext cx="8305560" cy="391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F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2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ra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α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203480" y="566640"/>
            <a:ext cx="733104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 los valores: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3.3M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F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3.3M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.25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 y </a:t>
            </a:r>
            <a:r>
              <a:rPr b="0" i="1" lang="es-MX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4.7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Solucion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32448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5943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tres compartimento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203480" y="1049400"/>
            <a:ext cx="7483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trabajo con los compartimentos 1, 2 y 3 es de la misma forma, sin embargo el nivel de complejidad aumen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tra forma de obtener los resultados gráficos del sistema consiste en la construcción de un sistema electrónico capaz de resolver el sistema de ecuaciones diferenci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600200" y="2895480"/>
                <a:ext cx="612288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CTO1" descr=""/>
          <p:cNvPicPr/>
          <p:nvPr/>
        </p:nvPicPr>
        <p:blipFill>
          <a:blip r:embed="rId1"/>
          <a:stretch/>
        </p:blipFill>
        <p:spPr>
          <a:xfrm>
            <a:off x="1932120" y="380880"/>
            <a:ext cx="52797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Respuesta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4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Modelo Matemático del sistema biológico:</a:t>
            </a:r>
            <a:br>
              <a:rPr sz="2600"/>
            </a:b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066680" y="2293920"/>
                <a:ext cx="716292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79292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l Modelo Matemático del sistema electrónico: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225440" y="2293920"/>
                <a:ext cx="6845400" cy="35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76212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ecuaciones integrales que describen el fenómeno de difusión entre compartimentos, en términos eléctricos,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47560" y="2209680"/>
                <a:ext cx="81234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685800"/>
            <a:ext cx="7315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consideramos una salida de corriente única por un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MX" sz="2200" spc="-1" strike="noStrike" baseline="-25000">
                <a:solidFill>
                  <a:srgbClr val="000000"/>
                </a:solidFill>
                <a:latin typeface="Arial"/>
              </a:rPr>
              <a:t>F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33640" y="2436840"/>
                <a:ext cx="5227560" cy="32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ecuaciones integrales se reducen a: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47640" y="2209680"/>
                <a:ext cx="612324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6705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un compartimento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914400"/>
            <a:ext cx="7102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a cuand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, es decir, trabajando con el compartimento 1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378080" y="1828800"/>
                <a:ext cx="65577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↔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limUpp>
                          <m:e>
                            <m:r>
                              <m:t xml:space="preserve">v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65000" y="3048120"/>
            <a:ext cx="504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Aplicando la Transformada de Laplac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04920" y="3886200"/>
                <a:ext cx="6734160" cy="24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∀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∴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175284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Solución.</a:t>
            </a:r>
            <a:endParaRPr b="0" lang="en-US" sz="2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359000" y="1054080"/>
            <a:ext cx="619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ransportando la solución al dominio del tiemp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30680" y="1905120"/>
                <a:ext cx="24145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65200" y="285264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cual corresponde a una respuesta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lucion1" descr=""/>
          <p:cNvPicPr/>
          <p:nvPr/>
        </p:nvPicPr>
        <p:blipFill>
          <a:blip r:embed="rId1"/>
          <a:stretch/>
        </p:blipFill>
        <p:spPr>
          <a:xfrm>
            <a:off x="2362320" y="3352680"/>
            <a:ext cx="44290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579132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arrollo para dos compartimentos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066680"/>
            <a:ext cx="72388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ara cuand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MX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=0, es decir, trabajando con los compartimentos 1 y 2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219320" y="1895400"/>
                <a:ext cx="715644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limUpp>
                              <m:e>
                                <m:r>
                                  <m:t xml:space="preserve">v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limUpp>
                              <m:e>
                                <m:r>
                                  <m:t xml:space="preserve">v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39520" y="3962520"/>
            <a:ext cx="126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 dec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362320" y="4191120"/>
                <a:ext cx="434340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18:30:05Z</dcterms:created>
  <dc:creator>HORTA</dc:creator>
  <dc:description/>
  <dc:language>en-US</dc:language>
  <cp:lastModifiedBy>HORTA</cp:lastModifiedBy>
  <dcterms:modified xsi:type="dcterms:W3CDTF">2003-09-02T17:16:42Z</dcterms:modified>
  <cp:revision>13</cp:revision>
  <dc:subject/>
  <dc:title>Presentación de PowerPoint</dc:title>
</cp:coreProperties>
</file>