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85CDB-C7FC-4DAE-8AA6-849A851AF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7FC82-9287-486F-A6F2-E5D906C13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975D-2185-479B-B46E-1CA6A2DB6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ADC-294C-4D1C-A211-6CD4426CF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C694-1435-4240-BD1B-6B2B9A08A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6B769-1174-4BA8-888F-D10500D02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DBDC7-12F2-467A-9427-4CD2E5B77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29F63-F277-4A10-BE00-B9E6742C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AD49-1BE4-4340-BB72-C458D0893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5A9E5-121F-4771-93A7-6B7B6733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C9D60-40E7-4DF0-8BCD-B6883A3E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6240-E9EB-4DEC-91BB-65E1C2CC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A827-C1C7-4A7A-9450-857F3312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DDCBC-A57C-460A-ABA4-F54897C0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29F34-76E1-458C-A3C6-88279BF44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5C86-72A3-4732-A38D-682192150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5395F-F949-486D-8447-C0B98B6BD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5C85-1ADB-40AC-9847-90C8BA385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B80F-5702-4669-9AF2-6E25D712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D2FD-F565-4D10-86BD-111A21950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A076-85B5-4D17-AFAA-961FC69D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753B-136C-49F5-9F6F-0E7C6153B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3CCC-B186-497C-80D4-530E3D76F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E4F3-7641-444E-BCC6-B1CA7071B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88EC-F04B-43D8-A6AB-636C1A42BA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23FF8-5EDC-4787-A322-09158573F9E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Ley de Newton del enfriamiento o calentamiento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2209680"/>
            <a:ext cx="8001000" cy="35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razón con que cambia la temperatura de un objet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T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proporcional a la diferencia entre su temperatura y la del medio que le rodea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i="1" lang="es-MX" sz="22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la temperatura ambiente considerada constant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Donde k es una constante de proporcionalida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1752480" y="3886200"/>
                <a:ext cx="5715000" cy="99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∝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  o sea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m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990720" y="2057400"/>
            <a:ext cx="739116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or lo tanto, la fuerza F(t) está expresada co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 bi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2324160" y="2590920"/>
                <a:ext cx="380988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x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"/>
              <p:cNvSpPr txBox="1"/>
              <p:nvPr/>
            </p:nvSpPr>
            <p:spPr>
              <a:xfrm>
                <a:off x="2192400" y="4572000"/>
                <a:ext cx="422604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t xml:space="preserve">+</m:t>
                    </m:r>
                    <m:r>
                      <m:t xml:space="preserve">k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v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47560" y="762120"/>
            <a:ext cx="745956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bla de Analogías Voltaje-Fuerz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1066680" y="2438280"/>
            <a:ext cx="2514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oltaj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ducta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iste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lasta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rrie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uer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419720" y="2971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Masa ó Iner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972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ricción Visco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41972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te. De Resor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4648320"/>
            <a:ext cx="243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Desplazami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19720" y="51814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elo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F10" descr=""/>
          <p:cNvPicPr/>
          <p:nvPr/>
        </p:nvPicPr>
        <p:blipFill>
          <a:blip r:embed="rId1"/>
          <a:stretch/>
        </p:blipFill>
        <p:spPr>
          <a:xfrm>
            <a:off x="3505320" y="1828800"/>
            <a:ext cx="5276880" cy="220500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16428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ircuito de Nivel de Líquido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533520" y="2057400"/>
            <a:ext cx="29718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este circuito, la altura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H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la suma de efectos que ejercen cada elemento que conforman la red. La influencia en la altura que cada elemento provoca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105520"/>
            <a:ext cx="7772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ertancia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istencia: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pacitancia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685800" y="5410080"/>
                <a:ext cx="6553080" cy="109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</m:t>
                    </m:r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295280" y="1905120"/>
            <a:ext cx="7467840" cy="24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or lo tanto, la altura H(t) esta expresada co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 bi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1981080" y="2362320"/>
                <a:ext cx="43182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V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057400" y="4419720"/>
                <a:ext cx="46483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I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qR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q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43000" y="762120"/>
            <a:ext cx="7764480" cy="76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Tabla de Analogías Corriente-Caud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438280"/>
            <a:ext cx="25146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Voltaj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Inducta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Resiste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pacitanci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arga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Corriente</a:t>
            </a: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MX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243828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419720" y="2971800"/>
            <a:ext cx="190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Iner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Resistencia al flu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419720" y="41148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Capacita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46483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19720" y="518148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ahoma"/>
              </a:rPr>
              <a:t>Flujo ó Cau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47560" y="609120"/>
            <a:ext cx="662148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000000"/>
                </a:solidFill>
                <a:latin typeface="Arial"/>
              </a:rPr>
              <a:t>Teorema </a:t>
            </a:r>
            <a:r>
              <a:rPr b="0" lang="es-MX" sz="4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s-MX" sz="4200" spc="-1" strike="noStrike">
                <a:solidFill>
                  <a:srgbClr val="000000"/>
                </a:solidFill>
                <a:latin typeface="Arial"/>
              </a:rPr>
              <a:t> de Buckingham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"/>
          <p:cNvSpPr/>
          <p:nvPr/>
        </p:nvSpPr>
        <p:spPr>
          <a:xfrm>
            <a:off x="1371600" y="2209680"/>
            <a:ext cx="7315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stablece que “las leyes físicas son independientes de la forma de sus unidades. Por lo tanto, las leyes físicas aceptables son homogeneas en todas las dimensiones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62320" y="762120"/>
            <a:ext cx="410688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333399"/>
                </a:solidFill>
                <a:latin typeface="Arial"/>
              </a:rPr>
              <a:t>BIBLIOGRAFÍA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2362320"/>
            <a:ext cx="7238880" cy="20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ECUACIONES DIFERENCIALES CON APLICACIONES DE MODEL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nnis G. Zill, Ed. Thomsom Learning, 7a ed., 2002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 u="sng">
                <a:solidFill>
                  <a:srgbClr val="000000"/>
                </a:solidFill>
                <a:uFillTx/>
                <a:latin typeface="Arial"/>
              </a:rPr>
              <a:t>DINÁMICA DE SISTE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Katsuhiko Ogata, Ed. Prentice Hall, 198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0"/>
            <a:ext cx="716256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Propagación De Una Enfermeda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914400" y="1066680"/>
            <a:ext cx="7924680" cy="54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una comunidad, la gripe se propaga por contacto entre las personas. Sea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x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las personas que han contraido la enfermedad y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y(t)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s que no han estado expuestas. Es de esperar que la razón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dx/dt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proporcional al número de encuentros o interacciones entre estos dos grupos de person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i una persona infectada se introduce en la comunidad, de un númer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entonces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x+y=n+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por lo tant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n la condición inicial obvia de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x(0)=1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2590920" y="3048120"/>
                <a:ext cx="4495680" cy="110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∝</m:t>
                    </m:r>
                    <m:r>
                      <m:rPr>
                        <m:lit/>
                        <m:nor/>
                      </m:rPr>
                      <m:t xml:space="preserve">xy</m:t>
                    </m:r>
                    <m:r>
                      <m:rPr>
                        <m:lit/>
                        <m:nor/>
                      </m:rPr>
                      <m:t xml:space="preserve">   o sea  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2590920" y="5029200"/>
                <a:ext cx="297180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x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+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F2a" descr=""/>
          <p:cNvPicPr/>
          <p:nvPr/>
        </p:nvPicPr>
        <p:blipFill>
          <a:blip r:embed="rId1"/>
          <a:stretch/>
        </p:blipFill>
        <p:spPr>
          <a:xfrm>
            <a:off x="7238880" y="990720"/>
            <a:ext cx="1403640" cy="31240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8640" y="761760"/>
            <a:ext cx="213372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Mezcla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981080"/>
            <a:ext cx="6933960" cy="26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a un tanque mezclador conteniendo 300 litros de agua salina. Se le vierte otra solución salina a razón de 3 litros por minuto de 0.2 kilos de sal por litro. El tanque se descarga a la misma razón. Si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A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denota la cantidad de sal en el tanque en el tiemp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entonces la razón en que cambia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380880" y="4114800"/>
                <a:ext cx="7696440" cy="738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azón de entrada de sal</m:t>
                        </m:r>
                      </m:e>
                    </m:d>
                    <m:r>
                      <m:t xml:space="preserve">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azón de salida de sal</m:t>
                        </m:r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219320" y="914400"/>
            <a:ext cx="7619760" cy="38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La razón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Ri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con que entra la sal al tanque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omo la solución se bombea sacandola del tanque con la misma rapidez, la cantidad en el tanque será constante. Por lo tanto, la concentración de sal en el tanque y en la salida es 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A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/300</a:t>
            </a:r>
            <a:r>
              <a:rPr b="0" lang="es-MX" sz="22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Kg/l, por lo que la rapidez de salida de la sal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tonc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236600" y="1371600"/>
                <a:ext cx="7435800" cy="3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azón de en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oncen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sal en salida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l</m:t>
                    </m:r>
                    <m:r>
                      <m:rPr>
                        <m:lit/>
                        <m:nor/>
                      </m:rPr>
                      <m:t xml:space="preserve">/min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2</m:t>
                    </m:r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t xml:space="preserve">l</m:t>
                        </m:r>
                      </m:den>
                    </m:f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 Kg</m:t>
                    </m:r>
                    <m:r>
                      <m:rPr>
                        <m:lit/>
                        <m:nor/>
                      </m:rPr>
                      <m:t xml:space="preserve">/m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1295280" y="3733920"/>
                <a:ext cx="711540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Razón</m:t>
                        </m:r>
                        <m:r>
                          <m:rPr>
                            <m:lit/>
                            <m:nor/>
                          </m:rPr>
                          <m:t xml:space="preserve"> de salida</m:t>
                        </m:r>
                      </m:e>
                    </m:d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Concent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 de salida</m:t>
                        </m:r>
                      </m:e>
                    </m:d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3</m:t>
                    </m:r>
                    <m:f>
                      <m:fPr>
                        <m:type m:val="lin"/>
                      </m:fPr>
                      <m:num>
                        <m:r>
                          <m:t xml:space="preserve">l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mi</m:t>
                        </m:r>
                      </m:den>
                    </m:f>
                    <m:r>
                      <m:t xml:space="preserve">n</m:t>
                    </m:r>
                    <m:r>
                      <m:t xml:space="preserve">)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300</m:t>
                            </m:r>
                          </m:den>
                        </m:f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</m:num>
                          <m:den>
                            <m:r>
                              <m:t xml:space="preserve">l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268800" y="4876920"/>
                <a:ext cx="2682720" cy="11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6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90560" y="533160"/>
            <a:ext cx="373356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Ley de Torricelli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1447920"/>
            <a:ext cx="754380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stablece que la rapidez de salida de agua a través de un agujero de bordes agudos en el fondo de un tanque a una profundidad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la misma rapidez que un cuerpo adquiriría al caer libremente desde una altura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es dec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Y se obtiene de igualar la energía cinética con la energía potenci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429000" y="2819520"/>
                <a:ext cx="175248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447920" y="4267080"/>
                <a:ext cx="2361960" cy="111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m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mgh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17" name="F3" descr=""/>
          <p:cNvPicPr/>
          <p:nvPr/>
        </p:nvPicPr>
        <p:blipFill>
          <a:blip r:embed="rId1"/>
          <a:stretch/>
        </p:blipFill>
        <p:spPr>
          <a:xfrm>
            <a:off x="5943600" y="4038480"/>
            <a:ext cx="1711440" cy="236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43000" y="1752480"/>
            <a:ext cx="769608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Sea un tanque con agua. Se deja vaciar a través de un agujero por la acción de la gravedad. Se desea conocer la profundidad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del agua que queda en el tanque en cualquier tiempo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 Si el área transversal del agujero es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i="1" lang="es-MX" sz="2200" spc="-1" strike="noStrike" baseline="-25000">
                <a:solidFill>
                  <a:srgbClr val="000000"/>
                </a:solidFill>
                <a:latin typeface="Arial"/>
              </a:rPr>
              <a:t>h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, entonces la rapidez de salida de agua, el volumen de agua que sale y el volumen de agua que queda en el tanque so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1371600" y="4114800"/>
                <a:ext cx="16765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3733920" y="4114800"/>
                <a:ext cx="144756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91320" y="4038480"/>
                <a:ext cx="259056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gh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609120"/>
            <a:ext cx="601992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Arial"/>
              </a:rPr>
              <a:t>Circuito Eléctrico Seri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3" name="F4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2436840" cy="16714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838080" y="2057400"/>
            <a:ext cx="5486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un circuito serie, el voltaje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la suma de los potenciales de cada elemento que conforman la red, como lo indica la </a:t>
            </a:r>
            <a:r>
              <a:rPr b="1" lang="es-MX" sz="2200" spc="-1" strike="noStrike">
                <a:solidFill>
                  <a:srgbClr val="000000"/>
                </a:solidFill>
                <a:latin typeface="Arial"/>
              </a:rPr>
              <a:t>segunda ley de Kirchhoff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. El potencial en cada elemento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4038480"/>
            <a:ext cx="7696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Inductancia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istencia: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Capacitancia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838080" y="4495680"/>
                <a:ext cx="6588360" cy="124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     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  <m:r>
                      <m:t xml:space="preserve">=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    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143000" y="2209680"/>
            <a:ext cx="762012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Por lo tanto, el potencial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E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tá expresado com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O bi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362320" y="2590920"/>
                <a:ext cx="380988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q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t xml:space="preserve">R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216160" y="4267080"/>
                <a:ext cx="4108320" cy="104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i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Ri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i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F9" descr=""/>
          <p:cNvPicPr/>
          <p:nvPr/>
        </p:nvPicPr>
        <p:blipFill>
          <a:blip r:embed="rId1"/>
          <a:stretch/>
        </p:blipFill>
        <p:spPr>
          <a:xfrm>
            <a:off x="6629400" y="1447920"/>
            <a:ext cx="1827360" cy="33526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230960" cy="7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200" spc="-1" strike="noStrike">
                <a:solidFill>
                  <a:srgbClr val="000000"/>
                </a:solidFill>
                <a:latin typeface="Arial"/>
              </a:rPr>
              <a:t>Circuito Mecánico Serie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990720" y="2057400"/>
            <a:ext cx="48765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En un circuito serie, la fuerza </a:t>
            </a:r>
            <a:r>
              <a:rPr b="1" i="1" lang="es-MX" sz="2200" spc="-1" strike="noStrike">
                <a:solidFill>
                  <a:srgbClr val="000000"/>
                </a:solidFill>
                <a:latin typeface="Arial"/>
              </a:rPr>
              <a:t>F(t)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es la suma de las fuerzas que ejerce cada elemento que conforman la red. La fuerza en cada elemento e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572000"/>
            <a:ext cx="7543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Masa: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 Amortiguador: 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MX" sz="2200" spc="-1" strike="noStrike">
                <a:solidFill>
                  <a:srgbClr val="000000"/>
                </a:solidFill>
                <a:latin typeface="Arial"/>
              </a:rPr>
              <a:t>Resorte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1271520" y="5181480"/>
                <a:ext cx="5911920" cy="113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x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m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    b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bv</m:t>
                    </m:r>
                    <m:r>
                      <m:rPr>
                        <m:lit/>
                        <m:nor/>
                      </m:rPr>
                      <m:t xml:space="preserve">           kx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12T01:45:13Z</dcterms:created>
  <dc:creator>HORTA</dc:creator>
  <dc:description/>
  <dc:language>en-US</dc:language>
  <cp:lastModifiedBy>HORTA</cp:lastModifiedBy>
  <dcterms:modified xsi:type="dcterms:W3CDTF">2002-08-14T04:28:00Z</dcterms:modified>
  <cp:revision>13</cp:revision>
  <dc:subject/>
  <dc:title> Ley de Newton del enfriamiento o calentamiento</dc:title>
</cp:coreProperties>
</file>