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4A94-F0AF-449C-91E7-442439C6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04E-CBC6-434D-B646-8302CC49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F98-C9E5-4A68-A725-E2619682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2A1-0C39-4712-84FA-54BC1EAF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835A-8F1A-4A9D-A8B4-A7C47322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8FD1-6856-4F9F-8320-D56DDA83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57CC-8DE8-4CFA-B695-6CF2E526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B052-D954-479C-B41B-A016158D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70B3-7BE7-433E-8522-918DCC37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16000" y="54900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398B-57CC-4AAC-BBC3-AD7057D9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6B1F-C44A-422E-84D5-F70AE1B1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B6B-37A8-48F0-99EC-EB914F67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9193-5878-42B4-A116-C93E82CA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817C-E6BB-497E-B682-430813D2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231F-D74C-4984-8D2B-314D9ED7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275D-1E99-43F6-9306-5E779F88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F5D2-B104-4DB7-9846-6FD0C131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0E4-0738-4BB7-A9D6-26DCE1A9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430-3610-4CFB-B7CF-EC80B1B2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FB6-96F7-4CD0-8AD2-524A3D51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16000" y="54900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FDE-FEC8-4BF3-A521-8FDCA681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739-B5E3-4391-BBB4-E0C37691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9EA-65A7-46AA-B1CC-D396D30E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E0B-86EC-4887-BA20-DAC2299F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67080"/>
            <a:ext cx="9140760" cy="2590920"/>
            <a:chOff x="0" y="4267080"/>
            <a:chExt cx="9140760" cy="2590920"/>
          </a:xfrm>
        </p:grpSpPr>
        <p:sp>
          <p:nvSpPr>
            <p:cNvPr id="1" name=""/>
            <p:cNvSpPr/>
            <p:nvPr/>
          </p:nvSpPr>
          <p:spPr>
            <a:xfrm>
              <a:off x="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be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5597640" y="5897520"/>
              <a:ext cx="1256760" cy="827280"/>
              <a:chOff x="5597640" y="5897520"/>
              <a:chExt cx="1256760" cy="827280"/>
            </a:xfrm>
          </p:grpSpPr>
          <p:sp>
            <p:nvSpPr>
              <p:cNvPr id="3" name=""/>
              <p:cNvSpPr/>
              <p:nvPr/>
            </p:nvSpPr>
            <p:spPr>
              <a:xfrm>
                <a:off x="5849640" y="6048360"/>
                <a:ext cx="844200" cy="51912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913360" y="6095880"/>
                <a:ext cx="717120" cy="4366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002280" y="6146640"/>
                <a:ext cx="545760" cy="3286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65640" y="6184800"/>
                <a:ext cx="415440" cy="25236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119640" y="6226200"/>
                <a:ext cx="304560" cy="16992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67360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86404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59764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638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40692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205320" y="6267600"/>
                <a:ext cx="132840" cy="838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2816280" y="5764320"/>
              <a:ext cx="2581200" cy="1084320"/>
              <a:chOff x="2816280" y="5764320"/>
              <a:chExt cx="2581200" cy="1084320"/>
            </a:xfrm>
          </p:grpSpPr>
          <p:sp>
            <p:nvSpPr>
              <p:cNvPr id="15" name=""/>
              <p:cNvSpPr/>
              <p:nvPr/>
            </p:nvSpPr>
            <p:spPr>
              <a:xfrm>
                <a:off x="3597120" y="6245280"/>
                <a:ext cx="1013040" cy="59832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670200" y="6283440"/>
                <a:ext cx="862200" cy="52704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713040" y="6316560"/>
                <a:ext cx="795240" cy="47484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55880" y="6345360"/>
                <a:ext cx="704880" cy="40932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82880" y="6357960"/>
                <a:ext cx="655560" cy="3808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865320" y="6391440"/>
                <a:ext cx="486000" cy="30456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927240" y="6438960"/>
                <a:ext cx="360360" cy="21420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032360" y="6504120"/>
                <a:ext cx="142560" cy="9504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0040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39732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0192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73868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27960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6064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68144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67668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24196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81628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6550200" y="5334120"/>
              <a:ext cx="2144160" cy="1303200"/>
              <a:chOff x="6550200" y="5334120"/>
              <a:chExt cx="2144160" cy="1303200"/>
            </a:xfrm>
          </p:grpSpPr>
          <p:sp>
            <p:nvSpPr>
              <p:cNvPr id="34" name=""/>
              <p:cNvSpPr/>
              <p:nvPr/>
            </p:nvSpPr>
            <p:spPr>
              <a:xfrm>
                <a:off x="6664320" y="5400720"/>
                <a:ext cx="190620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6550200" y="534348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03920" y="533412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324640" y="636120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148520" y="646596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467560" y="580068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031240" y="575316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53120" y="5638680"/>
                <a:ext cx="113796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900840" y="557208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242120" y="5543640"/>
                <a:ext cx="57924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081920" y="5648400"/>
                <a:ext cx="10440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213680" y="5727600"/>
                <a:ext cx="821880" cy="50652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64440" y="5762520"/>
                <a:ext cx="707400" cy="43020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315200" y="5794200"/>
                <a:ext cx="612360" cy="3700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85040" y="5838840"/>
                <a:ext cx="472680" cy="28080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442280" y="5870520"/>
                <a:ext cx="352080" cy="2206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518240" y="5918040"/>
                <a:ext cx="199800" cy="1288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8379000" y="4800600"/>
              <a:ext cx="674640" cy="409680"/>
              <a:chOff x="8379000" y="4800600"/>
              <a:chExt cx="674640" cy="409680"/>
            </a:xfrm>
          </p:grpSpPr>
          <p:sp>
            <p:nvSpPr>
              <p:cNvPr id="52" name=""/>
              <p:cNvSpPr/>
              <p:nvPr/>
            </p:nvSpPr>
            <p:spPr>
              <a:xfrm>
                <a:off x="837900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3480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95860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52984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41716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71092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48232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8539560" y="4897440"/>
                <a:ext cx="360360" cy="209520"/>
                <a:chOff x="8539560" y="4897440"/>
                <a:chExt cx="360360" cy="209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539560" y="4897440"/>
                  <a:ext cx="360360" cy="209520"/>
                </a:xfrm>
                <a:prstGeom prst="ellipse">
                  <a:avLst/>
                </a:prstGeom>
                <a:solidFill>
                  <a:srgbClr val="f3f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574480" y="4919760"/>
                  <a:ext cx="288720" cy="162000"/>
                </a:xfrm>
                <a:prstGeom prst="ellipse">
                  <a:avLst/>
                </a:prstGeom>
                <a:solidFill>
                  <a:srgbClr val="f3f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618760" y="4935600"/>
                  <a:ext cx="198360" cy="129960"/>
                </a:xfrm>
                <a:prstGeom prst="ellipse">
                  <a:avLst/>
                </a:prstGeom>
                <a:solidFill>
                  <a:srgbClr val="f3f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61600" y="4960800"/>
                  <a:ext cx="115920" cy="74880"/>
                </a:xfrm>
                <a:prstGeom prst="ellipse">
                  <a:avLst/>
                </a:prstGeom>
                <a:solidFill>
                  <a:srgbClr val="f3f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" name=""/>
          <p:cNvSpPr/>
          <p:nvPr/>
        </p:nvSpPr>
        <p:spPr>
          <a:xfrm>
            <a:off x="482760" y="44136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65080" y="44136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6600" y="86364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76320" y="86364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2240" y="79056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33336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7960" y="11239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1"/>
          </p:nvPr>
        </p:nvSpPr>
        <p:spPr>
          <a:xfrm>
            <a:off x="3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2"/>
          </p:nvPr>
        </p:nvSpPr>
        <p:spPr>
          <a:xfrm>
            <a:off x="3635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800"/>
            <a:ext cx="1654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1AA3-AB25-440E-9994-5C2D3B18D394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4267080"/>
            <a:ext cx="9140760" cy="2590920"/>
            <a:chOff x="0" y="4267080"/>
            <a:chExt cx="9140760" cy="2590920"/>
          </a:xfrm>
        </p:grpSpPr>
        <p:sp>
          <p:nvSpPr>
            <p:cNvPr id="114" name=""/>
            <p:cNvSpPr/>
            <p:nvPr/>
          </p:nvSpPr>
          <p:spPr>
            <a:xfrm>
              <a:off x="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be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597640" y="5897520"/>
              <a:ext cx="1256760" cy="827280"/>
              <a:chOff x="5597640" y="5897520"/>
              <a:chExt cx="1256760" cy="827280"/>
            </a:xfrm>
          </p:grpSpPr>
          <p:sp>
            <p:nvSpPr>
              <p:cNvPr id="116" name=""/>
              <p:cNvSpPr/>
              <p:nvPr/>
            </p:nvSpPr>
            <p:spPr>
              <a:xfrm>
                <a:off x="5849640" y="6048360"/>
                <a:ext cx="844200" cy="51912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913360" y="6095880"/>
                <a:ext cx="717120" cy="4366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002280" y="6146640"/>
                <a:ext cx="545760" cy="3286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065640" y="6184800"/>
                <a:ext cx="415440" cy="25236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119640" y="6226200"/>
                <a:ext cx="304560" cy="16992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67360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86404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9764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6638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40692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05320" y="6267600"/>
                <a:ext cx="132840" cy="838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816280" y="5764320"/>
              <a:ext cx="2581200" cy="1084320"/>
              <a:chOff x="2816280" y="5764320"/>
              <a:chExt cx="2581200" cy="1084320"/>
            </a:xfrm>
          </p:grpSpPr>
          <p:sp>
            <p:nvSpPr>
              <p:cNvPr id="128" name=""/>
              <p:cNvSpPr/>
              <p:nvPr/>
            </p:nvSpPr>
            <p:spPr>
              <a:xfrm>
                <a:off x="3597120" y="6245280"/>
                <a:ext cx="1013040" cy="59832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70200" y="6283440"/>
                <a:ext cx="862200" cy="52704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713040" y="6316560"/>
                <a:ext cx="795240" cy="47484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55880" y="6345360"/>
                <a:ext cx="704880" cy="40932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782880" y="6357960"/>
                <a:ext cx="655560" cy="3808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865320" y="6391440"/>
                <a:ext cx="486000" cy="30456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27240" y="6438960"/>
                <a:ext cx="360360" cy="21420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32360" y="6504120"/>
                <a:ext cx="142560" cy="9504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040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9732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0192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3868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7960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96064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8144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7668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24196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1628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550200" y="5334120"/>
              <a:ext cx="2144160" cy="1303200"/>
              <a:chOff x="6550200" y="5334120"/>
              <a:chExt cx="2144160" cy="1303200"/>
            </a:xfrm>
          </p:grpSpPr>
          <p:sp>
            <p:nvSpPr>
              <p:cNvPr id="147" name=""/>
              <p:cNvSpPr/>
              <p:nvPr/>
            </p:nvSpPr>
            <p:spPr>
              <a:xfrm>
                <a:off x="6664320" y="5400720"/>
                <a:ext cx="190620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50200" y="534348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03920" y="533412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324640" y="636120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48520" y="646596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467560" y="580068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31240" y="575316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053120" y="5638680"/>
                <a:ext cx="113796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900840" y="557208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242120" y="5543640"/>
                <a:ext cx="57924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1920" y="5648400"/>
                <a:ext cx="10440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213680" y="5727600"/>
                <a:ext cx="821880" cy="50652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264440" y="5762520"/>
                <a:ext cx="707400" cy="43020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315200" y="5794200"/>
                <a:ext cx="612360" cy="3700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385040" y="5838840"/>
                <a:ext cx="472680" cy="28080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442280" y="5870520"/>
                <a:ext cx="352080" cy="2206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518240" y="5918040"/>
                <a:ext cx="199800" cy="1288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8379000" y="4800600"/>
              <a:ext cx="674640" cy="409680"/>
              <a:chOff x="8379000" y="4800600"/>
              <a:chExt cx="674640" cy="409680"/>
            </a:xfrm>
          </p:grpSpPr>
          <p:sp>
            <p:nvSpPr>
              <p:cNvPr id="165" name=""/>
              <p:cNvSpPr/>
              <p:nvPr/>
            </p:nvSpPr>
            <p:spPr>
              <a:xfrm>
                <a:off x="837900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3480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95860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52984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41716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71092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48232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8539560" y="4897440"/>
                <a:ext cx="360360" cy="209520"/>
                <a:chOff x="8539560" y="4897440"/>
                <a:chExt cx="360360" cy="2095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8539560" y="4897440"/>
                  <a:ext cx="360360" cy="209520"/>
                </a:xfrm>
                <a:prstGeom prst="ellipse">
                  <a:avLst/>
                </a:prstGeom>
                <a:solidFill>
                  <a:srgbClr val="f3f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574480" y="4919760"/>
                  <a:ext cx="288720" cy="162000"/>
                </a:xfrm>
                <a:prstGeom prst="ellipse">
                  <a:avLst/>
                </a:prstGeom>
                <a:solidFill>
                  <a:srgbClr val="f3f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618760" y="4935600"/>
                  <a:ext cx="198360" cy="129960"/>
                </a:xfrm>
                <a:prstGeom prst="ellipse">
                  <a:avLst/>
                </a:prstGeom>
                <a:solidFill>
                  <a:srgbClr val="f3f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661600" y="4960800"/>
                  <a:ext cx="115920" cy="74880"/>
                </a:xfrm>
                <a:prstGeom prst="ellipse">
                  <a:avLst/>
                </a:prstGeom>
                <a:solidFill>
                  <a:srgbClr val="f3f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7" name=""/>
          <p:cNvGrpSpPr/>
          <p:nvPr/>
        </p:nvGrpSpPr>
        <p:grpSpPr>
          <a:xfrm>
            <a:off x="135000" y="1844640"/>
            <a:ext cx="9009000" cy="1052640"/>
            <a:chOff x="135000" y="1844640"/>
            <a:chExt cx="9009000" cy="1052640"/>
          </a:xfrm>
        </p:grpSpPr>
        <p:grpSp>
          <p:nvGrpSpPr>
            <p:cNvPr id="178" name=""/>
            <p:cNvGrpSpPr/>
            <p:nvPr/>
          </p:nvGrpSpPr>
          <p:grpSpPr>
            <a:xfrm>
              <a:off x="425520" y="1952640"/>
              <a:ext cx="711360" cy="474840"/>
              <a:chOff x="425520" y="1952640"/>
              <a:chExt cx="711360" cy="474840"/>
            </a:xfrm>
          </p:grpSpPr>
          <p:sp>
            <p:nvSpPr>
              <p:cNvPr id="179" name=""/>
              <p:cNvSpPr/>
              <p:nvPr/>
            </p:nvSpPr>
            <p:spPr>
              <a:xfrm>
                <a:off x="425520" y="1952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08560" y="1952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549360" y="2374920"/>
              <a:ext cx="737640" cy="474840"/>
              <a:chOff x="549360" y="2374920"/>
              <a:chExt cx="737640" cy="474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49360" y="2374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918000" y="2374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35000" y="2301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0040" y="1844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51080" y="2666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95EF-3269-42EF-BE0B-B49B3EF4F331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duanet.gob.pe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duanet.gob.pe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roinversion.gob.pe/" TargetMode="External"/><Relationship Id="rId2" Type="http://schemas.openxmlformats.org/officeDocument/2006/relationships/hyperlink" Target="http://www.proinversion.gob.p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6920" y="1268280"/>
            <a:ext cx="7705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Cómo negociar con Jap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932000" y="2924280"/>
            <a:ext cx="3816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Tahoma"/>
              </a:rPr>
              <a:t>Dr. Carlos Aquino Rodrígue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3789360"/>
            <a:ext cx="763272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Especialista en Economía Asiática. Maestría y Doctorado por la Universidad de Kobe, Jap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Profesor en la UNMSM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, e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n la PUCP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 y en la UPRP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Traductor Publico Juramentado del idioma japoné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Profesor Visitante de Universidades Japone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 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Autor del libro “Relaciones Peru-Japon” y "Introducción a la Economía Asiática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3ffff"/>
              </a:buClr>
              <a:buSzPct val="70000"/>
              <a:buFont typeface="Monotype Sorts" charset="2"/>
              <a:buChar char="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i="1" lang="es-ES_tradnl" sz="1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30 </a:t>
            </a:r>
            <a:r>
              <a:rPr b="0" i="1" lang="es-ES_tradnl" sz="1200" spc="-1" strike="noStrike">
                <a:solidFill>
                  <a:srgbClr val="800000"/>
                </a:solidFill>
                <a:latin typeface="Tahoma"/>
              </a:rPr>
              <a:t> de noviembre</a:t>
            </a:r>
            <a:r>
              <a:rPr b="0" i="1" lang="es-ES_tradnl" sz="1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 </a:t>
            </a:r>
            <a:r>
              <a:rPr b="0" i="1" lang="es-ES_tradnl" sz="1200" spc="-1" strike="noStrike">
                <a:solidFill>
                  <a:srgbClr val="800000"/>
                </a:solidFill>
                <a:latin typeface="Tahoma"/>
              </a:rPr>
              <a:t>del 200</a:t>
            </a:r>
            <a:r>
              <a:rPr b="0" i="1" lang="es-ES_tradnl" sz="1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00000" y="5877000"/>
            <a:ext cx="6108840" cy="546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3164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II. Importancia del Mercado Japoné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apón demanda de todo, desde materias primas para sus industrias, hasta alimentos, y productos manufacturados. Además este país puede proveer maquinaria y tecnología necesaria para nuestra industria y economía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l Perú debe exportarle además de materias primas, alimentos y otros productos para sus adinerados consumi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apón es la segunda economía mas grande del mundo, 127.7 millones de consumidores con un PBI per cápita anual de mas de 36,000 dóla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V. Como hacer negocios con Japón (1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iene consumidores con un poder de compra similar (país donde la mayoría de la población es de clase media), homogéneo en términos de una sola raza, idioma, cult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apón cada vez importa mas productos, en 1985 compro por un valor de 167,000 millones de dólares, en el 2004 fueron 455,000 millones de dólares (cada vez mas alimentos y productos manufacturados). Si embargo en ese mismo lapso el Perú casi no aumento sus ventas a ese país.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s japoneses viajan mas al extranjero, y por otro lado cada vez hay mas extranjeros en Japón (sobre todo de Latinoamérica).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V. Como hacer negocios con Japón (2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l mercado japonés es un poco difícil de ingresar pues sus consumidores son muy exigentes, sus gustos y modas a veces cambian rápidamente, y no son siempre los mismos que el de los países occidentales (ejemplo: moda en la ropa, sabor en los alimentos y bebid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ara esto se requiere investigar el gusto de los consumidores japoneses (y otras características de estos consumidores, como las físicas por ejempl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emás tiene regulaciones muy estrictas en cuanto a la importación de productos alimenticios (ejemplo: restricciones fitosanitari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 Japón hay mucha demanda últimamente por los productos saludables, ecológicos, orgán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apón esta interesado en comprar productos extranjeros. Se puede usar los servicios de JETRO (Organización Oficial del Japón para el Comercio Exterio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 puede acceder a esa información también a través de la pagina Web de esta oficina comerc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 requiere mayor información sobre los mercados en Japón, de su demanda, y de su oferta expor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na forma relativamente fácil de empezar a conocer el mercado japonés es la participación en ferias internacional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ay que asociarse entre productores para preparar la oferta exportable considerable que demanda el mercado japoné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V. Como hacer negocios con Japón (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V. Como hacer negocios con Japón (4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s japoneses se toman tiempo para cerrar un trato, porque su sistema de decisión en sus empresas exige esto y además porque quieren conocer mejor a su contraparte (necesidad de establecer una confianza mutu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si siempre en la contraparte japonesa los de mayor edad son los que tienen una mayor posición en la empres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 Japón son muy exigentes en cuanto al cumplimiento de los contratos relativo al periodo de entrega y la calidad del producto y por su puesto la puntualidad es indispensable en las citas de negoc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na forma de conocer y entrar rápido al mercado japonés es asociarse con intermediarios o con la misma empresa que demanda el produ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V. Como hacer negocios con Japón (5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ay que preparar tarjetas de presentación, si es posible en el idioma del país en que se negoci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abrá necesidad de empezar a conocer el idioma de esos países, y de su cultura, para entender como negociar con ellos. Hay que saber que le gusta mas a los hombres de negocios (karaoke, bebidas, golf, etc.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emás, los negocios no es solo el comercio, comprar o vender, sino también el atraer inversión (y probablemente invertir también allá), atraer turistas, etc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a comunidad japonesa que tenemos, que empezó a llegar hace 106 años, puede ser un nexo. Es la segunda mayor en Latinoaméric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66560" y="259920"/>
            <a:ext cx="777708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INTRODUCCIÓN A LA ECONOMÍA ASIÁTICA</a:t>
            </a:r>
            <a:br>
              <a:rPr sz="1800"/>
            </a:br>
            <a:r>
              <a:rPr b="0" lang="es-ES_tradnl" sz="1900" spc="-1" strike="noStrike">
                <a:solidFill>
                  <a:srgbClr val="333399"/>
                </a:solidFill>
                <a:latin typeface="Tahoma"/>
              </a:rPr>
              <a:t>El Desarrollo Económico del Asia Oriental y Lecciones para el Perú</a:t>
            </a:r>
            <a:endParaRPr b="0" lang="en-US" sz="1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71640" y="2349000"/>
            <a:ext cx="3024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800000"/>
                </a:solidFill>
                <a:latin typeface="Verdana"/>
              </a:rPr>
              <a:t>Autor: Carlos Aquin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Verdana"/>
              </a:rPr>
              <a:t>Universidad Nacional Mayor de San Marc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Verdana"/>
              </a:rPr>
              <a:t>Facultad de Ciencias Económic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Verdana"/>
              </a:rPr>
              <a:t>Primera Edición: Febrero del 200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Verdana"/>
              </a:rPr>
              <a:t>Formato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Verdana"/>
              </a:rPr>
              <a:t>298 pági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Verdana"/>
              </a:rPr>
              <a:t>23 cm. X 16.5 c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284796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6920" y="1268280"/>
            <a:ext cx="7705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Cómo negociar con Jap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32000" y="2924280"/>
            <a:ext cx="3816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Tahoma"/>
              </a:rPr>
              <a:t>Dr. Carlos Aquino Rodrígue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3789360"/>
            <a:ext cx="763272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Especialista en Economía Asiática. Maestría y Doctorado por la Universidad de Kobe, Jap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Profesor en la UNMSM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, e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n la PUCP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 y en la UPRP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Traductor Publico Juramentado del idioma japoné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Profesor Visitante de Universidades Japone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 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Autor del libro “Relaciones Peru-Japon” y "Introducción a la Economía Asiática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3ffff"/>
              </a:buClr>
              <a:buSzPct val="70000"/>
              <a:buFont typeface="Monotype Sorts" charset="2"/>
              <a:buChar char="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i="1" lang="es-ES_tradnl" sz="1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30 </a:t>
            </a:r>
            <a:r>
              <a:rPr b="0" i="1" lang="es-ES_tradnl" sz="1200" spc="-1" strike="noStrike">
                <a:solidFill>
                  <a:srgbClr val="800000"/>
                </a:solidFill>
                <a:latin typeface="Tahoma"/>
              </a:rPr>
              <a:t> de noviembre</a:t>
            </a:r>
            <a:r>
              <a:rPr b="0" i="1" lang="es-ES_tradnl" sz="1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 </a:t>
            </a:r>
            <a:r>
              <a:rPr b="0" i="1" lang="es-ES_tradnl" sz="1200" spc="-1" strike="noStrike">
                <a:solidFill>
                  <a:srgbClr val="800000"/>
                </a:solidFill>
                <a:latin typeface="Tahoma"/>
              </a:rPr>
              <a:t>del 200</a:t>
            </a:r>
            <a:r>
              <a:rPr b="0" i="1" lang="es-ES_tradnl" sz="1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00000" y="5877000"/>
            <a:ext cx="6108840" cy="546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Tem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4978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. Importancia de los mercados intern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I. Relaciones económicas del Perú con Jap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II. Importancia del mercado japon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V. Como hacer negocios con Japón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. Importancia de los mercados internacionales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da vez el Perú exporta mas e importa mas. De 1994 al 2004 las exportaciones aumentaron de 4,424 millones (9.4% del Producto Bruto Interno –PBI-) a 12,547 millones de dolares (18.4% del PBI). El monto de las exportaciones se multiplicaron por casi 3 vec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da vez hay mayor inversión extranjera en el país, a fines de 1993 el stock de inversión extranjera acumulada era de 1,636 millones de dólares (3.6% del PBI), a fines del 2,004 fue de 12,895 millones (18.9% de PBI). El monto de las inversiones se multiplicaron por casi 8 veces en 10 añ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do esto indica que el Perú depende mas del mercado externo para su desarrollo económico. Y debe ser así, pues el mercado interno es pequeño y no tenemos el suficiente capital ni tecnología y necesitamos por lo tanto el mercado externo y el capital externo.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613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I. Relaciones económicas del Perú con Japón (1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 los últimos años la importancia de Asia en el mundo se ha incrementado, para el Perú tambié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 la década del 1990 el Perú empezó una política mas activa de acercamiento con Asia, de establecer Embajadas en esos países, de incorporarse al foro de Cooperación Económica Asia-Pacifico (APEC) y ha logrado ya firmar un Tratado de Libre Comercio (TLC) con Tailandia y negocia otro con Singap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l gobierno ha dado medidas para acercar el Perú a Asia, falta una participación mas activa del sector privado y académ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I. Relaciones económicas del Perú con Japón (2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l comercio con los países del APEC se ha incrementado, con los países asiáticos también (excepto con Japón), aunque su importancia relativa ha decaí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a inversión desde esos países ha disminuido en forma relativa tambié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ntro de los países asiáticos Japón ha perdido importancia para el Perú, China la ha incrementad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un así, seguimos mayormente exportando materias primas a la región asiática, mientras otros países, como Chile, han incrementado sus ventas, mayormente de nuevos produ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Cuadro </a:t>
            </a:r>
            <a:r>
              <a:rPr b="1" lang="es-ES_tradnl" sz="14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1</a:t>
            </a:r>
            <a:br>
              <a:rPr sz="1400"/>
            </a:br>
            <a:r>
              <a:rPr b="1" lang="es-ES_tradnl" sz="1400" spc="-1" strike="noStrike" u="sng">
                <a:solidFill>
                  <a:srgbClr val="333399"/>
                </a:solidFill>
                <a:uFillTx/>
                <a:latin typeface="Tahoma"/>
              </a:rPr>
              <a:t>Comercio Exterior del Perú con 8 países asiáticos más grandes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(En millones de dólares)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Exportaciones (FOB)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84360" y="7389720"/>
          <a:ext cx="7772400" cy="387360"/>
        </p:xfrm>
        <a:graphic>
          <a:graphicData uri="http://schemas.openxmlformats.org/drawingml/2006/table"/>
        </a:graphic>
      </p:graphicFrame>
      <p:graphicFrame>
        <p:nvGraphicFramePr>
          <p:cNvPr id="242" name=""/>
          <p:cNvGraphicFramePr/>
          <p:nvPr/>
        </p:nvGraphicFramePr>
        <p:xfrm>
          <a:off x="684360" y="1413000"/>
          <a:ext cx="7993080" cy="4402080"/>
        </p:xfrm>
        <a:graphic>
          <a:graphicData uri="http://schemas.openxmlformats.org/drawingml/2006/table">
            <a:tbl>
              <a:tblPr/>
              <a:tblGrid>
                <a:gridCol w="2425680"/>
                <a:gridCol w="1639800"/>
                <a:gridCol w="1484280"/>
                <a:gridCol w="1220760"/>
                <a:gridCol w="12225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Mund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,344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,741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,939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,370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ustr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6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3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9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orea del S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9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76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1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0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90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76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235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ng K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8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0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Jap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9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73.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91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51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ueva Zel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u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iwá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8.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9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7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9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8 paí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73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308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493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,336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% del Total mundi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6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2340000" y="5876280"/>
            <a:ext cx="33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Fuente: Aduanas del Perú: pagina web: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  <a:ea typeface="MS Mincho"/>
                <a:hlinkClick r:id="rId1"/>
              </a:rPr>
              <a:t>www.aduanet.gob.pe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Cuadro 2</a:t>
            </a:r>
            <a:br>
              <a:rPr sz="1400"/>
            </a:br>
            <a:r>
              <a:rPr b="1" lang="es-ES_tradnl" sz="1400" spc="-1" strike="noStrike" u="sng">
                <a:solidFill>
                  <a:srgbClr val="333399"/>
                </a:solidFill>
                <a:uFillTx/>
                <a:latin typeface="Tahoma"/>
              </a:rPr>
              <a:t>Comercio Exterior del Perú con 8 países asiáticos más grandes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(En millones de dólares)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Importaciones (CIF)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95280" y="8181720"/>
          <a:ext cx="7772400" cy="2816280"/>
        </p:xfrm>
        <a:graphic>
          <a:graphicData uri="http://schemas.openxmlformats.org/drawingml/2006/table"/>
        </a:graphic>
      </p:graphicFrame>
      <p:graphicFrame>
        <p:nvGraphicFramePr>
          <p:cNvPr id="246" name=""/>
          <p:cNvGraphicFramePr/>
          <p:nvPr/>
        </p:nvGraphicFramePr>
        <p:xfrm>
          <a:off x="1042920" y="1557360"/>
          <a:ext cx="7416720" cy="4019400"/>
        </p:xfrm>
        <a:graphic>
          <a:graphicData uri="http://schemas.openxmlformats.org/drawingml/2006/table">
            <a:tbl>
              <a:tblPr/>
              <a:tblGrid>
                <a:gridCol w="2038320"/>
                <a:gridCol w="1416240"/>
                <a:gridCol w="1415880"/>
                <a:gridCol w="1271520"/>
                <a:gridCol w="127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,024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,716.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,428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,111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7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orea del S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9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7.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6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5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6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67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ng K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7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Jap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03.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17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67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58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ueva Zela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5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6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u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6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4.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iw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2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33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1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8 paí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4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028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541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71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% del Total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6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3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6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2843280" y="5934960"/>
            <a:ext cx="33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Fuente: Aduanas del Perú: pagina web: </a:t>
            </a:r>
            <a:r>
              <a:rPr b="0" lang="es-ES" sz="1000" spc="-1" strike="noStrike" u="sng">
                <a:solidFill>
                  <a:srgbClr val="ff0000"/>
                </a:solidFill>
                <a:uFillTx/>
                <a:latin typeface="Times New Roman"/>
                <a:ea typeface="MS Mincho"/>
                <a:hlinkClick r:id="rId1"/>
              </a:rPr>
              <a:t>www.aduanet.gob.pe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22360" y="1841400"/>
            <a:ext cx="7454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826920" y="1916280"/>
          <a:ext cx="7569360" cy="3200400"/>
        </p:xfrm>
        <a:graphic>
          <a:graphicData uri="http://schemas.openxmlformats.org/drawingml/2006/table">
            <a:tbl>
              <a:tblPr/>
              <a:tblGrid>
                <a:gridCol w="387360"/>
                <a:gridCol w="4983120"/>
                <a:gridCol w="1497240"/>
                <a:gridCol w="701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JAP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3333cc"/>
                          </a:solidFill>
                          <a:latin typeface="Tahoma"/>
                          <a:ea typeface="MS Mincho"/>
                        </a:rPr>
                        <a:t>551 992 1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3333cc"/>
                          </a:solidFill>
                          <a:latin typeface="Tahoma"/>
                          <a:ea typeface="MS Mincho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MINERALES DE COBRE Y SUS CONCENTRAD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73 386 9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31,41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HARINA D'PESCADO S/DESGRASAR,IMPROPIO P'LA ALIMENT.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HUMANA,C/CO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14 326 8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20,71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PLATA EN BRUTO SIN ALE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79 263 5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4,36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CATODOS Y SECCIONES DE CATODOS DE COBRE REFINA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32 488 2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5,8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MINERALES DE CINC Y SUS CONCENTRAD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30 531 9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5,5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MINERALES DE ORO Y SUS CONCENTRAD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21 543 3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3,9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MINERALES DE PLATA Y SUS CONCENTRAD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9 483 45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,72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CINC SIN ALEAR, CON UN CONTENIDO DE CINC INFERIOR AL 99,99% EN 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9 083 7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,6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MINERALES DE PLOMO Y SUS CONCENTRAD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7 951 9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,4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MINERALES DE HIERRO Y SUS CONCENTRADOS, SIN AGLOMER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7 910 4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,4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TOTAL 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485 970 5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88,0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RESTO 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66 021 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1,96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Tahoma"/>
              </a:rPr>
              <a:t>Principales productos exportados a Japón, monto en dólares y en %, 2004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Cuadro 3</a:t>
            </a:r>
            <a:br>
              <a:rPr sz="1400"/>
            </a:br>
            <a:r>
              <a:rPr b="1" lang="es-ES_tradnl" sz="1400" spc="-1" strike="noStrike" u="sng">
                <a:solidFill>
                  <a:srgbClr val="333399"/>
                </a:solidFill>
                <a:uFillTx/>
                <a:latin typeface="Tahoma"/>
              </a:rPr>
              <a:t>Inversión Extranjera al Perú desde 8 países asiáticos más grandes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Monto acumulado a diciembre de cada año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(En millones de dólares)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85800" y="7173720"/>
          <a:ext cx="7772400" cy="215640"/>
        </p:xfrm>
        <a:graphic>
          <a:graphicData uri="http://schemas.openxmlformats.org/drawingml/2006/table"/>
        </a:graphic>
      </p:graphicFrame>
      <p:graphicFrame>
        <p:nvGraphicFramePr>
          <p:cNvPr id="253" name=""/>
          <p:cNvGraphicFramePr/>
          <p:nvPr/>
        </p:nvGraphicFramePr>
        <p:xfrm>
          <a:off x="1116000" y="1700280"/>
          <a:ext cx="7416720" cy="4201920"/>
        </p:xfrm>
        <a:graphic>
          <a:graphicData uri="http://schemas.openxmlformats.org/drawingml/2006/table">
            <a:tbl>
              <a:tblPr/>
              <a:tblGrid>
                <a:gridCol w="1701720"/>
                <a:gridCol w="1463760"/>
                <a:gridCol w="1461960"/>
                <a:gridCol w="1460520"/>
                <a:gridCol w="132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641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,28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.464.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.895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8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2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2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orea del S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9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9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ng K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Jap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7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2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2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ueva Zela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u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iw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8 paí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6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75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2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% del Total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1763640" y="6020640"/>
            <a:ext cx="33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Fuente: Proinversion, pagina web: </a:t>
            </a:r>
            <a:r>
              <a:rPr b="0" lang="it-IT" sz="1000" spc="-1" strike="noStrike" u="sng">
                <a:solidFill>
                  <a:srgbClr val="ff0000"/>
                </a:solidFill>
                <a:uFillTx/>
                <a:latin typeface="Times New Roman"/>
                <a:ea typeface="MS Mincho"/>
                <a:hlinkClick r:id="rId1"/>
              </a:rPr>
              <a:t>www.</a:t>
            </a:r>
            <a:r>
              <a:rPr b="0" lang="it-IT" sz="1000" spc="-1" strike="noStrike" u="sng">
                <a:solidFill>
                  <a:srgbClr val="ff0000"/>
                </a:solidFill>
                <a:uFillTx/>
                <a:latin typeface="Times New Roman"/>
                <a:ea typeface="MS Mincho"/>
                <a:hlinkClick r:id="rId2"/>
              </a:rPr>
              <a:t>proinversion.gob.pe/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5T16:29:39Z</dcterms:created>
  <dc:creator>Alberto Aquino Rodríguez</dc:creator>
  <dc:description/>
  <dc:language>en-US</dc:language>
  <cp:lastModifiedBy>Alberto Enrique Aquino Rodríguez</cp:lastModifiedBy>
  <cp:lastPrinted>2000-09-14T15:02:16Z</cp:lastPrinted>
  <dcterms:modified xsi:type="dcterms:W3CDTF">2006-01-09T16:39:05Z</dcterms:modified>
  <cp:revision>196</cp:revision>
  <dc:subject/>
  <dc:title>EL DESARROLLO ECONÓMICO DEL ASIA ORIENTAL Y LECCIONES PARA EL PERÚ</dc:title>
</cp:coreProperties>
</file>