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F79-F304-4CBC-A6F6-5EEFF2D9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DF7-6B0B-475A-8E9D-3C42C173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AC7-0D39-4126-90AF-CC64866F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F27-A89F-4F6B-9034-E0082DC2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ACB1-F4BD-4028-A23C-A3CAD4C7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BB04-64B1-4855-8C31-CAAD869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5A3-2581-4205-AB38-A0BE4591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8973-34F5-4B25-97F0-502DFB74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DE0C-CF76-4293-A622-DFB8DF02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16000" y="54900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6248-118D-463C-9F10-BE4382A4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4C6C-405F-47E2-9005-369AFBF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8E0-22F5-4585-9E11-149E7257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F77A-4FAC-4B7B-BFCA-E0BCBAC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163-07D8-4529-A960-227EC240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AF74-2101-4B08-B913-5E96385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F83-C8DF-4DBB-9F2B-EC5A2616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875C-3BFA-4A2E-8D79-824E3BB9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645-0575-47B8-AF09-AC4E99F2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F4D-1F2E-4B2E-A776-CA42A8E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BA0-BC16-4B4F-B974-950D7A8F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16000" y="54900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3F0-D72D-4742-99EF-0FEFC9A3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F23-9B56-4793-A7D6-2653530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07D-2DB5-4DAC-8D92-8B0C0CA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AE0-E2A8-46A1-9A76-4214F8B2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67080"/>
            <a:ext cx="9140760" cy="2590920"/>
            <a:chOff x="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be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597640" y="5897520"/>
              <a:ext cx="1256760" cy="827280"/>
              <a:chOff x="5597640" y="5897520"/>
              <a:chExt cx="1256760" cy="827280"/>
            </a:xfrm>
          </p:grpSpPr>
          <p:sp>
            <p:nvSpPr>
              <p:cNvPr id="3" name=""/>
              <p:cNvSpPr/>
              <p:nvPr/>
            </p:nvSpPr>
            <p:spPr>
              <a:xfrm>
                <a:off x="5849640" y="6048360"/>
                <a:ext cx="844200" cy="5191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913360" y="6095880"/>
                <a:ext cx="717120" cy="436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002280" y="6146640"/>
                <a:ext cx="545760" cy="328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65640" y="6184800"/>
                <a:ext cx="415440" cy="2523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119640" y="6226200"/>
                <a:ext cx="304560" cy="1699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736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86404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5976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638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40692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205320" y="6267600"/>
                <a:ext cx="132840" cy="83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2816280" y="5764320"/>
              <a:ext cx="2581200" cy="1084320"/>
              <a:chOff x="2816280" y="5764320"/>
              <a:chExt cx="2581200" cy="1084320"/>
            </a:xfrm>
          </p:grpSpPr>
          <p:sp>
            <p:nvSpPr>
              <p:cNvPr id="15" name=""/>
              <p:cNvSpPr/>
              <p:nvPr/>
            </p:nvSpPr>
            <p:spPr>
              <a:xfrm>
                <a:off x="3597120" y="6245280"/>
                <a:ext cx="1013040" cy="598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670200" y="6283440"/>
                <a:ext cx="862200" cy="527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713040" y="6316560"/>
                <a:ext cx="795240" cy="4748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55880" y="6345360"/>
                <a:ext cx="704880" cy="409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82880" y="6357960"/>
                <a:ext cx="655560" cy="380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865320" y="6391440"/>
                <a:ext cx="486000" cy="3045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927240" y="6438960"/>
                <a:ext cx="360360" cy="214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32360" y="6504120"/>
                <a:ext cx="142560" cy="95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040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39732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192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3868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7960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064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144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668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196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628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50200" y="5334120"/>
              <a:ext cx="2144160" cy="1303200"/>
              <a:chOff x="6550200" y="5334120"/>
              <a:chExt cx="2144160" cy="1303200"/>
            </a:xfrm>
          </p:grpSpPr>
          <p:sp>
            <p:nvSpPr>
              <p:cNvPr id="34" name=""/>
              <p:cNvSpPr/>
              <p:nvPr/>
            </p:nvSpPr>
            <p:spPr>
              <a:xfrm>
                <a:off x="666432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55020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0392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32464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14852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46756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03124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5312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90084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24212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192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213680" y="5727600"/>
                <a:ext cx="821880" cy="5065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64440" y="5762520"/>
                <a:ext cx="707400" cy="430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315200" y="5794200"/>
                <a:ext cx="612360" cy="3700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85040" y="5838840"/>
                <a:ext cx="472680" cy="2808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442280" y="5870520"/>
                <a:ext cx="352080" cy="220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518240" y="5918040"/>
                <a:ext cx="199800" cy="128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379000" y="4800600"/>
              <a:ext cx="674640" cy="409680"/>
              <a:chOff x="8379000" y="4800600"/>
              <a:chExt cx="674640" cy="409680"/>
            </a:xfrm>
          </p:grpSpPr>
          <p:sp>
            <p:nvSpPr>
              <p:cNvPr id="52" name=""/>
              <p:cNvSpPr/>
              <p:nvPr/>
            </p:nvSpPr>
            <p:spPr>
              <a:xfrm>
                <a:off x="837900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3480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95860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52984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41716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1092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48232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8539560" y="4897440"/>
                <a:ext cx="360360" cy="209520"/>
                <a:chOff x="853956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39560" y="4897440"/>
                  <a:ext cx="360360" cy="20952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4480" y="4919760"/>
                  <a:ext cx="288720" cy="16200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18760" y="4935600"/>
                  <a:ext cx="198360" cy="12996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1600" y="4960800"/>
                  <a:ext cx="115920" cy="7488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"/>
          <p:cNvSpPr/>
          <p:nvPr/>
        </p:nvSpPr>
        <p:spPr>
          <a:xfrm>
            <a:off x="482760" y="441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5080" y="44136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863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6320" y="863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240" y="79056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333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60" y="11239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1"/>
          </p:nvPr>
        </p:nvSpPr>
        <p:spPr>
          <a:xfrm>
            <a:off x="3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2"/>
          </p:nvPr>
        </p:nvSpPr>
        <p:spPr>
          <a:xfrm>
            <a:off x="3635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654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457-F8F8-43F7-849E-EBAAF8159834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4267080"/>
            <a:ext cx="9140760" cy="2590920"/>
            <a:chOff x="0" y="4267080"/>
            <a:chExt cx="9140760" cy="2590920"/>
          </a:xfrm>
        </p:grpSpPr>
        <p:sp>
          <p:nvSpPr>
            <p:cNvPr id="114" name=""/>
            <p:cNvSpPr/>
            <p:nvPr/>
          </p:nvSpPr>
          <p:spPr>
            <a:xfrm>
              <a:off x="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be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597640" y="5897520"/>
              <a:ext cx="1256760" cy="827280"/>
              <a:chOff x="5597640" y="5897520"/>
              <a:chExt cx="1256760" cy="827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849640" y="6048360"/>
                <a:ext cx="844200" cy="5191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13360" y="6095880"/>
                <a:ext cx="717120" cy="436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002280" y="6146640"/>
                <a:ext cx="545760" cy="328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65640" y="6184800"/>
                <a:ext cx="415440" cy="2523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9640" y="6226200"/>
                <a:ext cx="304560" cy="1699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736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6404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976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66388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0692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05320" y="6267600"/>
                <a:ext cx="132840" cy="83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816280" y="5764320"/>
              <a:ext cx="2581200" cy="1084320"/>
              <a:chOff x="2816280" y="5764320"/>
              <a:chExt cx="2581200" cy="1084320"/>
            </a:xfrm>
          </p:grpSpPr>
          <p:sp>
            <p:nvSpPr>
              <p:cNvPr id="128" name=""/>
              <p:cNvSpPr/>
              <p:nvPr/>
            </p:nvSpPr>
            <p:spPr>
              <a:xfrm>
                <a:off x="3597120" y="6245280"/>
                <a:ext cx="1013040" cy="598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0200" y="6283440"/>
                <a:ext cx="862200" cy="527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713040" y="6316560"/>
                <a:ext cx="795240" cy="4748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55880" y="6345360"/>
                <a:ext cx="704880" cy="4093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82880" y="6357960"/>
                <a:ext cx="655560" cy="380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65320" y="6391440"/>
                <a:ext cx="486000" cy="30456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7240" y="6438960"/>
                <a:ext cx="360360" cy="214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32360" y="6504120"/>
                <a:ext cx="142560" cy="9504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040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9732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0192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3868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7960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6064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144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7668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4196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628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50200" y="5334120"/>
              <a:ext cx="2144160" cy="1303200"/>
              <a:chOff x="6550200" y="5334120"/>
              <a:chExt cx="2144160" cy="1303200"/>
            </a:xfrm>
          </p:grpSpPr>
          <p:sp>
            <p:nvSpPr>
              <p:cNvPr id="147" name=""/>
              <p:cNvSpPr/>
              <p:nvPr/>
            </p:nvSpPr>
            <p:spPr>
              <a:xfrm>
                <a:off x="666432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0392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2464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4852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6756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3124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05312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0084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4212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192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13680" y="5727600"/>
                <a:ext cx="821880" cy="50652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264440" y="5762520"/>
                <a:ext cx="707400" cy="4302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15200" y="5794200"/>
                <a:ext cx="612360" cy="3700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85040" y="5838840"/>
                <a:ext cx="472680" cy="28080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42280" y="5870520"/>
                <a:ext cx="352080" cy="2206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518240" y="5918040"/>
                <a:ext cx="199800" cy="128880"/>
              </a:xfrm>
              <a:prstGeom prst="ellipse">
                <a:avLst/>
              </a:pr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379000" y="4800600"/>
              <a:ext cx="674640" cy="409680"/>
              <a:chOff x="8379000" y="4800600"/>
              <a:chExt cx="674640" cy="409680"/>
            </a:xfrm>
          </p:grpSpPr>
          <p:sp>
            <p:nvSpPr>
              <p:cNvPr id="165" name=""/>
              <p:cNvSpPr/>
              <p:nvPr/>
            </p:nvSpPr>
            <p:spPr>
              <a:xfrm>
                <a:off x="837900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3480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95860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52984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1716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71092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8232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f3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8539560" y="4897440"/>
                <a:ext cx="360360" cy="209520"/>
                <a:chOff x="8539560" y="4897440"/>
                <a:chExt cx="360360" cy="2095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8539560" y="4897440"/>
                  <a:ext cx="360360" cy="20952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574480" y="4919760"/>
                  <a:ext cx="288720" cy="16200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618760" y="4935600"/>
                  <a:ext cx="198360" cy="12996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661600" y="4960800"/>
                  <a:ext cx="115920" cy="74880"/>
                </a:xfrm>
                <a:prstGeom prst="ellipse">
                  <a:avLst/>
                </a:prstGeom>
                <a:solidFill>
                  <a:srgbClr val="f3f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" name=""/>
          <p:cNvGrpSpPr/>
          <p:nvPr/>
        </p:nvGrpSpPr>
        <p:grpSpPr>
          <a:xfrm>
            <a:off x="135000" y="1844640"/>
            <a:ext cx="9009000" cy="1052640"/>
            <a:chOff x="135000" y="1844640"/>
            <a:chExt cx="9009000" cy="1052640"/>
          </a:xfrm>
        </p:grpSpPr>
        <p:grpSp>
          <p:nvGrpSpPr>
            <p:cNvPr id="178" name=""/>
            <p:cNvGrpSpPr/>
            <p:nvPr/>
          </p:nvGrpSpPr>
          <p:grpSpPr>
            <a:xfrm>
              <a:off x="425520" y="1952640"/>
              <a:ext cx="711360" cy="474840"/>
              <a:chOff x="425520" y="1952640"/>
              <a:chExt cx="711360" cy="474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25520" y="1952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8560" y="195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49360" y="2374920"/>
              <a:ext cx="737640" cy="474840"/>
              <a:chOff x="549360" y="2374920"/>
              <a:chExt cx="737640" cy="474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49360" y="2374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18000" y="237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35000" y="230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040" y="1844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51080" y="266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CDBA-85C0-44C2-AFEE-110534F50E8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duanet.gob.pe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duanet.gob.pe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roinversion.gob.pe/" TargetMode="External"/><Relationship Id="rId2" Type="http://schemas.openxmlformats.org/officeDocument/2006/relationships/hyperlink" Target="http://www.proinversion.gob.p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705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ómo negociar con Jap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932000" y="2924280"/>
            <a:ext cx="381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Tahoma"/>
              </a:rPr>
              <a:t>Dr. Carlos Aquino Rodrígu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3789360"/>
            <a:ext cx="7632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Especialista en Economía Asiática. Maestría y Doctorado por la Universidad de Kobe, Jap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en la UNMSM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, e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n la PUC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y en la UPR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Traductor Publico Juramentado del idioma japon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Visitante de Universidades Japone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Autor del libro “Relaciones Peru-Japon” y "Introducción a la Economía Asiática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3ffff"/>
              </a:buClr>
              <a:buSzPct val="70000"/>
              <a:buFont typeface="Monotype Sorts" charset="2"/>
              <a:buChar char="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30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 de noviembre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del 200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6108840" cy="54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164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I. Importancia del Mercado Japoné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demanda de todo, desde materias primas para sus industrias, hasta alimentos, y productos manufacturados. Además este país puede proveer maquinaria y tecnología necesaria para nuestra industria y economía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Perú debe exportarle además de materias primas, alimentos y otros productos para sus adinerad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es la segunda economía mas grande del mundo, 127.7 millones de consumidores con un PBI per cápita anual de mas de 36,000 dóla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iene consumidores con un poder de compra similar (país donde la mayoría de la población es de clase media), homogéneo en términos de una sola raza, idioma, cult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cada vez importa mas productos, en 1985 compro por un valor de 167,000 millones de dólares, en el 2004 fueron 455,000 millones de dólares (cada vez mas alimentos y productos manufacturados). Si embargo en ese mismo lapso el Perú casi no aumento sus ventas a ese país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s japoneses viajan mas al extranjero, y por otro lado cada vez hay mas extranjeros en Japón (sobre todo de Latinoamérica)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mercado japonés es un poco difícil de ingresar pues sus consumidores son muy exigentes, sus gustos y modas a veces cambian rápidamente, y no son siempre los mismos que el de los países occidentales (ejemplo: moda en la ropa, sabor en los alimentos y beb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 esto se requiere investigar el gusto de los consumidores japoneses (y otras características de estos consumidores, como las físicas por ejempl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emás tiene regulaciones muy estrictas en cuanto a la importación de productos alimenticios (ejemplo: restricciones fitosanitari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Japón hay mucha demanda últimamente por los productos saludables, ecológicos, orgán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apón esta interesado en comprar productos extranjeros. Se puede usar los servicios de JETRO (Organización Oficial del Japón para el Comercio Exteri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 puede acceder a esa información también a través de la pagina Web de esta oficina comerc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 requiere mayor información sobre los mercados en Japón, de su demanda, y de su oferta expor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a forma relativamente fácil de empezar a conocer el mercado japonés es la participación en ferias internaciona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y que asociarse entre productores para preparar la oferta exportable considerable que demanda el mercado japon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4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s japoneses se toman tiempo para cerrar un trato, porque su sistema de decisión en sus empresas exige esto y además porque quieren conocer mejor a su contraparte (necesidad de establecer una confianza mutu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si siempre en la contraparte japonesa los de mayor edad son los que tienen una mayor posición en la empres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Japón son muy exigentes en cuanto al cumplimiento de los contratos relativo al periodo de entrega y la calidad del producto y por su puesto la puntualidad es indispensable en las citas de nego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na forma de conocer y entrar rápido al mercado japonés es asociarse con intermediarios o con la misma empresa que demanda 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V. Como hacer negocios con Japón (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y que preparar tarjetas de presentación, si es posible en el idioma del país en que se negoci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rá necesidad de empezar a conocer el idioma de esos países, y de su cultura, para entender como negociar con ellos. Hay que saber que le gusta mas a los hombres de negocios (karaoke, bebidas, golf, etc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emás, los negocios no es solo el comercio, comprar o vender, sino también el atraer inversión (y probablemente invertir también allá), atraer turista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a comunidad japonesa que tenemos, que empezó a llegar hace 106 años, puede ser un nexo. Es la segunda mayor en Latinoamér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66560" y="259920"/>
            <a:ext cx="77770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INTRODUCCIÓN A LA ECONOMÍA ASIÁTICA</a:t>
            </a:r>
            <a:br>
              <a:rPr sz="1800"/>
            </a:br>
            <a:r>
              <a:rPr b="0" lang="es-ES_tradnl" sz="1900" spc="-1" strike="noStrike">
                <a:solidFill>
                  <a:srgbClr val="333399"/>
                </a:solidFill>
                <a:latin typeface="Tahoma"/>
              </a:rPr>
              <a:t>El Desarrollo Económico del Asia Oriental y Lecciones para el Perú</a:t>
            </a:r>
            <a:endParaRPr b="0" lang="en-US" sz="1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302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0000"/>
                </a:solidFill>
                <a:latin typeface="Verdana"/>
              </a:rPr>
              <a:t>Autor: Carlos Aqui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Universidad Nacional Mayor de San Marc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Facultad de Ciencias Económic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Primera Edición: Febrero del 200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Formato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298 págin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Verdana"/>
              </a:rPr>
              <a:t>23 cm. X 16.5 c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1268280"/>
            <a:ext cx="77058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Cómo negociar con Jap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32000" y="2924280"/>
            <a:ext cx="3816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Tahoma"/>
              </a:rPr>
              <a:t>Dr. Carlos Aquino Rodrígu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3789360"/>
            <a:ext cx="763272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6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Especialista en Economía Asiática. Maestría y Doctorado por la Universidad de Kobe, Jap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en la UNMSM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, e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n la PUC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y en la UPRP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Traductor Publico Juramentado del idioma japoné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Profesor Visitante de Universidades Japone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Tahoma"/>
                <a:ea typeface="ＭＳ Ｐゴシック"/>
              </a:rPr>
              <a:t>  </a:t>
            </a:r>
            <a:r>
              <a:rPr b="0" lang="es-ES_tradnl" sz="1200" spc="-1" strike="noStrike">
                <a:solidFill>
                  <a:srgbClr val="000066"/>
                </a:solidFill>
                <a:latin typeface="Tahoma"/>
              </a:rPr>
              <a:t>Autor del libro “Relaciones Peru-Japon” y "Introducción a la Economía Asiática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f3ffff"/>
              </a:buClr>
              <a:buSzPct val="70000"/>
              <a:buFont typeface="Monotype Sorts" charset="2"/>
              <a:buChar char="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30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 de noviembre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 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</a:rPr>
              <a:t>del 200</a:t>
            </a:r>
            <a:r>
              <a:rPr b="0" i="1" lang="es-ES_tradnl" sz="1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00000" y="5877000"/>
            <a:ext cx="6108840" cy="54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Tem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. Importancia de los mercado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I. Relaciones económicas del Perú con Jap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II. Importancia del mercado japon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V. Como hacer negocios con Japón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. Importancia de los mercados internacionale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da vez el Perú exporta mas e importa mas. De 1994 al 2004 las exportaciones aumentaron de 4,424 millones (9.4% del Producto Bruto Interno –PBI-) a 12,547 millones de dolares (18.4% del PBI). El monto de las exportaciones se multiplicaron por casi 3 vec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da vez hay mayor inversión extranjera en el país, a fines de 1993 el stock de inversión extranjera acumulada era de 1,636 millones de dólares (3.6% del PBI), a fines del 2,004 fue de 12,895 millones (18.9% de PBI). El monto de las inversiones se multiplicaron por casi 8 veces en 10 añ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do esto indica que el Perú depende mas del mercado externo para su desarrollo económico. Y debe ser así, pues el mercado interno es pequeño y no tenemos el suficiente capital ni tecnología y necesitamos por lo tanto el mercado externo y el capital externo.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613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. Relaciones económicas del Perú con Japón (1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los últimos años la importancia de Asia en el mundo se ha incrementado, para el Perú tambié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 la década del 1990 el Perú empezó una política mas activa de acercamiento con Asia, de establecer Embajadas en esos países, de incorporarse al foro de Cooperación Económica Asia-Pacifico (APEC) y ha logrado ya firmar un Tratado de Libre Comercio (TLC) con Tailandia y negocia otro con Singapu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gobierno ha dado medidas para acercar el Perú a Asia, falta una participación mas activa del sector privado y acadé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I. Relaciones económicas del Perú con Japón (2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l comercio con los países del APEC se ha incrementado, con los países asiáticos también (excepto con Japón), aunque su importancia relativa ha decaí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a inversión desde esos países ha disminuido en forma relativa tambié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ntro de los países asiáticos Japón ha perdido importancia para el Perú, China la ha incrementa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un así, seguimos mayormente exportando materias primas a la región asiática, mientras otros países, como Chile, han incrementado sus ventas, mayormente de nuev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</a:t>
            </a:r>
            <a:r>
              <a:rPr b="1" lang="es-ES_tradnl" sz="14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1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Comercio Exterior del Perú con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Exportaciones (FOB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4360" y="7389720"/>
          <a:ext cx="7772400" cy="387360"/>
        </p:xfrm>
        <a:graphic>
          <a:graphicData uri="http://schemas.openxmlformats.org/drawingml/2006/table"/>
        </a:graphic>
      </p:graphicFrame>
      <p:graphicFrame>
        <p:nvGraphicFramePr>
          <p:cNvPr id="242" name=""/>
          <p:cNvGraphicFramePr/>
          <p:nvPr/>
        </p:nvGraphicFramePr>
        <p:xfrm>
          <a:off x="684360" y="1413000"/>
          <a:ext cx="7993080" cy="4402080"/>
        </p:xfrm>
        <a:graphic>
          <a:graphicData uri="http://schemas.openxmlformats.org/drawingml/2006/table">
            <a:tbl>
              <a:tblPr/>
              <a:tblGrid>
                <a:gridCol w="2425680"/>
                <a:gridCol w="1639800"/>
                <a:gridCol w="1484280"/>
                <a:gridCol w="1220760"/>
                <a:gridCol w="12225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,344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,74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,939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,37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9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6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76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235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8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9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73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1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51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8.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7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73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308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493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,336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% del Total mundi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2340000" y="5876280"/>
            <a:ext cx="33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Aduanas del Perú: pagina web: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aduanet.gob.pe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2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Comercio Exterior del Perú con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Importaciones (CIF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95280" y="8181720"/>
          <a:ext cx="7772400" cy="2816280"/>
        </p:xfrm>
        <a:graphic>
          <a:graphicData uri="http://schemas.openxmlformats.org/drawingml/2006/table"/>
        </a:graphic>
      </p:graphicFrame>
      <p:graphicFrame>
        <p:nvGraphicFramePr>
          <p:cNvPr id="246" name=""/>
          <p:cNvGraphicFramePr/>
          <p:nvPr/>
        </p:nvGraphicFramePr>
        <p:xfrm>
          <a:off x="1042920" y="1557360"/>
          <a:ext cx="7416720" cy="4019400"/>
        </p:xfrm>
        <a:graphic>
          <a:graphicData uri="http://schemas.openxmlformats.org/drawingml/2006/table">
            <a:tbl>
              <a:tblPr/>
              <a:tblGrid>
                <a:gridCol w="2038320"/>
                <a:gridCol w="1416240"/>
                <a:gridCol w="1415880"/>
                <a:gridCol w="1271520"/>
                <a:gridCol w="127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,024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,716.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,428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,11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9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7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5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6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6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3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7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7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58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5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6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2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3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4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028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541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71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 del 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2843280" y="5934960"/>
            <a:ext cx="33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Aduanas del Perú: pagina web: </a:t>
            </a:r>
            <a:r>
              <a:rPr b="0" lang="es-ES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aduanet.gob.pe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22360" y="1841400"/>
            <a:ext cx="7454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1916280"/>
          <a:ext cx="7569360" cy="3200400"/>
        </p:xfrm>
        <a:graphic>
          <a:graphicData uri="http://schemas.openxmlformats.org/drawingml/2006/table">
            <a:tbl>
              <a:tblPr/>
              <a:tblGrid>
                <a:gridCol w="387360"/>
                <a:gridCol w="4983120"/>
                <a:gridCol w="1497240"/>
                <a:gridCol w="701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JAP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MS Mincho"/>
                        </a:rPr>
                        <a:t>551 992 1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cc"/>
                          </a:solidFill>
                          <a:latin typeface="Tahoma"/>
                          <a:ea typeface="MS Mincho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COBRE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73 386 9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1,4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HARINA D'PESCADO S/DESGRASAR,IMPROPIO P'LA ALIMENT.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HUMANA,C/CO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14 326 8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0,71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PLATA EN BRUTO SIN ALE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9 263 5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4,3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ATODOS Y SECCIONES DE CATODOS DE COBRE REFIN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2 488 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,89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CINC Y SUS CONCENTR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0 531 9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5,5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ORO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21 543 3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3,90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PLATA Y SUS CONCENTRA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 483 4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72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CINC SIN ALEAR, CON UN CONTENIDO DE CINC INFERIOR AL 99,99% EN 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 083 7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65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PLOMO Y SUS CONCENTR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 951 9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4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MINERALES DE HIERRO Y SUS CONCENTRADOS, SIN AGLOMER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7 910 4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,43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TOTAL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485 970 5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88,04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RESTO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66 021 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  <a:ea typeface="MS Mincho"/>
                        </a:rPr>
                        <a:t>11,96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99"/>
                </a:solidFill>
                <a:latin typeface="Tahoma"/>
              </a:rPr>
              <a:t>Principales productos exportados a Japón, monto en dólares y en %, 2004</a:t>
            </a: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50720" y="189000"/>
            <a:ext cx="7397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Cuadro 3</a:t>
            </a:r>
            <a:br>
              <a:rPr sz="1400"/>
            </a:br>
            <a:r>
              <a:rPr b="1" lang="es-ES_tradnl" sz="1400" spc="-1" strike="noStrike" u="sng">
                <a:solidFill>
                  <a:srgbClr val="333399"/>
                </a:solidFill>
                <a:uFillTx/>
                <a:latin typeface="Tahoma"/>
              </a:rPr>
              <a:t>Inversión Extranjera al Perú desde 8 países asiáticos más grandes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Monto acumulado a diciembre de cada año</a:t>
            </a:r>
            <a:br>
              <a:rPr sz="1400"/>
            </a:b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(En millones de dólares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7173720"/>
          <a:ext cx="7772400" cy="215640"/>
        </p:xfrm>
        <a:graphic>
          <a:graphicData uri="http://schemas.openxmlformats.org/drawingml/2006/table"/>
        </a:graphic>
      </p:graphicFrame>
      <p:graphicFrame>
        <p:nvGraphicFramePr>
          <p:cNvPr id="253" name=""/>
          <p:cNvGraphicFramePr/>
          <p:nvPr/>
        </p:nvGraphicFramePr>
        <p:xfrm>
          <a:off x="1116000" y="1700280"/>
          <a:ext cx="7416720" cy="4201920"/>
        </p:xfrm>
        <a:graphic>
          <a:graphicData uri="http://schemas.openxmlformats.org/drawingml/2006/table">
            <a:tbl>
              <a:tblPr/>
              <a:tblGrid>
                <a:gridCol w="1701720"/>
                <a:gridCol w="1463760"/>
                <a:gridCol w="1461960"/>
                <a:gridCol w="1460520"/>
                <a:gridCol w="13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,641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,28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464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.895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ustral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8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orea del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9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ng K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Jap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7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ueva Zel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u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8 paí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6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5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2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% del Total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63640" y="602064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Fuente: Proinversion, pagina web: </a:t>
            </a:r>
            <a:r>
              <a:rPr b="0" lang="it-IT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1"/>
              </a:rPr>
              <a:t>www.</a:t>
            </a:r>
            <a:r>
              <a:rPr b="0" lang="it-IT" sz="1000" spc="-1" strike="noStrike" u="sng">
                <a:solidFill>
                  <a:srgbClr val="ff0000"/>
                </a:solidFill>
                <a:uFillTx/>
                <a:latin typeface="Times New Roman"/>
                <a:ea typeface="MS Mincho"/>
                <a:hlinkClick r:id="rId2"/>
              </a:rPr>
              <a:t>proinversion.gob.pe/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6:29:39Z</dcterms:created>
  <dc:creator>Alberto Aquino Rodríguez</dc:creator>
  <dc:description/>
  <dc:language>en-US</dc:language>
  <cp:lastModifiedBy>Alberto Enrique Aquino Rodríguez</cp:lastModifiedBy>
  <cp:lastPrinted>2000-09-14T15:02:16Z</cp:lastPrinted>
  <dcterms:modified xsi:type="dcterms:W3CDTF">2006-01-09T16:39:05Z</dcterms:modified>
  <cp:revision>196</cp:revision>
  <dc:subject/>
  <dc:title>EL DESARROLLO ECONÓMICO DEL ASIA ORIENTAL Y LECCIONES PARA EL PERÚ</dc:title>
</cp:coreProperties>
</file>