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2D96-F041-4B1C-87E6-104B373DB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27CC-CA35-4460-9633-FF82D233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945D-B48C-4566-BC85-BBBB64B06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06A7-F1BD-49FE-A3A4-5DF51A364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124A-78B1-4728-AA89-4118F9F8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37F9-1942-4E88-964D-9B5E570B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C5A5-395E-4A0D-9C57-46831390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D3F1-CC6B-48DF-9C03-11D56C10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D8B4-A23A-4099-A631-C0736848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70AD-CD41-4B26-9FC8-03F63AA8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DD3A-0ED8-496F-B0E5-EFFC9847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A215-BA58-4DFC-87F3-FC57E400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C837-773D-4FD1-AA47-3B7D070B1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conceptssys.com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kernel.org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to Linux Device Driver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araz Ah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arazs@calsoftinc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ww.conceptssy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Linux Device Drivers VIT 1-OCT-2003 - FR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9214-3D4A-42F7-9346-C0A00C73652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linux/includ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/asm-*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Architecture-dependent include subdirecto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/linu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Header info needed both by the kernel and user app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Usually linked to /usr/include/linu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Kernel-only portions guarded by #ifde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ifdef __KERNEL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* kernel stuff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3657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linux/ini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4191120"/>
            <a:ext cx="82296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two files: version.c, main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version.c – contains the version banner that prints at bo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ain.c – architecture-independent boot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_kernel is the primary entry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Linux Device Drivers VIT 1-OCT-2003 - FR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AE26-1EA7-4651-AC7A-C895AE34263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linux/ipc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V IPC facil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disabled at compile-time, util.c exports stubs that simply return –ENOS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file for each facil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em.c – semaph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hm.c – shared mem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sg.c – message que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Linux Device Drivers VIT 1-OCT-2003 - FR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207D-5D7F-470C-82AF-FD046A408F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linux/kerne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re kernel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.c – “the main kernel file”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eduler, wait queues, timers, alarms, task que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ntr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k.c, exec.c, signal.c, exit.c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module suppo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mod.c, ksyms.c, module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oper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.c, resource.c, dma.c, softirq.c, itimer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k.c, info.c, panic.c, sysctl.c, sys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Linux Device Drivers VIT 1-OCT-2003 - FR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7E05-5154-41FC-811C-8B8941D474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linux/lib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code cannot call standard C library 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lock.c – “Big Reader” spin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line.c – kernel command line parsing 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no.c – global definition of err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late.c – “gunzip” part of gzip.c used during bo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.c – portable string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replaced by optimized, architecturedependent 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printf.c – libc replac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Linux Device Drivers VIT 1-OCT-2003 - FR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2B6D-14E2-4E98-9DE7-E840595F29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linux/m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ing and swapp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swap.c, swapfile.c (paging devices), swap_state.c (cach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vmscan.c – paging policies, kswap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page_io.c – low-level page transf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ion and deallo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slab.c – slab alloca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page_alloc.c – page-based alloca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vmalloc.c – kernel virtual-memory alloca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380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linux/scrip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572000"/>
            <a:ext cx="82296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ipts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enu-based kernel configu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Kernel patch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Generating kernel documen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Linux Device Drivers VIT 1-OCT-2003 - FR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06E2-A140-456C-B41C-AF45692D34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1.3 System Ca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 between user-level processes and hardware devi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, memory, disks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programming easi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kernel take care of hardware-specific iss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system secur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kernel check requested service via sysc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portabil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 interface but change functional implemen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OSIX A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 = Application Programmer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Function defn specifying how to obtain serv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By contrast, a system call is an explicit request to kernel made via a software interru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C library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contains wrapper routines that make system ca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malloc, free are libc routines that use the brk system c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X-compliant = having a standard set of AP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Linux Device Drivers VIT 1-OCT-2003 - FR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7E41-D267-4A0E-A392-3DB97280BA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Linux System Calls (1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oked by execut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 $0x8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Programmed exception vector number 12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CPU switches to kernel mode &amp; executes a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ing process pass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call numb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ing system call 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 (on Intel processor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yscall handler responsible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aving registers on kernel mode st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Invoking syscall service rout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Exiting by call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_from_sys_call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Linux Device Drivers VIT 1-OCT-2003 - FR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73A2-9C9B-4F71-8269-CCFA3B2720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Linux System Calls (2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ystem call dispatch tab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es syscall number with correspo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service rout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d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_call_tab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ray having up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R_syscal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(usually 256 maximu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nth entry contains service routine address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call 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itializing System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_init(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ed during kernel initialization sets up the IDT entry corresponding to vector 12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_system_gate(0x80, &amp;system_cal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stem gate descriptor is placed in the IDT, identifying address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_cal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s the descriptor privilege level (DPL) to 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llows User Mode processes to invoke exception handl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Linux Device Drivers VIT 1-OCT-2003 - FR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6700-6951-4CE2-964C-E0FDE3E447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Assembly hello worl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db "Hello, world!\n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n dw . – 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tex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_sta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$len,%edx    #message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$msg,%ecx    #pointer to message to 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$1,%ebx      #first argument: file handle (stdo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$4,%eax      # system call number (sys_wri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$0x80         # call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$0,%ebx      # first argument: exit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$1,%eax      # system call number (sys_ex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$0x80         # call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Linux Device Drivers VIT 1-OCT-2003 - FR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3D3A-ACE6-41A4-AE95-DD4D2ABB8B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Session 2: Device Drivers.( a.k.a Kernel modul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Linux Device Drivers VIT 1-OCT-2003 - FR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BFFA-81A3-47BF-B491-0607370A08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y write Device Driv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n explanation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f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profit. (Linux is hot now especially embedded Linu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you can and its easy. Although it need initial eff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hy write Linux device driv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L oh come on do you even understand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i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and co-operation of the open source community is avail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ums and chat channels for the complete newbie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ice drivers will always be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Linux Device Drivers VIT 1-OCT-2003 - FR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9211-6D1C-471A-AA92-E5222A108F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 files that dynamically load and linked to kernel’s address 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ful to drivers that need not be loaded all the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distributions pos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s the kernel image sm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not always be associated with a physical dev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File system Drivers, Secure versions of system ca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http server (khttpd), iSCSI , DLM’s, Network protocol driver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st requir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 concepts, Working knowledge of the subsystem , patience , right tools , OS the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are Kernel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Linux Device Drivers VIT 1-OCT-2003 - FR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9AA5-8350-4673-BA09-07623CDCD93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The Kernel Programmer’s Toolk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of kernel head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ugging techniques like serial debugging , vmware , user-mode-linux , objdump , oops understanding , print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ope / lxr / snavgato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king Docu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ling list’s , chat chann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Linux Device Drivers VIT 1-OCT-2003 - FR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EFF0-953B-4490-A3F2-9A31B4DBFC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The Kernel Programming Environm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isation,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Address 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glib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kernel symbol t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proc/ksyms.    versi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head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mod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c -c –D__KERNEL__ DMODULE -I /usr/src -O2 –Wall ./object_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ing a simple hello world mo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 , clean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ty, gritty , detai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Linux Device Drivers VIT 1-OCT-2003 - FR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F984-CDA4-49B5-B39E-1F3474F176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Types of Device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s which do not register, (and probably do some changes to kernel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s.         linux/fs.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ice driver registering. Example File System , Char 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Linux Device Drivers VIT 1-OCT-2003 - FR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37C6-E73D-4231-9804-FE877886B6E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Every Thing is A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hing Out to the device Drivers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he VF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evice special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knod comm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mon file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_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fs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 the read() c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Linux Device Drivers VIT 1-OCT-2003 - FR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F516-B6D8-49B6-A930-7807268E6C5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File System Driver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 the on disk to the in kernel struct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de on the layout of the on disk struct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 the namespace.                         (NF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ode ca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N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file’s know their file-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de on the on disk structures and map them to the Linux Common file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proc/file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Linux Device Drivers VIT 1-OCT-2003 - FR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7C0E-2214-4B50-BE54-95551BA46C3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Block Device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Block level random access to block devices like hard d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ffer ca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system’s  code access these files via bread , bwr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 que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  The Elevator Algorith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Linux Device Drivers VIT 1-OCT-2003 - FR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BD00-A841-4952-B0C7-EFDBFDE40D6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Network Devic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ice or Interfa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&lt;netdevice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etwork interface represents a thing which sends and receives packets. This is normally interface code for a physical device like an ethernet car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col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rotocol is effectively a different language of networking. Within the Linux kernel each protocol is a seperate module of code which provides services to the socket lay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cke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ocket is a connection in the networking that provides unix file I/O and exists to the user program as a file descrip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_buff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he buffers used by the networking layers are sk_buffs. The control for these is provided by core low-level library routines available to the whole of the networking. sk_buffs provide the general buffering and flow control facilities needed by network protocol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Linux Device Drivers VIT 1-OCT-2003 - FR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0560-6982-4803-8BEB-711C5A478F4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har Device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 devices are those for which no buffering is per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ing register_chrdev(major,name,fo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le_ops interf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ged Initial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Maj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registe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ice.c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Linux Device Drivers VIT 1-OCT-2003 - FR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E6BC-3AAE-4165-A96A-C0DE0C99FD6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har Device Drivers.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le operations Interface. And their seman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ruct file_operations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ruct module *own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ff_t (*llseek) (struct file *, loff_t, i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size_t (*read) (struct file *, char *, size_t, loff_t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size_t (*write) (struct file *, const char *, size_t, loff_t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 (*readdir) (struct file *, void *, filldir_t);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signed int (*poll) (struct file *, struct poll_table_struct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 (*ioctl) (struct inode *, struct file *, unsigned int, unsigned lon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 (*mmap) (struct file *, struct vm_area_struct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 (*open) (struct inode *, struct file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 (*flush) (struct file *);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 (*release) (struct inode *, struct file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 (*fsync) (struct file *, struct dentry *, int datasync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 (*fasync) (int, struct file *, i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 (*lock) (struct file *, int, struct file_lock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size_t (*readv) (struct file *, const struct iovec *, unsigned long, loff_t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size_t (*writev) (struct file *, const struct iovec *, unsigned long, loff_t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size_t (*sendpage) (struct file *, struct page *, int, size_t, loff_t *, i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signed long (*get_unmapped_area)(struct file *, unsigned long, unsigned long, unsigned long, unsigned lon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Linux Device Drivers VIT 1-OCT-2003 - FR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1F0E-8A47-44B2-A61A-8FFD4B2F7B3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. Linux Kernel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Description of the ker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organ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ca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. Device Drivers.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hour 30 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and short intro ea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 device driv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3. Writing and Compiling simple character driv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ho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Linux Device Drivers VIT 1-OCT-2003 - FR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BC52-C3DC-4B44-B6D3-72D8114D62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85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ww.conceptsys.com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Thank You</a:t>
            </a:r>
            <a:br>
              <a:rPr sz="4000"/>
            </a:b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references</a:t>
            </a:r>
            <a:br>
              <a:rPr sz="40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Buffers And Memory Management – ALAN COX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Linux kernel Introductions – C. GOUL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ux Device Drivers – RUBINI - COB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Marketing plan generato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0"/>
            <a:ext cx="381024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Linux Device Drivers VIT 1-OCT-2003 - FR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0ECF-8B33-4F3B-8503-5684C60B37C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971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ssion 1: The Linux Kern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Linux Device Drivers VIT 1-OCT-2003 - FR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9628-37C1-453F-8948-A257A9007F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1.1 Linux Kern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523880"/>
            <a:ext cx="4114800" cy="64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perating System Du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Extend the machine. (Abstract Hardw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Provide an environment for User process exec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S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Provide and system call interface. (POSI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Utilize System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,I/O,NW,MEM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Keep user’s free to do productive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Figure 1-1"/>
          <p:cNvPicPr/>
          <p:nvPr/>
        </p:nvPicPr>
        <p:blipFill>
          <a:blip r:embed="rId1"/>
          <a:stretch/>
        </p:blipFill>
        <p:spPr>
          <a:xfrm>
            <a:off x="4038480" y="1676520"/>
            <a:ext cx="4581720" cy="410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Linux Device Drivers VIT 1-OCT-2003 - FR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F503-F21C-4508-BECD-BDE0EE27B6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1.2 Source Code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89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et hold of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Standard distributions select kernel de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kernel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Compiling the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.4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menuconf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bz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modules_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505320" y="1600200"/>
            <a:ext cx="5257800" cy="449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Linux Device Drivers VIT 1-OCT-2003 - FR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3A1D-2BEB-4A61-83D8-B3840A29C8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linux/arch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directories for each current po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contai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ies whose contents override code stubs in architecture independent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highly-optimized common utility routines such as memcpy, checksum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c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of 2.4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pha, arm, i386, ia64, m68k, mips, mips6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c, s390, sh, sparc, sparc6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Linux Device Drivers VIT 1-OCT-2003 - FR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8F94-0536-464F-AF64-D9D1D81301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linux/driver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st amount of code in the kernel tree (~1.5M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ce, bus, platform and general directo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rs/char – n_tty.c is the default line discip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rs/block – elevator.c, ll_rw_block.c,raidN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rs/net –specific drivers and general routines Space.c and net_init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rs/scsi – scsi_*.c files are generic; sd.c (disk), sr.c (CDROM), st.c (tape), sg.c (generic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es – fc4, pci, sbus, us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Linux Device Drivers VIT 1-OCT-2003 - FR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5FC9-848E-48E0-B430-771036F874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linux/f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filesystem (VFS)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directories for actual filesys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fs-related fi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.c, binfmt_*.c - files for mapping new process im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ces.c, blk_dev.c – device registration, block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.c, filesystems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ode.c, dcache.c, namei.c, buffer.c, file_table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.c, read_write.c, select.c, pipe.c, fifo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ntl.c, ioctl.c, locks.c, dquot.c, stat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Linux Device Drivers VIT 1-OCT-2003 - FR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25B5-BD1A-4425-A515-06CBFC96D3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1T18:21:53Z</dcterms:created>
  <dc:creator>Administrator</dc:creator>
  <dc:description/>
  <dc:language>en-US</dc:language>
  <cp:lastModifiedBy>Administrator</cp:lastModifiedBy>
  <dcterms:modified xsi:type="dcterms:W3CDTF">2004-10-02T00:12:30Z</dcterms:modified>
  <cp:revision>40</cp:revision>
  <dc:subject/>
  <dc:title>Introduction to Linux Device Drivers. </dc:title>
</cp:coreProperties>
</file>