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0C2-2353-40F0-9B26-6CAC158C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919-C56E-485D-BDF2-2AA9EE0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10D-DF24-4D38-AB09-6AC1D826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D19-C21A-404B-AA64-EFC473F3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828-A6EE-4DEE-B7A8-C4419AA5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84D-49AE-4CCB-AED3-24AB344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021-D94A-4D58-9600-EA2CD7D6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02F-C6CE-4E30-A179-D15E7F0F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E9E-55EF-434F-B094-FA1360C7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9BA-1534-45F1-A451-C5F3D41F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3DA-7176-4B78-95F0-487F9E5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208-0750-4F51-BD68-92AC0C0D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641A-7B73-4799-BD8D-6E0D23991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6.png"/><Relationship Id="rId12" Type="http://schemas.openxmlformats.org/officeDocument/2006/relationships/image" Target="../media/image3.png"/><Relationship Id="rId13" Type="http://schemas.openxmlformats.org/officeDocument/2006/relationships/image" Target="../media/image14.png"/><Relationship Id="rId14" Type="http://schemas.openxmlformats.org/officeDocument/2006/relationships/image" Target="../media/image3.png"/><Relationship Id="rId15" Type="http://schemas.openxmlformats.org/officeDocument/2006/relationships/image" Target="../media/image14.png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17.png"/><Relationship Id="rId19" Type="http://schemas.openxmlformats.org/officeDocument/2006/relationships/image" Target="../media/image14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8.png"/><Relationship Id="rId23" Type="http://schemas.openxmlformats.org/officeDocument/2006/relationships/oleObject" Target="../embeddings/oleObject3.bin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14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5562720"/>
            <a:ext cx="5486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3513"/>
                </a:solidFill>
                <a:latin typeface="PMingLiU"/>
              </a:rPr>
              <a:t>Pune Institute of Compute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3513"/>
                </a:solidFill>
                <a:latin typeface="PMingLiU"/>
              </a:rPr>
              <a:t>Calsoft Pvt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546200"/>
            <a:ext cx="7467480" cy="2722320"/>
            <a:chOff x="990720" y="1546200"/>
            <a:chExt cx="7467480" cy="2722320"/>
          </a:xfrm>
        </p:grpSpPr>
        <p:sp>
          <p:nvSpPr>
            <p:cNvPr id="44" name=""/>
            <p:cNvSpPr/>
            <p:nvPr/>
          </p:nvSpPr>
          <p:spPr>
            <a:xfrm>
              <a:off x="1066680" y="1736640"/>
              <a:ext cx="73915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4f3513"/>
                  </a:solidFill>
                  <a:latin typeface="PMingLiU"/>
                </a:rPr>
                <a:t>Orion Filesystem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"/>
            <p:cNvGraphicFramePr/>
            <p:nvPr/>
          </p:nvGraphicFramePr>
          <p:xfrm>
            <a:off x="990720" y="1546200"/>
            <a:ext cx="1447560" cy="876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1546200"/>
                      <a:ext cx="144756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MingLiU"/>
                <a:ea typeface="Times New Roman"/>
              </a:rPr>
              <a:t>File-level host-based virtualization</a:t>
            </a:r>
            <a:r>
              <a:rPr b="1" lang="en-US" sz="2400" spc="-1" strike="noStrike">
                <a:solidFill>
                  <a:srgbClr val="000000"/>
                </a:solidFill>
                <a:latin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MingLiU"/>
              </a:rPr>
              <a:t>ORION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PMingLiU"/>
              </a:rPr>
              <a:t>Thank You !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Happy File H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048120" y="1143000"/>
          <a:ext cx="2666880" cy="16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143000"/>
                    <a:ext cx="266688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447920"/>
            <a:ext cx="8388360" cy="519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914400"/>
            <a:ext cx="822960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Aggregating information stored in disparat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Naming System should reflect rather than mol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Ordering and Grou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Support for Extensible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Leverage Database Search Power to a fil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Produce a Unique Solution as a File system which aggregates files based on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Multiple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Platform rather than application ut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Organizational view change frequently than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352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52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315200" y="5715000"/>
          <a:ext cx="1447920" cy="87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5715000"/>
                    <a:ext cx="14479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14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763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ypical user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d06790_" descr=""/>
          <p:cNvPicPr/>
          <p:nvPr/>
        </p:nvPicPr>
        <p:blipFill>
          <a:blip r:embed="rId2"/>
          <a:stretch/>
        </p:blipFill>
        <p:spPr>
          <a:xfrm>
            <a:off x="76320" y="2082960"/>
            <a:ext cx="1812960" cy="149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98760" y="1244520"/>
            <a:ext cx="2971800" cy="1447920"/>
          </a:xfrm>
          <a:prstGeom prst="cloudCallout">
            <a:avLst>
              <a:gd name="adj1" fmla="val -81412"/>
              <a:gd name="adj2" fmla="val 23574"/>
            </a:avLst>
          </a:prstGeom>
          <a:solidFill>
            <a:srgbClr val="c3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organization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320" y="4410000"/>
          <a:ext cx="1438200" cy="229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410000"/>
                    <a:ext cx="1438200" cy="22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362320" y="4419720"/>
          <a:ext cx="1438200" cy="22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419720"/>
                    <a:ext cx="14382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734000" y="4419720"/>
          <a:ext cx="1438200" cy="22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34000" y="4419720"/>
                    <a:ext cx="14382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-838080" y="3429000"/>
          <a:ext cx="1676160" cy="102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-838080" y="3429000"/>
                    <a:ext cx="16761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-2209680" y="762120"/>
          <a:ext cx="1676160" cy="1028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2209680" y="762120"/>
                    <a:ext cx="16761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2480" y="3505320"/>
          <a:ext cx="1676520" cy="102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52480" y="3505320"/>
                    <a:ext cx="16765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62520" y="3543480"/>
          <a:ext cx="1676160" cy="102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3543480"/>
                    <a:ext cx="16761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90920" y="25146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ON to the resc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2133720"/>
            <a:ext cx="198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k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p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0" y="2133720"/>
          <a:ext cx="2262240" cy="2286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2133720"/>
                    <a:ext cx="22622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400800" y="3581280"/>
          <a:ext cx="1676520" cy="1028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00800" y="3581280"/>
                    <a:ext cx="16765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162920" y="4419720"/>
          <a:ext cx="1523880" cy="259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62920" y="4419720"/>
                    <a:ext cx="15238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334120" y="1333440"/>
          <a:ext cx="1676160" cy="1028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4120" y="1333440"/>
                    <a:ext cx="16761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1981080"/>
            <a:ext cx="8915400" cy="3810240"/>
            <a:chOff x="0" y="1981080"/>
            <a:chExt cx="8915400" cy="3810240"/>
          </a:xfrm>
        </p:grpSpPr>
        <p:sp>
          <p:nvSpPr>
            <p:cNvPr id="83" name=""/>
            <p:cNvSpPr/>
            <p:nvPr/>
          </p:nvSpPr>
          <p:spPr>
            <a:xfrm>
              <a:off x="7485120" y="5257800"/>
              <a:ext cx="10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86600" y="5257800"/>
              <a:ext cx="1828800" cy="457200"/>
            </a:xfrm>
            <a:prstGeom prst="flowChartTermina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3962520"/>
              <a:ext cx="228600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ttribute Reco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8680" y="3733920"/>
              <a:ext cx="2743200" cy="825480"/>
            </a:xfrm>
            <a:prstGeom prst="rect">
              <a:avLst/>
            </a:prstGeom>
            <a:noFill/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ttr_type_text/ num/ date/ b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65720" y="525780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ttr_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05520" y="5257800"/>
              <a:ext cx="1828800" cy="533520"/>
            </a:xfrm>
            <a:prstGeom prst="flowChartTermina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095880" y="4647960"/>
              <a:ext cx="60984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7238880" y="4647960"/>
              <a:ext cx="60984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86600" y="3124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48520" y="2590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inode 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2590920"/>
              <a:ext cx="1752840" cy="533160"/>
            </a:xfrm>
            <a:prstGeom prst="flowChartTermina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77120" y="2971800"/>
              <a:ext cx="9144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981080"/>
              <a:ext cx="1752840" cy="533520"/>
            </a:xfrm>
            <a:prstGeom prst="flowChartTermina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" y="1981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inode 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3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2819520"/>
              <a:ext cx="1295280" cy="533160"/>
            </a:xfrm>
            <a:prstGeom prst="flowChartTermina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2320" y="2895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2320" y="2895480"/>
              <a:ext cx="1143000" cy="533520"/>
            </a:xfrm>
            <a:prstGeom prst="flowChartTerminator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3352680"/>
              <a:ext cx="53352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2514600"/>
              <a:ext cx="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133720" y="3429000"/>
              <a:ext cx="76176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5520" y="411480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41148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3429000"/>
              <a:ext cx="1752840" cy="137160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6760" y="3886200"/>
              <a:ext cx="144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ttr_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7315200" y="5715000"/>
          <a:ext cx="144792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5715000"/>
                    <a:ext cx="14479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905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atabase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762120"/>
          <a:ext cx="845820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762120"/>
                    <a:ext cx="8458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685800" y="990720"/>
            <a:ext cx="7696080" cy="1752480"/>
            <a:chOff x="685800" y="990720"/>
            <a:chExt cx="7696080" cy="1752480"/>
          </a:xfrm>
        </p:grpSpPr>
        <p:grpSp>
          <p:nvGrpSpPr>
            <p:cNvPr id="114" name=""/>
            <p:cNvGrpSpPr/>
            <p:nvPr/>
          </p:nvGrpSpPr>
          <p:grpSpPr>
            <a:xfrm>
              <a:off x="685800" y="990720"/>
              <a:ext cx="5791320" cy="1752480"/>
              <a:chOff x="685800" y="990720"/>
              <a:chExt cx="5791320" cy="1752480"/>
            </a:xfrm>
          </p:grpSpPr>
          <p:sp>
            <p:nvSpPr>
              <p:cNvPr id="115" name=""/>
              <p:cNvSpPr/>
              <p:nvPr/>
            </p:nvSpPr>
            <p:spPr>
              <a:xfrm>
                <a:off x="685800" y="990720"/>
                <a:ext cx="579132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9000" tIns="9000" bIns="90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8080"/>
                    </a:solidFill>
                    <a:latin typeface="Segoe Semibold"/>
                  </a:rPr>
                  <a:t>                               </a:t>
                </a:r>
                <a:r>
                  <a:rPr b="1" lang="en-US" sz="1800" spc="-1" strike="noStrike">
                    <a:solidFill>
                      <a:srgbClr val="808080"/>
                    </a:solidFill>
                    <a:latin typeface="Segoe Semibold"/>
                  </a:rPr>
                  <a:t>User Space Datab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860400" y="1058040"/>
                <a:ext cx="5474160" cy="1347480"/>
                <a:chOff x="860400" y="1058040"/>
                <a:chExt cx="5474160" cy="1347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561120" y="1881360"/>
                  <a:ext cx="2773440" cy="524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ccff"/>
                </a:solid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360" rIns="9000" tIns="9000" bIns="9000" anchor="ctr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808080"/>
                      </a:solidFill>
                      <a:latin typeface="Segoe Semibold"/>
                    </a:rPr>
                    <a:t>      </a:t>
                  </a:r>
                  <a:r>
                    <a:rPr b="1" lang="en-US" sz="1600" spc="-1" strike="noStrike">
                      <a:solidFill>
                        <a:srgbClr val="808080"/>
                      </a:solidFill>
                      <a:latin typeface="Segoe Semibold"/>
                    </a:rPr>
                    <a:t>Cache Fault Hand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60400" y="1058040"/>
                  <a:ext cx="5472720" cy="673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ccff"/>
                </a:solid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360" rIns="9000" tIns="9000" bIns="90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808080"/>
                      </a:solidFill>
                      <a:latin typeface="Segoe Semibold"/>
                    </a:rPr>
                    <a:t>MySql Database ORION FS sche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60400" y="1881360"/>
                  <a:ext cx="2579400" cy="524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ccff"/>
                </a:solid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360" rIns="9000" tIns="9000" bIns="9000" anchor="ctr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808080"/>
                      </a:solidFill>
                      <a:latin typeface="Segoe Semibold"/>
                    </a:rPr>
                    <a:t>Database Update Daem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6629400" y="990720"/>
              <a:ext cx="1752480" cy="1295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&lt;DIR nam=m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sql=“ext=mp3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&lt;DIR nam=pr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sql=“prj=OFS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  </a:t>
              </a: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XML DOV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2438280"/>
              <a:ext cx="1676160" cy="304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mount sys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09480" y="3200400"/>
            <a:ext cx="784872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Segoe Semibold"/>
              </a:rPr>
              <a:t>Linux 2.4 Virtual File System (VFS)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29200" y="4038480"/>
            <a:ext cx="3429000" cy="1752840"/>
            <a:chOff x="5029200" y="4038480"/>
            <a:chExt cx="3429000" cy="1752840"/>
          </a:xfrm>
        </p:grpSpPr>
        <p:sp>
          <p:nvSpPr>
            <p:cNvPr id="124" name=""/>
            <p:cNvSpPr/>
            <p:nvPr/>
          </p:nvSpPr>
          <p:spPr>
            <a:xfrm>
              <a:off x="5029200" y="4038480"/>
              <a:ext cx="2133720" cy="762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ORION view c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952880"/>
              <a:ext cx="2133720" cy="83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Recordset C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8880" y="4038480"/>
              <a:ext cx="1219320" cy="1752840"/>
            </a:xfrm>
            <a:custGeom>
              <a:avLst/>
              <a:gdLst>
                <a:gd name="textAreaLeft" fmla="*/ 59400 w 1219320"/>
                <a:gd name="textAreaRight" fmla="*/ 1159920 w 1219320"/>
                <a:gd name="textAreaTop" fmla="*/ 59400 h 1752840"/>
                <a:gd name="textAreaBottom" fmla="*/ 1693440 h 1752840"/>
              </a:gdLst>
              <a:ahLst/>
              <a:rect l="textAreaLeft" t="textAreaTop" r="textAreaRight" b="textAreaBottom"/>
              <a:pathLst>
                <a:path w="21600" h="31048">
                  <a:moveTo>
                    <a:pt x="3600" y="0"/>
                  </a:moveTo>
                  <a:arcTo wR="3600" hR="3600" stAng="16200000" swAng="-5400000"/>
                  <a:lnTo>
                    <a:pt x="0" y="27448"/>
                  </a:lnTo>
                  <a:arcTo wR="3600" hR="3600" stAng="10800000" swAng="-5400000"/>
                  <a:lnTo>
                    <a:pt x="18000" y="310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U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Inte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  </a:t>
              </a: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I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Segoe Semibold"/>
                </a:rPr>
                <a:t>mechan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981080" y="4038480"/>
            <a:ext cx="213372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Segoe Semibold"/>
              </a:rPr>
              <a:t>Object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952880"/>
            <a:ext cx="2133720" cy="83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Segoe Semibold"/>
              </a:rPr>
              <a:t>Underlying File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038480"/>
            <a:ext cx="1219320" cy="175284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52840"/>
              <a:gd name="textAreaBottom" fmla="*/ 1693440 h 1752840"/>
            </a:gdLst>
            <a:ahLst/>
            <a:rect l="textAreaLeft" t="textAreaTop" r="textAreaRight" b="textAreaBottom"/>
            <a:pathLst>
              <a:path w="21600" h="31048">
                <a:moveTo>
                  <a:pt x="3600" y="0"/>
                </a:moveTo>
                <a:arcTo wR="3600" hR="3600" stAng="16200000" swAng="-5400000"/>
                <a:lnTo>
                  <a:pt x="0" y="27448"/>
                </a:lnTo>
                <a:arcTo wR="3600" hR="3600" stAng="10800000" swAng="-5400000"/>
                <a:lnTo>
                  <a:pt x="18000" y="310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Segoe Semibold"/>
              </a:rPr>
              <a:t>  </a:t>
            </a:r>
            <a:r>
              <a:rPr b="1" lang="en-US" sz="1600" spc="-1" strike="noStrike">
                <a:solidFill>
                  <a:srgbClr val="808080"/>
                </a:solidFill>
                <a:latin typeface="Segoe Semibold"/>
              </a:rPr>
              <a:t>Upda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Segoe Semibold"/>
              </a:rPr>
              <a:t>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15200" y="5715000"/>
          <a:ext cx="1447920" cy="8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5200" y="5715000"/>
                    <a:ext cx="14479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763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rchitecture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verall 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304920"/>
            <a:ext cx="4114800" cy="175248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9000" bIns="9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?xml version="1.0" encoding="ISO-8859-1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dir name="/" SQL="" &gt; 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dir name=DIRNAME SQL=</a:t>
            </a:r>
            <a:r>
              <a:rPr b="0" i="1" lang="en-US" sz="1200" spc="-1" strike="noStrike">
                <a:solidFill>
                  <a:srgbClr val="000000"/>
                </a:solidFill>
                <a:latin typeface="Segoe Semibold"/>
              </a:rPr>
              <a:t>Queriy&gt; Dirname </a:t>
            </a: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/di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/di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?DOVMAGIC</a:t>
            </a: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Dirname 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Dirname2 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?DRIVER_INFO_COMPLETE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?DOV_File_Created_By_Program_Dont_Edit_Manually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?DOV Header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666880"/>
            <a:ext cx="81532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9000" bIns="90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Segoe Semibold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Segoe Semibold"/>
              </a:rPr>
              <a:t>mount –t ORION none /mnt/ofs </a:t>
            </a:r>
            <a:r>
              <a:rPr b="1" lang="en-US" sz="1600" spc="-1" strike="noStrike">
                <a:solidFill>
                  <a:srgbClr val="000000"/>
                </a:solidFill>
                <a:latin typeface="Segoe Semibold"/>
              </a:rPr>
              <a:t>–o </a:t>
            </a:r>
            <a:r>
              <a:rPr b="0" lang="en-US" sz="1600" spc="-1" strike="noStrike">
                <a:solidFill>
                  <a:srgbClr val="000000"/>
                </a:solidFill>
                <a:latin typeface="Segoe Semibold"/>
              </a:rPr>
              <a:t>&lt;ObjectStorePath&gt;  &lt;XML-DOV file 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838080"/>
            <a:ext cx="3885840" cy="1219320"/>
            <a:chOff x="457200" y="838080"/>
            <a:chExt cx="3885840" cy="1219320"/>
          </a:xfrm>
        </p:grpSpPr>
        <p:sp>
          <p:nvSpPr>
            <p:cNvPr id="137" name=""/>
            <p:cNvSpPr/>
            <p:nvPr/>
          </p:nvSpPr>
          <p:spPr>
            <a:xfrm>
              <a:off x="457200" y="838080"/>
              <a:ext cx="3885840" cy="1219320"/>
            </a:xfrm>
            <a:prstGeom prst="roundRect">
              <a:avLst>
                <a:gd name="adj" fmla="val 0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egoe Semibold"/>
                </a:rPr>
                <a:t>/mnt/objSt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800" y="1066680"/>
              <a:ext cx="675360" cy="22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2120" y="1066680"/>
              <a:ext cx="675360" cy="228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62080" y="1066680"/>
              <a:ext cx="675360" cy="22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22400" y="1066680"/>
              <a:ext cx="675360" cy="228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2720" y="1066680"/>
              <a:ext cx="675360" cy="228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800" y="1371600"/>
              <a:ext cx="675360" cy="228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02120" y="1371600"/>
              <a:ext cx="675360" cy="2286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2080" y="1371600"/>
              <a:ext cx="675360" cy="2286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22400" y="1371600"/>
              <a:ext cx="675360" cy="2286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2720" y="1371600"/>
              <a:ext cx="675360" cy="2286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800" y="1676160"/>
              <a:ext cx="675360" cy="2286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02120" y="1676160"/>
              <a:ext cx="675360" cy="22860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6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2080" y="1676160"/>
              <a:ext cx="675360" cy="22860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6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2400" y="1676160"/>
              <a:ext cx="675360" cy="22860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6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2720" y="1676160"/>
              <a:ext cx="675360" cy="22860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038480" y="2133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276720"/>
            <a:ext cx="4267080" cy="182880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9000" bIns="90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ofs_read_super(struct superblock *sb,void *data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1.   Extract the super block reference from objectstore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Embed it in our super block refer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2.   Read the DOV file create the virtual d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3.   Attach root on the root  inode’s privat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egoe Semibold"/>
              </a:rPr>
              <a:t>Summary</a:t>
            </a: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: Initialize Each View &amp; its superblock with 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Private data. After this Point each view has its identity stor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Its 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791320" y="3276720"/>
            <a:ext cx="4219200" cy="3352680"/>
            <a:chOff x="5791320" y="3276720"/>
            <a:chExt cx="4219200" cy="3352680"/>
          </a:xfrm>
        </p:grpSpPr>
        <p:sp>
          <p:nvSpPr>
            <p:cNvPr id="156" name=""/>
            <p:cNvSpPr/>
            <p:nvPr/>
          </p:nvSpPr>
          <p:spPr>
            <a:xfrm>
              <a:off x="5791320" y="3276720"/>
              <a:ext cx="2819160" cy="3352680"/>
            </a:xfrm>
            <a:custGeom>
              <a:avLst/>
              <a:gdLst>
                <a:gd name="textAreaLeft" fmla="*/ 0 w 2819160"/>
                <a:gd name="textAreaRight" fmla="*/ 2819520 w 28191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21600" h="25687">
                  <a:moveTo>
                    <a:pt x="0" y="0"/>
                  </a:moveTo>
                  <a:arcTo wR="0" hR="0" stAng="16200000" swAng="-5400000"/>
                  <a:lnTo>
                    <a:pt x="0" y="25687"/>
                  </a:lnTo>
                  <a:arcTo wR="0" hR="0" stAng="10800000" swAng="-5400000"/>
                  <a:lnTo>
                    <a:pt x="21600" y="2568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943600" y="3352680"/>
              <a:ext cx="4066920" cy="3200400"/>
              <a:chOff x="5943600" y="3352680"/>
              <a:chExt cx="4066920" cy="3200400"/>
            </a:xfrm>
          </p:grpSpPr>
          <p:sp>
            <p:nvSpPr>
              <p:cNvPr id="158" name=""/>
              <p:cNvSpPr/>
              <p:nvPr/>
            </p:nvSpPr>
            <p:spPr>
              <a:xfrm>
                <a:off x="6591600" y="5638680"/>
                <a:ext cx="152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ir 2 Qn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5943600" y="3352680"/>
                <a:ext cx="4066920" cy="3200400"/>
                <a:chOff x="5943600" y="3352680"/>
                <a:chExt cx="4066920" cy="3200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305400" y="4906800"/>
                  <a:ext cx="2590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irname Query I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5943600" y="3352680"/>
                  <a:ext cx="4066920" cy="3200400"/>
                  <a:chOff x="5943600" y="3352680"/>
                  <a:chExt cx="4066920" cy="3200400"/>
                </a:xfrm>
              </p:grpSpPr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5943600" y="3733560"/>
                    <a:ext cx="4066920" cy="2819520"/>
                    <a:chOff x="5943600" y="3733560"/>
                    <a:chExt cx="4066920" cy="2819520"/>
                  </a:xfrm>
                </p:grpSpPr>
                <p:pic>
                  <p:nvPicPr>
                    <p:cNvPr id="163" name="folder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248160" y="4143240"/>
                      <a:ext cx="4096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64" name=""/>
                    <p:cNvGrpSpPr/>
                    <p:nvPr/>
                  </p:nvGrpSpPr>
                  <p:grpSpPr>
                    <a:xfrm>
                      <a:off x="5943600" y="3733560"/>
                      <a:ext cx="4066920" cy="2819520"/>
                      <a:chOff x="5943600" y="3733560"/>
                      <a:chExt cx="4066920" cy="2819520"/>
                    </a:xfrm>
                  </p:grpSpPr>
                  <p:pic>
                    <p:nvPicPr>
                      <p:cNvPr id="165" name="folder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972040" y="4829040"/>
                        <a:ext cx="409680" cy="35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66" name="folder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248160" y="4524120"/>
                        <a:ext cx="409680" cy="35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67" name="folder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5943600" y="3733560"/>
                        <a:ext cx="409320" cy="35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68" name="folder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6248160" y="5562360"/>
                        <a:ext cx="409680" cy="35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69" name="folder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6248160" y="5181480"/>
                        <a:ext cx="409680" cy="35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70" name="folder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6629400" y="5943600"/>
                        <a:ext cx="409320" cy="35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71" name="folder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6276960" y="6200640"/>
                        <a:ext cx="409320" cy="35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6124320" y="4038480"/>
                        <a:ext cx="0" cy="838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6124320" y="5105160"/>
                        <a:ext cx="0" cy="12956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6124320" y="434340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6124320" y="472428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6124320" y="533376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6124320" y="571500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124320" y="640080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52920" y="6095880"/>
                        <a:ext cx="304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 flipV="1">
                        <a:off x="6352920" y="5866920"/>
                        <a:ext cx="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276960" y="3747960"/>
                        <a:ext cx="152388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/ view roo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6657840" y="4128840"/>
                        <a:ext cx="335268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Name Query Is-Sticky Ino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6657840" y="4510080"/>
                        <a:ext cx="289548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Name Query IsReceptor Ino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6962760" y="5943600"/>
                        <a:ext cx="152388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r 3 Qn 3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6581520" y="5181480"/>
                        <a:ext cx="15242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r 1 Qn 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6564240" y="6221160"/>
                        <a:ext cx="152388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r Q Qn n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7" name=""/>
                  <p:cNvSpPr/>
                  <p:nvPr/>
                </p:nvSpPr>
                <p:spPr>
                  <a:xfrm>
                    <a:off x="5972040" y="3352680"/>
                    <a:ext cx="403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Segoe Semibold"/>
                      </a:rPr>
                      <a:t>Sb-&gt;s_root-&gt;d_inode-&gt;ugeneric_ip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8" name=""/>
          <p:cNvGrpSpPr/>
          <p:nvPr/>
        </p:nvGrpSpPr>
        <p:grpSpPr>
          <a:xfrm>
            <a:off x="457200" y="5334120"/>
            <a:ext cx="4267080" cy="1218960"/>
            <a:chOff x="457200" y="5334120"/>
            <a:chExt cx="4267080" cy="1218960"/>
          </a:xfrm>
        </p:grpSpPr>
        <p:sp>
          <p:nvSpPr>
            <p:cNvPr id="189" name=""/>
            <p:cNvSpPr/>
            <p:nvPr/>
          </p:nvSpPr>
          <p:spPr>
            <a:xfrm>
              <a:off x="457200" y="5334120"/>
              <a:ext cx="4267080" cy="1218960"/>
            </a:xfrm>
            <a:prstGeom prst="roundRect">
              <a:avLst>
                <a:gd name="adj" fmla="val 0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egoe Semibold"/>
                </a:rPr>
                <a:t>	</a:t>
              </a:r>
              <a:r>
                <a:rPr b="1" lang="en-US" sz="1000" spc="-1" strike="noStrike">
                  <a:solidFill>
                    <a:srgbClr val="000000"/>
                  </a:solidFill>
                  <a:latin typeface="Segoe Semibold"/>
                </a:rPr>
                <a:t>       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Segoe Semibold"/>
                </a:rPr>
                <a:t>Shared 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egoe Semibold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8600" y="5589720"/>
              <a:ext cx="1974600" cy="889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Times New Roman"/>
                </a:rPr>
                <a:t>Recordset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Times New Roman"/>
                </a:rPr>
                <a:t>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o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o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590920" y="5575320"/>
            <a:ext cx="2057400" cy="95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INODE ALLOCATION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111111111111111111111111000000000000000000000000000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396252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133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81952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3581280"/>
            <a:ext cx="2895480" cy="60984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RION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73480" y="3833640"/>
            <a:ext cx="1360440" cy="28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s_readdi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1755720"/>
            <a:ext cx="2666880" cy="60948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18288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ache Fau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514600"/>
            <a:ext cx="304560" cy="2666880"/>
          </a:xfrm>
          <a:prstGeom prst="upArrow">
            <a:avLst>
              <a:gd name="adj1" fmla="val 50000"/>
              <a:gd name="adj2" fmla="val 8318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2590920"/>
            <a:ext cx="304560" cy="2590560"/>
          </a:xfrm>
          <a:prstGeom prst="downArrow">
            <a:avLst>
              <a:gd name="adj1" fmla="val 51667"/>
              <a:gd name="adj2" fmla="val 70371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133720"/>
            <a:ext cx="1143000" cy="6094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Root]# ls C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495680"/>
            <a:ext cx="365040" cy="36540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7407360"/>
            <a:ext cx="365040" cy="3650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8045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Semibold"/>
              </a:rPr>
              <a:t>Get inode from object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75880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Semibold"/>
              </a:rPr>
              <a:t>Pipe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70549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Semibold"/>
              </a:rPr>
              <a:t>Get SQL Query &amp; run on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4360" y="4495680"/>
            <a:ext cx="365040" cy="36540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2136600"/>
            <a:ext cx="365400" cy="36540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1146240"/>
            <a:ext cx="1295280" cy="53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_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4840" y="1069920"/>
            <a:ext cx="365040" cy="3650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763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ontent Based Directory Li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5257800"/>
            <a:ext cx="1828800" cy="1143000"/>
            <a:chOff x="914400" y="5257800"/>
            <a:chExt cx="1828800" cy="1143000"/>
          </a:xfrm>
        </p:grpSpPr>
        <p:sp>
          <p:nvSpPr>
            <p:cNvPr id="212" name=""/>
            <p:cNvSpPr/>
            <p:nvPr/>
          </p:nvSpPr>
          <p:spPr>
            <a:xfrm>
              <a:off x="914400" y="5257800"/>
              <a:ext cx="1828800" cy="1143000"/>
            </a:xfrm>
            <a:prstGeom prst="roundRect">
              <a:avLst>
                <a:gd name="adj" fmla="val 0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 Semibold"/>
                </a:rPr>
                <a:t>/mnt/obj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79640" y="5472000"/>
              <a:ext cx="715680" cy="214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84240" y="5472000"/>
              <a:ext cx="716040" cy="214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79640" y="5757840"/>
              <a:ext cx="715680" cy="214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84240" y="5757840"/>
              <a:ext cx="716040" cy="214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79640" y="6043680"/>
              <a:ext cx="715680" cy="214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4240" y="6043680"/>
              <a:ext cx="716040" cy="214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6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320" y="914400"/>
            <a:ext cx="1752480" cy="1022760"/>
            <a:chOff x="76320" y="914400"/>
            <a:chExt cx="1752480" cy="1022760"/>
          </a:xfrm>
        </p:grpSpPr>
        <p:graphicFrame>
          <p:nvGraphicFramePr>
            <p:cNvPr id="220" name=""/>
            <p:cNvGraphicFramePr/>
            <p:nvPr/>
          </p:nvGraphicFramePr>
          <p:xfrm>
            <a:off x="762120" y="914400"/>
            <a:ext cx="36180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62120" y="914400"/>
                      <a:ext cx="3618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76320" y="1168560"/>
              <a:ext cx="175248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ccff"/>
                  </a:solidFill>
                  <a:latin typeface="Times New Roman"/>
                </a:rPr>
                <a:t>AND Text Type lik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066680" y="3048120"/>
            <a:ext cx="2514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Segoe Semibold"/>
              </a:rPr>
              <a:t>VFS getdent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2"/>
          <a:stretch/>
        </p:blipFill>
        <p:spPr>
          <a:xfrm>
            <a:off x="6400800" y="762120"/>
            <a:ext cx="27432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2860560" y="5257800"/>
            <a:ext cx="2168640" cy="1143000"/>
            <a:chOff x="2860560" y="5257800"/>
            <a:chExt cx="2168640" cy="1143000"/>
          </a:xfrm>
        </p:grpSpPr>
        <p:sp>
          <p:nvSpPr>
            <p:cNvPr id="226" name=""/>
            <p:cNvSpPr/>
            <p:nvPr/>
          </p:nvSpPr>
          <p:spPr>
            <a:xfrm>
              <a:off x="2895480" y="5257800"/>
              <a:ext cx="2133720" cy="1143000"/>
            </a:xfrm>
            <a:prstGeom prst="roundRect">
              <a:avLst>
                <a:gd name="adj" fmla="val 0"/>
              </a:avLst>
            </a:pr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182880" bIns="90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egoe Semibold"/>
                </a:rPr>
                <a:t>Recorset Ca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60560" y="5257800"/>
              <a:ext cx="2168640" cy="3049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trecordset(iN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4"/>
          <a:srcRect l="0" t="0" r="0" b="91677"/>
          <a:stretch/>
        </p:blipFill>
        <p:spPr>
          <a:xfrm>
            <a:off x="2895480" y="5257800"/>
            <a:ext cx="21337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60480" y="3827520"/>
            <a:ext cx="1360440" cy="28080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s_lookup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2556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426708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30480" y="4495680"/>
            <a:ext cx="365040" cy="36540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019920" y="990720"/>
            <a:ext cx="4190400" cy="375120"/>
            <a:chOff x="6019920" y="990720"/>
            <a:chExt cx="4190400" cy="375120"/>
          </a:xfrm>
        </p:grpSpPr>
        <p:sp>
          <p:nvSpPr>
            <p:cNvPr id="234" name=""/>
            <p:cNvSpPr/>
            <p:nvPr/>
          </p:nvSpPr>
          <p:spPr>
            <a:xfrm>
              <a:off x="6019920" y="990720"/>
              <a:ext cx="364680" cy="36468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00440" y="102852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egoe Semibold"/>
                </a:rPr>
                <a:t>Ask Cache For record 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629400" y="1447920"/>
            <a:ext cx="25146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egoe Semibold"/>
              </a:rPr>
              <a:t>Cache H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Return pointer to record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019920" y="1920960"/>
            <a:ext cx="4190400" cy="365040"/>
            <a:chOff x="6019920" y="1920960"/>
            <a:chExt cx="4190400" cy="365040"/>
          </a:xfrm>
        </p:grpSpPr>
        <p:sp>
          <p:nvSpPr>
            <p:cNvPr id="238" name=""/>
            <p:cNvSpPr/>
            <p:nvPr/>
          </p:nvSpPr>
          <p:spPr>
            <a:xfrm>
              <a:off x="6019920" y="1920960"/>
              <a:ext cx="364680" cy="3650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00440" y="192096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egoe Semibold"/>
                </a:rPr>
                <a:t>Cache Mi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629400" y="2408400"/>
            <a:ext cx="25146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2. 1 Communicate wit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Space Fault Handl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6"/>
          <a:srcRect l="0" t="0" r="0" b="91677"/>
          <a:stretch/>
        </p:blipFill>
        <p:spPr>
          <a:xfrm>
            <a:off x="3048120" y="1755720"/>
            <a:ext cx="266688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4876920" y="1908000"/>
          <a:ext cx="428400" cy="390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76920" y="1908000"/>
                    <a:ext cx="4284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6629400" y="2895480"/>
            <a:ext cx="25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Execute Th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30880" y="1146240"/>
            <a:ext cx="1284120" cy="52704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066680"/>
            <a:ext cx="365040" cy="36540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0"/>
          <a:srcRect l="0" t="0" r="0" b="91677"/>
          <a:stretch/>
        </p:blipFill>
        <p:spPr>
          <a:xfrm>
            <a:off x="3048120" y="1146240"/>
            <a:ext cx="1295280" cy="533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6294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2.2 Create SQL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35812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2.3 Execute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886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* ResolveDupl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1"/>
          <a:srcRect l="0" t="0" r="0" b="91677"/>
          <a:stretch/>
        </p:blipFill>
        <p:spPr>
          <a:xfrm>
            <a:off x="4457880" y="1146240"/>
            <a:ext cx="1218960" cy="533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553080" y="4210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2.4 Populate RS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2"/>
          <a:stretch/>
        </p:blipFill>
        <p:spPr>
          <a:xfrm>
            <a:off x="4497480" y="5715000"/>
            <a:ext cx="455400" cy="457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629400" y="4572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* Wake up Process waiting   for Record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30240" y="4038480"/>
            <a:ext cx="365040" cy="36540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4267080"/>
            <a:ext cx="304560" cy="914400"/>
          </a:xfrm>
          <a:prstGeom prst="upArrow">
            <a:avLst>
              <a:gd name="adj1" fmla="val 50000"/>
              <a:gd name="adj2" fmla="val 28522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019920" y="5257800"/>
            <a:ext cx="4190760" cy="365040"/>
            <a:chOff x="6019920" y="5257800"/>
            <a:chExt cx="4190760" cy="365040"/>
          </a:xfrm>
        </p:grpSpPr>
        <p:sp>
          <p:nvSpPr>
            <p:cNvPr id="258" name=""/>
            <p:cNvSpPr/>
            <p:nvPr/>
          </p:nvSpPr>
          <p:spPr>
            <a:xfrm>
              <a:off x="6019920" y="5257800"/>
              <a:ext cx="365040" cy="3650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0800" y="52578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egoe Semibold"/>
                </a:rPr>
                <a:t>Populating the Dentry C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629400" y="54864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egoe Semibold"/>
              </a:rPr>
              <a:t>3.1 Extract Inodes From Object Store iget(sb objSto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9400" y="6186600"/>
            <a:ext cx="2514600" cy="6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egoe Semibold"/>
              </a:rPr>
              <a:t>3.2 Populate Dentry Ca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Semibold"/>
              </a:rPr>
              <a:t>With names attached d_ad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905120" y="4248000"/>
            <a:ext cx="990360" cy="1056960"/>
            <a:chOff x="1905120" y="4248000"/>
            <a:chExt cx="990360" cy="1056960"/>
          </a:xfrm>
        </p:grpSpPr>
        <p:graphicFrame>
          <p:nvGraphicFramePr>
            <p:cNvPr id="263" name=""/>
            <p:cNvGraphicFramePr/>
            <p:nvPr/>
          </p:nvGraphicFramePr>
          <p:xfrm>
            <a:off x="2057040" y="4248000"/>
            <a:ext cx="733320" cy="552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057040" y="4248000"/>
                      <a:ext cx="73332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"/>
            <p:cNvSpPr/>
            <p:nvPr/>
          </p:nvSpPr>
          <p:spPr>
            <a:xfrm>
              <a:off x="1905120" y="472428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Times New Roman"/>
                </a:rPr>
                <a:t>Dentry C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914400" y="4876920"/>
            <a:ext cx="365040" cy="3650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4876920"/>
            <a:ext cx="365400" cy="3650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24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833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327560" y="2057400"/>
            <a:ext cx="396720" cy="2286000"/>
          </a:xfrm>
          <a:prstGeom prst="upArrow">
            <a:avLst>
              <a:gd name="adj1" fmla="val 39167"/>
              <a:gd name="adj2" fmla="val 55515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4648320"/>
            <a:ext cx="3886200" cy="2057400"/>
          </a:xfrm>
          <a:prstGeom prst="roundRect">
            <a:avLst>
              <a:gd name="adj" fmla="val 7949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emibold"/>
              </a:rPr>
              <a:t>ORION Store Filter</a:t>
            </a:r>
            <a:r>
              <a:rPr b="1" lang="en-US" sz="16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egoe Semi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egoe Semibold"/>
              </a:rPr>
              <a:t>Pre Calls Crea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Semibold"/>
              </a:rPr>
              <a:t>Post Calls Crea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Logging Activities On the Object 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4922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root#]   touch   ./view/newFile.xy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190512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28954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Segoe Semibold"/>
              </a:rPr>
              <a:t>VFS create(dentry,in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3581280"/>
            <a:ext cx="1905120" cy="60984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RION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92240" y="3833640"/>
            <a:ext cx="1360440" cy="28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s_crea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rcRect l="0" t="0" r="0" b="91677"/>
          <a:stretch/>
        </p:blipFill>
        <p:spPr>
          <a:xfrm>
            <a:off x="1752480" y="3809880"/>
            <a:ext cx="19051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521160" y="3733920"/>
            <a:ext cx="365040" cy="3650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307200" y="727200"/>
            <a:ext cx="27432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5867280" y="762120"/>
            <a:ext cx="4191120" cy="375120"/>
            <a:chOff x="5867280" y="762120"/>
            <a:chExt cx="4191120" cy="375120"/>
          </a:xfrm>
        </p:grpSpPr>
        <p:sp>
          <p:nvSpPr>
            <p:cNvPr id="282" name=""/>
            <p:cNvSpPr/>
            <p:nvPr/>
          </p:nvSpPr>
          <p:spPr>
            <a:xfrm>
              <a:off x="5867280" y="762120"/>
              <a:ext cx="365040" cy="36468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160" y="799920"/>
              <a:ext cx="38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egoe Semibold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egoe Semibold"/>
                </a:rPr>
                <a:t>ORION cre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400800" y="1143000"/>
            <a:ext cx="2514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Make Vnodes compatible with lower file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143000" y="5164200"/>
            <a:ext cx="3885840" cy="1143000"/>
            <a:chOff x="1143000" y="5164200"/>
            <a:chExt cx="3885840" cy="1143000"/>
          </a:xfrm>
        </p:grpSpPr>
        <p:sp>
          <p:nvSpPr>
            <p:cNvPr id="286" name=""/>
            <p:cNvSpPr/>
            <p:nvPr/>
          </p:nvSpPr>
          <p:spPr>
            <a:xfrm>
              <a:off x="1143000" y="5164200"/>
              <a:ext cx="3885840" cy="1143000"/>
            </a:xfrm>
            <a:prstGeom prst="roundRect">
              <a:avLst>
                <a:gd name="adj" fmla="val 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360" rIns="9000" tIns="9000" bIns="90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egoe Semibold"/>
                </a:rPr>
                <a:t>/mnt/obj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0960" y="5378760"/>
              <a:ext cx="1091160" cy="214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17480" y="5378760"/>
              <a:ext cx="1091160" cy="214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90960" y="5664240"/>
              <a:ext cx="1091160" cy="214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7480" y="5664240"/>
              <a:ext cx="1091160" cy="214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17480" y="5950080"/>
              <a:ext cx="1091160" cy="214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6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49400" y="5392800"/>
              <a:ext cx="1091160" cy="214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49400" y="5678640"/>
              <a:ext cx="1091160" cy="2142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49400" y="5964480"/>
              <a:ext cx="1091160" cy="2142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245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867280" y="1600200"/>
            <a:ext cx="4191120" cy="375480"/>
            <a:chOff x="5867280" y="1600200"/>
            <a:chExt cx="4191120" cy="375480"/>
          </a:xfrm>
        </p:grpSpPr>
        <p:sp>
          <p:nvSpPr>
            <p:cNvPr id="296" name=""/>
            <p:cNvSpPr/>
            <p:nvPr/>
          </p:nvSpPr>
          <p:spPr>
            <a:xfrm>
              <a:off x="5867280" y="1600200"/>
              <a:ext cx="365040" cy="3650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160" y="1638360"/>
              <a:ext cx="38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egoe Semibold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egoe Semibold"/>
                </a:rPr>
                <a:t>ORION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581280" y="1523880"/>
            <a:ext cx="1905120" cy="45720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360" rIns="9000" tIns="18288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Segoe Semibold"/>
              </a:rPr>
              <a:t>Updat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76320" y="251460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2133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2529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9240" y="4511520"/>
            <a:ext cx="365040" cy="36540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1981080"/>
            <a:ext cx="2514600" cy="16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2.2 Update database to reflect  changes on object Store activities. vi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Cre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Set 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R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867280" y="3352680"/>
            <a:ext cx="4191120" cy="375480"/>
            <a:chOff x="5867280" y="3352680"/>
            <a:chExt cx="4191120" cy="375480"/>
          </a:xfrm>
        </p:grpSpPr>
        <p:sp>
          <p:nvSpPr>
            <p:cNvPr id="305" name=""/>
            <p:cNvSpPr/>
            <p:nvPr/>
          </p:nvSpPr>
          <p:spPr>
            <a:xfrm>
              <a:off x="5867280" y="3352680"/>
              <a:ext cx="365040" cy="3650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160" y="3390840"/>
              <a:ext cx="38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egoe Semibold"/>
                </a:rPr>
                <a:t>Underlying File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13"/>
          <a:srcRect l="0" t="0" r="0" b="91677"/>
          <a:stretch/>
        </p:blipFill>
        <p:spPr>
          <a:xfrm>
            <a:off x="1143000" y="4724280"/>
            <a:ext cx="3886200" cy="422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4"/>
          <a:srcRect l="0" t="0" r="0" b="91677"/>
          <a:stretch/>
        </p:blipFill>
        <p:spPr>
          <a:xfrm>
            <a:off x="1371600" y="6324480"/>
            <a:ext cx="3581280" cy="3812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629400" y="3727440"/>
            <a:ext cx="2514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3.1 Create the File With the Given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5486400"/>
            <a:ext cx="365400" cy="3650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6340320"/>
            <a:ext cx="365400" cy="36540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867280" y="4267080"/>
            <a:ext cx="4191120" cy="375480"/>
            <a:chOff x="5867280" y="4267080"/>
            <a:chExt cx="4191120" cy="375480"/>
          </a:xfrm>
        </p:grpSpPr>
        <p:sp>
          <p:nvSpPr>
            <p:cNvPr id="313" name=""/>
            <p:cNvSpPr/>
            <p:nvPr/>
          </p:nvSpPr>
          <p:spPr>
            <a:xfrm>
              <a:off x="5867280" y="4267080"/>
              <a:ext cx="365040" cy="3650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48160" y="4305240"/>
              <a:ext cx="38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egoe Semibold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egoe Semibold"/>
                </a:rPr>
                <a:t>Trap post call of cre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629400" y="4724280"/>
            <a:ext cx="25146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4.1 Rename The fil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Semibold"/>
              </a:rPr>
              <a:t>String representation of 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943600"/>
            <a:ext cx="121896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959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File.xy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943600"/>
            <a:ext cx="1218960" cy="3049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2003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6"/>
          <a:srcRect l="0" t="0" r="0" b="91677"/>
          <a:stretch/>
        </p:blipFill>
        <p:spPr>
          <a:xfrm>
            <a:off x="1295280" y="5181480"/>
            <a:ext cx="3581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09480" y="2590920"/>
            <a:ext cx="73152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Wi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Audio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315200" y="5715000"/>
          <a:ext cx="144792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5715000"/>
                    <a:ext cx="14479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ther Comparable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6:16:49Z</dcterms:created>
  <dc:creator>pict</dc:creator>
  <dc:description/>
  <dc:language>en-US</dc:language>
  <cp:lastModifiedBy>amruta_joshi</cp:lastModifiedBy>
  <dcterms:modified xsi:type="dcterms:W3CDTF">2004-07-13T06:05:15Z</dcterms:modified>
  <cp:revision>205</cp:revision>
  <dc:subject/>
  <dc:title>PowerPoint Presentation</dc:title>
</cp:coreProperties>
</file>