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971-0D80-4845-88DF-CAE5FFDE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ED2-6A63-47B0-A026-4733054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4FC-662E-4FB5-B5AE-141657C3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7A0-8B50-4345-8ADB-3879B28F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8CD-3D99-484B-B98E-782FBF8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B55-1ACA-4173-8FE7-5D9C25EB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9F0-9782-4A13-865D-7F13E67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E60-8AF1-45E3-8EFA-75BCB6F0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69800"/>
            <a:ext cx="777240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CBF-2841-441B-A307-E7B3F9BB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D8B-58E8-435F-B4AD-935D06A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D19-280B-4938-B3EF-1E6E5C1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604-A430-4F81-9951-48A2C4A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4 January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Soft Pvt.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0DB8-BF99-4B9F-8740-88FFAC99474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907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907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0492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92160" y="239400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56A-0FD6-4903-9691-DD489D208F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emantic File Systems.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is becoming ric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re Semantics can be added to data in terms of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FS uses these attributes to organize data/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nfigure directory structure on the fly and intelligent directory struc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5A1-B7AD-48AE-83B9-2227989791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rends of FS developmen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ng Functionality by Filter Dr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mail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532-1446-43C7-8C72-D45AEFEA8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E81-AD42-47B9-BD48-47BC207518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Trends In File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2F5-5445-4C9A-8123-ABEE0DB6E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genda.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are Fil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olution Of 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 of F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Trends in 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Trends in FS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D4F-BAF3-4D63-9BD2-1983FE466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What Are FileSystems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we need a F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 of a F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F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DA6-E239-4662-BC93-4E171C8E4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rends in File Systems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S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mantic File Systems(Search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nable Consist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90-1CC8-4F2C-A7FD-46284F737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SD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724280" y="1676520"/>
          <a:ext cx="343872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676520"/>
                    <a:ext cx="34387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32E-5127-42BB-8279-FDFB758A5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SD System Level View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ontacts M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0" y="2028960"/>
          <a:ext cx="3790800" cy="25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028960"/>
                    <a:ext cx="3790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3520" y="2590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S returns lis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0481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ends read requests directly to OSD along with Cap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03848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-data transfer between client and O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19520" y="1828800"/>
          <a:ext cx="3686400" cy="269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9520" y="1828800"/>
                    <a:ext cx="36864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1981080"/>
          <a:ext cx="3743280" cy="259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981080"/>
                    <a:ext cx="3743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567320" y="2041560"/>
          <a:ext cx="3867120" cy="26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67320" y="2041560"/>
                    <a:ext cx="38671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520" y="495288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38E-998F-433D-93F0-2FDD63580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LM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048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33600" y="1752480"/>
          <a:ext cx="5581800" cy="38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0" y="1752480"/>
                    <a:ext cx="55818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12952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M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22E-0127-497C-A15C-492E68B10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LM Technologies (cont)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k Mirr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napShots, SnapClones, PIT cop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mote Re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Backup Instant Res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pe Based Back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ved Cop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5AC-280D-4FA7-8142-87843BDC2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7:06:41Z</dcterms:created>
  <dc:creator>ketan</dc:creator>
  <dc:description/>
  <dc:language>en-US</dc:language>
  <cp:lastModifiedBy>Faraz</cp:lastModifiedBy>
  <dcterms:modified xsi:type="dcterms:W3CDTF">2005-03-17T18:08:58Z</dcterms:modified>
  <cp:revision>197</cp:revision>
  <dc:subject/>
  <dc:title>PowerPoint Presentation</dc:title>
</cp:coreProperties>
</file>